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C411-1724-40F3-A3DA-3325A407F6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5AD2-FE11-47C9-BACD-533325E274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9DF-2C02-40DA-A00D-B880F626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C20-B358-4B13-9161-FDA05293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1C3-76A3-4934-A31D-8C4521B5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ED4-6097-426C-B460-1EB675FF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301-61AA-456B-A9F7-ABBB075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179-57C9-4249-A627-39C63D3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FF3-44A2-4BCD-A7A1-8B436CCD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0C0-0B3D-46D9-BEB0-83A0AAA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27C-1B25-40E0-8B6E-3C1E5BC6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8C1-035B-4D1D-938C-746E233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54F-8B6D-404B-9B00-59F6357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4E3-6642-4349-84FC-5E7CA0A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F42A-560D-4708-870B-62F0E28BDE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tp999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3 Grupo"/>
          <p:cNvGrpSpPr/>
          <p:nvPr/>
        </p:nvGrpSpPr>
        <p:grpSpPr>
          <a:xfrm>
            <a:off x="4586400" y="2674800"/>
            <a:ext cx="360360" cy="2841840"/>
            <a:chOff x="4586400" y="2674800"/>
            <a:chExt cx="360360" cy="2841840"/>
          </a:xfrm>
        </p:grpSpPr>
        <p:sp>
          <p:nvSpPr>
            <p:cNvPr id="49" name="9 Conector recto"/>
            <p:cNvSpPr/>
            <p:nvPr/>
          </p:nvSpPr>
          <p:spPr>
            <a:xfrm>
              <a:off x="4586400" y="2674800"/>
              <a:ext cx="0" cy="28418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10 Conector recto"/>
            <p:cNvSpPr/>
            <p:nvPr/>
          </p:nvSpPr>
          <p:spPr>
            <a:xfrm>
              <a:off x="4946760" y="2674800"/>
              <a:ext cx="0" cy="284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1 Título"/>
          <p:cNvSpPr/>
          <p:nvPr/>
        </p:nvSpPr>
        <p:spPr>
          <a:xfrm>
            <a:off x="444600" y="657360"/>
            <a:ext cx="4968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海埕游</a:t>
            </a:r>
            <a:r>
              <a:rPr b="1" lang="zh-C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 Título"/>
          <p:cNvSpPr/>
          <p:nvPr/>
        </p:nvSpPr>
        <p:spPr>
          <a:xfrm>
            <a:off x="1000080" y="1428840"/>
            <a:ext cx="4519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   专注  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CuadroTexto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967880" cy="277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8" descr="C:\Users\yan\Desktop\无标题\天破.pn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469800" y="404640"/>
            <a:ext cx="496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Rockwell"/>
              </a:rPr>
              <a:t>上海埕游信息技术有限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 Título"/>
          <p:cNvSpPr/>
          <p:nvPr/>
        </p:nvSpPr>
        <p:spPr>
          <a:xfrm>
            <a:off x="466560" y="741240"/>
            <a:ext cx="3457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开发技术</a:t>
            </a:r>
            <a:r>
              <a:rPr b="1" lang="es-H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 Título"/>
          <p:cNvSpPr/>
          <p:nvPr/>
        </p:nvSpPr>
        <p:spPr>
          <a:xfrm>
            <a:off x="3274920" y="1341360"/>
            <a:ext cx="26654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客户端开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组合 4"/>
          <p:cNvGrpSpPr/>
          <p:nvPr/>
        </p:nvGrpSpPr>
        <p:grpSpPr>
          <a:xfrm>
            <a:off x="971640" y="2371680"/>
            <a:ext cx="7273800" cy="3505320"/>
            <a:chOff x="971640" y="2371680"/>
            <a:chExt cx="7273800" cy="3505320"/>
          </a:xfrm>
        </p:grpSpPr>
        <p:grpSp>
          <p:nvGrpSpPr>
            <p:cNvPr id="59" name="组 3"/>
            <p:cNvGrpSpPr/>
            <p:nvPr/>
          </p:nvGrpSpPr>
          <p:grpSpPr>
            <a:xfrm>
              <a:off x="1162440" y="2492280"/>
              <a:ext cx="7083000" cy="3235680"/>
              <a:chOff x="1162440" y="2492280"/>
              <a:chExt cx="7083000" cy="3235680"/>
            </a:xfrm>
          </p:grpSpPr>
          <p:sp>
            <p:nvSpPr>
              <p:cNvPr id="60" name="2 Marcador de contenido"/>
              <p:cNvSpPr/>
              <p:nvPr/>
            </p:nvSpPr>
            <p:spPr>
              <a:xfrm>
                <a:off x="1163160" y="2862000"/>
                <a:ext cx="7082280" cy="28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基于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cocos-2dx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平台。成熟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稳定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跨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ios,android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等目标平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业务逻辑使用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lua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脚本开发。快速，灵活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基于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socket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的网络模块封装。高效，稳定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基于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Xml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的自制可视化界面编辑工具。大大提高开发效率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自制地图编辑器，粒子编辑器，动画编辑器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完善的按需更新机制，分包下载机制。极大减少用户下载流量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高效的图片编码机制，压缩率为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png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图片的两倍，解决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apk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包过大的问题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与服务器通过</a:t>
                </a:r>
                <a:r>
                  <a:rPr b="0" lang="en-US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Google Protocol Buffer</a:t>
                </a:r>
                <a:r>
                  <a:rPr b="0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格式进行通讯，减少用户网络流量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2 Marcador de contenido"/>
              <p:cNvSpPr/>
              <p:nvPr/>
            </p:nvSpPr>
            <p:spPr>
              <a:xfrm>
                <a:off x="1162440" y="2492280"/>
                <a:ext cx="645480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984807"/>
                    </a:solidFill>
                    <a:latin typeface="微软雅黑"/>
                    <a:ea typeface="微软雅黑"/>
                  </a:rPr>
                  <a:t>客户端技术架构简介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" name="矩形 3"/>
            <p:cNvSpPr/>
            <p:nvPr/>
          </p:nvSpPr>
          <p:spPr>
            <a:xfrm>
              <a:off x="971640" y="2371680"/>
              <a:ext cx="7273800" cy="3505320"/>
            </a:xfrm>
            <a:prstGeom prst="rect">
              <a:avLst/>
            </a:prstGeom>
            <a:noFill/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48" descr="C:\Users\yan\Desktop\无标题\天破.pn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Título"/>
          <p:cNvSpPr/>
          <p:nvPr/>
        </p:nvSpPr>
        <p:spPr>
          <a:xfrm>
            <a:off x="469800" y="404640"/>
            <a:ext cx="496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Rockwell"/>
              </a:rPr>
              <a:t>上海埕游信息技术有限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66560" y="741240"/>
            <a:ext cx="3457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开发技术</a:t>
            </a:r>
            <a:r>
              <a:rPr b="1" lang="es-H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 Título"/>
          <p:cNvSpPr/>
          <p:nvPr/>
        </p:nvSpPr>
        <p:spPr>
          <a:xfrm>
            <a:off x="3274920" y="1341360"/>
            <a:ext cx="26654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器开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11"/>
          <p:cNvGrpSpPr/>
          <p:nvPr/>
        </p:nvGrpSpPr>
        <p:grpSpPr>
          <a:xfrm>
            <a:off x="969840" y="2371680"/>
            <a:ext cx="7274160" cy="3505320"/>
            <a:chOff x="969840" y="2371680"/>
            <a:chExt cx="7274160" cy="3505320"/>
          </a:xfrm>
        </p:grpSpPr>
        <p:grpSp>
          <p:nvGrpSpPr>
            <p:cNvPr id="68" name="组 3"/>
            <p:cNvGrpSpPr/>
            <p:nvPr/>
          </p:nvGrpSpPr>
          <p:grpSpPr>
            <a:xfrm>
              <a:off x="1160640" y="2492280"/>
              <a:ext cx="7083360" cy="3235680"/>
              <a:chOff x="1160640" y="2492280"/>
              <a:chExt cx="7083360" cy="3235680"/>
            </a:xfrm>
          </p:grpSpPr>
          <p:sp>
            <p:nvSpPr>
              <p:cNvPr id="69" name="2 Marcador de contenido"/>
              <p:cNvSpPr/>
              <p:nvPr/>
            </p:nvSpPr>
            <p:spPr>
              <a:xfrm>
                <a:off x="1160640" y="2862000"/>
                <a:ext cx="7083360" cy="28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基于高效稳定的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Linux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平台开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使用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Java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语言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+lua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脚本混合开发，高效、快速、易部署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使用成熟稳定的通讯框架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Netty3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作为底层架构，开发快捷，可伸缩性强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使用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NoSql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服务器（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Redis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）存储游戏数据，运行效率比数据库快约百倍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并在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Redis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基础上开发了数据自动持久化框架，开发方便快捷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使用轻便高效的</a:t>
                </a: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Google Protocol Buffer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作为通讯协议载体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GM</a:t>
                </a:r>
                <a:r>
                  <a:rPr b="0" lang="zh-CN" sz="12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工具可直接管理运行中的游戏数据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71360" indent="-171360">
                  <a:lnSpc>
                    <a:spcPct val="16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2 Marcador de contenido"/>
              <p:cNvSpPr/>
              <p:nvPr/>
            </p:nvSpPr>
            <p:spPr>
              <a:xfrm>
                <a:off x="1160640" y="2492280"/>
                <a:ext cx="64551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1859c"/>
                    </a:solidFill>
                    <a:latin typeface="微软雅黑"/>
                    <a:ea typeface="微软雅黑"/>
                  </a:rPr>
                  <a:t>服务器技术架构简介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矩形 13"/>
            <p:cNvSpPr/>
            <p:nvPr/>
          </p:nvSpPr>
          <p:spPr>
            <a:xfrm>
              <a:off x="969840" y="2371680"/>
              <a:ext cx="7274160" cy="35053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Picture 48" descr="C:\Users\yan\Desktop\无标题\天破.pn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Título"/>
          <p:cNvSpPr/>
          <p:nvPr/>
        </p:nvSpPr>
        <p:spPr>
          <a:xfrm>
            <a:off x="469800" y="404640"/>
            <a:ext cx="496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Rockwell"/>
              </a:rPr>
              <a:t>上海埕游信息技术有限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Título"/>
          <p:cNvSpPr/>
          <p:nvPr/>
        </p:nvSpPr>
        <p:spPr>
          <a:xfrm>
            <a:off x="466560" y="741240"/>
            <a:ext cx="3457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组 3"/>
          <p:cNvGrpSpPr/>
          <p:nvPr/>
        </p:nvGrpSpPr>
        <p:grpSpPr>
          <a:xfrm>
            <a:off x="1116000" y="2421000"/>
            <a:ext cx="3097080" cy="2990880"/>
            <a:chOff x="1116000" y="2421000"/>
            <a:chExt cx="3097080" cy="2990880"/>
          </a:xfrm>
        </p:grpSpPr>
        <p:sp>
          <p:nvSpPr>
            <p:cNvPr id="76" name="2 Marcador de contenido"/>
            <p:cNvSpPr/>
            <p:nvPr/>
          </p:nvSpPr>
          <p:spPr>
            <a:xfrm>
              <a:off x="1116000" y="2781000"/>
              <a:ext cx="3097080" cy="26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兰州大学（应用数学）  上海交通大学（计算机软件与理论硕士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中兴通讯手机事业部  上海闻泰集团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多年手机技术开发经验和技术团队管理经验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中兴通讯多款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dma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研发，闻泰集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gsm-phs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双模手机研发，酷吧平台手机中间件平台研发，酷吧平台产品运营及维护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2 Marcador de contenido"/>
            <p:cNvSpPr/>
            <p:nvPr/>
          </p:nvSpPr>
          <p:spPr>
            <a:xfrm>
              <a:off x="1116000" y="2421000"/>
              <a:ext cx="3097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郭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户端开发技术总监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 3"/>
          <p:cNvGrpSpPr/>
          <p:nvPr/>
        </p:nvGrpSpPr>
        <p:grpSpPr>
          <a:xfrm>
            <a:off x="5162400" y="2349360"/>
            <a:ext cx="3297240" cy="2463840"/>
            <a:chOff x="5162400" y="2349360"/>
            <a:chExt cx="3297240" cy="2463840"/>
          </a:xfrm>
        </p:grpSpPr>
        <p:sp>
          <p:nvSpPr>
            <p:cNvPr id="79" name="2 Marcador de contenido"/>
            <p:cNvSpPr/>
            <p:nvPr/>
          </p:nvSpPr>
          <p:spPr>
            <a:xfrm>
              <a:off x="5162400" y="2709000"/>
              <a:ext cx="329724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北工业大学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（软件工程系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上海闻泰集团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上海闻泰集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无线互联网事业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游戏软件工程师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擅长：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/c++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ua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ocos2d-x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乱弹三国  三国塔防  超级坦克大战  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级欧洲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2 Marcador de contenido"/>
            <p:cNvSpPr/>
            <p:nvPr/>
          </p:nvSpPr>
          <p:spPr>
            <a:xfrm>
              <a:off x="5162400" y="2349360"/>
              <a:ext cx="3297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陈飞  客户端软件工程师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1 Título"/>
          <p:cNvSpPr/>
          <p:nvPr/>
        </p:nvSpPr>
        <p:spPr>
          <a:xfrm>
            <a:off x="3274920" y="1341360"/>
            <a:ext cx="26654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客户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13 Grupo"/>
          <p:cNvGrpSpPr/>
          <p:nvPr/>
        </p:nvGrpSpPr>
        <p:grpSpPr>
          <a:xfrm>
            <a:off x="4643280" y="2627280"/>
            <a:ext cx="360360" cy="1738440"/>
            <a:chOff x="4643280" y="2627280"/>
            <a:chExt cx="360360" cy="1738440"/>
          </a:xfrm>
        </p:grpSpPr>
        <p:sp>
          <p:nvSpPr>
            <p:cNvPr id="83" name="9 Conector recto"/>
            <p:cNvSpPr/>
            <p:nvPr/>
          </p:nvSpPr>
          <p:spPr>
            <a:xfrm>
              <a:off x="4643280" y="2627280"/>
              <a:ext cx="0" cy="17384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10 Conector recto"/>
            <p:cNvSpPr/>
            <p:nvPr/>
          </p:nvSpPr>
          <p:spPr>
            <a:xfrm>
              <a:off x="5003640" y="2627280"/>
              <a:ext cx="0" cy="17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48" descr="C:\Users\yan\Desktop\无标题\天破.pn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Título"/>
          <p:cNvSpPr/>
          <p:nvPr/>
        </p:nvSpPr>
        <p:spPr>
          <a:xfrm>
            <a:off x="469800" y="404640"/>
            <a:ext cx="496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Rockwell"/>
              </a:rPr>
              <a:t>上海埕游信息技术有限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 Título"/>
          <p:cNvSpPr/>
          <p:nvPr/>
        </p:nvSpPr>
        <p:spPr>
          <a:xfrm>
            <a:off x="466560" y="741240"/>
            <a:ext cx="3457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 3"/>
          <p:cNvGrpSpPr/>
          <p:nvPr/>
        </p:nvGrpSpPr>
        <p:grpSpPr>
          <a:xfrm>
            <a:off x="1187280" y="2398680"/>
            <a:ext cx="3083040" cy="2470320"/>
            <a:chOff x="1187280" y="2398680"/>
            <a:chExt cx="3083040" cy="2470320"/>
          </a:xfrm>
        </p:grpSpPr>
        <p:sp>
          <p:nvSpPr>
            <p:cNvPr id="89" name="2 Marcador de contenido"/>
            <p:cNvSpPr/>
            <p:nvPr/>
          </p:nvSpPr>
          <p:spPr>
            <a:xfrm>
              <a:off x="1187280" y="2760120"/>
              <a:ext cx="3083040" cy="21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兰州大学（应用数学）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上海复旦金仕达  上海期交所  移软科技  上海闻泰集团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服务器专业开发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擅长金融、游戏及无线互联网应用开发，并具有丰富的部门管理经验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上海期交所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NGES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黄金交易所交易系统，中国外汇交易中心交易系统，东航航材网，移软通用手机娱乐平台，小酷即时通讯，江湖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nline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手机网络棋牌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2 Marcador de contenido"/>
            <p:cNvSpPr/>
            <p:nvPr/>
          </p:nvSpPr>
          <p:spPr>
            <a:xfrm>
              <a:off x="1187280" y="2398680"/>
              <a:ext cx="30830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张玉祥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器开发技术总监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 3"/>
          <p:cNvGrpSpPr/>
          <p:nvPr/>
        </p:nvGrpSpPr>
        <p:grpSpPr>
          <a:xfrm>
            <a:off x="5148360" y="2347920"/>
            <a:ext cx="2989080" cy="2449440"/>
            <a:chOff x="5148360" y="2347920"/>
            <a:chExt cx="2989080" cy="2449440"/>
          </a:xfrm>
        </p:grpSpPr>
        <p:sp>
          <p:nvSpPr>
            <p:cNvPr id="92" name="2 Marcador de contenido"/>
            <p:cNvSpPr/>
            <p:nvPr/>
          </p:nvSpPr>
          <p:spPr>
            <a:xfrm>
              <a:off x="5148360" y="2691360"/>
              <a:ext cx="298908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北工业大学（软件工程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上海闻泰集团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上海闻泰集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无线互联网事业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器游戏软件工程师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擅长：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Java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/c++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racle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帝国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nline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江湖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nline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酷吧应用监控系统  计费通道指令管理系统  短信盒子  网络收音机  云通讯录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2 Marcador de contenido"/>
            <p:cNvSpPr/>
            <p:nvPr/>
          </p:nvSpPr>
          <p:spPr>
            <a:xfrm>
              <a:off x="5148360" y="2347920"/>
              <a:ext cx="2989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高玉涛 服务器软件工程师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1 Título"/>
          <p:cNvSpPr/>
          <p:nvPr/>
        </p:nvSpPr>
        <p:spPr>
          <a:xfrm>
            <a:off x="3274920" y="1341360"/>
            <a:ext cx="26654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13 Grupo"/>
          <p:cNvGrpSpPr/>
          <p:nvPr/>
        </p:nvGrpSpPr>
        <p:grpSpPr>
          <a:xfrm>
            <a:off x="4643280" y="2627280"/>
            <a:ext cx="360360" cy="1738440"/>
            <a:chOff x="4643280" y="2627280"/>
            <a:chExt cx="360360" cy="1738440"/>
          </a:xfrm>
        </p:grpSpPr>
        <p:sp>
          <p:nvSpPr>
            <p:cNvPr id="96" name="9 Conector recto"/>
            <p:cNvSpPr/>
            <p:nvPr/>
          </p:nvSpPr>
          <p:spPr>
            <a:xfrm>
              <a:off x="4643280" y="2627280"/>
              <a:ext cx="0" cy="17384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10 Conector recto"/>
            <p:cNvSpPr/>
            <p:nvPr/>
          </p:nvSpPr>
          <p:spPr>
            <a:xfrm>
              <a:off x="5003640" y="2627280"/>
              <a:ext cx="0" cy="17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48" descr="C:\Users\yan\Desktop\无标题\天破.pn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Título"/>
          <p:cNvSpPr/>
          <p:nvPr/>
        </p:nvSpPr>
        <p:spPr>
          <a:xfrm>
            <a:off x="469800" y="404640"/>
            <a:ext cx="496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Rockwell"/>
              </a:rPr>
              <a:t>上海埕游信息技术有限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Título"/>
          <p:cNvSpPr/>
          <p:nvPr/>
        </p:nvSpPr>
        <p:spPr>
          <a:xfrm>
            <a:off x="466560" y="741240"/>
            <a:ext cx="3457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 3"/>
          <p:cNvGrpSpPr/>
          <p:nvPr/>
        </p:nvGrpSpPr>
        <p:grpSpPr>
          <a:xfrm>
            <a:off x="568440" y="2349360"/>
            <a:ext cx="2384280" cy="2901960"/>
            <a:chOff x="568440" y="2349360"/>
            <a:chExt cx="2384280" cy="2901960"/>
          </a:xfrm>
        </p:grpSpPr>
        <p:sp>
          <p:nvSpPr>
            <p:cNvPr id="102" name="2 Marcador de contenido"/>
            <p:cNvSpPr/>
            <p:nvPr/>
          </p:nvSpPr>
          <p:spPr>
            <a:xfrm>
              <a:off x="568440" y="2620440"/>
              <a:ext cx="2384280" cy="26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上海达贸动画公司  久之游（上海）  北京昆仑万维  上海齐思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长期从事产品研发，有多个成功项目经验，熟悉网游、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sns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os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产品，能够洞察行业趋势并对研发具体环节进行把控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神马镖局  君临天下  仙境幻想  魔力宝贝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神奇画笔  蜂蜂魔法书  萨拉纪元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2 Marcador de contenido"/>
            <p:cNvSpPr/>
            <p:nvPr/>
          </p:nvSpPr>
          <p:spPr>
            <a:xfrm>
              <a:off x="568440" y="2349360"/>
              <a:ext cx="2384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杨帆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游戏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 3"/>
          <p:cNvGrpSpPr/>
          <p:nvPr/>
        </p:nvGrpSpPr>
        <p:grpSpPr>
          <a:xfrm>
            <a:off x="3409920" y="2347920"/>
            <a:ext cx="2386080" cy="2376360"/>
            <a:chOff x="3409920" y="2347920"/>
            <a:chExt cx="2386080" cy="2376360"/>
          </a:xfrm>
        </p:grpSpPr>
        <p:sp>
          <p:nvSpPr>
            <p:cNvPr id="105" name="2 Marcador de contenido"/>
            <p:cNvSpPr/>
            <p:nvPr/>
          </p:nvSpPr>
          <p:spPr>
            <a:xfrm>
              <a:off x="3409920" y="2619360"/>
              <a:ext cx="2386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河南工业大学动画系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上海鱼游科技  成都天轴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擅长：手绘，精通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hotoshop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llustrator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3DMax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等设计软件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乐乐交友  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QQ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炫舞  死亡之翼  德州扑克  极限挑战  龙神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nline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海大作战  神域  石器时代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2 Marcador de contenido"/>
            <p:cNvSpPr/>
            <p:nvPr/>
          </p:nvSpPr>
          <p:spPr>
            <a:xfrm>
              <a:off x="3409920" y="2347920"/>
              <a:ext cx="23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周湍  美术主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1 Título"/>
          <p:cNvSpPr/>
          <p:nvPr/>
        </p:nvSpPr>
        <p:spPr>
          <a:xfrm>
            <a:off x="1928880" y="1341360"/>
            <a:ext cx="51433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策划 </a:t>
            </a:r>
            <a:r>
              <a:rPr b="1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&amp; </a:t>
            </a: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术</a:t>
            </a:r>
            <a:r>
              <a:rPr b="1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&amp;</a:t>
            </a: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运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 3"/>
          <p:cNvGrpSpPr/>
          <p:nvPr/>
        </p:nvGrpSpPr>
        <p:grpSpPr>
          <a:xfrm>
            <a:off x="6218280" y="2276640"/>
            <a:ext cx="2386080" cy="2376360"/>
            <a:chOff x="6218280" y="2276640"/>
            <a:chExt cx="2386080" cy="2376360"/>
          </a:xfrm>
        </p:grpSpPr>
        <p:sp>
          <p:nvSpPr>
            <p:cNvPr id="109" name="2 Marcador de contenido"/>
            <p:cNvSpPr/>
            <p:nvPr/>
          </p:nvSpPr>
          <p:spPr>
            <a:xfrm>
              <a:off x="6218280" y="2548080"/>
              <a:ext cx="2386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东北财经大学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经历：上海鱼游科技，上海索乐游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擅长：游戏商务运营，玩家组织等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：乐乐交友，德州扑克，燃烧的蔬菜系列，企鹅忍者，旋风跑跑，恶魔之城，武侠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L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2 Marcador de contenido"/>
            <p:cNvSpPr/>
            <p:nvPr/>
          </p:nvSpPr>
          <p:spPr>
            <a:xfrm>
              <a:off x="6218280" y="2276640"/>
              <a:ext cx="23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朱颜  运营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13 Grupo"/>
          <p:cNvGrpSpPr/>
          <p:nvPr/>
        </p:nvGrpSpPr>
        <p:grpSpPr>
          <a:xfrm>
            <a:off x="3132000" y="2627280"/>
            <a:ext cx="360360" cy="1738440"/>
            <a:chOff x="3132000" y="2627280"/>
            <a:chExt cx="360360" cy="1738440"/>
          </a:xfrm>
        </p:grpSpPr>
        <p:sp>
          <p:nvSpPr>
            <p:cNvPr id="112" name="9 Conector recto"/>
            <p:cNvSpPr/>
            <p:nvPr/>
          </p:nvSpPr>
          <p:spPr>
            <a:xfrm>
              <a:off x="3132000" y="2627280"/>
              <a:ext cx="0" cy="17384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10 Conector recto"/>
            <p:cNvSpPr/>
            <p:nvPr/>
          </p:nvSpPr>
          <p:spPr>
            <a:xfrm>
              <a:off x="3492360" y="2627280"/>
              <a:ext cx="0" cy="17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13 Grupo"/>
          <p:cNvGrpSpPr/>
          <p:nvPr/>
        </p:nvGrpSpPr>
        <p:grpSpPr>
          <a:xfrm>
            <a:off x="6012000" y="2627280"/>
            <a:ext cx="360360" cy="1738440"/>
            <a:chOff x="6012000" y="2627280"/>
            <a:chExt cx="360360" cy="1738440"/>
          </a:xfrm>
        </p:grpSpPr>
        <p:sp>
          <p:nvSpPr>
            <p:cNvPr id="115" name="9 Conector recto"/>
            <p:cNvSpPr/>
            <p:nvPr/>
          </p:nvSpPr>
          <p:spPr>
            <a:xfrm>
              <a:off x="6012000" y="2627280"/>
              <a:ext cx="0" cy="17384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10 Conector recto"/>
            <p:cNvSpPr/>
            <p:nvPr/>
          </p:nvSpPr>
          <p:spPr>
            <a:xfrm>
              <a:off x="6372360" y="2627280"/>
              <a:ext cx="0" cy="17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" name="Picture 48" descr="C:\Users\yan\Desktop\无标题\天破.pn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4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埕游网络科技有限公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14" descr="ZJM logo 2.psd"/>
          <p:cNvPicPr/>
          <p:nvPr/>
        </p:nvPicPr>
        <p:blipFill>
          <a:blip r:embed="rId1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333360" y="2131920"/>
            <a:ext cx="4881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021-604780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+86-13761665830</a:t>
            </a:r>
            <a:r>
              <a:rPr b="1" lang="en-US" sz="2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c305"/>
                </a:solidFill>
                <a:latin typeface="Calibri"/>
              </a:rPr>
              <a:t>Email :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2505783100@qq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p999.c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 Título"/>
          <p:cNvSpPr/>
          <p:nvPr/>
        </p:nvSpPr>
        <p:spPr>
          <a:xfrm>
            <a:off x="469800" y="404640"/>
            <a:ext cx="496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Rockwell"/>
              </a:rPr>
              <a:t>上海埕游信息技术有限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8" descr="C:\Users\yan\Desktop\无标题\天破.png"/>
          <p:cNvPicPr/>
          <p:nvPr/>
        </p:nvPicPr>
        <p:blipFill>
          <a:blip r:embed="rId3"/>
          <a:stretch/>
        </p:blipFill>
        <p:spPr>
          <a:xfrm>
            <a:off x="7072200" y="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7:02:55Z</dcterms:created>
  <dc:creator>xuke</dc:creator>
  <dc:description/>
  <dc:language>en-US</dc:language>
  <cp:lastModifiedBy>yan zhu</cp:lastModifiedBy>
  <dcterms:modified xsi:type="dcterms:W3CDTF">2014-09-11T09:39:41Z</dcterms:modified>
  <cp:revision>131</cp:revision>
  <dc:subject/>
  <dc:title>PowerPoint 演示文稿</dc:title>
</cp:coreProperties>
</file>