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8C57-2781-4AF9-8899-07DD317AB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A582-7F69-4DC6-845E-D19E7DB9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A6E0-796F-42E2-A413-6DFCF559F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D36F-D462-4670-8E26-798546716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5EF5-7733-44C8-906F-BD4276AB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D966-FE17-4EAE-919F-D044CDB2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172B-EE4B-4123-B077-DE5A4A1C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53E1-3747-4C07-BC59-A517D21D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3384-4573-4173-81F4-628E40D5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8DDA-40D9-4DAA-BDD7-31002D04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15C8-81CA-42F9-80FD-2B69F15A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7F56-F41B-4AAA-82B8-2B177067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BA31-6335-4D2A-A730-01E07F4B5D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12.xm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>
            <a:alphaModFix amt="67000"/>
          </a:blip>
          <a:stretch/>
        </p:blipFill>
        <p:spPr>
          <a:xfrm>
            <a:off x="0" y="-762120"/>
            <a:ext cx="9144000" cy="8991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762120" y="1600200"/>
            <a:ext cx="55623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c9fcb">
                        <a:alpha val="79215"/>
                      </a:srgbClr>
                    </a:gs>
                    <a:gs pos="100000">
                      <a:srgbClr val="f8b04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隶书"/>
              </a:rPr>
              <a:t>26  </a:t>
            </a: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c9fcb">
                        <a:alpha val="79215"/>
                      </a:srgbClr>
                    </a:gs>
                    <a:gs pos="100000">
                      <a:srgbClr val="f8b04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隶书"/>
              </a:rPr>
              <a:t>清平乐  村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c9fcb">
                      <a:alpha val="79215"/>
                    </a:srgbClr>
                  </a:gs>
                  <a:gs pos="100000">
                    <a:srgbClr val="f8b04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534520" y="48769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639160" y="6534000"/>
            <a:ext cx="34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Http://www.21jiao.n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202409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396216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华文隶书"/>
                <a:ea typeface="华文隶书"/>
              </a:rPr>
              <a:t> </a:t>
            </a: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平乐  村居</a:t>
            </a:r>
            <a:br>
              <a:rPr sz="3500"/>
            </a:b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辛弃疾 </a:t>
            </a:r>
            <a:br>
              <a:rPr sz="3500"/>
            </a:b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茅檐低小，</a:t>
            </a:r>
            <a:br>
              <a:rPr sz="3500"/>
            </a:b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溪上青青草。</a:t>
            </a:r>
            <a:br>
              <a:rPr sz="3500"/>
            </a:b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醉里吴音相媚好，</a:t>
            </a:r>
            <a:br>
              <a:rPr sz="3500"/>
            </a:b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发谁家翁媪？</a:t>
            </a:r>
            <a:br>
              <a:rPr sz="3500"/>
            </a:br>
            <a:br>
              <a:rPr sz="3500"/>
            </a:b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儿锄豆溪东，</a:t>
            </a:r>
            <a:br>
              <a:rPr sz="3500"/>
            </a:b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儿正织鸡笼，</a:t>
            </a:r>
            <a:br>
              <a:rPr sz="3500"/>
            </a:b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喜小儿无赖，</a:t>
            </a:r>
            <a:br>
              <a:rPr sz="3500"/>
            </a:b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溪头卧剥莲蓬。</a:t>
            </a:r>
            <a:br>
              <a:rPr sz="3600"/>
            </a:b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86868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482432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68" name="">
            <a:hlinkClick r:id="rId2" action="ppaction://hlinksldjump"/>
          </p:cNvPr>
          <p:cNvSpPr/>
          <p:nvPr/>
        </p:nvSpPr>
        <p:spPr>
          <a:xfrm>
            <a:off x="8686800" y="65530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blipFill rotWithShape="0">
            <a:blip r:embed="rId3">
              <a:alphaModFix amt="6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373840" y="54000"/>
            <a:ext cx="453888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满    江   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</a:rPr>
              <a:t>                            </a:t>
            </a:r>
            <a:r>
              <a:rPr b="0" lang="zh-CN" sz="2400" spc="-1" strike="noStrike">
                <a:solidFill>
                  <a:srgbClr val="cc0000"/>
                </a:solidFill>
                <a:latin typeface="华文行楷"/>
                <a:ea typeface="华文行楷"/>
              </a:rPr>
              <a:t>岳  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怒发冲冠，凭栏处，潇潇雨歇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抬望眼，仰天长啸，壮怀激烈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三十功名尘与土，八千里路云和月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莫等闲，白了少年头，空悲切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靖康耻，犹未雪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臣子恨，何时灭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驾长车，踏破贺兰山缺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壮志饥餐胡虏肉，笑谈渴饮匈奴血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待从头，收拾旧山河，朝天阙！</a:t>
            </a:r>
            <a:r>
              <a:rPr b="0" lang="zh-CN" sz="3600" spc="-1" strike="noStrike">
                <a:solidFill>
                  <a:srgbClr val="ff3300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249094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3352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课后作业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同学们，宋词是我国古代灿烂文化中一颗闪亮的明珠，一朵艳丽的奇葩，每首宋词都仿佛是一幅绚丽多彩的画，一曲委宛动听的歌，一段绵长不绝的情。请同学们根据今天的学习，将《清平乐  村居》改写成一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字左右的短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929628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辛弃疾</a:t>
            </a:r>
            <a:r>
              <a:rPr b="0" lang="zh-CN" sz="3600" spc="-1" strike="noStrike">
                <a:solidFill>
                  <a:srgbClr val="0000ff"/>
                </a:solidFill>
                <a:latin typeface="华文隶书"/>
                <a:ea typeface="华文隶书"/>
              </a:rPr>
              <a:t>（</a:t>
            </a:r>
            <a:r>
              <a:rPr b="0" lang="zh-CN" sz="3600" spc="-1" strike="noStrike">
                <a:solidFill>
                  <a:srgbClr val="0000ff"/>
                </a:solidFill>
                <a:latin typeface="华文隶书"/>
                <a:ea typeface="华文隶书"/>
              </a:rPr>
              <a:t>1140~1207</a:t>
            </a:r>
            <a:r>
              <a:rPr b="0" lang="zh-CN" sz="3600" spc="-1" strike="noStrike">
                <a:solidFill>
                  <a:srgbClr val="0000ff"/>
                </a:solidFill>
                <a:latin typeface="华文隶书"/>
                <a:ea typeface="华文隶书"/>
              </a:rPr>
              <a:t>），</a:t>
            </a:r>
            <a:r>
              <a:rPr b="1" lang="zh-CN" sz="3400" spc="-1" strike="noStrike">
                <a:solidFill>
                  <a:srgbClr val="0000ff"/>
                </a:solidFill>
                <a:latin typeface="Arial"/>
              </a:rPr>
              <a:t>南宋词   </a:t>
            </a:r>
            <a:br>
              <a:rPr sz="3400"/>
            </a:br>
            <a:r>
              <a:rPr b="1" lang="zh-CN" sz="3400" spc="-1" strike="noStrike">
                <a:solidFill>
                  <a:srgbClr val="0000ff"/>
                </a:solidFill>
                <a:latin typeface="Arial"/>
              </a:rPr>
              <a:t>                     人。字幼安，号稼轩，历城（今山</a:t>
            </a:r>
            <a:br>
              <a:rPr sz="3400"/>
            </a:br>
            <a:r>
              <a:rPr b="1" lang="zh-CN" sz="3400" spc="-1" strike="noStrike">
                <a:solidFill>
                  <a:srgbClr val="0000ff"/>
                </a:solidFill>
                <a:latin typeface="Arial"/>
              </a:rPr>
              <a:t>                     东济南）人。出生时，山东已为金</a:t>
            </a:r>
            <a:br>
              <a:rPr sz="3400"/>
            </a:br>
            <a:r>
              <a:rPr b="1" lang="zh-CN" sz="3400" spc="-1" strike="noStrike">
                <a:solidFill>
                  <a:srgbClr val="0000ff"/>
                </a:solidFill>
                <a:latin typeface="Arial"/>
              </a:rPr>
              <a:t>                     兵所占。二十一岁参加抗金义军，</a:t>
            </a:r>
            <a:br>
              <a:rPr sz="3400"/>
            </a:br>
            <a:r>
              <a:rPr b="1" lang="zh-CN" sz="3400" spc="-1" strike="noStrike">
                <a:solidFill>
                  <a:srgbClr val="0000ff"/>
                </a:solidFill>
                <a:latin typeface="Arial"/>
              </a:rPr>
              <a:t>                     不久归南宋，历任湖北、江西、湖南、福建、浙东安抚使等职。一生坚决主张抗金，但他所提出的抗金建议，均未被朝廷采纳，并遭到打击，长期闲居江西上饶一带。他的词有抒写爱国情怀的英雄词，有描绘田园风光的农村词。《清平乐  村居》是农村词的代表作， 是辛弃疾谪居江西，深感报国无门时的一篇作品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1973520" cy="28195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95120" y="456840"/>
            <a:ext cx="39625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华文隶书"/>
                <a:ea typeface="华文隶书"/>
              </a:rPr>
              <a:t> </a:t>
            </a: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平乐  村居</a:t>
            </a:r>
            <a:br>
              <a:rPr sz="3500"/>
            </a:b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辛弃疾 </a:t>
            </a:r>
            <a:br>
              <a:rPr sz="3500"/>
            </a:b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茅檐低小，</a:t>
            </a:r>
            <a:br>
              <a:rPr sz="3500"/>
            </a:b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溪上青青草。</a:t>
            </a:r>
            <a:br>
              <a:rPr sz="3500"/>
            </a:b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醉里吴音相媚好，</a:t>
            </a:r>
            <a:br>
              <a:rPr sz="3500"/>
            </a:b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发谁家翁媪？</a:t>
            </a:r>
            <a:br>
              <a:rPr sz="3500"/>
            </a:br>
            <a:br>
              <a:rPr sz="3500"/>
            </a:b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儿锄豆溪东，</a:t>
            </a:r>
            <a:br>
              <a:rPr sz="3500"/>
            </a:b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儿正织鸡笼，</a:t>
            </a:r>
            <a:br>
              <a:rPr sz="3500"/>
            </a:b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喜小儿无赖，</a:t>
            </a:r>
            <a:br>
              <a:rPr sz="3500"/>
            </a:b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溪头卧剥莲蓬。</a:t>
            </a:r>
            <a:br>
              <a:rPr sz="3600"/>
            </a:b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0773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65045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120" y="456840"/>
            <a:ext cx="39625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华文隶书"/>
                <a:ea typeface="华文隶书"/>
              </a:rPr>
              <a:t> </a:t>
            </a: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平乐  村居</a:t>
            </a:r>
            <a:br>
              <a:rPr sz="3500"/>
            </a:b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辛弃疾 </a:t>
            </a:r>
            <a:br>
              <a:rPr sz="3500"/>
            </a:b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茅檐低小，</a:t>
            </a:r>
            <a:br>
              <a:rPr sz="3500"/>
            </a:b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溪上青青草。</a:t>
            </a:r>
            <a:br>
              <a:rPr sz="3500"/>
            </a:b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醉里吴音相媚好，</a:t>
            </a:r>
            <a:br>
              <a:rPr sz="3500"/>
            </a:b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发谁家翁媪？</a:t>
            </a:r>
            <a:br>
              <a:rPr sz="3500"/>
            </a:br>
            <a:br>
              <a:rPr sz="3500"/>
            </a:b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儿锄豆溪东，</a:t>
            </a:r>
            <a:br>
              <a:rPr sz="3500"/>
            </a:b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儿正织鸡笼，</a:t>
            </a:r>
            <a:br>
              <a:rPr sz="3500"/>
            </a:b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喜小儿无赖，</a:t>
            </a:r>
            <a:br>
              <a:rPr sz="3500"/>
            </a:b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溪头卧</a:t>
            </a:r>
            <a:r>
              <a:rPr b="1" lang="zh-CN" sz="3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剥</a:t>
            </a: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莲</a:t>
            </a:r>
            <a:r>
              <a:rPr b="1" lang="zh-CN" sz="3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蓬</a:t>
            </a: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br>
              <a:rPr sz="3600"/>
            </a:b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80773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wēng           chú            liá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440" y="213372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翁          锄          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548640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403848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低小  吴音  鸡笼  莲蓬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3376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3352680"/>
            <a:ext cx="3089160" cy="3505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048120" y="3352680"/>
            <a:ext cx="3352680" cy="3505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400800" y="3352680"/>
            <a:ext cx="2760840" cy="3505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4495680" y="0"/>
            <a:ext cx="46483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3962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翁对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媪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说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3886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媪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对翁说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9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396216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华文隶书"/>
                <a:ea typeface="华文隶书"/>
              </a:rPr>
              <a:t> </a:t>
            </a: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平乐  村居</a:t>
            </a:r>
            <a:br>
              <a:rPr sz="3500"/>
            </a:b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辛弃疾 </a:t>
            </a:r>
            <a:br>
              <a:rPr sz="3500"/>
            </a:b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茅檐低小，</a:t>
            </a:r>
            <a:br>
              <a:rPr sz="3500"/>
            </a:b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溪上青青草。</a:t>
            </a:r>
            <a:br>
              <a:rPr sz="3500"/>
            </a:b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醉里吴音相媚好，</a:t>
            </a:r>
            <a:br>
              <a:rPr sz="3500"/>
            </a:b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发谁家翁媪？</a:t>
            </a:r>
            <a:br>
              <a:rPr sz="3500"/>
            </a:br>
            <a:br>
              <a:rPr sz="3500"/>
            </a:b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儿锄豆溪东，</a:t>
            </a:r>
            <a:br>
              <a:rPr sz="3500"/>
            </a:b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儿正织鸡笼，</a:t>
            </a:r>
            <a:br>
              <a:rPr sz="3500"/>
            </a:b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喜小儿无赖，</a:t>
            </a:r>
            <a:br>
              <a:rPr sz="3500"/>
            </a:b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溪头卧剥莲蓬。</a:t>
            </a:r>
            <a:br>
              <a:rPr sz="3600"/>
            </a:b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12-09T15:11:56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