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F6622-63A5-440F-9465-669734723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C4A1D-0398-4784-9DF0-434308064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0615C-0C88-4B73-A30F-26BD9B0ED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37397-501E-4570-A991-CD5D62E60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CC7E0-0F2A-494A-9028-A3B5B62D2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F3ABC-3879-49AB-8594-F207122D4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0917E-BC1C-433B-A67C-84122EF48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C0BB4-EAC0-4A29-968F-783ECCD72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1589F-4675-428F-8FBF-F0DFB080B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1DF90-A0B2-4DFB-BA18-6AA2271A4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287F5-05DB-4E6C-88D1-3C9697C6E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BF5AF-23F1-4174-BB71-434A9B771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75ADC-DF68-481C-929D-9A3A21EAD42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26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　清平乐 村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39160" y="6534000"/>
            <a:ext cx="347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教学资源网整理发布： </a:t>
            </a: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Http://www.21jiao.ne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68360" y="981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6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600" spc="-1" strike="noStrike">
                <a:solidFill>
                  <a:srgbClr val="000000"/>
                </a:solidFill>
                <a:latin typeface="Arial"/>
              </a:rPr>
              <a:t>词中有故事 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258920" y="2636280"/>
            <a:ext cx="637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这首词中有几个人？这个故事发生在什么时间？什么地方？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16000" y="3278160"/>
            <a:ext cx="761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作者看到了一对满头白发的老夫妻在亲热地交谈着，老公公会说什么？老婆婆会谈些什么呢？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9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700" spc="-1" strike="noStrike">
                <a:solidFill>
                  <a:srgbClr val="000000"/>
                </a:solidFill>
                <a:latin typeface="Arial"/>
              </a:rPr>
              <a:t>词中有画 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187280" y="3549960"/>
            <a:ext cx="717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这首词是一幅画，读了词的上阙，如果让你去画一幅画，你应该在这幅画上画些什么呢？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2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900" spc="-1" strike="noStrike">
                <a:solidFill>
                  <a:srgbClr val="000000"/>
                </a:solidFill>
                <a:latin typeface="Arial"/>
              </a:rPr>
              <a:t>词中有情</a:t>
            </a:r>
            <a:r>
              <a:rPr b="0" lang="zh-CN" sz="12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162160" y="3572640"/>
            <a:ext cx="527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在作者的笔下，乡村宁静的说是多么美好呀，你能看出词人什么样的感情？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词人的老家在山东济南，长江以北的地方都被北方金人占领六十多年了，词人家乡的亲人都饱受战乱之苦，生活动荡，吃不饱，穿不暖，流离失所，生活非常悲惨。江西上饶地区在长江以南，没有战乱，所以，老百姓还能过上宁静的生活。词人的一生都在为收复失地而努力，但总是没有成功。在饱受战争之苦的那个时期，还能有这样宁静的生活，词人是多么珍惜，多么盼望家乡的亲人也能过上宁静的生活呀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26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　清平乐 村居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556000" y="1341360"/>
            <a:ext cx="4752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茅檐低小，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溪上青青草。 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醉里吴音相媚好，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白发谁家翁媪？ 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大儿锄豆溪东，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 中儿正织鸡笼。 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最喜小儿无赖，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溪头卧剥莲蓬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 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解释词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注释 ①村居：选自《稼轩长短句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清平乐，词牌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村居，这首词的题目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②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茅檐：指茅屋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③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吴音：作者当时住在江西东部的上饶，这一带古时是吴国的领土，所以称这一带的方言为吴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76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④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相媚好：互相说喜爱要好的话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⑤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锄豆：锄掉豆田里的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⑥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织：编织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⑦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无赖：这里是顽皮的意思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诗的意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房子是用茅草盖的，屋矮檐低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门前有一道溪流，岸边长满青草，绿水青草相映，更显得碧清可爱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不知是谁家的两位斑斑白发的老夫妻喝过几杯酒后，醉醺醺地用地道的土语对话，互相取悦，语调柔媚亲昵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大儿子在河东的豆田里锄草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二儿子正在编织鸡笼子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只有我最喜欢的顽皮的小儿子，在河边爬着卧着剥莲蓬玩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译词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草屋的茅檐又低又小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溪边长满绿绿的小草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含有醉意的吴地方音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听起来温柔面又美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那满头白发是谁家的公婆父老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大儿，豆地锄草身在河东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二儿，正忙于编织鸡笼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最令人欢喜是小儿的调皮神态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横卧在溪头草丛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--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剥食着刚刚摘下的莲蓬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一所低小的茅草房屋，紧靠着潺潺流淌的小溪，溪边长满了碧绿的青草。一对白发老夫妻亲热地坐在一起用吴地方言聊天，还带着几分醉意。或 屋檐低，茅舍小。小溪潺潺，岸上长满了茵茵绿草。一阵吴音，絮絮叨叨，还带着几分醉意，亲切，美好！这是谁家，一对白发苍苍，公公，姥姥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大儿子在溪东豆地锄草；二儿子在家编织鸡笼；还有那调皮可爱的小儿子，正趴在草地上剥莲蓬。 或 大儿子，在小溪东岸，豆地里锄草。二儿子，正在编织鸡笼，手艺可巧！小儿子，趴在溪边剥莲蓬，一个逗人喜爱的顽皮佬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4321080" y="0"/>
            <a:ext cx="482292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500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5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200" spc="-1" strike="noStrike">
                <a:solidFill>
                  <a:srgbClr val="000000"/>
                </a:solidFill>
                <a:latin typeface="Arial"/>
              </a:rPr>
              <a:t>巩固练习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是南宋最杰出的词人辛弃疾写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24000" y="1268280"/>
            <a:ext cx="88200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《清平乐 村居》这首词是 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 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宋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 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代词人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  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辛弃疾</a:t>
            </a:r>
            <a:r>
              <a:rPr b="0" lang="zh-CN" sz="3200" spc="-1" strike="noStrike" u="sng">
                <a:solidFill>
                  <a:srgbClr val="ff3300"/>
                </a:solidFill>
                <a:uFillTx/>
                <a:latin typeface="Arial"/>
              </a:rPr>
              <a:t> 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 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写的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_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清平乐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___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是词牌名，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    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 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村居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    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是题目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这首词描写了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   茅屋低矮  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  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 溪上草青 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   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翁媪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 吴音聊天     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这些平常的农村景象，还写了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_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作者的三个儿子的形象，把农村生活真实地反映出来，抒发了作者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喜爱农村安宁平静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的思想感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26920" y="1916280"/>
            <a:ext cx="1152720" cy="50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708360" y="1916280"/>
            <a:ext cx="1224000" cy="50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826920" y="2565360"/>
            <a:ext cx="86544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796000" y="1341360"/>
            <a:ext cx="64764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51280" y="2997360"/>
            <a:ext cx="4753080" cy="57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55640" y="3573360"/>
            <a:ext cx="223200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427640" y="4581360"/>
            <a:ext cx="331308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3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3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阅读感悟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   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“ 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                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             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 。”这一句写了村居优美的环境，“ 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                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             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 。”   这一句描写了老夫妻亲热、悠闲的生活。      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   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《清平乐村居》是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    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朝词人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    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写的一首描写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          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有名词作。“清平乐”是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    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“村居’’是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    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词中描写了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     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      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     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   这些平常的农村景象，还写了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     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      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     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农村生活景象，抒发了词人 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           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思想感情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539640" y="2421000"/>
            <a:ext cx="8229600" cy="151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这首词具有浓厚的农村生活气息，字里行间处处洋溢着作者对农村生活的喜悦之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title"/>
          </p:nvPr>
        </p:nvSpPr>
        <p:spPr>
          <a:xfrm>
            <a:off x="684360" y="90756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清平乐 村居是反映田园生活的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是南宋最杰出的词人辛弃疾写的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醉里吴音相媚好，白发谁家翁媪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相媚好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          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                                                                                         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最喜小儿无赖，溪头卧剥莲蓬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无赖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                   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   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卧剥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 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:                            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395280" y="500040"/>
            <a:ext cx="8353440" cy="58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468360" y="1916280"/>
            <a:ext cx="7704000" cy="21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324000" y="1557360"/>
            <a:ext cx="8316720" cy="23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0" y="1628640"/>
            <a:ext cx="9144000" cy="19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一、用横线选择正确读音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71280" y="1125000"/>
            <a:ext cx="6264360" cy="452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清平乐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(yuè  lè) 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卧剥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(bāo  bō) 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鸡笼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(1ónɡ 1ǒnɡ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翁媪（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yùn  ǎo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280" y="19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Arial"/>
              </a:rPr>
              <a:t>词有特点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692360" y="3500280"/>
            <a:ext cx="54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请老师使用前，看教案文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二、组词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15640" y="1557360"/>
            <a:ext cx="3538440" cy="2549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醉（   ）（  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碎（   ）（   ）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檐（   ）（ 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瞻（   ）（ 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32360" y="1628640"/>
            <a:ext cx="3168720" cy="284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茅（   ）（   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矛（   ）（   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媚（   ）（  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眉（   ）（  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52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57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62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67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7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释词解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95280" y="141300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   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．醉里吴音相媚好，白发谁家翁媪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    “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相媚好”：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                                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 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   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整句诗的意思：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                                                 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   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．最喜小儿无赖，溪头卧剥莲蓬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    “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无赖”：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                                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   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整句诗的意思：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                                                 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七、完成练习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50560" y="1197000"/>
            <a:ext cx="8675640" cy="37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   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(    )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小溪的一边是果园。春天，花香弥漫；秋天，果实累累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   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(    )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田野的尽头，连绵的山峰犹如大海里起伏的波涛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   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(    )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溪水那样的清澈，干净。水中的小鱼、小虾无忧无虑地游来游去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   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(    )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山腰的公路，像一条银灰色的绸带飘向远方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   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(    )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一条小溪从我们的村子流过。  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   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(    )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小溪的另一边是田野，如今沉甸甸的麦穗，正点着头报告丰收的喜讯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   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ff3300"/>
                </a:solidFill>
                <a:latin typeface="Arial"/>
              </a:rPr>
              <a:t>．将这几句话排列成一段通顺的话，序号填在句前括号里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3300"/>
                </a:solidFill>
                <a:latin typeface="Arial"/>
              </a:rPr>
              <a:t>    </a:t>
            </a:r>
            <a:r>
              <a:rPr b="0" lang="zh-CN" sz="2000" spc="-1" strike="noStrike">
                <a:solidFill>
                  <a:srgbClr val="ff3300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3300"/>
                </a:solidFill>
                <a:latin typeface="Arial"/>
              </a:rPr>
              <a:t>．整理后的话是按</a:t>
            </a:r>
            <a:r>
              <a:rPr b="0" lang="zh-CN" sz="2000" spc="-1" strike="noStrike" u="sng">
                <a:solidFill>
                  <a:srgbClr val="ff3300"/>
                </a:solidFill>
                <a:uFillTx/>
                <a:latin typeface="Arial"/>
              </a:rPr>
              <a:t>       </a:t>
            </a:r>
            <a:r>
              <a:rPr b="0" lang="zh-CN" sz="2000" spc="-1" strike="noStrike">
                <a:solidFill>
                  <a:srgbClr val="ff3300"/>
                </a:solidFill>
                <a:latin typeface="Arial"/>
              </a:rPr>
              <a:t>的顺序排列的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3300"/>
                </a:solidFill>
                <a:latin typeface="Arial"/>
              </a:rPr>
              <a:t>    </a:t>
            </a:r>
            <a:r>
              <a:rPr b="0" lang="zh-CN" sz="2000" spc="-1" strike="noStrike">
                <a:solidFill>
                  <a:srgbClr val="ff3300"/>
                </a:solidFill>
                <a:latin typeface="Arial"/>
              </a:rPr>
              <a:t>3</a:t>
            </a:r>
            <a:r>
              <a:rPr b="0" lang="zh-CN" sz="2000" spc="-1" strike="noStrike">
                <a:solidFill>
                  <a:srgbClr val="ff3300"/>
                </a:solidFill>
                <a:latin typeface="Arial"/>
              </a:rPr>
              <a:t>．用“—”画出文中的一个比喻句，用“～～”画出文中的拟人句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140328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7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900" spc="-1" strike="noStrike">
                <a:solidFill>
                  <a:srgbClr val="000000"/>
                </a:solidFill>
                <a:latin typeface="Arial"/>
              </a:rPr>
              <a:t>结束  </a:t>
            </a:r>
            <a:endParaRPr b="0" lang="en-US" sz="18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11280" y="1412640"/>
            <a:ext cx="302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村居     </a:t>
            </a:r>
            <a:r>
              <a:rPr b="0" lang="zh-CN" sz="2000" spc="-1" strike="noStrike">
                <a:solidFill>
                  <a:srgbClr val="ff3300"/>
                </a:solidFill>
                <a:latin typeface="Arial"/>
              </a:rPr>
              <a:t>清  高鼎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140000" y="333000"/>
            <a:ext cx="43923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清平乐  村居    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南宋  辛弃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茅檐低小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溪上青青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醉里吴音相媚好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白发谁家翁媪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大儿锄豆溪东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中儿正织鸡笼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最喜小儿无赖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溪头卧剥莲蓬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    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68360" y="2781360"/>
            <a:ext cx="3436920" cy="180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草长莺飞二月天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拂堤杨柳醉春烟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儿童散学归来早，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忙趁东风放纸鸢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48160" y="5373000"/>
            <a:ext cx="44143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看看这两首诗的有哪些地方不同？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小结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8229600" cy="547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题目不是连在一起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《清平乐  村居》每行字数不一样多，有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个字，而《村居》每行都是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个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《清平乐  村居》有八小句，分两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这两首诗都是压韵的。这就是诗和词的不同的地方。词是诗的一种，因字数不相同，所以，又叫长短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诗盛行于唐代，词盛行于宋代，有“唐诗”“宋词”“元曲”之称。《清平乐  村居》中，“清平乐”是词牌名，“村居”才是题目。而唐诗一般是五言或者是七言的两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无论是诗还是词，都是压韵的，这样读起来朗朗上口，很有韵味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324000" y="2276640"/>
            <a:ext cx="8229600" cy="161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这首词具有浓厚的农村生活气息，字里行间处处洋溢着作者对农村生活的喜悦之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&lt;&lt;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清平乐 村居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&gt;&gt;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是反映田园生活的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是南宋最杰出的词人辛弃疾写的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280" y="213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生字词学习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26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　清平乐 村居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799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茅檐　溪上</a:t>
            </a:r>
            <a:br>
              <a:rPr sz="5400"/>
            </a:b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醉   吴音   相媚好　翁媪 </a:t>
            </a:r>
            <a:br>
              <a:rPr sz="5400"/>
            </a:b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大儿   锄豆   溪东，</a:t>
            </a:r>
            <a:br>
              <a:rPr sz="5400"/>
            </a:b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中儿   织鸡笼    无赖</a:t>
            </a:r>
            <a:br>
              <a:rPr sz="5400"/>
            </a:b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溪头   卧剥莲蓬</a:t>
            </a:r>
            <a:br>
              <a:rPr sz="5400"/>
            </a:b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　 </a:t>
            </a:r>
            <a:br>
              <a:rPr sz="5400"/>
            </a:b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5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200" spc="-1" strike="noStrike">
                <a:solidFill>
                  <a:srgbClr val="000000"/>
                </a:solidFill>
                <a:latin typeface="Arial"/>
              </a:rPr>
              <a:t>阅读训练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6T13:49:25Z</dcterms:created>
  <dc:creator>微软用户</dc:creator>
  <dc:description/>
  <dc:language>en-US</dc:language>
  <cp:lastModifiedBy>User</cp:lastModifiedBy>
  <dcterms:modified xsi:type="dcterms:W3CDTF">2014-12-09T15:14:00Z</dcterms:modified>
  <cp:revision>20</cp:revision>
  <dc:subject/>
  <dc:title>26　清平乐 村居 </dc:title>
</cp:coreProperties>
</file>