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69D-B6E4-4DF2-9600-B42F7867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626-7982-4757-8F94-C3FB857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D8A-6D65-46E3-90C5-89617CAC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F88-C792-4709-BF4B-1C1CFF02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F66-30DF-4CA4-AE19-546B5BD7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6A3-784F-42AC-930F-4C078BBD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B67-21D0-498B-99A5-2114313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747-C519-45F3-B100-08B952C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431-DD1B-4240-B738-115D50D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B3C-3919-4413-BA50-5AAB838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305-CD20-4830-B36E-502FDAA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802-819B-4C70-A195-579CD780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46A-57B4-4F54-9925-72127A7B3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rcRect l="0" t="0" r="0" b="953"/>
          <a:stretch/>
        </p:blipFill>
        <p:spPr>
          <a:xfrm>
            <a:off x="1116000" y="0"/>
            <a:ext cx="691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87640" y="2205000"/>
            <a:ext cx="342900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清平乐村居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2057400"/>
            <a:ext cx="62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谢 谢 大 家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260280"/>
            <a:ext cx="42498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茅檐低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上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醉里吴音相媚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白发谁家翁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大儿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中儿正织鸡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最喜小儿无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头卧剥莲蓬。</a:t>
            </a:r>
            <a:r>
              <a:rPr b="0" lang="zh-CN" sz="2800" spc="-1" strike="noStrike">
                <a:solidFill>
                  <a:srgbClr val="00cc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4716360" y="260280"/>
            <a:ext cx="442764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3916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4248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1619280" y="184464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76160" y="228600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5640" y="227664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19280" y="278136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47640" y="371628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92000" y="429264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19280" y="479736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92000" y="5229360"/>
            <a:ext cx="7596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48428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66ffff"/>
                </a:solidFill>
                <a:latin typeface="Arial"/>
              </a:rPr>
              <a:t>醉里吴音相媚好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Arial"/>
              </a:rPr>
              <a:t>白发谁家翁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04640"/>
            <a:ext cx="4321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4572000" y="0"/>
            <a:ext cx="4572000" cy="638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1619280" y="184464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47640" y="234936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47640" y="285264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27280" y="278136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19280" y="335772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19280" y="4221000"/>
            <a:ext cx="76320" cy="38124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547640" y="530064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18920" y="4797360"/>
            <a:ext cx="3240" cy="3603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19280" y="5661000"/>
            <a:ext cx="76320" cy="38088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1258920" y="0"/>
            <a:ext cx="66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1484280"/>
            <a:ext cx="842472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真是一个＿＿＿＿的村居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404640"/>
            <a:ext cx="4248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cc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95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　业（二选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１、把这首词改编成一篇优美的记叙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２、用心观察乡村生活，写一首小诗《村居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2:00:45Z</dcterms:created>
  <dc:creator>USER</dc:creator>
  <dc:description/>
  <dc:language>en-US</dc:language>
  <cp:lastModifiedBy>User</cp:lastModifiedBy>
  <dcterms:modified xsi:type="dcterms:W3CDTF">2015-08-23T12:50:19Z</dcterms:modified>
  <cp:revision>5</cp:revision>
  <dc:subject/>
  <dc:title>幻灯片 1</dc:title>
</cp:coreProperties>
</file>