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075-1D3C-4DB8-84B1-9A01B37C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61F-C5D7-4D8B-9BED-6778E8FF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073-7460-4FAE-A84D-EC41C4C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D43-3083-465A-B546-069EC1FC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AAE-852F-4D74-A0E6-EA156012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785-65ED-4C85-80A0-BA5E949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E8C-E78F-423A-B6CA-3EC0BD6E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DE9-C8DA-4BF7-A8CF-452060FA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7E3-BE7A-4A9B-9A28-141223C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696-DACC-4F05-AEBE-833BDDE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3FB-4EE1-4580-BBC9-75FA27F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B85-063C-4675-8314-C9B60A2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CAF9-7039-4CA8-A7F8-40B01C93E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27432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清平乐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.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村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9144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着重描写了什么场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133720"/>
            <a:ext cx="71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华文中宋"/>
              </a:rPr>
              <a:t>白发翁媪的谈话，大儿锄地，中儿织鸡笼，小儿剥莲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0384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古代的诗词，语言很精练，内容很丰富。阅读时，不会像阅读一般的文章那样一看就懂，必须反复地阅读、思考和吟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0" y="260280"/>
            <a:ext cx="4500720" cy="623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3280" y="549360"/>
            <a:ext cx="42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楷体_GB2312"/>
              </a:rPr>
              <a:t>《清平乐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楷体_GB2312"/>
              </a:rPr>
              <a:t>村居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词中哪几句写景，怎样的一幅图景？词人刻画了哪些人？他们都在干什么？从他们的行动及特点中你读到了什么？说说你对词中“醉”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765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茅檐低小，溪上青青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47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句描绘了茅舍、小溪、青草这些农村中司空见惯的景色，将它们组合成一幅画面。显得格外清新优美，富有田园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8446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说你仿佛看到了什么画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8520" y="2850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五口之家，有一所矮小的茅草房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靠着房屋有一条流水淙淙、清澈照人的小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边长满了碧绿的青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765000"/>
            <a:ext cx="77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醉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里吴音相媚好，白发谁家翁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492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对“白发翁媪”在自己的茅屋前干什么？作者知道他们在谈些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22100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　一对头发花白的老夫妇满脸通红，大概刚喝了酒，他们亲热相待，用乡音在聊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00360" y="907920"/>
            <a:ext cx="72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大儿锄豆溪东，中儿正织鸡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最喜小儿无赖，溪头卧剥莲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2708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问：作者是怎样写出孩子们的可爱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22100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　大儿子在溪东豆地锄草，二儿子在编织鸡笼，最喜欢的是顽皮的小儿子，在溪边伏着剥莲蓬、取莲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56000" y="620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词中的第三、四句写了哪些人物的哪些活动？为什么这样构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708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大儿锄草，中儿编织鸡笼，小儿卧剥莲蓬。通过这样简单的情节和场面，寥寥几笔描画出一幅富有田园特色的生活景象，表现了农村和平安宁、自然朴素的生活，具有浓郁的生活气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35280" y="2349360"/>
            <a:ext cx="698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这对白发翁媪生活在这样的环境里，又有勤劳可爱的儿子，心情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42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526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640" y="-273600"/>
            <a:ext cx="85068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丰子恺所画“村居图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2560" y="33206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喜欢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91600" y="601992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80880" y="-38160"/>
            <a:ext cx="9829800" cy="6880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95640" y="1268280"/>
            <a:ext cx="6049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草长莺飞二月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拂堤杨柳醉春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儿童散学归来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忙趁东风放纸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601200" cy="690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600" y="-111348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幅图与你心中的那幅图相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7150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90960" y="1933560"/>
            <a:ext cx="1034280" cy="520560"/>
          </a:xfrm>
          <a:prstGeom prst="rect">
            <a:avLst/>
          </a:prstGeom>
          <a:solidFill>
            <a:srgbClr val="bbe0e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茅檐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40600" y="5805360"/>
            <a:ext cx="1400040" cy="581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溪上青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5680" y="3860640"/>
            <a:ext cx="1674360" cy="94716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醉里吴音相媚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白发谁家翁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29200" y="2514600"/>
            <a:ext cx="1460880" cy="520560"/>
          </a:xfrm>
          <a:prstGeom prst="rect">
            <a:avLst/>
          </a:prstGeom>
          <a:solidFill>
            <a:srgbClr val="bbe0e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大儿锄豆溪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2040" y="3716280"/>
            <a:ext cx="1460880" cy="5205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中儿正织鸡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55200" y="5084640"/>
            <a:ext cx="1278000" cy="82548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最喜小儿亡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溪头卧剥莲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上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523880"/>
            <a:ext cx="4724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村中环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村中人（老夫妇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5238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茅檐低小，溪上青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819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醉里吴音相媚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1371600"/>
            <a:ext cx="99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秀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恬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495680"/>
            <a:ext cx="19810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下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809880"/>
            <a:ext cx="2057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3809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锄豆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织鸡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5562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卧剥莲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38862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411480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出茅舍一家老小幸福、和谐的生活图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6002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1676520"/>
            <a:ext cx="76320" cy="1676160"/>
          </a:xfrm>
          <a:custGeom>
            <a:avLst/>
            <a:gdLst>
              <a:gd name="textAreaLeft" fmla="*/ 0 w 76320"/>
              <a:gd name="textAreaRight" fmla="*/ 2736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9625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5800" y="838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清平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居》这首词刻画了一幅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清新奇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乡村农家素描图，表现了农家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恬静舒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生活和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怡然自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活画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表达了词人轻松闲适的心情和对田园生活的欣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203640" y="105264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布置作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56536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3645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展开合理的想象，将课文扩写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字的短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词和词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8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   词，又称为“诗余”、“长短句”。它兴起于南朝，成形于晚唐，盛行于宋代；最早是一种配乐歌唱的诗，所以每首词都必须按一定的歌谱填写，这歌谱叫词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718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古代的文学作品，主要有诗、词、曲。在文学史上有“唐诗、宋词、元曲”的说法。词，有好多种类型。一种类型，就有一个名字。如：“水调歌头”“西江月”“清平乐”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1700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”——是词牌名，清平乐本来是一种音乐歌曲，后来才用做词牌。照这个词牌写出来的词，每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４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，分为上下两片，上片有４个韵脚，下片有３个韵脚字。“村居”—— 是这首词的题目，意思是“农村人家”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920" y="981000"/>
            <a:ext cx="23734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801"/>
                <a:gd name="adj2" fmla="val -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题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48520" y="1981080"/>
            <a:ext cx="733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413000"/>
          <a:ext cx="3440160" cy="52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3440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382920" y="189000"/>
            <a:ext cx="57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弃疾：字幼安，号稼轩，历城（山东济南）南宋词人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国历史上一位值得纪念的民族英雄，一生主张抗金，渴望恢复中原，也是最负盛名的伟大词人之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艺术风格多样，以豪放为主，热情洋溢，慷慨悲壮，笔力雄厚，与苏轼并称“苏辛”。有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稼轩长短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参加抗金义军，后历任湖北、江西、湖南、福建、浙东安抚使等职，一生坚持抗金，但不被采纳，不断受到主和派的打击，曾长期闲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260280"/>
            <a:ext cx="23734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801"/>
                <a:gd name="adj2" fmla="val -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明作者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77920" y="2833560"/>
            <a:ext cx="67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371600"/>
            <a:ext cx="8610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辛弃疾曾历任江西、湖南、湖北安抚使，任职期间，打击贪官，救济灾民，颇有政绩。淳熙八年被劾职，退居江西上饶、铅山一带，隐居长达二十年，他退居乡间，与山民野老打成一片，过着平凡质朴、恬淡安静的生活。此时，他一改过去壮大场面的描述和豪杰人物的刻画，转而饱蘸色彩去描绘田园风景画和俚俗乡情图。这首词题为“村居”，是词人晚年遭受排斥、打击，壮志难酬，归隐上饶地区农村时的作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43280" y="620640"/>
            <a:ext cx="396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801"/>
                <a:gd name="adj2" fmla="val -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了解写作背景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5480" y="423720"/>
            <a:ext cx="72392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茅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檐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低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溪上青青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醉里吴音相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媚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白发谁家翁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媪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大儿锄豆溪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中儿正织鸡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喜小儿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无赖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溪头卧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剥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莲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蓬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52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600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36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ú l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440" y="838080"/>
            <a:ext cx="458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51640" y="1371600"/>
            <a:ext cx="30139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辛弃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清平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村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384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b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3276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508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31687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16872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1687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464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老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4464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锄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464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莲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2254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2254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ch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254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l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0481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1337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426708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404640"/>
            <a:ext cx="4321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白发 谁家翁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中儿 正织鸡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最喜 小儿亡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4572000" y="0"/>
            <a:ext cx="4572000" cy="638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1218960" y="167652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218960" y="213372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95280" y="259092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09680" y="259092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95280" y="3124080"/>
            <a:ext cx="76320" cy="38124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218960" y="411480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218960" y="502920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218960" y="548640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3152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1187280" y="4581360"/>
            <a:ext cx="76320" cy="38124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695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05:17:06Z</dcterms:created>
  <dc:creator>FtpDown</dc:creator>
  <dc:description/>
  <dc:language>en-US</dc:language>
  <cp:lastModifiedBy>FtpDown</cp:lastModifiedBy>
  <dcterms:modified xsi:type="dcterms:W3CDTF">2014-05-19T06:23:07Z</dcterms:modified>
  <cp:revision>8</cp:revision>
  <dc:subject/>
  <dc:title>幻灯片 1</dc:title>
</cp:coreProperties>
</file>