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092-4D07-4401-8AE9-17124B83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364-23CD-48B5-B0BB-36FF420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996-B9D2-4322-BD58-63A062F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A03-ACC4-478F-9D61-49D8D189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B99-042A-40F4-B4C3-A88970B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43A-5023-4BE8-99AA-F87C6ED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CBA-2C2C-4F76-A070-2C0D4A38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756-C3F1-489F-B3AB-00253E3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19-8474-4229-84C0-F5FCB0A2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69A-93D7-4FB3-ACF6-A93D969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D30-E1FA-4CFE-AE58-8989FBD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347-1449-4F47-AE2B-95EC6D9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205-3D27-490E-B881-B5CC26DB8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321300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476360" y="2781360"/>
              <a:ext cx="698328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读着  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_____________________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这句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我仿佛看到（听到）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_____________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132000" y="1197000"/>
              <a:ext cx="2880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10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b2b2b2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宋体"/>
                </a:rPr>
                <a:t>我会说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34920" y="1916280"/>
            <a:ext cx="5041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村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清  高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儿童散学归来早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98100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609300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化路第三小学 张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清平乐 村居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3916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440"/>
            <a:ext cx="9144000" cy="6856560"/>
            <a:chOff x="0" y="1440"/>
            <a:chExt cx="9144000" cy="68565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16000" y="2566800"/>
              <a:ext cx="568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971640" y="477720"/>
              <a:ext cx="295272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2481"/>
                  <a:gd name="adj2" fmla="val -1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ff">
                      <a:alpha val="86000"/>
                    </a:srgbClr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我会读</a:t>
              </a:r>
              <a:endParaRPr b="1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>
                    <a:alpha val="86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55640" y="2349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居      茅檐    低小   吴音   相媚好  翁媪    鸡笼   无赖  卧剥      莲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9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84280"/>
            <a:ext cx="446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茅檐低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溪上青青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醉里吴音相媚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发谁家翁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儿锄豆溪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儿正织鸡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喜小儿无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溪头卧剥莲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南宋  辛弃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1700" spc="-1" strike="noStrike">
                <a:solidFill>
                  <a:srgbClr val="ff0000"/>
                </a:solidFill>
                <a:latin typeface="Arial"/>
              </a:rPr>
              <a:t>词中有画</a:t>
            </a: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3549960"/>
            <a:ext cx="71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首词是一幅画，如果让你去画一幅画，你应该在这幅画上画些什么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92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Arial"/>
              </a:rPr>
              <a:t>词中有故事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472356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词中有几个人？这个故事发生在什么时间？什么地方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997080"/>
            <a:ext cx="72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看到了一对满头白发的老夫妻在亲热地交谈着，老公公会说什么？老婆婆会谈些什么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76360" y="2754360"/>
              <a:ext cx="698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大儿的幸福，在于（            ）；中儿的幸福，在于（            ）；小儿的幸福，在于（            ）；翁媪的幸福，在于（            ）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132000" y="1170000"/>
              <a:ext cx="2880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10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b2b2b2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宋体"/>
                </a:rPr>
                <a:t>我会说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1391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Arial"/>
              </a:rPr>
              <a:t>词中有情</a:t>
            </a: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300920"/>
            <a:ext cx="62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作者的笔下，乡村的宁静是多么美好呀，你能看出词人什么样的感情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39:50Z</dcterms:created>
  <dc:creator>xwdn</dc:creator>
  <dc:description/>
  <cp:keywords/>
  <dc:language>en-US</dc:language>
  <cp:lastModifiedBy>User</cp:lastModifiedBy>
  <cp:lastPrinted>1899-12-30T00:00:00Z</cp:lastPrinted>
  <dcterms:modified xsi:type="dcterms:W3CDTF">2014-12-09T15:12:07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4120</vt:lpwstr>
  </property>
</Properties>
</file>