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469-79E9-4C38-9CA5-9985FEB2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23F-6BB8-4AB0-9979-D64C2527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48E-DE29-4EA3-AE79-64DB768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0CF-2EA9-4C9F-B761-EFC17AA1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AD4-C503-4637-944C-D8E4E42E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F6E6-E0AD-4926-A4F2-003C360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E2A-1CB5-4B8C-8104-378D6FF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8272-67AB-49B6-8FF0-72B2C23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DFAA-2E60-4DF3-9ADF-4E9622A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9667-87AA-45E9-ADD3-1EFD599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5F65-776B-4161-B969-5F265E9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E0F-02DA-4D6C-85BE-30D7086F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CE9F-A4E6-4FC2-BDD1-EC22AE8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401-1643-4C6B-81F5-F5E9A0F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0A4F-74FF-486D-8309-3624021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7CD7-5F7E-4B1D-8A69-D275AC92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E61F-EF03-43D6-96E6-A2346C01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CF6-0D78-4020-B27E-3E927FC9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C5C-B8AD-4AFF-B103-DD12356F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650-D162-4139-8071-E33A122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CB4-4F77-4017-B779-955AFC6B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D2B-BEA8-477E-AB1A-71B04E0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16D-F154-4594-999D-EB87882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9C1-CE31-4002-8F72-0501B5C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231" name="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3C8-C914-451B-A105-759374A19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085-5F30-45EE-91A7-FB6EBE46AA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115920"/>
            <a:ext cx="853272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句默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心中自不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风多杂鼓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江春入旧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青山郭外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天寒梦泽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归雁入胡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寒山转苍翠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漠孤烟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风正一帆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785880"/>
            <a:ext cx="8569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写的是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所发生的事件，下距秦统一中国约半个世纪。其时，秦国经过百余年的变法，已经发展成为一个相当强大的国家，随着国富兵强，秦国扩张之心也与日俱增，在七雄纷争，战乱频仍的时期，秦国采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远交近攻、各个击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战略，不断向六国发起进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秦军伐魏，燕赵救之，迫使秦军撤退。秦国虽然一直想攻打赵国，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时正是秦国全力进攻楚国的时候，秦国一时攻不下楚国，而赵国本身又很强大，所以秦国暂时不能以主力对付赵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就是蔺相如进行外交斗争取得胜利的客观有利条件．当然，蔺相如的主观努力－－利用有利的形势，机智勇敢地进行斗争也是非常重要的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4312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时代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惠文王年序  大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廉颇伐齐，取阳晋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蔺相如完璧归赵，当在此年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秦伐赵，拔石城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秦复攻赵，杀二万人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7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渑池之会。将相和当在本年或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稍后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0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赵大事纪年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81080" y="3718080"/>
            <a:ext cx="268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池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850680" y="246708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汤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68360" y="314172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42680" y="494172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4419720"/>
            <a:ext cx="290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250920" y="177336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2700360" y="184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避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3288600" y="249228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627280" y="306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276720" y="3716280"/>
            <a:ext cx="14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2771640" y="4292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广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）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771640" y="4941720"/>
            <a:ext cx="26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衣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5651640" y="1916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贤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5651640" y="24922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5796000" y="3068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5867280" y="36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5651640" y="429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5940360" y="4941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柱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0"/>
          <p:cNvSpPr/>
          <p:nvPr/>
        </p:nvSpPr>
        <p:spPr>
          <a:xfrm>
            <a:off x="1671480" y="338040"/>
            <a:ext cx="59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3203640" y="549360"/>
            <a:ext cx="22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字词读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08000" y="3716280"/>
            <a:ext cx="2687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池（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miǎ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4040" y="2492280"/>
            <a:ext cx="18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汤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u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81160" y="312408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fǒu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519840" y="4981680"/>
            <a:ext cx="15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yì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0" y="4419720"/>
            <a:ext cx="290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mǐ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108000" y="17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m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2895480" y="1828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避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nì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084840" y="2514600"/>
            <a:ext cx="17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nú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3084840" y="3124080"/>
            <a:ext cx="17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àn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053520" y="3733920"/>
            <a:ext cx="21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yáng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2910960" y="4437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广成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zhuà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2340000" y="5013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衣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yì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hè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5410080" y="19051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贤（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miào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5076720" y="256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tǎn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5405400" y="3124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fǒu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7"/>
          <p:cNvSpPr/>
          <p:nvPr/>
        </p:nvSpPr>
        <p:spPr>
          <a:xfrm>
            <a:off x="5410080" y="3733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guàn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8"/>
          <p:cNvSpPr/>
          <p:nvPr/>
        </p:nvSpPr>
        <p:spPr>
          <a:xfrm>
            <a:off x="5292720" y="4437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jù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543564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柱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微软雅黑"/>
              </a:rPr>
              <a:t>n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1671480" y="338040"/>
            <a:ext cx="59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54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字词读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403280" y="189000"/>
            <a:ext cx="59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9f9fb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整体感知</a:t>
            </a:r>
            <a:endParaRPr b="1" lang="en-US" sz="2400" spc="-1" strike="noStrike">
              <a:ln w="9360">
                <a:solidFill>
                  <a:srgbClr val="9f9fb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170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写了哪几件历史事件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5280" y="53737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找出每一事件在文中的起止段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2637000"/>
            <a:ext cx="725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华文行楷"/>
              </a:rPr>
              <a:t>完璧归赵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华文行楷"/>
              </a:rPr>
              <a:t>渑池之会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华文行楷"/>
              </a:rPr>
              <a:t>将相和好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（负荆请罪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 flipH="1">
            <a:off x="2383920" y="0"/>
            <a:ext cx="270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11280" y="4581360"/>
            <a:ext cx="2700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4120" y="2370240"/>
            <a:ext cx="1399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层       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27280" y="90792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）：人物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43280" y="199548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—5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：完璧归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43280" y="3141720"/>
            <a:ext cx="52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—7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：渑池之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63640" y="422100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：负荆请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将相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1187280" y="1844640"/>
            <a:ext cx="5975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课文内容梳理</a:t>
            </a:r>
            <a:endParaRPr b="0" lang="en-US" sz="2400" spc="-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50920" y="260280"/>
            <a:ext cx="84978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廉颇者，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良将也。赵惠文王十六年，廉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赵将，伐齐，大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取阳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上卿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勇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诸侯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相如者，赵人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赵宦者令缪贤舍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000" y="2492280"/>
            <a:ext cx="903600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廉颇是赵国优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领。赵惠文王十六年，廉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担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国的大将，攻打齐国，大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齐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夺取了阳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被任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上卿。廉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的勇猛善战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诸侯各国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闻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蔺相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国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做（是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国宦官头目缪贤的门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24000" y="1773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章以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双起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开篇，同时推出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廉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蔺相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分别介绍了两人的身份和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38560" y="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第一部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5280" y="32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于两人地位高低悬殊、影响的大小不同，在他们之间将会产生矛盾就成为必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4724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一段为后文廉颇自恃功高而鄙视蔺相如的出身埋下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伏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为以后廉蔺之间的矛盾做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铺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33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刚正不阿 留得正气冲霄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幽愁发愤 著成信史照尘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赵惠文王时，得楚和氏璧。秦昭王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使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赵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五城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请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璧。赵王与大将军廉颇诸大臣谋：欲予秦，秦城恐不可得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徒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欺；欲勿予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秦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。计未定，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求人可使报秦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未得。宦者令缪贤曰：“臣舍人蔺相如可使。”王问：“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何以知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”对曰：“臣尝有罪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窃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亡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燕，臣舍人相如止臣曰：‘君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何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燕王？’臣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曰，臣尝从大王与燕王会境上，燕王私握臣手曰，‘愿结友’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此知之，故欲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249120" y="2924280"/>
            <a:ext cx="93931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赵惠文王时，赵国得到楚国的和氏璧。秦昭王听说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件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派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送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赵王一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表示愿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五座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请求交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氏璧。赵王跟大将军廉颇及大臣们商量：想把这块宝玉给秦国，秦国的城邑恐怕不可能得到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白白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欺骗；想不给吧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怕秦兵打过来。对策没有定下来，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想找个可以做使者去答复秦国的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没能找到。宦官头目缪贤说：“我的门客蔺相如可以出使。”赵王问：“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您</a:t>
            </a:r>
            <a:r>
              <a:rPr b="1" i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凭什么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他可以出使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缪贤回答说：“我曾经犯有罪过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私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打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逃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燕国去。我的门客蔺相如阻拦我说：‘您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怎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燕王有交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告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，我曾跟随大王与燕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境会见，燕王私下握着我的手说‘愿意交个朋友’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知道他，所以打算去他那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如谓臣曰：‘夫赵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燕弱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幸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赵王，故燕王欲结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君。今君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亡赵走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燕畏赵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其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不敢留君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君归赵矣。君不如肉袒伏斧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罪，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得脱矣。’臣从其计，大王亦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赦臣。臣窃以为其人勇士，有智谋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使。” 于是王召见，问蔺相如曰：“秦王以十五城请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寡人之璧，可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”相如曰：“秦强而赵弱，不可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”王曰：“取吾璧，不予我城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奈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177840" y="2708280"/>
            <a:ext cx="93218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蔺相如对我说：‘如今赵国强，燕国弱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您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赵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宠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以燕王想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您结交。现在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却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从赵国逃奔到燕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燕王害怕赵国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种形势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燕王一定不敢收留您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反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把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捆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起来送回赵国。您不如脱去上衣，趴在斧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请罪，那么或许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侥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以逃脱处罚’。我听从了他的意见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幸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王也赦免了我。我私下认为蔺相如是个勇士，有智谋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适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使者。”于是赵王召见蔺相如，问他：“秦王用十五座城请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交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的璧，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可以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蔺相如说：“秦国强大，赵国弱小，不能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的要求。”赵王说：“拿走我的璧，不给我城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怎么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2708280"/>
            <a:ext cx="896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4000" y="260280"/>
            <a:ext cx="8280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相如曰：“秦以城求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赵不许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赵；赵予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秦不予赵城，曲在秦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策，宁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秦曲。”王曰：“谁可使者？”相如曰：“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人，臣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璧往使。城入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璧留秦；城不入，臣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璧归赵。”赵王于是遂遣相如奉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入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5280" y="3068640"/>
            <a:ext cx="8352000" cy="2012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蔺相如说：“秦王用城换璧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赵国不答应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是赵国；赵国给秦璧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秦不给赵国城，理亏的是秦国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种对策，宁可答应秦的请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承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亏的责任。”赵王问：“谁可以派为使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蔺相如回答说：“大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实无人可派，我愿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捧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氏璧出使秦国。城给了赵国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璧留在秦国；城池不给赵国，我保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完整无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把和氏璧带回赵国。”赵王于是就派蔺相如带着和氏璧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入秦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340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第二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5640" y="184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蔺相如出场之前，先借缪贤之口，让读者初步了解到蔺相如“其人勇士，有智谋，宜可使”。这样的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侧面描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突出了蔺相如的为人性格和智勇双全，为下文张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042920" y="1773360"/>
            <a:ext cx="63374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检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堂检测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重点字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9280" y="549360"/>
            <a:ext cx="800100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愿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十五城请易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徒见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求人可使报秦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何以知之？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君何以知燕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夫赵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燕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赵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其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势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敢留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均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策，宁许以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人，臣愿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璧往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臣请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璧归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秦以城求璧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不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48360" y="6206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介词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197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被动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56000" y="1700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定语后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588000" y="2205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宾语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2781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并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95640" y="3357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递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19640" y="33577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宠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27640" y="39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这种形势下一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08720" y="4437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指代，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4437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使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64000" y="55166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使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03640" y="6093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如果，表假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92720" y="5013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倘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72360" y="5013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通“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50920" y="26028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堂检测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词多义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268280"/>
            <a:ext cx="72388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均之二策，宁许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贪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强　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如度秦王虽斋，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不偿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臣诚恐见欺于王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赵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廉颇闻之，肉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2240" y="28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倚仗，凭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31840" y="45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辜负，对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7920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违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3160" y="206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承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45400" y="537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背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50920" y="620640"/>
            <a:ext cx="83167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楷体_GB2312"/>
              </a:rPr>
              <a:t>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秦昭王闻之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ˎ̥"/>
                <a:ea typeface="楷体_GB2312"/>
              </a:rPr>
              <a:t>使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人遗赵王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其人勇士，有智谋，宜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ˎ̥"/>
                <a:ea typeface="楷体_GB2312"/>
              </a:rPr>
              <a:t>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乃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ˎ̥"/>
                <a:ea typeface="楷体_GB2312"/>
              </a:rPr>
              <a:t>使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其从者衣褐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④</a:t>
            </a:r>
            <a:r>
              <a:rPr b="1" lang="zh-CN" sz="4400" spc="-1" strike="noStrike">
                <a:solidFill>
                  <a:srgbClr val="0000ff"/>
                </a:solidFill>
                <a:latin typeface="ˎ̥"/>
                <a:ea typeface="楷体_GB2312"/>
              </a:rPr>
              <a:t>大王乃遣一介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ˎ̥"/>
                <a:ea typeface="楷体_GB2312"/>
              </a:rPr>
              <a:t>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9907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58280" y="148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ˎ̥"/>
                <a:ea typeface="楷体_GB2312"/>
              </a:rPr>
              <a:t>派</a:t>
            </a:r>
            <a:r>
              <a:rPr b="1" lang="zh-CN" sz="5400" spc="-1" strike="noStrike">
                <a:solidFill>
                  <a:srgbClr val="ff0000"/>
                </a:solidFill>
                <a:latin typeface="ˎ̥"/>
                <a:ea typeface="黑体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6000" y="3429000"/>
            <a:ext cx="238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ˎ̥"/>
                <a:ea typeface="楷体_GB2312"/>
              </a:rPr>
              <a:t>出使</a:t>
            </a:r>
            <a:r>
              <a:rPr b="1" lang="zh-CN" sz="3600" spc="-1" strike="noStrike">
                <a:solidFill>
                  <a:srgbClr val="ff0000"/>
                </a:solidFill>
                <a:latin typeface="ˎ̥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400536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ˎ̥"/>
                <a:ea typeface="楷体_GB2312"/>
              </a:rPr>
              <a:t>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24360" y="530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ˎ̥"/>
                <a:ea typeface="楷体_GB2312"/>
              </a:rPr>
              <a:t>使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981000"/>
            <a:ext cx="8451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伐齐，大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昭王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欲勿予，即患秦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二策，宁许以负秦曲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鄙贱之人，不知将军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至此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82360" y="2681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件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87320" y="4410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82720" y="3546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消句子独立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06760" y="1817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代齐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30240" y="5489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836640"/>
            <a:ext cx="8991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勇气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诸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幸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赵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故燕王欲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强秦不敢加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赵者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且庸人尚羞之，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将相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6240" y="2538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817600" y="4554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，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15680" y="3473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29880" y="1641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83360" y="534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1008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  <a:ea typeface="隶书"/>
              </a:rPr>
              <a:t>廉颇蔺相如列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4360" y="2924280"/>
            <a:ext cx="792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492360" y="76320"/>
            <a:ext cx="546444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18900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课堂检测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： 翻译句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4000" y="69228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计未定，求人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秦者，未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夫赵强而燕弱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赵王，故燕王欲结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5240" y="2409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0920" y="2060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译文：对策没有定下来，想找个可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做使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答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秦国的人，没能找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9640" y="4797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译文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赵国强大而燕国弱小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而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您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赵王宠幸，所以燕王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您结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24000" y="47628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均之二策，宁许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秦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城不入，臣请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璧归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65240" y="2409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1700280"/>
            <a:ext cx="849636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译文：比较这两个对策，宁可答应（给秦国璧），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秦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承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理亏的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458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译文：城池不给赵国，我保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完整无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地把和氏璧带回赵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440" y="3186000"/>
            <a:ext cx="9144000" cy="36990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619280" y="2276640"/>
            <a:ext cx="6264360" cy="792000"/>
          </a:xfrm>
          <a:prstGeom prst="flowChartTerminator">
            <a:avLst/>
          </a:prstGeom>
          <a:solidFill>
            <a:srgbClr val="ffcc00"/>
          </a:solidFill>
          <a:ln w="1260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9640" y="24177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廉颇蔺相如列传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扫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55960" y="2708280"/>
            <a:ext cx="1008000" cy="0"/>
          </a:xfrm>
          <a:prstGeom prst="line">
            <a:avLst/>
          </a:prstGeom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32000" y="1052640"/>
            <a:ext cx="6912000" cy="1224000"/>
          </a:xfrm>
          <a:prstGeom prst="flowChartPrepa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87280" y="836640"/>
            <a:ext cx="7056720" cy="1440000"/>
          </a:xfrm>
          <a:prstGeom prst="flowChartPredefined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-177840" y="1484280"/>
            <a:ext cx="9321840" cy="100800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32000" y="1125360"/>
            <a:ext cx="6264360" cy="9352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71640" y="1125360"/>
            <a:ext cx="7488000" cy="1008360"/>
          </a:xfrm>
          <a:prstGeom prst="flowChartAlternateProcess">
            <a:avLst/>
          </a:prstGeom>
          <a:solidFill>
            <a:srgbClr val="00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4360" y="105264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2609"/>
                </a:solidFill>
                <a:latin typeface="Arial"/>
                <a:ea typeface="隶书"/>
              </a:rPr>
              <a:t>点击课文，链接高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65280" y="189000"/>
            <a:ext cx="6264360" cy="792000"/>
          </a:xfrm>
          <a:prstGeom prst="flowChartTerminator">
            <a:avLst/>
          </a:prstGeom>
          <a:solidFill>
            <a:srgbClr val="ffcc00"/>
          </a:solidFill>
          <a:ln w="1260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14400" y="25884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方正姚体"/>
              </a:rPr>
              <a:t>题目在课外，答案在课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389400" y="228600"/>
            <a:ext cx="3200400" cy="609480"/>
          </a:xfrm>
          <a:prstGeom prst="rect">
            <a:avLst/>
          </a:prstGeom>
          <a:solidFill>
            <a:srgbClr val="c9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5637240" y="264960"/>
            <a:ext cx="1600200" cy="5731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2124000" y="250920"/>
            <a:ext cx="1600200" cy="5713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0" y="-23760"/>
            <a:ext cx="1476360" cy="68547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3564000" y="26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实词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20720" y="1414440"/>
            <a:ext cx="574920" cy="180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点击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66920" y="13636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后秦伐赵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石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臣知欺大王之罪当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以相如功大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上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乃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秦王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窃计欲亡走燕臣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为其人勇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65280" y="13402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攻    取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89040" y="1699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被    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20440" y="20595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授    官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40440" y="249120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对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89040" y="2851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私    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7640" y="1328760"/>
            <a:ext cx="7417080" cy="1955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47640" y="4076640"/>
            <a:ext cx="7394760" cy="252108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(200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城之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二耳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被攻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(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庆封出猎，景公等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封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杀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(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乃召晖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郎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授官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(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顾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掾属曰：“若之何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(200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广子孙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谓其昆弟老人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暗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68600" y="4508640"/>
            <a:ext cx="574560" cy="180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链击高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87280" y="7650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解释下列加粗词语的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308720" y="210960"/>
            <a:ext cx="1692360" cy="64800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句中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82920" y="3357720"/>
            <a:ext cx="17290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80000" y="4508640"/>
            <a:ext cx="285480" cy="230040"/>
          </a:xfrm>
          <a:custGeom>
            <a:avLst/>
            <a:gdLst/>
            <a:ahLst/>
            <a:rect l="l" t="t" r="r" b="b"/>
            <a:pathLst>
              <a:path w="272" h="287">
                <a:moveTo>
                  <a:pt x="0" y="91"/>
                </a:moveTo>
                <a:cubicBezTo>
                  <a:pt x="45" y="189"/>
                  <a:pt x="91" y="287"/>
                  <a:pt x="136" y="272"/>
                </a:cubicBezTo>
                <a:cubicBezTo>
                  <a:pt x="181" y="257"/>
                  <a:pt x="249" y="4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80000" y="5229360"/>
            <a:ext cx="309240" cy="261720"/>
          </a:xfrm>
          <a:custGeom>
            <a:avLst/>
            <a:gdLst/>
            <a:ahLst/>
            <a:rect l="l" t="t" r="r" b="b"/>
            <a:pathLst>
              <a:path w="272" h="287">
                <a:moveTo>
                  <a:pt x="0" y="91"/>
                </a:moveTo>
                <a:cubicBezTo>
                  <a:pt x="45" y="189"/>
                  <a:pt x="91" y="287"/>
                  <a:pt x="136" y="272"/>
                </a:cubicBezTo>
                <a:cubicBezTo>
                  <a:pt x="181" y="257"/>
                  <a:pt x="249" y="4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80000" y="5516640"/>
            <a:ext cx="266400" cy="336600"/>
          </a:xfrm>
          <a:custGeom>
            <a:avLst/>
            <a:gdLst/>
            <a:ahLst/>
            <a:rect l="l" t="t" r="r" b="b"/>
            <a:pathLst>
              <a:path w="272" h="287">
                <a:moveTo>
                  <a:pt x="0" y="91"/>
                </a:moveTo>
                <a:cubicBezTo>
                  <a:pt x="45" y="189"/>
                  <a:pt x="91" y="287"/>
                  <a:pt x="136" y="272"/>
                </a:cubicBezTo>
                <a:cubicBezTo>
                  <a:pt x="181" y="257"/>
                  <a:pt x="249" y="4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51280" y="4869000"/>
            <a:ext cx="28908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cubicBezTo>
                  <a:pt x="76" y="76"/>
                  <a:pt x="152" y="152"/>
                  <a:pt x="182" y="18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4869000"/>
            <a:ext cx="216000" cy="28872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136" y="0"/>
                </a:moveTo>
                <a:cubicBezTo>
                  <a:pt x="79" y="76"/>
                  <a:pt x="23" y="152"/>
                  <a:pt x="0" y="18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80000" y="6021360"/>
            <a:ext cx="215640" cy="28908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136" y="0"/>
                </a:moveTo>
                <a:cubicBezTo>
                  <a:pt x="79" y="76"/>
                  <a:pt x="23" y="152"/>
                  <a:pt x="0" y="18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80000" y="6021360"/>
            <a:ext cx="288720" cy="2890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cubicBezTo>
                  <a:pt x="76" y="76"/>
                  <a:pt x="152" y="152"/>
                  <a:pt x="182" y="18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6165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诛：讨伐    窃：私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038480" y="228600"/>
            <a:ext cx="3200400" cy="609480"/>
          </a:xfrm>
          <a:prstGeom prst="rect">
            <a:avLst/>
          </a:prstGeom>
          <a:solidFill>
            <a:srgbClr val="c9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00880" y="264960"/>
            <a:ext cx="1600200" cy="57312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2987640" y="250920"/>
            <a:ext cx="1600200" cy="5713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0" y="4428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4427640" y="26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虚词用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19280" y="765000"/>
            <a:ext cx="1692360" cy="64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隶书"/>
              </a:rPr>
              <a:t>直接取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35720" y="1381320"/>
            <a:ext cx="46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①一则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秦贪，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96000" y="2173320"/>
            <a:ext cx="54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00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海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披絮，勤苦同于贫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设九宾于廷，臣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敢上璧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92360" y="4437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58920" y="2960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①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信，具以白质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宾客至蔺相如门谢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00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①五千人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衔枚击之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持璧却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00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留养之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宾客至蔺相如门谢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86040" y="3284640"/>
            <a:ext cx="144360" cy="136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9800"/>
              <a:gd name="textAreaBottom" fmla="*/ 1334160 h 136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44720" y="3789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17080" y="238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17080" y="307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317080" y="4687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17080" y="1603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5672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之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伐齐，大破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秦昭王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患秦兵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均之二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秦王度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臣知欺大王之罪当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7280" y="1557000"/>
            <a:ext cx="507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       代“齐国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代词       “赵得楚和氏璧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助词    用于主谓之间，取消句子独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代词       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代词，这件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助词    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8600" y="148428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学习目标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初步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家作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熟读、翻译课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指出文中通假字、词类活用、一词多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古今异义的特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指出文中倒装句、被动句等特殊句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29080" y="620640"/>
            <a:ext cx="326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第一课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司马迁简介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609720" cy="5050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24000" y="3284640"/>
            <a:ext cx="45622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1844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司马迁，字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子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夏阳（今陕西韩城南）人，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西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著名史学家、文学家和思想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159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他家学渊源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司马谈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为太史令，学问广博。父亲死了三年，司马迁继承其业，在“金匾石室”（国家藏书处）阅读、整理历史资料；此外他还广泛游览，实地考察积累了大量的写作素材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;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武帝天汉三年（前９８），李陵孤军入匈奴，败降，而司马迁极言李陵降敌出于无奈，因而触怒汉武帝，致罪下狱，受宫刑。自此发愤著《史记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86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79640" y="22050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史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71640" y="836640"/>
            <a:ext cx="61722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《史记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国第一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纪传体通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共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130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篇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记述传说中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黄帝至汉武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期近三千年的历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4508640"/>
            <a:ext cx="5705280" cy="1477080"/>
          </a:xfrm>
          <a:prstGeom prst="rect">
            <a:avLst/>
          </a:prstGeom>
          <a:noFill/>
          <a:ln w="9360">
            <a:solidFill>
              <a:srgbClr val="616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迅：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史家之绝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无韵之离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438280" y="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4343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51880" y="25146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史 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457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12</a:t>
            </a: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本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95480" y="1676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30</a:t>
            </a: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世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70</a:t>
            </a: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列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419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10 </a:t>
            </a: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8  </a:t>
            </a:r>
            <a:r>
              <a:rPr b="0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33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年代记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帝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言行和政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1447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诸侯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兴衰和杰出人物的事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28195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各类名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生平和事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006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年代谱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各时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大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5334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录各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典章制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沿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438280" y="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71800" y="1143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4800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467480" y="6259680"/>
            <a:ext cx="1676520" cy="598320"/>
          </a:xfrm>
          <a:prstGeom prst="rect">
            <a:avLst/>
          </a:prstGeom>
          <a:ln w="0">
            <a:noFill/>
          </a:ln>
        </p:spPr>
      </p:pic>
      <p:sp>
        <p:nvSpPr>
          <p:cNvPr id="542" name="">
            <a:hlinkClick r:id="rId3" action="ppaction://hlinksldjump"/>
          </p:cNvPr>
          <p:cNvSpPr/>
          <p:nvPr/>
        </p:nvSpPr>
        <p:spPr>
          <a:xfrm>
            <a:off x="7620120" y="6324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10800"/>
                </a:moveTo>
                <a:lnTo>
                  <a:pt x="34760" y="3794"/>
                </a:lnTo>
                <a:lnTo>
                  <a:pt x="3476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38080"/>
            <a:ext cx="961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前四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《</a:t>
            </a:r>
            <a:r>
              <a:rPr b="1" lang="zh-CN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史记</a:t>
            </a: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司马迁  西汉      纪传体    通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《</a:t>
            </a:r>
            <a:r>
              <a:rPr b="1" lang="zh-CN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三国志</a:t>
            </a: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陈寿      西晋      纪传体    国别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《</a:t>
            </a:r>
            <a:r>
              <a:rPr b="1" lang="zh-CN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汉书</a:t>
            </a: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班固      东汉      纪传体    断代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《</a:t>
            </a:r>
            <a:r>
              <a:rPr b="1" lang="zh-CN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后汉书</a:t>
            </a:r>
            <a:r>
              <a:rPr b="1" lang="en-US" sz="3200" spc="-1" strike="noStrike">
                <a:solidFill>
                  <a:srgbClr val="fc4122"/>
                </a:solidFill>
                <a:latin typeface="华文琥珀"/>
                <a:ea typeface="华文琥珀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琥珀"/>
                <a:ea typeface="华文琥珀"/>
              </a:rPr>
              <a:t>范晔      南朝宋  纪传体    断代史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33:18Z</dcterms:created>
  <dc:creator/>
  <dc:description/>
  <cp:keywords/>
  <dc:language>en-US</dc:language>
  <cp:lastModifiedBy>微软用户</cp:lastModifiedBy>
  <dcterms:modified xsi:type="dcterms:W3CDTF">2014-12-03T01:31:55Z</dcterms:modified>
  <cp:revision>2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