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gif" ContentType="image/gif"/>
  <Override PartName="/ppt/media/image19.jpeg" ContentType="image/jpeg"/>
  <Override PartName="/ppt/media/image1.jpeg" ContentType="image/jpeg"/>
  <Override PartName="/ppt/media/image5.jpeg" ContentType="image/jpeg"/>
  <Override PartName="/ppt/media/image2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2.gif" ContentType="image/gif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DA2F-8ED0-40E8-9EBD-F0D6D7898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D857-9080-4033-84D6-081385D3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2125-61A9-4A42-A443-405A66B1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FE66-8905-40EE-9E6C-5B4901241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7C86-EEA5-4A1F-85C3-37D9083F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D236-D9F9-4E42-B787-0BB41FC6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6380-10D6-4C1D-B388-2F37775E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DDBB-0C09-4A89-8C47-ED59CCB7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BAC5-6E06-435C-AE02-D08CDFA2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0EF7-8DDF-46D2-BC61-7C2106B2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8ABB-A591-4C7C-BBF0-9742152C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D825-0691-49AD-A8BE-2A9A4A92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4965-D51D-42CD-BDB3-EDFCEAD7C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916360" y="3068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021031051c_2"/>
          <p:cNvPicPr/>
          <p:nvPr/>
        </p:nvPicPr>
        <p:blipFill>
          <a:blip r:embed="rId1"/>
          <a:stretch/>
        </p:blipFill>
        <p:spPr>
          <a:xfrm>
            <a:off x="2133720" y="1828800"/>
            <a:ext cx="5029200" cy="3352680"/>
          </a:xfrm>
          <a:prstGeom prst="rect">
            <a:avLst/>
          </a:prstGeom>
          <a:ln w="0">
            <a:noFill/>
          </a:ln>
        </p:spPr>
      </p:pic>
      <p:sp>
        <p:nvSpPr>
          <p:cNvPr id="43" name="WordArt 4"/>
          <p:cNvSpPr txBox="1"/>
          <p:nvPr/>
        </p:nvSpPr>
        <p:spPr>
          <a:xfrm>
            <a:off x="1447920" y="533520"/>
            <a:ext cx="5257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秋天的图画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1908000" y="562464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downcc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D:\Program Files\My Documents\秋天的图画\FJ0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59c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D:\Program Files\My Documents\秋天的图画\dd.jpg"/>
          <p:cNvPicPr/>
          <p:nvPr/>
        </p:nvPicPr>
        <p:blipFill>
          <a:blip r:embed="rId1"/>
          <a:stretch/>
        </p:blipFill>
        <p:spPr>
          <a:xfrm>
            <a:off x="0" y="4437000"/>
            <a:ext cx="9144000" cy="2421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D:\Program Files\My Documents\秋天的图画\d190.gif"/>
          <p:cNvPicPr/>
          <p:nvPr/>
        </p:nvPicPr>
        <p:blipFill>
          <a:blip r:embed="rId2"/>
          <a:stretch/>
        </p:blipFill>
        <p:spPr>
          <a:xfrm>
            <a:off x="5562720" y="268200"/>
            <a:ext cx="761760" cy="403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D:\Program Files\My Documents\秋天的图画\d190.gif"/>
          <p:cNvPicPr/>
          <p:nvPr/>
        </p:nvPicPr>
        <p:blipFill>
          <a:blip r:embed="rId3"/>
          <a:stretch/>
        </p:blipFill>
        <p:spPr>
          <a:xfrm>
            <a:off x="7391520" y="420840"/>
            <a:ext cx="761760" cy="403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D:\Program Files\My Documents\秋天的图画\d190.gif"/>
          <p:cNvPicPr/>
          <p:nvPr/>
        </p:nvPicPr>
        <p:blipFill>
          <a:blip r:embed="rId4"/>
          <a:stretch/>
        </p:blipFill>
        <p:spPr>
          <a:xfrm>
            <a:off x="5181480" y="533520"/>
            <a:ext cx="914400" cy="556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D:\Program Files\My Documents\秋天的图画\d190.gif"/>
          <p:cNvPicPr/>
          <p:nvPr/>
        </p:nvPicPr>
        <p:blipFill>
          <a:blip r:embed="rId5"/>
          <a:stretch/>
        </p:blipFill>
        <p:spPr>
          <a:xfrm>
            <a:off x="4876920" y="1030320"/>
            <a:ext cx="1066680" cy="563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D:\Program Files\My Documents\秋天的图画\d190.gif"/>
          <p:cNvPicPr/>
          <p:nvPr/>
        </p:nvPicPr>
        <p:blipFill>
          <a:blip r:embed="rId6"/>
          <a:stretch/>
        </p:blipFill>
        <p:spPr>
          <a:xfrm>
            <a:off x="4800600" y="1523880"/>
            <a:ext cx="1066680" cy="563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D:\Program Files\My Documents\秋天的图画\d190.gif"/>
          <p:cNvPicPr/>
          <p:nvPr/>
        </p:nvPicPr>
        <p:blipFill>
          <a:blip r:embed="rId7"/>
          <a:stretch/>
        </p:blipFill>
        <p:spPr>
          <a:xfrm>
            <a:off x="4648320" y="1981080"/>
            <a:ext cx="1295280" cy="608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D:\Program Files\My Documents\秋天的图画\d190.gif"/>
          <p:cNvPicPr/>
          <p:nvPr/>
        </p:nvPicPr>
        <p:blipFill>
          <a:blip r:embed="rId8"/>
          <a:stretch/>
        </p:blipFill>
        <p:spPr>
          <a:xfrm>
            <a:off x="5715000" y="1600200"/>
            <a:ext cx="1143000" cy="603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" descr="D:\Program Files\My Documents\秋天的图画\d190.gif"/>
          <p:cNvPicPr/>
          <p:nvPr/>
        </p:nvPicPr>
        <p:blipFill>
          <a:blip r:embed="rId9"/>
          <a:stretch/>
        </p:blipFill>
        <p:spPr>
          <a:xfrm>
            <a:off x="6324480" y="1219320"/>
            <a:ext cx="990720" cy="523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D:\Program Files\My Documents\秋天的图画\d190.gif"/>
          <p:cNvPicPr/>
          <p:nvPr/>
        </p:nvPicPr>
        <p:blipFill>
          <a:blip r:embed="rId10"/>
          <a:stretch/>
        </p:blipFill>
        <p:spPr>
          <a:xfrm>
            <a:off x="6934320" y="838080"/>
            <a:ext cx="83808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367080" y="533520"/>
            <a:ext cx="25048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5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梨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7" descr="D:\Program Files\My Documents\秋天的图画\d187.gif"/>
          <p:cNvPicPr/>
          <p:nvPr/>
        </p:nvPicPr>
        <p:blipFill>
          <a:blip r:embed="rId2"/>
          <a:stretch/>
        </p:blipFill>
        <p:spPr>
          <a:xfrm>
            <a:off x="762120" y="4876920"/>
            <a:ext cx="12189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367080" y="533520"/>
            <a:ext cx="25048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5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作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D:\Program Files\My Documents\秋天的图画\d039.gif"/>
          <p:cNvPicPr/>
          <p:nvPr/>
        </p:nvPicPr>
        <p:blipFill>
          <a:blip r:embed="rId2"/>
          <a:stretch/>
        </p:blipFill>
        <p:spPr>
          <a:xfrm>
            <a:off x="7315200" y="4952880"/>
            <a:ext cx="97632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5"/>
          <p:cNvSpPr/>
          <p:nvPr/>
        </p:nvSpPr>
        <p:spPr>
          <a:xfrm>
            <a:off x="1066680" y="1295280"/>
            <a:ext cx="2895840" cy="1143000"/>
          </a:xfrm>
          <a:custGeom>
            <a:avLst/>
            <a:gdLst>
              <a:gd name="textAreaLeft" fmla="*/ 423720 w 2895840"/>
              <a:gd name="textAreaRight" fmla="*/ 2472120 w 2895840"/>
              <a:gd name="textAreaTop" fmla="*/ 11880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187" y="0"/>
                </a:lnTo>
                <a:arcTo wR="675" hR="563" stAng="16200000" swAng="5400000"/>
                <a:lnTo>
                  <a:pt x="5862" y="2250"/>
                </a:lnTo>
                <a:lnTo>
                  <a:pt x="15738" y="2250"/>
                </a:lnTo>
                <a:lnTo>
                  <a:pt x="15738" y="563"/>
                </a:lnTo>
                <a:arcTo wR="675" hR="563" stAng="10800000" swAng="5400000"/>
                <a:lnTo>
                  <a:pt x="21600" y="0"/>
                </a:lnTo>
                <a:lnTo>
                  <a:pt x="18900" y="9675"/>
                </a:lnTo>
                <a:lnTo>
                  <a:pt x="21600" y="19350"/>
                </a:lnTo>
                <a:lnTo>
                  <a:pt x="18438" y="19350"/>
                </a:lnTo>
                <a:lnTo>
                  <a:pt x="18438" y="21038"/>
                </a:lnTo>
                <a:arcTo wR="675" hR="563" stAng="0" swAng="5400000"/>
                <a:lnTo>
                  <a:pt x="3837" y="21600"/>
                </a:lnTo>
                <a:arcTo wR="675" hR="563" stAng="5400000" swAng="5400000"/>
                <a:lnTo>
                  <a:pt x="3162" y="19350"/>
                </a:lnTo>
                <a:lnTo>
                  <a:pt x="0" y="19350"/>
                </a:lnTo>
                <a:lnTo>
                  <a:pt x="2700" y="9675"/>
                </a:lnTo>
                <a:close/>
              </a:path>
              <a:path fill="none" w="21600" h="21600">
                <a:moveTo>
                  <a:pt x="5862" y="563"/>
                </a:moveTo>
                <a:arcTo wR="675" hR="563" stAng="0" swAng="5400000"/>
                <a:lnTo>
                  <a:pt x="3837" y="1125"/>
                </a:lnTo>
                <a:arcTo wR="675" hR="563" stAng="16200000" swAng="-5400000"/>
                <a:arcTo wR="675" hR="563" stAng="10800000" swAng="-5400000"/>
                <a:lnTo>
                  <a:pt x="5862" y="2250"/>
                </a:lnTo>
              </a:path>
              <a:path fill="none" w="21600" h="21600">
                <a:moveTo>
                  <a:pt x="15738" y="563"/>
                </a:moveTo>
                <a:arcTo wR="675" hR="563" stAng="10800000" swAng="-5400000"/>
                <a:lnTo>
                  <a:pt x="17763" y="1125"/>
                </a:lnTo>
                <a:arcTo wR="675" hR="563" stAng="16200000" swAng="5400000"/>
                <a:arcTo wR="675" hR="563" stAng="0" swAng="5400000"/>
                <a:lnTo>
                  <a:pt x="15738" y="2250"/>
                </a:lnTo>
              </a:path>
              <a:path fill="none" w="21600" h="21600">
                <a:moveTo>
                  <a:pt x="3162" y="1688"/>
                </a:moveTo>
                <a:lnTo>
                  <a:pt x="3162" y="19350"/>
                </a:lnTo>
              </a:path>
              <a:path fill="none" w="21600" h="21600">
                <a:moveTo>
                  <a:pt x="18438" y="1688"/>
                </a:moveTo>
                <a:lnTo>
                  <a:pt x="18438" y="1935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Times New Roman"/>
                <a:ea typeface="幼圆"/>
              </a:rPr>
              <a:t>风光欣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990720" y="3581280"/>
            <a:ext cx="2895480" cy="1219320"/>
          </a:xfrm>
          <a:custGeom>
            <a:avLst/>
            <a:gdLst>
              <a:gd name="textAreaLeft" fmla="*/ 423720 w 2895480"/>
              <a:gd name="textAreaRight" fmla="*/ 2471760 w 2895480"/>
              <a:gd name="textAreaTop" fmla="*/ 12672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187" y="0"/>
                </a:lnTo>
                <a:arcTo wR="675" hR="563" stAng="16200000" swAng="5400000"/>
                <a:lnTo>
                  <a:pt x="5862" y="2250"/>
                </a:lnTo>
                <a:lnTo>
                  <a:pt x="15738" y="2250"/>
                </a:lnTo>
                <a:lnTo>
                  <a:pt x="15738" y="563"/>
                </a:lnTo>
                <a:arcTo wR="675" hR="563" stAng="10800000" swAng="5400000"/>
                <a:lnTo>
                  <a:pt x="21600" y="0"/>
                </a:lnTo>
                <a:lnTo>
                  <a:pt x="18900" y="9675"/>
                </a:lnTo>
                <a:lnTo>
                  <a:pt x="21600" y="19350"/>
                </a:lnTo>
                <a:lnTo>
                  <a:pt x="18438" y="19350"/>
                </a:lnTo>
                <a:lnTo>
                  <a:pt x="18438" y="21038"/>
                </a:lnTo>
                <a:arcTo wR="675" hR="563" stAng="0" swAng="5400000"/>
                <a:lnTo>
                  <a:pt x="3837" y="21600"/>
                </a:lnTo>
                <a:arcTo wR="675" hR="563" stAng="5400000" swAng="5400000"/>
                <a:lnTo>
                  <a:pt x="3162" y="19350"/>
                </a:lnTo>
                <a:lnTo>
                  <a:pt x="0" y="19350"/>
                </a:lnTo>
                <a:lnTo>
                  <a:pt x="2700" y="9675"/>
                </a:lnTo>
                <a:close/>
              </a:path>
              <a:path fill="none" w="21600" h="21600">
                <a:moveTo>
                  <a:pt x="5862" y="563"/>
                </a:moveTo>
                <a:arcTo wR="675" hR="563" stAng="0" swAng="5400000"/>
                <a:lnTo>
                  <a:pt x="3837" y="1125"/>
                </a:lnTo>
                <a:arcTo wR="675" hR="563" stAng="16200000" swAng="-5400000"/>
                <a:arcTo wR="675" hR="563" stAng="10800000" swAng="-5400000"/>
                <a:lnTo>
                  <a:pt x="5862" y="2250"/>
                </a:lnTo>
              </a:path>
              <a:path fill="none" w="21600" h="21600">
                <a:moveTo>
                  <a:pt x="15738" y="563"/>
                </a:moveTo>
                <a:arcTo wR="675" hR="563" stAng="10800000" swAng="-5400000"/>
                <a:lnTo>
                  <a:pt x="17763" y="1125"/>
                </a:lnTo>
                <a:arcTo wR="675" hR="563" stAng="16200000" swAng="5400000"/>
                <a:arcTo wR="675" hR="563" stAng="0" swAng="5400000"/>
                <a:lnTo>
                  <a:pt x="15738" y="2250"/>
                </a:lnTo>
              </a:path>
              <a:path fill="none" w="21600" h="21600">
                <a:moveTo>
                  <a:pt x="3162" y="1688"/>
                </a:moveTo>
                <a:lnTo>
                  <a:pt x="3162" y="19350"/>
                </a:lnTo>
              </a:path>
              <a:path fill="none" w="21600" h="21600">
                <a:moveTo>
                  <a:pt x="18438" y="1688"/>
                </a:moveTo>
                <a:lnTo>
                  <a:pt x="18438" y="1935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Times New Roman"/>
                <a:ea typeface="幼圆"/>
              </a:rPr>
              <a:t>生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5257800" y="3505320"/>
            <a:ext cx="2895480" cy="1218960"/>
          </a:xfrm>
          <a:custGeom>
            <a:avLst/>
            <a:gdLst>
              <a:gd name="textAreaLeft" fmla="*/ 423720 w 2895480"/>
              <a:gd name="textAreaRight" fmla="*/ 2471760 w 2895480"/>
              <a:gd name="textAreaTop" fmla="*/ 12672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187" y="0"/>
                </a:lnTo>
                <a:arcTo wR="675" hR="563" stAng="16200000" swAng="5400000"/>
                <a:lnTo>
                  <a:pt x="5862" y="2250"/>
                </a:lnTo>
                <a:lnTo>
                  <a:pt x="15738" y="2250"/>
                </a:lnTo>
                <a:lnTo>
                  <a:pt x="15738" y="563"/>
                </a:lnTo>
                <a:arcTo wR="675" hR="563" stAng="10800000" swAng="5400000"/>
                <a:lnTo>
                  <a:pt x="21600" y="0"/>
                </a:lnTo>
                <a:lnTo>
                  <a:pt x="18900" y="9675"/>
                </a:lnTo>
                <a:lnTo>
                  <a:pt x="21600" y="19350"/>
                </a:lnTo>
                <a:lnTo>
                  <a:pt x="18438" y="19350"/>
                </a:lnTo>
                <a:lnTo>
                  <a:pt x="18438" y="21038"/>
                </a:lnTo>
                <a:arcTo wR="675" hR="563" stAng="0" swAng="5400000"/>
                <a:lnTo>
                  <a:pt x="3837" y="21600"/>
                </a:lnTo>
                <a:arcTo wR="675" hR="563" stAng="5400000" swAng="5400000"/>
                <a:lnTo>
                  <a:pt x="3162" y="19350"/>
                </a:lnTo>
                <a:lnTo>
                  <a:pt x="0" y="19350"/>
                </a:lnTo>
                <a:lnTo>
                  <a:pt x="2700" y="9675"/>
                </a:lnTo>
                <a:close/>
              </a:path>
              <a:path fill="none" w="21600" h="21600">
                <a:moveTo>
                  <a:pt x="5862" y="563"/>
                </a:moveTo>
                <a:arcTo wR="675" hR="563" stAng="0" swAng="5400000"/>
                <a:lnTo>
                  <a:pt x="3837" y="1125"/>
                </a:lnTo>
                <a:arcTo wR="675" hR="563" stAng="16200000" swAng="-5400000"/>
                <a:arcTo wR="675" hR="563" stAng="10800000" swAng="-5400000"/>
                <a:lnTo>
                  <a:pt x="5862" y="2250"/>
                </a:lnTo>
              </a:path>
              <a:path fill="none" w="21600" h="21600">
                <a:moveTo>
                  <a:pt x="15738" y="563"/>
                </a:moveTo>
                <a:arcTo wR="675" hR="563" stAng="10800000" swAng="-5400000"/>
                <a:lnTo>
                  <a:pt x="17763" y="1125"/>
                </a:lnTo>
                <a:arcTo wR="675" hR="563" stAng="16200000" swAng="5400000"/>
                <a:arcTo wR="675" hR="563" stAng="0" swAng="5400000"/>
                <a:lnTo>
                  <a:pt x="15738" y="2250"/>
                </a:lnTo>
              </a:path>
              <a:path fill="none" w="21600" h="21600">
                <a:moveTo>
                  <a:pt x="3162" y="1688"/>
                </a:moveTo>
                <a:lnTo>
                  <a:pt x="3162" y="19350"/>
                </a:lnTo>
              </a:path>
              <a:path fill="none" w="21600" h="21600">
                <a:moveTo>
                  <a:pt x="18438" y="1688"/>
                </a:moveTo>
                <a:lnTo>
                  <a:pt x="18438" y="1935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Times New Roman"/>
                <a:ea typeface="幼圆"/>
              </a:rPr>
              <a:t>首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5181480" y="1295280"/>
            <a:ext cx="2895840" cy="1143000"/>
          </a:xfrm>
          <a:custGeom>
            <a:avLst/>
            <a:gdLst>
              <a:gd name="textAreaLeft" fmla="*/ 423720 w 2895840"/>
              <a:gd name="textAreaRight" fmla="*/ 2472120 w 2895840"/>
              <a:gd name="textAreaTop" fmla="*/ 11880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187" y="0"/>
                </a:lnTo>
                <a:arcTo wR="675" hR="563" stAng="16200000" swAng="5400000"/>
                <a:lnTo>
                  <a:pt x="5862" y="2250"/>
                </a:lnTo>
                <a:lnTo>
                  <a:pt x="15738" y="2250"/>
                </a:lnTo>
                <a:lnTo>
                  <a:pt x="15738" y="563"/>
                </a:lnTo>
                <a:arcTo wR="675" hR="563" stAng="10800000" swAng="5400000"/>
                <a:lnTo>
                  <a:pt x="21600" y="0"/>
                </a:lnTo>
                <a:lnTo>
                  <a:pt x="18900" y="9675"/>
                </a:lnTo>
                <a:lnTo>
                  <a:pt x="21600" y="19350"/>
                </a:lnTo>
                <a:lnTo>
                  <a:pt x="18438" y="19350"/>
                </a:lnTo>
                <a:lnTo>
                  <a:pt x="18438" y="21038"/>
                </a:lnTo>
                <a:arcTo wR="675" hR="563" stAng="0" swAng="5400000"/>
                <a:lnTo>
                  <a:pt x="3837" y="21600"/>
                </a:lnTo>
                <a:arcTo wR="675" hR="563" stAng="5400000" swAng="5400000"/>
                <a:lnTo>
                  <a:pt x="3162" y="19350"/>
                </a:lnTo>
                <a:lnTo>
                  <a:pt x="0" y="19350"/>
                </a:lnTo>
                <a:lnTo>
                  <a:pt x="2700" y="9675"/>
                </a:lnTo>
                <a:close/>
              </a:path>
              <a:path fill="none" w="21600" h="21600">
                <a:moveTo>
                  <a:pt x="5862" y="563"/>
                </a:moveTo>
                <a:arcTo wR="675" hR="563" stAng="0" swAng="5400000"/>
                <a:lnTo>
                  <a:pt x="3837" y="1125"/>
                </a:lnTo>
                <a:arcTo wR="675" hR="563" stAng="16200000" swAng="-5400000"/>
                <a:arcTo wR="675" hR="563" stAng="10800000" swAng="-5400000"/>
                <a:lnTo>
                  <a:pt x="5862" y="2250"/>
                </a:lnTo>
              </a:path>
              <a:path fill="none" w="21600" h="21600">
                <a:moveTo>
                  <a:pt x="15738" y="563"/>
                </a:moveTo>
                <a:arcTo wR="675" hR="563" stAng="10800000" swAng="-5400000"/>
                <a:lnTo>
                  <a:pt x="17763" y="1125"/>
                </a:lnTo>
                <a:arcTo wR="675" hR="563" stAng="16200000" swAng="5400000"/>
                <a:arcTo wR="675" hR="563" stAng="0" swAng="5400000"/>
                <a:lnTo>
                  <a:pt x="15738" y="2250"/>
                </a:lnTo>
              </a:path>
              <a:path fill="none" w="21600" h="21600">
                <a:moveTo>
                  <a:pt x="3162" y="1688"/>
                </a:moveTo>
                <a:lnTo>
                  <a:pt x="3162" y="19350"/>
                </a:lnTo>
              </a:path>
              <a:path fill="none" w="21600" h="21600">
                <a:moveTo>
                  <a:pt x="18438" y="1688"/>
                </a:moveTo>
                <a:lnTo>
                  <a:pt x="18438" y="1935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  <a:ea typeface="幼圆"/>
              </a:rPr>
              <a:t>秋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367080" y="533520"/>
            <a:ext cx="25048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5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笼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D:\Program Files\My Documents\秋天的图画\d293.gif"/>
          <p:cNvPicPr/>
          <p:nvPr/>
        </p:nvPicPr>
        <p:blipFill>
          <a:blip r:embed="rId2"/>
          <a:stretch/>
        </p:blipFill>
        <p:spPr>
          <a:xfrm>
            <a:off x="7162920" y="51055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367080" y="533520"/>
            <a:ext cx="25048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5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字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D:\Program Files\My Documents\秋天的图画\d142.gif"/>
          <p:cNvPicPr/>
          <p:nvPr/>
        </p:nvPicPr>
        <p:blipFill>
          <a:blip r:embed="rId2"/>
          <a:stretch/>
        </p:blipFill>
        <p:spPr>
          <a:xfrm>
            <a:off x="304920" y="4924440"/>
            <a:ext cx="160020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3367080" y="533520"/>
            <a:ext cx="25048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5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梁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D:\Program Files\My Documents\秋天的图画\d039.gif"/>
          <p:cNvPicPr/>
          <p:nvPr/>
        </p:nvPicPr>
        <p:blipFill>
          <a:blip r:embed="rId2"/>
          <a:stretch/>
        </p:blipFill>
        <p:spPr>
          <a:xfrm>
            <a:off x="7315200" y="4952880"/>
            <a:ext cx="97632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3367080" y="533520"/>
            <a:ext cx="25048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5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燃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D:\Program Files\My Documents\秋天的图画\d187.gif"/>
          <p:cNvPicPr/>
          <p:nvPr/>
        </p:nvPicPr>
        <p:blipFill>
          <a:blip r:embed="rId2"/>
          <a:stretch/>
        </p:blipFill>
        <p:spPr>
          <a:xfrm>
            <a:off x="838080" y="4876920"/>
            <a:ext cx="113040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523880" y="1219320"/>
            <a:ext cx="739152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波浪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D:\Program Files\My Documents\秋天的图画\d039.gif"/>
          <p:cNvPicPr/>
          <p:nvPr/>
        </p:nvPicPr>
        <p:blipFill>
          <a:blip r:embed="rId2"/>
          <a:stretch/>
        </p:blipFill>
        <p:spPr>
          <a:xfrm>
            <a:off x="7315200" y="4952880"/>
            <a:ext cx="97632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600200" y="1066680"/>
            <a:ext cx="647712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勤劳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D:\Program Files\My Documents\秋天的图画\d293.gif"/>
          <p:cNvPicPr/>
          <p:nvPr/>
        </p:nvPicPr>
        <p:blipFill>
          <a:blip r:embed="rId2"/>
          <a:stretch/>
        </p:blipFill>
        <p:spPr>
          <a:xfrm>
            <a:off x="7238880" y="50292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c9"/>
            </a:gs>
            <a:gs pos="50000">
              <a:srgbClr val="ccccff"/>
            </a:gs>
            <a:gs pos="100000">
              <a:srgbClr val="a1a1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838080" y="76320"/>
            <a:ext cx="18226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梨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910680" y="7632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作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6501240" y="15228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笼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243440" y="426708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字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3986640" y="426708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梁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6577560" y="434340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燃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1495080" y="2057400"/>
            <a:ext cx="21466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波浪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5381280" y="2057400"/>
            <a:ext cx="21466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勤劳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3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3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12:17:42Z</dcterms:created>
  <dc:creator>第一PPT模板网-WWW.1PPT.COM</dc:creator>
  <dc:description>第一PPT模板网-WWW.1PPT.COM
</dc:description>
  <dc:language>en-US</dc:language>
  <cp:lastModifiedBy>wuhan</cp:lastModifiedBy>
  <dcterms:modified xsi:type="dcterms:W3CDTF">2017-10-14T02:43:54Z</dcterms:modified>
  <cp:revision>10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5</vt:lpwstr>
  </property>
</Properties>
</file>