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7F4-8BA1-46DC-939F-83404A6D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1E8-74F3-402C-AABD-02BE679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D38-0FD4-4FA6-B2E7-812B315E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1FA-95C9-4BFA-83AE-B3137349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A723-77AC-4705-9EAB-E57F6CE0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FD28-33BF-4C16-997D-B50AF27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0DCB-C01D-43EF-A4EC-9F4886E3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AB34-BC4C-4A12-8A93-7A289CC2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6DF-D602-427B-B604-D5983BA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9742-5E24-472B-8686-EEDB5E9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47A-3766-4B8F-9E37-17AF1F3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ECF-6D4C-4ADB-A9D2-22FB3E1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200A-B750-4D48-8C17-4948343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B32-7DB2-4040-94AA-0E8D9F0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4906-4846-4E34-8034-A599AEA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0B26-0DF2-48DC-8166-47C4C96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60C8-6512-4548-8736-57245DDA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FC32-4072-4981-B0B1-0F140CFB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6E38-3A30-4710-85F9-BF7FF4B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76A4-213E-4AA6-8DAA-3613889F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99C0-75D1-4231-8D8E-AAEC33F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AB52-A3A4-4B01-869E-CC8C817D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21D-E519-4387-9890-4BB5433C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1AB8-B747-468C-BDA6-96C115F0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DDE9-F9F4-4221-8522-6B2C2C5E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BD6D-2BCF-408C-916B-D89D804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4838-D59F-4483-A8E7-A24806F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CB85-9641-478B-9C43-BCE9ED99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AC13-2D4A-4EEA-883B-9A4FA562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F75D-0CFB-4836-91B3-B922501E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03EB-54D7-4FA0-8495-2BB1D81F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ADB4-31B1-4BE3-89F9-17067F5D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AE71-EAC9-4927-BBB0-761B1ED0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DFD-126F-4A4F-AF81-EA77DF69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C2F72-724C-486A-B2AE-E6148F81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737A-DB3F-427C-888F-090BF89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60402-46A3-4B60-897D-F1F6992C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6A2A-EDBA-41BD-B4D0-4F745A6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3090-3583-4A7D-9560-E2392799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0176-6BFC-4C28-BF6E-8BC2EEFE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299F-24F3-43C3-980A-D10E845A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D1B0-3192-467B-A5A4-C408F059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D1A4-ABCE-44A7-854E-CB23AC47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652D-98BF-404A-B432-6ECEB37E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950-54D8-442D-90C0-632D552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DAB5-CF95-4E29-A450-72D63EE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5A1DE-EBE5-40EC-987D-BF99833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AEB5-F9F7-4BF0-8C0A-F15331D6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E7C3-91D1-4EDD-84B6-70A0EE0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9D26-4912-473E-ACA0-C364DE7D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5FFF-D5C0-4B83-8B31-20F2950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7F3A-9C2C-4DD3-9865-052D1100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2890-37D7-4302-83F3-33F83183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0BA9-9C10-4FCF-8A89-D6D4C20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154A0-79A6-4CD4-AEC5-62B7755C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48C-F81F-4D12-A60F-C4B33CE4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A36F-C7CA-40DF-9354-4BE5BA05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54A-B713-4907-AB42-3836737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DBF-2148-40CB-81C9-DBCAAF8B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5B7-F08F-4994-8852-A448133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BA2F-5BAD-4A4A-9F30-BDAF1B598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B115-D3BF-462F-9A2C-6F70E3AF9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89F-911E-4E00-BF77-F2768DC8E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FCE1-F3CF-49FA-B146-33D1082DA8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5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29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A75-E7B8-4FA3-9507-04763AFD79E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2.wmf"/><Relationship Id="rId3" Type="http://schemas.openxmlformats.org/officeDocument/2006/relationships/slide" Target="slide2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6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rcRect l="0" t="0" r="64" b="19"/>
          <a:stretch/>
        </p:blipFill>
        <p:spPr>
          <a:xfrm>
            <a:off x="539640" y="620640"/>
            <a:ext cx="8137800" cy="5473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50920" y="404640"/>
            <a:ext cx="7913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唐代大书法家颜真卿写过一首诗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   劝学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1197000"/>
            <a:ext cx="6840360" cy="44956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2276640"/>
            <a:ext cx="6048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三更灯火五更鸡，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正是男儿读书时。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黑发不知勤学早，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白首方悔读书迟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678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疏通文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067280" cy="568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　　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君子曰：学不可以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　　 青，取之于蓝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青于蓝；冰，水为之，而寒于水。木直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中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(zhòng)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绳，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輮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(róu)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以为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轮，其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中规。虽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(yòu)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槁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(gǎo)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暴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(pù)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不复挺者，輮使之然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140000" y="475920"/>
            <a:ext cx="467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君子说，学习不可以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停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靛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(diàn)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青是从蓼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(liǎo)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蓝中提取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比蓼蓝的颜色更深；冰是水凝冻而成的，但它比水更冷。木材直得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合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拉直的墨绳，（如果）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用火加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它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做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车轮，它的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弯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乎圆规，即使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又晒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，也不会再挺直，加热使它成这样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332000" y="5759280"/>
            <a:ext cx="1800000" cy="10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46400" cy="338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故木受绳则直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金就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利，君子博学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而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参（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ā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n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xǐng)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己，则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知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明而行无过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4720" y="836280"/>
            <a:ext cx="4643280" cy="41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所以木材经墨线（量过）就笔直了，</a:t>
            </a:r>
            <a:r>
              <a:rPr b="1" lang="zh-CN" sz="3200" spc="-1" strike="noStrike">
                <a:solidFill>
                  <a:srgbClr val="cc0066"/>
                </a:solidFill>
                <a:latin typeface="Tahoma"/>
                <a:ea typeface="黑体"/>
              </a:rPr>
              <a:t>金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刀具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黑体"/>
              </a:rPr>
              <a:t>在磨刀石上磨过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就锋利了。君子广泛地学习而且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  <a:ea typeface="黑体"/>
              </a:rPr>
              <a:t>每天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黑体"/>
              </a:rPr>
              <a:t>对照检验省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自己，就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黑体"/>
              </a:rPr>
              <a:t>智慧明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，行为不犯错误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332000" y="5759280"/>
            <a:ext cx="1800000" cy="10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本文的中心论点是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作者用了哪些比喻？寓意是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916360" y="3141720"/>
            <a:ext cx="295200" cy="1801800"/>
          </a:xfrm>
          <a:custGeom>
            <a:avLst/>
            <a:gdLst>
              <a:gd name="textAreaLeft" fmla="*/ 0 w 295200"/>
              <a:gd name="textAreaRight" fmla="*/ 106560 w 295200"/>
              <a:gd name="textAreaTop" fmla="*/ 46800 h 1801800"/>
              <a:gd name="textAreaBottom" fmla="*/ 1755000 h 18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1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651640" y="4608360"/>
            <a:ext cx="2286000" cy="22496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3818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89000"/>
            <a:ext cx="194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981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学不可以已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5300640"/>
            <a:ext cx="4751640" cy="5814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学习的意义：提高自己、  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黑体"/>
              </a:rPr>
              <a:t>改变自己</a:t>
            </a: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1640" y="2924280"/>
            <a:ext cx="28083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青出于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冰寒于水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輮以为轮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3645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知明行无过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4508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金就砺利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9144000" cy="6897600"/>
            <a:chOff x="0" y="0"/>
            <a:chExt cx="9144000" cy="6897600"/>
          </a:xfrm>
        </p:grpSpPr>
        <p:pic>
          <p:nvPicPr>
            <p:cNvPr id="324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9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"/>
            <p:cNvGrpSpPr/>
            <p:nvPr/>
          </p:nvGrpSpPr>
          <p:grpSpPr>
            <a:xfrm>
              <a:off x="228240" y="0"/>
              <a:ext cx="5867640" cy="5334120"/>
              <a:chOff x="228240" y="0"/>
              <a:chExt cx="5867640" cy="5334120"/>
            </a:xfrm>
          </p:grpSpPr>
          <p:sp>
            <p:nvSpPr>
              <p:cNvPr id="326" name=""/>
              <p:cNvSpPr/>
              <p:nvPr/>
            </p:nvSpPr>
            <p:spPr>
              <a:xfrm>
                <a:off x="2361960" y="464832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61960" y="396252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61960" y="2666880"/>
                <a:ext cx="373356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61960" y="2057400"/>
                <a:ext cx="37335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1960" y="137160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8240" y="1371600"/>
                <a:ext cx="2133360" cy="39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61960" y="68580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40" y="685800"/>
                <a:ext cx="21333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240" y="685800"/>
                <a:ext cx="58672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8240" y="1371600"/>
                <a:ext cx="586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28240" y="5334120"/>
                <a:ext cx="58672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8240" y="685800"/>
                <a:ext cx="0" cy="46483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361960" y="685800"/>
                <a:ext cx="0" cy="46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685800"/>
                <a:ext cx="0" cy="46483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1960" y="205740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61960" y="266688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61960" y="396252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61960" y="464832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566880" y="0"/>
                <a:ext cx="170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545472"/>
                    </a:solidFill>
                    <a:latin typeface="Times New Roman"/>
                    <a:ea typeface="隶书"/>
                  </a:rPr>
                  <a:t>学不可以已</a:t>
                </a:r>
                <a:endParaRPr b="0" lang="en-US" sz="4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5440" y="86184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45472"/>
                    </a:solidFill>
                    <a:latin typeface="Times New Roman"/>
                    <a:ea typeface="黑体"/>
                  </a:rPr>
                  <a:t>分论点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47760" y="838080"/>
                <a:ext cx="222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545472"/>
                    </a:solidFill>
                    <a:latin typeface="Times New Roman"/>
                    <a:ea typeface="黑体"/>
                  </a:rPr>
                  <a:t>比喻句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0040" y="2255760"/>
                <a:ext cx="1460880" cy="18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45472"/>
                    </a:solidFill>
                    <a:latin typeface="Times New Roman"/>
                    <a:ea typeface="楷体_GB2312"/>
                  </a:rPr>
                  <a:t>学习的意义：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45472"/>
                    </a:solidFill>
                    <a:latin typeface="Times New Roman"/>
                    <a:ea typeface="楷体_GB2312"/>
                  </a:rPr>
                  <a:t>提高自己，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45472"/>
                    </a:solidFill>
                    <a:latin typeface="Times New Roman"/>
                    <a:ea typeface="楷体_GB2312"/>
                  </a:rPr>
                  <a:t>改变自己。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236232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青，取之于蓝，而青于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冰，水为之而寒于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27432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木直中绳，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輮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以为轮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其曲中规。虽有槁暴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不复挺者，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輮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使之然也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木受绳则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724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金就砺则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441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木、金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1523880"/>
            <a:ext cx="685800" cy="1067040"/>
          </a:xfrm>
          <a:custGeom>
            <a:avLst/>
            <a:gdLst>
              <a:gd name="textAreaLeft" fmla="*/ 85680 w 685800"/>
              <a:gd name="textAreaRight" fmla="*/ 600120 w 6858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2819520"/>
            <a:ext cx="685800" cy="1066680"/>
          </a:xfrm>
          <a:custGeom>
            <a:avLst/>
            <a:gdLst>
              <a:gd name="textAreaLeft" fmla="*/ 8568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4114800"/>
            <a:ext cx="685800" cy="1066680"/>
          </a:xfrm>
          <a:custGeom>
            <a:avLst/>
            <a:gdLst>
              <a:gd name="textAreaLeft" fmla="*/ 8568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96840" y="5533920"/>
            <a:ext cx="424440" cy="581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人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705720" y="1828800"/>
            <a:ext cx="2286000" cy="459720"/>
            <a:chOff x="6705720" y="1828800"/>
            <a:chExt cx="2286000" cy="459720"/>
          </a:xfrm>
        </p:grpSpPr>
        <p:sp>
          <p:nvSpPr>
            <p:cNvPr id="359" name=""/>
            <p:cNvSpPr/>
            <p:nvPr/>
          </p:nvSpPr>
          <p:spPr>
            <a:xfrm>
              <a:off x="6705720" y="18288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  <a:ea typeface="楷体_GB2312"/>
                </a:rPr>
                <a:t>变化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39160" y="18288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  <a:ea typeface="楷体_GB2312"/>
                </a:rPr>
                <a:t>提高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67480" y="2057400"/>
              <a:ext cx="609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705720" y="3124080"/>
            <a:ext cx="2708280" cy="459720"/>
            <a:chOff x="6705720" y="3124080"/>
            <a:chExt cx="2708280" cy="459720"/>
          </a:xfrm>
        </p:grpSpPr>
        <p:sp>
          <p:nvSpPr>
            <p:cNvPr id="363" name=""/>
            <p:cNvSpPr/>
            <p:nvPr/>
          </p:nvSpPr>
          <p:spPr>
            <a:xfrm>
              <a:off x="6705720" y="3124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  <a:ea typeface="楷体_GB2312"/>
                </a:rPr>
                <a:t>变化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01000" y="3124080"/>
              <a:ext cx="14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  <a:ea typeface="楷体_GB2312"/>
                </a:rPr>
                <a:t>不可逆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7480" y="3352680"/>
              <a:ext cx="609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696080" y="4648320"/>
            <a:ext cx="762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29760" y="4633920"/>
            <a:ext cx="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66160" y="5614920"/>
            <a:ext cx="35460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君子博学而日参省乎己，则知明而行无过矣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391160" y="5867280"/>
            <a:ext cx="6858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149544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2133720"/>
            <a:ext cx="144756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2712960"/>
            <a:ext cx="144756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86160" y="350532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411480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75308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1490760"/>
            <a:ext cx="15238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133720"/>
            <a:ext cx="9144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86160" y="3186000"/>
            <a:ext cx="1295280" cy="3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81440" y="3505320"/>
            <a:ext cx="193356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4114800"/>
            <a:ext cx="838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4753080"/>
            <a:ext cx="838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9560" y="2712960"/>
            <a:ext cx="1335240" cy="469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1440" y="3186000"/>
            <a:ext cx="812880" cy="3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5664240"/>
            <a:ext cx="33526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12800" y="5664240"/>
            <a:ext cx="23623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404640" y="6454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3EAA-7688-40B0-89D6-F57601B761EC}" type="slidenum">
              <a:rPr b="0" lang="zh-CN" sz="2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40464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吾尝终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思矣，不如须臾之所学也；吾尝跂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望矣，不如登高之博见也。登高而招，臂非加长也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见者远；顺风而呼，声非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疾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也，而闻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彰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假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舆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马者，非利足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致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千里；假舟辑者，非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水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也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绝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江河。君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生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非异也，善假于物也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4000" y="965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：表修饰关系      跂：提起脚后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7280" y="35575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而：但是         疾：强        彰：明显显著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9280" y="48690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假：借助利用      致：到达     水：游泳       绝：横渡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6078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生：“性”     善：擅长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346104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吾尝终日</a:t>
            </a:r>
            <a:r>
              <a:rPr b="1" lang="zh-CN" sz="36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而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矣，不如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须臾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yú)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所学也；吾尝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跂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qì)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望矣，不如登高之博见也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4932360" y="1844640"/>
            <a:ext cx="37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隶书"/>
              </a:rPr>
              <a:t>我曾经整天地思索；（却）不如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隶书"/>
              </a:rPr>
              <a:t>片刻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隶书"/>
              </a:rPr>
              <a:t>学习的收获大；我曾经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隶书"/>
              </a:rPr>
              <a:t>踮起脚跟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隶书"/>
              </a:rPr>
              <a:t>眺望，（却）不如登上高处看得广阔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3564000" cy="54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登高而招，臂非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加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也，而见者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顺风而呼，声非加疾也，而闻者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彰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假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舆马者，非利足也，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致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里；假舟楫者，非能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水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，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江河。君子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生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x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异也，善假于物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34920" y="425160"/>
            <a:ext cx="536436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登上高处招手，手臂没有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，但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远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人也能看见；顺着风呼喊，声音没有加大，但听的人听得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清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借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车马的人，不是脚走得快，却能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达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里之外；借助船只的人，不是自己能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游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却能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横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君子的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本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同一般人）没有差别，只是善于借助外物啊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332000" y="5759280"/>
            <a:ext cx="1800000" cy="10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5438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作者用了哪些比喻？寓意是什么？学习的作用是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登高博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顺风而呼　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假舆马　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假舟楫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202920" y="2492280"/>
            <a:ext cx="228600" cy="2362320"/>
          </a:xfrm>
          <a:custGeom>
            <a:avLst/>
            <a:gdLst>
              <a:gd name="textAreaLeft" fmla="*/ 145800 w 228600"/>
              <a:gd name="textAreaRight" fmla="*/ 22860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979640" cy="156852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83818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3068640"/>
            <a:ext cx="33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Arial"/>
                <a:ea typeface="黑体"/>
              </a:rPr>
              <a:t>善假于物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Arial"/>
                <a:ea typeface="黑体"/>
              </a:rPr>
              <a:t>（反复设喻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237360"/>
            <a:ext cx="792000" cy="620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476360" y="5516640"/>
            <a:ext cx="6408720" cy="764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ahoma"/>
                <a:ea typeface="隶书"/>
              </a:rPr>
              <a:t>学习的作用</a:t>
            </a:r>
            <a:r>
              <a:rPr b="0" lang="en-US" sz="4400" spc="-1" strike="noStrike">
                <a:solidFill>
                  <a:srgbClr val="545472"/>
                </a:solidFill>
                <a:latin typeface="Tahoma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545472"/>
                </a:solidFill>
                <a:latin typeface="Tahoma"/>
                <a:ea typeface="隶书"/>
              </a:rPr>
              <a:t>弥补自己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527560" y="10476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吾尝终日而思矣，不如须臾之所学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1735200"/>
            <a:ext cx="457200" cy="53316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30320" y="5753160"/>
            <a:ext cx="12780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要靠后天学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67480" y="252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10480" y="5219640"/>
            <a:ext cx="0" cy="5335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2160" y="5678640"/>
            <a:ext cx="274104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君子生非异也，善假于物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867280" y="594360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934920"/>
          <a:ext cx="6782040" cy="4475160"/>
        </p:xfrm>
        <a:graphic>
          <a:graphicData uri="http://schemas.openxmlformats.org/drawingml/2006/table">
            <a:tbl>
              <a:tblPr/>
              <a:tblGrid>
                <a:gridCol w="1828800"/>
                <a:gridCol w="4953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304920" y="1035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分论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8120" y="101124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比喻句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0360" y="2077920"/>
            <a:ext cx="8208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学习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作用：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弥补不足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1752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吾尝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跂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而望矣，不如登高之博见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57400" y="2514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登高而招，臂非加长也，而见者远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顺风而呼，声非加疾也，而闻者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假舆马者，非利足也，而致千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假舟楫者，非能水也，而绝江河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315200" y="1760400"/>
            <a:ext cx="1828800" cy="459720"/>
            <a:chOff x="7315200" y="1760400"/>
            <a:chExt cx="1828800" cy="459720"/>
          </a:xfrm>
        </p:grpSpPr>
        <p:sp>
          <p:nvSpPr>
            <p:cNvPr id="423" name=""/>
            <p:cNvSpPr/>
            <p:nvPr/>
          </p:nvSpPr>
          <p:spPr>
            <a:xfrm>
              <a:off x="7315200" y="1760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  <a:ea typeface="楷体_GB2312"/>
                </a:rPr>
                <a:t>学习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44080" y="1760400"/>
              <a:ext cx="7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  <a:ea typeface="楷体_GB2312"/>
                </a:rPr>
                <a:t>空想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77320" y="1836720"/>
              <a:ext cx="30456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8077320" y="1989000"/>
              <a:ext cx="3045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467480" y="322596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39877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477504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2514600"/>
            <a:ext cx="457200" cy="53352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200400"/>
            <a:ext cx="457200" cy="53352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3962520"/>
            <a:ext cx="457200" cy="53316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4724280"/>
            <a:ext cx="457200" cy="53352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69280" y="2220840"/>
            <a:ext cx="546120" cy="3410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仿宋_GB2312"/>
              </a:rPr>
              <a:t>借助学习弥补不足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24680" y="266688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7080" y="1752480"/>
            <a:ext cx="2514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514600"/>
            <a:ext cx="1371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3276720"/>
            <a:ext cx="13716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3962520"/>
            <a:ext cx="16765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05520" y="4724280"/>
            <a:ext cx="17524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5715000"/>
            <a:ext cx="18288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2514600"/>
            <a:ext cx="18288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76720"/>
            <a:ext cx="18288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962520"/>
            <a:ext cx="15238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4724280"/>
            <a:ext cx="19051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43200" y="1752480"/>
            <a:ext cx="1676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68760" y="2514600"/>
            <a:ext cx="16002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68760" y="3276720"/>
            <a:ext cx="15238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63840" y="3962520"/>
            <a:ext cx="14479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63840" y="4724280"/>
            <a:ext cx="1676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4480" y="5715000"/>
            <a:ext cx="1981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404640" y="6454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E8AA-FC64-4AF4-950C-003694EAE3D4}" type="slidenum">
              <a:rPr b="0" lang="zh-CN" sz="2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44280"/>
            <a:ext cx="9144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积土成山，风雨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焉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；积水成渊，蛟龙生焉；积善成德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神明自得，圣心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焉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。故不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跬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步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无以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至千里；不积小流，无以成江海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骐骥一跃，不能十步；驽马十驾，功在不舍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锲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舍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之，朽木不折；锲而不舍，金石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镂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蚓无爪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之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利，筋骨之强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食埃土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黄泉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，用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也。蟹六跪而二螯，非蛇鳝之穴无可寄托者，用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躁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也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134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焉：于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句末语气词          而：因而        跬：半步    无以：没有用来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197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锲：刻     舍：放弃      镂：雕刻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530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：定语后置的标志         上：向上向下   名作状      黄泉：地下水          一：专一              躁：不专心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rcRect l="3315" t="2424" r="2083" b="1635"/>
          <a:stretch/>
        </p:blipFill>
        <p:spPr>
          <a:xfrm>
            <a:off x="684360" y="40464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28800" y="762120"/>
            <a:ext cx="5943600" cy="44956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1066680"/>
            <a:ext cx="6476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隶书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30305"/>
                </a:solidFill>
                <a:latin typeface="隶书"/>
                <a:ea typeface="隶书"/>
              </a:rPr>
              <a:t>古乐府诗</a:t>
            </a:r>
            <a:r>
              <a:rPr b="1" lang="en-US" sz="4000" spc="-1" strike="noStrike">
                <a:solidFill>
                  <a:srgbClr val="030305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30305"/>
                </a:solidFill>
                <a:latin typeface="隶书"/>
                <a:ea typeface="隶书"/>
              </a:rPr>
              <a:t>长歌行</a:t>
            </a:r>
            <a:r>
              <a:rPr b="1" lang="en-US" sz="4000" spc="-1" strike="noStrike">
                <a:solidFill>
                  <a:srgbClr val="030305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0305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30305"/>
                </a:solidFill>
                <a:latin typeface="隶书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百川东到海，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             何时复西归？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             少壮不努力，</a:t>
            </a:r>
            <a:br>
              <a:rPr sz="3600"/>
            </a:br>
            <a:r>
              <a:rPr b="1" lang="zh-CN" sz="3600" spc="-1" strike="noStrike">
                <a:solidFill>
                  <a:srgbClr val="030305"/>
                </a:solidFill>
                <a:latin typeface="隶书"/>
                <a:ea typeface="隶书"/>
              </a:rPr>
              <a:t>             老大徒伤悲</a:t>
            </a:r>
            <a:r>
              <a:rPr b="1" lang="zh-CN" sz="3600" spc="-1" strike="noStrike">
                <a:solidFill>
                  <a:srgbClr val="545472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635280" cy="645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积土成山，风雨兴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积水成渊，蛟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jiāo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龙生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积善成德，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神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得，圣心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备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故不积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跬</a:t>
            </a:r>
            <a:r>
              <a:rPr b="1" lang="en-US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(kuǐ)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步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无以至千里；不积小流，无以成江海。骐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jì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跃，不能十步，驽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nú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马十驾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功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不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708360" y="115560"/>
            <a:ext cx="52912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堆积泥土成为高山，风雨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那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兴起；汇聚水流成为深渊，蛟龙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那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长；积累善行形成良好的品德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精神和智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得到，圣人的心境由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具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所以不积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就无法到达千里；不汇集细流，就无法形成江海。骏马跳跃一次，不能跳出十步；劣马拉车走十天，也能走得很远，它的成功在于不停止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067280" cy="547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锲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qiè)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舍之，朽木不折；锲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舍，金石可镂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lòu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蚓无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爪牙之利，筋骨之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埃土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黄泉，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用心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。蟹六跪而二螯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áo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非蛇鳝之穴无可</a:t>
            </a:r>
            <a:r>
              <a:rPr b="1" lang="zh-CN" sz="32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寄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者，用心躁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787640" cy="61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雕刻但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中途）舍弃停止，腐朽的木头也不能刻断；不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雕刻，金属和石头也能雕刻。蚯蚓没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锋利的爪牙，坚强的筋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却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上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吃泥土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下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喝泉水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专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螃蟹有六条腿，两只大钳子，（然而）没有蛇鳝的洞穴就没有可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容身的地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因为心性浮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03280" y="5805360"/>
            <a:ext cx="1381320" cy="8431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学习应该采取什么方法？应该持什么态度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4920" y="278100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7093080" y="2205000"/>
            <a:ext cx="593640" cy="4176720"/>
          </a:xfrm>
          <a:custGeom>
            <a:avLst/>
            <a:gdLst>
              <a:gd name="textAreaLeft" fmla="*/ 0 w 593640"/>
              <a:gd name="textAreaRight" fmla="*/ 214200 w 59364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3059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9988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8143" y="3794"/>
                </a:lnTo>
                <a:lnTo>
                  <a:pt x="8143" y="17806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9280" y="2276640"/>
            <a:ext cx="23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要点滴积累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9280" y="4005360"/>
            <a:ext cx="259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要持之以恒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9280" y="5373720"/>
            <a:ext cx="2521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要专心致志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43280" y="1989000"/>
            <a:ext cx="4176720" cy="11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积土成山，积水成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不积跬步，不积水流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59280" y="3860640"/>
            <a:ext cx="3887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骐骥一跃，驽马十驾朽木不折，金石可镂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5157720"/>
            <a:ext cx="36720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蚓－－用心一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蟹－－用心躁也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40720" y="2421000"/>
            <a:ext cx="1150920" cy="41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正反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对照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反复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设喻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黑体"/>
              </a:rPr>
              <a:t>　　　　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6291360"/>
            <a:ext cx="792000" cy="593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740720" y="422100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57" h="21600">
                <a:moveTo>
                  <a:pt x="10372" y="3794"/>
                </a:moveTo>
                <a:lnTo>
                  <a:pt x="24385" y="10800"/>
                </a:lnTo>
                <a:lnTo>
                  <a:pt x="103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-299520" y="1484280"/>
            <a:ext cx="200916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2300" dir="836435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45472"/>
                </a:solidFill>
                <a:latin typeface="Times New Roman"/>
                <a:ea typeface="隶书"/>
              </a:rPr>
              <a:t>课文分析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>
            <a:hlinkClick r:id="rId2" action="ppaction://hlinksldjump"/>
          </p:cNvPr>
          <p:cNvSpPr/>
          <p:nvPr/>
        </p:nvSpPr>
        <p:spPr>
          <a:xfrm>
            <a:off x="1979640" y="1197000"/>
            <a:ext cx="3276720" cy="3276720"/>
          </a:xfrm>
          <a:custGeom>
            <a:avLst/>
            <a:gdLst>
              <a:gd name="textAreaLeft" fmla="*/ 1350000 w 3276720"/>
              <a:gd name="textAreaRight" fmla="*/ 1926720 w 3276720"/>
              <a:gd name="textAreaTop" fmla="*/ 1350000 h 3276720"/>
              <a:gd name="textAreaBottom" fmla="*/ 192672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为什么学（意义和作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、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段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>
            <a:hlinkClick r:id="rId3" action="ppaction://hlinksldjump"/>
          </p:cNvPr>
          <p:cNvSpPr/>
          <p:nvPr/>
        </p:nvSpPr>
        <p:spPr>
          <a:xfrm>
            <a:off x="1979640" y="2852640"/>
            <a:ext cx="5257800" cy="3382920"/>
          </a:xfrm>
          <a:custGeom>
            <a:avLst/>
            <a:gdLst>
              <a:gd name="textAreaLeft" fmla="*/ 2166480 w 5257800"/>
              <a:gd name="textAreaRight" fmla="*/ 3091320 w 5257800"/>
              <a:gd name="textAreaTop" fmla="*/ 1393920 h 3382920"/>
              <a:gd name="textAreaBottom" fmla="*/ 198900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怎么学（态度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段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85960" y="328680"/>
            <a:ext cx="3938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提出论点（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段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85960" y="1120680"/>
            <a:ext cx="244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分析论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551664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总结论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46080" y="476280"/>
            <a:ext cx="1826640" cy="916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ahoma"/>
                <a:ea typeface="隶书"/>
              </a:rPr>
              <a:t>文章结构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7640" y="2205000"/>
            <a:ext cx="1235160" cy="1739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隶书"/>
              </a:rPr>
              <a:t>论证过程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-56520" y="1600200"/>
            <a:ext cx="200916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2300" dir="836435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45472"/>
                </a:solidFill>
                <a:latin typeface="Times New Roman"/>
                <a:ea typeface="隶书"/>
              </a:rPr>
              <a:t>课文分析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762120"/>
            <a:ext cx="144756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24360" y="333360"/>
            <a:ext cx="3095640" cy="916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隶书"/>
              </a:rPr>
              <a:t>论证方法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43200" y="1676520"/>
            <a:ext cx="1905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45472"/>
                </a:solidFill>
                <a:latin typeface="Times New Roman"/>
                <a:ea typeface="隶书"/>
              </a:rPr>
              <a:t>比喻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2895480"/>
            <a:ext cx="1828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45472"/>
                </a:solidFill>
                <a:latin typeface="Times New Roman"/>
                <a:ea typeface="隶书"/>
              </a:rPr>
              <a:t>排比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43200" y="4038480"/>
            <a:ext cx="1828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45472"/>
                </a:solidFill>
                <a:latin typeface="Times New Roman"/>
                <a:ea typeface="隶书"/>
              </a:rPr>
              <a:t>对比论证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1828800"/>
            <a:ext cx="2286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形象生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48320" y="3048120"/>
            <a:ext cx="2361960" cy="114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说理透彻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气势磅礴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876920"/>
            <a:ext cx="2057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鲜明有理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87700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64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通假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虽有槁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知明而行无过矣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君子生非异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木直中绳，輮以为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85840" y="19810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”通“又”。“暴”通“曝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知”通“智”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zhì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智慧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生”通“性”，资质禀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2844720" y="45878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輮”通“糅”，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弯曲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词类活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-360" y="97956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华文新魏"/>
              </a:rPr>
              <a:t>名词作状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君子博学而日参省乎己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日：每日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上食埃土，下饮黄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上、下：向上，（指在地面上），向下，（指在地下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08000" y="2852280"/>
            <a:ext cx="87120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名词作动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舟楫者，非能水也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水：游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使动用法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直中绳，輮以为轮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輮：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弯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副词作动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金就砺则利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：靠近接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50920" y="3162240"/>
            <a:ext cx="7617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于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18592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76360" y="2205000"/>
            <a:ext cx="3527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介词，从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介词，比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介词，引出对象，不需翻译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360" y="2114640"/>
            <a:ext cx="3809880" cy="4266720"/>
            <a:chOff x="4716360" y="2114640"/>
            <a:chExt cx="3809880" cy="4266720"/>
          </a:xfrm>
        </p:grpSpPr>
        <p:sp>
          <p:nvSpPr>
            <p:cNvPr id="506" name=""/>
            <p:cNvSpPr/>
            <p:nvPr/>
          </p:nvSpPr>
          <p:spPr>
            <a:xfrm>
              <a:off x="4868640" y="2114640"/>
              <a:ext cx="3657600" cy="28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</a:rPr>
                <a:t>青，取之</a:t>
              </a:r>
              <a:r>
                <a:rPr b="1" lang="zh-CN" sz="4400" spc="-1" strike="noStrike">
                  <a:solidFill>
                    <a:srgbClr val="545472"/>
                  </a:solidFill>
                  <a:latin typeface="Times New Roman"/>
                </a:rPr>
                <a:t>于</a:t>
              </a: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</a:rPr>
                <a:t>蓝</a:t>
              </a:r>
              <a:endParaRPr b="0" lang="en-US" sz="4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</a:rPr>
                <a:t>而青</a:t>
              </a:r>
              <a:r>
                <a:rPr b="1" lang="zh-CN" sz="4400" spc="-1" strike="noStrike">
                  <a:solidFill>
                    <a:srgbClr val="545472"/>
                  </a:solidFill>
                  <a:latin typeface="Times New Roman"/>
                </a:rPr>
                <a:t>于</a:t>
              </a: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</a:rPr>
                <a:t>蓝</a:t>
              </a:r>
              <a:endParaRPr b="0" lang="en-US" sz="4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</a:rPr>
                <a:t>善假</a:t>
              </a:r>
              <a:r>
                <a:rPr b="1" lang="zh-CN" sz="4400" spc="-1" strike="noStrike">
                  <a:solidFill>
                    <a:srgbClr val="545472"/>
                  </a:solidFill>
                  <a:latin typeface="Times New Roman"/>
                </a:rPr>
                <a:t>于</a:t>
              </a: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</a:rPr>
                <a:t>物也</a:t>
              </a:r>
              <a:endParaRPr b="0" lang="en-US" sz="4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92680" y="3790800"/>
              <a:ext cx="3733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360" y="5619600"/>
              <a:ext cx="35812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755640" y="549360"/>
            <a:ext cx="3598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545472"/>
                </a:solidFill>
                <a:latin typeface="宋体"/>
              </a:rPr>
              <a:t>、一词多义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0" y="2924280"/>
            <a:ext cx="7621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文鼎CS大黑"/>
              </a:rPr>
              <a:t>而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6920" y="620640"/>
            <a:ext cx="304920" cy="5715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80000" y="333360"/>
            <a:ext cx="4647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则知明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行无过矣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30400" y="333360"/>
            <a:ext cx="2361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并列连词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80000" y="1657440"/>
            <a:ext cx="53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君子博学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日参省乎己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80000" y="4221000"/>
            <a:ext cx="53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假舟楫者，非能水也，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绝江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2819520"/>
            <a:ext cx="4952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2997360"/>
            <a:ext cx="53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积善成德，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神明自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51280" y="5589720"/>
            <a:ext cx="396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吾尝终日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思矣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97000" y="1628640"/>
            <a:ext cx="2438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递进连词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33640" y="2997360"/>
            <a:ext cx="228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顺承连词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25360" y="4365720"/>
            <a:ext cx="243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转折连词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16000" y="5607000"/>
            <a:ext cx="266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修饰连词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8000" y="442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焉：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积土成山，风雨兴焉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而神明自得，圣心备焉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寡人之于也尽心焉耳矣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绝：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忽然抚尺一下，群响毕绝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率妻子邑人来此绝境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以为妙绝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佛印绝类弥勒      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假舟辑者，非能水也，而绝江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望：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吾尝跂而望矣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日夜望将军至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先达德隆望尊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适冬之望日前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96000" y="404640"/>
            <a:ext cx="3168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焉：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兼词  于此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语助词，无义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语助词，无义绝：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停止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隔绝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到了极点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非常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横渡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望：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眺望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盼望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名望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农历每月十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448920" cy="6870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3200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50920" y="26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古今异义词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545472"/>
                </a:solidFill>
                <a:uFillTx/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就砺则利                 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545472"/>
                </a:solidFill>
                <a:latin typeface="黑体"/>
                <a:ea typeface="黑体"/>
              </a:rPr>
              <a:t>、上食埃土下饮</a:t>
            </a:r>
            <a:r>
              <a:rPr b="1" lang="zh-CN" sz="2800" spc="-1" strike="noStrike" u="sng">
                <a:solidFill>
                  <a:srgbClr val="545472"/>
                </a:solidFill>
                <a:uFillTx/>
                <a:latin typeface="黑体"/>
                <a:ea typeface="黑体"/>
              </a:rPr>
              <a:t>黄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4000" y="198900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特殊句式：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华文新魏"/>
                <a:ea typeface="华文新魏"/>
              </a:rPr>
              <a:t>蚓无爪牙之利，筋骨之强，上食埃土，下饮黄泉，用心一也。（句式特点：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定语后置句</a:t>
            </a:r>
            <a:r>
              <a:rPr b="1" lang="zh-CN" sz="2800" spc="-1" strike="noStrike">
                <a:solidFill>
                  <a:srgbClr val="545472"/>
                </a:solidFill>
                <a:latin typeface="华文新魏"/>
                <a:ea typeface="华文新魏"/>
              </a:rPr>
              <a:t>        ）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80000" y="476280"/>
            <a:ext cx="53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古义：泛指金属  今义：专指黄金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古义：地下水        今义：阴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716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译：蚯蚓没有锋利的爪牙，强壮的筋骨，向上吃尘土向下喝地下水，用心专一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2286000" y="762120"/>
            <a:ext cx="4114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9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62120" y="2743200"/>
            <a:ext cx="7391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4000" y="40464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隶书"/>
              </a:rPr>
              <a:t>荀子是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先秦儒家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隶书"/>
              </a:rPr>
              <a:t>的最后代表人物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4869000"/>
            <a:ext cx="612108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主要思想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、唯物主义思想  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、人性本恶论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、教育观     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、法“后王”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189000"/>
            <a:ext cx="6985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197000"/>
            <a:ext cx="882000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荀子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二十卷。由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论语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孟子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的语录体，发展为有标题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的论文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标志着古代说理文的进一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步成熟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文章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隶书"/>
              </a:rPr>
              <a:t>气势雄浑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， 总结了治学经验，为后世传诵宗法为诸子所不及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6360" y="26028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0880" y="304920"/>
            <a:ext cx="8534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000" y="3068280"/>
            <a:ext cx="403236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解题：劝学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隶书"/>
              </a:rPr>
              <a:t>“劝”</a:t>
            </a:r>
            <a:r>
              <a:rPr b="1" lang="zh-CN" sz="4800" spc="-1" strike="noStrike">
                <a:solidFill>
                  <a:srgbClr val="0e0e14"/>
                </a:solidFill>
                <a:latin typeface="Tahoma"/>
                <a:ea typeface="隶书"/>
              </a:rPr>
              <a:t>为何意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404640"/>
            <a:ext cx="5834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劝：劝告，劝说，劝阻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隶书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今义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321300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4707" y="8406"/>
                </a:moveTo>
                <a:lnTo>
                  <a:pt x="9137" y="8406"/>
                </a:lnTo>
                <a:lnTo>
                  <a:pt x="13559" y="3794"/>
                </a:lnTo>
                <a:lnTo>
                  <a:pt x="13559" y="17806"/>
                </a:lnTo>
                <a:lnTo>
                  <a:pt x="9137" y="13194"/>
                </a:lnTo>
                <a:lnTo>
                  <a:pt x="4707" y="13194"/>
                </a:lnTo>
                <a:close/>
              </a:path>
              <a:path fill="darken" w="23427" h="21600">
                <a:moveTo>
                  <a:pt x="15212" y="10800"/>
                </a:moveTo>
                <a:lnTo>
                  <a:pt x="18720" y="10800"/>
                </a:lnTo>
              </a:path>
              <a:path fill="darken" w="23427" h="21600">
                <a:moveTo>
                  <a:pt x="15212" y="8406"/>
                </a:moveTo>
                <a:lnTo>
                  <a:pt x="18720" y="5639"/>
                </a:lnTo>
              </a:path>
              <a:path fill="darken" w="23427" h="21600">
                <a:moveTo>
                  <a:pt x="15212" y="13194"/>
                </a:moveTo>
                <a:lnTo>
                  <a:pt x="18720" y="15961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3276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ahoma"/>
              </a:rPr>
              <a:t>劝，勉励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这个字统领全篇，告诉我们这是一篇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勉励人们要不停止地努力学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文章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15640" y="83628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木直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中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绳，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輮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以为轮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虽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有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槁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暴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知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明而行无过矣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吾尝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跂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而望矣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君子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生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非异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故不积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跬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步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騏骥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一跃，不能十步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驽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马十驾，功在不舍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锲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而不舍，金石可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蟹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六跪而二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螯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，非蛇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鳝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之</a:t>
            </a:r>
            <a:r>
              <a:rPr b="1" lang="zh-CN" sz="2900" spc="-1" strike="noStrike">
                <a:solidFill>
                  <a:srgbClr val="cc0000"/>
                </a:solidFill>
                <a:latin typeface="Tahoma"/>
                <a:ea typeface="华文新魏"/>
              </a:rPr>
              <a:t>穴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无可寄托者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博学而日参</a:t>
            </a:r>
            <a:r>
              <a:rPr b="1" lang="zh-CN" sz="2900" spc="-1" strike="noStrike">
                <a:solidFill>
                  <a:srgbClr val="ff0000"/>
                </a:solidFill>
                <a:latin typeface="Tahoma"/>
                <a:ea typeface="华文新魏"/>
              </a:rPr>
              <a:t>省</a:t>
            </a: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华文新魏"/>
              </a:rPr>
              <a:t>乎己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084720" y="765000"/>
            <a:ext cx="2667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Zhòng   róu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yòu   pù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zhì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qì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xìng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kuǐ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qí  jì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nú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qiè    lòu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xiè  áo  shàn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xu</a:t>
            </a:r>
            <a:r>
              <a:rPr b="1" lang="en-US" sz="2900" spc="-1" strike="noStrike">
                <a:solidFill>
                  <a:srgbClr val="0e0e14"/>
                </a:solidFill>
                <a:latin typeface="바탕"/>
                <a:ea typeface="바탕"/>
              </a:rPr>
              <a:t>é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바탕"/>
                <a:ea typeface="바탕"/>
              </a:rPr>
              <a:t>xǐng </a:t>
            </a:r>
            <a:endParaRPr b="0" lang="en-US" sz="2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2570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字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260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青，取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蓝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蓝；冰，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之，而寒于水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木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輮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以为轮，其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规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虽有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暴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，不复挺者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輮使之然也。故木受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直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金就砺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则利，君子博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而日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参省乎己，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知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  <a:ea typeface="黑体"/>
              </a:rPr>
              <a:t>明而行无过矣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836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于：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       而：却，表转折关系       为：凝结成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360" y="218916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：符合   輮：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弯曲   虽：即使  有：又   暴：晒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080" y="3284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则：那么     金：金属         就：靠近         砺：磨刀石     而：并且     日：每天         知：“智”，智慧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10Z</dcterms:created>
  <dc:creator>yuwen</dc:creator>
  <dc:description/>
  <cp:keywords/>
  <dc:language>en-US</dc:language>
  <cp:lastModifiedBy>User</cp:lastModifiedBy>
  <cp:lastPrinted>1899-12-30T00:00:00Z</cp:lastPrinted>
  <dcterms:modified xsi:type="dcterms:W3CDTF">2011-09-08T23:29:31Z</dcterms:modified>
  <cp:revision>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d0000000000010250600207f7000400038000</vt:lpwstr>
  </property>
</Properties>
</file>