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type.wav" ContentType="audio/x-wav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18.png" ContentType="image/png"/>
  <Override PartName="/ppt/media/image7.jpeg" ContentType="image/jpeg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B36-419D-4B12-AC66-1EDAD577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92A-2F7E-44F1-BA32-E42C7DA3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AC4-6908-4085-AD4D-08908248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CAD-D0F1-470F-BE81-D5CB5279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29B-A18A-4C6F-B880-88441E46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CD2-E2B5-4915-9615-3B4846A4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569-2A95-4627-BB40-F441076D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DDC-5B95-47B8-82AB-96609A87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875-4142-4C5E-8237-E8108924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110-3CC9-44E6-946C-43CE6754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B9B-C7AA-44A4-82E3-BAE85D8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FCC-4528-4410-9DEC-47DF814F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9F50-C932-4AAE-A432-2BC1C6075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7777;&#22253;&#26149;&#183;&#38271;&#27801;/&#24247;&#26725;&#26391;&#35829;&#20316;&#21697;&#65306;&#27777;&#22253;&#26149;-&#38271;&#27801;&#65288;&#27611;&#27901;&#19996;&#65289;&#31934;&#21326;&#29256;.mp4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沁园春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长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378900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湛江市第二中学语文科  李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9546e45f26f4472500ffe5b" descr=""/>
          <p:cNvPicPr/>
          <p:nvPr/>
        </p:nvPicPr>
        <p:blipFill>
          <a:blip r:embed="rId2"/>
          <a:stretch/>
        </p:blipFill>
        <p:spPr>
          <a:xfrm>
            <a:off x="2916360" y="333360"/>
            <a:ext cx="4968720" cy="6286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50160" y="836640"/>
            <a:ext cx="789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毛泽东和蒋介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篇名解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沁园春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沙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 “沁园春”是词牌名。“长沙”是标题。词牌是词的格式的名称，它决定了这首词的字数、句数和平仄声韵。标题是词的内容的集中体现，它概括了词的主要内容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沁园春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沙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意为：一首用“沁园春”的词牌写成的关于长沙的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907920"/>
            <a:ext cx="8497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思考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标题为什么是长沙？题目能不能改为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沁园春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湛江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沁园春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二中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26028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明确：毛泽东在长沙求学工作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之久，长沙记忆了毛泽东青春飞扬的峥嵘岁月。文章内容写长沙之景，忆长沙之人，有着深深的长沙印迹。标题改动，内容必须改变。如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沁园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雪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35280" y="11592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课文鉴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268280"/>
            <a:ext cx="842472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感知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2"/>
              </a:rPr>
              <a:t>观视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听朗诵，赏美景，感节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注意：字词的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读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朗诵的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节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朗诵者的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情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全班同学一起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有感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地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二）鉴赏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上阕鉴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头三句：独立寒秋，湘江北去，橘子洲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问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三句话包含什么信息？朗读时该注意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0"/>
            <a:ext cx="856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明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交代了人物、时间、地点、事件。“独”字说明无人做伴；“寒秋”说明已是深秋；“橘子洲”是“立”的地点，立于洲头视野开阔，放眼望去，美景尽收眼底。“湘江北去”是作者眼前之景，说明作者向北而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朗诵时声音要深沉、有力、稳健，读出诗人卓然傲立，一览群芳的风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——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：看万山红遍，层林尽染；漫江碧透，百舸争流。鹰击长空，鱼翔浅底，万类霜天竞自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集体朗读并讨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读七句话要用什么样的语调？这七句话由一个字统领，这个字是哪个字？这七句话描述了怎样的景象？这些景象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333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明确：语调激昂，抑扬顿挫，读出景物的形态和空间分布的层次感；“看”字；描述了一幅上天下地山水相映、立体交错、绚丽多姿、雄伟壮阔，生机勃勃的长沙秋景图；这些景象都意兴盎然，极富生命力，为扩展自己的发展空间努力拼搏斗志昂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58136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讨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几句话中，是如何描述湘江秋景的？有几个词用得非常传神，是哪几个字？这样写有什么好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74872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远眺：万山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层林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静、远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近观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江碧透  百舸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（静、动、近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仰视：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空  （动、高、远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俯瞰：鱼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浅底  （动、低、近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总写：万类霜天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结：远近结合，总分有序，动静交错，红绿辉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毛泽东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127640" cy="475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60280"/>
            <a:ext cx="525636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沁园春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长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毛泽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7138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字，写出了红之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字，化静为动，写出了变红的动态过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字，写出了江水溢满之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字，活现出千帆竞发的热闹场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字，而不用“飞”，准确的表现了鹰的矫健身姿，有气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字，而不用“游”，描绘出游鱼在水中像鸟一样盘旋的状态，很自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712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1——1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句：怅寥廓，问苍茫大地，谁主沉浮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朗读并回答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怅”是失意伤感的意思吗？朗读时要注意什么？“寥廓”指什么？“谁主沉浮”该如何理解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明确：并非失意伤感，而是久经熟虑和由眼前之景引发的感慨之词。朗读时不要读出失意的伤感，而是要读出胸怀壮志的底气。“寥廓”指浩瀚无边的宇宙。“怅寥廓”写出了作者仰观宇宙，俯视万物，思考人生的复杂心情。“谁主沉浮”本来是对万物盛衰荣辱由谁决定的疑问。这里意为“由谁来主宰国家的命运，人民的前途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ac" descr=""/>
          <p:cNvPicPr/>
          <p:nvPr/>
        </p:nvPicPr>
        <p:blipFill>
          <a:blip r:embed="rId2"/>
          <a:stretch/>
        </p:blipFill>
        <p:spPr>
          <a:xfrm>
            <a:off x="0" y="0"/>
            <a:ext cx="9036000" cy="6927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1592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上阕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797120"/>
            <a:ext cx="70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眼   前   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1447920"/>
            <a:ext cx="304560" cy="304776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5400" y="121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09560" y="1797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09560" y="233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5400" y="28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4520" y="3200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36576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4159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万类霜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1268280"/>
            <a:ext cx="232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万     红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18446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层    尽染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66040" y="2349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漫     碧透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1000" y="283356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百    争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200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击长空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364500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翔浅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149720"/>
            <a:ext cx="160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竞自由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51440" y="245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1371600"/>
            <a:ext cx="380880" cy="3200400"/>
          </a:xfrm>
          <a:custGeom>
            <a:avLst/>
            <a:gdLst>
              <a:gd name="textAreaLeft" fmla="*/ 0 w 380880"/>
              <a:gd name="textAreaRight" fmla="*/ 13752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08640" y="2133720"/>
            <a:ext cx="62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秋景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1357200"/>
            <a:ext cx="62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机勃勃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572000"/>
            <a:ext cx="76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 中 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508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472428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35"/>
                </a:lnTo>
                <a:cubicBezTo>
                  <a:pt x="10800" y="9735"/>
                  <a:pt x="5400" y="10635"/>
                  <a:pt x="0" y="10635"/>
                </a:cubicBezTo>
                <a:cubicBezTo>
                  <a:pt x="5400" y="10635"/>
                  <a:pt x="10800" y="11535"/>
                  <a:pt x="10800" y="124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79640" y="4692600"/>
            <a:ext cx="27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怅寥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533412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问苍茫大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7440" y="597384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谁主沉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537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800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08640" y="4997520"/>
            <a:ext cx="54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壮       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8480" y="4343400"/>
            <a:ext cx="85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怀博大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692280"/>
            <a:ext cx="31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  地点  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620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2708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544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84360" y="115920"/>
            <a:ext cx="480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独立寒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毛泽东9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41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258480" y="1700280"/>
            <a:ext cx="16426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湘江北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湘江北去" descr=""/>
          <p:cNvPicPr/>
          <p:nvPr/>
        </p:nvPicPr>
        <p:blipFill>
          <a:blip r:embed="rId2"/>
          <a:stretch/>
        </p:blipFill>
        <p:spPr>
          <a:xfrm>
            <a:off x="1619280" y="692280"/>
            <a:ext cx="73166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56000" y="26028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橘子洲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橘子洲头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6421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177040" y="1197000"/>
            <a:ext cx="729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看万山红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1200" y="252360"/>
            <a:ext cx="75708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50920" y="601992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层林尽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5852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漫江碧透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75614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9240" y="2205000"/>
            <a:ext cx="7898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漫江碧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导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古以来，不同的人对秋有着不同的感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碧云天，黄叶地，北雁南飞，晓来谁染霜林醉？总是离人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西厢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处红衰翠减，苒苒物华休。惟有长江水，无语东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柳永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八声甘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古逢秋悲寂寥，我言秋日胜春朝。 晴空一鹤排云上，便引诗情到碧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刘禹锡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秋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百舸争流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640720" cy="568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16360" y="595008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百舸争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老鹰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93080" cy="655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174880" y="2133720"/>
            <a:ext cx="7898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鹰击长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鱼翔浅底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42240" cy="561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87280" y="6021360"/>
            <a:ext cx="49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9500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鱼翔浅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G_1810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13800" cy="5256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50920" y="580536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万类霜天竞自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下阕欣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阕最后提出了“谁主沉浮”的问题，诗人有没有做出回答呢？我们先来看下阕的开头两句：携来百侣曾游。忆往昔峥嵘岁月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朗读并回答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朗读时要注意什么？“百侣”指什么？“峥嵘岁月”指什么？这两句话在全诗中起到什么样的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明确：语速缓慢，感情欢快；“百侣”和下文的“同学少年”都指作者在湖南一师读书时的好友。“百侣”、“万山”、“百舸”都是概数。“峥嵘岁月”指毛泽东求学和革命中的不寻常的斗争岁月；开头两句总写往事，起着承上启下的过渡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7138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——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句：恰同学少年，风华正茂；书生意气，挥斥方遒。指点江山，激扬文字，粪土当年万户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集体朗读并讨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读七句话要用什么样的语调和节奏？这七句话由一个字引领，这个字是哪个字？这七句话描述了怎样的人物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明确：要热情洋溢、慷慨激昂，音调铿锵，节奏短促明快，感情越来越激烈，气势越来越磅礴；“恰”字；描述了毛泽东和他的好友们德才兼备、奋发有为、壮志凌云、无私无畏、敢于斗争、气势不凡、胆略超群的热血青年形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——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句：曾记否，到中流击水，浪遏飞舟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朗读并回答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读这三句话要有什么样的感觉？表现了怎样的思想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981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明确：要有豪迈、自信的感觉；表现了作者和同伴激流勇进、一往无前、以天下为己任的革命气概，也是对一切有志献身革命的志士仁人的号召。同时，含蓄地回答了上阕提出的“谁主沉浮”的问题。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作者和写作背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712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93——197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，伟大的无产阶级革命家、政治家、诗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—191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读于湖南省立第一师范。读书期间，常常呼朋引伴到橘子洲头和南湖港一带游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，主持一师校友会，与蔡和森等常在一起谈古论今，抒发壮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11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60000" y="3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阕小结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830160"/>
            <a:ext cx="76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44792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73600" y="1197000"/>
            <a:ext cx="1847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少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华正茂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书生意气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挥斥方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点江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扬文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粪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万户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04080" y="18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1371600"/>
            <a:ext cx="381240" cy="2895480"/>
          </a:xfrm>
          <a:custGeom>
            <a:avLst/>
            <a:gdLst>
              <a:gd name="textAreaLeft" fmla="*/ 0 w 381240"/>
              <a:gd name="textAreaRight" fmla="*/ 137520 w 3812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82160" y="762120"/>
            <a:ext cx="2923560" cy="30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壮志凌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风华正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6960" y="4724280"/>
            <a:ext cx="164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中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浪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6483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27760" y="497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464832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58480" y="3733920"/>
            <a:ext cx="2923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乘风破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奋然前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677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过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765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263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79640" y="522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全词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阕主要写景，写眼前之景。即描绘了绚丽的湘江深秋景色，突出“万类霜天竞自由”的精神。有感而发，提出苍茫大地应该由谁来主宰的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8000" y="6922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全词思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177336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1916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177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916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177336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2276640"/>
            <a:ext cx="549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64000" y="306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3141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3141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3141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8240" y="2421000"/>
            <a:ext cx="1102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2421000"/>
            <a:ext cx="215640" cy="431640"/>
          </a:xfrm>
          <a:prstGeom prst="upDownArrow">
            <a:avLst>
              <a:gd name="adj1" fmla="val 50000"/>
              <a:gd name="adj2" fmla="val 398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2492280"/>
            <a:ext cx="215640" cy="432000"/>
          </a:xfrm>
          <a:prstGeom prst="upDownArrow">
            <a:avLst>
              <a:gd name="adj1" fmla="val 50000"/>
              <a:gd name="adj2" fmla="val 398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16000" y="112536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33360"/>
            <a:ext cx="8569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·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阕主要抒情。通过追忆往事，表现革命青年的战斗风姿和远大抱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·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下阕情景交融，上阕诗人面对充满蓬勃生气之景提出“谁主沉浮”的问题；下阕，通过革命豪情的抒发，艺术地回答上面的，即由革命青年以及站起来的全国人民来主宰这个世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毛主席手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changsha=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咏 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9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独坐池塘如虎踞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绿杨树下养精神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春来我不先开口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哪个虫儿敢作声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4661640"/>
            <a:ext cx="75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美哉，我少年中国，与天不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!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壮哉，我中国少年，与国无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!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毛泽东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76360" y="2276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谢谢，再见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765000"/>
            <a:ext cx="777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·191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与何叔衡一起创立了以改造中国和世界为奋斗目标的新民学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五四时期，毛泽东在长沙主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湘江评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发表了一系列重要论文，引起了全国进步思想界的重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40464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76280"/>
            <a:ext cx="842472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9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，领导成立湖南共产主义小组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9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以湖南省党代表的身份参加中共一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· 192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毛泽东回到老家韶山，组建中国农村最早的党支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共韶山支部，组织农民开展轰轰烈烈的革命运动。同年秋，军阀赵恒惕下令通缉毛泽东，毛泽东被迫离开家乡去广州。路过长沙，漫步湘江，游橘子洲，满目秋景，抚今追昔，心潮澎湃，文思泉涌，吟成此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0089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6624720" cy="468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3040" y="242100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二十年代的毛泽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33360"/>
            <a:ext cx="7345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不止有一个毛泽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梁漱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毛泽东5 35年陕北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616720" cy="612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29680" y="69228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三十年代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的毛泽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毛泽东7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4910040" cy="604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19000" y="1341360"/>
            <a:ext cx="1521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四十年代的毛泽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5:33:28Z</dcterms:created>
  <dc:creator/>
  <dc:description/>
  <dc:language>en-US</dc:language>
  <cp:lastModifiedBy>zmj</cp:lastModifiedBy>
  <dcterms:modified xsi:type="dcterms:W3CDTF">2010-11-28T15:34:33Z</dcterms:modified>
  <cp:revision>92</cp:revision>
  <dc:subject/>
  <dc:title>PowerPoint Presentation</dc:title>
</cp:coreProperties>
</file>