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5AC9F-8BF2-4690-A703-4C1DA011F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36EAD-9272-4B4A-9547-E00E3B208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D3709-3E61-4BDC-B440-2336341CD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79E5C-E2B0-4147-A2D7-E59B1BCC8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EC417-7EB7-43CE-96F9-9563761DE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E1EFB-4EA4-4351-9EA0-B4C08A5AE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79583-3039-4BF0-A590-1F2B7B1C0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92B08-709E-4FC0-986C-022C28009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B6A25-E07F-4394-B94D-32F98FD5A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24E4C-832D-41CE-BEB3-7E49A14B1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9E1FC-FF0B-435F-8E9D-2A1F95922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14497-C666-4D06-9A77-9E94E5E5C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80562-6AC8-4F38-9F42-12974D9D73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-1,-1,4. &#28435;&#27743;&#30340;&#27700;&#30495;&#38745;&#21834;,&#38745;&#30340;&#35753;&#20320;&#24863;&#35273;&#19981;&#21040;&#23427;&#22312;&#27969;&#21160;" TargetMode="External"/><Relationship Id="rId2" Type="http://schemas.openxmlformats.org/officeDocument/2006/relationships/hyperlink" Target="-1,-1,5. &#28435;&#27743;&#30340;&#27700;&#30495;&#28165;&#21834;,&#28165;&#30340;&#21487;&#20197;&#30475;&#35265;&#27743;&#24213;&#30340;&#27801;&#30707;" TargetMode="External"/><Relationship Id="rId3" Type="http://schemas.openxmlformats.org/officeDocument/2006/relationships/hyperlink" Target="-1,-1,6. &#28435;&#27743;&#30340;&#27700;&#30495;&#32511;&#21834;,&#32511;&#30340;&#20223;&#20315;&#37027;&#26159;&#19968;&#22359;&#26080;&#29781;&#30340;&#32737;&#32736;" TargetMode="External"/><Relationship Id="rId4" Type="http://schemas.openxmlformats.org/officeDocument/2006/relationships/hyperlink" Target="-1,-1,4. &#28435;&#27743;&#30340;&#27700;&#30495;&#38745;&#21834;,&#38745;&#30340;&#35753;&#20320;&#24863;&#35273;&#19981;&#21040;&#23427;&#22312;&#27969;&#21160;" TargetMode="External"/><Relationship Id="rId5" Type="http://schemas.openxmlformats.org/officeDocument/2006/relationships/hyperlink" Target="-1,-1,5. &#28435;&#27743;&#30340;&#27700;&#30495;&#28165;&#21834;,&#28165;&#30340;&#21487;&#20197;&#30475;&#35265;&#27743;&#24213;&#30340;&#27801;&#30707;" TargetMode="External"/><Relationship Id="rId6" Type="http://schemas.openxmlformats.org/officeDocument/2006/relationships/hyperlink" Target="-1,-1,6. &#28435;&#27743;&#30340;&#27700;&#30495;&#32511;&#21834;,&#32511;&#30340;&#20223;&#20315;&#37027;&#26159;&#19968;&#22359;&#26080;&#29781;&#30340;&#32737;&#32736;" TargetMode="External"/><Relationship Id="rId7" Type="http://schemas.openxmlformats.org/officeDocument/2006/relationships/hyperlink" Target="-1,-1,&#20687;&#24040;&#35937;,&#20687;&#39558;&#39548;,&#22855;&#23792;&#32599;&#21015;,&#24418;&#24577;&#19975;&#21315;." TargetMode="External"/><Relationship Id="rId8" Type="http://schemas.openxmlformats.org/officeDocument/2006/relationships/hyperlink" Target="-1,-1,&#20687;&#24040;&#35937;,&#20687;&#39558;&#39548;,&#22855;&#23792;&#32599;&#21015;,&#24418;&#24577;&#19975;&#21315;." TargetMode="External"/><Relationship Id="rId9" Type="http://schemas.openxmlformats.org/officeDocument/2006/relationships/hyperlink" Target="-1,-1,&#20687;&#24040;&#35937;,&#20687;&#39558;&#39548;,&#22855;&#23792;&#32599;&#21015;,&#24418;&#24577;&#19975;&#21315;." TargetMode="External"/><Relationship Id="rId10" Type="http://schemas.openxmlformats.org/officeDocument/2006/relationships/hyperlink" Target="-1,-1,&#20687;&#26032;&#29983;&#30340;&#31481;&#31499;,&#33394;&#24425;&#26126;&#20029;,&#20498;&#26144;&#27700;&#20013;" TargetMode="External"/><Relationship Id="rId11" Type="http://schemas.openxmlformats.org/officeDocument/2006/relationships/hyperlink" Target="-1,-1,&#20687;&#26032;&#29983;&#30340;&#31481;&#31499;,&#33394;&#24425;&#26126;&#20029;,&#20498;&#26144;&#27700;&#20013;" TargetMode="External"/><Relationship Id="rId12" Type="http://schemas.openxmlformats.org/officeDocument/2006/relationships/hyperlink" Target="-1,-1,&#24618;&#30707;&#23961;&#23755;,&#22909;&#20687;&#19968;&#19981;&#23567;&#24515;&#23601;&#20250;&#26685;&#20498;&#19979;&#26469;." TargetMode="External"/><Relationship Id="rId13" Type="http://schemas.openxmlformats.org/officeDocument/2006/relationships/hyperlink" Target="-1,-1,&#24618;&#30707;&#23961;&#23755;,&#22909;&#20687;&#19968;&#19981;&#23567;&#24515;&#23601;&#20250;&#26685;&#20498;&#19979;&#26469;." TargetMode="External"/><Relationship Id="rId14" Type="http://schemas.openxmlformats.org/officeDocument/2006/relationships/hyperlink" Target="-1,-1,&#20687;&#24040;&#35937;,&#20687;&#39558;&#39548;,&#22855;&#23792;&#32599;&#21015;,&#24418;&#24577;&#19975;&#21315;." TargetMode="External"/><Relationship Id="rId15" Type="http://schemas.openxmlformats.org/officeDocument/2006/relationships/hyperlink" Target="-1,-1,&#20687;&#26032;&#29983;&#30340;&#31481;&#31499;,&#33394;&#24425;&#26126;&#20029;,&#20498;&#26144;&#27700;&#20013;" TargetMode="External"/><Relationship Id="rId16" Type="http://schemas.openxmlformats.org/officeDocument/2006/relationships/hyperlink" Target="-1,-1,&#24618;&#30707;&#23961;&#23755;,&#22909;&#20687;&#19968;&#19981;&#23567;&#24515;&#23601;&#20250;&#26685;&#20498;&#19979;&#26469;." TargetMode="External"/><Relationship Id="rId17" Type="http://schemas.openxmlformats.org/officeDocument/2006/relationships/hyperlink" Target="281,13,&#23792;&#23782;&#38596;&#20255;&#30340;&#27888;&#23665;   &#32418;&#21494;&#20284;&#28779;&#30340;&#39321;&#23665;" TargetMode="External"/><Relationship Id="rId18" Type="http://schemas.openxmlformats.org/officeDocument/2006/relationships/hyperlink" Target="280,12,&#27874;&#28572;&#22766;&#38420;&#30340;&#22823;&#28023;    &#27700;&#24179;&#22914;&#38236;&#30340;&#35199;&#28246;" TargetMode="External"/><Relationship Id="rId19" Type="http://schemas.openxmlformats.org/officeDocument/2006/relationships/hyperlink" Target="282,10,&#24187;&#28783;&#29255; 10" TargetMode="External"/><Relationship Id="rId2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-1,2,&#24187;&#28783;&#29255; 2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278,2,&#24187;&#28783;&#29255; 2" TargetMode="External"/><Relationship Id="rId2" Type="http://schemas.openxmlformats.org/officeDocument/2006/relationships/hyperlink" Target="278,2,&#24187;&#28783;&#29255; 2" TargetMode="External"/><Relationship Id="rId3" Type="http://schemas.openxmlformats.org/officeDocument/2006/relationships/hyperlink" Target="278,2,&#24187;&#28783;&#29255; 2" TargetMode="External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278,2,&#24187;&#28783;&#29255; 2" TargetMode="External"/><Relationship Id="rId2" Type="http://schemas.openxmlformats.org/officeDocument/2006/relationships/hyperlink" Target="278,2,&#24187;&#28783;&#29255; 2" TargetMode="External"/><Relationship Id="rId3" Type="http://schemas.openxmlformats.org/officeDocument/2006/relationships/hyperlink" Target="278,2,&#24187;&#28783;&#29255; 2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278,2,&#24187;&#28783;&#29255; 2" TargetMode="External"/><Relationship Id="rId2" Type="http://schemas.openxmlformats.org/officeDocument/2006/relationships/hyperlink" Target="278,2,&#24187;&#28783;&#29255; 2" TargetMode="External"/><Relationship Id="rId3" Type="http://schemas.openxmlformats.org/officeDocument/2006/relationships/hyperlink" Target="278,2,&#24187;&#28783;&#29255; 2" TargetMode="Externa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278,2,&#24187;&#28783;&#29255; 2" TargetMode="External"/><Relationship Id="rId2" Type="http://schemas.openxmlformats.org/officeDocument/2006/relationships/hyperlink" Target="278,2,&#24187;&#28783;&#29255; 2" TargetMode="External"/><Relationship Id="rId3" Type="http://schemas.openxmlformats.org/officeDocument/2006/relationships/hyperlink" Target="278,2,&#24187;&#28783;&#29255; 2" TargetMode="External"/><Relationship Id="rId4" Type="http://schemas.openxmlformats.org/officeDocument/2006/relationships/hyperlink" Target="278,2,&#24187;&#28783;&#29255; 2" TargetMode="External"/><Relationship Id="rId5" Type="http://schemas.openxmlformats.org/officeDocument/2006/relationships/hyperlink" Target="278,2,&#24187;&#28783;&#29255; 2" TargetMode="External"/><Relationship Id="rId6" Type="http://schemas.openxmlformats.org/officeDocument/2006/relationships/hyperlink" Target="278,2,&#24187;&#28783;&#29255; 2" TargetMode="External"/><Relationship Id="rId7" Type="http://schemas.openxmlformats.org/officeDocument/2006/relationships/hyperlink" Target="278,2,&#24187;&#28783;&#29255; 2" TargetMode="External"/><Relationship Id="rId8" Type="http://schemas.openxmlformats.org/officeDocument/2006/relationships/hyperlink" Target="278,2,&#24187;&#28783;&#29255; 2" TargetMode="External"/><Relationship Id="rId9" Type="http://schemas.openxmlformats.org/officeDocument/2006/relationships/hyperlink" Target="278,2,&#24187;&#28783;&#29255; 2" TargetMode="External"/><Relationship Id="rId10" Type="http://schemas.openxmlformats.org/officeDocument/2006/relationships/hyperlink" Target="278,2,&#24187;&#28783;&#29255; 2" TargetMode="External"/><Relationship Id="rId11" Type="http://schemas.openxmlformats.org/officeDocument/2006/relationships/hyperlink" Target="278,2,&#24187;&#28783;&#29255; 2" TargetMode="External"/><Relationship Id="rId12" Type="http://schemas.openxmlformats.org/officeDocument/2006/relationships/hyperlink" Target="278,2,&#24187;&#28783;&#29255; 2" TargetMode="External"/><Relationship Id="rId13" Type="http://schemas.openxmlformats.org/officeDocument/2006/relationships/image" Target="../media/image5.jpeg"/><Relationship Id="rId14" Type="http://schemas.openxmlformats.org/officeDocument/2006/relationships/image" Target="../media/image6.jpeg"/><Relationship Id="rId1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278,2,&#24187;&#28783;&#29255; 2" TargetMode="External"/><Relationship Id="rId2" Type="http://schemas.openxmlformats.org/officeDocument/2006/relationships/hyperlink" Target="278,2,&#24187;&#28783;&#29255; 2" TargetMode="External"/><Relationship Id="rId3" Type="http://schemas.openxmlformats.org/officeDocument/2006/relationships/hyperlink" Target="278,2,&#24187;&#28783;&#29255; 2" TargetMode="External"/><Relationship Id="rId4" Type="http://schemas.openxmlformats.org/officeDocument/2006/relationships/hyperlink" Target="278,2,&#24187;&#28783;&#29255; 2" TargetMode="External"/><Relationship Id="rId5" Type="http://schemas.openxmlformats.org/officeDocument/2006/relationships/hyperlink" Target="278,2,&#24187;&#28783;&#29255; 2" TargetMode="External"/><Relationship Id="rId6" Type="http://schemas.openxmlformats.org/officeDocument/2006/relationships/hyperlink" Target="278,2,&#24187;&#28783;&#29255; 2" TargetMode="External"/><Relationship Id="rId7" Type="http://schemas.openxmlformats.org/officeDocument/2006/relationships/hyperlink" Target="278,2,&#24187;&#28783;&#29255; 2" TargetMode="External"/><Relationship Id="rId8" Type="http://schemas.openxmlformats.org/officeDocument/2006/relationships/hyperlink" Target="278,2,&#24187;&#28783;&#29255; 2" TargetMode="External"/><Relationship Id="rId9" Type="http://schemas.openxmlformats.org/officeDocument/2006/relationships/hyperlink" Target="278,2,&#24187;&#28783;&#29255; 2" TargetMode="External"/><Relationship Id="rId10" Type="http://schemas.openxmlformats.org/officeDocument/2006/relationships/image" Target="../media/image7.jpeg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278,2,&#24187;&#28783;&#29255; 2" TargetMode="External"/><Relationship Id="rId2" Type="http://schemas.openxmlformats.org/officeDocument/2006/relationships/hyperlink" Target="278,2,&#24187;&#28783;&#29255; 2" TargetMode="External"/><Relationship Id="rId3" Type="http://schemas.openxmlformats.org/officeDocument/2006/relationships/hyperlink" Target="278,2,&#24187;&#28783;&#29255; 2" TargetMode="External"/><Relationship Id="rId4" Type="http://schemas.openxmlformats.org/officeDocument/2006/relationships/hyperlink" Target="278,2,&#24187;&#28783;&#29255; 2" TargetMode="External"/><Relationship Id="rId5" Type="http://schemas.openxmlformats.org/officeDocument/2006/relationships/hyperlink" Target="278,2,&#24187;&#28783;&#29255; 2" TargetMode="External"/><Relationship Id="rId6" Type="http://schemas.openxmlformats.org/officeDocument/2006/relationships/hyperlink" Target="278,2,&#24187;&#28783;&#29255; 2" TargetMode="External"/><Relationship Id="rId7" Type="http://schemas.openxmlformats.org/officeDocument/2006/relationships/hyperlink" Target="278,2,&#24187;&#28783;&#29255; 2" TargetMode="External"/><Relationship Id="rId8" Type="http://schemas.openxmlformats.org/officeDocument/2006/relationships/hyperlink" Target="278,2,&#24187;&#28783;&#29255; 2" TargetMode="External"/><Relationship Id="rId9" Type="http://schemas.openxmlformats.org/officeDocument/2006/relationships/image" Target="../media/image8.jpe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guilin2[1]"/>
          <p:cNvPicPr/>
          <p:nvPr/>
        </p:nvPicPr>
        <p:blipFill>
          <a:blip r:embed="rId1"/>
          <a:srcRect l="0" t="0" r="0" b="603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34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500" spc="-1" strike="noStrike">
                <a:solidFill>
                  <a:srgbClr val="ff0000"/>
                </a:solidFill>
                <a:latin typeface="Arial"/>
                <a:ea typeface="方正姚体"/>
              </a:rPr>
              <a:t>桂林山水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0" y="1484280"/>
            <a:ext cx="9144000" cy="18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7"/>
          <p:cNvSpPr/>
          <p:nvPr/>
        </p:nvSpPr>
        <p:spPr>
          <a:xfrm>
            <a:off x="2476440" y="5877000"/>
            <a:ext cx="309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2"/>
          <p:cNvSpPr/>
          <p:nvPr/>
        </p:nvSpPr>
        <p:spPr>
          <a:xfrm>
            <a:off x="1006920" y="990720"/>
            <a:ext cx="680616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练习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桂林的山水美，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————————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教室里真静啊，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————————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——————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————————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4" descr="20061010121919906[1]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59772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50920" y="907560"/>
            <a:ext cx="8362800" cy="11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Arial"/>
              </a:rPr>
              <a:t>这样的山围绕着这样的水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,</a:t>
            </a:r>
            <a:r>
              <a:rPr b="0" lang="zh-CN" sz="2800" spc="-1" strike="noStrike">
                <a:solidFill>
                  <a:srgbClr val="000066"/>
                </a:solidFill>
                <a:latin typeface="Arial"/>
              </a:rPr>
              <a:t>这样的水倒映着这样的山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,</a:t>
            </a:r>
            <a:r>
              <a:rPr b="0" lang="zh-CN" sz="2800" spc="-1" strike="noStrike">
                <a:solidFill>
                  <a:srgbClr val="000066"/>
                </a:solidFill>
                <a:latin typeface="Arial"/>
              </a:rPr>
              <a:t>再加上空中云雾迷蒙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,</a:t>
            </a:r>
            <a:r>
              <a:rPr b="0" lang="zh-CN" sz="2800" spc="-1" strike="noStrike">
                <a:solidFill>
                  <a:srgbClr val="000066"/>
                </a:solidFill>
                <a:latin typeface="Arial"/>
              </a:rPr>
              <a:t>山间绿树红花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,</a:t>
            </a:r>
            <a:r>
              <a:rPr b="0" lang="zh-CN" sz="2800" spc="-1" strike="noStrike">
                <a:solidFill>
                  <a:srgbClr val="000066"/>
                </a:solidFill>
                <a:latin typeface="Arial"/>
              </a:rPr>
              <a:t>江上竹筏小舟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,</a:t>
            </a:r>
            <a:r>
              <a:rPr b="0" lang="zh-CN" sz="2800" spc="-1" strike="noStrike">
                <a:solidFill>
                  <a:srgbClr val="000066"/>
                </a:solidFill>
                <a:latin typeface="Arial"/>
              </a:rPr>
              <a:t>让你感觉到像是走进了连绵不断的画卷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,</a:t>
            </a:r>
            <a:r>
              <a:rPr b="0" lang="zh-CN" sz="2800" spc="-1" strike="noStrike">
                <a:solidFill>
                  <a:srgbClr val="000066"/>
                </a:solidFill>
                <a:latin typeface="Arial"/>
              </a:rPr>
              <a:t>真是“舟行碧波上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,</a:t>
            </a:r>
            <a:r>
              <a:rPr b="0" lang="zh-CN" sz="2800" spc="-1" strike="noStrike">
                <a:solidFill>
                  <a:srgbClr val="000066"/>
                </a:solidFill>
                <a:latin typeface="Arial"/>
              </a:rPr>
              <a:t>人在画中游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页脚占位符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波澜壮阔的大海    水平如镜的西湖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5" descr="大海40805[1]"/>
          <p:cNvPicPr/>
          <p:nvPr/>
        </p:nvPicPr>
        <p:blipFill>
          <a:blip r:embed="rId1"/>
          <a:stretch/>
        </p:blipFill>
        <p:spPr>
          <a:xfrm>
            <a:off x="0" y="2421000"/>
            <a:ext cx="4427640" cy="44370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西湖"/>
          <p:cNvPicPr/>
          <p:nvPr/>
        </p:nvPicPr>
        <p:blipFill>
          <a:blip r:embed="rId2"/>
          <a:stretch/>
        </p:blipFill>
        <p:spPr>
          <a:xfrm>
            <a:off x="4572000" y="1197000"/>
            <a:ext cx="4356000" cy="35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5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页脚占位符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2" descr="泰山154[1]"/>
          <p:cNvPicPr/>
          <p:nvPr/>
        </p:nvPicPr>
        <p:blipFill>
          <a:blip r:embed="rId1"/>
          <a:stretch/>
        </p:blipFill>
        <p:spPr>
          <a:xfrm>
            <a:off x="0" y="1125360"/>
            <a:ext cx="4356000" cy="57326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3" descr="香山[1]"/>
          <p:cNvPicPr/>
          <p:nvPr/>
        </p:nvPicPr>
        <p:blipFill>
          <a:blip r:embed="rId2"/>
          <a:stretch/>
        </p:blipFill>
        <p:spPr>
          <a:xfrm>
            <a:off x="4572000" y="1557360"/>
            <a:ext cx="4572000" cy="468000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6868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>
                <a:solidFill>
                  <a:srgbClr val="3333ff"/>
                </a:solidFill>
                <a:latin typeface="Arial"/>
              </a:rPr>
              <a:t>峰峦雄伟的泰山   红叶似火的香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clickEffect" fill="hold" presetClass="entr" presetID="5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2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2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2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ntr" presetID="4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2"/>
          <p:cNvSpPr/>
          <p:nvPr/>
        </p:nvSpPr>
        <p:spPr>
          <a:xfrm>
            <a:off x="0" y="1447920"/>
            <a:ext cx="990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9900"/>
                </a:solidFill>
                <a:latin typeface="Times New Roman"/>
              </a:rPr>
              <a:t>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9900"/>
                </a:solidFill>
                <a:latin typeface="Times New Roman"/>
              </a:rPr>
              <a:t>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3"/>
          <p:cNvSpPr/>
          <p:nvPr/>
        </p:nvSpPr>
        <p:spPr>
          <a:xfrm>
            <a:off x="533520" y="685800"/>
            <a:ext cx="609480" cy="2133720"/>
          </a:xfrm>
          <a:custGeom>
            <a:avLst/>
            <a:gdLst>
              <a:gd name="textAreaLeft" fmla="*/ 389520 w 609480"/>
              <a:gd name="textAreaRight" fmla="*/ 609840 w 609480"/>
              <a:gd name="textAreaTop" fmla="*/ 55440 h 2133720"/>
              <a:gd name="textAreaBottom" fmla="*/ 2078280 h 2133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cc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4"/>
          <p:cNvSpPr/>
          <p:nvPr/>
        </p:nvSpPr>
        <p:spPr>
          <a:xfrm>
            <a:off x="533520" y="3657600"/>
            <a:ext cx="609480" cy="2057400"/>
          </a:xfrm>
          <a:custGeom>
            <a:avLst/>
            <a:gdLst>
              <a:gd name="textAreaLeft" fmla="*/ 389520 w 609480"/>
              <a:gd name="textAreaRight" fmla="*/ 609840 w 60948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cc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1221120" y="404640"/>
            <a:ext cx="72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静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1221120" y="1484280"/>
            <a:ext cx="72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清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1253160" y="2465280"/>
            <a:ext cx="72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绿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8"/>
          <p:cNvSpPr/>
          <p:nvPr/>
        </p:nvSpPr>
        <p:spPr>
          <a:xfrm>
            <a:off x="5184720" y="457200"/>
            <a:ext cx="330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9999"/>
                </a:solidFill>
                <a:uFillTx/>
                <a:latin typeface="Times New Roman"/>
                <a:hlinkClick r:id="rId4"/>
              </a:rPr>
              <a:t>漓江的水真静啊，静得让你感觉不到它在流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9"/>
          <p:cNvSpPr/>
          <p:nvPr/>
        </p:nvSpPr>
        <p:spPr>
          <a:xfrm>
            <a:off x="3279240" y="1468440"/>
            <a:ext cx="3804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9999"/>
                </a:solidFill>
                <a:uFillTx/>
                <a:latin typeface="Times New Roman"/>
                <a:hlinkClick r:id="rId5"/>
              </a:rPr>
              <a:t>漓江的水真清啊，清得可以看见江底的沙石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5095080" y="2459160"/>
            <a:ext cx="782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9999"/>
                </a:solidFill>
                <a:uFillTx/>
                <a:latin typeface="Times New Roman"/>
                <a:hlinkClick r:id="rId6"/>
              </a:rPr>
              <a:t>漓江的水真绿啊，绿得仿佛那是一块无瑕的翡翠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1"/>
          <p:cNvSpPr/>
          <p:nvPr/>
        </p:nvSpPr>
        <p:spPr>
          <a:xfrm>
            <a:off x="2050920" y="3284640"/>
            <a:ext cx="6704280" cy="10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9999"/>
                </a:solidFill>
                <a:uFillTx/>
                <a:latin typeface="Times New Roman"/>
                <a:hlinkClick r:id="rId7"/>
              </a:rPr>
              <a:t>桂林的山真奇啊，一座座拔地而起，各不相连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9999"/>
                </a:solidFill>
                <a:uFillTx/>
                <a:latin typeface="Times New Roman"/>
                <a:hlinkClick r:id="rId8"/>
              </a:rPr>
              <a:t>像老人，像巨象，像骆驼，奇峰罗列，形态万千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Times New Roman"/>
                <a:hlinkClick r:id="rId9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2"/>
          <p:cNvSpPr/>
          <p:nvPr/>
        </p:nvSpPr>
        <p:spPr>
          <a:xfrm>
            <a:off x="3393720" y="4437000"/>
            <a:ext cx="420408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9999"/>
                </a:solidFill>
                <a:uFillTx/>
                <a:latin typeface="Times New Roman"/>
                <a:hlinkClick r:id="rId10"/>
              </a:rPr>
              <a:t>桂林的山真秀啊，像翠绿的屏障，像新生的竹笋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9999"/>
                </a:solidFill>
                <a:uFillTx/>
                <a:latin typeface="Times New Roman"/>
                <a:hlinkClick r:id="rId11"/>
              </a:rPr>
              <a:t>色彩明丽，倒映水中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3"/>
          <p:cNvSpPr/>
          <p:nvPr/>
        </p:nvSpPr>
        <p:spPr>
          <a:xfrm>
            <a:off x="1979640" y="5486400"/>
            <a:ext cx="7446960" cy="11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9999"/>
                </a:solidFill>
                <a:uFillTx/>
                <a:latin typeface="Times New Roman"/>
                <a:hlinkClick r:id="rId12"/>
              </a:rPr>
              <a:t>桂林的山真险啊，危峰兀立，怪石嶙峋，好象一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9999"/>
                </a:solidFill>
                <a:uFillTx/>
                <a:latin typeface="Times New Roman"/>
                <a:hlinkClick r:id="rId13"/>
              </a:rPr>
              <a:t>小心就会栽倒下来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4"/>
          <p:cNvSpPr/>
          <p:nvPr/>
        </p:nvSpPr>
        <p:spPr>
          <a:xfrm>
            <a:off x="1221120" y="3429000"/>
            <a:ext cx="72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奇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  <a:hlinkClick r:id="rId14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5"/>
          <p:cNvSpPr/>
          <p:nvPr/>
        </p:nvSpPr>
        <p:spPr>
          <a:xfrm>
            <a:off x="1253160" y="4446720"/>
            <a:ext cx="72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秀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  <a:hlinkClick r:id="rId15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6"/>
          <p:cNvSpPr/>
          <p:nvPr/>
        </p:nvSpPr>
        <p:spPr>
          <a:xfrm>
            <a:off x="1237320" y="5353200"/>
            <a:ext cx="72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险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  <a:hlinkClick r:id="rId16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7"/>
          <p:cNvSpPr/>
          <p:nvPr/>
        </p:nvSpPr>
        <p:spPr>
          <a:xfrm>
            <a:off x="0" y="6019920"/>
            <a:ext cx="380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Times New Roman"/>
                <a:hlinkClick r:id="rId17"/>
              </a:rPr>
              <a:t>山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8"/>
          <p:cNvSpPr/>
          <p:nvPr/>
        </p:nvSpPr>
        <p:spPr>
          <a:xfrm>
            <a:off x="42120" y="0"/>
            <a:ext cx="302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Times New Roman"/>
                <a:hlinkClick r:id="rId18"/>
              </a:rPr>
              <a:t>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9"/>
          <p:cNvSpPr/>
          <p:nvPr/>
        </p:nvSpPr>
        <p:spPr>
          <a:xfrm>
            <a:off x="8408880" y="6324480"/>
            <a:ext cx="3589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009999"/>
                </a:solidFill>
                <a:uFillTx/>
                <a:latin typeface="Times New Roman"/>
                <a:hlinkClick r:id="rId19"/>
              </a:rPr>
              <a:t>练习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"/>
          <p:cNvSpPr/>
          <p:nvPr/>
        </p:nvSpPr>
        <p:spPr>
          <a:xfrm>
            <a:off x="1977840" y="914400"/>
            <a:ext cx="52981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理解句子的方法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读一读句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想一想，用什么方法写具体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如果是比喻句，说出把什么比作什么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说一说这样写有什么好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3"/>
          <p:cNvSpPr/>
          <p:nvPr/>
        </p:nvSpPr>
        <p:spPr>
          <a:xfrm>
            <a:off x="8381880" y="6324480"/>
            <a:ext cx="6098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句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矩形 7"/>
          <p:cNvSpPr/>
          <p:nvPr/>
        </p:nvSpPr>
        <p:spPr>
          <a:xfrm>
            <a:off x="1979640" y="148428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96472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漓江的水真静啊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,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静的让你感觉不到它在流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F257192003[1]"/>
          <p:cNvPicPr/>
          <p:nvPr/>
        </p:nvPicPr>
        <p:blipFill>
          <a:blip r:embed="rId4"/>
          <a:stretch/>
        </p:blipFill>
        <p:spPr>
          <a:xfrm>
            <a:off x="0" y="1052640"/>
            <a:ext cx="9144000" cy="58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4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4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3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"/>
                <a:ea typeface="幼圆"/>
                <a:hlinkClick r:id="rId1"/>
              </a:rPr>
              <a:t>漓江的水真清啊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ea typeface="幼圆"/>
                <a:hlinkClick r:id="rId2"/>
              </a:rPr>
              <a:t>,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"/>
                <a:ea typeface="幼圆"/>
                <a:hlinkClick r:id="rId3"/>
              </a:rPr>
              <a:t>清的可以看见江底的沙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200561718311365[1]"/>
          <p:cNvPicPr/>
          <p:nvPr/>
        </p:nvPicPr>
        <p:blipFill>
          <a:blip r:embed="rId4"/>
          <a:stretch/>
        </p:blipFill>
        <p:spPr>
          <a:xfrm>
            <a:off x="0" y="765000"/>
            <a:ext cx="9144000" cy="609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漓江的水真绿啊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,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绿的仿佛那是一块无瑕的翡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漓江的水[1]"/>
          <p:cNvPicPr/>
          <p:nvPr/>
        </p:nvPicPr>
        <p:blipFill>
          <a:blip r:embed="rId4"/>
          <a:stretch/>
        </p:blipFill>
        <p:spPr>
          <a:xfrm>
            <a:off x="0" y="765000"/>
            <a:ext cx="9144000" cy="609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9" dur="80"/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0" dur="80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" dur="80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6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8200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"/>
                <a:ea typeface="楷体_GB2312"/>
                <a:hlinkClick r:id="rId1"/>
              </a:rPr>
              <a:t>桂林的山真奇啊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ea typeface="楷体_GB2312"/>
                <a:hlinkClick r:id="rId2"/>
              </a:rPr>
              <a:t>,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"/>
                <a:ea typeface="楷体_GB2312"/>
                <a:hlinkClick r:id="rId3"/>
              </a:rPr>
              <a:t>像老人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ea typeface="楷体_GB2312"/>
                <a:hlinkClick r:id="rId4"/>
              </a:rPr>
              <a:t>,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"/>
                <a:ea typeface="楷体_GB2312"/>
                <a:hlinkClick r:id="rId5"/>
              </a:rPr>
              <a:t>像巨象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ea typeface="楷体_GB2312"/>
                <a:hlinkClick r:id="rId6"/>
              </a:rPr>
              <a:t>,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"/>
                <a:ea typeface="楷体_GB2312"/>
                <a:hlinkClick r:id="rId7"/>
              </a:rPr>
              <a:t>像骆驼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ea typeface="楷体_GB2312"/>
                <a:hlinkClick r:id="rId8"/>
              </a:rPr>
              <a:t>,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"/>
                <a:ea typeface="楷体_GB2312"/>
                <a:hlinkClick r:id="rId9"/>
              </a:rPr>
              <a:t>奇峰罗列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ea typeface="楷体_GB2312"/>
                <a:hlinkClick r:id="rId10"/>
              </a:rPr>
              <a:t>,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"/>
                <a:ea typeface="楷体_GB2312"/>
                <a:hlinkClick r:id="rId11"/>
              </a:rPr>
              <a:t>形态万千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ea typeface="楷体_GB2312"/>
                <a:hlinkClick r:id="rId12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骆驼山"/>
          <p:cNvPicPr/>
          <p:nvPr/>
        </p:nvPicPr>
        <p:blipFill>
          <a:blip r:embed="rId13"/>
          <a:stretch/>
        </p:blipFill>
        <p:spPr>
          <a:xfrm>
            <a:off x="0" y="1197000"/>
            <a:ext cx="4643280" cy="56610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桂林象鼻山"/>
          <p:cNvPicPr/>
          <p:nvPr/>
        </p:nvPicPr>
        <p:blipFill>
          <a:blip r:embed="rId14"/>
          <a:stretch/>
        </p:blipFill>
        <p:spPr>
          <a:xfrm>
            <a:off x="4751280" y="1052640"/>
            <a:ext cx="4392720" cy="58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3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4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6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8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页脚占位符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"/>
                <a:ea typeface="隶书"/>
                <a:hlinkClick r:id="rId1"/>
              </a:rPr>
              <a:t>桂林的山真秀啊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ea typeface="隶书"/>
                <a:hlinkClick r:id="rId2"/>
              </a:rPr>
              <a:t>,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"/>
                <a:ea typeface="隶书"/>
                <a:hlinkClick r:id="rId3"/>
              </a:rPr>
              <a:t>像翠绿的屏障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ea typeface="隶书"/>
                <a:hlinkClick r:id="rId4"/>
              </a:rPr>
              <a:t>,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"/>
                <a:ea typeface="隶书"/>
                <a:hlinkClick r:id="rId5"/>
              </a:rPr>
              <a:t>像新生的竹笋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ea typeface="隶书"/>
                <a:hlinkClick r:id="rId6"/>
              </a:rPr>
              <a:t>,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"/>
                <a:ea typeface="隶书"/>
                <a:hlinkClick r:id="rId7"/>
              </a:rPr>
              <a:t>色彩明丽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ea typeface="隶书"/>
                <a:hlinkClick r:id="rId8"/>
              </a:rPr>
              <a:t>,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"/>
                <a:ea typeface="隶书"/>
                <a:hlinkClick r:id="rId9"/>
              </a:rPr>
              <a:t>倒映水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8" descr="2005617182855925[1]"/>
          <p:cNvPicPr/>
          <p:nvPr/>
        </p:nvPicPr>
        <p:blipFill>
          <a:blip r:embed="rId10"/>
          <a:stretch/>
        </p:blipFill>
        <p:spPr>
          <a:xfrm>
            <a:off x="0" y="1341360"/>
            <a:ext cx="9144000" cy="55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桂林的山真险啊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,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危峰兀立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,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怪石嶙峋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,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好像一不小心就会栽倒下来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5" descr="556546[1]"/>
          <p:cNvPicPr/>
          <p:nvPr/>
        </p:nvPicPr>
        <p:blipFill>
          <a:blip r:embed="rId9"/>
          <a:stretch/>
        </p:blipFill>
        <p:spPr>
          <a:xfrm>
            <a:off x="0" y="1268280"/>
            <a:ext cx="9144000" cy="558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1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6T08:23:09Z</dcterms:created>
  <dc:creator>第一PPT模板网-WWW.1PPT.COM</dc:creator>
  <dc:description>第一PPT模板网-WWW.1PPT.COM
</dc:description>
  <cp:keywords>第一PPT模板网-WWW.1PPT.COM</cp:keywords>
  <dc:language>en-US</dc:language>
  <cp:lastModifiedBy>wuhan</cp:lastModifiedBy>
  <dcterms:modified xsi:type="dcterms:W3CDTF">2017-09-04T04:43:44Z</dcterms:modified>
  <cp:revision>13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748</vt:lpwstr>
  </property>
</Properties>
</file>