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C6CB-3C07-4223-88FF-F4A7E391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1AB-02B3-441D-A0DD-BF61A134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4D2-0561-4B7A-BA8B-7FF8E8DE9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19D-5690-4F8D-BA1E-1966DC68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F5C-AB66-4001-B9C1-4F0A64D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F6A4-3BC1-4C05-995F-308A8F3C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2C01-3A23-4250-92ED-C5BE8A99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EEAE-2342-4BE4-A883-596800A5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7A54-F112-4E6D-822A-B42688DE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CC3A-392C-409D-A805-6FB0E271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5A21-E9AF-4D6D-B2BF-0DE5D1E2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A43-0608-486A-8907-5AD3352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A88-627A-4490-9B67-06D81B2D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5B21-9F03-497D-8C16-94B903B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D37C-DF37-47CF-9DD7-4FE06B8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1631-28B8-4B37-BA5C-5537E397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98A1-6F38-44FC-B7FE-50D57E5C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20A-6214-44DC-BACE-62C4459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1DA-B6AD-4EC2-A117-C974AAE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FD1-9C71-4C60-9140-42663E1F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14D-ECF0-402C-9E3C-8E18B12E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EB2-3E3B-43AE-A00A-9C935F2D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1D0-2828-4D00-ACF0-F698FEE7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7B7-DFA7-46B2-9D68-B1BED10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0541-9B2F-4DBB-B1B1-4395BA797B8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4960"/>
            <a:ext cx="2427840" cy="2247840"/>
            <a:chOff x="7171200" y="-849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4960"/>
              <a:ext cx="2427840" cy="2247840"/>
              <a:chOff x="7171200" y="-849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4960"/>
                <a:ext cx="2427840" cy="2247840"/>
                <a:chOff x="7171200" y="-849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48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452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228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73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800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08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24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480" cy="1158480"/>
            <a:chOff x="7796880" y="4318920"/>
            <a:chExt cx="97848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12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40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480" cy="1158480"/>
              <a:chOff x="7796880" y="4318920"/>
              <a:chExt cx="97848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4480"/>
                <a:ext cx="9360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920"/>
                <a:ext cx="1058760" cy="492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6280" y="47595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60120"/>
                <a:ext cx="100080" cy="1868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2080"/>
                <a:ext cx="306360" cy="1641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6E3-D56E-4572-B169-53349ED546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-1,2,&#24187;&#28783;&#29255; 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200792023037308_2[1]"/>
          <p:cNvPicPr/>
          <p:nvPr/>
        </p:nvPicPr>
        <p:blipFill>
          <a:blip r:embed="rId1"/>
          <a:srcRect l="0" t="0" r="0" b="50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63640" y="1197000"/>
            <a:ext cx="5472360" cy="17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仿宋_GB2312"/>
              </a:rPr>
              <a:t>桂林山水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2405160" y="5950080"/>
            <a:ext cx="30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5875597_162230025388_2[1]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0" y="18900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漓江的水真清啊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得可以看见江底的沙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20110112032308865[1]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0" y="26028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漓江的水真绿啊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得仿佛那是一块无瑕的翡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179280" y="1401840"/>
            <a:ext cx="99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桂林的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900000" y="765000"/>
            <a:ext cx="609840" cy="39592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662120" y="260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484360" y="189000"/>
            <a:ext cx="5400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漓江的水真静啊，静得让你感觉不到它在流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1517400" y="234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484360" y="1989000"/>
            <a:ext cx="604836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漓江的水真绿啊，绿得仿佛那是一块无瑕的翡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662120" y="42926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2484360" y="4005360"/>
            <a:ext cx="56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漓江的水真清啊，清得可以看见江底的沙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539640" y="404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作者运用了什么修辞手法，把漓江的水写得这么奇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908000" y="162864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排比、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11280" y="3068640"/>
            <a:ext cx="792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也来试一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公园的花真香啊，香得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教室里真安静啊，安静得（        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539640" y="1052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、文中把桂林的水和大海、西湖作比较，它们又美在哪里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79280" y="18900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116000" y="249228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大海     波澜壮阔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西湖      水平如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6" descr="479408180333592439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7"/>
          <p:cNvSpPr/>
          <p:nvPr/>
        </p:nvSpPr>
        <p:spPr>
          <a:xfrm>
            <a:off x="179280" y="189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发挥想象：桂林的山到底是一幅怎么样的美景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a70cb8511dbe925a377abe6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826920" y="69228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攀登过峰峦雄伟的泰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200610221042203879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6"/>
          <p:cNvSpPr/>
          <p:nvPr/>
        </p:nvSpPr>
        <p:spPr>
          <a:xfrm>
            <a:off x="1403280" y="40464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游览过红叶似火的香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1_101020112720_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539640" y="33336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却没有看见过桂林这一带的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C20060823142340343[1]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179280" y="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桂林的山真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啊，一座座拔地而起，各不相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9"/>
          <p:cNvSpPr/>
          <p:nvPr/>
        </p:nvSpPr>
        <p:spPr>
          <a:xfrm>
            <a:off x="3132000" y="2144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3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835280" y="1413000"/>
            <a:ext cx="230328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范读课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932360" y="1413000"/>
            <a:ext cx="230364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初步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835280" y="2637000"/>
            <a:ext cx="230508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桂林的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003640" y="2637000"/>
            <a:ext cx="223236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桂林的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835280" y="3933720"/>
            <a:ext cx="230328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5003640" y="3933720"/>
            <a:ext cx="2374920" cy="70344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品味佳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20071112135426438[1]"/>
          <p:cNvPicPr/>
          <p:nvPr/>
        </p:nvPicPr>
        <p:blipFill>
          <a:blip r:embed="rId1"/>
          <a:stretch/>
        </p:blipFill>
        <p:spPr>
          <a:xfrm>
            <a:off x="1619280" y="0"/>
            <a:ext cx="4211640" cy="4940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ufDB1sLmzdXJvQ==_9o6soCc65AoJ[1]"/>
          <p:cNvPicPr/>
          <p:nvPr/>
        </p:nvPicPr>
        <p:blipFill>
          <a:blip r:embed="rId2"/>
          <a:stretch/>
        </p:blipFill>
        <p:spPr>
          <a:xfrm>
            <a:off x="5796000" y="0"/>
            <a:ext cx="3348000" cy="489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1920986703[1]"/>
          <p:cNvPicPr/>
          <p:nvPr/>
        </p:nvPicPr>
        <p:blipFill>
          <a:blip r:embed="rId3"/>
          <a:stretch/>
        </p:blipFill>
        <p:spPr>
          <a:xfrm>
            <a:off x="0" y="0"/>
            <a:ext cx="2843280" cy="49417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1979640" y="530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像老人、像巨象、像骆驼，奇峰罗列，形态万千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0b8e1a2c4b7f3b2f359bf72d[1]"/>
          <p:cNvPicPr/>
          <p:nvPr/>
        </p:nvPicPr>
        <p:blipFill>
          <a:blip r:embed="rId1"/>
          <a:stretch/>
        </p:blipFill>
        <p:spPr>
          <a:xfrm>
            <a:off x="0" y="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19280" y="5229360"/>
            <a:ext cx="72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桂林的山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啊，像翠绿的屏障，像新生的竹笋，色彩明丽，倒映水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1BE1B271B63DB0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1692360" y="5516640"/>
            <a:ext cx="698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桂林的山真险啊，危峰兀立，怪石嶙峋，好像一不小心就会栽倒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179280" y="1401840"/>
            <a:ext cx="99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桂林的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900000" y="765000"/>
            <a:ext cx="609840" cy="3959280"/>
          </a:xfrm>
          <a:custGeom>
            <a:avLst/>
            <a:gdLst>
              <a:gd name="textAreaLeft" fmla="*/ 389520 w 609840"/>
              <a:gd name="textAreaRight" fmla="*/ 610200 w 60984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619280" y="47628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771640" y="549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像老人、像巨象、像骆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1547640" y="2276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627280" y="24210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像翠绿的屏障，像新生的竹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547640" y="414972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2771640" y="43657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dff"/>
                </a:solidFill>
                <a:latin typeface="Times New Roman"/>
              </a:rPr>
              <a:t>危峰兀立，怪石嶙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8"/>
          <p:cNvSpPr/>
          <p:nvPr/>
        </p:nvSpPr>
        <p:spPr>
          <a:xfrm>
            <a:off x="1042920" y="981000"/>
            <a:ext cx="439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835280" y="620640"/>
            <a:ext cx="525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619280" y="404640"/>
            <a:ext cx="56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5" descr="220101120155837b1de0245cd95342a8694737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6"/>
          <p:cNvSpPr/>
          <p:nvPr/>
        </p:nvSpPr>
        <p:spPr>
          <a:xfrm>
            <a:off x="539640" y="260280"/>
            <a:ext cx="66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舟行碧波上，人在画中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755640" y="1341360"/>
            <a:ext cx="6912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本课优美的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瑕     翡翠      荡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波澜壮阔      水平如镜     峰峦雄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叶似火      拔地而起     奇峰罗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态万千      连绵不断     怪石嶙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8"/>
          <p:cNvSpPr/>
          <p:nvPr/>
        </p:nvSpPr>
        <p:spPr>
          <a:xfrm>
            <a:off x="826920" y="476280"/>
            <a:ext cx="7561440" cy="26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学习了桂林山水，你对那里的山，那里的水，有什么感觉？把它写下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观赏一处风景，注意仔细观察它的特点，然后写下几段话，最好能用上本课的一些优美的词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8381880" y="6324480"/>
            <a:ext cx="6098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Times New Roman"/>
                <a:hlinkClick r:id="rId1"/>
              </a:rPr>
              <a:t>句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5" descr="51970149200906301100391672243411168_009[1]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900000" y="476280"/>
            <a:ext cx="6912000" cy="2454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、理解</a:t>
            </a:r>
            <a:r>
              <a:rPr b="1" lang="zh-CN" sz="4400" spc="-1" strike="noStrike">
                <a:solidFill>
                  <a:srgbClr val="703dff"/>
                </a:solidFill>
                <a:latin typeface="Sylfae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桂林山水甲天下</a:t>
            </a:r>
            <a:r>
              <a:rPr b="1" lang="zh-CN" sz="4400" spc="-1" strike="noStrike">
                <a:solidFill>
                  <a:srgbClr val="703dff"/>
                </a:solidFill>
                <a:latin typeface="Sylfae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中</a:t>
            </a:r>
            <a:r>
              <a:rPr b="1" lang="zh-CN" sz="4400" spc="-1" strike="noStrike">
                <a:solidFill>
                  <a:srgbClr val="703dff"/>
                </a:solidFill>
                <a:latin typeface="Sylfae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甲天下</a:t>
            </a:r>
            <a:r>
              <a:rPr b="1" lang="zh-CN" sz="4400" spc="-1" strike="noStrike">
                <a:solidFill>
                  <a:srgbClr val="703dff"/>
                </a:solidFill>
                <a:latin typeface="Sylfae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的意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703dff"/>
                </a:solidFill>
                <a:latin typeface="楷体_GB2312"/>
                <a:ea typeface="楷体_GB2312"/>
              </a:rPr>
              <a:t>、为什么说桂林山水甲天下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258920" y="4653000"/>
            <a:ext cx="61214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甲天下：指天下居第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51970149200906301100391672243411168_009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179280" y="260280"/>
            <a:ext cx="8686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想一想：桂林的水到底是怎样的一幅美景？</a:t>
            </a:r>
            <a:endParaRPr b="1" lang="en-US" sz="3200" spc="1" strike="noStrike">
              <a:ln w="9360">
                <a:solidFill>
                  <a:srgbClr val="0000ff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20080424_6c2db3dd0e7a916d91d4qMy1PSfvqAF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611280" y="5516640"/>
            <a:ext cx="7921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看见过波澜壮阔的大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5dbf10074eb805ee7b89479f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179280" y="189000"/>
            <a:ext cx="72741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玩赏过水平如镜的西湖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20070220200828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755640" y="333360"/>
            <a:ext cx="7129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却没见过漓江这样的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31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7"/>
          <p:cNvSpPr txBox="1"/>
          <p:nvPr/>
        </p:nvSpPr>
        <p:spPr>
          <a:xfrm>
            <a:off x="1692360" y="1989000"/>
            <a:ext cx="5619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想一想：漓江水的特点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3754088_220338005870_2[1]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6"/>
          <p:cNvSpPr/>
          <p:nvPr/>
        </p:nvSpPr>
        <p:spPr>
          <a:xfrm>
            <a:off x="324000" y="260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漓江的水真静啊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得让你感觉不到它在流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3:01:50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9-04T04:43:19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8</vt:lpwstr>
  </property>
</Properties>
</file>