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6.gif" ContentType="image/gif"/>
  <Override PartName="/ppt/media/image17.wmf" ContentType="image/x-wmf"/>
  <Override PartName="/ppt/media/image4.jpeg" ContentType="image/jpeg"/>
  <Override PartName="/ppt/media/image12.jpeg" ContentType="image/jpeg"/>
  <Override PartName="/ppt/media/image7.jpeg" ContentType="image/jpeg"/>
  <Override PartName="/ppt/media/applause.wav" ContentType="audio/x-wav"/>
  <Override PartName="/ppt/media/image23.jpeg" ContentType="image/jpeg"/>
  <Override PartName="/ppt/media/image18.jpeg" ContentType="image/jpeg"/>
  <Override PartName="/ppt/media/image22.jpeg" ContentType="image/jpeg"/>
  <Override PartName="/ppt/media/image20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chimes.wav" ContentType="audio/x-wav"/>
  <Override PartName="/ppt/media/image14.jpeg" ContentType="image/jpeg"/>
  <Override PartName="/ppt/media/image3.jpeg" ContentType="image/jpeg"/>
  <Override PartName="/ppt/media/image1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05EE-B900-45CE-BE67-A4EDCE32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17A-CE3E-42FA-82EE-A673ECBB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3085-6914-4B01-B77E-D9CA3213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3E1-AD1C-4E03-8AC1-2EA49E84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E5EA-96F7-4EB9-871A-4CAC6C1F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D177-944D-4F22-81C6-BA553AE3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FFDC-8A59-4204-8528-6501B92C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B836-7C01-4200-A6E0-DB2E2D1D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2B03-94CA-45B3-BF12-D8E929FD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D55E-4CEE-4F38-BE62-C1C1E095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475A-DF41-47FC-AA0A-2CB25F77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E2EF-0AC0-432F-BAB3-ADB23A4B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9BBB-5642-46A2-A753-24776B1C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047B-0BB5-44C0-9431-3428AED7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73B6-520B-4D62-80E4-F2D89021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2638-8B30-4D00-B274-22786DED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B540-A17C-4094-AE37-EBDDB556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1C4F3-5A4B-457B-BBCF-9CB922E7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B607E-0A2E-4465-9419-E44F29A8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716C3-5D8F-444B-AE8B-63DE9277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64D9-5991-4872-B28B-F58450A0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51328-A64F-497F-BADE-EB8B094D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2B1-9193-4FA9-858B-AF0B22FA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B6C8B-56A6-4549-B166-4FE1B5D5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91EBF-9B96-4CD8-AACE-33E21AA4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41B29-B02E-4754-8AE0-0778F72F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C4447-1B2A-4B25-ACA4-8DDA6F88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204B6-23C8-4D46-8BFC-2895C206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C19E3-61A7-42A2-AE68-458418E2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388A5-1E8F-44F7-84CC-20AB1275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B4D23C-E07E-4A54-86CC-DE7C31B6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FD890B-E81F-4C56-8365-F069A937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898827-9D16-4728-A099-CC58EE81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E064-9669-4CC9-ACF3-DEE70F3C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99B810-3312-4B0F-BC75-934CD131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F4E708-8572-4B44-82FD-5D49FBCB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62FA5A-A1C6-4D03-A71A-0A20D793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5D7DD0-622E-449E-987D-93855E41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3F5896-35C5-43C8-9A4C-1FCA0DFA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2ECB2E-EF6F-4BB2-8F0C-A3C2C455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C554B1-B3B6-43AB-866B-55D02D62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74514-B3AF-4CDA-801D-B6E5F892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81B373-8BF1-4C9B-916B-B26B3D63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C72-CABC-40FA-B7D5-3472597D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8187-77E2-4C72-B3E0-F84E749B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60DB-E856-4CEE-A78F-3EC3213B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897-85D6-442F-80F5-3D32C5F7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91B-39D6-47E7-BF0D-F092BB3D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176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40417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176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40417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176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40417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176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40417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0417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176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40417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176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40417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176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6915-B11C-41FE-B4DF-E3A0E37537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37B8-A4CC-4F40-97C0-0DD938A676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169E-1614-4E3A-865A-A848A12E6A8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E3CF-90F3-40AE-A4BD-D9EE5E83A1C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547640" y="1628640"/>
            <a:ext cx="676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同学们，你散过步吗？曾和谁一起散步？留下过怎样美好的回忆？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43120" y="260280"/>
            <a:ext cx="131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1012320" y="488880"/>
            <a:ext cx="224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词句品析    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77200" y="1828800"/>
            <a:ext cx="4843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作者通过一家三代四口人一起散步这样一件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平常的小事儿，却能反映出“尊老爱幼”这么一 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个重大的主题，这样的写法就是——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        “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以小见大”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找出文中体现“以小见大”的句子。    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1773360"/>
            <a:ext cx="70866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、</a:t>
            </a: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后来发生了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分歧</a:t>
            </a: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:</a:t>
            </a: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母亲要走大路，大路平顺</a:t>
            </a: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;</a:t>
            </a: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我的儿子要走小路，小路有意思。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2</a:t>
            </a: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、我感到了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责任</a:t>
            </a: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的重大。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3</a:t>
            </a: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、我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决定</a:t>
            </a: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委屈儿子。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66ffff"/>
                </a:solidFill>
                <a:latin typeface="Tahoma"/>
                <a:ea typeface="华文隶书"/>
              </a:rPr>
              <a:t>大词小用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Tahoma"/>
                <a:ea typeface="宋体"/>
              </a:rPr>
              <a:t>看图片齐读最后一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55640" y="2636640"/>
            <a:ext cx="7128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11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宋体"/>
              </a:rPr>
              <a:t>思考后面的问题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2627280" y="155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0" y="537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　　这样，我们在阳光下，向着那菜花、桑树和鱼塘走去。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0" y="3352680"/>
            <a:ext cx="89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　   到了一处，我蹲下来，背起了母亲，妻子也蹲下来，背起了儿子。我的母亲虽然高大，然而很瘦，自然不算重；儿子虽然很胖，毕竟幼小，自然也轻。但我和妻子都是慢慢地，稳稳地，走得很仔细，好像我背上的同她背上的加起来，就是整个世界。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676520" y="4495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华康简仿宋"/>
              </a:rPr>
              <a:t>“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0880" y="1371600"/>
            <a:ext cx="7391520" cy="2362320"/>
          </a:xfrm>
          <a:prstGeom prst="wedgeRoundRectCallout">
            <a:avLst>
              <a:gd name="adj1" fmla="val -7023"/>
              <a:gd name="adj2" fmla="val 50671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《散步》能不能换个标题？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思考：换了之后有什么不同？哪个更好？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2120" y="42670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《散步》是意于言外，借散步这件小事来讲述尊老爱幼这个大的道理。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-----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小题大做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cc00cc"/>
                </a:solidFill>
                <a:latin typeface="Tahoma"/>
                <a:ea typeface="隶书"/>
              </a:rPr>
              <a:t>自 主 合 作</a:t>
            </a:r>
            <a:r>
              <a:rPr b="0" i="1" lang="zh-CN" sz="6000" spc="-1" strike="noStrike">
                <a:solidFill>
                  <a:srgbClr val="cc00cc"/>
                </a:solidFill>
                <a:latin typeface="Tahoma"/>
                <a:ea typeface="隶书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380880" y="1143000"/>
            <a:ext cx="8382240" cy="3200400"/>
            <a:chOff x="380880" y="1143000"/>
            <a:chExt cx="8382240" cy="3200400"/>
          </a:xfrm>
        </p:grpSpPr>
        <p:sp>
          <p:nvSpPr>
            <p:cNvPr id="483" name=""/>
            <p:cNvSpPr/>
            <p:nvPr/>
          </p:nvSpPr>
          <p:spPr>
            <a:xfrm>
              <a:off x="457200" y="1219320"/>
              <a:ext cx="8305920" cy="312408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ccffff">
                <a:alpha val="50000"/>
              </a:srgbClr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0880" y="114300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aphicFrame>
        <p:nvGraphicFramePr>
          <p:cNvPr id="485" name=""/>
          <p:cNvGraphicFramePr/>
          <p:nvPr/>
        </p:nvGraphicFramePr>
        <p:xfrm>
          <a:off x="6705720" y="4876920"/>
          <a:ext cx="2178000" cy="155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4876920"/>
                    <a:ext cx="217800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2516400" y="380988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828800" y="2514600"/>
            <a:ext cx="434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71600" y="1981080"/>
            <a:ext cx="4876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为什么说“我背上的同她背上的加起来，就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整个世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”？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48769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以轻衬重，突出了中年人意识到自己承前启后责任的重大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----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大词小用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cc00cc"/>
                </a:solidFill>
                <a:latin typeface="Tahoma"/>
                <a:ea typeface="隶书"/>
              </a:rPr>
              <a:t>自 主 合 作</a:t>
            </a:r>
            <a:r>
              <a:rPr b="0" i="1" lang="zh-CN" sz="6000" spc="-1" strike="noStrike">
                <a:solidFill>
                  <a:srgbClr val="cc00cc"/>
                </a:solidFill>
                <a:latin typeface="Tahoma"/>
                <a:ea typeface="隶书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0" y="0"/>
            <a:ext cx="9144000" cy="6877080"/>
            <a:chOff x="0" y="0"/>
            <a:chExt cx="9144000" cy="68770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 txBox="1"/>
            <p:nvPr/>
          </p:nvSpPr>
          <p:spPr>
            <a:xfrm>
              <a:off x="250920" y="260280"/>
              <a:ext cx="374472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隶书"/>
                </a:rPr>
                <a:t>体验反思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611280" y="1628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由此可见，文章的主题是要告诉我们一个</a:t>
            </a: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什么道理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？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9640" y="3068640"/>
            <a:ext cx="777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如果你们一家人在一起看电视，爷爷奶奶想看戏曲，爸爸想看足球，妈妈想看健身操，你想看动画片，而遥控器在你手中，你觉得应该怎么办？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1116000" y="2492280"/>
            <a:ext cx="6192720" cy="19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鲜花送给你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7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5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4" dur="5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indefinite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-940680" y="762120"/>
            <a:ext cx="11184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交代人物、事件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动员母亲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——散步起因， 爱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气好，母亲风烛残年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初春田野风光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——散步的乐趣，补充动员目的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儿子富有童趣的话                     爱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产生分歧，我的抉择             ——尊老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母亲的决定                 ——爱幼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背负母亲、儿子                        爱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1066680"/>
            <a:ext cx="152280" cy="4572000"/>
          </a:xfrm>
          <a:custGeom>
            <a:avLst/>
            <a:gdLst>
              <a:gd name="textAreaLeft" fmla="*/ 97200 w 152280"/>
              <a:gd name="textAreaRight" fmla="*/ 152640 w 15228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7772400" y="5029200"/>
            <a:ext cx="612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187280" y="693720"/>
            <a:ext cx="496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cc"/>
                </a:solidFill>
                <a:effectLst>
                  <a:outerShdw dist="107932" dir="8100000" blurRad="0" rotWithShape="0">
                    <a:srgbClr val="c7dfd3">
                      <a:alpha val="50000"/>
                    </a:srgbClr>
                  </a:outerShdw>
                </a:effectLst>
                <a:latin typeface="华文行楷"/>
              </a:rPr>
              <a:t>散   步</a:t>
            </a:r>
            <a:endParaRPr b="1" lang="en-US" sz="6000" spc="1" strike="noStrike">
              <a:ln w="9360">
                <a:solidFill>
                  <a:srgbClr val="ff00ff"/>
                </a:solidFill>
                <a:miter/>
              </a:ln>
              <a:solidFill>
                <a:srgbClr val="ff33cc"/>
              </a:solidFill>
              <a:effectLst>
                <a:outerShdw dist="107932" dir="8100000" blurRad="0" rotWithShape="0">
                  <a:srgbClr val="c7dfd3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859280" y="2687760"/>
            <a:ext cx="194472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莫怀戚</a:t>
            </a:r>
            <a:endParaRPr b="1" lang="en-US" sz="2400" spc="1" strike="noStrike">
              <a:ln w="12600">
                <a:solidFill>
                  <a:srgbClr val="ff00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4"/>
          <a:stretch/>
        </p:blipFill>
        <p:spPr>
          <a:xfrm>
            <a:off x="1403280" y="3716280"/>
            <a:ext cx="2951280" cy="11811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6516720" y="51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76720" y="5013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新城中学     康秀炎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 txBox="1"/>
          <p:nvPr/>
        </p:nvSpPr>
        <p:spPr>
          <a:xfrm>
            <a:off x="762120" y="228600"/>
            <a:ext cx="304776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latin typeface="华文行楷"/>
              </a:rPr>
              <a:t>课堂小结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latin typeface="华文行楷"/>
              <a:ea typeface="华文行楷"/>
            </a:endParaRPr>
          </a:p>
        </p:txBody>
      </p:sp>
      <p:sp>
        <p:nvSpPr>
          <p:cNvPr id="505" name=""/>
          <p:cNvSpPr/>
          <p:nvPr/>
        </p:nvSpPr>
        <p:spPr>
          <a:xfrm>
            <a:off x="3048120" y="129528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7c80"/>
                </a:solidFill>
                <a:latin typeface="Times New Roman"/>
                <a:ea typeface="楷体_GB2312"/>
              </a:rPr>
              <a:t>散步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220968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隶书"/>
              </a:rPr>
              <a:t>莫怀戚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73080" y="3284640"/>
            <a:ext cx="898560" cy="459720"/>
            <a:chOff x="73080" y="3284640"/>
            <a:chExt cx="898560" cy="459720"/>
          </a:xfrm>
        </p:grpSpPr>
        <p:sp>
          <p:nvSpPr>
            <p:cNvPr id="508" name=""/>
            <p:cNvSpPr/>
            <p:nvPr/>
          </p:nvSpPr>
          <p:spPr>
            <a:xfrm>
              <a:off x="73080" y="3716280"/>
              <a:ext cx="826920" cy="0"/>
            </a:xfrm>
            <a:prstGeom prst="line">
              <a:avLst/>
            </a:prstGeom>
            <a:ln w="25560">
              <a:solidFill>
                <a:srgbClr val="8383ad"/>
              </a:solidFill>
              <a:prstDash val="lg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6200" y="328464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过去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1152360" y="2997360"/>
            <a:ext cx="3024360" cy="1223640"/>
          </a:xfrm>
          <a:prstGeom prst="rect">
            <a:avLst/>
          </a:prstGeom>
          <a:noFill/>
          <a:ln w="2556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154160" y="3429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母亲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268000" y="3284640"/>
            <a:ext cx="1079640" cy="459720"/>
            <a:chOff x="2268000" y="3284640"/>
            <a:chExt cx="1079640" cy="459720"/>
          </a:xfrm>
        </p:grpSpPr>
        <p:sp>
          <p:nvSpPr>
            <p:cNvPr id="513" name=""/>
            <p:cNvSpPr/>
            <p:nvPr/>
          </p:nvSpPr>
          <p:spPr>
            <a:xfrm flipH="1">
              <a:off x="2268000" y="3692520"/>
              <a:ext cx="1079640" cy="0"/>
            </a:xfrm>
            <a:prstGeom prst="line">
              <a:avLst/>
            </a:prstGeom>
            <a:ln cap="sq" w="3816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58800" y="3284640"/>
              <a:ext cx="88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33"/>
                  </a:solidFill>
                  <a:latin typeface="Times New Roman"/>
                </a:rPr>
                <a:t>尊老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3313080" y="3429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我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　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妻子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21080" y="2997360"/>
            <a:ext cx="3168720" cy="1223640"/>
          </a:xfrm>
          <a:prstGeom prst="rect">
            <a:avLst/>
          </a:prstGeom>
          <a:noFill/>
          <a:ln w="2556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364000" y="3332160"/>
            <a:ext cx="1224000" cy="459720"/>
            <a:chOff x="5364000" y="3332160"/>
            <a:chExt cx="1224000" cy="459720"/>
          </a:xfrm>
        </p:grpSpPr>
        <p:sp>
          <p:nvSpPr>
            <p:cNvPr id="518" name=""/>
            <p:cNvSpPr/>
            <p:nvPr/>
          </p:nvSpPr>
          <p:spPr>
            <a:xfrm>
              <a:off x="5364000" y="3717000"/>
              <a:ext cx="1224000" cy="0"/>
            </a:xfrm>
            <a:prstGeom prst="line">
              <a:avLst/>
            </a:prstGeom>
            <a:ln cap="sq" w="3816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56960" y="333216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33"/>
                  </a:solidFill>
                  <a:latin typeface="Times New Roman"/>
                </a:rPr>
                <a:t>爱幼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6410160" y="3357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儿子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7667640" y="3284640"/>
            <a:ext cx="865080" cy="459720"/>
            <a:chOff x="7667640" y="3284640"/>
            <a:chExt cx="865080" cy="459720"/>
          </a:xfrm>
        </p:grpSpPr>
        <p:sp>
          <p:nvSpPr>
            <p:cNvPr id="522" name=""/>
            <p:cNvSpPr/>
            <p:nvPr/>
          </p:nvSpPr>
          <p:spPr>
            <a:xfrm>
              <a:off x="7705800" y="3716280"/>
              <a:ext cx="826920" cy="0"/>
            </a:xfrm>
            <a:prstGeom prst="line">
              <a:avLst/>
            </a:prstGeom>
            <a:ln w="25560">
              <a:solidFill>
                <a:srgbClr val="8383ad"/>
              </a:solidFill>
              <a:prstDash val="lg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67640" y="328464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未来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800" spc="-1" strike="noStrike">
                <a:solidFill>
                  <a:srgbClr val="0daf34"/>
                </a:solidFill>
                <a:latin typeface="Tahoma"/>
                <a:ea typeface="方正舒体"/>
              </a:rPr>
              <a:t>送你一段话</a:t>
            </a:r>
            <a:r>
              <a:rPr b="0" lang="zh-CN" sz="7800" spc="-1" strike="noStrike">
                <a:solidFill>
                  <a:srgbClr val="ffffff"/>
                </a:solidFill>
                <a:latin typeface="Tahoma"/>
                <a:ea typeface="楷体_GB2312"/>
              </a:rPr>
              <a:t>：</a:t>
            </a:r>
            <a:endParaRPr b="0" lang="en-US" sz="7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-181440" y="1341360"/>
            <a:ext cx="9325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　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　    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  <a:ea typeface="华文新魏"/>
              </a:rPr>
              <a:t>赶快为你的父母尽一份孝心，也许是一处豪宅，也许是一片砖瓦．也许是大洋彼岸的一只鸿雁，也许是近在咫尺的一个口信．也许是一顶纯黑的博士帽，也许是作业本上的满分…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  <a:ea typeface="华文新魏"/>
              </a:rPr>
              <a:t>　　 但在“孝”的天平上，它们等值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五、布置作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459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做课后练习一第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两小题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762120" y="2276640"/>
            <a:ext cx="7619760" cy="401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4419720" y="4648320"/>
            <a:ext cx="304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c600"/>
                </a:solidFill>
                <a:latin typeface="Times New Roman"/>
                <a:ea typeface="华文彩云"/>
              </a:rPr>
              <a:t>再见</a:t>
            </a:r>
            <a:endParaRPr b="0" lang="en-US" sz="9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med">
    <p:circle/>
    <p:sndAc>
      <p:stSnd>
        <p:snd r:embed="rId3" name="applause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0009080" cy="73897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539640" y="692280"/>
            <a:ext cx="8928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隶书"/>
              </a:rPr>
              <a:t>学习目标：</a:t>
            </a: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、学会在生活的小事中感受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亲情之美，生活之美。培养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尊老爱幼的品格。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、学习文章巧妙的构思，体会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文章朴实而耐人寻味的语言风格。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267000" y="1776240"/>
            <a:ext cx="4597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nèn                   qí         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（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）芽           分（   ） 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shà                 lín lín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一 （   ） 时      水波（       ）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08320" y="80640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看拼音写汉字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453400" y="2286000"/>
            <a:ext cx="70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嫩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75640" y="2286000"/>
            <a:ext cx="79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歧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13480" y="3733920"/>
            <a:ext cx="79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21160" y="3733920"/>
            <a:ext cx="12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粼   粼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498320" y="838080"/>
            <a:ext cx="206424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解释下列词语 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90807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信服：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90807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分歧：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90807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各得其所：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90807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07760" y="1905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90807"/>
                </a:solidFill>
                <a:latin typeface="Times New Roman"/>
              </a:rPr>
              <a:t>相信并佩服。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65280" y="3352680"/>
            <a:ext cx="11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90807"/>
                </a:solidFill>
                <a:latin typeface="Times New Roman"/>
              </a:rPr>
              <a:t>（思想、意见等）不一致；有较大差别。 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40160" y="4773600"/>
            <a:ext cx="100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原指各人都得到满足。后指每个人     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或事物都得到恰当的位置或安排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-169920" y="187200"/>
            <a:ext cx="805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听读课文后，思考以下问题   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1066680"/>
            <a:ext cx="6416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、散步的人有：</a:t>
            </a:r>
            <a:r>
              <a:rPr b="1" lang="zh-CN" sz="28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ff00"/>
                </a:solidFill>
                <a:uFillTx/>
                <a:latin typeface="Arial"/>
              </a:rPr>
              <a:t>                 </a:t>
            </a:r>
            <a:r>
              <a:rPr b="1" lang="zh-CN" sz="2800" spc="-1" strike="noStrike" u="sng">
                <a:solidFill>
                  <a:srgbClr val="00ff00"/>
                </a:solidFill>
                <a:uFillTx/>
                <a:latin typeface="Arial"/>
              </a:rPr>
              <a:t>　   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、散步的地点是：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ff00"/>
                </a:solidFill>
                <a:uFillTx/>
                <a:latin typeface="Arial"/>
              </a:rPr>
              <a:t>　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、散步的季节是：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ff00"/>
                </a:solidFill>
                <a:uFillTx/>
                <a:latin typeface="Arial"/>
              </a:rPr>
              <a:t>　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、散步的过程中发生了：</a:t>
            </a:r>
            <a:r>
              <a:rPr b="0" lang="zh-CN" sz="2800" spc="-1" strike="noStrike" u="sng">
                <a:solidFill>
                  <a:srgbClr val="00ff00"/>
                </a:solidFill>
                <a:uFillTx/>
                <a:latin typeface="Arial"/>
              </a:rPr>
              <a:t>　  　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（用原文中的一个词来回答）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、结果：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978800" y="1087560"/>
            <a:ext cx="35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我，我的母亲，我的妻子和儿子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94480" y="1828800"/>
            <a:ext cx="17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南方的田野 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731120" y="28195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初春 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45520" y="36241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分歧 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20360" y="495288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决定走小路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 txBox="1"/>
            <p:nvPr/>
          </p:nvSpPr>
          <p:spPr>
            <a:xfrm>
              <a:off x="468360" y="0"/>
              <a:ext cx="3887640" cy="148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隶书"/>
                </a:rPr>
                <a:t>精读感悟</a:t>
              </a:r>
              <a:endPara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539640" y="2276640"/>
            <a:ext cx="83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你从课文中感受到了什么？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364500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假如让你送一朵花给你</a:t>
            </a:r>
            <a:r>
              <a:rPr b="0" lang="zh-CN" sz="4800" spc="-1" strike="noStrike">
                <a:solidFill>
                  <a:srgbClr val="ffff00"/>
                </a:solidFill>
                <a:latin typeface="华文行楷"/>
                <a:ea typeface="华文行楷"/>
              </a:rPr>
              <a:t>最喜爱的那个人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，你准备送给谁？为什么？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7384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448280" y="325440"/>
            <a:ext cx="210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深入理解   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65240" y="177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08040" y="1393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01000" y="1773360"/>
            <a:ext cx="40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在解决分歧的过程中，谁做得最好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397960" y="2840040"/>
            <a:ext cx="33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你可以看出谁的权力最大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79960" y="3809880"/>
            <a:ext cx="384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家庭成员之间不存在权力的大小， 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他们之间好像构成了一个循环的关系链， 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那是因为有——亲情。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11280" y="0"/>
            <a:ext cx="7993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Arial"/>
                <a:ea typeface="隶书"/>
              </a:rPr>
              <a:t>佳句赏析：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读一读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品一品。找出你最欣赏的语句，看它佳在哪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?</a:t>
            </a:r>
            <a:br>
              <a:rPr sz="4000"/>
            </a:br>
            <a:r>
              <a:rPr b="1" lang="zh-CN" sz="6000" spc="-1" strike="noStrike">
                <a:solidFill>
                  <a:srgbClr val="00ff00"/>
                </a:solidFill>
                <a:latin typeface="Arial"/>
                <a:ea typeface="隶书"/>
              </a:rPr>
              <a:t>老师提示：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 是因为巧用了某种修辞方法；还是运用了特殊的句式；还是因为作者的情感渗透其中？还是含蓄地告诉了人们一个生活的道理，震撼了你的心灵</a:t>
            </a:r>
            <a:r>
              <a:rPr b="0" lang="zh-CN" sz="18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等等。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4T05:36:36Z</dcterms:created>
  <dc:creator>Billgates</dc:creator>
  <dc:description/>
  <dc:language>en-US</dc:language>
  <cp:lastModifiedBy>微软用户</cp:lastModifiedBy>
  <dcterms:modified xsi:type="dcterms:W3CDTF">2009-12-12T12:29:44Z</dcterms:modified>
  <cp:revision>62</cp:revision>
  <dc:subject/>
  <dc:title>PowerPoint 演示文稿</dc:title>
</cp:coreProperties>
</file>