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4.png" ContentType="image/png"/>
  <Override PartName="/ppt/media/image2.jpeg" ContentType="image/jpeg"/>
  <Override PartName="/ppt/media/image3.jpeg" ContentType="image/jpeg"/>
  <Override PartName="/ppt/media/image6.jpeg" ContentType="image/jpeg"/>
  <Override PartName="/ppt/media/chimes.wav" ContentType="audio/x-wav"/>
  <Override PartName="/ppt/media/image16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50CE-33EE-487C-A26A-9E81C5FAD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C8F5-AF8A-48E5-86CD-DCBBB77A6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C677-BE4D-46C5-A7B2-C4B80F83E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3425-5D77-4C37-8C3B-9682C6E8A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EA59E-9D76-4AF4-A0E4-9C08B4993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91752-5BC9-4FE0-809B-446D377E4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E0684-ABEB-427D-A19F-48D852171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A4A4C-CDCD-4154-9DEC-D6A330A1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078AC-708E-43A2-A824-E7229341E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884D0-5252-49E4-907B-4543B6AC7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DCFFF-D350-4196-88B7-61312B35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9275-0094-4700-A8CF-263318D68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2721E-653B-4215-A526-7059A860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0A346-7757-465A-9095-C3F8FD92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7F353-C9E2-4A30-8A89-BBC69AC25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B4C64-86C0-4911-9444-1383416A6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28E67-43BB-4E2E-8FB1-6DB699FA8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0DC9-104A-4A46-9B3B-AFABD7503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37EB-9B12-40BB-93EF-370FFA5D8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6339-1B5B-4EE3-B82F-5A18F4FFD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7FFA-C1CF-45FB-A689-0AB02E7DA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7FEF-E408-4305-B7CB-B46412B4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529A-87AB-4F02-9B81-8531DBD0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D1BF-BBFD-4C9C-8817-3B9732F6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64813-A5FC-4F0B-A313-76D543DD54D1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6BB29-4AB0-4DCB-A587-4812A697E748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image" Target="../media/image8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133720" y="533520"/>
            <a:ext cx="32004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200" spc="-1" strike="noStrike">
                <a:solidFill>
                  <a:srgbClr val="330066"/>
                </a:solidFill>
                <a:latin typeface="Arial"/>
              </a:rPr>
              <a:t>散  步</a:t>
            </a:r>
            <a:endParaRPr b="1" lang="en-US" sz="5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2133720"/>
            <a:ext cx="914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70f30"/>
                </a:solidFill>
                <a:latin typeface="Times New Roman"/>
                <a:ea typeface="华文新魏"/>
              </a:rPr>
              <a:t>莫怀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59436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欧维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f70f30"/>
                </a:solidFill>
                <a:latin typeface="Arial"/>
              </a:rPr>
              <a:t>调皮、活泼可爱、聪明、听话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儿子要走小路，小路有意思”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前面也是妈妈和儿子，后面也是妈妈和儿子”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当“我决定委屈儿子”时，儿子并没有哭闹，对此变现出非常地听话和理解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rId1" action="ppaction://hlinksldjump"/>
          </p:cNvPr>
          <p:cNvSpPr/>
          <p:nvPr/>
        </p:nvSpPr>
        <p:spPr>
          <a:xfrm>
            <a:off x="7010280" y="5715000"/>
            <a:ext cx="1219320" cy="304920"/>
          </a:xfrm>
          <a:custGeom>
            <a:avLst/>
            <a:gdLst>
              <a:gd name="textAreaLeft" fmla="*/ 213120 w 1219320"/>
              <a:gd name="textAreaRight" fmla="*/ 884160 w 121932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772400" y="0"/>
            <a:ext cx="11336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8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8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8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50560" y="980640"/>
            <a:ext cx="6645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6600"/>
                </a:solidFill>
                <a:latin typeface="黑体"/>
                <a:ea typeface="黑体"/>
              </a:rPr>
              <a:t>英国哲学家培根说</a:t>
            </a:r>
            <a:r>
              <a:rPr b="0" lang="zh-CN" sz="4800" spc="-1" strike="noStrike">
                <a:solidFill>
                  <a:srgbClr val="006600"/>
                </a:solidFill>
                <a:latin typeface="黑体"/>
                <a:ea typeface="黑体"/>
              </a:rPr>
              <a:t>: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36360" y="2852640"/>
            <a:ext cx="9144000" cy="36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900" spc="-1" strike="noStrike">
                <a:solidFill>
                  <a:srgbClr val="009900"/>
                </a:solidFill>
                <a:latin typeface="Arial"/>
              </a:rPr>
              <a:t>         </a:t>
            </a:r>
            <a:r>
              <a:rPr b="1" lang="zh-CN" sz="4900" spc="-1" strike="noStrike">
                <a:solidFill>
                  <a:srgbClr val="ff00ff"/>
                </a:solidFill>
                <a:latin typeface="Arial"/>
              </a:rPr>
              <a:t>“</a:t>
            </a:r>
            <a:r>
              <a:rPr b="1" lang="zh-CN" sz="4900" spc="-1" strike="noStrike">
                <a:solidFill>
                  <a:srgbClr val="ff00ff"/>
                </a:solidFill>
                <a:latin typeface="Arial"/>
              </a:rPr>
              <a:t>哺育子女是动物也有的本能，赡养父母才是人类的文化之举，这个，全世界数中国人做得最好。”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881760" y="0"/>
            <a:ext cx="226224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3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3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5"/>
          <p:cNvSpPr/>
          <p:nvPr/>
        </p:nvSpPr>
        <p:spPr>
          <a:xfrm>
            <a:off x="1402200" y="204156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散步（分歧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6"/>
          <p:cNvSpPr/>
          <p:nvPr/>
        </p:nvSpPr>
        <p:spPr>
          <a:xfrm>
            <a:off x="3962520" y="25146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6182640" y="201456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尊老爱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8"/>
          <p:cNvSpPr/>
          <p:nvPr/>
        </p:nvSpPr>
        <p:spPr>
          <a:xfrm>
            <a:off x="2057400" y="2666880"/>
            <a:ext cx="0" cy="137160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9"/>
          <p:cNvSpPr/>
          <p:nvPr/>
        </p:nvSpPr>
        <p:spPr>
          <a:xfrm>
            <a:off x="6858000" y="2743200"/>
            <a:ext cx="0" cy="137160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1824120" y="40622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1"/>
          <p:cNvSpPr/>
          <p:nvPr/>
        </p:nvSpPr>
        <p:spPr>
          <a:xfrm>
            <a:off x="2666880" y="4495680"/>
            <a:ext cx="3657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3589560" y="380988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  <a:ea typeface="隶书"/>
              </a:rPr>
              <a:t>中   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3"/>
          <p:cNvSpPr/>
          <p:nvPr/>
        </p:nvSpPr>
        <p:spPr>
          <a:xfrm>
            <a:off x="6556320" y="39466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黑体"/>
              </a:rPr>
              <a:t>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038480" y="5181480"/>
            <a:ext cx="11527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孝</a:t>
            </a:r>
            <a:endParaRPr b="1" lang="en-US" sz="4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209" name=""/>
          <p:cNvSpPr/>
          <p:nvPr/>
        </p:nvSpPr>
        <p:spPr>
          <a:xfrm>
            <a:off x="2514600" y="4952880"/>
            <a:ext cx="13716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5333760" y="4800600"/>
            <a:ext cx="11430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5"/>
          <p:cNvSpPr/>
          <p:nvPr/>
        </p:nvSpPr>
        <p:spPr>
          <a:xfrm>
            <a:off x="228600" y="2743200"/>
            <a:ext cx="864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　　这个细节大有深远的象征意义，“世界”这个词是大词小用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突出了中年人的责任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既要赡养老一代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又要抚养下一代 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, 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肩负着承前启后的重大使命 。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1023840" y="1274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152280" y="0"/>
            <a:ext cx="851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Verdana"/>
                <a:ea typeface="幼圆"/>
              </a:rPr>
              <a:t>品读语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Verdana"/>
                <a:ea typeface="幼圆"/>
              </a:rPr>
              <a:t>为什么把我背母亲，妻子背儿子说成是背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Verdana"/>
                <a:ea typeface="幼圆"/>
              </a:rPr>
              <a:t>着“整个世界”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9" descr="图7"/>
          <p:cNvPicPr/>
          <p:nvPr/>
        </p:nvPicPr>
        <p:blipFill>
          <a:blip r:embed="rId1"/>
          <a:stretch/>
        </p:blipFill>
        <p:spPr>
          <a:xfrm>
            <a:off x="5867280" y="4429080"/>
            <a:ext cx="2592360" cy="2428920"/>
          </a:xfrm>
          <a:prstGeom prst="rect">
            <a:avLst/>
          </a:prstGeom>
          <a:ln w="0">
            <a:noFill/>
          </a:ln>
        </p:spPr>
      </p:pic>
      <p:sp>
        <p:nvSpPr>
          <p:cNvPr id="215" name="WordArt 10"/>
          <p:cNvSpPr txBox="1"/>
          <p:nvPr/>
        </p:nvSpPr>
        <p:spPr>
          <a:xfrm>
            <a:off x="7620120" y="4800600"/>
            <a:ext cx="1350720" cy="525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宋体"/>
              </a:rPr>
              <a:t>我会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宋体"/>
              <a:ea typeface="宋体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8001000" y="0"/>
            <a:ext cx="914400" cy="25146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ff00ff"/>
                </a:solidFill>
                <a:latin typeface="Arial"/>
              </a:rPr>
              <a:t>联系生活，诗意表达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请同学根据学习体会和自己的生活体验，以</a:t>
            </a:r>
            <a:r>
              <a:rPr b="1" lang="zh-CN" sz="3600" spc="-1" strike="noStrike">
                <a:solidFill>
                  <a:srgbClr val="f70f30"/>
                </a:solidFill>
                <a:latin typeface="Arial"/>
              </a:rPr>
              <a:t>“家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主题进行仿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70f30"/>
                </a:solidFill>
                <a:latin typeface="Arial"/>
              </a:rPr>
              <a:t>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家，是</a:t>
            </a:r>
            <a:r>
              <a:rPr b="1" lang="zh-CN" sz="3600" spc="-1" strike="noStrike" u="sng">
                <a:solidFill>
                  <a:srgbClr val="f70f30"/>
                </a:solidFill>
                <a:uFillTx/>
                <a:latin typeface="Arial"/>
              </a:rPr>
              <a:t>一个幸福的摇篮，老人孩子都怡然自乐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869240" y="0"/>
            <a:ext cx="12747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家，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家，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438280" y="182880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70f30"/>
                </a:solidFill>
                <a:uFillTx/>
                <a:latin typeface="Arial"/>
              </a:rPr>
              <a:t>一副沉重的担子，需要我们每个人用责任来担当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38280" y="3733920"/>
            <a:ext cx="609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70f30"/>
                </a:solidFill>
                <a:uFillTx/>
                <a:latin typeface="Arial"/>
              </a:rPr>
              <a:t>一根生命的链条，老年、中年、幼年，生命就像永远也达不到终点的接力棒，代代相传，繁衍不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7869240" y="0"/>
            <a:ext cx="12747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1409400" cy="17650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787320" y="9079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30360" y="40053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住我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3124080" y="838080"/>
            <a:ext cx="4800600" cy="563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04920" y="990720"/>
            <a:ext cx="56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亲爱的同学们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家，是一个幸福的摇篮，需要我们用心灵来呵护。 家，更是一副沉沉的担子，需要我们每个人用责任来担当。只有这样，我们才能撑起一片爱的天空，营造一个幸福的家园。最后送给大家一副对联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6172200" y="4595760"/>
            <a:ext cx="2971800" cy="22622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7869240" y="0"/>
            <a:ext cx="12747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169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6462000" y="801720"/>
            <a:ext cx="1399320" cy="5867280"/>
          </a:xfrm>
          <a:prstGeom prst="rect">
            <a:avLst/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全家四口早春散步互谦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283400" y="801720"/>
            <a:ext cx="1399320" cy="5867280"/>
          </a:xfrm>
          <a:prstGeom prst="rect">
            <a:avLst/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祖孙三代风雨人生相依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708360" y="142920"/>
            <a:ext cx="2521080" cy="764280"/>
          </a:xfrm>
          <a:prstGeom prst="rect">
            <a:avLst/>
          </a:prstGeom>
          <a:solidFill>
            <a:srgbClr val="ff00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相亲相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2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3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304920" y="12952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70f30"/>
                </a:solidFill>
                <a:latin typeface="Arial"/>
              </a:rPr>
              <a:t>小结：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本文通过 选取祖孙三代一家人在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野散步这个生活侧面，生动地展示了一家人互敬互爱、和睦相处的深厚感情和 生活情趣，体现中华民族敬老爱幼的传统美德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42840" y="456840"/>
            <a:ext cx="2895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330066"/>
                </a:solidFill>
                <a:latin typeface="Arial"/>
              </a:rPr>
              <a:t>帮妈妈洗脚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129528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70f30"/>
                </a:solidFill>
                <a:latin typeface="Arial"/>
              </a:rPr>
              <a:t>看公益广告，您感受到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1981080" y="2438280"/>
            <a:ext cx="525780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3152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700360" y="2852640"/>
            <a:ext cx="487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我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504760" y="3500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219640" y="29242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母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292720" y="42210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儿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067280" y="3716280"/>
            <a:ext cx="79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843280" y="422100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妻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556000" y="3645000"/>
            <a:ext cx="458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843280" y="357336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564000" y="5084640"/>
            <a:ext cx="2133360" cy="1524240"/>
          </a:xfrm>
          <a:custGeom>
            <a:avLst/>
            <a:gdLst>
              <a:gd name="textAreaLeft" fmla="*/ 501120 w 2133360"/>
              <a:gd name="textAreaRight" fmla="*/ 1630440 w 2133360"/>
              <a:gd name="textAreaTop" fmla="*/ 178920 h 1524240"/>
              <a:gd name="textAreaBottom" fmla="*/ 956160 h 15242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979640" y="57340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隶书"/>
              </a:rPr>
              <a:t>尊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580000" y="566100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隶书"/>
              </a:rPr>
              <a:t>爱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5640" y="476280"/>
            <a:ext cx="374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板书设计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419640" y="1413000"/>
            <a:ext cx="161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散  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643280" y="2205000"/>
            <a:ext cx="14004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楷体"/>
              </a:rPr>
              <a:t>莫怀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04920" y="304920"/>
            <a:ext cx="7942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ff00ff"/>
                </a:solidFill>
                <a:latin typeface="黑体"/>
                <a:ea typeface="黑体"/>
              </a:rPr>
              <a:t>课后作业</a:t>
            </a:r>
            <a:r>
              <a:rPr b="1" lang="zh-CN" sz="3900" spc="-1" strike="noStrike">
                <a:solidFill>
                  <a:srgbClr val="ff00ff"/>
                </a:solidFill>
                <a:latin typeface="黑体"/>
                <a:ea typeface="黑体"/>
              </a:rPr>
              <a:t>   </a:t>
            </a:r>
            <a:r>
              <a:rPr b="0" lang="zh-CN" sz="3900" spc="-1" strike="noStrike">
                <a:solidFill>
                  <a:srgbClr val="ff00ff"/>
                </a:solidFill>
                <a:latin typeface="黑体"/>
                <a:ea typeface="黑体"/>
              </a:rPr>
              <a:t>真行实感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90720" y="2362320"/>
            <a:ext cx="66974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8000"/>
                </a:solidFill>
                <a:latin typeface="Arial"/>
              </a:rPr>
              <a:t>1</a:t>
            </a:r>
            <a:r>
              <a:rPr b="1" lang="zh-CN" sz="3900" spc="-1" strike="noStrike">
                <a:solidFill>
                  <a:srgbClr val="008000"/>
                </a:solidFill>
                <a:latin typeface="Arial"/>
              </a:rPr>
              <a:t>、</a:t>
            </a:r>
            <a:r>
              <a:rPr b="1" lang="zh-CN" sz="3900" spc="-1" strike="noStrike">
                <a:solidFill>
                  <a:srgbClr val="008000"/>
                </a:solidFill>
                <a:latin typeface="黑体"/>
                <a:ea typeface="黑体"/>
              </a:rPr>
              <a:t>真行：</a:t>
            </a:r>
            <a:r>
              <a:rPr b="0" lang="zh-CN" sz="3400" spc="-1" strike="noStrike">
                <a:solidFill>
                  <a:srgbClr val="f70f30"/>
                </a:solidFill>
                <a:latin typeface="Arial"/>
              </a:rPr>
              <a:t>为你的长辈做一件你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70f30"/>
                </a:solidFill>
                <a:latin typeface="Arial"/>
              </a:rPr>
              <a:t>     </a:t>
            </a:r>
            <a:r>
              <a:rPr b="0" lang="zh-CN" sz="3400" spc="-1" strike="noStrike">
                <a:solidFill>
                  <a:srgbClr val="f70f30"/>
                </a:solidFill>
                <a:latin typeface="Arial"/>
              </a:rPr>
              <a:t>力所能及的事</a:t>
            </a:r>
            <a:r>
              <a:rPr b="0" lang="zh-CN" sz="3400" spc="-1" strike="noStrike">
                <a:solidFill>
                  <a:srgbClr val="ff00ff"/>
                </a:solidFill>
                <a:latin typeface="Arial"/>
              </a:rPr>
              <a:t>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38080" y="4191120"/>
            <a:ext cx="7021800" cy="13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8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8000"/>
                </a:solidFill>
                <a:latin typeface="黑体"/>
                <a:ea typeface="黑体"/>
              </a:rPr>
              <a:t>、实感：</a:t>
            </a:r>
            <a:r>
              <a:rPr b="0" lang="zh-CN" sz="3600" spc="-1" strike="noStrike">
                <a:solidFill>
                  <a:srgbClr val="f70f30"/>
                </a:solidFill>
                <a:latin typeface="Arial"/>
              </a:rPr>
              <a:t>将这一过程及真实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70f30"/>
                </a:solidFill>
                <a:latin typeface="Arial"/>
              </a:rPr>
              <a:t>      </a:t>
            </a:r>
            <a:r>
              <a:rPr b="0" lang="zh-CN" sz="3600" spc="-1" strike="noStrike">
                <a:solidFill>
                  <a:srgbClr val="f70f30"/>
                </a:solidFill>
                <a:latin typeface="Arial"/>
              </a:rPr>
              <a:t>受写成一篇</a:t>
            </a:r>
            <a:r>
              <a:rPr b="0" lang="zh-CN" sz="3600" spc="-1" strike="noStrike">
                <a:solidFill>
                  <a:srgbClr val="f70f30"/>
                </a:solidFill>
                <a:latin typeface="Arial"/>
              </a:rPr>
              <a:t>300</a:t>
            </a:r>
            <a:r>
              <a:rPr b="0" lang="zh-CN" sz="3600" spc="-1" strike="noStrike">
                <a:solidFill>
                  <a:srgbClr val="f70f30"/>
                </a:solidFill>
                <a:latin typeface="Arial"/>
              </a:rPr>
              <a:t>字左右的短文</a:t>
            </a:r>
            <a:r>
              <a:rPr b="0" lang="zh-CN" sz="3600" spc="-1" strike="noStrike">
                <a:solidFill>
                  <a:srgbClr val="ff00ff"/>
                </a:solidFill>
                <a:latin typeface="Arial"/>
              </a:rPr>
              <a:t>。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7869240" y="0"/>
            <a:ext cx="12747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4724280" y="5105520"/>
            <a:ext cx="358164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latin typeface="宋体"/>
              </a:rPr>
              <a:t>谢谢</a:t>
            </a:r>
            <a:endParaRPr b="1" lang="en-US" sz="4400" spc="1" strike="noStrike">
              <a:ln w="9360">
                <a:solidFill>
                  <a:srgbClr val="ff0000"/>
                </a:solidFill>
                <a:miter/>
              </a:ln>
              <a:solidFill>
                <a:srgbClr val="00ff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13" descr="UE-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2"/>
          <p:cNvSpPr/>
          <p:nvPr/>
        </p:nvSpPr>
        <p:spPr>
          <a:xfrm>
            <a:off x="395280" y="18828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给划线的汉字注音。</a:t>
            </a:r>
            <a:r>
              <a:rPr b="1" lang="zh-CN" sz="3600" spc="-1" strike="noStrike">
                <a:solidFill>
                  <a:srgbClr val="669999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755640" y="623160"/>
            <a:ext cx="5256360" cy="60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分歧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信服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拆散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霎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     ）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水波粼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粼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嫩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     ）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熬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     ）过</a:t>
            </a:r>
            <a:r>
              <a:rPr b="1" lang="zh-CN" sz="3600" spc="-1" strike="noStrike">
                <a:solidFill>
                  <a:srgbClr val="d8d8ec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2222640" y="765000"/>
            <a:ext cx="198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fēn  q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2381400" y="1492200"/>
            <a:ext cx="219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xìn  f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2000160" y="2205000"/>
            <a:ext cx="242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chāi  sà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1763640" y="3003480"/>
            <a:ext cx="15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sh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3276720" y="37242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lí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1785960" y="4443480"/>
            <a:ext cx="14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nè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0"/>
          <p:cNvSpPr/>
          <p:nvPr/>
        </p:nvSpPr>
        <p:spPr>
          <a:xfrm>
            <a:off x="1884240" y="5229360"/>
            <a:ext cx="103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á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0000ff"/>
                </a:solidFill>
                <a:latin typeface="Arial"/>
              </a:rPr>
              <a:t>词义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286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分歧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委屈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水波粼粼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各得其所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981080" y="16002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70f30"/>
                </a:solidFill>
                <a:latin typeface="Arial"/>
              </a:rPr>
              <a:t>（思想、意思、记载等等）不一致，有差别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2743200"/>
            <a:ext cx="6324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70f30"/>
                </a:solidFill>
                <a:latin typeface="Arial"/>
              </a:rPr>
              <a:t>受到不应有的指责或待遇，心里难过，这里是指使儿子受到委屈的意思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819520" y="403848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70f30"/>
                </a:solidFill>
                <a:latin typeface="Arial"/>
              </a:rPr>
              <a:t>形容水波十分明净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819520" y="51055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70f30"/>
                </a:solidFill>
                <a:latin typeface="Arial"/>
              </a:rPr>
              <a:t>每一个人或者事物都得到合适的安排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在一次散步中发生了分歧，在一家人的 相互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理解、相互尊重，相互包容，共同走向那条开满金色菜花，长着整齐桑树，闪着粼粼水波的 幸福小路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文章通过这么一件</a:t>
            </a:r>
            <a:r>
              <a:rPr b="1" lang="zh-CN" sz="3000" spc="-1" strike="noStrike">
                <a:solidFill>
                  <a:srgbClr val="f70f30"/>
                </a:solidFill>
                <a:latin typeface="Arial"/>
              </a:rPr>
              <a:t>小事表现大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的主题 </a:t>
            </a:r>
            <a:r>
              <a:rPr b="1" lang="zh-CN" sz="3600" spc="-1" strike="noStrike">
                <a:solidFill>
                  <a:srgbClr val="f70f30"/>
                </a:solidFill>
                <a:latin typeface="Arial"/>
              </a:rPr>
              <a:t>——“孝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8007480" y="0"/>
            <a:ext cx="113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3"/>
          <p:cNvSpPr/>
          <p:nvPr/>
        </p:nvSpPr>
        <p:spPr>
          <a:xfrm>
            <a:off x="1752480" y="304920"/>
            <a:ext cx="45720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1104120" y="475560"/>
            <a:ext cx="369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听读课文　整体感知：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395280" y="2133720"/>
            <a:ext cx="8291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Verdana"/>
                <a:ea typeface="幼圆"/>
              </a:rPr>
              <a:t>要求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Verdana"/>
                <a:ea typeface="幼圆"/>
              </a:rPr>
              <a:t>     </a:t>
            </a:r>
            <a:r>
              <a:rPr b="1" lang="zh-CN" sz="4000" spc="-1" strike="noStrike">
                <a:solidFill>
                  <a:srgbClr val="0000ff"/>
                </a:solidFill>
                <a:latin typeface="Verdana"/>
                <a:ea typeface="幼圆"/>
              </a:rPr>
              <a:t>1.</a:t>
            </a:r>
            <a:r>
              <a:rPr b="1" lang="zh-CN" sz="4000" spc="-1" strike="noStrike">
                <a:solidFill>
                  <a:srgbClr val="0000ff"/>
                </a:solidFill>
                <a:latin typeface="Verdana"/>
                <a:ea typeface="幼圆"/>
              </a:rPr>
              <a:t>划出生字新词和词义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Verdana"/>
                <a:ea typeface="幼圆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Verdana"/>
                <a:ea typeface="幼圆"/>
              </a:rPr>
              <a:t>     </a:t>
            </a:r>
            <a:r>
              <a:rPr b="1" lang="zh-CN" sz="4000" spc="-1" strike="noStrike">
                <a:solidFill>
                  <a:srgbClr val="0000ff"/>
                </a:solidFill>
                <a:latin typeface="Verdana"/>
                <a:ea typeface="幼圆"/>
              </a:rPr>
              <a:t>2.</a:t>
            </a:r>
            <a:r>
              <a:rPr b="1" lang="zh-CN" sz="4000" spc="-1" strike="noStrike">
                <a:solidFill>
                  <a:srgbClr val="0000ff"/>
                </a:solidFill>
                <a:latin typeface="Verdana"/>
                <a:ea typeface="幼圆"/>
              </a:rPr>
              <a:t>想一想，课文写了哪些人物？     写了一件什么事，结果如何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6553080" y="548640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235784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0" descr="UE-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3"/>
          <p:cNvSpPr/>
          <p:nvPr/>
        </p:nvSpPr>
        <p:spPr>
          <a:xfrm>
            <a:off x="304920" y="1268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A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、散步的人有：</a:t>
            </a:r>
            <a:r>
              <a:rPr b="0" lang="zh-CN" sz="3600" spc="-1" strike="noStrike" u="sng">
                <a:solidFill>
                  <a:srgbClr val="0000ff"/>
                </a:solidFill>
                <a:uFillTx/>
                <a:latin typeface="Times New Roman"/>
                <a:ea typeface="幼圆"/>
              </a:rPr>
              <a:t>　　　            　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4140360" y="129528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母亲、我、妻子、儿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4356000" y="21337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田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4427640" y="299736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初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5638680" y="4038480"/>
            <a:ext cx="1524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分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949680" y="403920"/>
            <a:ext cx="145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幼圆"/>
              </a:rPr>
              <a:t>快速抢答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2438280" y="6019920"/>
            <a:ext cx="53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</a:rPr>
              <a:t>一家人在田野里温馨地散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968040" y="5943600"/>
            <a:ext cx="87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Verdana"/>
                <a:ea typeface="幼圆"/>
              </a:rPr>
              <a:t>F</a:t>
            </a:r>
            <a:r>
              <a:rPr b="0" lang="zh-CN" sz="3600" spc="-1" strike="noStrike">
                <a:solidFill>
                  <a:srgbClr val="0000ff"/>
                </a:solidFill>
                <a:latin typeface="Verdana"/>
                <a:ea typeface="幼圆"/>
              </a:rPr>
              <a:t>、结局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幼圆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3"/>
          <p:cNvSpPr/>
          <p:nvPr/>
        </p:nvSpPr>
        <p:spPr>
          <a:xfrm>
            <a:off x="1944360" y="2101680"/>
            <a:ext cx="263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B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、散步的地点是：</a:t>
            </a:r>
            <a:r>
              <a:rPr b="0" lang="zh-CN" sz="3600" spc="-1" strike="noStrike" u="sng">
                <a:solidFill>
                  <a:srgbClr val="0000ff"/>
                </a:solidFill>
                <a:uFillTx/>
                <a:latin typeface="Times New Roman"/>
                <a:ea typeface="幼圆"/>
              </a:rPr>
              <a:t>　　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4"/>
          <p:cNvSpPr/>
          <p:nvPr/>
        </p:nvSpPr>
        <p:spPr>
          <a:xfrm>
            <a:off x="1944360" y="2970360"/>
            <a:ext cx="217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C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、散步的季节是：</a:t>
            </a:r>
            <a:r>
              <a:rPr b="0" lang="zh-CN" sz="3600" spc="-1" strike="noStrike" u="sng">
                <a:solidFill>
                  <a:srgbClr val="0000ff"/>
                </a:solidFill>
                <a:uFillTx/>
                <a:latin typeface="Times New Roman"/>
                <a:ea typeface="幼圆"/>
              </a:rPr>
              <a:t>　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5"/>
          <p:cNvSpPr/>
          <p:nvPr/>
        </p:nvSpPr>
        <p:spPr>
          <a:xfrm>
            <a:off x="2738160" y="4648320"/>
            <a:ext cx="16923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E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、散步的过程中发生了：</a:t>
            </a:r>
            <a:r>
              <a:rPr b="0" lang="zh-CN" sz="3600" spc="-1" strike="noStrike" u="sng">
                <a:solidFill>
                  <a:srgbClr val="0000ff"/>
                </a:solidFill>
                <a:uFillTx/>
                <a:latin typeface="Times New Roman"/>
                <a:ea typeface="幼圆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（用原文中的一个词来回答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380988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、记叙的事情是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343400" y="38862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70f30"/>
                </a:solidFill>
                <a:latin typeface="Arial"/>
              </a:rPr>
              <a:t>祖孙三代初春在田野里散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8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572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ff"/>
                </a:solidFill>
                <a:latin typeface="Arial"/>
              </a:rPr>
              <a:t>合作探究，理解亲情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假如您有一束美丽的花，请您把它送给文中的某个人物，并请说说理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143000"/>
            <a:ext cx="571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70f30"/>
                </a:solidFill>
                <a:latin typeface="Arial"/>
              </a:rPr>
              <a:t>鲜花献给可敬的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133720" y="3124080"/>
            <a:ext cx="4876560" cy="37339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7848720" y="0"/>
            <a:ext cx="1133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7e9ce8"/>
                </a:solidFill>
                <a:uFillTx/>
                <a:latin typeface="Arial"/>
                <a:hlinkClick r:id="rId1" action="ppaction://hlinksldjump"/>
              </a:rPr>
              <a:t>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7e9ce8"/>
                </a:solidFill>
                <a:uFillTx/>
                <a:latin typeface="Arial"/>
                <a:hlinkClick r:id="rId2" action="ppaction://hlinksldjump"/>
              </a:rPr>
              <a:t>母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7e9ce8"/>
                </a:solidFill>
                <a:uFillTx/>
                <a:latin typeface="Arial"/>
                <a:hlinkClick r:id="rId3" action="ppaction://hlinksldjump"/>
              </a:rPr>
              <a:t>妻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7e9ce8"/>
                </a:solidFill>
                <a:uFillTx/>
                <a:latin typeface="Arial"/>
                <a:hlinkClick r:id="rId4" action="ppaction://hlinksldjump"/>
              </a:rPr>
              <a:t>儿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2819520" y="1447920"/>
            <a:ext cx="5105160" cy="41148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6"/>
          <a:stretch/>
        </p:blipFill>
        <p:spPr>
          <a:xfrm>
            <a:off x="8010360" y="0"/>
            <a:ext cx="11336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6854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70f30"/>
                </a:solidFill>
                <a:latin typeface="Arial"/>
              </a:rPr>
              <a:t>孝敬、有家庭责任感、讲原则、不宠爱孩子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文中的“我”是上有老，下有小，要照顾两头的中年男人。在处理家庭矛盾时候，有时可以兼顾两头，但有时无无法兼顾两头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如文中是走大路还是走小路，无法“两全”，只能顾一头的时候，那么顾那一头呢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决定委屈儿子”就是要顾老一头。</a:t>
            </a:r>
            <a:r>
              <a:rPr b="1" lang="zh-CN" sz="3000" spc="-1" strike="noStrike">
                <a:solidFill>
                  <a:srgbClr val="f70f30"/>
                </a:solidFill>
                <a:latin typeface="Arial"/>
              </a:rPr>
              <a:t>因为陪伴儿子的时间还长，但父母风烛残年，尽孝心的时间不多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所以这里有个家庭伦理道德准则：上有老，下有下，两头无法兼顾时，应该</a:t>
            </a:r>
            <a:r>
              <a:rPr b="1" lang="zh-CN" sz="3000" spc="-1" strike="noStrike">
                <a:solidFill>
                  <a:srgbClr val="f70f30"/>
                </a:solidFill>
                <a:latin typeface="Arial"/>
              </a:rPr>
              <a:t>顾老一头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>
            <a:hlinkClick r:id="rId1" action="ppaction://hlinksldjump"/>
          </p:cNvPr>
          <p:cNvSpPr/>
          <p:nvPr/>
        </p:nvSpPr>
        <p:spPr>
          <a:xfrm>
            <a:off x="8077320" y="6172200"/>
            <a:ext cx="761760" cy="457200"/>
          </a:xfrm>
          <a:custGeom>
            <a:avLst/>
            <a:gdLst>
              <a:gd name="textAreaLeft" fmla="*/ 133200 w 761760"/>
              <a:gd name="textAreaRight" fmla="*/ 552240 w 76176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8010360" y="0"/>
            <a:ext cx="11336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f70f30"/>
                </a:solidFill>
                <a:latin typeface="Arial"/>
              </a:rPr>
              <a:t>谦让、疼爱孙子、善解人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即使自己行动多不方便，也宠爱孙子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她现在很听我的话，就像我小时候很听她的话一样” ——信赖儿子，尊重儿子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但是母亲摸摸孙子的小脑袋，变了主意：“还 是走小路吧！”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rId1" action="ppaction://hlinksldjump"/>
          </p:cNvPr>
          <p:cNvSpPr/>
          <p:nvPr/>
        </p:nvSpPr>
        <p:spPr>
          <a:xfrm>
            <a:off x="7238880" y="6095880"/>
            <a:ext cx="1067040" cy="457200"/>
          </a:xfrm>
          <a:custGeom>
            <a:avLst/>
            <a:gdLst>
              <a:gd name="textAreaLeft" fmla="*/ 186480 w 1067040"/>
              <a:gd name="textAreaRight" fmla="*/ 773640 w 106704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848720" y="0"/>
            <a:ext cx="1133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f70f30"/>
                </a:solidFill>
                <a:latin typeface="Arial"/>
              </a:rPr>
              <a:t>贤良、孝顺、家庭责任感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在外面，她总是听我的”——贤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当“我决定委屈儿子”，妻子没有丝毫的执着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我蹲下，背起母亲，妻子也蹲下来，背起了儿子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>
            <a:hlinkClick r:id="rId1" action="ppaction://hlinksldjump"/>
          </p:cNvPr>
          <p:cNvSpPr/>
          <p:nvPr/>
        </p:nvSpPr>
        <p:spPr>
          <a:xfrm>
            <a:off x="6705720" y="5791320"/>
            <a:ext cx="1447560" cy="609480"/>
          </a:xfrm>
          <a:custGeom>
            <a:avLst/>
            <a:gdLst>
              <a:gd name="textAreaLeft" fmla="*/ 253080 w 1447560"/>
              <a:gd name="textAreaRight" fmla="*/ 1049400 w 144756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0"/>
            <a:ext cx="12193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1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10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12-21T08:37:56Z</dcterms:modified>
  <cp:revision>1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