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A63-07C0-4477-B2C4-2D048C66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F7F-78F6-43E1-8388-F0F57148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6E2-2749-43C4-9BDF-FC0ABABF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98B-7CEE-42F4-A7D7-FDE7865A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AF57-8820-4526-BD0D-684B295F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5D12-0F92-4F42-9D21-D7E49B5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4758-2CAA-4478-8BF1-9BC3E5C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1621-290F-41BA-B980-BED629D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3B18-B937-4A76-95C9-2A93B05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ECF9-060F-472D-8303-1A63FCF4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F4B6-C709-4C72-9C2F-E23EFD55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8D5-5E72-4405-AA23-7CC3E0CC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AECE-B1CA-4A29-81E6-175AFE2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C8A-0940-4AE2-B8B9-E3350124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BAA0-3D9A-4CC3-A6C7-B657494A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40B6-5B12-4E15-B031-B652BF33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EA69-DBFF-490C-80FD-8389E7C7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F40-0D60-4C97-AC1E-AD4678F2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E4C6-4EF8-40B5-830F-DCCBA72F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585-C637-4446-A5C7-0C38967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52C1-4431-4F49-8AF5-BE6EE541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7ED-4100-4170-A6A9-61B5B04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238-9B5C-48DF-A883-17F01942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23F-48FC-4AF6-94A9-EB0F8B31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9BA1-D49A-41AC-B7AD-A4DD71DEB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C1D1-32A2-4031-83E5-E1AFB56FFA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2010060610273920727dbf-a2d2-436e-8e63-d1536a289165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石宝寨"/>
          <p:cNvPicPr/>
          <p:nvPr/>
        </p:nvPicPr>
        <p:blipFill>
          <a:blip r:embed="rId1"/>
          <a:stretch/>
        </p:blipFill>
        <p:spPr>
          <a:xfrm>
            <a:off x="2133720" y="152280"/>
            <a:ext cx="6172200" cy="6553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212920" y="2057400"/>
            <a:ext cx="1003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石宝寨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121028843963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37ffbf18e78ce4be4bedbc8c"/>
          <p:cNvPicPr/>
          <p:nvPr/>
        </p:nvPicPr>
        <p:blipFill>
          <a:blip r:embed="rId1"/>
          <a:stretch/>
        </p:blipFill>
        <p:spPr>
          <a:xfrm>
            <a:off x="0" y="0"/>
            <a:ext cx="9144000" cy="6566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slf神女峰"/>
          <p:cNvPicPr/>
          <p:nvPr/>
        </p:nvPicPr>
        <p:blipFill>
          <a:blip r:embed="rId1"/>
          <a:stretch/>
        </p:blipFill>
        <p:spPr>
          <a:xfrm>
            <a:off x="2057400" y="228600"/>
            <a:ext cx="5486400" cy="6324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c6c773cdeb7f133492457e9c"/>
          <p:cNvPicPr/>
          <p:nvPr/>
        </p:nvPicPr>
        <p:blipFill>
          <a:blip r:embed="rId1"/>
          <a:stretch/>
        </p:blipFill>
        <p:spPr>
          <a:xfrm>
            <a:off x="-455760" y="-60804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16" name="矩形 1" descr=""/>
          <p:cNvPicPr/>
          <p:nvPr/>
        </p:nvPicPr>
        <p:blipFill>
          <a:blip r:embed="rId2"/>
          <a:stretch/>
        </p:blipFill>
        <p:spPr>
          <a:xfrm>
            <a:off x="4194000" y="1146240"/>
            <a:ext cx="3571920" cy="14446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143000" y="76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地图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1_2008110823353429Q2s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山峡大坝"/>
          <p:cNvPicPr/>
          <p:nvPr/>
        </p:nvPicPr>
        <p:blipFill>
          <a:blip r:embed="rId1"/>
          <a:stretch/>
        </p:blipFill>
        <p:spPr>
          <a:xfrm>
            <a:off x="-189000" y="-141120"/>
            <a:ext cx="9523440" cy="7142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409680"/>
            <a:ext cx="854064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华文新魏"/>
              </a:rPr>
              <a:t>三峡工程六大好处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cc"/>
                </a:solidFill>
                <a:latin typeface="仿宋_GB2312"/>
                <a:ea typeface="仿宋_GB2312"/>
              </a:rPr>
              <a:t>1</a:t>
            </a:r>
            <a:r>
              <a:rPr b="1" lang="zh-CN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防洪屏障。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据国务院三峡工程建设委员会办公室的资料显示，三峡工程建成后，当正常蓄水位到一百七十五米时，有二百二十一点五亿立方米的防洪库容，能够控制百年一遇的洪水，如遇千年一遇洪水时，配合运用沿江各分蓄洪区，可以防止荆江两岸发生毁灭性灾害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2</a:t>
            </a:r>
            <a:r>
              <a:rPr b="1" lang="zh-CN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发电建功。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峡建坝后，工程总装机一千八百二十万千瓦，设计年发电八百四十六亿千瓦时，位居世界第一，相当于建了十座大亚湾核电站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航运通畅。工程完成后，千里峡江一日还的梦想将成为现实，万吨级船队将通江达海，可直抵重庆朝天门港，航运成本可降低百分之三十七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4</a:t>
            </a:r>
            <a:r>
              <a:rPr b="1" lang="zh-CN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养殖致富。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千一百五十万平方公里的库面形成，除去航道，仍有近七百平方公里水面，流速变缓，水质变清变肥，表层转暖，库区将成为虾、贝、鱼、鹅、鸭等庞大的淡水水产养殖基地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5</a:t>
            </a:r>
            <a:r>
              <a:rPr b="1" lang="zh-CN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旅游更兴。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峡建坝后，长江上的两大奇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仿宋_GB2312"/>
              </a:rPr>
              <a:t>——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葛洲坝和三峡大坝将成为三峡旅游的新亮点。而层峦叠嶂、陡峭神奇的峡谷感并不会减弱，并将形成老三峡神韵不减，新三峡风光无限的旅游新格局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6</a:t>
            </a:r>
            <a:r>
              <a:rPr b="1" lang="zh-CN" sz="18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开发性移民。</a:t>
            </a:r>
            <a:r>
              <a:rPr b="1" lang="zh-CN" sz="1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通过实施淹没工矿企业结构，可以调整产业结构与地区布局，有力地促进一个个优质工业新区在库区崛起。在移民搬迁安置过程中，沿江地带可以大力开发移民高效生态农业产业带。而库区小城镇建设将得到前所未有的超速发展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7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7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7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7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山峡情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0JDAEHAI4AK2C5858F"/>
          <p:cNvPicPr/>
          <p:nvPr/>
        </p:nvPicPr>
        <p:blipFill>
          <a:blip r:embed="rId1"/>
          <a:stretch/>
        </p:blipFill>
        <p:spPr>
          <a:xfrm>
            <a:off x="2133720" y="266688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5神女峰"/>
          <p:cNvPicPr/>
          <p:nvPr/>
        </p:nvPicPr>
        <p:blipFill>
          <a:blip r:embed="rId2"/>
          <a:stretch/>
        </p:blipFill>
        <p:spPr>
          <a:xfrm>
            <a:off x="1000080" y="795240"/>
            <a:ext cx="7143840" cy="5267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7" name="Picture 7" descr="可以8febc395dd13be21d31b7082"/>
          <p:cNvPicPr/>
          <p:nvPr/>
        </p:nvPicPr>
        <p:blipFill>
          <a:blip r:embed="rId1"/>
          <a:stretch/>
        </p:blipFill>
        <p:spPr>
          <a:xfrm>
            <a:off x="-303120" y="133200"/>
            <a:ext cx="9752040" cy="6591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20483bd7dc616836a18bb790"/>
          <p:cNvPicPr/>
          <p:nvPr/>
        </p:nvPicPr>
        <p:blipFill>
          <a:blip r:embed="rId1"/>
          <a:stretch/>
        </p:blipFill>
        <p:spPr>
          <a:xfrm>
            <a:off x="1714680" y="581040"/>
            <a:ext cx="5715000" cy="56959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400397796421"/>
          <p:cNvPicPr/>
          <p:nvPr/>
        </p:nvPicPr>
        <p:blipFill>
          <a:blip r:embed="rId1"/>
          <a:stretch/>
        </p:blipFill>
        <p:spPr>
          <a:xfrm>
            <a:off x="1600200" y="228600"/>
            <a:ext cx="5715000" cy="5867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200909160011"/>
          <p:cNvPicPr/>
          <p:nvPr/>
        </p:nvPicPr>
        <p:blipFill>
          <a:blip r:embed="rId1"/>
          <a:stretch/>
        </p:blipFill>
        <p:spPr>
          <a:xfrm>
            <a:off x="762120" y="304920"/>
            <a:ext cx="761040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20070312113853706"/>
          <p:cNvPicPr/>
          <p:nvPr/>
        </p:nvPicPr>
        <p:blipFill>
          <a:blip r:embed="rId1"/>
          <a:stretch/>
        </p:blipFill>
        <p:spPr>
          <a:xfrm>
            <a:off x="1447920" y="304920"/>
            <a:ext cx="6629400" cy="53323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sx7"/>
          <p:cNvPicPr/>
          <p:nvPr/>
        </p:nvPicPr>
        <p:blipFill>
          <a:blip r:embed="rId1"/>
          <a:stretch/>
        </p:blipFill>
        <p:spPr>
          <a:xfrm>
            <a:off x="457200" y="233280"/>
            <a:ext cx="8153280" cy="58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7265774ea6b72215afc3ab0b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308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W020071126344640042785"/>
          <p:cNvPicPr/>
          <p:nvPr/>
        </p:nvPicPr>
        <p:blipFill>
          <a:blip r:embed="rId1"/>
          <a:stretch/>
        </p:blipFill>
        <p:spPr>
          <a:xfrm>
            <a:off x="447840" y="333360"/>
            <a:ext cx="8248320" cy="61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43204f22b0efb1629822edaa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6" descr="可以0e2ff6fa9c7eae1d4e4aea1a"/>
          <p:cNvPicPr/>
          <p:nvPr/>
        </p:nvPicPr>
        <p:blipFill>
          <a:blip r:embed="rId1"/>
          <a:stretch/>
        </p:blipFill>
        <p:spPr>
          <a:xfrm>
            <a:off x="-303120" y="38160"/>
            <a:ext cx="9752040" cy="67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20483bd7dc616836a18bb790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d9f1cbc8aac71d28be09e69c"/>
          <p:cNvPicPr/>
          <p:nvPr/>
        </p:nvPicPr>
        <p:blipFill>
          <a:blip r:embed="rId1"/>
          <a:stretch/>
        </p:blipFill>
        <p:spPr>
          <a:xfrm>
            <a:off x="-1827360" y="-1674720"/>
            <a:ext cx="12190680" cy="91422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6" descr="可以3310d1d18fe9f4f2a8ec9adb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200" spc="-1" strike="noStrike" u="sng">
                <a:solidFill>
                  <a:srgbClr val="00ffff"/>
                </a:solidFill>
                <a:uFillTx/>
                <a:latin typeface="Arial"/>
              </a:rPr>
              <a:t>美丽的三峡</a:t>
            </a:r>
            <a:endParaRPr b="0" lang="en-US" sz="10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300" spc="-1" strike="noStrike" u="sng">
                <a:solidFill>
                  <a:srgbClr val="00ffff"/>
                </a:solidFill>
                <a:uFillTx/>
                <a:latin typeface="Arial"/>
              </a:rPr>
              <a:t>欢迎你</a:t>
            </a: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9600" spc="-1" strike="noStrike">
                <a:solidFill>
                  <a:srgbClr val="00ff00"/>
                </a:solidFill>
                <a:latin typeface="Arial"/>
              </a:rPr>
              <a:t>再见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76320" y="57240"/>
            <a:ext cx="9067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3"/>
          <p:cNvPicPr/>
          <p:nvPr/>
        </p:nvPicPr>
        <p:blipFill>
          <a:blip r:embed="rId1"/>
          <a:stretch/>
        </p:blipFill>
        <p:spPr>
          <a:xfrm>
            <a:off x="0" y="76320"/>
            <a:ext cx="90280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5241960" y="372960"/>
            <a:ext cx="359712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早发白帝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（唐）李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朝辞白帝彩云间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千里江陵一日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两岸猿声啼不住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轻舟已过万重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40371eeec78bbc1a63d09fa5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172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Fl201004241516395882"/>
          <p:cNvPicPr/>
          <p:nvPr/>
        </p:nvPicPr>
        <p:blipFill>
          <a:blip r:embed="rId1"/>
          <a:stretch/>
        </p:blipFill>
        <p:spPr>
          <a:xfrm>
            <a:off x="-1522440" y="-860400"/>
            <a:ext cx="12190320" cy="85802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189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98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07186d5756307d6fd1090690"/>
          <p:cNvPicPr/>
          <p:nvPr/>
        </p:nvPicPr>
        <p:blipFill>
          <a:blip r:embed="rId1"/>
          <a:stretch/>
        </p:blipFill>
        <p:spPr>
          <a:xfrm>
            <a:off x="380880" y="304920"/>
            <a:ext cx="8661600" cy="5727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0:55:06Z</dcterms:created>
  <dc:creator/>
  <dc:description/>
  <cp:keywords/>
  <dc:language>en-US</dc:language>
  <cp:lastModifiedBy>User</cp:lastModifiedBy>
  <dcterms:modified xsi:type="dcterms:W3CDTF">2013-04-24T04:21:58Z</dcterms:modified>
  <cp:revision>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56</vt:lpwstr>
  </property>
  <property fmtid="{D5CDD505-2E9C-101B-9397-08002B2CF9AE}" pid="3" name="Version">
    <vt:r8>1</vt:r8>
  </property>
</Properties>
</file>