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32F-A072-4709-A336-EFED94F6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A84-2D00-4E4D-9EBF-4D6063C9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203-2224-4EAF-907D-B7162C5F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8E8-E1B5-4D26-908C-206DB94A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8F7-F781-4070-BA9C-C3CC2D75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0FB-FE04-448E-AE68-363572F8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6D6-1C52-489A-8490-D689A89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2A0-A826-468B-B51E-E13A1DA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D32-FCF0-4E44-BF0D-825C8E4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23F-3EA7-4851-BED0-93BF87E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BE3-C6D1-4876-8F28-E15F2B2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6DA-E617-431E-9917-5AE152C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FA41-264D-4BA3-BE98-C3818611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095880" y="5638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952880" y="1295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杜 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352680" y="38088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山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676520" y="23986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远上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寒山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石径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白云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深处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有人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停车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坐爱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枫林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霜叶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红于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二月花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952880" y="9050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9"/>
          <p:cNvSpPr/>
          <p:nvPr/>
        </p:nvSpPr>
        <p:spPr>
          <a:xfrm>
            <a:off x="5410080" y="99072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4"/>
          <p:cNvSpPr/>
          <p:nvPr/>
        </p:nvSpPr>
        <p:spPr>
          <a:xfrm>
            <a:off x="6188040" y="990720"/>
            <a:ext cx="15732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6448320" y="20415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9"/>
          <p:cNvSpPr/>
          <p:nvPr/>
        </p:nvSpPr>
        <p:spPr>
          <a:xfrm flipH="1">
            <a:off x="6867000" y="206532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" descr=""/>
          <p:cNvPicPr/>
          <p:nvPr/>
        </p:nvPicPr>
        <p:blipFill>
          <a:blip r:embed="rId1"/>
          <a:stretch/>
        </p:blipFill>
        <p:spPr>
          <a:xfrm>
            <a:off x="201600" y="353880"/>
            <a:ext cx="8798040" cy="5973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19810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600200" y="2133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  枝  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带拼音每字两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676520" y="30481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赠刘景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抄写一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295280" y="41148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写字工整，美观大方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05740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3" descr=""/>
          <p:cNvPicPr/>
          <p:nvPr/>
        </p:nvPicPr>
        <p:blipFill>
          <a:blip r:embed="rId1"/>
          <a:stretch/>
        </p:blipFill>
        <p:spPr>
          <a:xfrm>
            <a:off x="-22320" y="-9360"/>
            <a:ext cx="915696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2209680" y="14256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657600" y="138744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181480" y="13780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6848640" y="138744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2209680" y="774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j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6934320" y="573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y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933800" y="72216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fe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3581280" y="6508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x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8"/>
          <p:cNvSpPr/>
          <p:nvPr/>
        </p:nvSpPr>
        <p:spPr>
          <a:xfrm>
            <a:off x="2419200" y="860400"/>
            <a:ext cx="152640" cy="169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0"/>
          <p:cNvSpPr/>
          <p:nvPr/>
        </p:nvSpPr>
        <p:spPr>
          <a:xfrm flipH="1">
            <a:off x="4419720" y="685800"/>
            <a:ext cx="38088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2"/>
          <p:cNvSpPr/>
          <p:nvPr/>
        </p:nvSpPr>
        <p:spPr>
          <a:xfrm>
            <a:off x="5334120" y="944640"/>
            <a:ext cx="3045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4"/>
          <p:cNvSpPr/>
          <p:nvPr/>
        </p:nvSpPr>
        <p:spPr>
          <a:xfrm flipH="1">
            <a:off x="7543800" y="685800"/>
            <a:ext cx="295200" cy="174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6934320" y="2743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5029200" y="2666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枫树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>
            <a:off x="5334120" y="3308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枫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4"/>
          <p:cNvSpPr/>
          <p:nvPr/>
        </p:nvSpPr>
        <p:spPr>
          <a:xfrm>
            <a:off x="3666960" y="2682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倾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3676680" y="339732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6"/>
          <p:cNvSpPr/>
          <p:nvPr/>
        </p:nvSpPr>
        <p:spPr>
          <a:xfrm>
            <a:off x="2286000" y="2746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石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7"/>
          <p:cNvSpPr/>
          <p:nvPr/>
        </p:nvSpPr>
        <p:spPr>
          <a:xfrm>
            <a:off x="1419120" y="339732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田径运动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8"/>
          <p:cNvSpPr/>
          <p:nvPr/>
        </p:nvSpPr>
        <p:spPr>
          <a:xfrm>
            <a:off x="380880" y="33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934320" y="334476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7877160" y="1447920"/>
            <a:ext cx="8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7905600" y="7207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"/>
              </a:rPr>
              <a:t>zh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4"/>
          <p:cNvSpPr/>
          <p:nvPr/>
        </p:nvSpPr>
        <p:spPr>
          <a:xfrm>
            <a:off x="8534520" y="966960"/>
            <a:ext cx="4572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5"/>
          <p:cNvSpPr/>
          <p:nvPr/>
        </p:nvSpPr>
        <p:spPr>
          <a:xfrm>
            <a:off x="8048520" y="27464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8153280" y="3424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枝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5" descr=""/>
          <p:cNvPicPr/>
          <p:nvPr/>
        </p:nvPicPr>
        <p:blipFill>
          <a:blip r:embed="rId1"/>
          <a:stretch/>
        </p:blipFill>
        <p:spPr>
          <a:xfrm>
            <a:off x="76320" y="90360"/>
            <a:ext cx="9437400" cy="6615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28800" y="1219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几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648400" y="144792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两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066680" y="2362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写了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05520" y="2438280"/>
            <a:ext cx="327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寒山  石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白云  人家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车     枫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霜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xy0729"/>
          <p:cNvPicPr/>
          <p:nvPr/>
        </p:nvPicPr>
        <p:blipFill>
          <a:blip r:embed="rId1"/>
          <a:stretch/>
        </p:blipFill>
        <p:spPr>
          <a:xfrm>
            <a:off x="0" y="106200"/>
            <a:ext cx="961236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远上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_GB2312"/>
              </a:rPr>
              <a:t>寒山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石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_GB2312"/>
              </a:rPr>
              <a:t>径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斜，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782880" y="2590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山行：在山里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4188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寒山：深秋时节的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70880" y="3886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径：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455120" y="4952880"/>
            <a:ext cx="652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处 高 山 上 山 间 小 路 弯 弯 曲 曲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 云 漂 浮 中 隐 约 看 到 几 户 人 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/>
          <p:cNvSpPr/>
          <p:nvPr/>
        </p:nvSpPr>
        <p:spPr>
          <a:xfrm>
            <a:off x="746748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7301"/>
                </a:moveTo>
                <a:lnTo>
                  <a:pt x="9342" y="7301"/>
                </a:lnTo>
                <a:lnTo>
                  <a:pt x="9725" y="7667"/>
                </a:lnTo>
                <a:lnTo>
                  <a:pt x="18934" y="7667"/>
                </a:lnTo>
                <a:lnTo>
                  <a:pt x="19491" y="8224"/>
                </a:lnTo>
                <a:lnTo>
                  <a:pt x="19491" y="8772"/>
                </a:lnTo>
                <a:lnTo>
                  <a:pt x="21336" y="8772"/>
                </a:lnTo>
                <a:lnTo>
                  <a:pt x="21701" y="8224"/>
                </a:lnTo>
                <a:lnTo>
                  <a:pt x="22441" y="8224"/>
                </a:lnTo>
                <a:lnTo>
                  <a:pt x="22441" y="13376"/>
                </a:lnTo>
                <a:lnTo>
                  <a:pt x="21701" y="13376"/>
                </a:lnTo>
                <a:lnTo>
                  <a:pt x="21336" y="12828"/>
                </a:lnTo>
                <a:lnTo>
                  <a:pt x="19491" y="12828"/>
                </a:lnTo>
                <a:lnTo>
                  <a:pt x="19491" y="14107"/>
                </a:lnTo>
                <a:lnTo>
                  <a:pt x="9908" y="14107"/>
                </a:lnTo>
                <a:lnTo>
                  <a:pt x="9908" y="9877"/>
                </a:lnTo>
                <a:lnTo>
                  <a:pt x="9725" y="9877"/>
                </a:lnTo>
                <a:lnTo>
                  <a:pt x="9342" y="10243"/>
                </a:lnTo>
                <a:lnTo>
                  <a:pt x="8428" y="10243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aecea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3076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坐：因为、由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017880" y="358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于：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于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23520" y="4648320"/>
            <a:ext cx="64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 车 是 因 为 我 爱 看 枫 林 晚 景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 霜 的 红 叶 比 春 花 更 加 鲜 艳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4800600" y="533520"/>
          <a:ext cx="434340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33520"/>
                    <a:ext cx="43434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4"/>
          <p:cNvSpPr/>
          <p:nvPr/>
        </p:nvSpPr>
        <p:spPr>
          <a:xfrm>
            <a:off x="380880" y="39625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 行 描 绘 了 秋 山 远 景 。 第 一 行 描 写 了 秋 山 高 远 的景 象 ， 表 现 了 诗 人 勇 于 攀 登 的 精 神 。 第 二 行 描 写 了秋 山 中 的 一 个 特 定 场 景 ， 在 白 云 浮 动 的 天 空 下 山 窝窝 里 有 几 户 人 家 隐 约 可 见 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3429000"/>
          <a:ext cx="4572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29000"/>
                    <a:ext cx="4572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603360" y="1295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 两 行 描 绘 了 秋 山 近景 。 “ 霜 叶 红 于 二 月 花 ” 一 行 ， 生 机 勃 勃 ， 鲜 艳 夺 目 ， 清 新 刚 劲 ， 形 象 鲜 明 ， 给 人 一 种 秋 光 胜 似 春 光 的 美 感 。 这 行诗 成 为 千 百 年 来 人 们 广 为 传 诵 的 名 句 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409360" y="403848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17T14:13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