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image12.jpeg" ContentType="image/jpeg"/>
  <Override PartName="/ppt/media/type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7.gif" ContentType="image/gi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733-8DF7-414A-B331-61A5A15C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331-0D16-46D9-ABE1-5F015DAE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EDB-64DC-40C8-84E3-C4E6D8B5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00E-78B5-412E-82EB-96C25F6B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FA6-ED2E-437E-8282-F504B8BF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4F8-E8CA-4F0A-AF51-798D1CB1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67C-A45E-462D-A99D-0669CA4A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CD0-D2E6-420F-AF69-690BF878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5CE-A443-43BF-A0E5-191E6C4D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003-1A31-493F-9802-B97C792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7C2-506B-48FA-9259-4D866727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477-71CD-46EF-AB96-19F0403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814A-1FB8-42E9-AFC5-E862190A40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3665;&#34892;.htm" TargetMode="External"/><Relationship Id="rId2" Type="http://schemas.openxmlformats.org/officeDocument/2006/relationships/hyperlink" Target="file:///&#23665;&#34892;.htm" TargetMode="External"/><Relationship Id="rId3" Type="http://schemas.openxmlformats.org/officeDocument/2006/relationships/hyperlink" Target="file:///&#23665;&#34892;.ht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king\My Documents\My Pictures\新建文件夹\课件图片\山行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800600" y="533520"/>
          <a:ext cx="434340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533520"/>
                    <a:ext cx="43434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0880" y="39625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两 行 描 绘 了 秋 山 远 景 。 第 一 行 描 写 了 秋 山 高 远 的景 象 ， 表 现 了 诗 人 勇 于 攀 登 的 精 神 。 第 二 行 描 写 了秋 山 中 的 一 个 特 定 场 景 ， 在 白 云 浮 动 的 天 空 下 山 窝窝 里 有 几 户 人 家 隐 约 可 见 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3429000"/>
          <a:ext cx="4572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29000"/>
                    <a:ext cx="4572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03360" y="1295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 两 行 描 绘 了 秋 山 近景 。 “ 霜 叶 红 于 二 月 花 ” 一 行 ， 生 机 勃 勃 ， 鲜 艳 夺 目 ， 清 新 刚 劲 ， 形 象 鲜 明 ， 给 人 一 种 秋 光 胜 似 春 光 的 美 感 。 这 行诗 成 为 千 百 年 来 人 们 广 为 传 诵 的 名 句 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09360" y="403848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3360" y="2742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远 处 高 山 山 间 小 路 曲 曲 弯 弯 ，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深 山 密 林 中 升 腾 着 缕 缕 炊 烟 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停 车 是 因 为 我 爱 看 枫 林 晚 景 ，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经 霜 的 红 叶 比 春 花 更 加 鲜 艳 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533520"/>
            <a:ext cx="854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文解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一条弯弯曲曲的小路蜿蜒伸向山顶，在白云飘浮的地方有几户人家。停下来欣赏这枫林的景色，那火红的枫叶比江南二月的花还要红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533520"/>
          <a:ext cx="9144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90720" y="1295280"/>
            <a:ext cx="647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 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 是 一 首 优 美 的 写 景诗 。 诗 中 描 绘 了 深 秋 季 节 山 行时 所 见 到 的 枫 林 晚 景 。 写 秋 景 的 诗 历 来 悲 凉 ， 可 是 ，诗 人 笔 下 的 秋 景 却 充 满 了 生 机 ， 真 可 谓 是 秋 天 里 的春 天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【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诗文赏析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】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霜叶红于二月花”形容深秋的枫叶形象生动，成为千古流传的名句。据说是杜牧在游潭州（今湖南省长沙市）岳丽山时所写的。秋天在诗人的笔下不再是常被描述成的样子，不是萧瑟灰暗的，而是挺拔向上和充满生命力的。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诗人通过描写了一幅秋景图，从而赞颂了秋色的美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山行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523880" y="4724280"/>
            <a:ext cx="7620120" cy="916920"/>
          </a:xfrm>
          <a:prstGeom prst="rect">
            <a:avLst/>
          </a:prstGeom>
          <a:solidFill>
            <a:srgbClr val="99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赞美枫叶不畏严寒，傲然独立的高洁品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0" y="-344520"/>
            <a:ext cx="9610560" cy="72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0" y="-919080"/>
            <a:ext cx="10152000" cy="77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停车坐爱枫林晚”一句诗中的“坐”的意思是（       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的是诗人杜牧在（            ）所看到的（           ）时节的枫林景色，描绘了一幅由（                                  ）构成的秋色图，表达了作者对大自然美景的（            ）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75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75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king\My Documents\My Pictures\新建文件夹\课件图片\花边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36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king\My Documents\My Pictures\新建文件夹\课件图片\花边4.bmp"/>
          <p:cNvPicPr/>
          <p:nvPr/>
        </p:nvPicPr>
        <p:blipFill>
          <a:blip r:embed="rId2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king\My Documents\My Pictures\新建文件夹\课件图片\杜牧.jpg"/>
          <p:cNvPicPr/>
          <p:nvPr/>
        </p:nvPicPr>
        <p:blipFill>
          <a:blip r:embed="rId3"/>
          <a:stretch/>
        </p:blipFill>
        <p:spPr>
          <a:xfrm>
            <a:off x="228600" y="304920"/>
            <a:ext cx="3809880" cy="601956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4495680" y="609480"/>
            <a:ext cx="3886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诗人，解题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427640" y="1844640"/>
            <a:ext cx="4952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山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在山里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3860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简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杜牧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3-8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唐代诗人。字牧之，京兆万年（今陕西西安人）。精通兵法，有政治才能，诗文都写得很好，诗以七绝最为出色。与李商隐齐名，世称“小李杜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各种练习题表现效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一：填充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停车坐爱枫林晚”一句诗中的“坐”的意思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各种练习题表现效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一：填充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停车坐爱枫林晚”一句诗中的“坐”的意思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（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523880"/>
            <a:ext cx="68580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停车坐爱枫林晚”一句诗中的“坐”的意思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（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的是诗人杜牧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（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山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看到的（</a:t>
            </a:r>
            <a:r>
              <a:rPr b="1" lang="zh-CN" sz="3200" spc="-1" strike="noStrike">
                <a:solidFill>
                  <a:srgbClr val="b2b2b2"/>
                </a:solidFill>
                <a:latin typeface="Times New Roman"/>
              </a:rPr>
              <a:t>深秋时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）的枫林景色，描绘了一幅由（</a:t>
            </a:r>
            <a:r>
              <a:rPr b="1" lang="zh-CN" sz="3200" spc="-1" strike="noStrike">
                <a:solidFill>
                  <a:srgbClr val="b2b2b2"/>
                </a:solidFill>
                <a:latin typeface="Times New Roman"/>
              </a:rPr>
              <a:t>寒山、石径、白云、人家、枫林、霜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秋色图，表达了作者对大自然美景的（</a:t>
            </a:r>
            <a:r>
              <a:rPr b="1" lang="zh-CN" sz="3200" spc="-1" strike="noStrike">
                <a:solidFill>
                  <a:srgbClr val="b2b2b2"/>
                </a:solidFill>
                <a:latin typeface="Times New Roman"/>
              </a:rPr>
              <a:t>喜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07880" y="990720"/>
            <a:ext cx="6977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喜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春天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喜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夏天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喜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秋天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喜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冬天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838080" y="457200"/>
            <a:ext cx="8305920" cy="119124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远上寒山石径斜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8120" y="76212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cc"/>
                </a:solidFill>
                <a:latin typeface="Times New Roman"/>
              </a:rPr>
              <a:t>·  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791320" y="76212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cc"/>
                </a:solidFill>
                <a:latin typeface="Times New Roman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0880" y="548640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寒山：深秋时节的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33520" y="434340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径：小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28600" y="2209680"/>
            <a:ext cx="8915400" cy="2210040"/>
          </a:xfrm>
          <a:prstGeom prst="cloudCallout">
            <a:avLst>
              <a:gd name="adj1" fmla="val -18217"/>
              <a:gd name="adj2" fmla="val -73134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066680" y="23623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条羊肠小道由山下通向远处的山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king\My Documents\My Pictures\新建文件夹\课件图片\山行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143000" y="3049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白云生处有人家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62120" y="2514600"/>
            <a:ext cx="8001000" cy="3962520"/>
          </a:xfrm>
          <a:prstGeom prst="wedgeRoundRectCallout">
            <a:avLst>
              <a:gd name="adj1" fmla="val -28212"/>
              <a:gd name="adj2" fmla="val -70712"/>
              <a:gd name="adj3" fmla="val 16667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143000" y="30481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抬眼望去，白云升腾的地方，隐隐约约地有几户人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king\My Documents\My Pictures\新建文件夹\课件图片\山行3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停车坐爱枫林晚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209680" y="53352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ff"/>
                </a:solidFill>
                <a:latin typeface="Times New Roman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3600" y="53352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ff"/>
                </a:solidFill>
                <a:latin typeface="Times New Roman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52280" y="144792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坐：因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0" y="26668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晚：傍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429000" y="1676520"/>
            <a:ext cx="5715000" cy="5181480"/>
          </a:xfrm>
          <a:prstGeom prst="wedgeEllipseCallout">
            <a:avLst>
              <a:gd name="adj1" fmla="val -23083"/>
              <a:gd name="adj2" fmla="val -58486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962520" y="243828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因为喜爱这傍晚的枫树林，不由得停下车来观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40605105604390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33520" y="5562720"/>
            <a:ext cx="785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霜叶红于二月花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14400" y="586728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·  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14600" y="586728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·  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57200" y="47242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霜叶：经霜打的枫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3520" y="39625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红于：比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······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还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838080" y="609480"/>
            <a:ext cx="8001000" cy="3200400"/>
          </a:xfrm>
          <a:prstGeom prst="cloudCallout">
            <a:avLst>
              <a:gd name="adj1" fmla="val 36546"/>
              <a:gd name="adj2" fmla="val 109324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523880" y="121932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这经霜打过的枫叶，比二月的鲜花还要红火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533520"/>
          <a:ext cx="9144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82440" y="2209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山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杜牧</a:t>
            </a:r>
            <a:br>
              <a:rPr sz="24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白云生处有人家。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2880" y="2590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山行：在山里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188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寒山：深秋时节的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70880" y="3886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径：小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8380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8380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上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寒山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石径斜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8380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上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寒山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石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径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斜，</a:t>
            </a:r>
            <a:br>
              <a:rPr sz="48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2560" y="4952880"/>
            <a:ext cx="627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 处 高 山 山 间 小 路 曲 曲 弯 弯 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 山 密 林 中 升 腾 着 缕 缕 炊 烟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3076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坐：因为、由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17880" y="358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于：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14300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停车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坐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14300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停车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坐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霜叶红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于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520" y="4648320"/>
            <a:ext cx="647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 车 是 因 为 我 爱 看 枫 林 晚 景 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 霜 的 红 叶 比 春 花 更 加 鲜 艳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3-09-12T15:20:11Z</dcterms:modified>
  <cp:revision>12</cp:revision>
  <dc:subject/>
  <dc:title>PowerPoint Presentation</dc:title>
</cp:coreProperties>
</file>