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8C2B-6E7C-4F7F-AF54-8688A5A6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A042-6147-4819-AED8-543D57FE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7625-9576-416C-82F6-5F5A4F2F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FE77-5B2D-489E-881D-3CD0DC38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73FA-D491-49B5-A534-E3051886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E6AA-EF9A-4F0E-86C6-7D723621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4547-07DC-46B4-85DA-50F2E99E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9C1E-F7FC-4E38-8023-53F2A32B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7801-24FF-4A7A-8F06-5B5473FE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0FAF-8815-4D58-8BD8-4115058F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31EE-63EC-4481-8F7E-0FD2A57C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E677-53C1-4BD0-85D6-CDA827B1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89B4-F143-4DD6-A2C4-F36BFDD4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FF5A-4FF7-43C3-9F8F-531C146E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8824-644A-4DCC-B605-406AC438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18DC-00F0-4BA2-B893-45769BFFC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882A-3937-4845-BD9D-AF390354E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601D-9114-4100-BCE1-3AD4BD72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B8A4-8B0A-4A75-BE22-23BEC7F7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291A-DDB7-471E-8406-C3BEA974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9731-5AA9-4AAA-B9C1-2A8C8494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9F45-77B1-46E3-B4AC-350922E7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5D84-6CE8-44C8-A053-6C1A35A5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F548-D9C0-4593-9290-BA9D71A2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B8F7-53B0-4F21-966E-31703B31EB07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6CEA-D2D3-4532-83FB-D6DBE3ACD6F6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../../../Local%20Settings/Temp/&#23665;&#34892;.htm" TargetMode="External"/><Relationship Id="rId3" Type="http://schemas.openxmlformats.org/officeDocument/2006/relationships/hyperlink" Target="file:///../../../../Local%20Settings/Temp/&#23665;&#34892;.htm" TargetMode="External"/><Relationship Id="rId4" Type="http://schemas.openxmlformats.org/officeDocument/2006/relationships/hyperlink" Target="file:///../../../../Local%20Settings/Temp/&#23665;&#34892;.htm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e.baidu.com/view/521491.htm" TargetMode="External"/><Relationship Id="rId3" Type="http://schemas.openxmlformats.org/officeDocument/2006/relationships/hyperlink" Target="http://baike.baidu.com/view/346988.htm" TargetMode="External"/><Relationship Id="rId4" Type="http://schemas.openxmlformats.org/officeDocument/2006/relationships/hyperlink" Target="http://baike.baidu.com/view/2211.htm" TargetMode="External"/><Relationship Id="rId5" Type="http://schemas.openxmlformats.org/officeDocument/2006/relationships/hyperlink" Target="http://baike.baidu.com/view/6028.htm" TargetMode="External"/><Relationship Id="rId6" Type="http://schemas.openxmlformats.org/officeDocument/2006/relationships/hyperlink" Target="http://baike.baidu.com/view/17796.htm" TargetMode="Externa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095880" y="56386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7925040" cy="2057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209680" y="228600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5400" spc="-1" strike="noStrike">
                <a:solidFill>
                  <a:srgbClr val="007a77"/>
                </a:solidFill>
                <a:latin typeface="Arial"/>
              </a:rPr>
              <a:t>古诗两首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70000" y="6576840"/>
            <a:ext cx="31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Http://www.21jiao.net 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远上寒山石径斜，</a:t>
            </a:r>
            <a:br>
              <a:rPr sz="4800"/>
            </a:b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白云生处有人家。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800600" y="533520"/>
          <a:ext cx="4343400" cy="236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533520"/>
                    <a:ext cx="4343400" cy="23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380880" y="396252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这两 行 描 绘 了 秋 山 远 景 。 第 一 行 描 写 了 秋 山 高 远 的景 象 ， 表 现 了 诗 人 勇 于 攀 登 的 精 神 。 第 二 行 描 写 了秋 山 中 的 一 个 特 定 场 景 ， 在 白 云 浮 动 的 天 空 下 山 窝窝 里 有 几 户 人 家 隐 约 可 见 。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3429000"/>
          <a:ext cx="4572000" cy="28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429000"/>
                    <a:ext cx="45720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603360" y="12952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后 两 行 描 绘 了 秋 山 近景 。 “ 霜 叶 红 于 二 月 花 ” 一 行 ， 生 机 勃 勃 ， 鲜 艳 夺 目 ， 清 新 刚 劲 ， 形 象 鲜 明 ， 给 人 一 种 秋 光 胜 似 春 光 的 美 感 。 这 行诗 成 为 千 百 年 来 人 们 广 为 传 诵 的 名 句 。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4038480"/>
            <a:ext cx="508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停车坐爱枫林晚，</a:t>
            </a:r>
            <a:br>
              <a:rPr sz="4800"/>
            </a:b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霜叶红于二月花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2895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【</a:t>
            </a:r>
            <a:r>
              <a:rPr b="0" lang="zh-CN" sz="40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诗文赏析</a:t>
            </a:r>
            <a:r>
              <a:rPr b="0" lang="zh-CN" sz="40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】</a:t>
            </a: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“霜叶红于二月花”形容深秋的枫叶形象生动，成为千古流传的名句。据说是杜牧在游潭州（今湖南省长沙市）岳丽山时所写的。秋天在诗人的笔下不再是常被描述成的样子，不是萧瑟灰暗的，而是挺拔向上和充满生命力的。</a:t>
            </a: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诗人通过描写了一幅秋景图，从而赞颂了秋色的美丽。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00"/>
                </a:solidFill>
                <a:latin typeface="Arial"/>
              </a:rPr>
              <a:t>山行</a:t>
            </a:r>
            <a:br>
              <a:rPr sz="4800"/>
            </a:br>
            <a:r>
              <a:rPr b="0" lang="zh-CN" sz="3200" spc="-1" strike="noStrike">
                <a:solidFill>
                  <a:srgbClr val="990000"/>
                </a:solidFill>
                <a:latin typeface="Arial"/>
              </a:rPr>
              <a:t>杜牧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66"/>
                </a:solidFill>
                <a:latin typeface="Arial"/>
              </a:rPr>
              <a:t>            </a:t>
            </a:r>
            <a:r>
              <a:rPr b="0" lang="zh-CN" sz="4800" spc="-1" strike="noStrike">
                <a:solidFill>
                  <a:srgbClr val="cc0066"/>
                </a:solidFill>
                <a:latin typeface="Arial"/>
              </a:rPr>
              <a:t>远上</a:t>
            </a:r>
            <a:r>
              <a:rPr b="0" lang="zh-CN" sz="4800" spc="-1" strike="noStrike">
                <a:solidFill>
                  <a:srgbClr val="003300"/>
                </a:solidFill>
                <a:latin typeface="Arial"/>
              </a:rPr>
              <a:t>/</a:t>
            </a:r>
            <a:r>
              <a:rPr b="0" lang="zh-CN" sz="4800" spc="-1" strike="noStrike">
                <a:solidFill>
                  <a:srgbClr val="cc0066"/>
                </a:solidFill>
                <a:latin typeface="Arial"/>
              </a:rPr>
              <a:t>寒山</a:t>
            </a:r>
            <a:r>
              <a:rPr b="0" lang="zh-CN" sz="4800" spc="-1" strike="noStrike">
                <a:solidFill>
                  <a:srgbClr val="003300"/>
                </a:solidFill>
                <a:latin typeface="Arial"/>
              </a:rPr>
              <a:t>/</a:t>
            </a:r>
            <a:r>
              <a:rPr b="0" lang="zh-CN" sz="4800" spc="-1" strike="noStrike">
                <a:solidFill>
                  <a:srgbClr val="cc0066"/>
                </a:solidFill>
                <a:latin typeface="Arial"/>
              </a:rPr>
              <a:t>石径斜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66"/>
                </a:solidFill>
                <a:latin typeface="Arial"/>
              </a:rPr>
              <a:t>            </a:t>
            </a:r>
            <a:r>
              <a:rPr b="0" lang="zh-CN" sz="4800" spc="-1" strike="noStrike">
                <a:solidFill>
                  <a:srgbClr val="cc0066"/>
                </a:solidFill>
                <a:latin typeface="Arial"/>
              </a:rPr>
              <a:t>白云深处</a:t>
            </a:r>
            <a:r>
              <a:rPr b="0" lang="zh-CN" sz="4800" spc="-1" strike="noStrike">
                <a:solidFill>
                  <a:srgbClr val="003300"/>
                </a:solidFill>
                <a:latin typeface="Arial"/>
              </a:rPr>
              <a:t>/</a:t>
            </a:r>
            <a:r>
              <a:rPr b="0" lang="zh-CN" sz="4800" spc="-1" strike="noStrike">
                <a:solidFill>
                  <a:srgbClr val="cc0066"/>
                </a:solidFill>
                <a:latin typeface="Arial"/>
              </a:rPr>
              <a:t>有人家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66"/>
                </a:solidFill>
                <a:latin typeface="Arial"/>
              </a:rPr>
              <a:t>            </a:t>
            </a:r>
            <a:r>
              <a:rPr b="0" lang="zh-CN" sz="4800" spc="-1" strike="noStrike">
                <a:solidFill>
                  <a:srgbClr val="cc0066"/>
                </a:solidFill>
                <a:latin typeface="Arial"/>
              </a:rPr>
              <a:t>停车</a:t>
            </a:r>
            <a:r>
              <a:rPr b="0" lang="zh-CN" sz="4800" spc="-1" strike="noStrike">
                <a:solidFill>
                  <a:srgbClr val="003300"/>
                </a:solidFill>
                <a:latin typeface="Arial"/>
              </a:rPr>
              <a:t>/</a:t>
            </a:r>
            <a:r>
              <a:rPr b="0" lang="zh-CN" sz="4800" spc="-1" strike="noStrike">
                <a:solidFill>
                  <a:srgbClr val="cc0066"/>
                </a:solidFill>
                <a:latin typeface="Arial"/>
              </a:rPr>
              <a:t>坐爱</a:t>
            </a:r>
            <a:r>
              <a:rPr b="0" lang="zh-CN" sz="4800" spc="-1" strike="noStrike">
                <a:solidFill>
                  <a:srgbClr val="003300"/>
                </a:solidFill>
                <a:latin typeface="Arial"/>
              </a:rPr>
              <a:t>/</a:t>
            </a:r>
            <a:r>
              <a:rPr b="0" lang="zh-CN" sz="4800" spc="-1" strike="noStrike">
                <a:solidFill>
                  <a:srgbClr val="cc0066"/>
                </a:solidFill>
                <a:latin typeface="Arial"/>
              </a:rPr>
              <a:t>枫林晚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66"/>
                </a:solidFill>
                <a:latin typeface="Arial"/>
              </a:rPr>
              <a:t>            </a:t>
            </a:r>
            <a:r>
              <a:rPr b="0" lang="zh-CN" sz="4800" spc="-1" strike="noStrike">
                <a:solidFill>
                  <a:srgbClr val="cc0066"/>
                </a:solidFill>
                <a:latin typeface="Arial"/>
              </a:rPr>
              <a:t>霜叶</a:t>
            </a:r>
            <a:r>
              <a:rPr b="0" lang="zh-CN" sz="4800" spc="-1" strike="noStrike">
                <a:solidFill>
                  <a:srgbClr val="003300"/>
                </a:solidFill>
                <a:latin typeface="Arial"/>
              </a:rPr>
              <a:t>/</a:t>
            </a:r>
            <a:r>
              <a:rPr b="0" lang="zh-CN" sz="4800" spc="-1" strike="noStrike">
                <a:solidFill>
                  <a:srgbClr val="cc0066"/>
                </a:solidFill>
                <a:latin typeface="Arial"/>
              </a:rPr>
              <a:t>红于</a:t>
            </a:r>
            <a:r>
              <a:rPr b="0" lang="zh-CN" sz="4800" spc="-1" strike="noStrike">
                <a:solidFill>
                  <a:srgbClr val="003300"/>
                </a:solidFill>
                <a:latin typeface="Arial"/>
              </a:rPr>
              <a:t>/</a:t>
            </a:r>
            <a:r>
              <a:rPr b="0" lang="zh-CN" sz="4800" spc="-1" strike="noStrike">
                <a:solidFill>
                  <a:srgbClr val="cc0066"/>
                </a:solidFill>
                <a:latin typeface="Arial"/>
              </a:rPr>
              <a:t>二月花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" y="533520"/>
            <a:ext cx="85406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0570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【诗文解释】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　　一条弯弯曲曲的小路</a:t>
            </a:r>
            <a:br>
              <a:rPr sz="3600"/>
            </a:b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蜿蜒伸向山顶，在白云飘</a:t>
            </a:r>
            <a:br>
              <a:rPr sz="3600"/>
            </a:b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浮的地方有几户人家。停</a:t>
            </a:r>
            <a:br>
              <a:rPr sz="3600"/>
            </a:b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下来欣赏这枫林的景色，</a:t>
            </a:r>
            <a:br>
              <a:rPr sz="3600"/>
            </a:b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那火红的枫叶比江南二月</a:t>
            </a:r>
            <a:br>
              <a:rPr sz="3600"/>
            </a:b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的花还要红。</a:t>
            </a: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486400" y="457200"/>
            <a:ext cx="34639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46748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7301"/>
                </a:moveTo>
                <a:lnTo>
                  <a:pt x="9342" y="7301"/>
                </a:lnTo>
                <a:lnTo>
                  <a:pt x="9725" y="7667"/>
                </a:lnTo>
                <a:lnTo>
                  <a:pt x="18934" y="7667"/>
                </a:lnTo>
                <a:lnTo>
                  <a:pt x="19491" y="8224"/>
                </a:lnTo>
                <a:lnTo>
                  <a:pt x="19491" y="8772"/>
                </a:lnTo>
                <a:lnTo>
                  <a:pt x="21336" y="8772"/>
                </a:lnTo>
                <a:lnTo>
                  <a:pt x="21701" y="8224"/>
                </a:lnTo>
                <a:lnTo>
                  <a:pt x="22441" y="8224"/>
                </a:lnTo>
                <a:lnTo>
                  <a:pt x="22441" y="13376"/>
                </a:lnTo>
                <a:lnTo>
                  <a:pt x="21701" y="13376"/>
                </a:lnTo>
                <a:lnTo>
                  <a:pt x="21336" y="12828"/>
                </a:lnTo>
                <a:lnTo>
                  <a:pt x="19491" y="12828"/>
                </a:lnTo>
                <a:lnTo>
                  <a:pt x="19491" y="14107"/>
                </a:lnTo>
                <a:lnTo>
                  <a:pt x="9908" y="14107"/>
                </a:lnTo>
                <a:lnTo>
                  <a:pt x="9908" y="9877"/>
                </a:lnTo>
                <a:lnTo>
                  <a:pt x="9725" y="9877"/>
                </a:lnTo>
                <a:lnTo>
                  <a:pt x="9342" y="10243"/>
                </a:lnTo>
                <a:lnTo>
                  <a:pt x="8428" y="10243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adcdad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1676520"/>
            <a:ext cx="260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cc"/>
                </a:solidFill>
                <a:latin typeface="Arial"/>
              </a:rPr>
              <a:t>山行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66880" y="31240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楷体_GB2312"/>
              </a:rPr>
              <a:t>山行：在山里走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杜牧（公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0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5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），字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牧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号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樊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居士，汉族，京兆万年（今陕西西安）人，唐代诗人。杜牧人称“小杜”，以别于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杜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与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李商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并称“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小李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。因晚年居长安南樊川别墅，故后世称“杜樊川”，著有《樊川文集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533520"/>
          <a:ext cx="9144000" cy="58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33520"/>
                    <a:ext cx="91440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82440" y="22093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山行</a:t>
            </a:r>
            <a:br>
              <a:rPr sz="4800"/>
            </a:b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七言绝句</a:t>
            </a:r>
            <a:br>
              <a:rPr sz="4800"/>
            </a:b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唐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]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杜牧</a:t>
            </a:r>
            <a:br>
              <a:rPr sz="2400"/>
            </a:b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远上寒山石径斜，</a:t>
            </a:r>
            <a:br>
              <a:rPr sz="4800"/>
            </a:b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白云生处有人家。</a:t>
            </a:r>
            <a:br>
              <a:rPr sz="4800"/>
            </a:b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停车坐爱枫林晚，</a:t>
            </a:r>
            <a:br>
              <a:rPr sz="4800"/>
            </a:b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霜叶红于二月花。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533520"/>
          <a:ext cx="9144000" cy="58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33520"/>
                    <a:ext cx="91440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990720" y="1295280"/>
            <a:ext cx="6476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[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简 析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]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这 是 一 首 优 美 的 写 景诗 。 诗 中 描 绘 了 深 秋 季 节 山 行时 所 见 到 的 枫 林 晚 景 。 写 秋 景 的 诗 历 来 悲 凉 ， 可 是 ，诗 人 笔 下 的 秋 景 却 充 满 了 生 机 ， 真 可 谓 是 秋 天 里 的春 天 。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8377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楷体_GB2312"/>
              </a:rPr>
              <a:t>山行</a:t>
            </a:r>
            <a:br>
              <a:rPr sz="4800"/>
            </a:b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楷体_GB2312"/>
              </a:rPr>
              <a:t>远上寒山石径斜，</a:t>
            </a:r>
            <a:br>
              <a:rPr sz="4800"/>
            </a:b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楷体_GB2312"/>
              </a:rPr>
              <a:t>白云生处有人家。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048120"/>
            <a:ext cx="434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寒山：深秋时节的山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342900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径：石头小路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838080"/>
            <a:ext cx="594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楷体_GB2312"/>
              </a:rPr>
              <a:t>山行</a:t>
            </a:r>
            <a:br>
              <a:rPr sz="4800"/>
            </a:b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楷体_GB2312"/>
              </a:rPr>
              <a:t>远上寒山石径斜，</a:t>
            </a:r>
            <a:br>
              <a:rPr sz="4800"/>
            </a:b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楷体_GB2312"/>
              </a:rPr>
              <a:t>白云生处有人家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838080"/>
            <a:ext cx="594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楷体_GB2312"/>
              </a:rPr>
              <a:t>远上寒山石径斜，</a:t>
            </a:r>
            <a:br>
              <a:rPr sz="4800"/>
            </a:b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楷体_GB2312"/>
              </a:rPr>
              <a:t>白云生处有人家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838080"/>
            <a:ext cx="594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72560" y="4952880"/>
            <a:ext cx="627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远 处 高 山 山 间 小 路 曲 曲 弯 弯 ，</a:t>
            </a:r>
            <a:br>
              <a:rPr sz="3200"/>
            </a:b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深 山 密 林 中 升 腾 着 缕 缕 炊 烟 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38862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宋体"/>
              </a:rPr>
              <a:t>斜</a:t>
            </a:r>
            <a:r>
              <a:rPr b="0" lang="zh-CN" sz="3200" spc="-1" strike="noStrike">
                <a:solidFill>
                  <a:srgbClr val="3366ff"/>
                </a:solidFill>
                <a:latin typeface="宋体"/>
              </a:rPr>
              <a:t>:</a:t>
            </a:r>
            <a:r>
              <a:rPr b="0" lang="zh-CN" sz="3200" spc="-1" strike="noStrike">
                <a:solidFill>
                  <a:srgbClr val="3366ff"/>
                </a:solidFill>
                <a:latin typeface="宋体"/>
              </a:rPr>
              <a:t>弯曲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25146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远上：向山的远处伸展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4197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白云深处：深山之中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520" y="114264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停车坐爱枫林晚，</a:t>
            </a:r>
            <a:br>
              <a:rPr sz="4800"/>
            </a:b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霜叶红于二月花。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590920"/>
            <a:ext cx="393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坐：因为、由于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1143000"/>
            <a:ext cx="6324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停车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楷体_GB2312"/>
              </a:rPr>
              <a:t>坐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爱枫林晚，</a:t>
            </a:r>
            <a:br>
              <a:rPr sz="4800"/>
            </a:b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霜叶红于二月花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1143000"/>
            <a:ext cx="6324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楷体_GB2312"/>
              </a:rPr>
              <a:t>停车坐爱枫林晚，</a:t>
            </a:r>
            <a:br>
              <a:rPr sz="4800"/>
            </a:b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楷体_GB2312"/>
              </a:rPr>
              <a:t>霜叶红于二月花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3520" y="4648320"/>
            <a:ext cx="647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停 车 是 因 为 我 爱 看 枫 林 晚 景 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经 霜 的 红 叶 比 春 花 更 加 鲜 艳 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30481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爱：喜爱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35812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霜叶</a:t>
            </a:r>
            <a:r>
              <a:rPr b="0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:</a:t>
            </a:r>
            <a:r>
              <a:rPr b="0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被秋霜打过的枫叶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41148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  <a:ea typeface="楷体_GB2312"/>
              </a:rPr>
              <a:t>于：比……还红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684360" y="-54000"/>
            <a:ext cx="10873080" cy="74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7-17T14:14:03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