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E04-A779-42B3-89D0-CFFB7308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882-D526-401C-A6A1-C0138E2C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062-6FCD-4493-B009-D9B324CB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01E-4EA6-4F46-BCC0-DD08A032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940-65DE-4514-8B1A-4ED13BD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B3B-1B6A-4423-91A1-B5E6B81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8C8-11C1-4FDC-B12C-C25388E9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7D0-488B-4207-BBEF-09419A2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9F3-91FE-46E3-B81B-6949F48E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5F2-DA53-465B-8848-1510409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2A9-540B-416A-AC42-C432F2D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B25-AF5A-481E-855D-019BAD0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9FBE-F1F5-480A-83DE-687EB8157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4400" y="-33480"/>
            <a:ext cx="9172800" cy="692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5257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400" y="-33480"/>
            <a:ext cx="9172800" cy="6924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8580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380880" y="5943600"/>
            <a:ext cx="838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字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238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3962520"/>
            <a:ext cx="701028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0866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0866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4400" y="-33480"/>
            <a:ext cx="9172800" cy="69249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8580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居秋暝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40384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空山新雨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气晚来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明月松间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清泉石上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400" y="-42840"/>
            <a:ext cx="91728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17T14:13:55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