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0E2-FAD9-44A2-8CDA-997113E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84E8-C757-4B49-9338-D44994B3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F7E-32F5-47D2-AE71-5F5959E7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D2A-A861-476B-BB8E-2CD39DAC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0EB7-466F-4F97-9DFD-F459B4F1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A3F8-6FA3-49C9-B52D-79CB793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523-9419-48C6-ACBE-ED0A2932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2BC2-A0AA-450B-B7DE-F55432EB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5982-6420-409A-856D-18FA8BD7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44CC-C2A3-410D-9D04-307929A7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3367-A64B-4765-A4E9-DC67086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ECF-42E4-4ABA-9F2C-17D2A825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DA1-6D6E-446F-9DA0-A872DD4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6AC-EDE7-477E-88EE-8C7A35EF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0B62-D3AF-4A00-B592-808F626F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D843-676D-434B-9CB4-E74B8955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615D-E74D-4B4B-AE76-201133B1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BC3-51C9-430E-BA21-C52D847F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1BA5-CFE7-4D6B-A776-B20629CD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675-C450-488A-BF67-E4B639A3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85AB-D5CF-489A-98FD-39507D42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C06-D8CA-4DB2-84B3-ADA2CF4B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B47-13D4-4FDE-895B-6D02BB28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3261-E936-47EE-94AA-365D8D2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E:\PPT\pict\花1-2.gif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E:\PPT\pict\花2-2.gif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0444-611F-44DF-91A8-5702E6EB4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Picture 4" descr="E:\PPT\pict\花1-1.gif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5" descr="E:\PPT\pict\花2-1.gif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7F60-05BB-4E63-8483-E6488B01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17"/>
          <a:srcRect l="0" t="0" r="0" b="5860"/>
          <a:stretch/>
        </p:blipFill>
        <p:spPr>
          <a:xfrm>
            <a:off x="9360" y="0"/>
            <a:ext cx="91630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RAIN3590.WAV" descr=""/>
          <p:cNvPicPr/>
          <p:nvPr/>
        </p:nvPicPr>
        <p:blipFill>
          <a:blip r:embed="rId18"/>
          <a:stretch/>
        </p:blipFill>
        <p:spPr>
          <a:xfrm>
            <a:off x="899172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3" name="Text Box 10" descr=""/>
          <p:cNvPicPr/>
          <p:nvPr/>
        </p:nvPicPr>
        <p:blipFill>
          <a:blip r:embed="rId19"/>
          <a:stretch/>
        </p:blipFill>
        <p:spPr>
          <a:xfrm>
            <a:off x="395280" y="152280"/>
            <a:ext cx="2365560" cy="6588360"/>
          </a:xfrm>
          <a:prstGeom prst="rect">
            <a:avLst/>
          </a:prstGeom>
          <a:ln w="0">
            <a:noFill/>
          </a:ln>
        </p:spPr>
      </p:pic>
      <p:sp>
        <p:nvSpPr>
          <p:cNvPr id="94" name="矩形 7"/>
          <p:cNvSpPr/>
          <p:nvPr/>
        </p:nvSpPr>
        <p:spPr>
          <a:xfrm>
            <a:off x="2166840" y="6315120"/>
            <a:ext cx="302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572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来得突然——跟着一阵阵湿润的山风，跟着一缕缕轻盈的云雾，雨，悄悄地来了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533520" y="30492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21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像一曲无字的歌谣，神奇地从四面八方飘然而起，逐渐清晰起来，响亮起来，由远而近，由远而近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8143200" y="990720"/>
            <a:ext cx="60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飘飘洒洒的雨丝是无数轻捷柔软的手指，弹奏出一首又一首优雅的小曲，每一个音符都带着幻想的色彩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600" y="1066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所有的色彩都融化在水淋淋的嫩绿之中，绿得耀眼，绿得透明。这清新的绿色仿佛在雨雾中流动，流进我的眼睛，流进我的心胸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257800" y="762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雨，悄悄地停了。风，也屏住了呼吸，山中一下变得非常幽静。远处，一只不知名的鸟儿开始啼啭起来，仿佛在倾吐着浴后的欢跃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37160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多美的文章啊！为什么不用你灵巧的手绘制出一幅如诗如画的山雨图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14:12Z</dcterms:created>
  <dc:creator>第一PPT模板网-WWW.1PPT.COM</dc:creator>
  <dc:description>第一PPT模板网-WWW.1PPT.COM
</dc:description>
  <dc:language>en-US</dc:language>
  <cp:lastModifiedBy>wuhan</cp:lastModifiedBy>
  <dcterms:modified xsi:type="dcterms:W3CDTF">2017-09-04T05:15:31Z</dcterms:modified>
  <cp:revision>5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