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5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1.jpeg" ContentType="image/jpeg"/>
  <Override PartName="/ppt/media/image10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chimes.wav" ContentType="audio/x-wav"/>
  <Override PartName="/ppt/media/image7.wmf" ContentType="image/x-wmf"/>
  <Override PartName="/ppt/media/image9.jpeg" ContentType="image/jpeg"/>
  <Override PartName="/ppt/media/image11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BF05-BBE4-4EBB-89EB-CF9B78A3B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22F6-BB53-4219-B2D9-0752556D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55C9-5407-4D85-9BA9-9488CA403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1599-37BB-4A03-96A8-F1262C5CB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2123-18B3-43B1-BC7E-BEEA9E454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A25D-C8A9-4B71-8350-AD64A093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A759-C1B8-427E-93AE-F65270C8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C67F-EE0D-4D7A-A4E7-645A8B51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0792-EFB1-4798-AC14-A3BDFA2A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F1DD-08AF-45B4-87F9-0087A2E1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9552-3189-4A0A-822E-A466DB02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220E-2CE3-4091-8BDC-45635247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D28B-7F76-425A-93B5-017A38D3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0F04-C8F4-45DE-BC1C-D6DC16FC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1D66-C816-406D-820E-192F41F9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CE16-C187-4E4D-A69B-5C51AA22D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7588-C514-4157-B7C5-41961AD6A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DB93-7A3B-464B-906D-8A9C7E17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A8A7-DC07-4767-B370-54220786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39A7-2AE4-436E-B231-BEF9AFBC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B3D5-DD94-40F2-9392-4E30FB3A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51BE-F603-4996-904E-74B22755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F8CB-6D51-4559-87F4-0BCD5A71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FCC9-966C-4AEC-8AAE-8C755A65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2559-3987-4816-A2C0-E23BFACA37E6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4F15-AA4A-48D5-839E-E6C9F8C5555F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21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8.wmf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5.xml"/><Relationship Id="rId7" Type="http://schemas.openxmlformats.org/officeDocument/2006/relationships/slide" Target="slide17.xml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" Target="slide7.xml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8532720" y="6308640"/>
            <a:ext cx="432000" cy="433440"/>
          </a:xfrm>
          <a:prstGeom prst="smileyFace">
            <a:avLst>
              <a:gd name="adj" fmla="val 9282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7956720" y="6381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247160" y="630864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框架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2809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99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09480" y="6858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572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例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院子里走出一个外国小女孩，她披着一肩金黄色的头发，碧蓝碧蓝的大眼睛，长长的睫毛，苹果似的小脸，身穿一条浅蓝色的连衣裙，脚穿一双红皮鞋。她调皮地眨了眨眼睛，冲我友好地笑了笑，她这一笑，脸蛋上露出了两个小酒窝，嘴角向上翘起，活像一个洋娃娃。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562720" y="4473720"/>
            <a:ext cx="327636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09480" y="6858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ff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例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她的头发短短的，身着运动衫，足登球鞋，看上去像小男孩。她的名字叫张颖，颖是聪颖的颖。这个名字饱含着父母对她的希望，当然她也没辜负父母的期望，还有点儿小聪明。她不但长得像个小男孩，性格也像小男孩。她爱和男孩子们玩打仗，也爱和表哥在地下摔跤，更爱和男孩子们放炮竹，捉蟋蟀。她说：“和男孩子玩，他们不爱生气，不爱哭，玩着痛快！”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64200" y="4903920"/>
            <a:ext cx="1646280" cy="18018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85800" y="62485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0066"/>
                </a:solidFill>
                <a:uFillTx/>
                <a:latin typeface="Times New Roman"/>
                <a:hlinkClick r:id="rId3" action="ppaction://hlinksldjump"/>
              </a:rPr>
              <a:t>返回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514600" y="2101680"/>
            <a:ext cx="3886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部首：</a:t>
            </a: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手</a:t>
            </a:r>
            <a:endParaRPr b="0" lang="en-US" sz="6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81680" y="586728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0066"/>
                </a:solidFill>
                <a:uFillTx/>
                <a:latin typeface="Times New Roman"/>
                <a:hlinkClick r:id="rId2" action="ppaction://hlinksldjump"/>
              </a:rPr>
              <a:t>返回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66ff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76520" y="2879640"/>
            <a:ext cx="3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5120" y="2101680"/>
            <a:ext cx="5638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部首：</a:t>
            </a:r>
            <a:r>
              <a:rPr b="0" lang="zh-CN" sz="6600" spc="-1" strike="noStrike">
                <a:solidFill>
                  <a:srgbClr val="ff3300"/>
                </a:solidFill>
                <a:latin typeface="宋体"/>
                <a:ea typeface="楷体_GB2312"/>
              </a:rPr>
              <a:t>厶</a:t>
            </a:r>
            <a:r>
              <a:rPr b="0" lang="zh-CN" sz="6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或</a:t>
            </a: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儿</a:t>
            </a:r>
            <a:endParaRPr b="0" lang="en-US" sz="6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81680" y="586728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0066"/>
                </a:solidFill>
                <a:uFillTx/>
                <a:latin typeface="Times New Roman"/>
                <a:hlinkClick r:id="rId2" action="ppaction://hlinksldjump"/>
              </a:rPr>
              <a:t>返回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514600" y="2101680"/>
            <a:ext cx="3886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部首：</a:t>
            </a: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亠</a:t>
            </a:r>
            <a:r>
              <a:rPr b="0" lang="zh-CN" sz="66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81680" y="586728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0066"/>
                </a:solidFill>
                <a:uFillTx/>
                <a:latin typeface="Times New Roman"/>
                <a:hlinkClick r:id="rId2" action="ppaction://hlinksldjump"/>
              </a:rPr>
              <a:t>返回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55640" y="162864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啊！闰土的心里有无穷无尽的希奇的事，都是我往常的朋友所不知道的。他们不知道一些事，闰土在海边时，他们都和我一样只看见院子里高墙上的四角的天空。 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328464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他们都和我一样只看见院子里高         墙上的四角的天空。</a:t>
            </a:r>
            <a:r>
              <a:rPr b="1" lang="zh-CN" sz="18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917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他们都和我一样只看见院子里高         墙上的四角的天空。 </a:t>
            </a:r>
            <a:br>
              <a:rPr sz="4000"/>
            </a:b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2206440"/>
            <a:ext cx="79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我”和“往常的朋友”是些“少爷”，整天生活在大院里，不能广泛地接触大自然，像井底之蛙，眼界狭窄。表达了“我”对自己所处环境的不满，流露了对农村丰富多彩生活的向往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81680" y="5867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-76320" y="-76320"/>
            <a:ext cx="4918320" cy="70866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7467480" y="6019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0066"/>
                </a:solidFill>
                <a:uFillTx/>
                <a:latin typeface="Times New Roman"/>
                <a:hlinkClick r:id="rId2" action="ppaction://hlinksldjump"/>
              </a:rPr>
              <a:t>返回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05520" y="1873080"/>
            <a:ext cx="373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想象“我”和闰土是怎样话别的，再说一说。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696080" y="640080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0066"/>
                </a:solidFill>
                <a:uFillTx/>
                <a:latin typeface="Times New Roman"/>
                <a:hlinkClick r:id="rId2" action="ppaction://hlinksldjump"/>
              </a:rPr>
              <a:t>返回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380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99ff"/>
                </a:solidFill>
                <a:latin typeface="Times New Roman"/>
              </a:rPr>
              <a:t>跳鱼儿：弹涂鱼。体长约</a:t>
            </a:r>
            <a:r>
              <a:rPr b="1" lang="zh-CN" sz="2400" spc="-1" strike="noStrike">
                <a:solidFill>
                  <a:srgbClr val="3399ff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3399ff"/>
                </a:solidFill>
                <a:latin typeface="Times New Roman"/>
              </a:rPr>
              <a:t>厘米，稍侧扁，淡褐色。栖息于海滨泥中，常出水跳跃，上陆地觅食，可食用。我国南北沿海都有出产。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219320" y="1905120"/>
            <a:ext cx="6324480" cy="4647960"/>
            <a:chOff x="1219320" y="1905120"/>
            <a:chExt cx="6324480" cy="4647960"/>
          </a:xfrm>
        </p:grpSpPr>
        <p:pic>
          <p:nvPicPr>
            <p:cNvPr id="180" name="" descr=""/>
            <p:cNvPicPr/>
            <p:nvPr/>
          </p:nvPicPr>
          <p:blipFill>
            <a:blip r:embed="rId3"/>
            <a:stretch/>
          </p:blipFill>
          <p:spPr>
            <a:xfrm>
              <a:off x="1219320" y="1905120"/>
              <a:ext cx="2514600" cy="20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4"/>
            <a:stretch/>
          </p:blipFill>
          <p:spPr>
            <a:xfrm>
              <a:off x="4838760" y="2209680"/>
              <a:ext cx="2705040" cy="388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tantuyu4" descr=""/>
            <p:cNvPicPr/>
            <p:nvPr/>
          </p:nvPicPr>
          <p:blipFill>
            <a:blip r:embed="rId5"/>
            <a:stretch/>
          </p:blipFill>
          <p:spPr>
            <a:xfrm>
              <a:off x="1295280" y="4199040"/>
              <a:ext cx="2438640" cy="2354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7772400" y="61722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0066"/>
                </a:solidFill>
                <a:uFillTx/>
                <a:latin typeface="Times New Roman"/>
                <a:hlinkClick r:id="rId1" action="ppaction://hlinksldjump"/>
              </a:rPr>
              <a:t>返回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404640"/>
            <a:ext cx="854064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           “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晚上我和爹管西瓜去，你也去。”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           “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管贼吗？”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           “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不是。走路的人口渴了摘一个瓜吃，我们这里是不算偷的。要管的是獾猪，刺猬，猹。月亮地下，你听，啦啦地响了，猹在咬瓜了。你便捏了胡叉，轻轻地走去……”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          “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它不咬人吗？”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          “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有胡叉呢。走到了，看见猹了，你便刺。这畜生很伶俐，倒向你奔来，反从胯下窜了。它的皮毛是油一般的滑……”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04920" y="3952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473868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银项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圈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214776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允</a:t>
            </a: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许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62440" y="2147760"/>
            <a:ext cx="186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毡</a:t>
            </a: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帽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15280" y="2147760"/>
            <a:ext cx="201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颈</a:t>
            </a: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上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45744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缚</a:t>
            </a: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在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9520" y="344340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畜</a:t>
            </a: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生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05320" y="47386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五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行</a:t>
            </a: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缺土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2147760"/>
            <a:ext cx="152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正</a:t>
            </a: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月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344340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仿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佛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77120" y="3443400"/>
            <a:ext cx="144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空</a:t>
            </a: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地</a:t>
            </a:r>
            <a:r>
              <a:rPr b="1" lang="zh-CN" sz="4800" spc="-1" strike="noStrike">
                <a:solidFill>
                  <a:srgbClr val="0033cc"/>
                </a:solidFill>
                <a:latin typeface="宋体"/>
              </a:rPr>
              <a:t> 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1557360"/>
            <a:ext cx="144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zypyyb"/>
                <a:ea typeface="zypyyb"/>
              </a:rPr>
              <a:t>zh</a:t>
            </a:r>
            <a:r>
              <a:rPr b="1" lang="en-US" sz="3600" spc="-1" strike="noStrike">
                <a:solidFill>
                  <a:srgbClr val="0033cc"/>
                </a:solidFill>
                <a:latin typeface="zypyyb"/>
                <a:ea typeface="zypyyb"/>
              </a:rPr>
              <a:t>ē</a:t>
            </a:r>
            <a:r>
              <a:rPr b="1" lang="zh-CN" sz="3600" spc="-1" strike="noStrike">
                <a:solidFill>
                  <a:srgbClr val="0033cc"/>
                </a:solidFill>
                <a:latin typeface="zypyyb"/>
                <a:ea typeface="zypyyb"/>
              </a:rPr>
              <a:t>ng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16146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zypyyb"/>
                <a:ea typeface="zypyyb"/>
              </a:rPr>
              <a:t>yǔn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16360" y="162864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zypyyb"/>
                <a:ea typeface="zypyyb"/>
              </a:rPr>
              <a:t>zhān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77120" y="16146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zypyyb"/>
                <a:ea typeface="zypyyb"/>
              </a:rPr>
              <a:t>jǐng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29541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zypyyb"/>
                <a:ea typeface="zypyyb"/>
              </a:rPr>
              <a:t>fù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66880" y="29541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zypyyb"/>
                <a:ea typeface="zypyyb"/>
              </a:rPr>
              <a:t>chù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9541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zypyyb"/>
                <a:ea typeface="zypyyb"/>
              </a:rPr>
              <a:t>fú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29541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zypyyb"/>
                <a:ea typeface="zypyyb"/>
              </a:rPr>
              <a:t>kòng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42051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zypyyb"/>
                <a:ea typeface="zypyyb"/>
              </a:rPr>
              <a:t>quān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38480" y="42051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zypyyb"/>
                <a:ea typeface="zypyyb"/>
              </a:rPr>
              <a:t>xíng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2438640" cy="1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219320" y="2133720"/>
            <a:ext cx="693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00000"/>
                </a:solidFill>
                <a:latin typeface="Times New Roman"/>
                <a:ea typeface="幼圆"/>
              </a:rPr>
              <a:t>扫、支、撒、拉</a:t>
            </a:r>
            <a:endParaRPr b="0" lang="en-US" sz="6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772400" y="61722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0066"/>
                </a:solidFill>
                <a:uFillTx/>
                <a:latin typeface="Times New Roman"/>
                <a:hlinkClick r:id="rId1" action="ppaction://hlinksldjump"/>
              </a:rPr>
              <a:t>返回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980640"/>
            <a:ext cx="854064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</a:t>
            </a:r>
            <a:r>
              <a:rPr b="0" lang="zh-CN" sz="5400" spc="-1" strike="noStrike">
                <a:solidFill>
                  <a:srgbClr val="0033cc"/>
                </a:solidFill>
                <a:latin typeface="Arial"/>
                <a:ea typeface="楷体_GB2312"/>
              </a:rPr>
              <a:t>天空挂着圆月，下面是沙地，都种着西瓜。其间有一个少年，手捏一柄钢叉，向一匹猹刺去。那猹却将身一扭，反从他的胯下逃走了。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04920" y="836280"/>
            <a:ext cx="85406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          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  <a:ea typeface="楷体_GB2312"/>
              </a:rPr>
              <a:t>深蓝地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)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天空（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  <a:ea typeface="楷体_GB2312"/>
              </a:rPr>
              <a:t>中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）挂着（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  <a:ea typeface="楷体_GB2312"/>
              </a:rPr>
              <a:t>一轮金黄的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）圆月，下面是（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  <a:ea typeface="楷体_GB2312"/>
              </a:rPr>
              <a:t>海边的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）沙地，都种着（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  <a:ea typeface="楷体_GB2312"/>
              </a:rPr>
              <a:t>一望无际的碧绿的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）西瓜。其间有一个（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  <a:ea typeface="楷体_GB2312"/>
              </a:rPr>
              <a:t>十一二岁的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）少年，（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  <a:ea typeface="楷体_GB2312"/>
              </a:rPr>
              <a:t>项带银圈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，）手捏一柄钢叉，向一匹猹（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  <a:ea typeface="楷体_GB2312"/>
              </a:rPr>
              <a:t>尽力地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）刺去。那猹却将身一扭，反从他的胯下逃走了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833600" y="5877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  <a:ea typeface="楷体_GB2312"/>
              </a:rPr>
              <a:t>图片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60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572"/>
                </a:solidFill>
                <a:latin typeface="Arial"/>
              </a:rPr>
              <a:t>其间                  只知道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572"/>
                </a:solidFill>
                <a:latin typeface="Arial"/>
              </a:rPr>
              <a:t>无端                  稀奇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572"/>
                </a:solidFill>
                <a:latin typeface="Arial"/>
              </a:rPr>
              <a:t>素不知道           如此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572"/>
                </a:solidFill>
                <a:latin typeface="Arial"/>
              </a:rPr>
              <a:t>如许                 从来不知道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572"/>
                </a:solidFill>
                <a:latin typeface="Arial"/>
              </a:rPr>
              <a:t>希奇                 其中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572"/>
                </a:solidFill>
                <a:latin typeface="Arial"/>
              </a:rPr>
              <a:t>单知道             无缘无故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90" idx="0"/>
            <a:endCxn id="190" idx="0"/>
          </p:cNvCxnSpPr>
          <p:nvPr/>
        </p:nvCxnSpPr>
        <p:spPr>
          <a:xfrm>
            <a:off x="4438440" y="259920"/>
            <a:ext cx="1080" cy="1080"/>
          </a:xfrm>
          <a:prstGeom prst="straightConnector1">
            <a:avLst/>
          </a:prstGeom>
          <a:ln w="9360">
            <a:solidFill>
              <a:srgbClr val="0033cc"/>
            </a:solidFill>
            <a:miter/>
          </a:ln>
        </p:spPr>
      </p:cxnSp>
      <p:sp>
        <p:nvSpPr>
          <p:cNvPr id="192" name=""/>
          <p:cNvSpPr/>
          <p:nvPr/>
        </p:nvSpPr>
        <p:spPr>
          <a:xfrm>
            <a:off x="1835280" y="836640"/>
            <a:ext cx="3313080" cy="352908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35280" y="1844640"/>
            <a:ext cx="3241440" cy="381636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32000" y="2708280"/>
            <a:ext cx="1944720" cy="86508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835280" y="2708280"/>
            <a:ext cx="3528720" cy="100800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835280" y="1844280"/>
            <a:ext cx="3457440" cy="280836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484360" y="765000"/>
            <a:ext cx="2735280" cy="489600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20880" y="6093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76320" y="1828800"/>
            <a:ext cx="144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空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47920" y="16002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zypyyb"/>
                <a:ea typeface="zypyyb"/>
              </a:rPr>
              <a:t>k</a:t>
            </a:r>
            <a:r>
              <a:rPr b="1" lang="en-US" sz="3600" spc="-1" strike="noStrike">
                <a:solidFill>
                  <a:srgbClr val="3399ff"/>
                </a:solidFill>
                <a:latin typeface="zypyyb"/>
                <a:ea typeface="zypyyb"/>
              </a:rPr>
              <a:t>ō</a:t>
            </a:r>
            <a:r>
              <a:rPr b="1" lang="zh-CN" sz="3600" spc="-1" strike="noStrike">
                <a:solidFill>
                  <a:srgbClr val="3399ff"/>
                </a:solidFill>
                <a:latin typeface="zypyyb"/>
                <a:ea typeface="zypyyb"/>
              </a:rPr>
              <a:t>ng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          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47920" y="21780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zypyyb"/>
                <a:ea typeface="zypyyb"/>
              </a:rPr>
              <a:t>k</a:t>
            </a:r>
            <a:r>
              <a:rPr b="1" lang="en-US" sz="3600" spc="-1" strike="noStrike">
                <a:solidFill>
                  <a:srgbClr val="3399ff"/>
                </a:solidFill>
                <a:latin typeface="zypyyb"/>
                <a:ea typeface="zypyyb"/>
              </a:rPr>
              <a:t>ò</a:t>
            </a:r>
            <a:r>
              <a:rPr b="1" lang="zh-CN" sz="3600" spc="-1" strike="noStrike">
                <a:solidFill>
                  <a:srgbClr val="3399ff"/>
                </a:solidFill>
                <a:latin typeface="zypyyb"/>
                <a:ea typeface="zypyyb"/>
              </a:rPr>
              <a:t>ng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          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19320" y="1905120"/>
            <a:ext cx="152280" cy="761760"/>
          </a:xfrm>
          <a:custGeom>
            <a:avLst/>
            <a:gdLst>
              <a:gd name="textAreaLeft" fmla="*/ 97200 w 152280"/>
              <a:gd name="textAreaRight" fmla="*/ 152640 w 15228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971800" y="1676520"/>
            <a:ext cx="990720" cy="1068120"/>
            <a:chOff x="2971800" y="1676520"/>
            <a:chExt cx="990720" cy="1068120"/>
          </a:xfrm>
        </p:grpSpPr>
        <p:sp>
          <p:nvSpPr>
            <p:cNvPr id="204" name=""/>
            <p:cNvSpPr/>
            <p:nvPr/>
          </p:nvSpPr>
          <p:spPr>
            <a:xfrm>
              <a:off x="2971800" y="167652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楷体_GB2312"/>
                </a:rPr>
                <a:t>天空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71800" y="222408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楷体_GB2312"/>
                </a:rPr>
                <a:t>空地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304920" y="382680"/>
            <a:ext cx="350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Times New Roman"/>
                <a:ea typeface="方正舒体"/>
              </a:rPr>
              <a:t>多音字组词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33520" y="1182600"/>
            <a:ext cx="2971800" cy="189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6320" y="3505320"/>
            <a:ext cx="144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行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47920" y="327672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zypyyb"/>
                <a:ea typeface="zypyyb"/>
              </a:rPr>
              <a:t>x</a:t>
            </a:r>
            <a:r>
              <a:rPr b="1" lang="en-US" sz="3600" spc="-1" strike="noStrike">
                <a:solidFill>
                  <a:srgbClr val="3399ff"/>
                </a:solidFill>
                <a:latin typeface="zypyyb"/>
                <a:ea typeface="zypyyb"/>
              </a:rPr>
              <a:t>í</a:t>
            </a:r>
            <a:r>
              <a:rPr b="1" lang="zh-CN" sz="3600" spc="-1" strike="noStrike">
                <a:solidFill>
                  <a:srgbClr val="3399ff"/>
                </a:solidFill>
                <a:latin typeface="zypyyb"/>
                <a:ea typeface="zypyyb"/>
              </a:rPr>
              <a:t>ng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          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47920" y="385452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zypyyb"/>
                <a:ea typeface="zypyyb"/>
              </a:rPr>
              <a:t>h</a:t>
            </a:r>
            <a:r>
              <a:rPr b="1" lang="en-US" sz="3600" spc="-1" strike="noStrike">
                <a:solidFill>
                  <a:srgbClr val="3399ff"/>
                </a:solidFill>
                <a:latin typeface="zypyyb"/>
                <a:ea typeface="zypyyb"/>
              </a:rPr>
              <a:t>á</a:t>
            </a:r>
            <a:r>
              <a:rPr b="1" lang="zh-CN" sz="3600" spc="-1" strike="noStrike">
                <a:solidFill>
                  <a:srgbClr val="3399ff"/>
                </a:solidFill>
                <a:latin typeface="zypyyb"/>
                <a:ea typeface="zypyyb"/>
              </a:rPr>
              <a:t>ng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          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19320" y="3581280"/>
            <a:ext cx="152280" cy="762120"/>
          </a:xfrm>
          <a:custGeom>
            <a:avLst/>
            <a:gdLst>
              <a:gd name="textAreaLeft" fmla="*/ 97200 w 152280"/>
              <a:gd name="textAreaRight" fmla="*/ 152640 w 1522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971800" y="3352680"/>
            <a:ext cx="990720" cy="1068480"/>
            <a:chOff x="2971800" y="3352680"/>
            <a:chExt cx="990720" cy="1068480"/>
          </a:xfrm>
        </p:grpSpPr>
        <p:sp>
          <p:nvSpPr>
            <p:cNvPr id="213" name=""/>
            <p:cNvSpPr/>
            <p:nvPr/>
          </p:nvSpPr>
          <p:spPr>
            <a:xfrm>
              <a:off x="2971800" y="335268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楷体_GB2312"/>
                </a:rPr>
                <a:t>行为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71800" y="39006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楷体_GB2312"/>
                </a:rPr>
                <a:t>行列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76320" y="5105520"/>
            <a:ext cx="144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尽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47920" y="487692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zypyyb"/>
                <a:ea typeface="zypyyb"/>
              </a:rPr>
              <a:t>j</a:t>
            </a:r>
            <a:r>
              <a:rPr b="1" lang="en-US" sz="3600" spc="-1" strike="noStrike">
                <a:solidFill>
                  <a:srgbClr val="3399ff"/>
                </a:solidFill>
                <a:latin typeface="zypyyb"/>
                <a:ea typeface="zypyyb"/>
              </a:rPr>
              <a:t>ì</a:t>
            </a:r>
            <a:r>
              <a:rPr b="1" lang="zh-CN" sz="3600" spc="-1" strike="noStrike">
                <a:solidFill>
                  <a:srgbClr val="3399ff"/>
                </a:solidFill>
                <a:latin typeface="zypyyb"/>
                <a:ea typeface="zypyyb"/>
              </a:rPr>
              <a:t>n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          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47920" y="545472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zypyyb"/>
                <a:ea typeface="zypyyb"/>
              </a:rPr>
              <a:t>j</a:t>
            </a:r>
            <a:r>
              <a:rPr b="1" lang="en-US" sz="3600" spc="-1" strike="noStrike">
                <a:solidFill>
                  <a:srgbClr val="3399ff"/>
                </a:solidFill>
                <a:latin typeface="zypyyb"/>
                <a:ea typeface="zypyyb"/>
              </a:rPr>
              <a:t>ǐ</a:t>
            </a:r>
            <a:r>
              <a:rPr b="1" lang="zh-CN" sz="3600" spc="-1" strike="noStrike">
                <a:solidFill>
                  <a:srgbClr val="3399ff"/>
                </a:solidFill>
                <a:latin typeface="zypyyb"/>
                <a:ea typeface="zypyyb"/>
              </a:rPr>
              <a:t>n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          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19320" y="5181480"/>
            <a:ext cx="152280" cy="762120"/>
          </a:xfrm>
          <a:custGeom>
            <a:avLst/>
            <a:gdLst>
              <a:gd name="textAreaLeft" fmla="*/ 97200 w 152280"/>
              <a:gd name="textAreaRight" fmla="*/ 152640 w 1522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971800" y="4952880"/>
            <a:ext cx="990720" cy="1068480"/>
            <a:chOff x="2971800" y="4952880"/>
            <a:chExt cx="990720" cy="1068480"/>
          </a:xfrm>
        </p:grpSpPr>
        <p:sp>
          <p:nvSpPr>
            <p:cNvPr id="220" name=""/>
            <p:cNvSpPr/>
            <p:nvPr/>
          </p:nvSpPr>
          <p:spPr>
            <a:xfrm>
              <a:off x="2971800" y="495288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楷体_GB2312"/>
                </a:rPr>
                <a:t>尽量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71800" y="55008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楷体_GB2312"/>
                </a:rPr>
                <a:t>尽管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572000" y="182880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正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67280" y="1600200"/>
            <a:ext cx="3048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zypyyb"/>
                <a:ea typeface="zypyyb"/>
              </a:rPr>
              <a:t>zh</a:t>
            </a:r>
            <a:r>
              <a:rPr b="1" lang="en-US" sz="3600" spc="-1" strike="noStrike">
                <a:solidFill>
                  <a:srgbClr val="3399ff"/>
                </a:solidFill>
                <a:latin typeface="zypyyb"/>
                <a:ea typeface="zypyyb"/>
              </a:rPr>
              <a:t>ē</a:t>
            </a:r>
            <a:r>
              <a:rPr b="1" lang="zh-CN" sz="3600" spc="-1" strike="noStrike">
                <a:solidFill>
                  <a:srgbClr val="3399ff"/>
                </a:solidFill>
                <a:latin typeface="zypyyb"/>
                <a:ea typeface="zypyyb"/>
              </a:rPr>
              <a:t>ng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          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67280" y="2178000"/>
            <a:ext cx="3048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zypyyb"/>
                <a:ea typeface="zypyyb"/>
              </a:rPr>
              <a:t>zh</a:t>
            </a:r>
            <a:r>
              <a:rPr b="1" lang="en-US" sz="3600" spc="-1" strike="noStrike">
                <a:solidFill>
                  <a:srgbClr val="3399ff"/>
                </a:solidFill>
                <a:latin typeface="zypyyb"/>
                <a:ea typeface="zypyyb"/>
              </a:rPr>
              <a:t>è</a:t>
            </a:r>
            <a:r>
              <a:rPr b="1" lang="zh-CN" sz="3600" spc="-1" strike="noStrike">
                <a:solidFill>
                  <a:srgbClr val="3399ff"/>
                </a:solidFill>
                <a:latin typeface="zypyyb"/>
                <a:ea typeface="zypyyb"/>
              </a:rPr>
              <a:t>ng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          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15000" y="1905120"/>
            <a:ext cx="152280" cy="761760"/>
          </a:xfrm>
          <a:custGeom>
            <a:avLst/>
            <a:gdLst>
              <a:gd name="textAreaLeft" fmla="*/ 97200 w 152280"/>
              <a:gd name="textAreaRight" fmla="*/ 152640 w 15228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543800" y="1676520"/>
            <a:ext cx="990720" cy="1068120"/>
            <a:chOff x="7543800" y="1676520"/>
            <a:chExt cx="990720" cy="1068120"/>
          </a:xfrm>
        </p:grpSpPr>
        <p:sp>
          <p:nvSpPr>
            <p:cNvPr id="227" name=""/>
            <p:cNvSpPr/>
            <p:nvPr/>
          </p:nvSpPr>
          <p:spPr>
            <a:xfrm>
              <a:off x="7543800" y="167652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楷体_GB2312"/>
                </a:rPr>
                <a:t>正月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43800" y="222408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楷体_GB2312"/>
                </a:rPr>
                <a:t>正确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4572000" y="350532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圈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43600" y="32767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zypyyb"/>
                <a:ea typeface="zypyyb"/>
              </a:rPr>
              <a:t>qu</a:t>
            </a:r>
            <a:r>
              <a:rPr b="1" lang="en-US" sz="3600" spc="-1" strike="noStrike">
                <a:solidFill>
                  <a:srgbClr val="3399ff"/>
                </a:solidFill>
                <a:latin typeface="zypyyb"/>
                <a:ea typeface="zypyyb"/>
              </a:rPr>
              <a:t>ā</a:t>
            </a:r>
            <a:r>
              <a:rPr b="1" lang="zh-CN" sz="3600" spc="-1" strike="noStrike">
                <a:solidFill>
                  <a:srgbClr val="3399ff"/>
                </a:solidFill>
                <a:latin typeface="zypyyb"/>
                <a:ea typeface="zypyyb"/>
              </a:rPr>
              <a:t>n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          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943600" y="38545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zypyyb"/>
                <a:ea typeface="zypyyb"/>
              </a:rPr>
              <a:t>ju</a:t>
            </a:r>
            <a:r>
              <a:rPr b="1" lang="en-US" sz="3600" spc="-1" strike="noStrike">
                <a:solidFill>
                  <a:srgbClr val="3399ff"/>
                </a:solidFill>
                <a:latin typeface="zypyyb"/>
                <a:ea typeface="zypyyb"/>
              </a:rPr>
              <a:t>à</a:t>
            </a:r>
            <a:r>
              <a:rPr b="1" lang="zh-CN" sz="3600" spc="-1" strike="noStrike">
                <a:solidFill>
                  <a:srgbClr val="3399ff"/>
                </a:solidFill>
                <a:latin typeface="zypyyb"/>
                <a:ea typeface="zypyyb"/>
              </a:rPr>
              <a:t>n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          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15000" y="3581280"/>
            <a:ext cx="152280" cy="762120"/>
          </a:xfrm>
          <a:custGeom>
            <a:avLst/>
            <a:gdLst>
              <a:gd name="textAreaLeft" fmla="*/ 97200 w 152280"/>
              <a:gd name="textAreaRight" fmla="*/ 152640 w 1522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7467480" y="3352680"/>
            <a:ext cx="990720" cy="1068480"/>
            <a:chOff x="7467480" y="3352680"/>
            <a:chExt cx="990720" cy="1068480"/>
          </a:xfrm>
        </p:grpSpPr>
        <p:sp>
          <p:nvSpPr>
            <p:cNvPr id="234" name=""/>
            <p:cNvSpPr/>
            <p:nvPr/>
          </p:nvSpPr>
          <p:spPr>
            <a:xfrm>
              <a:off x="7467480" y="335268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楷体_GB2312"/>
                </a:rPr>
                <a:t>圆圈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467480" y="39006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楷体_GB2312"/>
                </a:rPr>
                <a:t>羊圈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4572000" y="510552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佛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43600" y="48769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zypyyb"/>
                <a:ea typeface="zypyyb"/>
              </a:rPr>
              <a:t> </a:t>
            </a:r>
            <a:r>
              <a:rPr b="1" lang="zh-CN" sz="3600" spc="-1" strike="noStrike">
                <a:solidFill>
                  <a:srgbClr val="3399ff"/>
                </a:solidFill>
                <a:latin typeface="zypyyb"/>
                <a:ea typeface="zypyyb"/>
              </a:rPr>
              <a:t>f</a:t>
            </a:r>
            <a:r>
              <a:rPr b="1" lang="en-US" sz="3600" spc="-1" strike="noStrike">
                <a:solidFill>
                  <a:srgbClr val="3399ff"/>
                </a:solidFill>
                <a:latin typeface="zypyyb"/>
                <a:ea typeface="zypyyb"/>
              </a:rPr>
              <a:t>ú</a:t>
            </a:r>
            <a:r>
              <a:rPr b="1" lang="zh-CN" sz="3600" spc="-1" strike="noStrike">
                <a:solidFill>
                  <a:srgbClr val="3399ff"/>
                </a:solidFill>
                <a:latin typeface="zypyyb"/>
                <a:ea typeface="zypyyb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          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43600" y="54547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zypyyb"/>
                <a:ea typeface="zypyyb"/>
              </a:rPr>
              <a:t> </a:t>
            </a:r>
            <a:r>
              <a:rPr b="1" lang="zh-CN" sz="3600" spc="-1" strike="noStrike">
                <a:solidFill>
                  <a:srgbClr val="3399ff"/>
                </a:solidFill>
                <a:latin typeface="zypyyb"/>
                <a:ea typeface="zypyyb"/>
              </a:rPr>
              <a:t>f</a:t>
            </a:r>
            <a:r>
              <a:rPr b="1" lang="en-US" sz="3600" spc="-1" strike="noStrike">
                <a:solidFill>
                  <a:srgbClr val="3399ff"/>
                </a:solidFill>
                <a:latin typeface="zypyyb"/>
                <a:ea typeface="zypyyb"/>
              </a:rPr>
              <a:t>ó</a:t>
            </a:r>
            <a:r>
              <a:rPr b="1" lang="zh-CN" sz="3600" spc="-1" strike="noStrike">
                <a:solidFill>
                  <a:srgbClr val="3399ff"/>
                </a:solidFill>
                <a:latin typeface="zypyyb"/>
                <a:ea typeface="zypyyb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          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715000" y="5181480"/>
            <a:ext cx="152280" cy="762120"/>
          </a:xfrm>
          <a:custGeom>
            <a:avLst/>
            <a:gdLst>
              <a:gd name="textAreaLeft" fmla="*/ 97200 w 152280"/>
              <a:gd name="textAreaRight" fmla="*/ 152640 w 1522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7467480" y="4952880"/>
            <a:ext cx="990720" cy="1068480"/>
            <a:chOff x="7467480" y="4952880"/>
            <a:chExt cx="990720" cy="1068480"/>
          </a:xfrm>
        </p:grpSpPr>
        <p:sp>
          <p:nvSpPr>
            <p:cNvPr id="241" name=""/>
            <p:cNvSpPr/>
            <p:nvPr/>
          </p:nvSpPr>
          <p:spPr>
            <a:xfrm>
              <a:off x="7467480" y="495288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楷体_GB2312"/>
                </a:rPr>
                <a:t>仿佛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67480" y="55008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楷体_GB2312"/>
                </a:rPr>
                <a:t>神佛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04920" y="3826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比一比，组词语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380880" y="1076400"/>
            <a:ext cx="3886200" cy="247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85800" y="16002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租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  </a:t>
            </a:r>
            <a:r>
              <a:rPr b="1" lang="zh-CN" sz="3200" spc="-1" strike="noStrike">
                <a:solidFill>
                  <a:srgbClr val="007572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16002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缚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          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0020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胯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          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208764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祖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 </a:t>
            </a:r>
            <a:r>
              <a:rPr b="1" lang="zh-CN" sz="3200" spc="-1" strike="noStrike">
                <a:solidFill>
                  <a:srgbClr val="007572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26208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组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          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208764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傅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 </a:t>
            </a:r>
            <a:r>
              <a:rPr b="1" lang="zh-CN" sz="3200" spc="-1" strike="noStrike">
                <a:solidFill>
                  <a:srgbClr val="007572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52680" y="26208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搏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          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19920" y="208764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跨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          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19920" y="262080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挎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          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31543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阻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          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52680" y="31543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膊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          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19920" y="3154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垮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          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391644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扭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          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44496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钮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          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52117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拜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          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574524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湃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          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52680" y="391644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允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          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352680" y="44496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充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          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52117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厨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          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52680" y="574524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橱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          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19920" y="391644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稻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          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19920" y="444960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滔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          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19920" y="52117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郑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          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574524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正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          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676520" y="1600200"/>
            <a:ext cx="1066680" cy="2120760"/>
            <a:chOff x="1676520" y="1600200"/>
            <a:chExt cx="1066680" cy="2120760"/>
          </a:xfrm>
        </p:grpSpPr>
        <p:sp>
          <p:nvSpPr>
            <p:cNvPr id="270" name=""/>
            <p:cNvSpPr/>
            <p:nvPr/>
          </p:nvSpPr>
          <p:spPr>
            <a:xfrm>
              <a:off x="1676520" y="160020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572"/>
                  </a:solidFill>
                  <a:latin typeface="楷体_GB2312"/>
                  <a:ea typeface="楷体_GB2312"/>
                </a:rPr>
                <a:t>出租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76520" y="213336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572"/>
                  </a:solidFill>
                  <a:latin typeface="楷体_GB2312"/>
                  <a:ea typeface="楷体_GB2312"/>
                </a:rPr>
                <a:t>祖先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76520" y="26668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572"/>
                  </a:solidFill>
                  <a:latin typeface="Times New Roman"/>
                  <a:ea typeface="楷体_GB2312"/>
                </a:rPr>
                <a:t>组织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76520" y="320040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572"/>
                  </a:solidFill>
                  <a:latin typeface="Times New Roman"/>
                  <a:ea typeface="楷体_GB2312"/>
                </a:rPr>
                <a:t>阻挡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4343400" y="1600200"/>
            <a:ext cx="1066680" cy="2120760"/>
            <a:chOff x="4343400" y="1600200"/>
            <a:chExt cx="1066680" cy="2120760"/>
          </a:xfrm>
        </p:grpSpPr>
        <p:sp>
          <p:nvSpPr>
            <p:cNvPr id="275" name=""/>
            <p:cNvSpPr/>
            <p:nvPr/>
          </p:nvSpPr>
          <p:spPr>
            <a:xfrm>
              <a:off x="4343400" y="160020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572"/>
                  </a:solidFill>
                  <a:latin typeface="Times New Roman"/>
                  <a:ea typeface="楷体_GB2312"/>
                </a:rPr>
                <a:t>束缚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343400" y="213336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572"/>
                  </a:solidFill>
                  <a:latin typeface="Times New Roman"/>
                  <a:ea typeface="楷体_GB2312"/>
                </a:rPr>
                <a:t>师傅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43400" y="26668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572"/>
                  </a:solidFill>
                  <a:latin typeface="Times New Roman"/>
                  <a:ea typeface="楷体_GB2312"/>
                </a:rPr>
                <a:t>搏斗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43400" y="320040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572"/>
                  </a:solidFill>
                  <a:latin typeface="Times New Roman"/>
                  <a:ea typeface="楷体_GB2312"/>
                </a:rPr>
                <a:t>胳膊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7010280" y="1600200"/>
            <a:ext cx="1067040" cy="2120760"/>
            <a:chOff x="7010280" y="1600200"/>
            <a:chExt cx="1067040" cy="2120760"/>
          </a:xfrm>
        </p:grpSpPr>
        <p:sp>
          <p:nvSpPr>
            <p:cNvPr id="280" name=""/>
            <p:cNvSpPr/>
            <p:nvPr/>
          </p:nvSpPr>
          <p:spPr>
            <a:xfrm>
              <a:off x="7010280" y="160020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572"/>
                  </a:solidFill>
                  <a:latin typeface="Times New Roman"/>
                  <a:ea typeface="楷体_GB2312"/>
                </a:rPr>
                <a:t>胯下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10280" y="213336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572"/>
                  </a:solidFill>
                  <a:latin typeface="Times New Roman"/>
                  <a:ea typeface="楷体_GB2312"/>
                </a:rPr>
                <a:t>跨越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10280" y="266688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572"/>
                  </a:solidFill>
                  <a:latin typeface="Times New Roman"/>
                  <a:ea typeface="楷体_GB2312"/>
                </a:rPr>
                <a:t>挎包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010280" y="320040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572"/>
                  </a:solidFill>
                  <a:latin typeface="Times New Roman"/>
                  <a:ea typeface="楷体_GB2312"/>
                </a:rPr>
                <a:t>垮台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676520" y="3962520"/>
            <a:ext cx="1066680" cy="1053720"/>
            <a:chOff x="1676520" y="3962520"/>
            <a:chExt cx="1066680" cy="1053720"/>
          </a:xfrm>
        </p:grpSpPr>
        <p:sp>
          <p:nvSpPr>
            <p:cNvPr id="285" name=""/>
            <p:cNvSpPr/>
            <p:nvPr/>
          </p:nvSpPr>
          <p:spPr>
            <a:xfrm>
              <a:off x="1676520" y="396252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572"/>
                  </a:solidFill>
                  <a:latin typeface="楷体_GB2312"/>
                  <a:ea typeface="楷体_GB2312"/>
                </a:rPr>
                <a:t>扭打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676520" y="44956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572"/>
                  </a:solidFill>
                  <a:latin typeface="楷体_GB2312"/>
                  <a:ea typeface="楷体_GB2312"/>
                </a:rPr>
                <a:t>钮扣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1676520" y="5257800"/>
            <a:ext cx="1066680" cy="1054080"/>
            <a:chOff x="1676520" y="5257800"/>
            <a:chExt cx="1066680" cy="1054080"/>
          </a:xfrm>
        </p:grpSpPr>
        <p:sp>
          <p:nvSpPr>
            <p:cNvPr id="288" name=""/>
            <p:cNvSpPr/>
            <p:nvPr/>
          </p:nvSpPr>
          <p:spPr>
            <a:xfrm>
              <a:off x="1676520" y="525780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572"/>
                  </a:solidFill>
                  <a:latin typeface="楷体_GB2312"/>
                  <a:ea typeface="楷体_GB2312"/>
                </a:rPr>
                <a:t>拜年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676520" y="579132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572"/>
                  </a:solidFill>
                  <a:latin typeface="楷体_GB2312"/>
                  <a:ea typeface="楷体_GB2312"/>
                </a:rPr>
                <a:t>澎湃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43400" y="3962520"/>
            <a:ext cx="1066680" cy="1053720"/>
            <a:chOff x="4343400" y="3962520"/>
            <a:chExt cx="1066680" cy="1053720"/>
          </a:xfrm>
        </p:grpSpPr>
        <p:sp>
          <p:nvSpPr>
            <p:cNvPr id="291" name=""/>
            <p:cNvSpPr/>
            <p:nvPr/>
          </p:nvSpPr>
          <p:spPr>
            <a:xfrm>
              <a:off x="4343400" y="396252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572"/>
                  </a:solidFill>
                  <a:latin typeface="Times New Roman"/>
                  <a:ea typeface="楷体_GB2312"/>
                </a:rPr>
                <a:t>允许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343400" y="449568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572"/>
                  </a:solidFill>
                  <a:latin typeface="Times New Roman"/>
                  <a:ea typeface="楷体_GB2312"/>
                </a:rPr>
                <a:t>充分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343400" y="5257800"/>
            <a:ext cx="1066680" cy="1054080"/>
            <a:chOff x="4343400" y="5257800"/>
            <a:chExt cx="1066680" cy="1054080"/>
          </a:xfrm>
        </p:grpSpPr>
        <p:sp>
          <p:nvSpPr>
            <p:cNvPr id="294" name=""/>
            <p:cNvSpPr/>
            <p:nvPr/>
          </p:nvSpPr>
          <p:spPr>
            <a:xfrm>
              <a:off x="4343400" y="525780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572"/>
                  </a:solidFill>
                  <a:latin typeface="Times New Roman"/>
                  <a:ea typeface="楷体_GB2312"/>
                </a:rPr>
                <a:t>厨房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343400" y="579132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572"/>
                  </a:solidFill>
                  <a:latin typeface="Times New Roman"/>
                  <a:ea typeface="楷体_GB2312"/>
                </a:rPr>
                <a:t>橱窗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7010280" y="3962520"/>
            <a:ext cx="1067040" cy="1053720"/>
            <a:chOff x="7010280" y="3962520"/>
            <a:chExt cx="1067040" cy="1053720"/>
          </a:xfrm>
        </p:grpSpPr>
        <p:sp>
          <p:nvSpPr>
            <p:cNvPr id="297" name=""/>
            <p:cNvSpPr/>
            <p:nvPr/>
          </p:nvSpPr>
          <p:spPr>
            <a:xfrm>
              <a:off x="7010280" y="396252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572"/>
                  </a:solidFill>
                  <a:latin typeface="Times New Roman"/>
                  <a:ea typeface="楷体_GB2312"/>
                </a:rPr>
                <a:t>稻米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10280" y="449568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572"/>
                  </a:solidFill>
                  <a:latin typeface="Times New Roman"/>
                  <a:ea typeface="楷体_GB2312"/>
                </a:rPr>
                <a:t>滔天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7010280" y="5257800"/>
            <a:ext cx="1067040" cy="1054080"/>
            <a:chOff x="7010280" y="5257800"/>
            <a:chExt cx="1067040" cy="1054080"/>
          </a:xfrm>
        </p:grpSpPr>
        <p:sp>
          <p:nvSpPr>
            <p:cNvPr id="300" name=""/>
            <p:cNvSpPr/>
            <p:nvPr/>
          </p:nvSpPr>
          <p:spPr>
            <a:xfrm>
              <a:off x="7010280" y="525780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572"/>
                  </a:solidFill>
                  <a:latin typeface="Times New Roman"/>
                  <a:ea typeface="楷体_GB2312"/>
                </a:rPr>
                <a:t>郑重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010280" y="579132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572"/>
                  </a:solidFill>
                  <a:latin typeface="Times New Roman"/>
                  <a:ea typeface="楷体_GB2312"/>
                </a:rPr>
                <a:t>正午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304920" y="188640"/>
            <a:ext cx="85406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故乡（节选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日是天气很冷的午后，我吃过午饭，坐着喝茶，觉得外面有人进来了，便回头去看。我看时，不由的非常出惊，慌忙站起身，迎着走去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来的便是闰土。虽然我一见便知道是闰土，但又不是我这记忆上的闰土了。他身材增加了一倍；先前的紫色的圆脸，已经变作灰黄，而且加上了很深的皱纹；眼睛也像他父亲一样，周围都肿得通红，这我知道，在海边种地的人，终日吹着海风，大抵是这样的。他头上是一顶破毡帽，身上只一件极薄的棉衣，浑身瑟索着；手里提着一个纸包和一支长烟管，那手也不是我所记得的红活圆实的手，却又粗又笨而且开裂，像是松树皮了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88360" y="6308640"/>
            <a:ext cx="59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返回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304920" y="475920"/>
            <a:ext cx="854064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这时很兴奋，但不知道怎么说才好，只是说：“啊！闰土哥，──你来了？……”我接着便有许多话，想要连珠一般涌出：角鸡，跳鱼儿，贝壳，猹，……但又总觉得被什么挡着似的，单在脑里面回旋，吐不出口外去。他站住了，脸上现出欢喜和凄凉的神情；动着嘴唇，却没有作声。他的态度终于恭敬起来了，分明的叫道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老爷！……”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似乎打了一个寒噤；我就知道，我们之间已经隔了一层可悲的厚障壁了。我也说不出话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回过头去说，“水生，给老爷磕头。”便拖出躲在背后的孩子来，这正是一个廿年前的闰土，只是黄瘦些，颈子上没有银圈罢了。“这是第五个孩子，没有见过世面，躲躲闪闪……”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母亲和宏儿下楼来了，他们大约也听到了声音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老太太。信是早收到了。我实在喜欢的不得了，知道老爷回来……”闰土说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，你怎的这样客气起来。你们先前不是哥弟称呼么？还是照旧：迅哥儿。”母亲高兴的说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54064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呀，老太太真是……这成什么规矩。那时是孩子，不懂事……”闰土说着，又叫水生上来打拱，那    孩子却害羞，紧紧的只贴在他背后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就是水生？第五个？都是生人，怕生也难怪的；还是宏儿和他去走走。”母亲说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宏儿听得这话，便来招水生，水生却松松爽爽同他一路出去了。母亲叫闰土坐，他迟疑了一回，终于就了坐，将长烟管靠在桌旁，递过纸包来，说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冬天没有什么东西了。这一点干青豆倒是自家晒在那里的，请老爷……”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问问他的景况。他只是摇头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非常难。第六个孩子也会帮忙了，却总是吃不够……又不太平……什么地方都要钱，没有规定……收成又坏。种出东西来，挑去卖，总要捐几回钱，折了本；不去卖，又只能烂掉……”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只是摇头，脸上虽然刻着许多皱纹，却全然不动，仿佛石像一般。他大约只是觉得苦，却又形容不出，沉默了片时，便拿起烟管来默默的吸烟了……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304560" y="4776480"/>
            <a:ext cx="292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鲁   迅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1881-1936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3851280" y="0"/>
            <a:ext cx="5292720" cy="68580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29272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68360" y="692280"/>
            <a:ext cx="1152360" cy="30240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8480" y="1197000"/>
            <a:ext cx="13993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学习生字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2771640" y="333360"/>
            <a:ext cx="4967280" cy="61912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336880" y="6093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7440" y="981000"/>
            <a:ext cx="23738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横眉冷对千夫指，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俯首甘为孺子牛。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90720" y="31896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华文彩云"/>
              </a:rPr>
              <a:t>学习生字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1720800"/>
            <a:ext cx="761976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捏 扭 </a:t>
            </a:r>
            <a:r>
              <a:rPr b="0" lang="zh-CN" sz="6600" spc="-1" strike="noStrike" u="sng">
                <a:solidFill>
                  <a:srgbClr val="cc0066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畜</a:t>
            </a:r>
            <a:r>
              <a:rPr b="1" lang="zh-CN" sz="66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 郑 </a:t>
            </a:r>
            <a:r>
              <a:rPr b="0" lang="zh-CN" sz="6600" spc="-1" strike="noStrike" u="sng">
                <a:solidFill>
                  <a:srgbClr val="cc0066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拜</a:t>
            </a:r>
            <a:r>
              <a:rPr b="1" lang="zh-CN" sz="66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 </a:t>
            </a:r>
            <a:r>
              <a:rPr b="0" lang="zh-CN" sz="6600" spc="-1" strike="noStrike" u="sng">
                <a:solidFill>
                  <a:srgbClr val="cc0066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允</a:t>
            </a:r>
            <a:endParaRPr b="0" lang="en-US" sz="6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458136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闰   毡   猬</a:t>
            </a: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3141720"/>
            <a:ext cx="8610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租 厨 颈 缚 稻 贼 胯</a:t>
            </a:r>
            <a:endParaRPr b="0" lang="en-US" sz="6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260280"/>
            <a:ext cx="2971800" cy="99072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2491920"/>
            <a:ext cx="854064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6666"/>
                </a:solidFill>
                <a:latin typeface="Arial"/>
              </a:rPr>
              <a:t>碧绿 郑重 允许 仿佛 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6666"/>
                </a:solidFill>
                <a:latin typeface="Arial"/>
              </a:rPr>
              <a:t>厨房 刺猬 畜生 胯下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304920"/>
            <a:ext cx="2895480" cy="106668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08200" y="409680"/>
            <a:ext cx="232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404640"/>
            <a:ext cx="27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99ff"/>
                </a:solidFill>
                <a:latin typeface="Arial"/>
              </a:rPr>
              <a:t>学习词语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920" y="414504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  <a:ea typeface="方正舒体"/>
              </a:rPr>
              <a:t>“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  <a:ea typeface="方正舒体"/>
              </a:rPr>
              <a:t>我”盼望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1080" y="19810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Times New Roman"/>
                <a:ea typeface="楷体_GB2312"/>
              </a:rPr>
              <a:t>紫色的圆脸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25146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Times New Roman"/>
                <a:ea typeface="楷体_GB2312"/>
              </a:rPr>
              <a:t>头戴小毡帽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30481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Times New Roman"/>
                <a:ea typeface="楷体_GB2312"/>
              </a:rPr>
              <a:t>颈套银项圈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2520" y="213372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75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2133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幼圆"/>
              </a:rPr>
              <a:t>健康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91120" y="2819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幼圆"/>
              </a:rPr>
              <a:t>可爱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38280" y="41148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  <a:ea typeface="方正舒体"/>
              </a:rPr>
              <a:t>喜欢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10080" y="1828800"/>
            <a:ext cx="1752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0066"/>
                </a:solidFill>
                <a:uFillTx/>
                <a:latin typeface="Times New Roman"/>
                <a:ea typeface="楷体_GB2312"/>
                <a:hlinkClick r:id="rId1" action="ppaction://hlinksldjump"/>
              </a:rPr>
              <a:t>雪天捕鸟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10080" y="2286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Times New Roman"/>
                <a:ea typeface="楷体_GB2312"/>
              </a:rPr>
              <a:t>夏日拾贝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10080" y="2743200"/>
            <a:ext cx="16765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0066"/>
                </a:solidFill>
                <a:uFillTx/>
                <a:latin typeface="Times New Roman"/>
                <a:ea typeface="楷体_GB2312"/>
                <a:hlinkClick r:id="rId2" action="ppaction://hlinksldjump"/>
              </a:rPr>
              <a:t>月夜刺猹</a:t>
            </a:r>
            <a:r>
              <a:rPr b="0" lang="zh-CN" sz="2800" spc="-1" strike="noStrike" u="sng">
                <a:solidFill>
                  <a:srgbClr val="cc0066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10080" y="3200400"/>
            <a:ext cx="16765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0066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潮汛看鱼</a:t>
            </a:r>
            <a:r>
              <a:rPr b="0" lang="zh-CN" sz="2800" spc="-1" strike="noStrike" u="sng">
                <a:solidFill>
                  <a:srgbClr val="cc0066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162920" y="198108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75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67480" y="1828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幼圆"/>
              </a:rPr>
              <a:t>聪明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67480" y="30020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幼圆"/>
              </a:rPr>
              <a:t>见识广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67480" y="2392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幼圆"/>
              </a:rPr>
              <a:t>勇敢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33920" y="4114800"/>
            <a:ext cx="20574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0066"/>
                </a:solidFill>
                <a:uFillTx/>
                <a:latin typeface="方正舒体"/>
                <a:ea typeface="方正舒体"/>
                <a:hlinkClick r:id="rId6" action="ppaction://hlinksldjump"/>
              </a:rPr>
              <a:t>羡慕 佩服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41148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  <a:ea typeface="方正舒体"/>
              </a:rPr>
              <a:t>向往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0" y="4114800"/>
            <a:ext cx="18288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0066"/>
                </a:solidFill>
                <a:uFillTx/>
                <a:latin typeface="Times New Roman"/>
                <a:ea typeface="方正舒体"/>
                <a:hlinkClick r:id="rId7" action="ppaction://hlinksldjump"/>
              </a:rPr>
              <a:t>难舍难分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380880" y="671400"/>
            <a:ext cx="8382240" cy="395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9"/>
          <a:stretch/>
        </p:blipFill>
        <p:spPr>
          <a:xfrm>
            <a:off x="395280" y="5805360"/>
            <a:ext cx="8381880" cy="395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40360" y="2492280"/>
            <a:ext cx="1033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少年</a:t>
            </a:r>
            <a:r>
              <a:rPr b="0" lang="zh-CN" sz="2800" spc="-1" strike="noStrike" u="sng">
                <a:solidFill>
                  <a:srgbClr val="cc0066"/>
                </a:solidFill>
                <a:uFillTx/>
                <a:latin typeface="Arial"/>
                <a:hlinkClick r:id="rId10" action="ppaction://hlinksldjump"/>
              </a:rPr>
              <a:t>闰土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515772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难词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99840" y="51577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多音字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27280" y="5157720"/>
            <a:ext cx="6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组词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83520" y="5157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鲁迅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46800" y="5157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故乡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56880" y="5157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句子举例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07800" y="5157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返回图片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50920" y="105264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Times New Roman"/>
                <a:ea typeface="楷体_GB2312"/>
              </a:rPr>
              <a:t>描写闰土外貌的句子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234936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ff"/>
                </a:solidFill>
                <a:latin typeface="宋体"/>
              </a:rPr>
              <a:t>      </a:t>
            </a:r>
            <a:r>
              <a:rPr b="1" lang="zh-CN" sz="40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他正在厨房里，紫色的圆脸，头戴一顶小毡帽，颈上套一个明晃晃的银项圈，这可见他的父亲十分爱他，怕他死去，所以在神佛面前许下心愿，用圈子将他套住了。</a:t>
            </a:r>
            <a:r>
              <a:rPr b="1" lang="zh-CN" sz="4000" spc="-1" strike="noStrike">
                <a:solidFill>
                  <a:srgbClr val="3399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8101080" y="6093000"/>
            <a:ext cx="647640" cy="626760"/>
          </a:xfrm>
          <a:prstGeom prst="smileyFace">
            <a:avLst>
              <a:gd name="adj" fmla="val 9282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他正在厨房里，圆脸，头戴一顶毡帽，这可见他的父亲十分爱他，怕他死去，所以在神佛面前许下心愿，用圈子将他套住了</a:t>
            </a:r>
            <a:r>
              <a:rPr b="1" lang="zh-CN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7596360" y="5805360"/>
            <a:ext cx="863280" cy="648000"/>
          </a:xfrm>
          <a:prstGeom prst="leftArrow">
            <a:avLst>
              <a:gd name="adj1" fmla="val 50000"/>
              <a:gd name="adj2" fmla="val 33306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09480" y="9907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例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7572"/>
                </a:solidFill>
                <a:latin typeface="楷体_GB2312"/>
                <a:ea typeface="楷体_GB2312"/>
              </a:rPr>
              <a:t>倩倩不到两岁，胖墩墩的。红朴朴的脸蛋上，有一双水灵灵的眼睛。小辫子朝天翘着，粉红色的发带在头上一颠一颠的，像两只飞舞的彩蝶。尤其逗人喜爱的，是她那张伶俐的小嘴。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330880" y="3701880"/>
            <a:ext cx="320364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2:35:04Z</dcterms:created>
  <dc:creator>wangliping</dc:creator>
  <dc:description/>
  <dc:language>en-US</dc:language>
  <cp:lastModifiedBy>未知用户</cp:lastModifiedBy>
  <dcterms:modified xsi:type="dcterms:W3CDTF">2010-11-08T02:38:32Z</dcterms:modified>
  <cp:revision>69</cp:revision>
  <dc:subject/>
  <dc:title>PowerPoint 演示文稿</dc:title>
</cp:coreProperties>
</file>