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4064C-CDFA-467C-8B94-EFFCF3AD9BAF}" type="slidenum">
              <a:rPr b="0" lang="de-DE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1E707-A382-49EA-85B5-B5AAA13A5EF2}" type="slidenum">
              <a:rPr b="0" lang="de-DE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3887640" y="8690040"/>
            <a:ext cx="29703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F2BC2EB4-D123-4922-8DE9-A67C6F81894D}" type="slidenum">
              <a:rPr b="0" lang="en-GB" sz="13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2D06F-CC33-4A18-BB3C-1E4D92C08233}" type="slidenum">
              <a:rPr b="0" lang="de-DE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3887640" y="8690040"/>
            <a:ext cx="29703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71204756-B50E-40A7-A1BC-3AD5F8C9F5ED}" type="slidenum">
              <a:rPr b="0" lang="en-GB" sz="13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93A61-5776-4604-99ED-850F854A583C}" type="slidenum">
              <a:rPr b="0" lang="de-DE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6" descr="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8" descr="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hyperlink" Target="http://www.51ppt.com.cn/Article/PPTTips/2013-03-15/Article_20130315013834.html" TargetMode="External"/><Relationship Id="rId4" Type="http://schemas.openxmlformats.org/officeDocument/2006/relationships/hyperlink" Target="http://www.weibo.com/pptstore" TargetMode="External"/><Relationship Id="rId5" Type="http://schemas.openxmlformats.org/officeDocument/2006/relationships/hyperlink" Target="http://www.51ppt.com.cn/Article/PPTTips/2013-03-15/Article_20130315013834.html" TargetMode="External"/><Relationship Id="rId6" Type="http://schemas.openxmlformats.org/officeDocument/2006/relationships/hyperlink" Target="http://www.weibo.com/51ppt" TargetMode="External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30120" y="4350960"/>
            <a:ext cx="441828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ffffff"/>
                </a:solidFill>
                <a:latin typeface="Georgia"/>
                <a:ea typeface="宋体"/>
              </a:rPr>
              <a:t>Birthday Invitation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30120" y="812520"/>
            <a:ext cx="441828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Dear (r) </a:t>
            </a:r>
            <a:r>
              <a:rPr b="1" lang="en-US" sz="3200" spc="-1" strike="noStrike">
                <a:solidFill>
                  <a:srgbClr val="dddddd"/>
                </a:solidFill>
                <a:latin typeface="Arial"/>
                <a:ea typeface="宋体"/>
              </a:rPr>
              <a:t>Name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,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941640" y="1976400"/>
            <a:ext cx="4432320" cy="3456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On </a:t>
            </a:r>
            <a:r>
              <a:rPr b="0" lang="en-US" sz="2400" spc="-1" strike="noStrike">
                <a:solidFill>
                  <a:srgbClr val="dddddd"/>
                </a:solidFill>
                <a:latin typeface="Arial"/>
                <a:ea typeface="宋体"/>
              </a:rPr>
              <a:t>dat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 at </a:t>
            </a:r>
            <a:r>
              <a:rPr b="0" lang="en-US" sz="2400" spc="-1" strike="noStrike">
                <a:solidFill>
                  <a:srgbClr val="dddddd"/>
                </a:solidFill>
                <a:latin typeface="Arial"/>
                <a:ea typeface="宋体"/>
              </a:rPr>
              <a:t>tim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 o’clock I want to celebrate my </a:t>
            </a:r>
            <a:r>
              <a:rPr b="0" lang="de-DE" sz="2400" spc="-1" strike="noStrike">
                <a:solidFill>
                  <a:srgbClr val="dddddd"/>
                </a:solidFill>
                <a:latin typeface="Arial"/>
                <a:ea typeface="宋体"/>
              </a:rPr>
              <a:t>age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th birthday and are invi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I would be happy if you could join 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Please let me know if you can co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Sincerely </a:t>
            </a:r>
            <a:r>
              <a:rPr b="0" lang="en-US" sz="2400" spc="-1" strike="noStrike">
                <a:solidFill>
                  <a:srgbClr val="dddddd"/>
                </a:solidFill>
                <a:latin typeface="Arial"/>
                <a:ea typeface="宋体"/>
              </a:rPr>
              <a:t>Name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17"/>
          <p:cNvSpPr/>
          <p:nvPr/>
        </p:nvSpPr>
        <p:spPr>
          <a:xfrm>
            <a:off x="3930480" y="812880"/>
            <a:ext cx="45054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I celebrate my birthday!</a:t>
            </a:r>
            <a:r>
              <a:rPr b="1" lang="de-DE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8"/>
          <p:cNvSpPr/>
          <p:nvPr/>
        </p:nvSpPr>
        <p:spPr>
          <a:xfrm>
            <a:off x="3941640" y="1976400"/>
            <a:ext cx="4432320" cy="26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Therefore, I would appreciate your appearance on </a:t>
            </a:r>
            <a:r>
              <a:rPr b="0" lang="en-US" sz="2400" spc="-1" strike="noStrike">
                <a:solidFill>
                  <a:srgbClr val="dddddd"/>
                </a:solidFill>
                <a:latin typeface="Arial"/>
                <a:ea typeface="宋体"/>
              </a:rPr>
              <a:t>dat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 much. The party starts at </a:t>
            </a:r>
            <a:r>
              <a:rPr b="0" lang="en-US" sz="2400" spc="-1" strike="noStrike">
                <a:solidFill>
                  <a:srgbClr val="dddddd"/>
                </a:solidFill>
                <a:latin typeface="Arial"/>
                <a:ea typeface="宋体"/>
              </a:rPr>
              <a:t>tim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 o’ clock and food and drinks are provided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Sincerely, Your (s) </a:t>
            </a:r>
            <a:r>
              <a:rPr b="0" lang="en-US" sz="2400" spc="-1" strike="noStrike">
                <a:solidFill>
                  <a:srgbClr val="dddddd"/>
                </a:solidFill>
                <a:latin typeface="Arial"/>
                <a:ea typeface="宋体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图片 19" descr="未标式 题-1.png"/>
          <p:cNvPicPr/>
          <p:nvPr/>
        </p:nvPicPr>
        <p:blipFill>
          <a:blip r:embed="rId2"/>
          <a:stretch/>
        </p:blipFill>
        <p:spPr>
          <a:xfrm>
            <a:off x="5614920" y="4627440"/>
            <a:ext cx="328680" cy="389160"/>
          </a:xfrm>
          <a:prstGeom prst="rect">
            <a:avLst/>
          </a:prstGeom>
          <a:ln w="0">
            <a:noFill/>
          </a:ln>
        </p:spPr>
      </p:pic>
      <p:sp>
        <p:nvSpPr>
          <p:cNvPr id="88" name="圆角矩形 3">
            <a:hlinkClick r:id="rId3"/>
          </p:cNvPr>
          <p:cNvSpPr/>
          <p:nvPr/>
        </p:nvSpPr>
        <p:spPr>
          <a:xfrm>
            <a:off x="5724360" y="2852640"/>
            <a:ext cx="1349640" cy="36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圆角矩形 20">
            <a:hlinkClick r:id="rId4"/>
          </p:cNvPr>
          <p:cNvSpPr/>
          <p:nvPr/>
        </p:nvSpPr>
        <p:spPr>
          <a:xfrm>
            <a:off x="5435640" y="3789360"/>
            <a:ext cx="1351080" cy="36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圆角矩形 21">
            <a:hlinkClick r:id="rId5"/>
          </p:cNvPr>
          <p:cNvSpPr/>
          <p:nvPr/>
        </p:nvSpPr>
        <p:spPr>
          <a:xfrm>
            <a:off x="2411280" y="3803760"/>
            <a:ext cx="1349640" cy="36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圆角矩形 22">
            <a:hlinkClick r:id="rId6"/>
          </p:cNvPr>
          <p:cNvSpPr/>
          <p:nvPr/>
        </p:nvSpPr>
        <p:spPr>
          <a:xfrm>
            <a:off x="2411280" y="3803760"/>
            <a:ext cx="1349640" cy="36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圆角矩形 23"/>
          <p:cNvSpPr/>
          <p:nvPr/>
        </p:nvSpPr>
        <p:spPr>
          <a:xfrm>
            <a:off x="3897360" y="3803760"/>
            <a:ext cx="1349280" cy="36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圆角矩形 28"/>
          <p:cNvSpPr/>
          <p:nvPr/>
        </p:nvSpPr>
        <p:spPr>
          <a:xfrm>
            <a:off x="3432240" y="4599000"/>
            <a:ext cx="1163520" cy="3110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圆角矩形 29"/>
          <p:cNvSpPr/>
          <p:nvPr/>
        </p:nvSpPr>
        <p:spPr>
          <a:xfrm>
            <a:off x="4605480" y="4599000"/>
            <a:ext cx="1164960" cy="3110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圆角矩形 30"/>
          <p:cNvSpPr/>
          <p:nvPr/>
        </p:nvSpPr>
        <p:spPr>
          <a:xfrm>
            <a:off x="3441600" y="4289400"/>
            <a:ext cx="1163880" cy="3096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圆角矩形 31"/>
          <p:cNvSpPr/>
          <p:nvPr/>
        </p:nvSpPr>
        <p:spPr>
          <a:xfrm>
            <a:off x="4616280" y="4289400"/>
            <a:ext cx="1163880" cy="3096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4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4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4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4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7T23:54:21Z</dcterms:created>
  <dc:creator>PresentationLoad</dc:creator>
  <dc:description>Professional PowerPoint templates for download</dc:description>
  <dc:language>en-US</dc:language>
  <cp:lastModifiedBy>微软中国</cp:lastModifiedBy>
  <dcterms:modified xsi:type="dcterms:W3CDTF">2013-07-09T07:32:56Z</dcterms:modified>
  <cp:revision>77</cp:revision>
  <dc:subject/>
  <dc:title>KP-T0128</dc:title>
</cp:coreProperties>
</file>