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3AA2-9247-41D1-B7FA-2C9BA720F4A2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D90D-96DE-421A-822F-C771A5B5D14F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87640" y="869004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54AE4A3-B84E-49CF-BEFB-3E3AD0B419CA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E7EE-A02C-4D60-81E3-5644328CE8E3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7640" y="869004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E91131D-17D7-4560-B9C1-CEF742D5AB82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EF73-39C4-4125-8470-8B933383AC18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8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ww.51ppt.com.cn/Article/PPTTips/2013-03-15/Article_20130315013834.html" TargetMode="External"/><Relationship Id="rId4" Type="http://schemas.openxmlformats.org/officeDocument/2006/relationships/hyperlink" Target="http://www.weibo.com/pptstore" TargetMode="External"/><Relationship Id="rId5" Type="http://schemas.openxmlformats.org/officeDocument/2006/relationships/hyperlink" Target="http://www.51ppt.com.cn/Article/PPTTips/2013-03-15/Article_20130315013834.html" TargetMode="External"/><Relationship Id="rId6" Type="http://schemas.openxmlformats.org/officeDocument/2006/relationships/hyperlink" Target="http://www.weibo.com/51ppt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30120" y="4350960"/>
            <a:ext cx="4418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ff"/>
                </a:solidFill>
                <a:latin typeface="Georgia"/>
                <a:ea typeface="宋体"/>
              </a:rPr>
              <a:t>Birthday Invitation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30120" y="812520"/>
            <a:ext cx="4418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ear (r) </a:t>
            </a:r>
            <a:r>
              <a:rPr b="1" lang="en-US" sz="3200" spc="-1" strike="noStrike">
                <a:solidFill>
                  <a:srgbClr val="dddddd"/>
                </a:solidFill>
                <a:latin typeface="Arial"/>
                <a:ea typeface="宋体"/>
              </a:rPr>
              <a:t>Nam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941640" y="1976400"/>
            <a:ext cx="443232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On date at 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宋体"/>
              </a:rPr>
              <a:t>ti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o’clock I want to celebrate my </a:t>
            </a:r>
            <a:r>
              <a:rPr b="0" lang="de-DE" sz="2400" spc="-1" strike="noStrike">
                <a:solidFill>
                  <a:srgbClr val="dddddd"/>
                </a:solidFill>
                <a:latin typeface="Arial"/>
                <a:ea typeface="宋体"/>
              </a:rPr>
              <a:t>ag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h birthday and are invi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I would be happy if you could join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Please let me know if you can 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Sincerely 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宋体"/>
              </a:rPr>
              <a:t>Nam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3"/>
          <p:cNvSpPr/>
          <p:nvPr/>
        </p:nvSpPr>
        <p:spPr>
          <a:xfrm>
            <a:off x="3930480" y="812880"/>
            <a:ext cx="4505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I celebrate my birthday!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4"/>
          <p:cNvSpPr/>
          <p:nvPr/>
        </p:nvSpPr>
        <p:spPr>
          <a:xfrm>
            <a:off x="3941640" y="1976400"/>
            <a:ext cx="4432320" cy="26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herefore, I would appreciate your appearance on 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宋体"/>
              </a:rPr>
              <a:t>d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much. The party starts at 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宋体"/>
              </a:rPr>
              <a:t>ti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o’ clock and food and drinks are provided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Sincerely, Your (s) 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宋体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9" descr="未标式 题-1.png"/>
          <p:cNvPicPr/>
          <p:nvPr/>
        </p:nvPicPr>
        <p:blipFill>
          <a:blip r:embed="rId2"/>
          <a:stretch/>
        </p:blipFill>
        <p:spPr>
          <a:xfrm>
            <a:off x="5614920" y="4627440"/>
            <a:ext cx="328680" cy="389160"/>
          </a:xfrm>
          <a:prstGeom prst="rect">
            <a:avLst/>
          </a:prstGeom>
          <a:ln w="0">
            <a:noFill/>
          </a:ln>
        </p:spPr>
      </p:pic>
      <p:sp>
        <p:nvSpPr>
          <p:cNvPr id="88" name="圆角矩形 3">
            <a:hlinkClick r:id="rId3"/>
          </p:cNvPr>
          <p:cNvSpPr/>
          <p:nvPr/>
        </p:nvSpPr>
        <p:spPr>
          <a:xfrm>
            <a:off x="5724360" y="285264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圆角矩形 20">
            <a:hlinkClick r:id="rId4"/>
          </p:cNvPr>
          <p:cNvSpPr/>
          <p:nvPr/>
        </p:nvSpPr>
        <p:spPr>
          <a:xfrm>
            <a:off x="5435640" y="3789360"/>
            <a:ext cx="1351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 21">
            <a:hlinkClick r:id="rId5"/>
          </p:cNvPr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圆角矩形 22">
            <a:hlinkClick r:id="rId6"/>
          </p:cNvPr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圆角矩形 23"/>
          <p:cNvSpPr/>
          <p:nvPr/>
        </p:nvSpPr>
        <p:spPr>
          <a:xfrm>
            <a:off x="3897360" y="3803760"/>
            <a:ext cx="13492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圆角矩形 28"/>
          <p:cNvSpPr/>
          <p:nvPr/>
        </p:nvSpPr>
        <p:spPr>
          <a:xfrm>
            <a:off x="3432240" y="4599000"/>
            <a:ext cx="116352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 29"/>
          <p:cNvSpPr/>
          <p:nvPr/>
        </p:nvSpPr>
        <p:spPr>
          <a:xfrm>
            <a:off x="4605480" y="4599000"/>
            <a:ext cx="116496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圆角矩形 30"/>
          <p:cNvSpPr/>
          <p:nvPr/>
        </p:nvSpPr>
        <p:spPr>
          <a:xfrm>
            <a:off x="344160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圆角矩形 31"/>
          <p:cNvSpPr/>
          <p:nvPr/>
        </p:nvSpPr>
        <p:spPr>
          <a:xfrm>
            <a:off x="461628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4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>PresentationLoad</dc:creator>
  <dc:description>Professional PowerPoint templates for download</dc:description>
  <dc:language>en-US</dc:language>
  <cp:lastModifiedBy>微软中国</cp:lastModifiedBy>
  <dcterms:modified xsi:type="dcterms:W3CDTF">2013-05-30T07:40:47Z</dcterms:modified>
  <cp:revision>74</cp:revision>
  <dc:subject/>
  <dc:title>KP-T0129</dc:title>
</cp:coreProperties>
</file>