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AA6-F370-4947-B4F1-2F6D9F9D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A99-03E9-4E97-90A8-055ED90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8CB-8557-4355-A481-245B0D27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F2E-BBDE-4D11-87A1-B77BF5C5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52A-9247-4CDC-98A9-D604131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DCB-B1B0-48B1-97CB-1CEA9F08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742-7F48-4C02-B4E0-83F2C095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553-C587-46C3-A919-93FC4F46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C49-2C5B-44DF-B407-21DF3F7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DF7-7E7E-48EB-B35B-18EC1F4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43F-240C-4A88-817F-B22D9E0E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BDA-5C25-491A-A360-EC4FBF1E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496-409B-4D9E-B686-3A08837DBA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24000" y="1268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、风住尘香花已尽，日晚倦梳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112068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1989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物是人非事事休，欲语泪先流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17320" y="26845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、闻说双溪春尚好，也拟泛轻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342900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只恐双溪舴艋舟，载不动、许多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429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5555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555555"/>
                </a:solidFill>
                <a:latin typeface="黑体"/>
                <a:ea typeface="黑体"/>
              </a:rPr>
              <a:t>、东篱把酒黄昏后，有暗香盈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5103720"/>
            <a:ext cx="61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莫道不消魂，帘卷西风，人比黄花瘦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5715000"/>
            <a:ext cx="4343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2860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447920"/>
            <a:ext cx="64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雁过也，正伤心，却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旧时相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205000"/>
            <a:ext cx="685800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可奈何花落去，似曾相识雁归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晏殊《浣溪沙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云中谁寄锦书来？雁字回时，月满西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清照《一剪梅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过雁象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离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414200">
            <a:off x="5675760" y="1101960"/>
            <a:ext cx="685800" cy="160200"/>
          </a:xfrm>
          <a:custGeom>
            <a:avLst/>
            <a:gdLst>
              <a:gd name="textAreaLeft" fmla="*/ 85680 w 685800"/>
              <a:gd name="textAreaRight" fmla="*/ 600120 w 685800"/>
              <a:gd name="textAreaTop" fmla="*/ 39960 h 160200"/>
              <a:gd name="textAreaBottom" fmla="*/ 120240 h 160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189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思念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9960" y="907920"/>
            <a:ext cx="11552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雁，一种离情别恨的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雁，一种怀古伤情的寄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76920" y="3049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黄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1341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满地黄花堆积，憔悴损，如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有谁堪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781360"/>
            <a:ext cx="609624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莫道不消魂，帘卷西风，人比黄花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       ——李清照《醉花阴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581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黄花比喻女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憔悴的容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501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419720" y="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梧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052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梧桐更兼细雨，到黄昏，点点滴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73360"/>
            <a:ext cx="6324840" cy="311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言独上西楼，月如钩，寂寞梧桐深院锁清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煜《相见欢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梧桐树，三更雨，不道离情正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叶叶，一声声，空阶滴到天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庭筠《更漏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5373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梧桐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悲凉、孤寂、凄苦的象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96080" y="228600"/>
            <a:ext cx="1121040" cy="198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299160" y="907920"/>
            <a:ext cx="1846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梧桐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种凄凉悲伤的象征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梧桐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种悲怆凄婉的寄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867280"/>
            <a:ext cx="6324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19520" y="2286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3716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梧桐更兼细雨，到黄昏，点点滴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895480"/>
            <a:ext cx="63244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明时节雨纷纷，路上行人欲断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杜牧《清明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鸟不传云外信，丁香空结雨中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璟《摊破浣溪沙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8770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雨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哀伤﹑愁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象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12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35280" y="1279440"/>
            <a:ext cx="56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155268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08360" y="213372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凄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3141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愁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4149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哀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92720" y="0"/>
            <a:ext cx="91440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765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以上这些意象，营造出了一种怎样的意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19640" y="1844640"/>
            <a:ext cx="61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寻寻觅觅，冷冷清清，        凄凄惨惨戚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936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、抓抒情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357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这次第，怎一个愁字了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832120" cy="510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40464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寻寻觅觅，冷冷清清，凄凄惨惨戚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13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七组叠字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无一愁字，却字字含愁，声声是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589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音韵上徘徊婉转，感情上层层递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全词顿挫凄绝，如泣如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989000"/>
            <a:ext cx="590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形式上，⑴音乐美、音韵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强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35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内容上，奠定哀婉、凄凉、愁苦的感情基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5076720" y="2924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85080" y="5950080"/>
            <a:ext cx="790560" cy="647640"/>
          </a:xfrm>
          <a:custGeom>
            <a:avLst/>
            <a:gdLst>
              <a:gd name="textAreaLeft" fmla="*/ 41760 w 790560"/>
              <a:gd name="textAreaRight" fmla="*/ 748800 w 790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364" h="21600">
                <a:moveTo>
                  <a:pt x="0" y="0"/>
                </a:moveTo>
                <a:lnTo>
                  <a:pt x="26364" y="0"/>
                </a:lnTo>
                <a:lnTo>
                  <a:pt x="26364" y="21600"/>
                </a:lnTo>
                <a:lnTo>
                  <a:pt x="0" y="21600"/>
                </a:lnTo>
                <a:close/>
              </a:path>
              <a:path fill="lightenLess" w="26364" h="21600">
                <a:moveTo>
                  <a:pt x="0" y="0"/>
                </a:moveTo>
                <a:lnTo>
                  <a:pt x="26364" y="0"/>
                </a:lnTo>
                <a:lnTo>
                  <a:pt x="24964" y="1400"/>
                </a:lnTo>
                <a:lnTo>
                  <a:pt x="1400" y="1400"/>
                </a:lnTo>
                <a:close/>
              </a:path>
              <a:path fill="darken" w="26364" h="21600">
                <a:moveTo>
                  <a:pt x="26364" y="0"/>
                </a:moveTo>
                <a:lnTo>
                  <a:pt x="26364" y="21600"/>
                </a:lnTo>
                <a:lnTo>
                  <a:pt x="24964" y="20200"/>
                </a:lnTo>
                <a:lnTo>
                  <a:pt x="24964" y="1400"/>
                </a:lnTo>
                <a:close/>
              </a:path>
              <a:path fill="darkenLess" w="26364" h="21600">
                <a:moveTo>
                  <a:pt x="26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4" y="20200"/>
                </a:lnTo>
                <a:close/>
              </a:path>
              <a:path fill="lighten" w="26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4" h="21600">
                <a:moveTo>
                  <a:pt x="6176" y="3794"/>
                </a:moveTo>
                <a:lnTo>
                  <a:pt x="20188" y="10800"/>
                </a:lnTo>
                <a:lnTo>
                  <a:pt x="61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2576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87640" y="69228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765000"/>
            <a:ext cx="63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庭院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深深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几许，杨柳堆烟，帘幕无重数。    ——欧阳修《蝶恋花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2205000"/>
            <a:ext cx="673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曲曲折折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荷塘上面，弥望的是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田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叶子，叶子出水很高，像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亭亭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舞女的裙，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层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叶子中间，零星地点缀着些百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朱自清《荷塘月色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549360"/>
            <a:ext cx="2538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寻寻觅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2421000"/>
            <a:ext cx="27687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冷冷清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149720"/>
            <a:ext cx="33480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凄凄惨惨戚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48160" y="533520"/>
            <a:ext cx="1647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动 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852640"/>
            <a:ext cx="16603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心 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089240"/>
            <a:ext cx="18288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感 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31120" y="507960"/>
            <a:ext cx="22320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茫然无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2421000"/>
            <a:ext cx="223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寂寞冷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3360" y="4038480"/>
            <a:ext cx="25383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凄凉惨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1600" y="5613480"/>
            <a:ext cx="7280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感情基调：哀婉、凄凉、愁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484280"/>
            <a:ext cx="217440" cy="903240"/>
          </a:xfrm>
          <a:prstGeom prst="downArrow">
            <a:avLst>
              <a:gd name="adj1" fmla="val 50000"/>
              <a:gd name="adj2" fmla="val 103849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3141720"/>
            <a:ext cx="189000" cy="969840"/>
          </a:xfrm>
          <a:prstGeom prst="downArrow">
            <a:avLst>
              <a:gd name="adj1" fmla="val 50000"/>
              <a:gd name="adj2" fmla="val 128286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838080"/>
            <a:ext cx="1152360" cy="144720"/>
          </a:xfrm>
          <a:prstGeom prst="rightArrow">
            <a:avLst>
              <a:gd name="adj1" fmla="val 50000"/>
              <a:gd name="adj2" fmla="val 199067"/>
            </a:avLst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743200"/>
            <a:ext cx="1130400" cy="144360"/>
          </a:xfrm>
          <a:prstGeom prst="rightArrow">
            <a:avLst>
              <a:gd name="adj1" fmla="val 50000"/>
              <a:gd name="adj2" fmla="val 195761"/>
            </a:avLst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34340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4419720" y="1447920"/>
            <a:ext cx="457200" cy="7315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90440 h 7315200"/>
              <a:gd name="textAreaBottom" fmla="*/ 7124760 h 731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979640" y="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4438" y="3794"/>
                </a:moveTo>
                <a:lnTo>
                  <a:pt x="18451" y="10800"/>
                </a:lnTo>
                <a:lnTo>
                  <a:pt x="4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6381720"/>
            <a:ext cx="718920" cy="476280"/>
          </a:xfrm>
          <a:custGeom>
            <a:avLst/>
            <a:gdLst>
              <a:gd name="textAreaLeft" fmla="*/ 30600 w 718920"/>
              <a:gd name="textAreaRight" fmla="*/ 688320 w 718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2596" h="21600">
                <a:moveTo>
                  <a:pt x="0" y="0"/>
                </a:moveTo>
                <a:lnTo>
                  <a:pt x="32596" y="0"/>
                </a:lnTo>
                <a:lnTo>
                  <a:pt x="32596" y="21600"/>
                </a:lnTo>
                <a:lnTo>
                  <a:pt x="0" y="21600"/>
                </a:lnTo>
                <a:close/>
              </a:path>
              <a:path fill="lightenLess" w="32596" h="21600">
                <a:moveTo>
                  <a:pt x="0" y="0"/>
                </a:moveTo>
                <a:lnTo>
                  <a:pt x="32596" y="0"/>
                </a:lnTo>
                <a:lnTo>
                  <a:pt x="31196" y="1400"/>
                </a:lnTo>
                <a:lnTo>
                  <a:pt x="1400" y="1400"/>
                </a:lnTo>
                <a:close/>
              </a:path>
              <a:path fill="darken" w="32596" h="21600">
                <a:moveTo>
                  <a:pt x="32596" y="0"/>
                </a:moveTo>
                <a:lnTo>
                  <a:pt x="32596" y="21600"/>
                </a:lnTo>
                <a:lnTo>
                  <a:pt x="31196" y="20200"/>
                </a:lnTo>
                <a:lnTo>
                  <a:pt x="31196" y="1400"/>
                </a:lnTo>
                <a:close/>
              </a:path>
              <a:path fill="darkenLess" w="32596" h="21600">
                <a:moveTo>
                  <a:pt x="32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6" y="20200"/>
                </a:lnTo>
                <a:close/>
              </a:path>
              <a:path fill="lighten" w="32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6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1916280"/>
            <a:ext cx="16603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环 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5196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6920" y="76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60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寻寻觅觅（寻觅什么？为什么而寻觅？寻觅的结果如何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211640" y="83664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48428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能是流亡以前的生活，可能是丈夫在世的爱情，还可能是心爱的文物或者别的什么。环境孤寂，心情空虚，无可排遣寄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645000"/>
            <a:ext cx="6948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寻觅的结果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冷冷清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觉中既有秋风的萧瑟，又有异地的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冷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更有孤寂生活的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清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既明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环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也暗指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心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或者说，由环境而感染到心倩，由外而内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5508720" y="6021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10800"/>
                </a:moveTo>
                <a:lnTo>
                  <a:pt x="24521" y="3794"/>
                </a:lnTo>
                <a:lnTo>
                  <a:pt x="24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0028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渡前：描写少女、少妇时期的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86064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南渡后：表现思夫、思乡、思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李清照词风格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清新婉丽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，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婉约派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的代表。创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南渡为界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分为前后两个时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25653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闺怨离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词风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清丽柔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47242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怀旧悼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词风</a:t>
            </a:r>
            <a:r>
              <a:rPr b="1" lang="zh-CN" sz="3600" spc="-1" strike="noStrike">
                <a:solidFill>
                  <a:srgbClr val="4d4d4d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凄婉哀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627280" cy="6048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907920"/>
            <a:ext cx="63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清照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4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5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南宋女词人，号易安居士，山东历城（济南市）人。父李格非为当时著名学者，自幼受文学艺术熏陶。十八岁适金石家赵明诚，夫妇感情甚笃，家庭生活平静美满，与明诚共同致力于书画金石的搜集整理。靖康之难后，经历了离乱，丈夫赵明诚病逝，本人颠沛流离于江浙皖赣一带，流落异地，无依无靠，在孤寂凄苦中度过了晚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189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22096" b="0"/>
          <a:stretch/>
        </p:blipFill>
        <p:spPr>
          <a:xfrm>
            <a:off x="442764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524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380360" y="6597720"/>
            <a:ext cx="1008000" cy="260280"/>
          </a:xfrm>
          <a:custGeom>
            <a:avLst/>
            <a:gdLst>
              <a:gd name="textAreaLeft" fmla="*/ 16560 w 1008000"/>
              <a:gd name="textAreaRight" fmla="*/ 991440 w 1008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83566" h="21600">
                <a:moveTo>
                  <a:pt x="0" y="0"/>
                </a:moveTo>
                <a:lnTo>
                  <a:pt x="83566" y="0"/>
                </a:lnTo>
                <a:lnTo>
                  <a:pt x="83566" y="21600"/>
                </a:lnTo>
                <a:lnTo>
                  <a:pt x="0" y="21600"/>
                </a:lnTo>
                <a:close/>
              </a:path>
              <a:path fill="lightenLess" w="83566" h="21600">
                <a:moveTo>
                  <a:pt x="0" y="0"/>
                </a:moveTo>
                <a:lnTo>
                  <a:pt x="83566" y="0"/>
                </a:lnTo>
                <a:lnTo>
                  <a:pt x="82166" y="1400"/>
                </a:lnTo>
                <a:lnTo>
                  <a:pt x="1400" y="1400"/>
                </a:lnTo>
                <a:close/>
              </a:path>
              <a:path fill="darken" w="83566" h="21600">
                <a:moveTo>
                  <a:pt x="83566" y="0"/>
                </a:moveTo>
                <a:lnTo>
                  <a:pt x="83566" y="21600"/>
                </a:lnTo>
                <a:lnTo>
                  <a:pt x="82166" y="20200"/>
                </a:lnTo>
                <a:lnTo>
                  <a:pt x="82166" y="1400"/>
                </a:lnTo>
                <a:close/>
              </a:path>
              <a:path fill="darkenLess" w="83566" h="21600">
                <a:moveTo>
                  <a:pt x="8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166" y="20200"/>
                </a:lnTo>
                <a:close/>
              </a:path>
              <a:path fill="lighten" w="8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566" h="21600">
                <a:moveTo>
                  <a:pt x="34776" y="10800"/>
                </a:moveTo>
                <a:lnTo>
                  <a:pt x="48789" y="3794"/>
                </a:lnTo>
                <a:lnTo>
                  <a:pt x="487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64000" y="907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孀居之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2060640"/>
            <a:ext cx="22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沦落之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3357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亡国之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191628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119700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67640" y="90792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206064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96360" y="335772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0"/>
            <a:ext cx="3240000" cy="1844640"/>
          </a:xfrm>
          <a:prstGeom prst="cloudCallout">
            <a:avLst>
              <a:gd name="adj1" fmla="val 5953"/>
              <a:gd name="adj2" fmla="val 24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有哪些方面的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竹2"/>
          <p:cNvPicPr/>
          <p:nvPr/>
        </p:nvPicPr>
        <p:blipFill>
          <a:blip r:embed="rId1"/>
          <a:stretch/>
        </p:blipFill>
        <p:spPr>
          <a:xfrm>
            <a:off x="0" y="0"/>
            <a:ext cx="6858000" cy="178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竹3"/>
          <p:cNvPicPr/>
          <p:nvPr/>
        </p:nvPicPr>
        <p:blipFill>
          <a:blip r:embed="rId2"/>
          <a:stretch/>
        </p:blipFill>
        <p:spPr>
          <a:xfrm>
            <a:off x="34920" y="1773360"/>
            <a:ext cx="2195640" cy="5084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843280" y="1484280"/>
            <a:ext cx="46083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迁移训练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263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让我们走近（走进）李清照，你想对她说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3933720"/>
            <a:ext cx="78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云之南的才女，黄土高原上的琼英 。携小平手五十八载，硝烟里转战南北，风雨中起落同随。对她爱的人不离不弃，让爱情变成了信念。她的爱向一个民族的崛起，注入了女性的坚定、温暖与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994120" cy="534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84360" y="19890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同学们插上想像的翅膀，用自己的语言把这首词改写成一篇优美的散文，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以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333360"/>
            <a:ext cx="4103640" cy="1511280"/>
          </a:xfrm>
          <a:prstGeom prst="cloudCallout">
            <a:avLst>
              <a:gd name="adj1" fmla="val -40212"/>
              <a:gd name="adj2" fmla="val 842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 rot="36600">
            <a:off x="2627280" y="2205000"/>
            <a:ext cx="495144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635280" y="1700280"/>
            <a:ext cx="453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声 声 慢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32360" y="4437000"/>
            <a:ext cx="2879640" cy="9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9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李清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65280" y="692280"/>
            <a:ext cx="31978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声声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寻觅觅，冷冷清清，凄凄惨惨戚戚。乍暖还寒时候，最难将息。三杯两盏淡酒，怎敌他、晚来风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雁过也，正伤心，却是旧时相识。满地黄花堆积，憔悴损，如今有谁堪摘？守着窗儿，独自怎生得黑？梧桐更兼细雨，到黄昏，点点滴滴。这次第，怎一个愁字了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7301"/>
                </a:moveTo>
                <a:lnTo>
                  <a:pt x="13718" y="7301"/>
                </a:lnTo>
                <a:lnTo>
                  <a:pt x="14101" y="7667"/>
                </a:lnTo>
                <a:lnTo>
                  <a:pt x="23309" y="7667"/>
                </a:lnTo>
                <a:lnTo>
                  <a:pt x="23867" y="8224"/>
                </a:lnTo>
                <a:lnTo>
                  <a:pt x="23867" y="8772"/>
                </a:lnTo>
                <a:lnTo>
                  <a:pt x="25712" y="8772"/>
                </a:lnTo>
                <a:lnTo>
                  <a:pt x="26077" y="8224"/>
                </a:lnTo>
                <a:lnTo>
                  <a:pt x="26817" y="8224"/>
                </a:lnTo>
                <a:lnTo>
                  <a:pt x="26817" y="13376"/>
                </a:lnTo>
                <a:lnTo>
                  <a:pt x="26077" y="13376"/>
                </a:lnTo>
                <a:lnTo>
                  <a:pt x="25712" y="12828"/>
                </a:lnTo>
                <a:lnTo>
                  <a:pt x="23867" y="12828"/>
                </a:lnTo>
                <a:lnTo>
                  <a:pt x="23867" y="14107"/>
                </a:lnTo>
                <a:lnTo>
                  <a:pt x="14284" y="14107"/>
                </a:lnTo>
                <a:lnTo>
                  <a:pt x="14284" y="9877"/>
                </a:lnTo>
                <a:lnTo>
                  <a:pt x="14101" y="9877"/>
                </a:lnTo>
                <a:lnTo>
                  <a:pt x="13718" y="10243"/>
                </a:lnTo>
                <a:lnTo>
                  <a:pt x="1280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148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首词的词眼是哪个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4760" y="35733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愁——“词眼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27640" y="549360"/>
            <a:ext cx="2916360" cy="143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以情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4292640"/>
            <a:ext cx="432000" cy="1008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472428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包含了哪些方面的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771640" cy="5324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20000" y="5445000"/>
            <a:ext cx="1727280" cy="84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57160" y="76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细黑"/>
                <a:ea typeface="华文细黑"/>
              </a:rPr>
              <a:t>淡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4800" y="1773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细黑"/>
                <a:ea typeface="华文细黑"/>
              </a:rPr>
              <a:t>秋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65160" y="2708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细黑"/>
                <a:ea typeface="华文细黑"/>
              </a:rPr>
              <a:t>秋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38240" y="36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细黑"/>
                <a:ea typeface="华文细黑"/>
              </a:rPr>
              <a:t>黄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77880" y="4581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细黑"/>
                <a:ea typeface="华文细黑"/>
              </a:rPr>
              <a:t>梧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57160" y="54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华文细黑"/>
                <a:ea typeface="华文细黑"/>
              </a:rPr>
              <a:t>细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407360" y="0"/>
            <a:ext cx="1736640" cy="169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87640" y="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、析意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2565360"/>
            <a:ext cx="3886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说是“淡酒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50028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并非酒淡，愁情太重，酒力压不住心愁，自然也就觉得酒味淡，这是一种主观感受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个“淡”字表明了作者内心是何等的愁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371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杯两盏淡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2286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120680" cy="198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074080" y="1125360"/>
            <a:ext cx="458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8560" y="260280"/>
            <a:ext cx="15724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酒，一种浓郁情义和相思的幽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酒，一种溢满凄凉哀伤的落寞。</a:t>
            </a:r>
            <a:r>
              <a:rPr b="0" lang="zh-CN" sz="18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211640" y="162864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3794"/>
                </a:moveTo>
                <a:lnTo>
                  <a:pt x="25947" y="10800"/>
                </a:lnTo>
                <a:lnTo>
                  <a:pt x="119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16572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43280" y="5445000"/>
            <a:ext cx="4852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28800" y="0"/>
            <a:ext cx="7315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酒当歌，人生几何，譬如朝露，去日苦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曹操《短歌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刀断水水更流，举杯消愁愁更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白《宣城谢眺楼饯别校叔云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劝君更进一杯酒，西出阳关无故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王维《送元二使安西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5445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酒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“愁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象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48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4280" y="2286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1447920"/>
            <a:ext cx="44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怎敌他、晚来风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276640"/>
            <a:ext cx="67816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风萧瑟，洪波涌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曹操《观沧海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风萧瑟天气凉，草木摇落露为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曹丕《燕歌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5229360"/>
            <a:ext cx="4343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：秋风渲染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愁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120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3:11:32Z</dcterms:created>
  <dc:creator>www.dearedu.com</dc:creator>
  <dc:description>www.dearedu.com</dc:description>
  <cp:keywords>www.dearedu.com</cp:keywords>
  <dc:language>en-US</dc:language>
  <cp:lastModifiedBy>island</cp:lastModifiedBy>
  <dcterms:modified xsi:type="dcterms:W3CDTF">2010-11-02T11:28:57Z</dcterms:modified>
  <cp:revision>29</cp:revision>
  <dc:subject>www.dearedu.com</dc:subject>
  <dc:title>www.dearedu.com</dc:title>
</cp:coreProperties>
</file>