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3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3106-2E7D-4EEE-8251-428BEF94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2C3-CADE-41E7-830D-878DF557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82392-8C56-47D3-8115-D49BC648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EEA71-072C-4B43-B467-8A8BCB84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F879F-0F88-4722-AFB5-D7F24E1A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5775C-2C50-492D-A336-2FAA735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65030-6BCB-4A01-9097-C77F9A32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37345-339A-494C-8C32-CDA38AF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189DC-51A2-4B8B-8A08-C2CEDE6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8CF75-8303-41B3-B00A-C606CF62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CEC9A-0A1E-46C0-A8A8-3C60845E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43447-41CD-490C-8D6B-24FE3194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6B5-69B2-4D99-99A3-2E3FFF3C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BC200-EEB0-4E69-9B70-709D4EB7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13E55-6B6D-47B1-83D3-C7A8236C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13361-C6C3-4BD6-8698-5D170E06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2B1DE-1E01-4E8F-8CE4-685BB10E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E3476-DB22-4BD3-A2E0-10440223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03EA8-0ED5-4398-8DD0-EC7749ED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75589-F3FD-4015-BFC5-5F925E9E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93EF9-9FD0-4BF3-9813-B4248D85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F4DD9-1B63-4E3C-86CF-7E2F990F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632AB-4D77-497C-ACF1-C0E0FB2D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A50-1B84-4E88-8A83-40848E02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CC4A7-A2CE-437D-9232-A3C4D387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4751C-4220-42A4-BF84-073FDB2D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49CD-E908-482D-965E-48F1A29D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E205F-99EA-4D2B-80B3-1856AE69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23DC6-F324-4ABA-9D15-CABC4C91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BD320-1FD6-4ADA-80C6-BBB4F4B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2979B-4945-40B3-83FC-7A9A3BA2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C0A9F-DDCD-4FAE-AA1F-D7F33F6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CA51C-81E5-4145-8238-CAFB3F69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D15F9-A040-40EF-BAFE-CDFEF0A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F250-CCB9-46A2-BCA6-DDCE1503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59642-D805-4C34-ABD5-6D8BF6F6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28AC5-0936-413C-8C4B-91893277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E14B8-4614-4D69-A305-3E5DEC3F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82ACD-ABF2-4D8E-BB91-C446E7A0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9D417-1F19-4E5E-A792-55679656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30D5F-4015-43A8-804B-CBFDAE87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4E8411-B086-4A95-858F-A1219809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B7A7F-DC72-4286-B953-6E7D9EBE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01EBE-8B75-4A31-B630-F442EF98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9D675B-3CB5-4AD8-A710-0654A26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4F7F-03BA-4885-ABD8-C7AD1CAD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2BDF9-A01A-492B-9AE6-6B751024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32092-FD11-403B-B6EB-A36F731C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7C371-3D2A-4F6E-854C-C4B2C3CD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5E301-0CCD-4A72-B5C0-BA808699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35E89-A503-456C-A2F5-0EBEE03C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8CD1F-4D1A-48AE-9273-5F1D284F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5B743C-D10C-426C-BAE8-A832BD4A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D5365-B337-4D1F-9EBE-800A23E7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42052-74D1-445F-9859-AE1F57EE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42F28A-FF2B-4F39-B8DF-F2B66EFD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5BB9-398B-4236-942E-164347E3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24F32-507C-4749-BA6C-8B26062B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71133-9A67-4E81-982F-27D08D6E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AA3BB-B2F0-4A77-B2AA-560A2742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55BE9-5592-41F5-A17B-4A772189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7A4C8-78CF-4BCA-BE2D-A78A83C7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EAFE11-61DD-40F4-A272-9A4AF7DB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A6190-DEF7-4A55-8008-18DE0B62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B5CB-F9DE-4D42-A580-4BA3F49A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D31F-B77D-4798-BEFD-92DAAA02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B14A-FE78-4174-8684-891897E5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FFF6-41D1-4DC3-A33D-871241D9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1EF-7172-4767-BA73-0A7A537D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571E-9143-4E91-B1A3-B2E9102A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C850-6131-4440-B3C0-EFDED8C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0065-EEAC-454A-9117-A6E9B363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DA87-D7D3-4DF9-B61D-E68B1DA6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65ED-F7E8-4B76-8EBA-935FA0F9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EDADE-3770-480F-B127-54E84737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71A1-8662-4D55-8F36-9D715FC3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42AB-8DE1-4EC6-AE51-D03F4BE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FD15-DC89-4ED7-B43B-F1A4805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B8D6-FFF5-49E4-AFC1-ECD16E8A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30A-DA7E-41B2-96F8-EEA76E2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6BCCD-7ABD-45B9-BDFA-9BA40A37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DD88F-F06C-4B44-A78A-3F2FA5EE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EB55-59A7-4F40-8B12-BB62D7D5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1E21-ED3F-4806-9938-EFB3F6C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52EC-3518-464B-A4FF-C6164907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69A8-DD96-4012-A3EA-808454C7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0A13B-167D-48D7-B8D5-D59741C9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70A66-C090-456C-ADAB-B7AEF6E9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66CC-2004-49BF-A93D-AF073876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B5EBD-B34E-468C-8C99-7EEB88F4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ADF-EEC6-4AC9-885B-95741C0A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13114-794D-4418-B1C8-1B4CB2F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8BCF6-66CD-4B1B-8859-54144040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32E3F-E79D-45AC-BDCB-DE65FDED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5DAFC-A5E3-4593-A02B-E554347A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61F6D-35DA-4584-A586-CB48933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E9648-587F-4CAC-A78B-03C4413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02E9-619E-4874-A150-6DC2B50D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0C83D-DDB5-4B0C-9253-F3C4A0A7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29CEC-8F83-48AC-9DF9-0A6AA7D8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2DD0-2168-4888-937F-609ADC1E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C6E-D112-4EB3-BE31-011E7A9B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C0E02-654F-474D-93CE-F0849F0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4C157-743F-4519-965C-21C8F8B3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7427-EB47-4D5E-BDE7-838A657F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66B7-6CC0-459F-A107-BD0872C9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5EAE7-2FFB-4933-9198-E87237BD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3625-296F-4887-83DB-F9CBD4A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7669-5D95-443C-8379-63898A4A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AE1E-E889-43C7-9174-C69D78A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80CEC-7122-4492-BAF3-02E1F42A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7F230-609F-45B6-B0F6-A58D5B57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A66-244F-43F8-B864-DB3EF3E5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1EBF3-A1FF-47D0-A913-9B11F0424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F413-EEF5-474A-AE60-AD3E1BFD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1B840-797A-47FA-B1BD-0813140A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33B92-819F-491D-ADF9-FBC35226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8F161-3D6E-43CE-BF1A-D075DCA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2B7E0-BA4C-46FF-87F3-A85606A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7D24C-8570-46F8-9665-97F7B664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CF9F1-32C1-4F7B-AFD4-7DB3EB9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58DC-18D5-461D-8EFA-27A86B9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3123-4975-45AB-9D5F-750F1F96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D8F-E26F-4552-9B58-BF67140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2F3F-4A09-4DCC-B6BA-14DF5F9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9253F-EEBE-4603-9374-45E73444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226C-6949-4CAB-BF49-F02D429E3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857EB-E1E9-45E8-A4B1-5D9AF8FF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E3867-6F17-430F-AF3E-861435FB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D0A78-187A-40F4-8D05-C97F43F9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08A82-4117-48C6-A294-7200D872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AE95-8EAE-415F-A9F1-C8DF194B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A5CF-8D12-4149-B04D-892AC22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ABF5-73F3-49C2-BB73-13A64E2B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267-9804-4EC7-B33A-22A92CE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D6C3D-178F-42A6-8E8E-08D1036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EB0EE-7523-4BE0-B1D2-4CF3C815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25BC6-C3A9-4617-9854-F27EA0D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72A32-C78B-4791-B512-66F51C87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D9724-DF20-4042-ABF8-731D98BE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E079B-EEAD-4552-8004-D39B22FF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ABE94-5672-434D-A2CE-605715D1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79543-0C5F-462B-80D6-3BB1E8A4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E7B8A-676C-4CC8-B8F5-88DF36DC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DD351-525D-47A7-B432-C177693C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105-1532-4428-8E27-AE062D8F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2DAFF-9009-48E6-A630-403FC354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D1583-CECB-49F9-BA18-8BCC2C4C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9EC27-382B-403D-8D4B-3BD14873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65AC0-66C2-425D-B219-4F539911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0A0CB-E1FB-4531-9AC9-B22331A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1AD3-59B4-487E-B1B7-407ED634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AE1B7-A256-4EA2-96D4-54029B80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4CEF1-8A10-45EC-879F-B334E772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3EBE1-3755-43DF-B795-71E4F61A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C0137-67FA-46D5-A40A-0CEE12D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7663-CD38-4736-B3BD-A5A4EE1B0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041E-A02D-4C2A-88EE-4BF269A997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35F2-65E6-4D25-86A8-D17EEA85C9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02A3-4B9C-4AF9-BFFE-6881D18A26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C32-2D91-41FE-90C1-C111479A9C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1042-238F-4722-B44A-AA12C17FF3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99D7-9ADE-435A-BBE7-62E6B4C587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1715-27F9-472B-9F9C-ED15951AF0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CD11-AEE8-4485-8903-C6820BCAB5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5D0-4BF1-42AE-95D5-BEC2BA2762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3B32-5B2D-407A-9DFE-89967A3246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B75B-108E-490F-BB98-18AB6E4BEF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4BD0-51E8-4492-8A67-BD3CEE4B1A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5" descr="{666D0D88-ADB4-4A21-BA06-638257A34245}0"/>
          <p:cNvPicPr/>
          <p:nvPr/>
        </p:nvPicPr>
        <p:blipFill>
          <a:blip r:embed="rId1"/>
          <a:srcRect l="0" t="0" r="0" b="9054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4"/>
          <p:cNvSpPr txBox="1"/>
          <p:nvPr/>
        </p:nvSpPr>
        <p:spPr>
          <a:xfrm>
            <a:off x="2411280" y="2347920"/>
            <a:ext cx="6264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师恩难忘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3322080" y="130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北师大版四年级语文上册第一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8"/>
          <p:cNvSpPr/>
          <p:nvPr/>
        </p:nvSpPr>
        <p:spPr>
          <a:xfrm>
            <a:off x="2413080" y="6308640"/>
            <a:ext cx="43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864f17478b49f250e1f800d0ae3a9aa1"/>
          <p:cNvPicPr/>
          <p:nvPr/>
        </p:nvPicPr>
        <p:blipFill>
          <a:blip r:embed="rId2"/>
          <a:stretch/>
        </p:blipFill>
        <p:spPr>
          <a:xfrm>
            <a:off x="611280" y="765000"/>
            <a:ext cx="4211640" cy="26784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2008082111574032"/>
          <p:cNvPicPr/>
          <p:nvPr/>
        </p:nvPicPr>
        <p:blipFill>
          <a:blip r:embed="rId3"/>
          <a:stretch/>
        </p:blipFill>
        <p:spPr>
          <a:xfrm>
            <a:off x="1332000" y="3429000"/>
            <a:ext cx="2663640" cy="2664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8110b758cb83940c2934f075"/>
          <p:cNvPicPr/>
          <p:nvPr/>
        </p:nvPicPr>
        <p:blipFill>
          <a:blip r:embed="rId4"/>
          <a:stretch/>
        </p:blipFill>
        <p:spPr>
          <a:xfrm>
            <a:off x="4859280" y="1052640"/>
            <a:ext cx="3745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8110b758cb83940c2934f075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5597640" y="622800"/>
            <a:ext cx="255744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ff33cc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7" descr="12c93788af3d71910f2444f0"/>
          <p:cNvPicPr/>
          <p:nvPr/>
        </p:nvPicPr>
        <p:blipFill>
          <a:blip r:embed="rId1"/>
          <a:srcRect l="0" t="0" r="0" b="64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5"/>
          <p:cNvSpPr/>
          <p:nvPr/>
        </p:nvSpPr>
        <p:spPr>
          <a:xfrm>
            <a:off x="324000" y="2427480"/>
            <a:ext cx="5832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刘绍棠，中国当代著名作家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开始就发表作品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岁成为中国作家协会最年轻的会员，被誉为中国文坛的“神童作家”。长篇小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京门脸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北京优秀长篇小说奖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敬柳亭说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首届中国大众文学奖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蒲柳人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获全国优秀中篇小说奖。多部中、短篇小说被译成英、法、德、俄、日、西班牙、泰国、孟加拉、阿尔巴尼亚文出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6" descr="Wa0314280C"/>
          <p:cNvPicPr/>
          <p:nvPr/>
        </p:nvPicPr>
        <p:blipFill>
          <a:blip r:embed="rId2"/>
          <a:stretch/>
        </p:blipFill>
        <p:spPr>
          <a:xfrm>
            <a:off x="6659640" y="765000"/>
            <a:ext cx="1946160" cy="1719360"/>
          </a:xfrm>
          <a:prstGeom prst="rect">
            <a:avLst/>
          </a:prstGeom>
          <a:ln w="0">
            <a:noFill/>
          </a:ln>
        </p:spPr>
      </p:pic>
      <p:sp>
        <p:nvSpPr>
          <p:cNvPr id="584" name="AutoShape 8">
            <a:hlinkClick r:id="rId3" action="ppaction://hlinksldjump"/>
          </p:cNvPr>
          <p:cNvSpPr/>
          <p:nvPr/>
        </p:nvSpPr>
        <p:spPr>
          <a:xfrm>
            <a:off x="6877080" y="5877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6" descr="8d354654f46895e6b745aefe"/>
          <p:cNvPicPr/>
          <p:nvPr/>
        </p:nvPicPr>
        <p:blipFill>
          <a:blip r:embed="rId1"/>
          <a:srcRect l="0" t="0" r="-81" b="3387"/>
          <a:stretch/>
        </p:blipFill>
        <p:spPr>
          <a:xfrm>
            <a:off x="0" y="0"/>
            <a:ext cx="9468000" cy="685476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十年树木  百年树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00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611280" y="2122200"/>
            <a:ext cx="8207280" cy="1800360"/>
          </a:xfrm>
          <a:prstGeom prst="rect">
            <a:avLst/>
          </a:prstGeom>
          <a:solidFill>
            <a:srgbClr val="bbe0e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故 事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春秋时期政治家管仲任齐国丞相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多年，帮助齐桓公在经济、政治、军事等方面进行改革，使齐国成为“春秋五霸”之首。他的人才观是：“一年之计，莫如树谷；十年之计，莫如树木；终身之计，莫如树人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原 文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年之计，莫如树谷；十年之计，莫如树木；终身之计，莫如树人。一树一获者，谷也；一树十获者，木也；一树百获者，人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611280" y="5276520"/>
            <a:ext cx="8207280" cy="426960"/>
          </a:xfrm>
          <a:prstGeom prst="rect">
            <a:avLst/>
          </a:prstGeom>
          <a:solidFill>
            <a:srgbClr val="99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99"/>
                </a:solidFill>
                <a:latin typeface="黑体"/>
                <a:ea typeface="黑体"/>
              </a:rPr>
              <a:t>从小树到苍天大树，需要十年时间，而培养一个人才，则需要百年时间。比喻培养人才是长久之计，也比喻培养人才很不容易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8">
            <a:hlinkClick r:id="rId2" action="ppaction://hlinksldjump"/>
          </p:cNvPr>
          <p:cNvSpPr/>
          <p:nvPr/>
        </p:nvSpPr>
        <p:spPr>
          <a:xfrm>
            <a:off x="7740720" y="6372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word/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excel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ziliao/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kejian/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fanwen/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shiti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1ppt.com/jiaoan/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9" descr=""/>
          <p:cNvPicPr/>
          <p:nvPr/>
        </p:nvPicPr>
        <p:blipFill>
          <a:blip r:embed="rId9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0" descr="png-0644"/>
          <p:cNvPicPr/>
          <p:nvPr/>
        </p:nvPicPr>
        <p:blipFill>
          <a:blip r:embed="rId10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1" descr="png-0652"/>
          <p:cNvPicPr/>
          <p:nvPr/>
        </p:nvPicPr>
        <p:blipFill>
          <a:blip r:embed="rId11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AAGCG48KA1I4JDI406"/>
          <p:cNvPicPr/>
          <p:nvPr/>
        </p:nvPicPr>
        <p:blipFill>
          <a:blip r:embed="rId1"/>
          <a:srcRect l="0" t="0" r="247" b="313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1437480" y="-235080"/>
            <a:ext cx="34174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的作者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恩难忘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AAGCG48KA1I4JDI406"/>
          <p:cNvPicPr/>
          <p:nvPr/>
        </p:nvPicPr>
        <p:blipFill>
          <a:blip r:embed="rId1"/>
          <a:srcRect l="0" t="0" r="247" b="313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"/>
          <p:cNvSpPr/>
          <p:nvPr/>
        </p:nvSpPr>
        <p:spPr>
          <a:xfrm>
            <a:off x="2043000" y="2975040"/>
            <a:ext cx="511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（因为田老师给小时候的作者讲了上千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故事，在作者的心田播下了文学的种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以作者永远忘不了这份恩情！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437480" y="-235080"/>
            <a:ext cx="34174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的作者是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师恩难忘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672880" y="1073160"/>
            <a:ext cx="1095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刘绍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725501ebfc19bef6d439c9b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2"/>
          <p:cNvSpPr/>
          <p:nvPr/>
        </p:nvSpPr>
        <p:spPr>
          <a:xfrm>
            <a:off x="0" y="177336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cc"/>
                </a:solidFill>
                <a:uFillTx/>
                <a:latin typeface="Arial"/>
              </a:rPr>
              <a:t>过关测试</a:t>
            </a:r>
            <a:r>
              <a:rPr b="0" lang="zh-CN" sz="4800" spc="-1" strike="noStrike">
                <a:solidFill>
                  <a:srgbClr val="ff33cc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哪些词语说了田老师的故事讲得好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4511880" y="522936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娓娓动听、身临其境、引人入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01d4fc9a394f6f90c8eaf41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2"/>
          <p:cNvSpPr/>
          <p:nvPr/>
        </p:nvSpPr>
        <p:spPr>
          <a:xfrm>
            <a:off x="2381400" y="1165320"/>
            <a:ext cx="46792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99"/>
                </a:solidFill>
                <a:uFillTx/>
                <a:latin typeface="Arial"/>
              </a:rPr>
              <a:t>过关测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宋体"/>
                <a:hlinkClick r:id="rId2" action="ppaction://hlinksldjump"/>
              </a:rPr>
              <a:t>十年树木，百年树人”赞颂了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971640" y="3789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你还能说出赞颂老师的名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324000" y="4724280"/>
            <a:ext cx="849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老师像蜡烛，燃烧了自己，照亮了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*</a:t>
            </a:r>
            <a:r>
              <a:rPr b="0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春蚕到死丝方尽，蜡炬成灰泪始干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2"/>
          <p:cNvSpPr/>
          <p:nvPr/>
        </p:nvSpPr>
        <p:spPr>
          <a:xfrm>
            <a:off x="0" y="1052640"/>
            <a:ext cx="9144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ff3300"/>
                </a:solidFill>
                <a:uFillTx/>
                <a:latin typeface="宋体"/>
              </a:rPr>
              <a:t>过关测试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6.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谈起往事，我深深感念他在我那幼小的心田上，播下文学的种子。”谈谈你对这句话的理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{666D0D88-ADB4-4A21-BA06-638257A34245}0"/>
          <p:cNvPicPr/>
          <p:nvPr/>
        </p:nvPicPr>
        <p:blipFill>
          <a:blip r:embed="rId1"/>
          <a:srcRect l="0" t="0" r="0" b="905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"/>
          <p:cNvSpPr/>
          <p:nvPr/>
        </p:nvSpPr>
        <p:spPr>
          <a:xfrm>
            <a:off x="3780000" y="981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cc"/>
                </a:solidFill>
                <a:latin typeface="华文新魏"/>
                <a:ea typeface="华文新魏"/>
              </a:rPr>
              <a:t>田老师上课时讲的上千个生动的故事，在作者的心田上播下了文学的种子，促进作者成了作家，所以作者永远忘不了老师的恩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1380600" y="157320"/>
            <a:ext cx="3563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Arial"/>
              </a:rPr>
              <a:t>过关测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中心思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图片7"/>
          <p:cNvPicPr/>
          <p:nvPr/>
        </p:nvPicPr>
        <p:blipFill>
          <a:blip r:embed="rId1"/>
          <a:stretch/>
        </p:blipFill>
        <p:spPr>
          <a:xfrm>
            <a:off x="6443640" y="620640"/>
            <a:ext cx="2165400" cy="2376720"/>
          </a:xfrm>
          <a:prstGeom prst="rect">
            <a:avLst/>
          </a:prstGeom>
          <a:ln w="0">
            <a:noFill/>
          </a:ln>
        </p:spPr>
      </p:pic>
      <p:sp>
        <p:nvSpPr>
          <p:cNvPr id="565" name="Rectangle 5"/>
          <p:cNvSpPr/>
          <p:nvPr/>
        </p:nvSpPr>
        <p:spPr>
          <a:xfrm>
            <a:off x="971640" y="31417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33cc"/>
                </a:solidFill>
                <a:latin typeface="Arial"/>
              </a:rPr>
              <a:t>通过作者回忆童年时田老师上课时讲故事的情景，抒发了作者深深的感激和怀念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8"/>
          <p:cNvSpPr/>
          <p:nvPr/>
        </p:nvSpPr>
        <p:spPr>
          <a:xfrm>
            <a:off x="2916360" y="1773360"/>
            <a:ext cx="5616360" cy="2663640"/>
          </a:xfrm>
          <a:prstGeom prst="cloudCallout">
            <a:avLst>
              <a:gd name="adj1" fmla="val -63791"/>
              <a:gd name="adj2" fmla="val 143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2916000" y="2133720"/>
            <a:ext cx="59036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学了这篇课文，你有什么想对你的老师说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图片5"/>
          <p:cNvPicPr/>
          <p:nvPr/>
        </p:nvPicPr>
        <p:blipFill>
          <a:blip r:embed="rId1"/>
          <a:stretch/>
        </p:blipFill>
        <p:spPr>
          <a:xfrm>
            <a:off x="395280" y="333360"/>
            <a:ext cx="1474920" cy="1246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5" descr="复件 小女孩"/>
          <p:cNvPicPr/>
          <p:nvPr/>
        </p:nvPicPr>
        <p:blipFill>
          <a:blip r:embed="rId2"/>
          <a:stretch/>
        </p:blipFill>
        <p:spPr>
          <a:xfrm>
            <a:off x="539640" y="2133720"/>
            <a:ext cx="2571840" cy="4287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图片4"/>
          <p:cNvPicPr/>
          <p:nvPr/>
        </p:nvPicPr>
        <p:blipFill>
          <a:blip r:embed="rId3"/>
          <a:stretch/>
        </p:blipFill>
        <p:spPr>
          <a:xfrm>
            <a:off x="3132000" y="404640"/>
            <a:ext cx="35276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03-01-01T05:25:56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4-09-01T07:40:20Z</dcterms:modified>
  <cp:revision>6</cp:revision>
  <dc:subject>第一PPT模板网-WWW.1PPT.COM</dc:subject>
  <dc:title>第一PPT模板网-WWW.1PPT.COM</dc:title>
</cp:coreProperties>
</file>