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FDF-E005-4848-9D87-7AD54772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707-6D05-4F93-B087-307F8147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577-20A6-4C5A-B4FF-A8C3BFCC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75B-9F52-4580-B02F-9348F8AF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5DA-76DA-4C44-90E7-19DF09E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76A-D615-428E-81DD-A5A317DE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32F-5E74-4947-B014-05B09543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1F4-A99F-40E9-9D2F-217034D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2BC-6E5D-40A8-A827-2828BFFB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A60-2362-4180-B465-49B2E75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D2F-D368-4168-B7B4-43841A1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624-B8BF-4644-85E4-65E25D7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33F-9213-43E7-A82E-6D91DD4BF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acuubrand.com/cn/page509.html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V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配件及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21980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空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t DCP 3000 + M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451240"/>
            <a:ext cx="6781680" cy="27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248520" y="4800600"/>
            <a:ext cx="2305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389640" cy="547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5791320"/>
            <a:ext cx="5762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31760"/>
            <a:ext cx="67816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空控制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) edward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德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V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片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000240" cy="2047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7036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195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K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列真空计真空控制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drawingml/2006/table">
            <a:tbl>
              <a:tblPr/>
              <a:tblGrid>
                <a:gridCol w="1320120"/>
                <a:gridCol w="2121120"/>
                <a:gridCol w="597240"/>
              </a:tblGrid>
              <a:tr h="11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气压控制电磁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JA14CR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薄膜规真空计（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tor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6B13TQ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薄膜规真空计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1tor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6B01TDF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磁阀控制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E-1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验室拟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：通风间及气瓶区域布置参照方老师实验室设计。排气管道可直接通窗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81280" y="2624040"/>
            <a:ext cx="5334120" cy="4233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有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需器件及性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马弗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Thermo Scientific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Lindberg/Blu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TF55322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5715000" cy="336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72320" y="3886200"/>
            <a:ext cx="2371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5895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228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拟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合成案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PbX2(x=Cl,Br,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晶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料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bI 2 , or PbBr 2 , or PbCl 2 powder (99.999%, Aldrich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reshly cleaved muscovite mica substrate (1 cm ×3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：石英管首先抽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mTorr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通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sc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纯氩气（混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氢气）。压强和温度分别控制为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80 °C and 200 Torr for PbI 2 ; 350 °C and 75 Torr for PbBr 2 ; and 510 °C and 200 Torr for PbCl 2 )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--2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然后自然冷却到室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CH3NH3PbX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钙钛矿 纳米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料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 3 NH 3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Cl, Br, 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已长有卤化铅晶片的云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件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 3 NH 3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置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热区中央，云母位于下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-6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。石英管首先抽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mTorr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通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sc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氩气或氮气。气压维持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Tor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温度保持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，时间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，然后自然冷去至室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mo Scientific Lindberg/Blue M 1100°C Mini-MiteTM TF55035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5943600" cy="295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24382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空泵及真空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FEIFFER Pascal 2015 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6705360" cy="36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21812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70536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352680" y="533520"/>
            <a:ext cx="3486240" cy="866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46280"/>
            <a:ext cx="6248520" cy="4154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57880" y="685800"/>
            <a:ext cx="28861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压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皮拉尼组合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PT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895840" cy="593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8862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106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UUBR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Z 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旋片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696440" cy="2614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19920" y="2133720"/>
            <a:ext cx="2933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9:34:28Z</dcterms:created>
  <dc:creator>shuai zhang</dc:creator>
  <dc:description/>
  <dc:language>en-US</dc:language>
  <cp:lastModifiedBy>zhangshuai</cp:lastModifiedBy>
  <dcterms:modified xsi:type="dcterms:W3CDTF">2015-10-25T16:15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