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96B9-8CA6-46AA-924F-90DAA46A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C57-FA01-40CE-82A1-72FCBB13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C440-0227-4BD7-983F-4165EB6D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EB5-0143-400B-943A-96A21739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EADE-5414-47F5-9B34-E9F88308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ED2-254E-47AE-86FA-3B71F096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D695-68AD-4C98-B441-FA30FC73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6FE-DE45-46AE-BE69-4C42F283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67C-B561-4EDE-86EA-1592C18D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103-6F12-4FC8-A1DB-ED317AD8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C84D-22D5-418B-AD8B-F8CBDDA0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4D21-0040-45F6-923B-AFB36A67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AD8E-6A70-488D-B2B9-878B92C82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1080" y="213372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POWE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2637000"/>
            <a:ext cx="38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3300"/>
                </a:solidFill>
                <a:latin typeface="Arial"/>
                <a:ea typeface="微软雅黑"/>
              </a:rPr>
              <a:t>适用于可爱卡通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48120" y="2276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91400" y="465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20120" y="307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20120" y="378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423400" y="2421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3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75760" y="3718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35760" y="5302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207400" y="321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52840" y="4863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60480" y="2637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87400" y="472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dc:language>en-US</dc:language>
  <cp:lastModifiedBy/>
  <cp:lastPrinted>1899-12-30T00:00:00Z</cp:lastPrinted>
  <dcterms:modified xsi:type="dcterms:W3CDTF">2013-10-10T02:41:1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