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B384-5175-45A6-8C3B-567573379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D919-4B72-4103-8AFD-4DD3466A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C27C-4239-407C-9027-121EF6DBC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F436-2DFD-4454-9BF2-DF9393478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BFB5-E00D-4200-BAC2-DB935514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117B-439C-47F8-A192-DB666641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54B7-05DD-4282-B139-E9762C07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8E26-FCE6-4734-B017-46E7A06D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AD88-92D2-4E9C-9B33-23751920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C66A-88E7-4E18-9D3E-C2905B9C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2AC5-7430-480F-9F4B-FD38BCB3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90BF-F7CF-4A8B-9B75-78AE1744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93C8-4B7D-45B7-A245-93E02FE65F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786040" y="1571760"/>
            <a:ext cx="528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143160" y="240660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Windows 用户</cp:lastModifiedBy>
  <dcterms:modified xsi:type="dcterms:W3CDTF">2015-08-26T03:04:17Z</dcterms:modified>
  <cp:revision>77</cp:revision>
  <dc:subject/>
  <dc:title>幻灯片 1</dc:title>
</cp:coreProperties>
</file>