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2F4-6A28-475B-B57B-1192F4B2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740-B55D-4D5D-98C5-759F3A3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938-C606-4C41-A378-DEE72CF4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44F-C221-4360-AFEE-6CEB55FE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A5E-AB67-4EE9-88BE-1C1BDC4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386-A277-4231-86AA-EFC2F5E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669-0413-4BD3-B516-FB2B2FC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41F-E8E0-4F30-8683-55DA190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EA3-295B-408E-B446-43919AF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E18-211A-4DCD-A580-86673FA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9DB-FC5B-401B-A220-21A1717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57A-838E-42B2-B7A9-0E783C1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0663-F271-48FB-8CF3-4B7A14B4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7760" y="4373640"/>
            <a:ext cx="28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3400" y="514044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五彩缤纷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8160" y="3502080"/>
            <a:ext cx="45468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79400" y="29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2304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7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28120" y="436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56120" y="38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8480" y="270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5040" y="566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75760" y="119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cp:lastPrinted>1899-12-30T00:00:00Z</cp:lastPrinted>
  <dcterms:modified xsi:type="dcterms:W3CDTF">2013-10-10T02:28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