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1.gif" ContentType="image/gif"/>
  <Override PartName="/ppt/media/image8.jpeg" ContentType="image/jpeg"/>
  <Override PartName="/ppt/media/image18.gif" ContentType="image/gif"/>
  <Override PartName="/ppt/media/image13.jpeg" ContentType="image/jpeg"/>
  <Override PartName="/ppt/media/image9.jpeg" ContentType="image/jpeg"/>
  <Override PartName="/ppt/media/image6.jpeg" ContentType="image/jpeg"/>
  <Override PartName="/ppt/media/image7.wmf" ContentType="image/x-wmf"/>
  <Override PartName="/ppt/media/image30.gif" ContentType="image/gif"/>
  <Override PartName="/ppt/media/image14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6.gif" ContentType="image/gif"/>
  <Override PartName="/ppt/media/image20.jpeg" ContentType="image/jpeg"/>
  <Override PartName="/ppt/media/image19.png" ContentType="image/png"/>
  <Override PartName="/ppt/media/image27.jpeg" ContentType="image/jpeg"/>
  <Override PartName="/ppt/media/image17.gif" ContentType="image/gif"/>
  <Override PartName="/ppt/media/image21.jpeg" ContentType="image/jpeg"/>
  <Override PartName="/ppt/media/image24.jpeg" ContentType="image/jpeg"/>
  <Override PartName="/ppt/media/image28.jpeg" ContentType="image/jpeg"/>
  <Override PartName="/ppt/media/image29.gif" ContentType="image/gif"/>
  <Override PartName="/ppt/media/image1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5F3-59F3-42AF-9B81-5523ED30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55A1-B9B6-48FD-96A0-F0018177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99D-6769-469E-8174-32368A70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04E8-79E6-4072-8045-82A3DE46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902-5628-4B8B-A3D6-252EDA0B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D242-530B-4D0A-AC2D-38BEDD62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924D-E132-4374-97F4-C1B92D23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A87-9BF7-4C1F-A425-EE1897B9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5A1-FB9E-4184-9DAA-F1A7BE6F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A9D-09BB-4CA2-9D90-4BABD4C4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A4D-D0A0-4D3A-BD55-E5C890DF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534-0740-4813-BF00-256D99FA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CAE3-E928-40C7-A7A7-9E3C7B72B1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.baidu.com/i?ct=503316480&amp;z=0&amp;tn=baiduimagedetail&amp;word=%B7%EB%E6%F7%B2%C5&amp;in=56&amp;cl=2&amp;cm=1&amp;sc=0&amp;lm=-1&amp;pn=55&amp;rn=1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033800" cy="5543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59280" y="549360"/>
            <a:ext cx="3922920" cy="5473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404640"/>
            <a:ext cx="64818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一、整体感知</a:t>
            </a:r>
            <a:r>
              <a:rPr b="1" i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i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1628640"/>
            <a:ext cx="6913800" cy="16304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哪些句子表现了“刷子李”技艺高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443640" y="4365720"/>
            <a:ext cx="2700360" cy="2340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596360" y="1125360"/>
            <a:ext cx="360360" cy="503280"/>
          </a:xfrm>
          <a:prstGeom prst="lef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最让人叫绝的是，他刷浆时必穿一身黑，干完活，身上绝没有一个白点。别不信！他还给自己立下一个规矩，只要身上有白点，白刷不要钱。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让人叫绝的是，他刷浆时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穿一身黑，干完活，身上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绝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没有一个白点。别不信！他还给自己立下一个规矩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只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身上有白点，白刷不要钱。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494172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刷子李的手艺高超，以及对自己手艺的自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只见师傅的手臂悠然摆来，悠然摆去，如同伴着鼓点，和着琴音，每一摆刷，那长长的带浆的毛刷便在墙面啪地清脆一响，极是好听。啪啪声里，一道道浆，衔接得天衣无缝，刷过去的墙面，真好比平平整整打开一面雪白的屏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俗话说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耳听为虚，眼见为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。让我们跟着徒弟曹小三去看看他是不是真的有这样的名气和能耐。请大家默读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—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。试着填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 起初曹小三对师傅的绝活一直（          ），但大半天下来，居然连一个芝麻大的粉点也没发现，他真觉得（               ），正当徒弟对师傅佩服地（                  ）时，却突然发现刷子李裤子上有一个白点，（                ），最后知道那是师傅抽烟不小心烧出来的小洞时，（    　　 ）。这就是曹小三心中的（                  ），也是这个故事的（                  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曹小三当然早就听说过师傅那手绝活，一直半信半疑，这回非要亲眼瞧瞧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2133720"/>
            <a:ext cx="748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真觉得这身黑色的衣服有种神圣不可侵犯的威严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3500280"/>
            <a:ext cx="806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了，师傅露馅儿了，他不是神仙，往日传说中那如山般的形象轰然倒去。他怕师傅难堪，不敢说，也不敢看，可忍不住还要扫一眼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232000" cy="1733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2492280"/>
            <a:ext cx="3276720" cy="609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6440" indent="-136440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刷墙时必穿一身黑，干完活，身上绝没有一个白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2360" y="3429000"/>
            <a:ext cx="648000" cy="792000"/>
          </a:xfrm>
          <a:prstGeom prst="rightArrow">
            <a:avLst>
              <a:gd name="adj1" fmla="val 31861"/>
              <a:gd name="adj2" fmla="val 27204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80000" y="2133720"/>
            <a:ext cx="2304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6440" indent="-136440">
              <a:spcBef>
                <a:spcPts val="2500"/>
              </a:spcBef>
              <a:buClr>
                <a:srgbClr val="333399"/>
              </a:buClr>
              <a:buFont typeface="Arial"/>
              <a:buChar char="•"/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技巧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2133720"/>
            <a:ext cx="334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6440" indent="-136440">
              <a:spcBef>
                <a:spcPts val="1001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身怀绝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4869000"/>
            <a:ext cx="334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6440" indent="-136440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自信豪气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476280"/>
            <a:ext cx="4464000" cy="1005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6440" indent="-136440" algn="ctr">
              <a:spcBef>
                <a:spcPts val="4124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华文新魏"/>
              </a:rPr>
              <a:t>人物形象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行楷"/>
              </a:rPr>
              <a:t>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611280" cy="539640"/>
          </a:xfrm>
          <a:custGeom>
            <a:avLst/>
            <a:gdLst>
              <a:gd name="textAreaLeft" fmla="*/ 34920 w 611280"/>
              <a:gd name="textAreaRight" fmla="*/ 576360 w 611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4466" h="21600">
                <a:moveTo>
                  <a:pt x="0" y="0"/>
                </a:moveTo>
                <a:lnTo>
                  <a:pt x="24466" y="0"/>
                </a:lnTo>
                <a:lnTo>
                  <a:pt x="24466" y="21600"/>
                </a:lnTo>
                <a:lnTo>
                  <a:pt x="0" y="21600"/>
                </a:lnTo>
                <a:close/>
              </a:path>
              <a:path fill="lightenLess" w="24466" h="21600">
                <a:moveTo>
                  <a:pt x="0" y="0"/>
                </a:moveTo>
                <a:lnTo>
                  <a:pt x="24466" y="0"/>
                </a:lnTo>
                <a:lnTo>
                  <a:pt x="23066" y="1400"/>
                </a:lnTo>
                <a:lnTo>
                  <a:pt x="1400" y="1400"/>
                </a:lnTo>
                <a:close/>
              </a:path>
              <a:path fill="darken" w="24466" h="21600">
                <a:moveTo>
                  <a:pt x="24466" y="0"/>
                </a:moveTo>
                <a:lnTo>
                  <a:pt x="24466" y="21600"/>
                </a:lnTo>
                <a:lnTo>
                  <a:pt x="23066" y="20200"/>
                </a:lnTo>
                <a:lnTo>
                  <a:pt x="23066" y="1400"/>
                </a:lnTo>
                <a:close/>
              </a:path>
              <a:path fill="darkenLess" w="24466" h="21600">
                <a:moveTo>
                  <a:pt x="24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6" y="20200"/>
                </a:lnTo>
                <a:close/>
              </a:path>
              <a:path fill="lighten" w="24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66" h="21600">
                <a:moveTo>
                  <a:pt x="5226" y="10800"/>
                </a:moveTo>
                <a:lnTo>
                  <a:pt x="19239" y="3794"/>
                </a:lnTo>
                <a:lnTo>
                  <a:pt x="19239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4869000"/>
            <a:ext cx="216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6440" indent="-136440" algn="ctr">
              <a:spcBef>
                <a:spcPts val="1001"/>
              </a:spcBef>
              <a:buClr>
                <a:srgbClr val="333399"/>
              </a:buClr>
              <a:buFont typeface="Arial"/>
              <a:buChar char="•"/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规矩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94400" y="1844640"/>
            <a:ext cx="12294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 vert="eaVer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刷子李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1628640"/>
            <a:ext cx="725400" cy="1774800"/>
          </a:xfrm>
          <a:custGeom>
            <a:avLst/>
            <a:gdLst>
              <a:gd name="textAreaLeft" fmla="*/ 463680 w 725400"/>
              <a:gd name="textAreaRight" fmla="*/ 725760 w 725400"/>
              <a:gd name="textAreaTop" fmla="*/ 46080 h 1774800"/>
              <a:gd name="textAreaBottom" fmla="*/ 1728720 h 177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717"/>
                </a:lnTo>
                <a:cubicBezTo>
                  <a:pt x="10800" y="10617"/>
                  <a:pt x="5400" y="11517"/>
                  <a:pt x="0" y="11517"/>
                </a:cubicBezTo>
                <a:cubicBezTo>
                  <a:pt x="5400" y="11517"/>
                  <a:pt x="10800" y="12417"/>
                  <a:pt x="10800" y="133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63640" y="1125360"/>
            <a:ext cx="61293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Times New Roman"/>
              </a:rPr>
              <a:t>绝活：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刷浆时必穿一身黑，干完活全身不粘一个白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2852640"/>
            <a:ext cx="61293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Times New Roman"/>
              </a:rPr>
              <a:t>人品：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艺高胆大、自信自尊、豪气冲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4076640"/>
            <a:ext cx="691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刷子李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-----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谈生意，满腔正气显派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带徒弟，一手绝活传真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544500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行事奇     做派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620640"/>
            <a:ext cx="813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刷子李之“奇”在于做派奇，规矩奇。他手艺出众，挥洒自如，原本已在“奇人”之列，但是他为自己制订的近乎苛刻的“规矩”更是奇崛之极。他以这样的独特“规矩”使自己远远超越了同行，成为粉刷行内响当当的奇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冯骥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4140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143000" y="1905120"/>
            <a:ext cx="68580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泥人张作品欣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57680" y="1285920"/>
            <a:ext cx="3429000" cy="4286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39640" y="3429000"/>
            <a:ext cx="264492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399360" y="3429000"/>
            <a:ext cx="274464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619280" y="333360"/>
            <a:ext cx="662472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960720" cy="568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4098960" cy="557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00720" y="39337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绝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5013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技艺高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189080" y="-1395360"/>
            <a:ext cx="7201080" cy="6022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5157720"/>
            <a:ext cx="82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捏泥人的手艺盖世无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53720" y="404640"/>
            <a:ext cx="28616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泥人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4465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4360" y="494172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他做的风筝无与伦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68040" y="476280"/>
            <a:ext cx="28616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风筝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56360" cy="4653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640" y="5084640"/>
            <a:ext cx="80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刻砖的技术登峰造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41120" y="404640"/>
            <a:ext cx="28616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刻砖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58920" y="3716280"/>
            <a:ext cx="7200720" cy="1843560"/>
          </a:xfrm>
          <a:prstGeom prst="rect">
            <a:avLst/>
          </a:prstGeom>
          <a:solidFill>
            <a:srgbClr val="00008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6440" indent="-136440">
              <a:spcBef>
                <a:spcPts val="2999"/>
              </a:spcBef>
              <a:tabLst>
                <a:tab algn="l" pos="0"/>
              </a:tabLst>
            </a:pPr>
            <a:r>
              <a:rPr b="0" lang="zh-CN" sz="4800" spc="-1" strike="noStrike">
                <a:solidFill>
                  <a:srgbClr val="ffcc99"/>
                </a:solidFill>
                <a:latin typeface="Arial"/>
              </a:rPr>
              <a:t>四、拓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06440" indent="-136440">
              <a:spcBef>
                <a:spcPts val="29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ffcc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想一想：你还知道哪些有绝活的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765000"/>
            <a:ext cx="4390920" cy="1829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6440" indent="-136440"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三百六十行行行出状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659640" y="4329000"/>
            <a:ext cx="213048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15640" y="155736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为你身边有绝活的人，（比如同学或者老师）写一篇人物速写。要抓住人物动作、语言、神态等方面的特征，写出他们的奇处、绝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三分钟完成</a:t>
            </a:r>
            <a:r>
              <a:rPr b="0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50</a:t>
            </a:r>
            <a:r>
              <a:rPr b="0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读一读，并请同学们猜猜他（她）是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黑体"/>
              </a:rPr>
              <a:t>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8360" y="5950080"/>
            <a:ext cx="5112000" cy="428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0"/>
            <a:ext cx="3960720" cy="1557360"/>
          </a:xfrm>
          <a:prstGeom prst="ellipse">
            <a:avLst/>
          </a:prstGeom>
          <a:solidFill>
            <a:srgbClr val="ff00ff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8900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  <a:ea typeface="华文行楷"/>
              </a:rPr>
              <a:t>写一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468360" y="1773360"/>
            <a:ext cx="88567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6440" indent="-136440" algn="ctr">
              <a:spcBef>
                <a:spcPts val="5499"/>
              </a:spcBef>
              <a:buClr>
                <a:srgbClr val="ff0000"/>
              </a:buClr>
              <a:buFont typeface="Arial"/>
              <a:buChar char="•"/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23    </a:t>
            </a: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刷子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04000" y="4653000"/>
            <a:ext cx="2163960" cy="1797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47628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义务教育课程标准实验教科书人教版小学语文五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12120" y="653400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692360" y="2637000"/>
            <a:ext cx="6095880" cy="236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656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俗世奇人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657600" y="4343400"/>
            <a:ext cx="167652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华文新魏"/>
              </a:rPr>
              <a:t>冯骥才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华文新魏"/>
              <a:ea typeface="华文新魏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895480" y="4800600"/>
            <a:ext cx="3407040" cy="182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79640" y="5157720"/>
            <a:ext cx="561672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6440" indent="-136440" algn="ctr">
              <a:spcBef>
                <a:spcPts val="5000"/>
              </a:spcBef>
              <a:tabLst>
                <a:tab algn="l" pos="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刷  子  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9280" y="4149720"/>
          <a:ext cx="1657440" cy="24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149720"/>
                    <a:ext cx="165744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1680" cy="93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Arial"/>
                <a:ea typeface="华文彩云"/>
              </a:rPr>
              <a:t>知识窗：你对作者有多少了解？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19280" y="1341360"/>
            <a:ext cx="5724360" cy="551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0" rIns="0" tIns="0" bIns="0" anchor="t">
            <a:normAutofit/>
          </a:bodyPr>
          <a:p>
            <a:pPr marL="406440" indent="0">
              <a:spcBef>
                <a:spcPts val="2251"/>
              </a:spcBef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冯骥才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著名作家。他生于天津长于天津，对这里的一切，都怀着一种近乎狂热的激情。他写过不少具有天津地域特色的小说，如《神鞭》《三寸金莲》《俗世奇人》等，从而挖掘天津人的集体性格，展示这个城市的形态和灵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spcBef>
                <a:spcPts val="225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3708360" cy="5589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53400" y="76320"/>
            <a:ext cx="1290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  字  注  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刷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jiāng)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难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kān)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chǒ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zhèng)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zhà)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露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儿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股         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888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64000" y="0"/>
            <a:ext cx="1837080" cy="888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564000" y="0"/>
            <a:ext cx="1836720" cy="888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763640" y="0"/>
            <a:ext cx="1836720" cy="888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765440" cy="888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0" y="6329520"/>
            <a:ext cx="4572000" cy="528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4572000" y="6329520"/>
            <a:ext cx="4572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87280" y="1700280"/>
            <a:ext cx="7129800" cy="2470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了解刷子李之奇，感受刷子李个性魅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了解本文的情节艺术、感受鲜明的语言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了解我国民间艺人的高超技艺，初步培养重视抢救中国民间文化遗产的意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2232000" cy="1860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74240" y="692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习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6:51:27Z</dcterms:created>
  <dc:creator>微软用户</dc:creator>
  <dc:description/>
  <dc:language>en-US</dc:language>
  <cp:lastModifiedBy>User</cp:lastModifiedBy>
  <dcterms:modified xsi:type="dcterms:W3CDTF">2014-12-11T11:46:15Z</dcterms:modified>
  <cp:revision>21</cp:revision>
  <dc:subject/>
  <dc:title>幻灯片 1</dc:title>
</cp:coreProperties>
</file>