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9EA-0A48-4102-AD27-F39681C5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C15-6B58-450D-988E-86CFF85D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0B9-CD05-4B4D-BDF4-0A47893D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8A7-1D69-41F3-81A7-54993A26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E25-EE14-4378-A373-071C982D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CAC-55C6-46FE-9F3A-410B05C7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D56-D7DB-4AE7-9FCE-D96E9B1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BD-33A6-4C25-A46D-6FFB3F5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EB0-2A34-4BE4-8426-7EA6487C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638-5075-4A84-9229-F784900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B69-C024-4D58-8E03-397F31F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807-7AA8-4D8C-94E2-EBE7EE6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78F4-BF11-45EE-B734-933F0576BE26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14440" y="157176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46:53Z</dcterms:created>
  <dc:creator>Eric</dc:creator>
  <dc:description/>
  <dc:language>en-US</dc:language>
  <cp:lastModifiedBy>微软中国</cp:lastModifiedBy>
  <dcterms:modified xsi:type="dcterms:W3CDTF">2013-11-14T03:36:15Z</dcterms:modified>
  <cp:revision>12</cp:revision>
  <dc:subject/>
  <dc:title>PRESENTATION  NAME</dc:title>
</cp:coreProperties>
</file>