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97D9-7544-494D-B406-F2D53755FDD5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C60C-017F-4BAB-9426-40B56745841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886BB7-B56D-4CA2-9C0D-C0ECC3B21B1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42FE-FEC0-4EB1-BF70-72116FD39B3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14D3BA-DDDF-4BC0-929A-69C91EA6B20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9379-E3F7-4F4A-B660-8F11E6DD194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8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30120" y="4350960"/>
            <a:ext cx="44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Georgia"/>
                <a:ea typeface="宋体"/>
              </a:rPr>
              <a:t>Birthday Invit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0120" y="812520"/>
            <a:ext cx="44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ear (r)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1640" y="1976400"/>
            <a:ext cx="44323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date at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’clock I want to celebrate my </a:t>
            </a:r>
            <a:r>
              <a:rPr b="0" lang="de-DE" sz="2400" spc="-1" strike="noStrike">
                <a:solidFill>
                  <a:srgbClr val="dddddd"/>
                </a:solidFill>
                <a:latin typeface="Arial"/>
                <a:ea typeface="宋体"/>
              </a:rPr>
              <a:t>ag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 birthday and are inv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 would be happy if you could join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lease let me know if you can 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incerely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3"/>
          <p:cNvSpPr/>
          <p:nvPr/>
        </p:nvSpPr>
        <p:spPr>
          <a:xfrm>
            <a:off x="3930480" y="812880"/>
            <a:ext cx="4505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 celebrate my birthday!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3941640" y="1976400"/>
            <a:ext cx="44323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refore, I would appreciate your appearance on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d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uch. The party starts at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’ clock and food and drinks are provide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incerely, Your (s)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88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PresentationLoad</dc:creator>
  <dc:description>Professional PowerPoint templates for download</dc:description>
  <dc:language>en-US</dc:language>
  <cp:lastModifiedBy>微软中国</cp:lastModifiedBy>
  <dcterms:modified xsi:type="dcterms:W3CDTF">2013-05-30T07:40:47Z</dcterms:modified>
  <cp:revision>74</cp:revision>
  <dc:subject/>
  <dc:title>KP-T0129</dc:title>
</cp:coreProperties>
</file>