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A09E-0A96-4B2D-992F-A9CCDE326EE0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34F6-178A-4EC9-B0D0-D8C15A777F2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22B03C-E98E-4D2F-98CA-EB0A11E1970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EB5-3A4A-4B28-9B31-917873788C3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2B8212-5219-435C-B39F-2AD9BD807D8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150-16C5-4BD0-BED1-226EB0B7885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0120" y="435096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Birthday Invit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0120" y="81252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ear (r)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1640" y="1976400"/>
            <a:ext cx="44323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clock I want to celebrate my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  <a:ea typeface="宋体"/>
              </a:rPr>
              <a:t>a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 birthday and are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 would be happy if you could joi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lease let me know if you can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7"/>
          <p:cNvSpPr/>
          <p:nvPr/>
        </p:nvSpPr>
        <p:spPr>
          <a:xfrm>
            <a:off x="3930480" y="812880"/>
            <a:ext cx="450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 celebrate my birthday!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3941640" y="1976400"/>
            <a:ext cx="4432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refore, I would appreciate your appearance 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uch. The party starts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 clock and food and drinks are provid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, Your (s)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88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>Professional PowerPoint templates for download</dc:description>
  <dc:language>en-US</dc:language>
  <cp:lastModifiedBy>微软中国</cp:lastModifiedBy>
  <dcterms:modified xsi:type="dcterms:W3CDTF">2013-07-09T07:32:56Z</dcterms:modified>
  <cp:revision>77</cp:revision>
  <dc:subject/>
  <dc:title>KP-T0128</dc:title>
</cp:coreProperties>
</file>