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20C2-0C60-40FF-8107-3B052A43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52F-C2D0-4622-923B-2B87B176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0E1-8CBD-4CD1-BFB5-83961025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9B2-6256-4EFE-AD55-021B497E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5CC-073E-49ED-A43C-9FF78325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F27-8474-49DC-8E13-32854E04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3C5-F610-474C-A368-6ABFDD0A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F3E-6CB4-4C00-8E02-5A9819EC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023-0D44-4305-87EB-441921F5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EBD-FFA4-4BBD-BC93-40AF1B73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536-0F34-4892-A87C-10E30FDC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4A0-98F1-4C0E-A904-854A0D0E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CC6B-2DCB-4F6C-8213-E457FFC62FDA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hyperlink" Target="http://www.weibo.com/51ppt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262626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14440" y="157176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Calibri"/>
              </a:rPr>
              <a:t>Lorem ipsum dolor sit amet, consectetuer adipiscing elit. Vivamus et magna. Fusce sed sem sed magna suscipit ege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47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22">
            <a:hlinkClick r:id="rId6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5:46:53Z</dcterms:created>
  <dc:creator>Eric</dc:creator>
  <dc:description/>
  <dc:language>en-US</dc:language>
  <cp:lastModifiedBy>微软中国</cp:lastModifiedBy>
  <dcterms:modified xsi:type="dcterms:W3CDTF">2013-11-14T03:36:15Z</dcterms:modified>
  <cp:revision>12</cp:revision>
  <dc:subject/>
  <dc:title>PRESENTATION  NAME</dc:title>
</cp:coreProperties>
</file>