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27D-4FDF-4F34-B185-9D6CC598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733-E036-462D-ADA3-75EC6714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4E39B-3291-4E6E-B6A5-0CBECA29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6F13A-82F3-4B53-B79A-BF110C8D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B2E2C-B25B-4F2F-B7DA-D949A972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54ED8-155F-46F4-A993-15C1705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4DEB1-60F9-4562-A24D-FB3DDF9A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AE5E4-4230-4842-B1D2-D343A5B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C7295-9E0F-4025-A58F-B4540338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258B9-FA88-4343-9E19-EDDADCA7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E466E-24C8-4F74-A873-6FF4E472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12B52-F9DC-4803-B2EE-57DD548F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569-489D-480B-B623-CAC9A381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E041C-0067-486A-8511-D84553CA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C91B1-3886-4517-90CD-A8461455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65CE9-E1C8-4875-B36E-A25F8931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2CAF7-6CC1-47CD-9E8E-22DF804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5485D-B4A2-4DF2-9AEE-DC658F9D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A84B2-E716-4E0D-894D-A1E2AB16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781EC-74D9-49BE-95C6-6D7E7389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4D20A-99AD-4833-99CE-406D98A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0201E-D7E2-43C2-BC8F-FEABF630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A7F0E-C3E0-4004-90DC-E6E214CE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B13-B8AA-4A0E-AD33-58E1A7CD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D4E78-4E6E-49D2-AC56-6EB299BB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8DF59-31E4-47AE-A18E-3AD03268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FAFCA-EA3F-4ED5-8529-876701C0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D8F36-53BF-40F3-97A4-FB52EC60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CBACC-74E7-47ED-9961-DCC2C285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4F837-102B-454E-8EAB-D458CEAA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3DD53-4BFE-4EE4-8145-AA8BA606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1935F-B57C-43DD-854A-8CB9983F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837BC-D690-46FC-BF6D-EE2D37EB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AD53F-89A5-4700-A7F1-C40C0F3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2522-2A16-4982-BD83-CB605832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74C72-DFD1-4971-90D0-D173C353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27E77-5038-49E6-A780-64E7861F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45AB4-30F6-45E9-B9F8-08BB41FD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0CA1-E1BB-4553-A359-6CE9F200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AEAD-DD85-4654-A725-E18426F5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343D-5CF3-424D-97D0-805B19E0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094D-6AFF-42C3-A788-3F4E10F6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D516-EB9C-4A1F-8A42-8125608C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5448-6F33-4E66-A8A3-6334F66F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B4B-EE8D-42D4-92C7-A52D11C0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4492-53D7-47D3-B17C-E335CBBA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FEC-74A4-4DF3-8459-82B77CD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177A-3F7F-4EA9-9226-0A922161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F945-000A-4E3B-A92B-320CD5BF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BD79-A756-4F6E-89D1-C32C64E3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BE8C-2298-4195-8A39-29366B4C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3EFE-749C-47F3-8749-F97A6CAE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6D661-9C22-4F6F-8395-91D5108E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C836-1972-418C-9F09-7CA9C3CC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463CC-3F79-47F0-8364-1E236CA7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8237-55FB-4E5B-8C47-1736FB23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3D87-A70B-463E-ABFF-29C45A45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D852-1D77-456C-8455-E8C58805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BC56-3D1A-4030-8EAB-D2C1F3B2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E2332-4E9C-4B80-8ACE-DE3BC64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8596-F6FF-4010-BC52-0227DE95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33DC-4679-43D2-AB8D-09A5AADF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3858D-C062-495F-9B0B-1B34DC26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CA7A2-1178-48E2-BBD1-EE4DC000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901D2-59AD-407E-B961-67591AF2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8EB1-1A7B-4CD5-BC87-3375FBDB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3E1-12DD-491C-8204-031BE83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16D6-E9F8-4E0E-AF36-7BCD9D27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5910-7602-4BF2-9D9A-2574BF8F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A5F01-1C86-4DDD-8599-AAAE9A92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65538-67EA-414A-9797-5FFE7F72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0884-8289-4C9F-B96B-13B95918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E826-2F23-4AC2-AF50-884C864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F02C0-CDE9-4057-A835-593682D3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C017-0ADF-4B46-AC51-57861B88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78F19-8CB8-478E-BE16-D72CC14F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0727-E68C-4157-9378-9E309159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AE5-4D53-4AB1-B877-4FA67199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4C24-EC14-4BDD-A66B-0454395A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590E5-9EE0-4621-B7E7-EC895338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6BAA8-2F5A-4E9F-9E48-A3133DCE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C170B-AC05-4698-8F8B-77BD433F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83F83-B6C0-45A2-8105-467C9723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35BA2-AACA-4202-BEEE-668117FA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9DC34-BD21-4264-A626-46509E6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1F52F-CF5E-48B4-A766-EC076EE5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BAC90-2773-4785-86C1-DEE7C964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0A7DD-1C8C-4271-BBBC-FEFA827C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7F1-1870-46FE-9392-27BE9A69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EB69F-3760-4221-830A-EE7E9E73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84A79-95E1-4895-B736-113FE2BA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B1C26-25C7-4C34-BD76-7B4FA916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A99FF-5994-47B1-9624-BE7EF691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D7D6-3D87-4A4B-B983-FCBCC51E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210E4-3C2D-4FE0-AEA4-DB537550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F68A-1806-4158-B95C-CFDC30D7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62EF5-5430-4157-AB65-4A7B0792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F962A-F9ED-4575-88DE-5C238218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58E89-67FA-40A6-91B7-D9DA1CA4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FD8-DA81-433B-8F04-F2AFFC2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5353-61FD-4238-AF20-85C14752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85CD1-1811-434C-B160-7D4E8483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F92DA-3165-4F29-8EDB-BDB84C66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D8D4F-FBC0-4C1A-8F53-1B849AAA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F1D35-28AD-492D-814F-5A821234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8D65E-90DF-437F-B633-610F01F5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EBC18-8D17-411D-90EA-FE576BC7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A4BB6-7788-4807-9FDE-354EA0BC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330D2-B863-4676-B136-7F47E128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46AB3-AA04-4DEA-AA35-776AF4DC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F69-F6D6-4500-817E-64AEE81E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FCCDD-0D4D-43BD-A5E2-82A2B3B0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EEB47-0D8D-463E-8E26-64A0459E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5FB44-BF46-436F-8E17-24CBF4C7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73A18-0B9D-4164-BE34-A44EEAE8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ACDD5-5527-4F3E-A183-FBE58F72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84F16-A099-4E89-AB04-F58A1263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322D6-1281-48F3-A8D6-4C4A0105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B643C-C0AB-42BA-BAD7-51FB2508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3D2EF-DCAD-4BA1-9DA3-C3609813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FFA9B-672C-469F-B391-6BED90B8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856-9ACA-450C-8FBE-59FF55C6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33697-5EED-4BC1-B3C8-6976B141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21C01-CABE-466E-A06C-F791C745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1FBDE-A34A-46C2-9CDE-C898375B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0CB56-F7D6-48C1-BDFB-226CD1F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73BEE-9836-4223-BC70-528DF2A5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03470-172C-46BE-8D98-2BDF7D35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30D11-4EA9-48FD-889E-FCCC3CA5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6CA34-4C68-4B15-B8E5-B6BB8F8EE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79B78-A86A-41AA-8158-28BC8724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D813C-BB53-4137-81EF-33A8F1BF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929C-45D3-4C6C-95D2-D9903FB2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B3B3-8A37-42CB-8B20-773793EC1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35CC-4619-4B59-A335-15541FA66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86F6-B8DC-4B76-871B-246F11EC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F132-E31F-40CB-B292-D9857480C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3D6A-3DC4-44F8-846C-C48104423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49B1-DE60-4475-9632-64033D7A8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92DE-9B07-4779-B8CC-D44E98D67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0AEB-0F9B-4ACA-9C0D-AD3D80959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B94F-67C7-4EA7-8B5B-15EB1CBFB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3522-BE12-4A75-A3A8-4C392F057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6.xml"/><Relationship Id="rId18" Type="http://schemas.openxmlformats.org/officeDocument/2006/relationships/slide" Target="slide6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20.xml"/><Relationship Id="rId24" Type="http://schemas.openxmlformats.org/officeDocument/2006/relationships/slide" Target="slide20.xml"/><Relationship Id="rId25" Type="http://schemas.openxmlformats.org/officeDocument/2006/relationships/slide" Target="slide8.xml"/><Relationship Id="rId26" Type="http://schemas.openxmlformats.org/officeDocument/2006/relationships/slide" Target="slide8.xml"/><Relationship Id="rId27" Type="http://schemas.openxmlformats.org/officeDocument/2006/relationships/slide" Target="slide21.xml"/><Relationship Id="rId28" Type="http://schemas.openxmlformats.org/officeDocument/2006/relationships/slide" Target="slide21.xml"/><Relationship Id="rId29" Type="http://schemas.openxmlformats.org/officeDocument/2006/relationships/slide" Target="slide12.xml"/><Relationship Id="rId30" Type="http://schemas.openxmlformats.org/officeDocument/2006/relationships/slide" Target="slide12.xml"/><Relationship Id="rId31" Type="http://schemas.openxmlformats.org/officeDocument/2006/relationships/slide" Target="slide22.xml"/><Relationship Id="rId32" Type="http://schemas.openxmlformats.org/officeDocument/2006/relationships/slide" Target="slide13.xml"/><Relationship Id="rId33" Type="http://schemas.openxmlformats.org/officeDocument/2006/relationships/slide" Target="slide13.xml"/><Relationship Id="rId34" Type="http://schemas.openxmlformats.org/officeDocument/2006/relationships/slide" Target="slide23.xml"/><Relationship Id="rId3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1523880" y="1523880"/>
          <a:ext cx="6096240" cy="5089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、简介颐和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1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、可写数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3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、开头写感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12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、想象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、填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13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、比较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5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、要有顺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14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、可写形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6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、要有重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15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、比较比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7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、比较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16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、可用比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8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、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7" action="ppaction://hlinksldjump"/>
                        </a:rPr>
                        <a:t>17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8" action="ppaction://hlinksldjump"/>
                        </a:rPr>
                        <a:t>、比较“滑”“划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9" action="ppaction://hlinksldjump"/>
                        </a:rPr>
                        <a:t>9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0" action="ppaction://hlinksldjump"/>
                        </a:rPr>
                        <a:t>、可写颜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1" action="ppaction://hlinksldjump"/>
                        </a:rPr>
                        <a:t>１８、想象狮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2" action="ppaction://hlinksldjump"/>
                        </a:rPr>
                        <a:t>10</a:t>
                      </a: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3" action="ppaction://hlinksldjump"/>
                        </a:rPr>
                        <a:t>、比较数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4" action="ppaction://hlinksldjump"/>
                        </a:rPr>
                        <a:t>１９、首尾照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颐和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43"/>
          <p:cNvSpPr/>
          <p:nvPr/>
        </p:nvSpPr>
        <p:spPr>
          <a:xfrm>
            <a:off x="784872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灯片编号占位符 3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326E-5505-44C1-9CC8-EED87BB88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页脚占位符 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矩形 6"/>
          <p:cNvSpPr/>
          <p:nvPr/>
        </p:nvSpPr>
        <p:spPr>
          <a:xfrm>
            <a:off x="0" y="189000"/>
            <a:ext cx="60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-11916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3" descr="bjyhy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990720" y="0"/>
            <a:ext cx="7886520" cy="5638680"/>
          </a:xfrm>
          <a:prstGeom prst="rect">
            <a:avLst/>
          </a:prstGeom>
          <a:ln w="0">
            <a:noFill/>
          </a:ln>
        </p:spPr>
      </p:pic>
      <p:sp>
        <p:nvSpPr>
          <p:cNvPr id="50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77C0-3E61-4B77-A8AD-11DD8429E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-14436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3" descr="bjyhy1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71680" y="685800"/>
            <a:ext cx="8038800" cy="4191120"/>
          </a:xfrm>
          <a:prstGeom prst="rect">
            <a:avLst/>
          </a:prstGeom>
          <a:ln w="0">
            <a:noFill/>
          </a:ln>
        </p:spPr>
      </p:pic>
      <p:sp>
        <p:nvSpPr>
          <p:cNvPr id="50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0C8A-4AE7-406E-BFF1-5CAF2743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ordArt 2"/>
          <p:cNvSpPr txBox="1"/>
          <p:nvPr/>
        </p:nvSpPr>
        <p:spPr>
          <a:xfrm>
            <a:off x="2895480" y="99072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914400" y="34290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描写景物，可写景物的颜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4">
            <a:hlinkClick r:id="" action="ppaction://hlinkshowjump?jump=firstslide"/>
          </p:cNvPr>
          <p:cNvSpPr/>
          <p:nvPr/>
        </p:nvSpPr>
        <p:spPr>
          <a:xfrm>
            <a:off x="7010280" y="59436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25914" y="3837"/>
                </a:moveTo>
                <a:lnTo>
                  <a:pt x="28490" y="6448"/>
                </a:lnTo>
                <a:lnTo>
                  <a:pt x="28490" y="4707"/>
                </a:lnTo>
                <a:lnTo>
                  <a:pt x="30266" y="4707"/>
                </a:lnTo>
                <a:lnTo>
                  <a:pt x="30266" y="8224"/>
                </a:lnTo>
                <a:lnTo>
                  <a:pt x="32877" y="10800"/>
                </a:lnTo>
                <a:lnTo>
                  <a:pt x="31223" y="10800"/>
                </a:lnTo>
                <a:lnTo>
                  <a:pt x="31223" y="17989"/>
                </a:lnTo>
                <a:lnTo>
                  <a:pt x="20605" y="17989"/>
                </a:lnTo>
                <a:lnTo>
                  <a:pt x="20605" y="10800"/>
                </a:lnTo>
                <a:lnTo>
                  <a:pt x="18951" y="10800"/>
                </a:lnTo>
                <a:close/>
              </a:path>
              <a:path fill="darkenLess" w="51828" h="21600">
                <a:moveTo>
                  <a:pt x="28490" y="6448"/>
                </a:moveTo>
                <a:lnTo>
                  <a:pt x="28490" y="4707"/>
                </a:lnTo>
                <a:lnTo>
                  <a:pt x="30266" y="4707"/>
                </a:lnTo>
                <a:lnTo>
                  <a:pt x="30266" y="8224"/>
                </a:lnTo>
                <a:close/>
              </a:path>
              <a:path fill="darkenLess" w="51828" h="21600">
                <a:moveTo>
                  <a:pt x="24991" y="14299"/>
                </a:moveTo>
                <a:lnTo>
                  <a:pt x="26836" y="14299"/>
                </a:lnTo>
                <a:lnTo>
                  <a:pt x="26836" y="17989"/>
                </a:lnTo>
                <a:lnTo>
                  <a:pt x="31223" y="17989"/>
                </a:lnTo>
                <a:lnTo>
                  <a:pt x="31223" y="10800"/>
                </a:lnTo>
                <a:lnTo>
                  <a:pt x="20605" y="10800"/>
                </a:lnTo>
                <a:lnTo>
                  <a:pt x="20605" y="17989"/>
                </a:lnTo>
                <a:lnTo>
                  <a:pt x="24991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CA2D-18EF-41EA-90AE-EE73D118B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这条长廊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00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米长，分成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7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这条长廊很长很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4">
            <a:hlinkClick r:id="" action="ppaction://hlinkshowjump?jump=firstslide"/>
          </p:cNvPr>
          <p:cNvSpPr/>
          <p:nvPr/>
        </p:nvSpPr>
        <p:spPr>
          <a:xfrm>
            <a:off x="6629400" y="57913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354D-D344-46EC-AFEA-6468FE8DA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WordArt 2"/>
          <p:cNvSpPr txBox="1"/>
          <p:nvPr/>
        </p:nvSpPr>
        <p:spPr>
          <a:xfrm>
            <a:off x="2895480" y="99072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0880" y="34290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描写景物，可用具体的数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">
            <a:hlinkClick r:id="" action="ppaction://hlinkshowjump?jump=firstslide"/>
          </p:cNvPr>
          <p:cNvSpPr/>
          <p:nvPr/>
        </p:nvSpPr>
        <p:spPr>
          <a:xfrm>
            <a:off x="7391520" y="6019920"/>
            <a:ext cx="533160" cy="30456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394" y="1400"/>
                </a:lnTo>
                <a:lnTo>
                  <a:pt x="1400" y="140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394" y="20200"/>
                </a:lnTo>
                <a:lnTo>
                  <a:pt x="36394" y="140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4" y="2020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4" h="21600">
                <a:moveTo>
                  <a:pt x="18897" y="3837"/>
                </a:moveTo>
                <a:lnTo>
                  <a:pt x="21473" y="6448"/>
                </a:lnTo>
                <a:lnTo>
                  <a:pt x="21473" y="4707"/>
                </a:lnTo>
                <a:lnTo>
                  <a:pt x="23249" y="4707"/>
                </a:lnTo>
                <a:lnTo>
                  <a:pt x="23249" y="8224"/>
                </a:lnTo>
                <a:lnTo>
                  <a:pt x="25860" y="10800"/>
                </a:lnTo>
                <a:lnTo>
                  <a:pt x="24206" y="10800"/>
                </a:lnTo>
                <a:lnTo>
                  <a:pt x="24206" y="17989"/>
                </a:lnTo>
                <a:lnTo>
                  <a:pt x="13588" y="17989"/>
                </a:lnTo>
                <a:lnTo>
                  <a:pt x="13588" y="10800"/>
                </a:lnTo>
                <a:lnTo>
                  <a:pt x="11934" y="10800"/>
                </a:lnTo>
                <a:close/>
              </a:path>
              <a:path fill="darkenLess" w="37794" h="21600">
                <a:moveTo>
                  <a:pt x="21473" y="6448"/>
                </a:moveTo>
                <a:lnTo>
                  <a:pt x="21473" y="4707"/>
                </a:lnTo>
                <a:lnTo>
                  <a:pt x="23249" y="4707"/>
                </a:lnTo>
                <a:lnTo>
                  <a:pt x="23249" y="8224"/>
                </a:lnTo>
                <a:close/>
              </a:path>
              <a:path fill="darkenLess" w="37794" h="21600">
                <a:moveTo>
                  <a:pt x="17974" y="14299"/>
                </a:moveTo>
                <a:lnTo>
                  <a:pt x="19819" y="14299"/>
                </a:lnTo>
                <a:lnTo>
                  <a:pt x="19819" y="17989"/>
                </a:lnTo>
                <a:lnTo>
                  <a:pt x="24206" y="17989"/>
                </a:lnTo>
                <a:lnTo>
                  <a:pt x="24206" y="10800"/>
                </a:lnTo>
                <a:lnTo>
                  <a:pt x="13588" y="10800"/>
                </a:lnTo>
                <a:lnTo>
                  <a:pt x="13588" y="17989"/>
                </a:lnTo>
                <a:lnTo>
                  <a:pt x="17974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29E8-7EF4-491B-BCD3-CE9065943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3"/>
          <p:cNvSpPr txBox="1"/>
          <p:nvPr/>
        </p:nvSpPr>
        <p:spPr>
          <a:xfrm>
            <a:off x="1523880" y="0"/>
            <a:ext cx="60962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展开想象的翅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380880" y="304812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有的横槛上画着（                     ），有的横槛上画着（                     ），有的横槛上画着（                     ），有的横槛上画着（                     ）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">
            <a:hlinkClick r:id="" action="ppaction://hlinkshowjump?jump=firstslide"/>
          </p:cNvPr>
          <p:cNvSpPr/>
          <p:nvPr/>
        </p:nvSpPr>
        <p:spPr>
          <a:xfrm>
            <a:off x="7467480" y="60958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E1FC-404D-4CA7-82DD-7E44A3B9F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比较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抬头一看，一座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八角宝塔形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的三层建筑耸立在半山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抬头一看，一座三层建筑耸立在半山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4">
            <a:hlinkClick r:id="" action="ppaction://hlinkshowjump?jump=firstslide"/>
          </p:cNvPr>
          <p:cNvSpPr/>
          <p:nvPr/>
        </p:nvSpPr>
        <p:spPr>
          <a:xfrm>
            <a:off x="6934320" y="54864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  <a:path fill="darken" w="21600" h="24303">
                <a:moveTo>
                  <a:pt x="10800" y="5189"/>
                </a:moveTo>
                <a:lnTo>
                  <a:pt x="13376" y="7800"/>
                </a:ln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lnTo>
                  <a:pt x="17763" y="12152"/>
                </a:lnTo>
                <a:lnTo>
                  <a:pt x="16109" y="12152"/>
                </a:lnTo>
                <a:lnTo>
                  <a:pt x="16109" y="19341"/>
                </a:lnTo>
                <a:lnTo>
                  <a:pt x="5491" y="19341"/>
                </a:lnTo>
                <a:lnTo>
                  <a:pt x="5491" y="12152"/>
                </a:lnTo>
                <a:lnTo>
                  <a:pt x="3837" y="12152"/>
                </a:lnTo>
                <a:close/>
              </a:path>
              <a:path fill="darkenLess" w="21600" h="24303">
                <a:moveTo>
                  <a:pt x="13376" y="7800"/>
                </a:moveTo>
                <a:lnTo>
                  <a:pt x="13376" y="6059"/>
                </a:lnTo>
                <a:lnTo>
                  <a:pt x="15152" y="6059"/>
                </a:lnTo>
                <a:lnTo>
                  <a:pt x="15152" y="9575"/>
                </a:lnTo>
                <a:close/>
              </a:path>
              <a:path fill="darkenLess" w="21600" h="24303">
                <a:moveTo>
                  <a:pt x="9877" y="15650"/>
                </a:moveTo>
                <a:lnTo>
                  <a:pt x="11723" y="15650"/>
                </a:lnTo>
                <a:lnTo>
                  <a:pt x="11723" y="19341"/>
                </a:lnTo>
                <a:lnTo>
                  <a:pt x="16109" y="19341"/>
                </a:lnTo>
                <a:lnTo>
                  <a:pt x="16109" y="12152"/>
                </a:lnTo>
                <a:lnTo>
                  <a:pt x="5491" y="12152"/>
                </a:lnTo>
                <a:lnTo>
                  <a:pt x="5491" y="19341"/>
                </a:lnTo>
                <a:lnTo>
                  <a:pt x="9877" y="19341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E177-9DD4-4A01-BE86-F23D19975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2"/>
          <p:cNvSpPr txBox="1"/>
          <p:nvPr/>
        </p:nvSpPr>
        <p:spPr>
          <a:xfrm>
            <a:off x="2895480" y="99072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1143000" y="32004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685800" y="39625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描写景物，可写景物的形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5">
            <a:hlinkClick r:id="" action="ppaction://hlinkshowjump?jump=firstslide"/>
          </p:cNvPr>
          <p:cNvSpPr/>
          <p:nvPr/>
        </p:nvSpPr>
        <p:spPr>
          <a:xfrm>
            <a:off x="640080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8AC0-D1BC-4663-A1D8-7EC13DF3C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昆明湖静得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像一面镜子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，绿得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像一块碧玉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昆明湖很静，很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4">
            <a:hlinkClick r:id="" action="ppaction://hlinkshowjump?jump=firstslide"/>
          </p:cNvPr>
          <p:cNvSpPr/>
          <p:nvPr/>
        </p:nvSpPr>
        <p:spPr>
          <a:xfrm>
            <a:off x="693432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5621-1BB5-42DA-A3FC-892F86F66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9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0" y="982800"/>
            <a:ext cx="9144000" cy="4892400"/>
            <a:chOff x="0" y="982800"/>
            <a:chExt cx="9144000" cy="4892400"/>
          </a:xfrm>
        </p:grpSpPr>
        <p:sp>
          <p:nvSpPr>
            <p:cNvPr id="549" name="Rectangle 4"/>
            <p:cNvSpPr/>
            <p:nvPr/>
          </p:nvSpPr>
          <p:spPr>
            <a:xfrm>
              <a:off x="0" y="982800"/>
              <a:ext cx="86868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5"/>
            <p:cNvSpPr/>
            <p:nvPr/>
          </p:nvSpPr>
          <p:spPr>
            <a:xfrm>
              <a:off x="0" y="982800"/>
              <a:ext cx="9144000" cy="48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Picture 6" descr="bjyhy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0492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0270-6F60-4FFA-B260-C4BA93647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2"/>
          <p:cNvSpPr txBox="1"/>
          <p:nvPr/>
        </p:nvSpPr>
        <p:spPr>
          <a:xfrm>
            <a:off x="2133720" y="0"/>
            <a:ext cx="4572000" cy="20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简介颐和园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4481640" y="3048120"/>
            <a:ext cx="18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143000" y="2133720"/>
            <a:ext cx="7010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颐和园位于北京的西北郊，始建于公元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750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年，原是清代的皇家园林和行宫。园内的湖光山色、亭台楼阁、长廊石桥等景物，使人看后流连忘返。其构思巧妙、建筑之精，集我国园林艺术之大成，有“皇家园林博物馆”之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5">
            <a:hlinkClick r:id="" action="ppaction://hlinkshowjump?jump=firstslide"/>
          </p:cNvPr>
          <p:cNvSpPr/>
          <p:nvPr/>
        </p:nvSpPr>
        <p:spPr>
          <a:xfrm>
            <a:off x="7848720" y="5562720"/>
            <a:ext cx="738000" cy="81432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33">
                <a:moveTo>
                  <a:pt x="0" y="0"/>
                </a:moveTo>
                <a:lnTo>
                  <a:pt x="21600" y="0"/>
                </a:lnTo>
                <a:lnTo>
                  <a:pt x="21600" y="23833"/>
                </a:lnTo>
                <a:lnTo>
                  <a:pt x="0" y="23833"/>
                </a:lnTo>
                <a:close/>
              </a:path>
              <a:path fill="lightenLess" w="21600" h="2383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3">
                <a:moveTo>
                  <a:pt x="21600" y="0"/>
                </a:moveTo>
                <a:lnTo>
                  <a:pt x="21600" y="23833"/>
                </a:lnTo>
                <a:lnTo>
                  <a:pt x="20200" y="22433"/>
                </a:lnTo>
                <a:lnTo>
                  <a:pt x="20200" y="1400"/>
                </a:lnTo>
                <a:close/>
              </a:path>
              <a:path fill="darkenLess" w="21600" h="23833">
                <a:moveTo>
                  <a:pt x="21600" y="23833"/>
                </a:moveTo>
                <a:lnTo>
                  <a:pt x="0" y="23833"/>
                </a:lnTo>
                <a:lnTo>
                  <a:pt x="1400" y="22433"/>
                </a:lnTo>
                <a:lnTo>
                  <a:pt x="20200" y="22433"/>
                </a:lnTo>
                <a:close/>
              </a:path>
              <a:path fill="lighten" w="21600" h="23833">
                <a:moveTo>
                  <a:pt x="0" y="2383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3"/>
                </a:lnTo>
                <a:close/>
              </a:path>
              <a:path fill="darken" w="21600" h="23833">
                <a:moveTo>
                  <a:pt x="10800" y="4953"/>
                </a:moveTo>
                <a:lnTo>
                  <a:pt x="13376" y="7564"/>
                </a:ln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6"/>
                </a:lnTo>
                <a:lnTo>
                  <a:pt x="5491" y="19106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3">
                <a:moveTo>
                  <a:pt x="13376" y="7564"/>
                </a:moveTo>
                <a:lnTo>
                  <a:pt x="13376" y="5824"/>
                </a:lnTo>
                <a:lnTo>
                  <a:pt x="15152" y="5824"/>
                </a:lnTo>
                <a:lnTo>
                  <a:pt x="15152" y="9340"/>
                </a:lnTo>
                <a:close/>
              </a:path>
              <a:path fill="darkenLess" w="21600" h="23833">
                <a:moveTo>
                  <a:pt x="9877" y="15415"/>
                </a:moveTo>
                <a:lnTo>
                  <a:pt x="11723" y="15415"/>
                </a:lnTo>
                <a:lnTo>
                  <a:pt x="11723" y="19106"/>
                </a:lnTo>
                <a:lnTo>
                  <a:pt x="16109" y="19106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6"/>
                </a:lnTo>
                <a:lnTo>
                  <a:pt x="9877" y="191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A6DE-8176-47F5-BC5F-508CF95E2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WordArt 2"/>
          <p:cNvSpPr txBox="1"/>
          <p:nvPr/>
        </p:nvSpPr>
        <p:spPr>
          <a:xfrm>
            <a:off x="2590920" y="60948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1523880" y="28195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380880" y="380988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描写景物，可运用比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6">
            <a:hlinkClick r:id="" action="ppaction://hlinkshowjump?jump=firstslide"/>
          </p:cNvPr>
          <p:cNvSpPr/>
          <p:nvPr/>
        </p:nvSpPr>
        <p:spPr>
          <a:xfrm>
            <a:off x="6781680" y="60958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25889" y="3837"/>
                </a:moveTo>
                <a:lnTo>
                  <a:pt x="28466" y="6448"/>
                </a:lnTo>
                <a:lnTo>
                  <a:pt x="28466" y="4707"/>
                </a:lnTo>
                <a:lnTo>
                  <a:pt x="30241" y="4707"/>
                </a:lnTo>
                <a:lnTo>
                  <a:pt x="30241" y="8224"/>
                </a:lnTo>
                <a:lnTo>
                  <a:pt x="32852" y="10800"/>
                </a:lnTo>
                <a:lnTo>
                  <a:pt x="31199" y="10800"/>
                </a:lnTo>
                <a:lnTo>
                  <a:pt x="31199" y="17989"/>
                </a:lnTo>
                <a:lnTo>
                  <a:pt x="20580" y="17989"/>
                </a:lnTo>
                <a:lnTo>
                  <a:pt x="20580" y="10800"/>
                </a:lnTo>
                <a:lnTo>
                  <a:pt x="18926" y="10800"/>
                </a:lnTo>
                <a:close/>
              </a:path>
              <a:path fill="darkenLess" w="51779" h="21600">
                <a:moveTo>
                  <a:pt x="28466" y="6448"/>
                </a:moveTo>
                <a:lnTo>
                  <a:pt x="28466" y="4707"/>
                </a:lnTo>
                <a:lnTo>
                  <a:pt x="30241" y="4707"/>
                </a:lnTo>
                <a:lnTo>
                  <a:pt x="30241" y="8224"/>
                </a:lnTo>
                <a:close/>
              </a:path>
              <a:path fill="darkenLess" w="51779" h="21600">
                <a:moveTo>
                  <a:pt x="24967" y="14299"/>
                </a:moveTo>
                <a:lnTo>
                  <a:pt x="26812" y="14299"/>
                </a:lnTo>
                <a:lnTo>
                  <a:pt x="26812" y="17989"/>
                </a:lnTo>
                <a:lnTo>
                  <a:pt x="31199" y="17989"/>
                </a:lnTo>
                <a:lnTo>
                  <a:pt x="31199" y="10800"/>
                </a:lnTo>
                <a:lnTo>
                  <a:pt x="20580" y="10800"/>
                </a:lnTo>
                <a:lnTo>
                  <a:pt x="20580" y="17989"/>
                </a:lnTo>
                <a:lnTo>
                  <a:pt x="2496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E23C-0F27-41CA-ADE7-579076715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游船、画舫在湖面慢慢地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滑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过，几乎不留一点痕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游船、画舫在湖面慢慢地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划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过，几乎不留一点痕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为什么用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“滑”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，不用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“划”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5943600" y="5715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75AF-57A9-46C4-9AC1-3198E1ADC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WordArt 2"/>
          <p:cNvSpPr txBox="1"/>
          <p:nvPr/>
        </p:nvSpPr>
        <p:spPr>
          <a:xfrm>
            <a:off x="1523880" y="0"/>
            <a:ext cx="60962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展开想象的翅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304920" y="3352680"/>
            <a:ext cx="85341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有的小狮子（             ），有的小狮子（             ），有的小狮子（             ），有的小狮子（             ），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……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>
            <a:hlinkClick r:id="" action="ppaction://hlinkshowjump?jump=firstslide"/>
          </p:cNvPr>
          <p:cNvSpPr/>
          <p:nvPr/>
        </p:nvSpPr>
        <p:spPr>
          <a:xfrm>
            <a:off x="6172200" y="62485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10800" y="5374"/>
                </a:moveTo>
                <a:lnTo>
                  <a:pt x="13376" y="7985"/>
                </a:ln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lnTo>
                  <a:pt x="17763" y="12337"/>
                </a:lnTo>
                <a:lnTo>
                  <a:pt x="16109" y="12337"/>
                </a:lnTo>
                <a:lnTo>
                  <a:pt x="16109" y="19526"/>
                </a:lnTo>
                <a:lnTo>
                  <a:pt x="5491" y="19526"/>
                </a:lnTo>
                <a:lnTo>
                  <a:pt x="5491" y="12337"/>
                </a:lnTo>
                <a:lnTo>
                  <a:pt x="3837" y="12337"/>
                </a:lnTo>
                <a:close/>
              </a:path>
              <a:path fill="darkenLess" w="21600" h="24673">
                <a:moveTo>
                  <a:pt x="13376" y="7985"/>
                </a:moveTo>
                <a:lnTo>
                  <a:pt x="13376" y="6244"/>
                </a:lnTo>
                <a:lnTo>
                  <a:pt x="15152" y="6244"/>
                </a:lnTo>
                <a:lnTo>
                  <a:pt x="15152" y="9760"/>
                </a:lnTo>
                <a:close/>
              </a:path>
              <a:path fill="darkenLess" w="21600" h="24673">
                <a:moveTo>
                  <a:pt x="9877" y="15836"/>
                </a:moveTo>
                <a:lnTo>
                  <a:pt x="11723" y="15836"/>
                </a:lnTo>
                <a:lnTo>
                  <a:pt x="11723" y="19526"/>
                </a:lnTo>
                <a:lnTo>
                  <a:pt x="16109" y="19526"/>
                </a:lnTo>
                <a:lnTo>
                  <a:pt x="16109" y="12337"/>
                </a:lnTo>
                <a:lnTo>
                  <a:pt x="5491" y="12337"/>
                </a:lnTo>
                <a:lnTo>
                  <a:pt x="5491" y="19526"/>
                </a:lnTo>
                <a:lnTo>
                  <a:pt x="9877" y="1952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5651-326D-43CB-8F37-18F09A3B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2"/>
          <p:cNvSpPr txBox="1"/>
          <p:nvPr/>
        </p:nvSpPr>
        <p:spPr>
          <a:xfrm>
            <a:off x="2971800" y="38088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304920" y="32767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结尾可照应开头，做到首尾照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4">
            <a:hlinkClick r:id="" action="ppaction://hlinkshowjump?jump=nextslide"/>
          </p:cNvPr>
          <p:cNvSpPr/>
          <p:nvPr/>
        </p:nvSpPr>
        <p:spPr>
          <a:xfrm>
            <a:off x="6172200" y="5867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21CB-0431-43F1-AFCE-3CA106BF4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412920" y="122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4" descr="bjyhy120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04920" y="0"/>
            <a:ext cx="8839080" cy="6400800"/>
          </a:xfrm>
          <a:prstGeom prst="rect">
            <a:avLst/>
          </a:prstGeom>
          <a:ln w="0">
            <a:noFill/>
          </a:ln>
        </p:spPr>
      </p:pic>
      <p:sp>
        <p:nvSpPr>
          <p:cNvPr id="578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9DB1-EBAB-40E8-A578-D41142D0B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2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"/>
          <p:cNvGrpSpPr/>
          <p:nvPr/>
        </p:nvGrpSpPr>
        <p:grpSpPr>
          <a:xfrm>
            <a:off x="228600" y="1951200"/>
            <a:ext cx="8686800" cy="2955600"/>
            <a:chOff x="228600" y="1951200"/>
            <a:chExt cx="8686800" cy="2955600"/>
          </a:xfrm>
        </p:grpSpPr>
        <p:sp>
          <p:nvSpPr>
            <p:cNvPr id="582" name="Rectangle 5"/>
            <p:cNvSpPr/>
            <p:nvPr/>
          </p:nvSpPr>
          <p:spPr>
            <a:xfrm>
              <a:off x="228600" y="1951200"/>
              <a:ext cx="8686800" cy="29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3"/>
            <p:cNvSpPr/>
            <p:nvPr/>
          </p:nvSpPr>
          <p:spPr>
            <a:xfrm>
              <a:off x="228600" y="1951200"/>
              <a:ext cx="8686800" cy="29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4" name="Picture 4" descr="b10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520" y="457200"/>
            <a:ext cx="8610480" cy="6135840"/>
          </a:xfrm>
          <a:prstGeom prst="rect">
            <a:avLst/>
          </a:prstGeom>
          <a:ln w="0">
            <a:noFill/>
          </a:ln>
        </p:spPr>
      </p:pic>
      <p:sp>
        <p:nvSpPr>
          <p:cNvPr id="58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7B92-A604-449F-B093-7DFB958F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228600" y="2278080"/>
            <a:ext cx="8686800" cy="2301840"/>
            <a:chOff x="228600" y="2278080"/>
            <a:chExt cx="8686800" cy="2301840"/>
          </a:xfrm>
        </p:grpSpPr>
        <p:sp>
          <p:nvSpPr>
            <p:cNvPr id="589" name="Rectangle 5"/>
            <p:cNvSpPr/>
            <p:nvPr/>
          </p:nvSpPr>
          <p:spPr>
            <a:xfrm>
              <a:off x="228600" y="2278080"/>
              <a:ext cx="8686800" cy="23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3"/>
            <p:cNvSpPr/>
            <p:nvPr/>
          </p:nvSpPr>
          <p:spPr>
            <a:xfrm>
              <a:off x="228600" y="2278080"/>
              <a:ext cx="8686800" cy="23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1" name="Picture 4" descr="by69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2120" y="533520"/>
            <a:ext cx="7543800" cy="5349600"/>
          </a:xfrm>
          <a:prstGeom prst="rect">
            <a:avLst/>
          </a:prstGeom>
          <a:ln w="0">
            <a:noFill/>
          </a:ln>
        </p:spPr>
      </p:pic>
      <p:sp>
        <p:nvSpPr>
          <p:cNvPr id="59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481C-40B1-4D8D-AA2E-E1DBCE992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6"/>
          <p:cNvGrpSpPr/>
          <p:nvPr/>
        </p:nvGrpSpPr>
        <p:grpSpPr>
          <a:xfrm>
            <a:off x="228600" y="1890720"/>
            <a:ext cx="8686800" cy="3078000"/>
            <a:chOff x="228600" y="1890720"/>
            <a:chExt cx="8686800" cy="3078000"/>
          </a:xfrm>
        </p:grpSpPr>
        <p:sp>
          <p:nvSpPr>
            <p:cNvPr id="596" name="Rectangle 5"/>
            <p:cNvSpPr/>
            <p:nvPr/>
          </p:nvSpPr>
          <p:spPr>
            <a:xfrm>
              <a:off x="228600" y="1890720"/>
              <a:ext cx="8686800" cy="30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3"/>
            <p:cNvSpPr/>
            <p:nvPr/>
          </p:nvSpPr>
          <p:spPr>
            <a:xfrm>
              <a:off x="228600" y="1890720"/>
              <a:ext cx="8686800" cy="307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7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8" name="Picture 4" descr="by68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361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DFD9-C0C3-49F5-B721-DA6404F54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6"/>
          <p:cNvGrpSpPr/>
          <p:nvPr/>
        </p:nvGrpSpPr>
        <p:grpSpPr>
          <a:xfrm>
            <a:off x="228600" y="2103480"/>
            <a:ext cx="8686800" cy="2651040"/>
            <a:chOff x="228600" y="2103480"/>
            <a:chExt cx="8686800" cy="2651040"/>
          </a:xfrm>
        </p:grpSpPr>
        <p:sp>
          <p:nvSpPr>
            <p:cNvPr id="603" name="Rectangle 5"/>
            <p:cNvSpPr/>
            <p:nvPr/>
          </p:nvSpPr>
          <p:spPr>
            <a:xfrm>
              <a:off x="228600" y="2103480"/>
              <a:ext cx="868680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3"/>
            <p:cNvSpPr/>
            <p:nvPr/>
          </p:nvSpPr>
          <p:spPr>
            <a:xfrm>
              <a:off x="228600" y="2103480"/>
              <a:ext cx="8686800" cy="26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5" name="Picture 4" descr="by24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79280" y="260280"/>
            <a:ext cx="8305920" cy="550224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7"/>
          <p:cNvSpPr/>
          <p:nvPr/>
        </p:nvSpPr>
        <p:spPr>
          <a:xfrm>
            <a:off x="684360" y="580536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BD5E-449F-44F6-8BF7-9BDC94946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页脚占位符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2514600" y="762120"/>
            <a:ext cx="36576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533520" y="380988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开头可以写自己的感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4">
            <a:hlinkClick r:id="" action="ppaction://hlinkshowjump?jump=firstslide"/>
          </p:cNvPr>
          <p:cNvSpPr/>
          <p:nvPr/>
        </p:nvSpPr>
        <p:spPr>
          <a:xfrm>
            <a:off x="68580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E365-0568-484E-9B9E-3CCBF729C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填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304920" y="236232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进了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颐和园的大门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绕过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大殿，就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来到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有名的（        ）。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走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长廊就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来到（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登上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万寿山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站在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佛香阁的前面向下望，颐和园的景色大半收在眼底。从万寿山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下来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，就是（          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4">
            <a:hlinkClick r:id="" action="ppaction://hlinkshowjump?jump=firstslide"/>
          </p:cNvPr>
          <p:cNvSpPr/>
          <p:nvPr/>
        </p:nvSpPr>
        <p:spPr>
          <a:xfrm>
            <a:off x="6400800" y="58672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935E-57D7-4070-BA64-854C03259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3"/>
          <p:cNvSpPr txBox="1"/>
          <p:nvPr/>
        </p:nvSpPr>
        <p:spPr>
          <a:xfrm>
            <a:off x="2895480" y="990720"/>
            <a:ext cx="3057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228600" y="33526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按游览的顺序，段与段前后相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5">
            <a:hlinkClick r:id="" action="ppaction://hlinkshowjump?jump=firstslide"/>
          </p:cNvPr>
          <p:cNvSpPr/>
          <p:nvPr/>
        </p:nvSpPr>
        <p:spPr>
          <a:xfrm>
            <a:off x="708660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3D41-6750-4DA0-A528-6CF65D691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WordArt 2"/>
          <p:cNvSpPr txBox="1"/>
          <p:nvPr/>
        </p:nvSpPr>
        <p:spPr>
          <a:xfrm>
            <a:off x="2743200" y="380880"/>
            <a:ext cx="365760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知识点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380880" y="2743200"/>
            <a:ext cx="8382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要选取重点景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重点景物要详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做到有详有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AutoShape 4">
            <a:hlinkClick r:id="" action="ppaction://hlinkshowjump?jump=firstslide"/>
          </p:cNvPr>
          <p:cNvSpPr/>
          <p:nvPr/>
        </p:nvSpPr>
        <p:spPr>
          <a:xfrm>
            <a:off x="777240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5124" y="3837"/>
                </a:moveTo>
                <a:lnTo>
                  <a:pt x="17700" y="6448"/>
                </a:ln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lnTo>
                  <a:pt x="22087" y="10800"/>
                </a:lnTo>
                <a:lnTo>
                  <a:pt x="20433" y="10800"/>
                </a:lnTo>
                <a:lnTo>
                  <a:pt x="20433" y="17989"/>
                </a:lnTo>
                <a:lnTo>
                  <a:pt x="9815" y="17989"/>
                </a:lnTo>
                <a:lnTo>
                  <a:pt x="9815" y="10800"/>
                </a:lnTo>
                <a:lnTo>
                  <a:pt x="8161" y="10800"/>
                </a:lnTo>
                <a:close/>
              </a:path>
              <a:path fill="darkenLess" w="30248" h="21600">
                <a:moveTo>
                  <a:pt x="17700" y="6448"/>
                </a:moveTo>
                <a:lnTo>
                  <a:pt x="17700" y="4707"/>
                </a:lnTo>
                <a:lnTo>
                  <a:pt x="19476" y="4707"/>
                </a:lnTo>
                <a:lnTo>
                  <a:pt x="19476" y="8224"/>
                </a:lnTo>
                <a:close/>
              </a:path>
              <a:path fill="darkenLess" w="30248" h="21600">
                <a:moveTo>
                  <a:pt x="14201" y="14299"/>
                </a:moveTo>
                <a:lnTo>
                  <a:pt x="16047" y="14299"/>
                </a:lnTo>
                <a:lnTo>
                  <a:pt x="16047" y="17989"/>
                </a:lnTo>
                <a:lnTo>
                  <a:pt x="20433" y="17989"/>
                </a:lnTo>
                <a:lnTo>
                  <a:pt x="20433" y="10800"/>
                </a:lnTo>
                <a:lnTo>
                  <a:pt x="9815" y="10800"/>
                </a:lnTo>
                <a:lnTo>
                  <a:pt x="9815" y="17989"/>
                </a:lnTo>
                <a:lnTo>
                  <a:pt x="14201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34A0-797A-4A99-9635-E6E0CA641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比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447920" y="266688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绿漆的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柱子，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红漆的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栏杆，一眼望不到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柱子，栏杆，一眼望不到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AutoShape 4">
            <a:hlinkClick r:id="" action="ppaction://hlinkshowjump?jump=firstslide"/>
          </p:cNvPr>
          <p:cNvSpPr/>
          <p:nvPr/>
        </p:nvSpPr>
        <p:spPr>
          <a:xfrm>
            <a:off x="7162920" y="57150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44"/>
                </a:moveTo>
                <a:lnTo>
                  <a:pt x="13376" y="6455"/>
                </a:ln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lnTo>
                  <a:pt x="17763" y="10807"/>
                </a:lnTo>
                <a:lnTo>
                  <a:pt x="16109" y="10807"/>
                </a:lnTo>
                <a:lnTo>
                  <a:pt x="16109" y="17997"/>
                </a:lnTo>
                <a:lnTo>
                  <a:pt x="5491" y="17997"/>
                </a:lnTo>
                <a:lnTo>
                  <a:pt x="5491" y="10807"/>
                </a:lnTo>
                <a:lnTo>
                  <a:pt x="3837" y="10807"/>
                </a:lnTo>
                <a:close/>
              </a:path>
              <a:path fill="darkenLess" w="21600" h="21615">
                <a:moveTo>
                  <a:pt x="13376" y="6455"/>
                </a:moveTo>
                <a:lnTo>
                  <a:pt x="13376" y="4715"/>
                </a:lnTo>
                <a:lnTo>
                  <a:pt x="15152" y="4715"/>
                </a:lnTo>
                <a:lnTo>
                  <a:pt x="15152" y="8231"/>
                </a:lnTo>
                <a:close/>
              </a:path>
              <a:path fill="darkenLess" w="21600" h="21615">
                <a:moveTo>
                  <a:pt x="9877" y="14306"/>
                </a:moveTo>
                <a:lnTo>
                  <a:pt x="11723" y="14306"/>
                </a:lnTo>
                <a:lnTo>
                  <a:pt x="11723" y="17997"/>
                </a:lnTo>
                <a:lnTo>
                  <a:pt x="16109" y="17997"/>
                </a:lnTo>
                <a:lnTo>
                  <a:pt x="16109" y="10807"/>
                </a:lnTo>
                <a:lnTo>
                  <a:pt x="5491" y="10807"/>
                </a:lnTo>
                <a:lnTo>
                  <a:pt x="5491" y="17997"/>
                </a:lnTo>
                <a:lnTo>
                  <a:pt x="9877" y="17997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4D6A-437A-4286-BE09-4A6508513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矩形 6"/>
          <p:cNvSpPr/>
          <p:nvPr/>
        </p:nvSpPr>
        <p:spPr>
          <a:xfrm>
            <a:off x="0" y="0"/>
            <a:ext cx="62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AutoShape 2">
            <a:hlinkClick r:id="" action="ppaction://hlinkshowjump?jump=firstslide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7276" y="3837"/>
                </a:moveTo>
                <a:lnTo>
                  <a:pt x="19852" y="6448"/>
                </a:ln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lnTo>
                  <a:pt x="24239" y="10800"/>
                </a:lnTo>
                <a:lnTo>
                  <a:pt x="22585" y="10800"/>
                </a:lnTo>
                <a:lnTo>
                  <a:pt x="22585" y="17989"/>
                </a:lnTo>
                <a:lnTo>
                  <a:pt x="11967" y="17989"/>
                </a:lnTo>
                <a:lnTo>
                  <a:pt x="11967" y="10800"/>
                </a:lnTo>
                <a:lnTo>
                  <a:pt x="10313" y="10800"/>
                </a:lnTo>
                <a:close/>
              </a:path>
              <a:path fill="darkenLess" w="34552" h="21600">
                <a:moveTo>
                  <a:pt x="19852" y="6448"/>
                </a:moveTo>
                <a:lnTo>
                  <a:pt x="19852" y="4707"/>
                </a:lnTo>
                <a:lnTo>
                  <a:pt x="21628" y="4707"/>
                </a:lnTo>
                <a:lnTo>
                  <a:pt x="21628" y="8224"/>
                </a:lnTo>
                <a:close/>
              </a:path>
              <a:path fill="darkenLess" w="34552" h="21600">
                <a:moveTo>
                  <a:pt x="16353" y="14299"/>
                </a:moveTo>
                <a:lnTo>
                  <a:pt x="18199" y="14299"/>
                </a:lnTo>
                <a:lnTo>
                  <a:pt x="18199" y="17989"/>
                </a:lnTo>
                <a:lnTo>
                  <a:pt x="22585" y="17989"/>
                </a:lnTo>
                <a:lnTo>
                  <a:pt x="22585" y="10800"/>
                </a:lnTo>
                <a:lnTo>
                  <a:pt x="11967" y="10800"/>
                </a:lnTo>
                <a:lnTo>
                  <a:pt x="11967" y="17989"/>
                </a:lnTo>
                <a:lnTo>
                  <a:pt x="16353" y="1798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3" descr="b762"/>
          <p:cNvPicPr/>
          <p:nvPr/>
        </p:nvPicPr>
        <p:blipFill>
          <a:blip r:embed="rId1"/>
          <a:stretch/>
        </p:blipFill>
        <p:spPr>
          <a:xfrm>
            <a:off x="-685800" y="0"/>
            <a:ext cx="9220320" cy="7677000"/>
          </a:xfrm>
          <a:prstGeom prst="rect">
            <a:avLst/>
          </a:prstGeom>
          <a:ln w="0">
            <a:noFill/>
          </a:ln>
        </p:spPr>
      </p:pic>
      <p:sp>
        <p:nvSpPr>
          <p:cNvPr id="49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11D7-DE11-4955-94FA-FC1A89845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3"/>
          <p:cNvGrpSpPr/>
          <p:nvPr/>
        </p:nvGrpSpPr>
        <p:grpSpPr>
          <a:xfrm>
            <a:off x="228600" y="1692360"/>
            <a:ext cx="8686800" cy="846000"/>
            <a:chOff x="228600" y="1692360"/>
            <a:chExt cx="8686800" cy="846000"/>
          </a:xfrm>
        </p:grpSpPr>
        <p:sp>
          <p:nvSpPr>
            <p:cNvPr id="497" name="Rectangle 4"/>
            <p:cNvSpPr/>
            <p:nvPr/>
          </p:nvSpPr>
          <p:spPr>
            <a:xfrm>
              <a:off x="228600" y="1692360"/>
              <a:ext cx="868680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5"/>
            <p:cNvSpPr/>
            <p:nvPr/>
          </p:nvSpPr>
          <p:spPr>
            <a:xfrm>
              <a:off x="228600" y="1692360"/>
              <a:ext cx="86868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9" name="Picture 6" descr="b757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-2286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00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3279-5666-47DA-B598-7F6D30349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矩形 8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09:11:59Z</dcterms:created>
  <dc:creator>绿色圃中小学教育网|http://www.lspjy.com; 为您服务教育网http://www.wsbedu.com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6:03Z</dcterms:modified>
  <cp:revision>19</cp:revision>
  <dc:subject>绿色圃中小学教育网|http://www.lspjy.com</dc:subject>
  <dc:title>绿色圃中小学教育网|http://www.lspjy.com</dc:title>
</cp:coreProperties>
</file>