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whoosh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type.wav" ContentType="audio/x-wav"/>
  <Override PartName="/ppt/media/camera.wav" ContentType="audio/x-wav"/>
  <Override PartName="/ppt/media/image17.jpeg" ContentType="image/jpeg"/>
  <Override PartName="/ppt/media/image16.jpeg" ContentType="image/jpeg"/>
  <Override PartName="/ppt/media/carbrake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570-5D85-4F99-B9BB-B78071CB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F2E-9286-488D-84C3-DAEEA769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002-6E9A-45F3-8519-183D1956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034-9565-4C0D-9B23-B1AE5BE6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698-6E10-4272-871F-0D02408C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BAD-B571-4F35-98B4-661336FB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B69-FEA4-4161-A866-4D94D524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EC5-F732-42A2-A99F-533E144D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AFF-8228-427E-92C3-9520E02A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3DF-4204-488F-9069-0B4B280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228-D564-4869-A46B-5578A25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725-B262-4D48-82F3-B0528F3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A9FE-069F-4976-BBB0-D65118F78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hyperlink" Target="file:///&#29483;.wmv" TargetMode="External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whoosh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站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3332520" y="18900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动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0" y="0"/>
            <a:ext cx="59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爬树的猫2"/>
          <p:cNvPicPr/>
          <p:nvPr/>
        </p:nvPicPr>
        <p:blipFill>
          <a:blip r:embed="rId1"/>
          <a:stretch/>
        </p:blipFill>
        <p:spPr>
          <a:xfrm>
            <a:off x="46836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上树的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玩花的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枝折花落的猫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76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SC20040908133605453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82" name="Text Box 7"/>
          <p:cNvSpPr/>
          <p:nvPr/>
        </p:nvSpPr>
        <p:spPr>
          <a:xfrm>
            <a:off x="1908000" y="-387360"/>
            <a:ext cx="453564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猫</a:t>
            </a:r>
            <a:endParaRPr b="0" lang="en-US" sz="3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郑振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现代作家，学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3780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50072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猫叫（发情）.wav" descr=""/>
          <p:cNvPicPr/>
          <p:nvPr/>
        </p:nvPicPr>
        <p:blipFill>
          <a:blip r:embed="rId4"/>
          <a:stretch/>
        </p:blipFill>
        <p:spPr>
          <a:xfrm>
            <a:off x="507672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6630120" y="5948280"/>
            <a:ext cx="36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012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254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997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533520"/>
            <a:ext cx="7543800" cy="54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给下列划线的字注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忧郁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污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涩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怅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然 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蜷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伏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惩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戒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凝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望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诅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骂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怂恿</a:t>
            </a:r>
            <a:r>
              <a:rPr b="1" lang="zh-CN" sz="6600" spc="-1" strike="noStrike">
                <a:solidFill>
                  <a:srgbClr val="660033"/>
                </a:solidFill>
                <a:latin typeface="Times New Roman"/>
              </a:rPr>
              <a:t>     </a:t>
            </a:r>
            <a:r>
              <a:rPr b="1" lang="zh-CN" sz="6600" spc="-1" strike="noStrike" u="sng">
                <a:solidFill>
                  <a:srgbClr val="660033"/>
                </a:solidFill>
                <a:uFillTx/>
                <a:latin typeface="Times New Roman"/>
              </a:rPr>
              <a:t>叮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85800" y="1600200"/>
            <a:ext cx="8001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ōu    yù                sè         chà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quán           chéng             ní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ǔ                sǒng  yǒng     dīng  zh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24000" y="333360"/>
            <a:ext cx="82296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整体感知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、作者一共养了几只猫</a:t>
            </a:r>
            <a:r>
              <a:rPr b="1" lang="en-US" sz="3200" spc="-1" strike="noStrike">
                <a:solidFill>
                  <a:srgbClr val="111111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这几只猫的外形、性情各有什么特征？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111111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111111"/>
                </a:solidFill>
                <a:latin typeface="黑体"/>
                <a:ea typeface="黑体"/>
              </a:rPr>
              <a:t>和家人对这几只猫的态度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24000" y="2852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几只猫的结局怎样？对它们的亡失或屈死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心情有些什么变化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39640" y="407664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猫.mp3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649279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8856720" cy="6453360"/>
        </p:xfrm>
        <a:graphic>
          <a:graphicData uri="http://schemas.openxmlformats.org/drawingml/2006/table">
            <a:tbl>
              <a:tblPr/>
              <a:tblGrid>
                <a:gridCol w="1209600"/>
                <a:gridCol w="1206720"/>
                <a:gridCol w="1209600"/>
                <a:gridCol w="1208160"/>
                <a:gridCol w="1209600"/>
                <a:gridCol w="1206360"/>
                <a:gridCol w="160668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来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外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性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态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结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感情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一只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二只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三只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Text Box 49"/>
          <p:cNvSpPr/>
          <p:nvPr/>
        </p:nvSpPr>
        <p:spPr>
          <a:xfrm>
            <a:off x="1258920" y="90792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从隔壁要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140328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332000" y="2421000"/>
            <a:ext cx="7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舅舅送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2"/>
          <p:cNvSpPr/>
          <p:nvPr/>
        </p:nvSpPr>
        <p:spPr>
          <a:xfrm>
            <a:off x="1258920" y="5013360"/>
            <a:ext cx="100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蜷伏在家门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3"/>
          <p:cNvSpPr/>
          <p:nvPr/>
        </p:nvSpPr>
        <p:spPr>
          <a:xfrm>
            <a:off x="2340000" y="10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花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4"/>
          <p:cNvSpPr/>
          <p:nvPr/>
        </p:nvSpPr>
        <p:spPr>
          <a:xfrm>
            <a:off x="2340000" y="28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5"/>
          <p:cNvSpPr/>
          <p:nvPr/>
        </p:nvSpPr>
        <p:spPr>
          <a:xfrm>
            <a:off x="2340000" y="508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不好看很瘦、毛烧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3635280" y="981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很活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7"/>
          <p:cNvSpPr/>
          <p:nvPr/>
        </p:nvSpPr>
        <p:spPr>
          <a:xfrm>
            <a:off x="3635280" y="263700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更有趣更活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3708360" y="494172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忧郁懒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9"/>
          <p:cNvSpPr/>
          <p:nvPr/>
        </p:nvSpPr>
        <p:spPr>
          <a:xfrm>
            <a:off x="5096520" y="1197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喜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0"/>
          <p:cNvSpPr/>
          <p:nvPr/>
        </p:nvSpPr>
        <p:spPr>
          <a:xfrm>
            <a:off x="4932360" y="306864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喜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1"/>
          <p:cNvSpPr/>
          <p:nvPr/>
        </p:nvSpPr>
        <p:spPr>
          <a:xfrm>
            <a:off x="4859280" y="4797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不喜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2"/>
          <p:cNvSpPr/>
          <p:nvPr/>
        </p:nvSpPr>
        <p:spPr>
          <a:xfrm>
            <a:off x="6248880" y="1052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死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3"/>
          <p:cNvSpPr/>
          <p:nvPr/>
        </p:nvSpPr>
        <p:spPr>
          <a:xfrm>
            <a:off x="6084720" y="314172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丢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4"/>
          <p:cNvSpPr/>
          <p:nvPr/>
        </p:nvSpPr>
        <p:spPr>
          <a:xfrm>
            <a:off x="6084720" y="501336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屈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5"/>
          <p:cNvSpPr/>
          <p:nvPr/>
        </p:nvSpPr>
        <p:spPr>
          <a:xfrm>
            <a:off x="7236000" y="105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难过、酸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6"/>
          <p:cNvSpPr/>
          <p:nvPr/>
        </p:nvSpPr>
        <p:spPr>
          <a:xfrm>
            <a:off x="7164360" y="2349360"/>
            <a:ext cx="176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怅然、愤恨、诅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7"/>
          <p:cNvSpPr/>
          <p:nvPr/>
        </p:nvSpPr>
        <p:spPr>
          <a:xfrm>
            <a:off x="7164360" y="4653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难过、良心受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看到了一只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499200" y="1447920"/>
            <a:ext cx="32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它便扑过来抢，又扑过去抢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776840" y="20574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活泼可爱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0" descr="800x600_002"/>
          <p:cNvPicPr/>
          <p:nvPr/>
        </p:nvPicPr>
        <p:blipFill>
          <a:blip r:embed="rId1"/>
          <a:stretch/>
        </p:blipFill>
        <p:spPr>
          <a:xfrm>
            <a:off x="3886200" y="2895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1"/>
          <p:cNvSpPr/>
          <p:nvPr/>
        </p:nvSpPr>
        <p:spPr>
          <a:xfrm>
            <a:off x="990720" y="4038480"/>
            <a:ext cx="2133360" cy="1219320"/>
          </a:xfrm>
          <a:prstGeom prst="cloudCallout">
            <a:avLst>
              <a:gd name="adj1" fmla="val 57888"/>
              <a:gd name="adj2" fmla="val -951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一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et0136_m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73560" y="762120"/>
            <a:ext cx="1155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更活泼更有趣的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奔跑的猫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可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可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可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pet0021_m"/>
          <p:cNvPicPr/>
          <p:nvPr/>
        </p:nvPicPr>
        <p:blipFill>
          <a:blip r:embed="rId1"/>
          <a:stretch/>
        </p:blipFill>
        <p:spPr>
          <a:xfrm>
            <a:off x="2590920" y="676440"/>
            <a:ext cx="6553080" cy="5594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2198880" y="838080"/>
            <a:ext cx="127764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可怜的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75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75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3" descr="猫图"/>
          <p:cNvPicPr/>
          <p:nvPr/>
        </p:nvPicPr>
        <p:blipFill>
          <a:blip r:embed="rId1"/>
          <a:stretch/>
        </p:blipFill>
        <p:spPr>
          <a:xfrm>
            <a:off x="5003640" y="3470400"/>
            <a:ext cx="4140360" cy="3387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总共写了三次养猫的经历，哪一次是详写？为什么不单写这一次，而要写另外两次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352680" y="4038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铺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352680" y="4876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5791320" y="380880"/>
            <a:ext cx="2438280" cy="1295640"/>
          </a:xfrm>
          <a:prstGeom prst="wedgeEllipseCallout">
            <a:avLst>
              <a:gd name="adj1" fmla="val -58787"/>
              <a:gd name="adj2" fmla="val 485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172200" y="6858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19720" y="4267080"/>
            <a:ext cx="380880" cy="1067040"/>
          </a:xfrm>
          <a:custGeom>
            <a:avLst/>
            <a:gdLst>
              <a:gd name="textAreaLeft" fmla="*/ 50760 w 380880"/>
              <a:gd name="textAreaRight" fmla="*/ 330120 w 38088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258920" y="5734080"/>
            <a:ext cx="59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来历、外形、性情、在家中的地位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09480" y="1143000"/>
            <a:ext cx="1676520" cy="1066680"/>
          </a:xfrm>
          <a:prstGeom prst="cloudCallout">
            <a:avLst>
              <a:gd name="adj1" fmla="val 31912"/>
              <a:gd name="adj2" fmla="val 10059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14400" y="1371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标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19320" y="2666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抒情议论的语句，体会“我的”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精读思考题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609480" y="685800"/>
            <a:ext cx="1447920" cy="990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362320" y="990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79280" y="306864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　　　　　　　　　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我体味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　　　　　　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84360" y="35733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     “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我心里也感着一缕的酸辛，可怜这两月来相伴的小侣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46060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050920" y="4149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我”为花白猫的病死而难过、酸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说话　　　　　　　　　　　　　　　　　　　　　　　　　　　　　　　　　　　　　　　　　　　　　　　　　　　　　　　　　　　　　　　　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/>
          <p:cNvSpPr/>
          <p:nvPr/>
        </p:nvSpPr>
        <p:spPr>
          <a:xfrm>
            <a:off x="6400800" y="304920"/>
            <a:ext cx="2362320" cy="914400"/>
          </a:xfrm>
          <a:prstGeom prst="wedgeRoundRectCallout">
            <a:avLst>
              <a:gd name="adj1" fmla="val -56921"/>
              <a:gd name="adj2" fmla="val 6666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点品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  3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15200" y="1066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990720" y="13716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朗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657600" y="27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（难过、后悔、自责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990720" y="22096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找出这一部分表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情的词语，品味作者的感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990720" y="35053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第二只猫丢后，作者写道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此，我家好久不养猫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只猫死后，作者写道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此，我家永不养猫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体会这两句话的思想感情有什么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重点品读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85800" y="251460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对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我想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6629400" y="762120"/>
            <a:ext cx="1523880" cy="990360"/>
          </a:xfrm>
          <a:prstGeom prst="smileyFace">
            <a:avLst>
              <a:gd name="adj" fmla="val 928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597280" y="990720"/>
            <a:ext cx="1033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说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362320" y="2590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作品中“我”对第三只猫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1066680" y="30481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凡事不能主观臆断，妄下断语，否则就会造成不可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补的损失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说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066680" y="2133720"/>
            <a:ext cx="7696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对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743200" y="2209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第二只猫的讨人喜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74320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家里人对待第三只猫的态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66880" y="3657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</a:rPr>
              <a:t>第三只猫的遭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主题探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762120" y="8380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>
            <a:off x="457200" y="1295280"/>
            <a:ext cx="1676520" cy="914400"/>
          </a:xfrm>
          <a:prstGeom prst="wedgeRoundRectCallout">
            <a:avLst>
              <a:gd name="adj1" fmla="val 69129"/>
              <a:gd name="adj2" fmla="val 47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219320" y="25909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如养第二只猫时也养了鸟，鸟也被咬死，“我”将怎样想，怎么做？请写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的片段作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Times New Roman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捣蛋的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01520">
            <a:solidFill>
              <a:srgbClr val="0000ff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57" name="矩形 5"/>
          <p:cNvSpPr/>
          <p:nvPr/>
        </p:nvSpPr>
        <p:spPr>
          <a:xfrm>
            <a:off x="0" y="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花瓶中的猫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玩毛线球的猫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矩形 4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爬树的猫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05:27:02Z</dcterms:created>
  <dc:creator>绿色圃中小学教育网http://www.lspjy.com/; Kenbe</dc:creator>
  <dc:description>绿色圃中小学教育网http://www.lspjy.com/</dc:description>
  <cp:keywords>绿色圃中小学教育网http:/www.lspjy.com</cp:keywords>
  <dc:language>en-US</dc:language>
  <cp:lastModifiedBy>Administrator</cp:lastModifiedBy>
  <dcterms:modified xsi:type="dcterms:W3CDTF">2015-10-07T13:55:13Z</dcterms:modified>
  <cp:revision>39</cp:revision>
  <dc:subject>绿色圃中小学教育网http://www.lspjy.com/</dc:subject>
  <dc:title>绿色圃中小学教育网http://www.lspjy.com/</dc:title>
</cp:coreProperties>
</file>