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TYPE.WAV" ContentType="audio/x-wav"/>
  <Override PartName="/ppt/media/image21.gif" ContentType="image/gif"/>
  <Override PartName="/ppt/media/image13.png" ContentType="image/png"/>
  <Override PartName="/ppt/media/image23.png" ContentType="image/png"/>
  <Override PartName="/ppt/media/image20.gif" ContentType="image/gif"/>
  <Override PartName="/ppt/media/image3.gif" ContentType="image/gif"/>
  <Override PartName="/ppt/media/image12.png" ContentType="image/pn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C6D-D543-42A1-B1A5-4D8BC295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534-0375-4B79-8D42-6378AE0F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57DF6-D4AC-4C04-BCA3-919B5437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053E9-B792-4827-8C68-A71ECC03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30109-66D7-401A-B517-6C285E69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EA516-0815-4DFF-BACA-67A71757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E2C88-A8D3-4500-924C-A8ED0859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C6B5D-4F57-48D6-BC2F-42E2B41A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8DC7A-50CB-4904-9FF7-E3F11834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AF993-5BFD-4581-ACD3-DA1A7A16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BE85E-B1FC-4B42-847C-F3E8E921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FEECF-47F4-46CB-B3A9-FC85E617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20D-7F36-4279-9BDD-E71145A7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E81FB-F06F-4A99-A3D8-B2EF062C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F4A8E-44BB-4D2A-8102-9A8737F6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97731-45BE-4196-9169-190C673A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68995-0557-4818-BA21-1F05350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0FF1D-02E9-4ADE-88C7-9B11F18E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A35B9-BE07-4AE2-8BBF-67F738C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3E3D7-32F5-4D03-B42A-50F8D24B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7C350-0CA4-47A5-90DA-EF815760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7F012-3CB7-4B56-96A6-CDD0AEAE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88468-7C34-4EF1-BF58-40A39510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A9A7-38B6-4FE4-ABB5-B6B17C79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CF037-D7FC-4B61-8420-C9CF257F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A28E4-C17C-415B-BB08-D2F042CD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65B64-D85F-4802-819C-09FEBCBB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C9B7E-B962-4265-9970-EB965AE2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9FBAF-FF2A-4997-8D60-0CF63159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8FD08-5260-4712-A539-9CCEB7D6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361C7-DB08-4103-B33D-0479503D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B1890-4581-4745-99DC-960D050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7B99D-C1ED-448E-B969-F65354DD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9629B-4920-4663-AAA1-7032C7C3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C253-19A3-4F70-B810-4C52ACE0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87759-3BE4-45A6-8DEC-E2CA23CD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992FB-2088-4D79-AD3B-BF0D3EB9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2C043-68DB-40E9-8798-84E8EAF5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27A1-D721-4B3F-B9D7-F7BDB073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26A5-7285-47D6-98B1-794BD942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B8DF-72C7-4873-8599-C27BE713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1A7A-4969-4F3A-B88A-4B81B026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5E00-1CAE-4CDA-937C-0CB1C95D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3433-A5C0-40EE-9D65-72DDEBC1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963-3F41-4CFF-BE39-93FFFD10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C320-4FCD-4949-A721-3F93FDDE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BA2D-65D4-4FD9-9EB9-CB10DD79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A55F-CA25-4FCD-AE28-F92757CE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1A05-AB99-43DB-943F-0601CE36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3785-8E21-47BF-9B42-D9E0D6A0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0AD4-DE92-4DD5-A908-491C9601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0B2C-F276-4C79-91E6-064E3484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8DE2-3381-469D-89A3-61510FB0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CA26-322A-49A6-BF27-0495D266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6D291-28CF-4B81-89A8-F642C9E8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B84D-B2A6-43F8-9EDA-4A575254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0EE70-4C2A-4CBA-A948-994B0D59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EEA7-484C-4663-BFB0-06823FAC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3D63-38AA-49AB-9B6C-63C324A5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BDA4-7788-4E79-AB85-23B4D4BC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CB19E-2F0E-4EAB-9D6C-970F99B5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30C56-061A-4DAD-BBA6-0D690991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D900-EDBD-4926-8DE9-0FCFC4B6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AB60-08F3-4285-BC7A-D81173D5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8D1E1-28B3-4CF4-B9B8-BC7FBA3D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B33E-4D70-4245-8D4B-DB17D4B4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7262-E3A2-4080-A7DA-24FABAD8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9978-94B1-4FED-A269-DE0E9118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309A9-9970-4BF9-86D7-4FCF7F09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180F-6BD0-49BB-ABC0-8C91B80D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95CA1-C210-4F93-8F12-65A675AE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717C-47FB-4478-A918-FE062245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1580-3E03-49ED-92E3-FC433C6B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32D93-0E26-4419-B524-DFF85902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F1B5-756B-4011-BDB6-7600BD41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17F97-73CC-4EF4-B612-4027A08A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7FF74-3C98-4C03-873E-B631486A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3B5-C722-4E35-8397-A7033CC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1DFD-7544-4E84-94A8-A0E7A4A4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02AAA-D8A7-4635-ABFF-65C41434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B59D-173B-4278-B59F-041E366D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2CE19-77E7-477C-924B-CB94CBFC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0FE09-9D88-402D-A1BE-A9BD5FF0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25949-D167-4ACD-923A-725C048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B188E-8AE4-4906-B924-9904D30B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A8A29-040E-4035-9E54-27A0A3C2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52E4-CCAF-45D9-99C9-2BF762D4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CEC43-BFBD-41B1-940F-D37A425C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7C1-C55B-49C7-80BF-252F653D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7D32A-1C99-4D78-8A5F-3B4600B2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F4B9C-67C0-4895-851A-911869F2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5E07E-7AE6-4E05-BC6E-74D51D95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F190D-EFE7-45F8-B0F0-C031D490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13382-DB01-459F-876B-21C78D9F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7F255-3D61-4045-A887-93A278D3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7F6FD-1717-4386-82E4-48DDB0F3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2A1EF-FA65-45AB-B6AB-128D674A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EE37B-1F90-4478-A7D7-61BF3864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D98B3-1BA0-45DB-BA9D-2B576425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215-DB31-4DB6-90F2-0A197B0D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CC2BD-15BA-42D2-A0DB-08638DA5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7C301-1681-496A-9DA8-C4E3682E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A34ED-4A87-456F-B991-CCA3C733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A409E-39F1-402F-AE7C-E4DD2A03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4A93D-5D5C-4EC9-B78C-EC8F2D3C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DB3CD-D49D-4A56-83C3-D0128346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530BA-AC1D-4703-9E97-EBB66119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1C34-3076-47B9-90A1-34FD7116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9A52B-9728-45DF-A159-3B69BE25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81A02-1638-41D7-993B-BC9E6816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BBF3-887D-410C-AF65-86B3BBAA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39983-0F7C-4DBE-9DC9-C267F972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48A0C-A608-40FA-9C8F-F6499CB8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DFD5C-F954-4E09-9F88-80D5C109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62951-40C6-4CCE-B6BA-00A3881B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D69C4-E14C-49C6-9104-606F5E0F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D8435-F54B-4755-88CA-122449B18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F5BEF-54B7-46CD-94A0-6EF1C534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A9CEA-F4ED-4B3F-AD2B-6D8C0A64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3D0A5-763C-44F3-80B1-43947BCB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E92D7-96DB-43A6-9F9E-ED7AC253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05A-3D42-4F31-BCEF-910039C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C8610-3D0A-47A4-82DF-7FFBC02F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3318C-C135-43C6-9CCF-DA3196F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7BD0B-6D8D-47E4-9861-376C995D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5D81F-C649-42E8-B174-B61E84E5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120F8-66C3-4010-9B42-D267F33E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6054E-1DCB-42C6-9F11-8F7B1155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5D989-1755-4F93-B4D7-6E665C88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D1A72-D92C-4FC7-B346-50ABE827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27CC5-66C7-44AB-BCD2-AC707E77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EF45D-6295-498E-8A5F-223CEE0B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ED9D-333A-48AB-BE84-9D461D86E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76CC-BA00-4110-BF71-1BCDBC95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0CBD-0CE9-4404-835F-F516847B2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B0F6-5C37-4766-A246-A7B97875A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DD1E-8714-4B99-897B-F4422A484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4D8-4515-4193-BEE3-517EFABCA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B5C0-21EE-441B-8BDC-3AEAC1717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4DC7-CD0B-4756-B853-DF8C9E6F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1B1E-2727-4CE9-97BB-092B5A596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1D32-B64D-4608-8A04-A1429A0B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3905-9F05-4642-A4AA-0647E5F39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0110030065"/>
          <p:cNvPicPr/>
          <p:nvPr/>
        </p:nvPicPr>
        <p:blipFill>
          <a:blip r:embed="rId1"/>
          <a:stretch/>
        </p:blipFill>
        <p:spPr>
          <a:xfrm>
            <a:off x="0" y="0"/>
            <a:ext cx="475128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3"/>
          <p:cNvSpPr/>
          <p:nvPr/>
        </p:nvSpPr>
        <p:spPr>
          <a:xfrm>
            <a:off x="7929720" y="476280"/>
            <a:ext cx="458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667480" y="1052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4" name="Text Box 19"/>
          <p:cNvSpPr/>
          <p:nvPr/>
        </p:nvSpPr>
        <p:spPr>
          <a:xfrm>
            <a:off x="6588000" y="476280"/>
            <a:ext cx="6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5" name="WordArt 23"/>
          <p:cNvSpPr txBox="1"/>
          <p:nvPr/>
        </p:nvSpPr>
        <p:spPr>
          <a:xfrm rot="5400000">
            <a:off x="5076000" y="2566080"/>
            <a:ext cx="3960720" cy="1511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宋体"/>
              </a:rPr>
              <a:t> 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宋体"/>
              </a:rPr>
              <a:t>爬山虎的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宋体"/>
              <a:ea typeface="宋体"/>
            </a:endParaRPr>
          </a:p>
        </p:txBody>
      </p:sp>
      <p:sp>
        <p:nvSpPr>
          <p:cNvPr id="456" name="WordArt 24"/>
          <p:cNvSpPr txBox="1"/>
          <p:nvPr/>
        </p:nvSpPr>
        <p:spPr>
          <a:xfrm>
            <a:off x="6300720" y="333360"/>
            <a:ext cx="1297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宋体"/>
              </a:rPr>
              <a:t>3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宋体"/>
              <a:ea typeface="宋体"/>
            </a:endParaRPr>
          </a:p>
        </p:txBody>
      </p:sp>
      <p:sp>
        <p:nvSpPr>
          <p:cNvPr id="457" name="Text Box 25"/>
          <p:cNvSpPr/>
          <p:nvPr/>
        </p:nvSpPr>
        <p:spPr>
          <a:xfrm>
            <a:off x="4859280" y="5877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8" name="Text Box 28"/>
          <p:cNvSpPr/>
          <p:nvPr/>
        </p:nvSpPr>
        <p:spPr>
          <a:xfrm>
            <a:off x="8028000" y="4653000"/>
            <a:ext cx="458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9" name="Text Box 32"/>
          <p:cNvSpPr/>
          <p:nvPr/>
        </p:nvSpPr>
        <p:spPr>
          <a:xfrm>
            <a:off x="4242240" y="2349360"/>
            <a:ext cx="1460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第二教时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0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3135-56DE-4361-A426-1B27B0D46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1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矩形 12"/>
          <p:cNvSpPr/>
          <p:nvPr/>
        </p:nvSpPr>
        <p:spPr>
          <a:xfrm>
            <a:off x="391320" y="11592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3" name="矩形 13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4" name="矩形 14"/>
          <p:cNvSpPr/>
          <p:nvPr/>
        </p:nvSpPr>
        <p:spPr>
          <a:xfrm>
            <a:off x="4538520" y="352728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80024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爬山虎的脚       墙的时候，六七根细丝的头上就变成小圆片，巴住墙。细丝原先是直的，现在弯曲了，把爬山虎的嫩茎拉一把，使它紧贴在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1116000" y="4508640"/>
            <a:ext cx="503280" cy="5047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4" name="Oval 11"/>
          <p:cNvSpPr/>
          <p:nvPr/>
        </p:nvSpPr>
        <p:spPr>
          <a:xfrm>
            <a:off x="5580000" y="3141720"/>
            <a:ext cx="576360" cy="5032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5" name="Oval 12"/>
          <p:cNvSpPr/>
          <p:nvPr/>
        </p:nvSpPr>
        <p:spPr>
          <a:xfrm>
            <a:off x="3995640" y="2421000"/>
            <a:ext cx="505080" cy="5047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3924360" y="2349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着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7" name="AutoShape 18"/>
          <p:cNvSpPr/>
          <p:nvPr/>
        </p:nvSpPr>
        <p:spPr>
          <a:xfrm>
            <a:off x="4643280" y="1052640"/>
            <a:ext cx="720720" cy="504720"/>
          </a:xfrm>
          <a:prstGeom prst="rightArrow">
            <a:avLst>
              <a:gd name="adj1" fmla="val 50000"/>
              <a:gd name="adj2" fmla="val 35699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68" name="Group 21"/>
          <p:cNvGrpSpPr/>
          <p:nvPr/>
        </p:nvGrpSpPr>
        <p:grpSpPr>
          <a:xfrm>
            <a:off x="1332000" y="404640"/>
            <a:ext cx="2592000" cy="1656000"/>
            <a:chOff x="1332000" y="404640"/>
            <a:chExt cx="2592000" cy="1656000"/>
          </a:xfrm>
        </p:grpSpPr>
        <p:pic>
          <p:nvPicPr>
            <p:cNvPr id="569" name="Picture 17" descr="1-0Z9291PF5-lp"/>
            <p:cNvPicPr/>
            <p:nvPr/>
          </p:nvPicPr>
          <p:blipFill>
            <a:blip r:embed="rId1"/>
            <a:stretch/>
          </p:blipFill>
          <p:spPr>
            <a:xfrm>
              <a:off x="1332000" y="404640"/>
              <a:ext cx="259200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Oval 19"/>
            <p:cNvSpPr/>
            <p:nvPr/>
          </p:nvSpPr>
          <p:spPr>
            <a:xfrm>
              <a:off x="1629000" y="476280"/>
              <a:ext cx="1036440" cy="792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571" name="Group 22"/>
          <p:cNvGrpSpPr/>
          <p:nvPr/>
        </p:nvGrpSpPr>
        <p:grpSpPr>
          <a:xfrm>
            <a:off x="5940360" y="404640"/>
            <a:ext cx="2322720" cy="1656000"/>
            <a:chOff x="5940360" y="404640"/>
            <a:chExt cx="2322720" cy="1656000"/>
          </a:xfrm>
        </p:grpSpPr>
        <p:pic>
          <p:nvPicPr>
            <p:cNvPr id="572" name="Picture 15" descr="脚２"/>
            <p:cNvPicPr/>
            <p:nvPr/>
          </p:nvPicPr>
          <p:blipFill>
            <a:blip r:embed="rId2"/>
            <a:stretch/>
          </p:blipFill>
          <p:spPr>
            <a:xfrm>
              <a:off x="5940360" y="404640"/>
              <a:ext cx="232272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Oval 20"/>
            <p:cNvSpPr/>
            <p:nvPr/>
          </p:nvSpPr>
          <p:spPr>
            <a:xfrm>
              <a:off x="7164360" y="476280"/>
              <a:ext cx="1008000" cy="7207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74" name="Oval 23"/>
          <p:cNvSpPr/>
          <p:nvPr/>
        </p:nvSpPr>
        <p:spPr>
          <a:xfrm>
            <a:off x="3995640" y="4508640"/>
            <a:ext cx="503280" cy="5047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5" name="Text Box 24"/>
          <p:cNvSpPr/>
          <p:nvPr/>
        </p:nvSpPr>
        <p:spPr>
          <a:xfrm>
            <a:off x="2700360" y="2924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○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6" name="灯片编号占位符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0863-51F7-462E-8441-699A37BE8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7" name="页脚占位符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一脚一脚往上爬 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8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DB3C-561F-411D-9A57-060F661C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9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0" y="2637000"/>
            <a:ext cx="91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句话是讲爬山虎的脚是怎样爬的。这句话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弯、拉、紧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三个字，有一连串的因果关系。由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直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到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弯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缩短了距离，所以产生了拉力；由于产生了拉力，才使它在墙上贴得很紧，继而一脚一脚往上爬。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755640" y="2602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爬山虎的脚触着墙的时候，六七根细丝的头上就变成小圆片，巴住墙。细丝原先是直的，现在弯曲了，把爬山虎的嫩茎拉一把，使它紧贴在墙上。 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84" name="Picture 4" descr="复件 细读感悟"/>
          <p:cNvPicPr/>
          <p:nvPr/>
        </p:nvPicPr>
        <p:blipFill>
          <a:blip r:embed="rId1"/>
          <a:stretch/>
        </p:blipFill>
        <p:spPr>
          <a:xfrm>
            <a:off x="0" y="0"/>
            <a:ext cx="1908000" cy="509760"/>
          </a:xfrm>
          <a:prstGeom prst="rect">
            <a:avLst/>
          </a:prstGeom>
          <a:ln w="0">
            <a:noFill/>
          </a:ln>
        </p:spPr>
      </p:pic>
      <p:sp>
        <p:nvSpPr>
          <p:cNvPr id="58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8495-66EF-4AC9-9454-24C353DFB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7"/>
          <p:cNvSpPr/>
          <p:nvPr/>
        </p:nvSpPr>
        <p:spPr>
          <a:xfrm>
            <a:off x="250920" y="3789360"/>
            <a:ext cx="8207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爬山虎就是这样一脚一脚地往上爬。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88" name="Picture 13" descr="20091003125412256"/>
          <p:cNvPicPr/>
          <p:nvPr/>
        </p:nvPicPr>
        <p:blipFill>
          <a:blip r:embed="rId1"/>
          <a:stretch/>
        </p:blipFill>
        <p:spPr>
          <a:xfrm>
            <a:off x="2050920" y="404640"/>
            <a:ext cx="4753080" cy="2808360"/>
          </a:xfrm>
          <a:prstGeom prst="rect">
            <a:avLst/>
          </a:prstGeom>
          <a:ln w="0">
            <a:noFill/>
          </a:ln>
        </p:spPr>
      </p:pic>
      <p:sp>
        <p:nvSpPr>
          <p:cNvPr id="5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CFDD-EDC4-40A5-B8D9-9BCF57C4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未命名2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3"/>
          <p:cNvSpPr/>
          <p:nvPr/>
        </p:nvSpPr>
        <p:spPr>
          <a:xfrm>
            <a:off x="250920" y="907920"/>
            <a:ext cx="84247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山虎的脚步触着墙的时候，六七根细丝的头上就变成小圆片，巴住墙。细丝原先是直的，现在弯曲了，把爬山虎的嫩茎拉一把，使它紧贴在墙上。爬山虎就是这样一脚一脚地往上爬。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2987640" y="3716280"/>
            <a:ext cx="5796000" cy="5814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6227640" y="2852640"/>
            <a:ext cx="142920" cy="144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6588000" y="2852640"/>
            <a:ext cx="142920" cy="14472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6" name="AutoShape 7"/>
          <p:cNvSpPr/>
          <p:nvPr/>
        </p:nvSpPr>
        <p:spPr>
          <a:xfrm>
            <a:off x="7093080" y="2997360"/>
            <a:ext cx="142920" cy="144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7" name="AutoShape 8"/>
          <p:cNvSpPr/>
          <p:nvPr/>
        </p:nvSpPr>
        <p:spPr>
          <a:xfrm>
            <a:off x="7380360" y="2924280"/>
            <a:ext cx="142920" cy="144360"/>
          </a:xfrm>
          <a:prstGeom prst="flowChartExtra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2195640" y="5303880"/>
            <a:ext cx="6264000" cy="1068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脚一脚地往上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换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一步一步地往上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行吗？为什么？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9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06E2-A16B-4459-9CEF-2B44F3AD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0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island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836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3"/>
          <p:cNvSpPr/>
          <p:nvPr/>
        </p:nvSpPr>
        <p:spPr>
          <a:xfrm>
            <a:off x="5219640" y="112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爬山虎并不像动物那样用脚交替着往上爬，而是长一只脚就巴住墙，越往高处爬，就要不断地长出新脚。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03" name="Picture 4" descr="85"/>
          <p:cNvPicPr/>
          <p:nvPr/>
        </p:nvPicPr>
        <p:blipFill>
          <a:blip r:embed="rId2"/>
          <a:stretch/>
        </p:blipFill>
        <p:spPr>
          <a:xfrm>
            <a:off x="0" y="836640"/>
            <a:ext cx="2254320" cy="6048360"/>
          </a:xfrm>
          <a:prstGeom prst="rect">
            <a:avLst/>
          </a:prstGeom>
          <a:ln w="0">
            <a:noFill/>
          </a:ln>
        </p:spPr>
      </p:pic>
      <p:sp>
        <p:nvSpPr>
          <p:cNvPr id="604" name="WordArt 5"/>
          <p:cNvSpPr txBox="1"/>
          <p:nvPr/>
        </p:nvSpPr>
        <p:spPr>
          <a:xfrm>
            <a:off x="395280" y="616572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链接动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5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842-834D-47AD-B76F-4B2C06237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533520" y="1905120"/>
            <a:ext cx="830556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黑体"/>
              </a:rPr>
              <a:t>  </a:t>
            </a:r>
            <a:r>
              <a:rPr b="1" lang="zh-CN" sz="6600" spc="-1" strike="noStrike">
                <a:solidFill>
                  <a:srgbClr val="003399"/>
                </a:solidFill>
                <a:latin typeface="黑体"/>
              </a:rPr>
              <a:t>如果你仔细看哪些细小的脚，你会想起图画上</a:t>
            </a:r>
            <a:r>
              <a:rPr b="1" lang="zh-CN" sz="6600" spc="-1" strike="noStrike">
                <a:solidFill>
                  <a:srgbClr val="ff0000"/>
                </a:solidFill>
                <a:latin typeface="黑体"/>
              </a:rPr>
              <a:t>蛟龙的爪子</a:t>
            </a:r>
            <a:r>
              <a:rPr b="1" lang="zh-CN" sz="6600" spc="-1" strike="noStrike">
                <a:solidFill>
                  <a:srgbClr val="003399"/>
                </a:solidFill>
                <a:latin typeface="黑体"/>
              </a:rPr>
              <a:t>。 </a:t>
            </a:r>
            <a:endParaRPr b="0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08" name="Picture 3" descr="0921"/>
          <p:cNvPicPr/>
          <p:nvPr/>
        </p:nvPicPr>
        <p:blipFill>
          <a:blip r:embed="rId1"/>
          <a:stretch/>
        </p:blipFill>
        <p:spPr>
          <a:xfrm>
            <a:off x="196920" y="152280"/>
            <a:ext cx="1631880" cy="175284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4"/>
          <p:cNvSpPr/>
          <p:nvPr/>
        </p:nvSpPr>
        <p:spPr>
          <a:xfrm>
            <a:off x="3505320" y="0"/>
            <a:ext cx="5029200" cy="1600200"/>
          </a:xfrm>
          <a:prstGeom prst="cloudCallout">
            <a:avLst>
              <a:gd name="adj1" fmla="val -85351"/>
              <a:gd name="adj2" fmla="val 1974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5102280" y="155520"/>
            <a:ext cx="200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Times New Roman"/>
              </a:rPr>
              <a:t>佳句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欣赏</a:t>
            </a:r>
            <a:endParaRPr b="0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1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CC1B-C485-41E9-ACDB-53825E1D3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2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龙3"/>
          <p:cNvPicPr/>
          <p:nvPr/>
        </p:nvPicPr>
        <p:blipFill>
          <a:blip r:embed="rId1"/>
          <a:srcRect l="25111" t="20123" r="33335" b="21213"/>
          <a:stretch/>
        </p:blipFill>
        <p:spPr>
          <a:xfrm>
            <a:off x="4067280" y="1125360"/>
            <a:ext cx="5076720" cy="57326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pshj"/>
          <p:cNvPicPr/>
          <p:nvPr/>
        </p:nvPicPr>
        <p:blipFill>
          <a:blip r:embed="rId2"/>
          <a:srcRect l="43394" t="0" r="3245" b="3406"/>
          <a:stretch/>
        </p:blipFill>
        <p:spPr>
          <a:xfrm>
            <a:off x="-34920" y="0"/>
            <a:ext cx="4102200" cy="4221000"/>
          </a:xfrm>
          <a:prstGeom prst="rect">
            <a:avLst/>
          </a:prstGeom>
          <a:ln w="0">
            <a:noFill/>
          </a:ln>
        </p:spPr>
      </p:pic>
      <p:sp>
        <p:nvSpPr>
          <p:cNvPr id="615" name="Oval 4"/>
          <p:cNvSpPr/>
          <p:nvPr/>
        </p:nvSpPr>
        <p:spPr>
          <a:xfrm>
            <a:off x="5724360" y="256536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6" name="Oval 5"/>
          <p:cNvSpPr/>
          <p:nvPr/>
        </p:nvSpPr>
        <p:spPr>
          <a:xfrm>
            <a:off x="5148360" y="1844640"/>
            <a:ext cx="1224000" cy="1079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B5C0-0EBB-47CC-9A7A-60B072577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8" descr="a51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99640" y="836640"/>
            <a:ext cx="7643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爬山虎的脚要是没触着墙，不几天就萎了，后来连痕迹也没有了。触着墙的，细丝和小圆片逐渐变成灰色。不要瞧不起那些灰色的脚，那些脚巴在墙上相当牢固，要是你的手指不费一点儿劲，休想拉下爬山虎的一根茎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1116000" y="333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2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1D37-E852-4557-960E-4216A9CA1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685800" y="7621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838080" y="4038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爬山虎的脚要是没触着墙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几天就萎了，后来连痕迹也没有了。触着墙的，细丝和小圆片逐渐变成灰色。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611280" y="26776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爬山虎的脚没触着墙和触着墙时的变化（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7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F407-07C0-463A-AB11-16EFD3BD3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图片4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97708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3"/>
          <p:cNvSpPr/>
          <p:nvPr/>
        </p:nvSpPr>
        <p:spPr>
          <a:xfrm>
            <a:off x="0" y="1268280"/>
            <a:ext cx="3203640" cy="1008360"/>
          </a:xfrm>
          <a:prstGeom prst="cloudCallout">
            <a:avLst>
              <a:gd name="adj1" fmla="val -17541"/>
              <a:gd name="adj2" fmla="val 105750"/>
            </a:avLst>
          </a:prstGeom>
          <a:solidFill>
            <a:srgbClr val="e7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拓展练习：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67" name="Picture 4" descr="图片6"/>
          <p:cNvPicPr/>
          <p:nvPr/>
        </p:nvPicPr>
        <p:blipFill>
          <a:blip r:embed="rId2"/>
          <a:stretch/>
        </p:blipFill>
        <p:spPr>
          <a:xfrm>
            <a:off x="-612720" y="393372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5"/>
          <p:cNvSpPr/>
          <p:nvPr/>
        </p:nvSpPr>
        <p:spPr>
          <a:xfrm>
            <a:off x="1763640" y="2133720"/>
            <a:ext cx="67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爬山虎刚长出来的叶子是（          ）的，不几天叶子长大，就变成（          ）的。爬山虎的嫩叶不大（              ），引人注意的是长大了的叶子。那此叶子绿得那么（        ），看着非常（          ），叶尖（                ）朝下，在墙上铺得那么（         ），没有（           ）起来的，也不留一点儿（         ）。一阵风（   ）过，一墙的叶子就（     ）起波纹，好看得很。</a:t>
            </a:r>
            <a:br>
              <a:rPr sz="2800"/>
            </a:b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6877080" y="2060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嫩红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6877080" y="256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嫩绿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5651640" y="292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引人注意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2843280" y="378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新鲜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6227640" y="3789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舒服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2556000" y="429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顺儿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195640" y="465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均匀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4932360" y="465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重叠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Text Box 14"/>
          <p:cNvSpPr/>
          <p:nvPr/>
        </p:nvSpPr>
        <p:spPr>
          <a:xfrm>
            <a:off x="3995640" y="50706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缝隙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Text Box 15"/>
          <p:cNvSpPr/>
          <p:nvPr/>
        </p:nvSpPr>
        <p:spPr>
          <a:xfrm>
            <a:off x="6877080" y="508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9" name="Text Box 16"/>
          <p:cNvSpPr/>
          <p:nvPr/>
        </p:nvSpPr>
        <p:spPr>
          <a:xfrm>
            <a:off x="4284720" y="551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漾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0" name="灯片编号占位符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ECFD-8369-4BD2-81D4-B5CEC585D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页脚占位符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图片4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977080"/>
          </a:xfrm>
          <a:prstGeom prst="rect">
            <a:avLst/>
          </a:prstGeom>
          <a:ln w="0">
            <a:noFill/>
          </a:ln>
        </p:spPr>
      </p:pic>
      <p:sp>
        <p:nvSpPr>
          <p:cNvPr id="630" name="AutoShape 3"/>
          <p:cNvSpPr/>
          <p:nvPr/>
        </p:nvSpPr>
        <p:spPr>
          <a:xfrm>
            <a:off x="0" y="1268280"/>
            <a:ext cx="2627280" cy="1008360"/>
          </a:xfrm>
          <a:prstGeom prst="cloudCallout">
            <a:avLst>
              <a:gd name="adj1" fmla="val -10421"/>
              <a:gd name="adj2" fmla="val 105750"/>
            </a:avLst>
          </a:prstGeom>
          <a:solidFill>
            <a:srgbClr val="e7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结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2700360" y="2492280"/>
            <a:ext cx="61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自然段围绕爬山虎的脚的特点，先讲它的生长位置、形状和颜色，再讲它是怎样在墙上爬的，最后讲触着墙与没触着墙的爬山虎的脚有何不同。</a:t>
            </a:r>
            <a:br>
              <a:rPr sz="3200"/>
            </a:b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2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4418-315F-48C7-A6A1-38182A3C7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星星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887400" y="1447920"/>
            <a:ext cx="8256600" cy="411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作者写爬山虎脚的时，先写了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    再写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最后写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。</a:t>
            </a:r>
            <a:endParaRPr b="0" lang="en-US" sz="5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每一个内容都是抓住   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  。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来写的。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36" name="Picture 4" descr="gif018"/>
          <p:cNvPicPr/>
          <p:nvPr/>
        </p:nvPicPr>
        <p:blipFill>
          <a:blip r:embed="rId2"/>
          <a:stretch/>
        </p:blipFill>
        <p:spPr>
          <a:xfrm>
            <a:off x="7383600" y="6400800"/>
            <a:ext cx="1074600" cy="3128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5" descr="gif018"/>
          <p:cNvPicPr/>
          <p:nvPr/>
        </p:nvPicPr>
        <p:blipFill>
          <a:blip r:embed="rId3"/>
          <a:stretch/>
        </p:blipFill>
        <p:spPr>
          <a:xfrm>
            <a:off x="5630760" y="6400800"/>
            <a:ext cx="1074960" cy="3128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6" descr="gif018"/>
          <p:cNvPicPr/>
          <p:nvPr/>
        </p:nvPicPr>
        <p:blipFill>
          <a:blip r:embed="rId4"/>
          <a:stretch/>
        </p:blipFill>
        <p:spPr>
          <a:xfrm>
            <a:off x="3954600" y="6392880"/>
            <a:ext cx="1074600" cy="3128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7" descr="gif018"/>
          <p:cNvPicPr/>
          <p:nvPr/>
        </p:nvPicPr>
        <p:blipFill>
          <a:blip r:embed="rId5"/>
          <a:stretch/>
        </p:blipFill>
        <p:spPr>
          <a:xfrm>
            <a:off x="2125800" y="6400800"/>
            <a:ext cx="1074600" cy="3128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8" descr="gif018"/>
          <p:cNvPicPr/>
          <p:nvPr/>
        </p:nvPicPr>
        <p:blipFill>
          <a:blip r:embed="rId6"/>
          <a:stretch/>
        </p:blipFill>
        <p:spPr>
          <a:xfrm>
            <a:off x="457200" y="6400800"/>
            <a:ext cx="1074600" cy="312840"/>
          </a:xfrm>
          <a:prstGeom prst="rect">
            <a:avLst/>
          </a:prstGeom>
          <a:ln w="0">
            <a:noFill/>
          </a:ln>
        </p:spPr>
      </p:pic>
      <p:sp>
        <p:nvSpPr>
          <p:cNvPr id="641" name="WordArt 9"/>
          <p:cNvSpPr txBox="1"/>
          <p:nvPr/>
        </p:nvSpPr>
        <p:spPr>
          <a:xfrm>
            <a:off x="685800" y="45720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聊聊天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3404520" y="22096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它的样子</a:t>
            </a:r>
            <a:endParaRPr b="0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0" y="312408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怎么爬的，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   </a:t>
            </a:r>
            <a:endParaRPr b="0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4356000" y="2781360"/>
            <a:ext cx="47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触着墙与没触着墙的爬山虎的脚有何不同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。</a:t>
            </a:r>
            <a:endParaRPr b="0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7707240" y="38098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特点</a:t>
            </a:r>
            <a:endParaRPr b="0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5A4F-8C42-484C-B665-907BED100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2" descr="图片4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9770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3" descr="图片3"/>
          <p:cNvPicPr/>
          <p:nvPr/>
        </p:nvPicPr>
        <p:blipFill>
          <a:blip r:embed="rId2"/>
          <a:stretch/>
        </p:blipFill>
        <p:spPr>
          <a:xfrm>
            <a:off x="5076720" y="3048120"/>
            <a:ext cx="5143680" cy="380988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4"/>
          <p:cNvSpPr/>
          <p:nvPr/>
        </p:nvSpPr>
        <p:spPr>
          <a:xfrm>
            <a:off x="395280" y="141300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学习了这篇课文，你有什么感受？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332000" y="350028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作者观察真仔细，我们都要向他那样留心细致观察周围的事物！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2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552A-7A38-4270-9347-BD7511B3B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3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图片4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977080"/>
          </a:xfrm>
          <a:prstGeom prst="rect">
            <a:avLst/>
          </a:prstGeom>
          <a:ln w="0">
            <a:noFill/>
          </a:ln>
        </p:spPr>
      </p:pic>
      <p:sp>
        <p:nvSpPr>
          <p:cNvPr id="655" name="AutoShape 3"/>
          <p:cNvSpPr/>
          <p:nvPr/>
        </p:nvSpPr>
        <p:spPr>
          <a:xfrm>
            <a:off x="0" y="1268280"/>
            <a:ext cx="3203640" cy="1008360"/>
          </a:xfrm>
          <a:prstGeom prst="cloudCallout">
            <a:avLst>
              <a:gd name="adj1" fmla="val -17541"/>
              <a:gd name="adj2" fmla="val 105750"/>
            </a:avLst>
          </a:prstGeom>
          <a:solidFill>
            <a:srgbClr val="e7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拓展练习：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56" name="Picture 4" descr="图片6"/>
          <p:cNvPicPr/>
          <p:nvPr/>
        </p:nvPicPr>
        <p:blipFill>
          <a:blip r:embed="rId2"/>
          <a:stretch/>
        </p:blipFill>
        <p:spPr>
          <a:xfrm>
            <a:off x="-612720" y="393372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5"/>
          <p:cNvSpPr/>
          <p:nvPr/>
        </p:nvSpPr>
        <p:spPr>
          <a:xfrm>
            <a:off x="2050920" y="220500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爬山虎的脚步（   ）着墙的时候，六七根细丝的头上就（        ）小圆片，（   ）住墙。细丝原先是（       ），现在（       ）了，把爬山虎的嫩茎（      ）一把，使它紧（   ）在墙上。爬山虎就是这样（              ）地往上爬。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8209080" y="26370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巴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529272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直的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5292720" y="26226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变成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5292720" y="2133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触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2771640" y="3860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贴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3" name="Text Box 11"/>
          <p:cNvSpPr/>
          <p:nvPr/>
        </p:nvSpPr>
        <p:spPr>
          <a:xfrm>
            <a:off x="5796000" y="35002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拉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4" name="Text Box 12"/>
          <p:cNvSpPr/>
          <p:nvPr/>
        </p:nvSpPr>
        <p:spPr>
          <a:xfrm>
            <a:off x="774072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弯曲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2340000" y="4365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一脚一脚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6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F5B6-DDC4-4975-BC9E-6E1454143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7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20050228154838670"/>
          <p:cNvPicPr/>
          <p:nvPr/>
        </p:nvPicPr>
        <p:blipFill>
          <a:blip r:embed="rId1"/>
          <a:stretch/>
        </p:blipFill>
        <p:spPr>
          <a:xfrm>
            <a:off x="6305400" y="3143160"/>
            <a:ext cx="2838600" cy="371484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小小叶儿多又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春风吹来会跳舞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几根细丝长茎上　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使你疑是小蛟龙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4" descr="cy388"/>
          <p:cNvPicPr/>
          <p:nvPr/>
        </p:nvPicPr>
        <p:blipFill>
          <a:blip r:embed="rId2"/>
          <a:stretch/>
        </p:blipFill>
        <p:spPr>
          <a:xfrm>
            <a:off x="0" y="4191120"/>
            <a:ext cx="2228760" cy="2666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85"/>
          <p:cNvPicPr/>
          <p:nvPr/>
        </p:nvPicPr>
        <p:blipFill>
          <a:blip r:embed="rId3"/>
          <a:stretch/>
        </p:blipFill>
        <p:spPr>
          <a:xfrm>
            <a:off x="395280" y="404640"/>
            <a:ext cx="1322280" cy="19432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85"/>
          <p:cNvPicPr/>
          <p:nvPr/>
        </p:nvPicPr>
        <p:blipFill>
          <a:blip r:embed="rId4"/>
          <a:stretch/>
        </p:blipFill>
        <p:spPr>
          <a:xfrm>
            <a:off x="7236000" y="476280"/>
            <a:ext cx="1322280" cy="1942920"/>
          </a:xfrm>
          <a:prstGeom prst="rect">
            <a:avLst/>
          </a:prstGeom>
          <a:ln w="0">
            <a:noFill/>
          </a:ln>
        </p:spPr>
      </p:pic>
      <p:sp>
        <p:nvSpPr>
          <p:cNvPr id="673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9E2F-7E3B-4809-BF74-61ABE54E9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4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20050228154838670"/>
          <p:cNvPicPr/>
          <p:nvPr/>
        </p:nvPicPr>
        <p:blipFill>
          <a:blip r:embed="rId1"/>
          <a:stretch/>
        </p:blipFill>
        <p:spPr>
          <a:xfrm>
            <a:off x="6305400" y="3143160"/>
            <a:ext cx="2838600" cy="371484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爬山虎呀真厉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高楼大厦任你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不怕高来不怕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勇往直前不退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cy388"/>
          <p:cNvPicPr/>
          <p:nvPr/>
        </p:nvPicPr>
        <p:blipFill>
          <a:blip r:embed="rId2"/>
          <a:stretch/>
        </p:blipFill>
        <p:spPr>
          <a:xfrm>
            <a:off x="0" y="4191120"/>
            <a:ext cx="2228760" cy="26668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5" descr="85"/>
          <p:cNvPicPr/>
          <p:nvPr/>
        </p:nvPicPr>
        <p:blipFill>
          <a:blip r:embed="rId3"/>
          <a:stretch/>
        </p:blipFill>
        <p:spPr>
          <a:xfrm>
            <a:off x="395280" y="404640"/>
            <a:ext cx="1322280" cy="19432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" descr="85"/>
          <p:cNvPicPr/>
          <p:nvPr/>
        </p:nvPicPr>
        <p:blipFill>
          <a:blip r:embed="rId4"/>
          <a:stretch/>
        </p:blipFill>
        <p:spPr>
          <a:xfrm>
            <a:off x="7236000" y="476280"/>
            <a:ext cx="1322280" cy="1942920"/>
          </a:xfrm>
          <a:prstGeom prst="rect">
            <a:avLst/>
          </a:prstGeom>
          <a:ln w="0">
            <a:noFill/>
          </a:ln>
        </p:spPr>
      </p:pic>
      <p:sp>
        <p:nvSpPr>
          <p:cNvPr id="680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B4E8-9B09-4817-8999-63026F743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是虎不是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有脚只会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紧贴墙上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离墙便枯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3" descr="20050228154838670"/>
          <p:cNvPicPr/>
          <p:nvPr/>
        </p:nvPicPr>
        <p:blipFill>
          <a:blip r:embed="rId1"/>
          <a:stretch/>
        </p:blipFill>
        <p:spPr>
          <a:xfrm>
            <a:off x="6305400" y="3143160"/>
            <a:ext cx="2838600" cy="37148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4" descr="cy388"/>
          <p:cNvPicPr/>
          <p:nvPr/>
        </p:nvPicPr>
        <p:blipFill>
          <a:blip r:embed="rId2"/>
          <a:stretch/>
        </p:blipFill>
        <p:spPr>
          <a:xfrm>
            <a:off x="0" y="4191120"/>
            <a:ext cx="2228760" cy="26668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" descr="85"/>
          <p:cNvPicPr/>
          <p:nvPr/>
        </p:nvPicPr>
        <p:blipFill>
          <a:blip r:embed="rId3"/>
          <a:stretch/>
        </p:blipFill>
        <p:spPr>
          <a:xfrm>
            <a:off x="395280" y="404640"/>
            <a:ext cx="1322280" cy="19432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" descr="85"/>
          <p:cNvPicPr/>
          <p:nvPr/>
        </p:nvPicPr>
        <p:blipFill>
          <a:blip r:embed="rId4"/>
          <a:stretch/>
        </p:blipFill>
        <p:spPr>
          <a:xfrm>
            <a:off x="7236000" y="476280"/>
            <a:ext cx="1322280" cy="1942920"/>
          </a:xfrm>
          <a:prstGeom prst="rect">
            <a:avLst/>
          </a:prstGeom>
          <a:ln w="0">
            <a:noFill/>
          </a:ln>
        </p:spPr>
      </p:pic>
      <p:sp>
        <p:nvSpPr>
          <p:cNvPr id="687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3BD-3D84-494E-A30B-BF734A923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-685800" y="1523880"/>
            <a:ext cx="967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宋体"/>
              </a:rPr>
              <a:t>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宋体"/>
              </a:rPr>
              <a:t>爬山虎这种植物与众不同的是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宋体"/>
              </a:rPr>
              <a:t>长了脚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宋体"/>
              </a:rPr>
              <a:t>，在大千世界中，你还知道哪些动植物也像爬山虎一样有独特之处？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黑体"/>
              </a:rPr>
              <a:t> </a:t>
            </a: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宋体"/>
              </a:rPr>
              <a:t>能像作者讲爬山虎的脚一样，分几个方面把它介绍给大家吗？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0" name="WordArt 3"/>
          <p:cNvSpPr txBox="1"/>
          <p:nvPr/>
        </p:nvSpPr>
        <p:spPr>
          <a:xfrm>
            <a:off x="304920" y="0"/>
            <a:ext cx="41907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练说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A479-738C-4C45-96D9-BE2EF0FA0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2" descr="a51"/>
          <p:cNvPicPr/>
          <p:nvPr/>
        </p:nvPicPr>
        <p:blipFill>
          <a:blip r:embed="rId1">
            <a:lum contrast="-42000"/>
          </a:blip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6"/>
          <p:cNvSpPr/>
          <p:nvPr/>
        </p:nvSpPr>
        <p:spPr>
          <a:xfrm>
            <a:off x="1258920" y="148428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1547640" y="620640"/>
            <a:ext cx="669636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前我只知道这种植物叫爬山虎，可不知道它怎么爬。今年我注意了，原来爬山虎是有脚的。爬山虎的脚长在茎上。茎上长叶柄的地方，反面伸出枝状的六七根细丝，每根细丝像蜗牛的触角。细丝跟新叶子一样，也是嫩红的。这就是爬山虎的脚。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485" name="Group 42"/>
          <p:cNvGrpSpPr/>
          <p:nvPr/>
        </p:nvGrpSpPr>
        <p:grpSpPr>
          <a:xfrm>
            <a:off x="1692360" y="3357720"/>
            <a:ext cx="6335640" cy="2016000"/>
            <a:chOff x="1692360" y="3357720"/>
            <a:chExt cx="6335640" cy="2016000"/>
          </a:xfrm>
        </p:grpSpPr>
        <p:sp>
          <p:nvSpPr>
            <p:cNvPr id="486" name="Line 36"/>
            <p:cNvSpPr/>
            <p:nvPr/>
          </p:nvSpPr>
          <p:spPr>
            <a:xfrm>
              <a:off x="1692360" y="3357720"/>
              <a:ext cx="6335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87" name="Line 37"/>
            <p:cNvSpPr/>
            <p:nvPr/>
          </p:nvSpPr>
          <p:spPr>
            <a:xfrm>
              <a:off x="1692360" y="5373720"/>
              <a:ext cx="6335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88" name="Line 38"/>
            <p:cNvSpPr/>
            <p:nvPr/>
          </p:nvSpPr>
          <p:spPr>
            <a:xfrm>
              <a:off x="1692360" y="4724280"/>
              <a:ext cx="6335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89" name="Line 39"/>
            <p:cNvSpPr/>
            <p:nvPr/>
          </p:nvSpPr>
          <p:spPr>
            <a:xfrm>
              <a:off x="1692360" y="4076640"/>
              <a:ext cx="6335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490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BD84-A9DA-4A1A-9344-3B9BD2F55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1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2" name="矩形 11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79280" y="1477800"/>
            <a:ext cx="8202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用括号标出具体描写以下特点的语句</a:t>
            </a:r>
            <a:r>
              <a:rPr b="0" lang="zh-CN" sz="24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爬山虎脚的位置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爬山虎脚的具体样子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爬山虎脚的颜色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914400" y="792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）初读感知抓特点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71640" y="29242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茎上长叶柄的地方，反面伸出枝状的六七根细丝，每根细丝象蜗牛的触角。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4038480" y="219384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爬山虎的脚长在茎上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84360" y="43657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细丝跟新叶子一样，也是嫩红的。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1BE5-4D96-4FF6-9FC8-D9719E0B2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9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533520" y="1905120"/>
            <a:ext cx="8305560" cy="10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茎上长叶柄的地方，反面伸出枝状的六七根细丝，每根细丝像蜗牛的触角。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1" name="Picture 3" descr="0921"/>
          <p:cNvPicPr/>
          <p:nvPr/>
        </p:nvPicPr>
        <p:blipFill>
          <a:blip r:embed="rId1"/>
          <a:stretch/>
        </p:blipFill>
        <p:spPr>
          <a:xfrm>
            <a:off x="196920" y="152280"/>
            <a:ext cx="1631880" cy="175284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4"/>
          <p:cNvSpPr/>
          <p:nvPr/>
        </p:nvSpPr>
        <p:spPr>
          <a:xfrm>
            <a:off x="3505320" y="0"/>
            <a:ext cx="5029200" cy="1600200"/>
          </a:xfrm>
          <a:prstGeom prst="cloudCallout">
            <a:avLst>
              <a:gd name="adj1" fmla="val -85351"/>
              <a:gd name="adj2" fmla="val 1974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5102280" y="155520"/>
            <a:ext cx="200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Times New Roman"/>
              </a:rPr>
              <a:t>佳句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欣赏</a:t>
            </a:r>
            <a:endParaRPr b="0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1619280" y="544500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3492360" y="4005360"/>
            <a:ext cx="2231640" cy="1942560"/>
            <a:chOff x="3492360" y="4005360"/>
            <a:chExt cx="2231640" cy="1942560"/>
          </a:xfrm>
        </p:grpSpPr>
        <p:pic>
          <p:nvPicPr>
            <p:cNvPr id="506" name="Picture 8" descr="d-9"/>
            <p:cNvPicPr/>
            <p:nvPr/>
          </p:nvPicPr>
          <p:blipFill>
            <a:blip r:embed="rId2"/>
            <a:stretch/>
          </p:blipFill>
          <p:spPr>
            <a:xfrm>
              <a:off x="3492360" y="4005360"/>
              <a:ext cx="2162520" cy="182700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grpSp>
          <p:nvGrpSpPr>
            <p:cNvPr id="507" name="Group 9"/>
            <p:cNvGrpSpPr/>
            <p:nvPr/>
          </p:nvGrpSpPr>
          <p:grpSpPr>
            <a:xfrm>
              <a:off x="4563000" y="4149720"/>
              <a:ext cx="1161000" cy="1798200"/>
              <a:chOff x="4563000" y="4149720"/>
              <a:chExt cx="1161000" cy="1798200"/>
            </a:xfrm>
          </p:grpSpPr>
          <p:sp>
            <p:nvSpPr>
              <p:cNvPr id="508" name="AutoShape 10"/>
              <p:cNvSpPr/>
              <p:nvPr/>
            </p:nvSpPr>
            <p:spPr>
              <a:xfrm>
                <a:off x="4678200" y="4149720"/>
                <a:ext cx="1045800" cy="980640"/>
              </a:xfrm>
              <a:prstGeom prst="wedgeEllipseCallout">
                <a:avLst>
                  <a:gd name="adj1" fmla="val -44384"/>
                  <a:gd name="adj2" fmla="val 54532"/>
                </a:avLst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509" name="Text Box 11"/>
              <p:cNvSpPr/>
              <p:nvPr/>
            </p:nvSpPr>
            <p:spPr>
              <a:xfrm>
                <a:off x="4563000" y="5184720"/>
                <a:ext cx="972720" cy="76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66ff"/>
                    </a:solidFill>
                    <a:latin typeface="Arial"/>
                  </a:rPr>
                  <a:t>触</a:t>
                </a:r>
                <a:r>
                  <a:rPr b="1" lang="zh-CN" sz="2800" spc="-1" strike="noStrike">
                    <a:solidFill>
                      <a:srgbClr val="0066ff"/>
                    </a:solidFill>
                    <a:latin typeface="Arial"/>
                  </a:rPr>
                  <a:t>角</a:t>
                </a:r>
                <a:endParaRPr b="0" lang="en-US" sz="28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8C6F-BF6F-468F-B2F9-B526C5805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1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2" name="矩形 13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3" name="矩形 14"/>
          <p:cNvSpPr/>
          <p:nvPr/>
        </p:nvSpPr>
        <p:spPr>
          <a:xfrm>
            <a:off x="4538520" y="352728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18" name="Picture 6" descr="dongwu5"/>
          <p:cNvPicPr/>
          <p:nvPr/>
        </p:nvPicPr>
        <p:blipFill>
          <a:blip r:embed="rId1"/>
          <a:stretch/>
        </p:blipFill>
        <p:spPr>
          <a:xfrm>
            <a:off x="971640" y="549360"/>
            <a:ext cx="7488000" cy="477828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7"/>
          <p:cNvGrpSpPr/>
          <p:nvPr/>
        </p:nvGrpSpPr>
        <p:grpSpPr>
          <a:xfrm>
            <a:off x="3419640" y="1415880"/>
            <a:ext cx="3455640" cy="4711320"/>
            <a:chOff x="3419640" y="1415880"/>
            <a:chExt cx="3455640" cy="4711320"/>
          </a:xfrm>
        </p:grpSpPr>
        <p:sp>
          <p:nvSpPr>
            <p:cNvPr id="520" name="AutoShape 8"/>
            <p:cNvSpPr/>
            <p:nvPr/>
          </p:nvSpPr>
          <p:spPr>
            <a:xfrm>
              <a:off x="3419640" y="1415880"/>
              <a:ext cx="2907360" cy="3047760"/>
            </a:xfrm>
            <a:prstGeom prst="wedgeEllipseCallout">
              <a:avLst>
                <a:gd name="adj1" fmla="val 37148"/>
                <a:gd name="adj2" fmla="val 75106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21" name="Text Box 9"/>
            <p:cNvSpPr/>
            <p:nvPr/>
          </p:nvSpPr>
          <p:spPr>
            <a:xfrm>
              <a:off x="5668560" y="5302080"/>
              <a:ext cx="120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华文新魏"/>
                </a:rPr>
                <a:t>触角</a:t>
              </a:r>
              <a:endParaRPr b="0" lang="en-US" sz="4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22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6314-8A4E-466B-93F1-B42B3BCED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3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826560" y="1125360"/>
            <a:ext cx="7417080" cy="38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爬山虎的脚长在         。茎上长叶  柄的地方，        伸出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每根细丝像                    。细丝跟新叶子一样，也是       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9"/>
          <p:cNvSpPr/>
          <p:nvPr/>
        </p:nvSpPr>
        <p:spPr>
          <a:xfrm>
            <a:off x="4859280" y="1341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茎上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6" name="Line 31"/>
          <p:cNvSpPr/>
          <p:nvPr/>
        </p:nvSpPr>
        <p:spPr>
          <a:xfrm>
            <a:off x="4859280" y="270828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7" name="Line 32"/>
          <p:cNvSpPr/>
          <p:nvPr/>
        </p:nvSpPr>
        <p:spPr>
          <a:xfrm>
            <a:off x="125892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28" name="Group 44"/>
          <p:cNvGrpSpPr/>
          <p:nvPr/>
        </p:nvGrpSpPr>
        <p:grpSpPr>
          <a:xfrm>
            <a:off x="1187280" y="2060640"/>
            <a:ext cx="7490160" cy="1373400"/>
            <a:chOff x="1187280" y="2060640"/>
            <a:chExt cx="7490160" cy="1373400"/>
          </a:xfrm>
        </p:grpSpPr>
        <p:sp>
          <p:nvSpPr>
            <p:cNvPr id="529" name="Text Box 30"/>
            <p:cNvSpPr/>
            <p:nvPr/>
          </p:nvSpPr>
          <p:spPr>
            <a:xfrm>
              <a:off x="4932360" y="2060640"/>
              <a:ext cx="374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枝状的六七根细</a:t>
              </a:r>
              <a:endParaRPr b="0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30" name="Text Box 33"/>
            <p:cNvSpPr/>
            <p:nvPr/>
          </p:nvSpPr>
          <p:spPr>
            <a:xfrm>
              <a:off x="1187280" y="2852640"/>
              <a:ext cx="86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丝</a:t>
              </a:r>
              <a:endParaRPr b="0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31" name="Text Box 34"/>
          <p:cNvSpPr/>
          <p:nvPr/>
        </p:nvSpPr>
        <p:spPr>
          <a:xfrm>
            <a:off x="4140360" y="2781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蜗牛的触角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2" name="Line 35"/>
          <p:cNvSpPr/>
          <p:nvPr/>
        </p:nvSpPr>
        <p:spPr>
          <a:xfrm>
            <a:off x="4067280" y="3500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3" name="Text Box 36"/>
          <p:cNvSpPr/>
          <p:nvPr/>
        </p:nvSpPr>
        <p:spPr>
          <a:xfrm>
            <a:off x="4427640" y="3500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嫩红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4" name="Line 37"/>
          <p:cNvSpPr/>
          <p:nvPr/>
        </p:nvSpPr>
        <p:spPr>
          <a:xfrm>
            <a:off x="4427640" y="4076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5" name="Text Box 39"/>
          <p:cNvSpPr/>
          <p:nvPr/>
        </p:nvSpPr>
        <p:spPr>
          <a:xfrm>
            <a:off x="3203640" y="2060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反面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6" name="Line 41"/>
          <p:cNvSpPr/>
          <p:nvPr/>
        </p:nvSpPr>
        <p:spPr>
          <a:xfrm>
            <a:off x="3132000" y="270828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7" name="Line 42"/>
          <p:cNvSpPr/>
          <p:nvPr/>
        </p:nvSpPr>
        <p:spPr>
          <a:xfrm>
            <a:off x="5003640" y="1989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8" name="WordArt 45"/>
          <p:cNvSpPr txBox="1"/>
          <p:nvPr/>
        </p:nvSpPr>
        <p:spPr>
          <a:xfrm rot="285000">
            <a:off x="394920" y="0"/>
            <a:ext cx="194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宋体"/>
              </a:rPr>
              <a:t>说一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宋体"/>
              <a:ea typeface="宋体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692360" y="4292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这就是爬山虎的脚。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0" name="灯片编号占位符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573E-6AB8-475D-AE07-B6ACBE3F7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85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385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385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385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图片4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9770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468360" y="1341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作者能把爬山虎的脚写得那么形象具体，说明了什么？课文哪个词语突出了这一点？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44" name="Picture 4" descr="图片3"/>
          <p:cNvPicPr/>
          <p:nvPr/>
        </p:nvPicPr>
        <p:blipFill>
          <a:blip r:embed="rId2"/>
          <a:stretch/>
        </p:blipFill>
        <p:spPr>
          <a:xfrm>
            <a:off x="5076720" y="3048120"/>
            <a:ext cx="5143680" cy="38098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826920" y="3213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注意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971640" y="465300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观察非常仔细认真！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7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1B73-14C2-4A4C-91BF-2DE50E0AA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5" descr="a51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7868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爬山虎的脚触着墙的时候，六七根细丝的头上就变成小圆片，巴住墙。细丝原先是直的，现在弯曲了，把爬山虎的嫩茎拉一把，使它紧贴在墙上。爬山虎就是这样一脚一脚地往上爬。如果你仔细观察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4284720" y="1341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háo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2" name="少女的祈祷.mp3" descr=""/>
          <p:cNvPicPr/>
          <p:nvPr/>
        </p:nvPicPr>
        <p:blipFill>
          <a:blip r:embed="rId2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9"/>
          <p:cNvSpPr/>
          <p:nvPr/>
        </p:nvSpPr>
        <p:spPr>
          <a:xfrm>
            <a:off x="755640" y="1628640"/>
            <a:ext cx="77868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爬山虎的脚触着墙的时候，六七根细丝的头上就变成小圆片，巴住墙。细丝原先是直的，现在弯曲了，把爬山虎的嫩茎拉一把，使它紧贴在墙上。爬山虎就是这样一脚一脚地往上爬。如果你仔细观察那些细小的脚，你会想起图画上蛟龙的爪子。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54" name="Group 15"/>
          <p:cNvGrpSpPr/>
          <p:nvPr/>
        </p:nvGrpSpPr>
        <p:grpSpPr>
          <a:xfrm>
            <a:off x="395280" y="1773360"/>
            <a:ext cx="8353440" cy="2646360"/>
            <a:chOff x="395280" y="1773360"/>
            <a:chExt cx="8353440" cy="2646360"/>
          </a:xfrm>
        </p:grpSpPr>
        <p:sp>
          <p:nvSpPr>
            <p:cNvPr id="555" name="Rectangle 10"/>
            <p:cNvSpPr/>
            <p:nvPr/>
          </p:nvSpPr>
          <p:spPr>
            <a:xfrm>
              <a:off x="395280" y="3716280"/>
              <a:ext cx="720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Arial"/>
                </a:rPr>
                <a:t>﹏﹏﹏﹏﹏﹏﹏﹏﹏﹏﹏</a:t>
              </a:r>
              <a:endParaRPr b="0" lang="en-US" sz="40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56" name="Rectangle 12"/>
            <p:cNvSpPr/>
            <p:nvPr/>
          </p:nvSpPr>
          <p:spPr>
            <a:xfrm>
              <a:off x="826920" y="2276640"/>
              <a:ext cx="763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3300"/>
                  </a:solidFill>
                  <a:latin typeface="Arial"/>
                </a:rPr>
                <a:t>﹏﹏﹏﹏﹏﹏﹏﹏﹏﹏﹏</a:t>
              </a:r>
              <a:endParaRPr b="0" lang="en-US" sz="48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57" name="Rectangle 13"/>
            <p:cNvSpPr/>
            <p:nvPr/>
          </p:nvSpPr>
          <p:spPr>
            <a:xfrm>
              <a:off x="1547640" y="1773360"/>
              <a:ext cx="720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Arial"/>
                </a:rPr>
                <a:t>﹏﹏﹏﹏﹏﹏﹏﹏﹏﹏﹏﹏</a:t>
              </a:r>
              <a:endParaRPr b="0" lang="en-US" sz="40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558" name="Rectangle 14"/>
            <p:cNvSpPr/>
            <p:nvPr/>
          </p:nvSpPr>
          <p:spPr>
            <a:xfrm>
              <a:off x="826920" y="2997360"/>
              <a:ext cx="763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3300"/>
                  </a:solidFill>
                  <a:latin typeface="Arial"/>
                </a:rPr>
                <a:t>﹏﹏﹏﹏﹏﹏﹏﹏﹏﹏﹏</a:t>
              </a:r>
              <a:endParaRPr b="0" lang="en-US" sz="48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59" name="Oval 17"/>
          <p:cNvSpPr/>
          <p:nvPr/>
        </p:nvSpPr>
        <p:spPr>
          <a:xfrm flipV="1">
            <a:off x="324000" y="6597720"/>
            <a:ext cx="72720" cy="71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0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BB52-6271-46BF-BAE4-9693C876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1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8.0)">
                                      <p:cBhvr>
                                        <p:cTn id="210" dur="188467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9:11:39Z</dcterms:created>
  <dc:creator>绿色圃中小学教育网|http://www.lspjy.com; 微软用户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3:23Z</dcterms:modified>
  <cp:revision>57</cp:revision>
  <dc:subject>绿色圃中小学教育网|http://www.lspjy.com</dc:subject>
  <dc:title>绿色圃中小学教育网|http://www.lspjy.com</dc:title>
</cp:coreProperties>
</file>