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758-B571-423D-B4E5-88D59D25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22A-6B9B-4E6A-BCEA-7FAEFB21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4066F-1A7E-4434-B949-0DE9F2EB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75D98-7158-4F22-8B6A-AA6E9C8E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D3D08-DDA7-4EDC-A5E9-F2311636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6709A-C697-4A54-85F7-8F9C7B36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4941E-DE2F-4385-8BE9-EA58DEAE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BD153-EB12-44CA-BC6A-042D2D21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F1BAE-151B-4102-9A67-4F0187A3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D56B3-96DD-4F9B-B622-55FF757E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2F239-362F-4BF6-A734-6A3C32D7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BCD91-A9DF-4450-BF50-70591230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3BD-5BDF-431C-91CE-25D2925C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BE183-0D2C-4E6B-B17D-04DC0872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718FC-8723-4993-8AAA-74A428DF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C6B35-2A4A-4C8B-82A8-8173B237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A5DAE-60BA-4D7A-A545-848E6C92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D652B-0476-46F3-BE32-542A01D4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FE149-4B8F-4BA5-8192-84D97795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0028A-25F9-4E08-ACA5-C13F250B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BD407-A1B8-4970-8C7E-5DF78AC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8BF04-4F5C-4B21-B360-9B8A0E3E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A0EB4-8C17-4F50-B9C4-A7F1E513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3D7C-36AA-480B-BE42-1FDDD59D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6268D-9D25-430B-801E-423A88BC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5ED1A-C8EA-4B80-ADB2-3A7DBD59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50468-BB39-45CB-B35F-20776628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FCF21-C53B-4BC2-B33F-48210183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09B6E-39BD-4828-806A-858A4E54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FDA20-BFBE-4378-BCE4-7435AA8F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7594C-2DEA-4DEF-B1B1-E2690419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C1620-1D1E-4B42-81A3-9271B827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4A8FD-4C6D-4D36-B5B5-B4F0DA3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19A62-B357-499B-AC77-DC13EB25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F33C-F0AA-4E26-82BF-3ABF3E5C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97240-2856-440B-87B1-A4E84BB4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62EED-1E01-49A6-81FB-53CA8FC9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84445-EB67-4DDE-8369-E66B05FD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443C-FE80-472E-BD9E-134FE61B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F22C-0724-44EB-94C5-137D94D9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B074-FF63-4E8D-AB5B-263F6920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18AE-AF11-4A03-BCD6-1987582F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B704-B8FB-491F-8FE9-692BB048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2455-C2A5-4EAB-9572-0F4EC52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C38-9AE6-4E6F-8544-000E38CD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85DB-22DE-4AD9-BA2B-49BDD35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958D-2A1D-401E-A6C4-28894FD7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9D90-3327-40CB-89AB-257370E3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7636-37C2-425A-8E14-675A08B3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E383-4895-4CE9-A0F6-88CF208A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E75C7-51A5-420A-A55D-0FC530CE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9925-4F06-4705-8EB0-8A8F58BF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22FB-CA3C-43BB-90A1-A7F45E92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5878-C38B-4F75-A614-52A505C4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F6FED-8458-402F-9C24-14F07BA2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72B-C694-4F7A-966E-F1154890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4FE90-2EF9-49F4-8E5C-08E3C5D0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4AC1B-A37F-4B60-A4F5-F34D3955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DB3BB-5C14-42EB-B658-5FC52935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E51FC-8B2B-4595-BA2D-530BBC56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2BF5-938C-4190-9A07-FA25307C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D820-D487-4171-8E32-F772F00B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99D8-8130-4777-8721-AFC3AD2A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F2513-80E9-4AD7-8D8A-0CA77444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6C53-F642-46A3-9923-A48533B5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E33BA-731F-48A8-941A-4E3F1217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CE7-8BBE-4AFC-9BD9-C79A7831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2BC7-7DB7-4129-BB8E-FBD4869B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D1357-0305-43E7-B687-DEC1EB27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2CD9A-4CB4-4E0B-8C94-96DE95E9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EF31A-D1C3-46C6-90A5-254181E3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5034C-306B-4C3D-95E0-07A3C7B4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A1B03-748B-42F0-BCE3-7ED084D5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50C03-C681-48D4-A163-6B3F6555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89CB4-E009-466D-99AD-2DAD58A2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738BC-405F-4870-93E2-020146D2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22DB5-DD2B-4DD6-94B6-9C48ABAF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3346-429E-4B54-8C71-E8A17B46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0546F-288A-4893-B424-EF95AAF0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31CE8-F233-4B48-A50E-6A796F89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04BEF-853A-4C00-A6AD-F075ABFC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26C23-AFE7-4AE0-A874-DBD4E887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0BCB9-71E4-4128-890B-C3F30A54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EF23-6704-4BEF-BE19-2FBF0A2B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B4D28-4794-4B97-8459-C8BA87F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F2171-4BFE-4436-9041-1B23DE87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5B9C5-D88F-41FE-9E3E-AF99D2A4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25B96-8F13-45A8-B9D7-26A7D6BB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E1A-6CFA-478A-9E63-BC9DD31E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4E8D3-8351-4F92-B95C-87D9912F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C9E99-FB00-4594-B4C4-C025FED2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0B0F1-FB06-4CF0-B0D9-298CBBD3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708AB-9027-4165-BC7B-526188AC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AA7C6-7DFD-4C0E-BACD-BF73E2B6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EFFA4-15ED-4D54-9490-E105AD01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C2481-252A-40BF-BF02-744BBD87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B46AA-F019-4320-9C8F-E2EEB378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57548-7597-4F9E-A09A-5CC93852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129F8-8AB1-491E-9554-04086380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436-95CB-4B01-87F8-76FA8EBF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77E61-5D05-4AD6-B36E-267C0DC2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4098F-4847-4A37-9FAB-6F2BFD6B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33EED-14A3-43F4-B190-5B8F79B0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5208E-006A-4690-9E66-381D0E79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90D87-35A5-4B2B-A23F-F50B4BFF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8CE59-3D07-425A-BA4A-F7B4126A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0286A-9E47-44A8-A781-AD5DE20F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AEA1E-63DB-4FEF-B2F9-771F6E62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B126C-634F-4082-993D-0D2A65EE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4A303-4D4B-476D-8DCF-57053214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16C8-1B79-484E-8A77-947B08AC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2FDE8-5A45-45FB-8CB4-45EF43D0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C1C89-D99F-4964-841B-218574FA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CA01B-931F-4BE6-BB23-8DBB6EBC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E468F-C615-4E82-8EC7-06D950D4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50B4A-4E4D-43FC-83A6-1A9989A4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3BD51-BA25-4FCF-A2B9-3B5A84D0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587E3-6E88-492D-9244-BB495874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4C702-0EFC-4C4A-8098-F7281E69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52FAD-C72A-459F-8F5E-3B4F8B8F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C6633-048A-4B7B-AB69-0CA73E19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7B0-8060-40E8-9F38-691AB528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6FC2B-27E6-409D-8655-76FDC996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05E14-AD40-41EF-BE8B-72DC73CE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BD480-8DD5-4FE1-8D4E-35A66A35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DE347-7543-4BDE-AE60-6975C17A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1FEC5-F0DF-4CD1-84B4-F635094F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6924B-0F05-420E-8E88-0FD71143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19411-63CD-4FFC-ABE0-701D3A75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E9AE6-C04C-4A0E-BF34-FFA4E6D3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DBEA5-DF88-4410-AB01-86B05FF9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EB853-763A-4DF6-A23C-751BDB68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94BA-D6AD-4A26-ABEF-75F7C53AD0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F221-D9DA-423C-81F7-A645F7B88B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A557-22C6-4EE9-B329-013DFC2C10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522E-9E4F-4607-9EF9-ACE8DFDBEB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8CE8-1545-4B03-9D49-1C9E874BE1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142D-34CC-4070-9BC5-7ABD309906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2B63-7E36-4EFE-BE82-8AB4DFAE43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CB0D-1C5F-4D91-9265-14A9C70A2D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CC6F-E7FE-43B9-942B-127DC82CC5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0239-6927-461C-AC45-1FBF74BF0B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5C2B-BED1-454C-8291-791B1321AB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801009601&amp;tn=baiduimagedetail&amp;word=&#34763;&#34752;&amp;in=57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95952100&amp;tn=baiduimagedetail&amp;word=&#34763;&#34752;&amp;in=8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33548953&amp;tn=baiduimagedetail&amp;word=&#34763;&#34752;&amp;in=110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蟋蟀"/>
          <p:cNvPicPr/>
          <p:nvPr/>
        </p:nvPicPr>
        <p:blipFill>
          <a:blip r:embed="rId1"/>
          <a:stretch/>
        </p:blipFill>
        <p:spPr>
          <a:xfrm>
            <a:off x="3276720" y="476280"/>
            <a:ext cx="5435640" cy="406548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250920" y="486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蟋蟀亦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趋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蛐蛐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910A-3339-427B-A9E2-1421A116FD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6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3"/>
          <p:cNvSpPr/>
          <p:nvPr/>
        </p:nvSpPr>
        <p:spPr>
          <a:xfrm>
            <a:off x="684360" y="765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都是蟋蟀住宅的特点。这么多的特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能不能用一句话加以概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这些特点介绍出来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试一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684360" y="3068640"/>
            <a:ext cx="1676160" cy="533520"/>
          </a:xfrm>
          <a:prstGeom prst="wedgeRoundRectCallout">
            <a:avLst>
              <a:gd name="adj1" fmla="val 48675"/>
              <a:gd name="adj2" fmla="val 96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5640" y="306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03650"/>
                </a:solidFill>
                <a:latin typeface="Times New Roman"/>
                <a:ea typeface="黑体"/>
              </a:rPr>
              <a:t>学习引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611280" y="3860640"/>
            <a:ext cx="7696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关联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蟋蟀住宅的特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仅朝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弯曲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且平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另一种说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蟋蟀住宅的特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朝阳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弯曲又平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9CD6-6600-4046-B79A-0D0A653FB3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WordArt 2"/>
          <p:cNvSpPr txBox="1"/>
          <p:nvPr/>
        </p:nvSpPr>
        <p:spPr>
          <a:xfrm>
            <a:off x="3924360" y="692280"/>
            <a:ext cx="165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研读课文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611280" y="1484280"/>
            <a:ext cx="82072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读课文，说说从哪些地方看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蟋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肯随遇而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蟋蟀的住宅为什么可以算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伟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工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5D62-68CE-4CF2-9B3C-FF2229042B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3"/>
          <p:cNvSpPr/>
          <p:nvPr/>
        </p:nvSpPr>
        <p:spPr>
          <a:xfrm>
            <a:off x="2124000" y="62064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03650"/>
                </a:solidFill>
                <a:latin typeface="Times New Roman"/>
                <a:ea typeface="黑体"/>
              </a:rPr>
              <a:t>看图结合课文连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638680" y="1709640"/>
            <a:ext cx="2210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钳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2050920" y="4149720"/>
            <a:ext cx="17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03650"/>
                </a:solidFill>
                <a:latin typeface="Times New Roman"/>
                <a:ea typeface="黑体"/>
              </a:rPr>
              <a:t>蟋蟀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"/>
          <p:cNvSpPr/>
          <p:nvPr/>
        </p:nvSpPr>
        <p:spPr>
          <a:xfrm>
            <a:off x="1116000" y="48690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工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钳子；后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9" descr="u=2900834488,1292793597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484280"/>
            <a:ext cx="1828800" cy="2590920"/>
          </a:xfrm>
          <a:prstGeom prst="rect">
            <a:avLst/>
          </a:prstGeom>
          <a:ln w="0">
            <a:noFill/>
          </a:ln>
        </p:spPr>
      </p:pic>
      <p:sp>
        <p:nvSpPr>
          <p:cNvPr id="517" name="Line 21"/>
          <p:cNvSpPr/>
          <p:nvPr/>
        </p:nvSpPr>
        <p:spPr>
          <a:xfrm>
            <a:off x="3581280" y="2438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22"/>
          <p:cNvSpPr/>
          <p:nvPr/>
        </p:nvSpPr>
        <p:spPr>
          <a:xfrm flipV="1">
            <a:off x="3733920" y="1980720"/>
            <a:ext cx="1904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23"/>
          <p:cNvSpPr/>
          <p:nvPr/>
        </p:nvSpPr>
        <p:spPr>
          <a:xfrm>
            <a:off x="3048120" y="35812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27"/>
          <p:cNvSpPr/>
          <p:nvPr/>
        </p:nvSpPr>
        <p:spPr>
          <a:xfrm flipV="1">
            <a:off x="3352680" y="29718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3379-9D0D-44A5-949E-37384D38C6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1032"/>
          <p:cNvSpPr/>
          <p:nvPr/>
        </p:nvSpPr>
        <p:spPr>
          <a:xfrm>
            <a:off x="7617240" y="1341360"/>
            <a:ext cx="11552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564b2"/>
                </a:solidFill>
                <a:latin typeface="Times New Roman"/>
                <a:ea typeface="黑体"/>
              </a:rPr>
              <a:t>关于蟋蟀的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036" descr="u=3812733218,3241291494&amp;gp=0">
            <a:hlinkClick r:id="rId1"/>
          </p:cNvPr>
          <p:cNvPicPr/>
          <p:nvPr/>
        </p:nvPicPr>
        <p:blipFill>
          <a:blip r:embed="rId2"/>
          <a:srcRect l="0" t="0" r="0" b="16236"/>
          <a:stretch/>
        </p:blipFill>
        <p:spPr>
          <a:xfrm>
            <a:off x="2987640" y="3284640"/>
            <a:ext cx="243828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46" descr="u=4223706826,2635199380&amp;gp=0"/>
          <p:cNvPicPr/>
          <p:nvPr/>
        </p:nvPicPr>
        <p:blipFill>
          <a:blip r:embed="rId3"/>
          <a:stretch/>
        </p:blipFill>
        <p:spPr>
          <a:xfrm>
            <a:off x="5651640" y="105264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48" descr="u=3872061383,2591474950&amp;gp=1"/>
          <p:cNvPicPr/>
          <p:nvPr/>
        </p:nvPicPr>
        <p:blipFill>
          <a:blip r:embed="rId4"/>
          <a:stretch/>
        </p:blipFill>
        <p:spPr>
          <a:xfrm>
            <a:off x="2843280" y="981000"/>
            <a:ext cx="2514600" cy="19893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050" descr="u=3377930512,2702016307&amp;gp=2"/>
          <p:cNvPicPr/>
          <p:nvPr/>
        </p:nvPicPr>
        <p:blipFill>
          <a:blip r:embed="rId5"/>
          <a:stretch/>
        </p:blipFill>
        <p:spPr>
          <a:xfrm>
            <a:off x="5651640" y="3357720"/>
            <a:ext cx="2286000" cy="2492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54" descr="u=897708136,4169621804&amp;gp=3"/>
          <p:cNvPicPr/>
          <p:nvPr/>
        </p:nvPicPr>
        <p:blipFill>
          <a:blip r:embed="rId6"/>
          <a:srcRect l="6256" t="7289" r="5548" b="9125"/>
          <a:stretch/>
        </p:blipFill>
        <p:spPr>
          <a:xfrm>
            <a:off x="395280" y="981000"/>
            <a:ext cx="2376360" cy="195120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1055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059" descr="u=1236010026,414480098&amp;gp=3"/>
          <p:cNvPicPr/>
          <p:nvPr/>
        </p:nvPicPr>
        <p:blipFill>
          <a:blip r:embed="rId7"/>
          <a:stretch/>
        </p:blipFill>
        <p:spPr>
          <a:xfrm>
            <a:off x="468360" y="3284640"/>
            <a:ext cx="2286000" cy="2509560"/>
          </a:xfrm>
          <a:prstGeom prst="rect">
            <a:avLst/>
          </a:prstGeom>
          <a:ln w="0">
            <a:noFill/>
          </a:ln>
        </p:spPr>
      </p:pic>
      <p:sp>
        <p:nvSpPr>
          <p:cNvPr id="531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581C-4499-4DE4-BB0D-E31FB6E8D1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2"/>
          <p:cNvSpPr txBox="1"/>
          <p:nvPr/>
        </p:nvSpPr>
        <p:spPr>
          <a:xfrm>
            <a:off x="3924360" y="692280"/>
            <a:ext cx="165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研读课文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11280" y="1341360"/>
            <a:ext cx="8207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中的许多地方把蟋蟀当作人来写，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周围很安静的时候，蟋蟀就在平台上弹琴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2607bf"/>
                </a:solidFill>
                <a:latin typeface="楷体_GB2312"/>
                <a:ea typeface="楷体_GB2312"/>
              </a:rPr>
              <a:t>请同学们找一找这样的句子，抄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0488-C311-443C-9BC5-101C46F0EE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2C8D-3A0D-4683-8177-646682CC3D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8"/>
          <p:cNvSpPr/>
          <p:nvPr/>
        </p:nvSpPr>
        <p:spPr>
          <a:xfrm>
            <a:off x="5318280" y="4267080"/>
            <a:ext cx="549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9"/>
          <p:cNvSpPr/>
          <p:nvPr/>
        </p:nvSpPr>
        <p:spPr>
          <a:xfrm>
            <a:off x="2590920" y="3048120"/>
            <a:ext cx="54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2193840" y="3886200"/>
            <a:ext cx="549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EA1D-993E-4850-B5D7-C9EE354E7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W020100902384622855999"/>
          <p:cNvPicPr/>
          <p:nvPr/>
        </p:nvPicPr>
        <p:blipFill>
          <a:blip r:embed="rId1"/>
          <a:stretch/>
        </p:blipFill>
        <p:spPr>
          <a:xfrm>
            <a:off x="1187280" y="692280"/>
            <a:ext cx="6913800" cy="5559120"/>
          </a:xfrm>
          <a:prstGeom prst="rect">
            <a:avLst/>
          </a:prstGeom>
          <a:ln w="0">
            <a:noFill/>
          </a:ln>
        </p:spPr>
      </p:pic>
      <p:sp>
        <p:nvSpPr>
          <p:cNvPr id="46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E2AD-49D7-4496-99B4-E6CB1A8578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700360" y="90756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阅读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读课文，要求读准字音，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读边想：蟋蟀的住宅是什么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99D8-BB68-4294-AA47-1A626832E0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5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4"/>
          <p:cNvSpPr txBox="1"/>
          <p:nvPr/>
        </p:nvSpPr>
        <p:spPr>
          <a:xfrm>
            <a:off x="3564000" y="836640"/>
            <a:ext cx="201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学习生字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71" name="Picture 5" descr="W020100902384623323360"/>
          <p:cNvPicPr/>
          <p:nvPr/>
        </p:nvPicPr>
        <p:blipFill>
          <a:blip r:embed="rId1"/>
          <a:stretch/>
        </p:blipFill>
        <p:spPr>
          <a:xfrm>
            <a:off x="539640" y="1557360"/>
            <a:ext cx="8066160" cy="4273560"/>
          </a:xfrm>
          <a:prstGeom prst="rect">
            <a:avLst/>
          </a:prstGeom>
          <a:ln w="0">
            <a:noFill/>
          </a:ln>
        </p:spPr>
      </p:pic>
      <p:sp>
        <p:nvSpPr>
          <p:cNvPr id="47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866F-9C56-442C-932A-7FEC14517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2"/>
          <p:cNvSpPr/>
          <p:nvPr/>
        </p:nvSpPr>
        <p:spPr>
          <a:xfrm>
            <a:off x="395280" y="1700280"/>
            <a:ext cx="8496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慎重  选择  洞穴  隧道  挖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斜  柔弱  隐蔽  隐藏  搜索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敞  倾斜  平坦  住址  扒土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敞  毫不可惜  随遇而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14"/>
          <p:cNvSpPr txBox="1"/>
          <p:nvPr/>
        </p:nvSpPr>
        <p:spPr>
          <a:xfrm>
            <a:off x="3564000" y="836640"/>
            <a:ext cx="201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学习词语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F079-3CEF-4267-ADA7-5C6D944000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W020100902384622974"/>
          <p:cNvPicPr/>
          <p:nvPr/>
        </p:nvPicPr>
        <p:blipFill>
          <a:blip r:embed="rId1"/>
          <a:stretch/>
        </p:blipFill>
        <p:spPr>
          <a:xfrm>
            <a:off x="468360" y="1341360"/>
            <a:ext cx="8351640" cy="4564080"/>
          </a:xfrm>
          <a:prstGeom prst="rect">
            <a:avLst/>
          </a:prstGeom>
          <a:ln w="0">
            <a:noFill/>
          </a:ln>
        </p:spPr>
      </p:pic>
      <p:sp>
        <p:nvSpPr>
          <p:cNvPr id="479" name="WordArt 3"/>
          <p:cNvSpPr txBox="1"/>
          <p:nvPr/>
        </p:nvSpPr>
        <p:spPr>
          <a:xfrm>
            <a:off x="3924360" y="692280"/>
            <a:ext cx="165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研读课文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8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EA1F-D801-46F5-9B7C-C5176A57E6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5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W0201009023623795167"/>
          <p:cNvPicPr/>
          <p:nvPr/>
        </p:nvPicPr>
        <p:blipFill>
          <a:blip r:embed="rId1"/>
          <a:stretch/>
        </p:blipFill>
        <p:spPr>
          <a:xfrm>
            <a:off x="324000" y="1341360"/>
            <a:ext cx="8485200" cy="3049560"/>
          </a:xfrm>
          <a:prstGeom prst="rect">
            <a:avLst/>
          </a:prstGeom>
          <a:ln w="0">
            <a:noFill/>
          </a:ln>
        </p:spPr>
      </p:pic>
      <p:sp>
        <p:nvSpPr>
          <p:cNvPr id="48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1856-B292-4311-8FC4-17C750636C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2411280" y="4762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03650"/>
                </a:solidFill>
                <a:latin typeface="Times New Roman"/>
                <a:ea typeface="黑体"/>
              </a:rPr>
              <a:t>蟋蟀住宅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1187280" y="3933720"/>
            <a:ext cx="446436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03650"/>
                </a:solidFill>
                <a:latin typeface="楷体_GB2312"/>
                <a:ea typeface="楷体_GB2312"/>
              </a:rPr>
              <a:t>住宅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朝阳  干燥  隐蔽  弯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滑  清洁  简朴  平整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u=4282426013,1054173668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3933720"/>
            <a:ext cx="2590920" cy="213372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8"/>
          <p:cNvSpPr/>
          <p:nvPr/>
        </p:nvSpPr>
        <p:spPr>
          <a:xfrm>
            <a:off x="1763640" y="1413000"/>
            <a:ext cx="2362320" cy="23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1954080" y="2819520"/>
            <a:ext cx="427320" cy="655560"/>
          </a:xfrm>
          <a:custGeom>
            <a:avLst/>
            <a:gdLst>
              <a:gd name="textAreaLeft" fmla="*/ 0 w 427320"/>
              <a:gd name="textAreaRight" fmla="*/ 427320 w 42732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269" h="413">
                <a:moveTo>
                  <a:pt x="0" y="413"/>
                </a:moveTo>
                <a:cubicBezTo>
                  <a:pt x="48" y="381"/>
                  <a:pt x="66" y="328"/>
                  <a:pt x="106" y="288"/>
                </a:cubicBezTo>
                <a:cubicBezTo>
                  <a:pt x="114" y="280"/>
                  <a:pt x="126" y="276"/>
                  <a:pt x="135" y="269"/>
                </a:cubicBezTo>
                <a:cubicBezTo>
                  <a:pt x="145" y="260"/>
                  <a:pt x="154" y="250"/>
                  <a:pt x="163" y="240"/>
                </a:cubicBezTo>
                <a:cubicBezTo>
                  <a:pt x="181" y="188"/>
                  <a:pt x="161" y="232"/>
                  <a:pt x="202" y="183"/>
                </a:cubicBezTo>
                <a:cubicBezTo>
                  <a:pt x="224" y="157"/>
                  <a:pt x="231" y="124"/>
                  <a:pt x="250" y="96"/>
                </a:cubicBezTo>
                <a:cubicBezTo>
                  <a:pt x="259" y="5"/>
                  <a:pt x="239" y="30"/>
                  <a:pt x="26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14"/>
          <p:cNvSpPr/>
          <p:nvPr/>
        </p:nvSpPr>
        <p:spPr>
          <a:xfrm>
            <a:off x="2487600" y="2438280"/>
            <a:ext cx="716040" cy="211320"/>
          </a:xfrm>
          <a:custGeom>
            <a:avLst/>
            <a:gdLst>
              <a:gd name="textAreaLeft" fmla="*/ 0 w 716040"/>
              <a:gd name="textAreaRight" fmla="*/ 716040 w 71604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451" h="133">
                <a:moveTo>
                  <a:pt x="0" y="118"/>
                </a:moveTo>
                <a:cubicBezTo>
                  <a:pt x="123" y="110"/>
                  <a:pt x="136" y="133"/>
                  <a:pt x="202" y="70"/>
                </a:cubicBezTo>
                <a:cubicBezTo>
                  <a:pt x="224" y="0"/>
                  <a:pt x="264" y="24"/>
                  <a:pt x="336" y="31"/>
                </a:cubicBezTo>
                <a:cubicBezTo>
                  <a:pt x="346" y="34"/>
                  <a:pt x="355" y="43"/>
                  <a:pt x="365" y="41"/>
                </a:cubicBezTo>
                <a:cubicBezTo>
                  <a:pt x="376" y="39"/>
                  <a:pt x="384" y="27"/>
                  <a:pt x="394" y="22"/>
                </a:cubicBezTo>
                <a:cubicBezTo>
                  <a:pt x="420" y="9"/>
                  <a:pt x="423" y="12"/>
                  <a:pt x="451" y="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5"/>
          <p:cNvSpPr/>
          <p:nvPr/>
        </p:nvSpPr>
        <p:spPr>
          <a:xfrm>
            <a:off x="2335320" y="2666880"/>
            <a:ext cx="807840" cy="185760"/>
          </a:xfrm>
          <a:custGeom>
            <a:avLst/>
            <a:gdLst>
              <a:gd name="textAreaLeft" fmla="*/ 0 w 807840"/>
              <a:gd name="textAreaRight" fmla="*/ 808200 w 8078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509" h="117">
                <a:moveTo>
                  <a:pt x="0" y="115"/>
                </a:moveTo>
                <a:cubicBezTo>
                  <a:pt x="74" y="112"/>
                  <a:pt x="148" y="117"/>
                  <a:pt x="221" y="105"/>
                </a:cubicBezTo>
                <a:cubicBezTo>
                  <a:pt x="243" y="101"/>
                  <a:pt x="249" y="67"/>
                  <a:pt x="269" y="57"/>
                </a:cubicBezTo>
                <a:cubicBezTo>
                  <a:pt x="305" y="39"/>
                  <a:pt x="403" y="39"/>
                  <a:pt x="413" y="38"/>
                </a:cubicBezTo>
                <a:cubicBezTo>
                  <a:pt x="447" y="27"/>
                  <a:pt x="472" y="0"/>
                  <a:pt x="50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7"/>
          <p:cNvSpPr/>
          <p:nvPr/>
        </p:nvSpPr>
        <p:spPr>
          <a:xfrm>
            <a:off x="2411280" y="2133720"/>
            <a:ext cx="1513080" cy="139680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953" h="880">
                <a:moveTo>
                  <a:pt x="0" y="323"/>
                </a:moveTo>
                <a:cubicBezTo>
                  <a:pt x="29" y="279"/>
                  <a:pt x="34" y="300"/>
                  <a:pt x="67" y="265"/>
                </a:cubicBezTo>
                <a:cubicBezTo>
                  <a:pt x="70" y="256"/>
                  <a:pt x="70" y="244"/>
                  <a:pt x="77" y="237"/>
                </a:cubicBezTo>
                <a:cubicBezTo>
                  <a:pt x="84" y="230"/>
                  <a:pt x="100" y="235"/>
                  <a:pt x="106" y="227"/>
                </a:cubicBezTo>
                <a:cubicBezTo>
                  <a:pt x="144" y="174"/>
                  <a:pt x="118" y="71"/>
                  <a:pt x="182" y="35"/>
                </a:cubicBezTo>
                <a:cubicBezTo>
                  <a:pt x="200" y="25"/>
                  <a:pt x="221" y="22"/>
                  <a:pt x="240" y="16"/>
                </a:cubicBezTo>
                <a:cubicBezTo>
                  <a:pt x="283" y="2"/>
                  <a:pt x="329" y="9"/>
                  <a:pt x="374" y="6"/>
                </a:cubicBezTo>
                <a:cubicBezTo>
                  <a:pt x="455" y="20"/>
                  <a:pt x="420" y="0"/>
                  <a:pt x="470" y="73"/>
                </a:cubicBezTo>
                <a:cubicBezTo>
                  <a:pt x="477" y="83"/>
                  <a:pt x="483" y="92"/>
                  <a:pt x="490" y="102"/>
                </a:cubicBezTo>
                <a:cubicBezTo>
                  <a:pt x="496" y="112"/>
                  <a:pt x="509" y="131"/>
                  <a:pt x="509" y="131"/>
                </a:cubicBezTo>
                <a:cubicBezTo>
                  <a:pt x="523" y="175"/>
                  <a:pt x="562" y="204"/>
                  <a:pt x="576" y="246"/>
                </a:cubicBezTo>
                <a:cubicBezTo>
                  <a:pt x="588" y="281"/>
                  <a:pt x="593" y="311"/>
                  <a:pt x="614" y="342"/>
                </a:cubicBezTo>
                <a:cubicBezTo>
                  <a:pt x="630" y="403"/>
                  <a:pt x="615" y="372"/>
                  <a:pt x="672" y="429"/>
                </a:cubicBezTo>
                <a:cubicBezTo>
                  <a:pt x="716" y="473"/>
                  <a:pt x="669" y="439"/>
                  <a:pt x="701" y="486"/>
                </a:cubicBezTo>
                <a:cubicBezTo>
                  <a:pt x="720" y="514"/>
                  <a:pt x="750" y="544"/>
                  <a:pt x="778" y="563"/>
                </a:cubicBezTo>
                <a:cubicBezTo>
                  <a:pt x="792" y="607"/>
                  <a:pt x="820" y="631"/>
                  <a:pt x="845" y="669"/>
                </a:cubicBezTo>
                <a:cubicBezTo>
                  <a:pt x="848" y="682"/>
                  <a:pt x="855" y="694"/>
                  <a:pt x="854" y="707"/>
                </a:cubicBezTo>
                <a:cubicBezTo>
                  <a:pt x="852" y="727"/>
                  <a:pt x="835" y="765"/>
                  <a:pt x="835" y="765"/>
                </a:cubicBezTo>
                <a:cubicBezTo>
                  <a:pt x="861" y="803"/>
                  <a:pt x="882" y="837"/>
                  <a:pt x="922" y="861"/>
                </a:cubicBezTo>
                <a:cubicBezTo>
                  <a:pt x="953" y="880"/>
                  <a:pt x="950" y="857"/>
                  <a:pt x="950" y="88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4"/>
          <p:cNvSpPr/>
          <p:nvPr/>
        </p:nvSpPr>
        <p:spPr>
          <a:xfrm>
            <a:off x="5437080" y="1341360"/>
            <a:ext cx="2362320" cy="2362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30"/>
          <p:cNvSpPr/>
          <p:nvPr/>
        </p:nvSpPr>
        <p:spPr>
          <a:xfrm>
            <a:off x="6300720" y="2205000"/>
            <a:ext cx="1355760" cy="1468440"/>
          </a:xfrm>
          <a:custGeom>
            <a:avLst/>
            <a:gdLst>
              <a:gd name="textAreaLeft" fmla="*/ 0 w 1355760"/>
              <a:gd name="textAreaRight" fmla="*/ 1356120 w 135576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854" h="925">
                <a:moveTo>
                  <a:pt x="0" y="244"/>
                </a:moveTo>
                <a:cubicBezTo>
                  <a:pt x="50" y="211"/>
                  <a:pt x="21" y="204"/>
                  <a:pt x="58" y="167"/>
                </a:cubicBezTo>
                <a:cubicBezTo>
                  <a:pt x="83" y="142"/>
                  <a:pt x="120" y="110"/>
                  <a:pt x="154" y="100"/>
                </a:cubicBezTo>
                <a:cubicBezTo>
                  <a:pt x="182" y="81"/>
                  <a:pt x="198" y="62"/>
                  <a:pt x="230" y="52"/>
                </a:cubicBezTo>
                <a:cubicBezTo>
                  <a:pt x="254" y="30"/>
                  <a:pt x="280" y="22"/>
                  <a:pt x="307" y="4"/>
                </a:cubicBezTo>
                <a:cubicBezTo>
                  <a:pt x="371" y="7"/>
                  <a:pt x="436" y="0"/>
                  <a:pt x="499" y="13"/>
                </a:cubicBezTo>
                <a:cubicBezTo>
                  <a:pt x="517" y="17"/>
                  <a:pt x="538" y="52"/>
                  <a:pt x="538" y="52"/>
                </a:cubicBezTo>
                <a:cubicBezTo>
                  <a:pt x="570" y="155"/>
                  <a:pt x="595" y="290"/>
                  <a:pt x="653" y="378"/>
                </a:cubicBezTo>
                <a:cubicBezTo>
                  <a:pt x="658" y="404"/>
                  <a:pt x="668" y="429"/>
                  <a:pt x="672" y="455"/>
                </a:cubicBezTo>
                <a:cubicBezTo>
                  <a:pt x="680" y="509"/>
                  <a:pt x="691" y="618"/>
                  <a:pt x="691" y="618"/>
                </a:cubicBezTo>
                <a:cubicBezTo>
                  <a:pt x="678" y="661"/>
                  <a:pt x="697" y="692"/>
                  <a:pt x="710" y="733"/>
                </a:cubicBezTo>
                <a:cubicBezTo>
                  <a:pt x="717" y="755"/>
                  <a:pt x="742" y="765"/>
                  <a:pt x="758" y="781"/>
                </a:cubicBezTo>
                <a:cubicBezTo>
                  <a:pt x="768" y="791"/>
                  <a:pt x="787" y="810"/>
                  <a:pt x="787" y="810"/>
                </a:cubicBezTo>
                <a:cubicBezTo>
                  <a:pt x="795" y="832"/>
                  <a:pt x="796" y="856"/>
                  <a:pt x="806" y="877"/>
                </a:cubicBezTo>
                <a:cubicBezTo>
                  <a:pt x="817" y="899"/>
                  <a:pt x="854" y="901"/>
                  <a:pt x="854" y="92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31"/>
          <p:cNvSpPr/>
          <p:nvPr/>
        </p:nvSpPr>
        <p:spPr>
          <a:xfrm>
            <a:off x="5651640" y="2997360"/>
            <a:ext cx="411120" cy="655560"/>
          </a:xfrm>
          <a:custGeom>
            <a:avLst/>
            <a:gdLst>
              <a:gd name="textAreaLeft" fmla="*/ 0 w 411120"/>
              <a:gd name="textAreaRight" fmla="*/ 411480 w 41112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259" h="413">
                <a:moveTo>
                  <a:pt x="259" y="0"/>
                </a:moveTo>
                <a:cubicBezTo>
                  <a:pt x="233" y="76"/>
                  <a:pt x="178" y="137"/>
                  <a:pt x="134" y="202"/>
                </a:cubicBezTo>
                <a:cubicBezTo>
                  <a:pt x="121" y="221"/>
                  <a:pt x="109" y="241"/>
                  <a:pt x="96" y="260"/>
                </a:cubicBezTo>
                <a:cubicBezTo>
                  <a:pt x="90" y="269"/>
                  <a:pt x="77" y="288"/>
                  <a:pt x="77" y="288"/>
                </a:cubicBezTo>
                <a:cubicBezTo>
                  <a:pt x="74" y="314"/>
                  <a:pt x="76" y="341"/>
                  <a:pt x="67" y="365"/>
                </a:cubicBezTo>
                <a:cubicBezTo>
                  <a:pt x="54" y="400"/>
                  <a:pt x="21" y="392"/>
                  <a:pt x="0" y="413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2"/>
          <p:cNvSpPr/>
          <p:nvPr/>
        </p:nvSpPr>
        <p:spPr>
          <a:xfrm>
            <a:off x="5580000" y="2565360"/>
            <a:ext cx="914400" cy="457200"/>
          </a:xfrm>
          <a:prstGeom prst="irregularSeal1">
            <a:avLst/>
          </a:prstGeom>
          <a:solidFill>
            <a:srgbClr val="637e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3"/>
          <p:cNvSpPr/>
          <p:nvPr/>
        </p:nvSpPr>
        <p:spPr>
          <a:xfrm>
            <a:off x="5877000" y="1841400"/>
            <a:ext cx="380880" cy="381240"/>
          </a:xfrm>
          <a:prstGeom prst="flowChartConnector">
            <a:avLst/>
          </a:prstGeom>
          <a:solidFill>
            <a:srgbClr val="d036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>
            <a:off x="4284720" y="25653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B0FA-653B-4E5C-8657-664F9E72D8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6:31:37Z</dcterms:created>
  <dc:creator>绿色圃中小学教育网|http://www.lspjy.com; 谭卫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6:26Z</dcterms:modified>
  <cp:revision>30</cp:revision>
  <dc:subject>绿色圃中小学教育网|http://www.lspjy.com</dc:subject>
  <dc:title>绿色圃中小学教育网|http://www.lspjy.com</dc:title>
</cp:coreProperties>
</file>