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303C-CA46-4070-A4DF-C903FA3F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AA5B-E78C-4E60-A2E6-E56DB1F1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2E262-087A-4F38-868F-64AB2DDD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0DA00-FB70-4B23-80B6-E402EB45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E4070-941A-4669-89C1-D6471757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181D0-11AF-44C8-866D-D1571362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90BD8-4B7A-46C7-B4E0-DC5C05A6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FA375-D1FA-4B7B-9475-008DC174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844D0-29B8-4ED9-8E73-E17B93C2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6CDBF-2CC0-4C42-96EE-7D7FEE7E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8238E-28CF-4B18-AA02-E8C554E6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5DB3E-8DE4-448F-88E6-7EFB4B7F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3BE-BC47-4FB5-9FFE-6D6C7B4E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F95A8-2846-4514-92A6-63173E61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29D79-A83C-441E-ADF6-174213FC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1523E-9749-4040-B7E2-43EB70AB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DC7D0-94FA-46BE-BD1C-F7FACE73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5043E-76EE-40B0-9B7A-C0314754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333CE-8534-47F8-BD70-723C0E02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3970F-5238-4C93-976E-4588B5FB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0DB5C-7123-4D99-8117-798B5E37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DE28D-F0DC-4E7A-BFC6-58E9CD4D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A8BA4-3934-4198-B60F-93AB0D8D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F6E-080E-4810-B33A-4903510F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EBC61-53CC-43C9-BA31-0A9EE2FD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D7DE7-99AF-4CAD-BEC2-00F3AC05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812AF-8679-4286-B398-63E3553D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95062-4F3F-460D-94AD-3C8E3168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BEA38-4413-43C5-A7B0-2F269127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7682D-CC7B-4F5A-BAD3-94B40097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3E010-B0EB-4036-A4A4-C0A14965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DC37D-CF60-40C2-9FBF-2A6D98E5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A62AF-EC9B-447E-A0AB-9ABB5A2A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C692F-B0FF-4AC5-BD11-BE1FE885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06F1-D89C-47C3-8326-55F1AC80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504AD-3714-47C1-B6C7-1001724D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A7519-C8B2-454E-9929-172A3457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90735-8E5E-4591-80E5-E5AF7623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4523-2B82-41AC-B8F4-B1E6E9B6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46E3-F98A-44E4-8B47-DEA06AEB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4E6E-288C-44C0-9290-0E52A394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FCA4-26FF-4F4A-9EE1-BC076313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2396-878A-4222-B4AA-E78918FF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8626-9FF6-4C42-8EB7-64813AE1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4DCD-3FE3-4580-9D78-DE11E77B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9BF6-B44D-4A3C-9563-6E2387F9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158B-3FA4-4095-9BE5-3D7AA5A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9205-C67F-4A20-A721-74B133AA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8D30-9513-4A8D-9E42-73E8E95D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87FD-B473-4436-A209-47495A85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6086F-3278-46F5-898F-9FCF4C2C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FD23A-E7C1-4E18-AAEA-FF422819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F9284-8625-4B82-999C-6B99B7FD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C3AC4-DDD6-4F44-B68B-5FA5374A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B4F26-22F9-4646-838B-E557C827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884-B954-4070-91B3-AB37E78B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C0CD7-8C48-4122-8D9C-285EDD5F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D4F76-5F5C-49A5-9F13-69151BEE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2DB9F-1A22-4091-8DEB-DDC69BC9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D8509-0544-49DD-819A-96357630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EF98-85BA-492E-B92B-CDBF9C2A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69EE-787A-4993-AF07-77EEDDFB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6832C-2E59-49D9-BA77-626772BA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E1DE9-AA45-4253-A980-7FB365B9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5893D-4A00-46C1-9758-BFC3293F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E1EA4-ADAE-4A49-B1BD-2CB53FD6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E87-9943-469D-A3AB-7D5CDC14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80B6E-8495-443F-8660-228E8BCE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EA57-EC25-4FB2-BFB1-C19444BB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AB5A2-2F5F-4CC5-9EEA-FFAB88B7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7D200-BDE0-4C2A-B185-0AA0DCD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9F293-4BD2-4CA7-8EDE-8146038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A3325-1FF6-4405-B26C-526AF689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FF2AB-D03B-41CF-A276-282F53E0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E5A3F-46F4-4356-955D-961A19FA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460D-0F1E-4385-A740-0E2A08C5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33A09-9412-4329-AD2A-A5C8BDDE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B42-4C81-4B9A-ABA7-4AD44E3F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95E8C-1165-4CE6-AFC9-5FEE1D57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1D63E-B307-4641-84F3-226C1998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9FFF7-F057-4419-BE1C-13C84486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BF8AE-2B04-4961-B748-D9588809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78E98-01AC-40E5-8084-0B3C6141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678D6-3826-4FB6-9B1D-3470769C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217DB-3FBD-4278-B8D5-36C24F1C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C3A98-B379-4770-A4E0-627B25A4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B64F6-B511-42B9-800A-656499D0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F2543-6EDE-4DD1-A015-47745AFA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B4B-5422-4658-A493-5D34692E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10A4F-61EB-401D-8B68-3B8DF567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BF242-A87D-459D-8C99-3E9799B2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C24D1-F563-42D3-B843-0FE5FF02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1AB8D-6BC0-4FC3-A582-89CCDAD2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3544-0BAB-49BE-B5E0-28E1E222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D7FC1-A8E7-4E4E-AC70-EDF5AB3B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EDFB1-070E-418B-A614-E1F1AF23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70186-09F3-4A89-83DD-EA03E5DA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FDE37-A4FC-4BBD-B630-D5BAEE89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125F3-86AC-47D5-8687-B39CFA02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161-735F-4554-825E-203476E9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1EAD7-275F-4C2C-9657-3DC4EC38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90A85-BB1C-4CF5-B171-AB2FFEC7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B7187-6738-4C27-BCA0-193D86C0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0FBB0-625D-436E-8FAE-2E5AA31D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7CE55-C4CE-473E-996F-41AAF4DE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DF0AF-CB18-4BD6-8D11-76929205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3258E-82E8-4D1C-A3A6-529A1AE6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63F7A-4339-49C0-ACBB-AFAE21D3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11660-7AE1-409C-8DB0-45CAE08C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5212B-887F-41DA-A039-E6337A4C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56A-E72A-4FB5-9FBF-0BA36F24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39614-8494-410D-AF27-DCC0B820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D7B7E-1941-47D0-B7C1-B674B79F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B2E8E-B488-4DF3-AF73-88BE0A75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10F2A-A890-496B-9E44-7028EF08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E9EF3-3B80-4B8D-BCE0-A517BA8B2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84204-3416-4F18-B734-B3ACA574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CF3B9-2436-417E-B6AD-90265BFD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F12E2-ECCD-4E2E-8D1C-86AE0729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38EC3-4F8F-4217-BA7B-3603F5F8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78CD1-05D6-4D42-9BD0-F1ADF330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C5E-1840-4089-8EE0-4E097DEB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F0838-818E-406C-B5AA-F738028E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3CB56-40A0-416C-A583-1FE833B0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0DAF6-AB25-4DF6-9A8E-47D7A37A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687DF-BFD5-44F5-A2CA-06B47DD2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B86A6-371E-4DF0-941C-F5E5748C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47616-A2CC-496D-9E98-6ED988A9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25C5A-DF1D-40E2-9888-6BAF54A4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DB4C9-18D9-46F1-A3CB-3023B7C3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54CA1-7B65-41BD-BFE9-EBDBF9FF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E5EC9-F331-4BE0-AE54-BA8EE102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C8E2-7361-4516-ACF4-22B4B90D1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D195-F1E2-42FE-A00B-68B47BC55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3EDD-018A-4BBF-95EA-1AA4DD3B2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40EF-B021-49A1-AD1C-BF475CC9F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C8B9-A35E-4E3A-8494-9F877B4F6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D6BF-BB77-4269-84AA-59F215064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530E-A1C8-4230-B304-6E3B82A69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B238-F755-4FC8-8C26-D799A852D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CD2F-BC30-488F-9ECC-8BA5B34B2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6F9C-9383-4DF5-B22F-B56FD1775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3EEF-3A4C-43D5-8B78-DCFADBEBE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Arial"/>
              </a:rPr>
              <a:t>世界地图引出的发现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377A-268F-4909-9257-1DF8A6B7C5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矩形 4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矩形 5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启示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的重大发现靠的是：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仔细观察、认真思考、反复论证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E639-3A61-459B-B726-BAF30680AC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完成第八课课堂练习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查阅有关大陆漂移学说的其他资料进行交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F92B-43F0-48D1-9BAA-6D4A918767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思考问题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为什么要观察世界地图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的假想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大陆漂移”是什么意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发现了一个怎样的重要证据证明他的假想是正确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010E-2056-44D8-9D59-4148ED3050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思考问题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为什么要观察世界地图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在观察世界地图时发现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的假想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魏格纳有了想法后又做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大陆漂移”是什么意思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发现了一个怎样的重要证据证明他的假想是正确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19D9-D093-406A-9B4C-792D6FB92B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句子一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魏格纳性格豪放，天性好动，在静谧舒适的病房里坐卧不安，就像软禁在牢笼中的困兽一般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C677-5DDD-4446-BBE6-A7B2BBB311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句子二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突然，他的手指慢了下来，停在地图上南美洲上巴西的一块突出的部分，眼睛却盯住非洲西海岸成直角凹进的几内亚湾。瞧！这两个地方的形状竟是这般不可思议的吻合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EDD6-0207-4A18-9D2E-92584D62B0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矩形 5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矩形 6"/>
          <p:cNvSpPr/>
          <p:nvPr/>
        </p:nvSpPr>
        <p:spPr>
          <a:xfrm>
            <a:off x="543960" y="15228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7A3F-E59F-420D-AD22-2E9032FD0E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矩形 5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句子三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于是，这位年轻人的脑海里形成了一个崭新的奇想：在太古时代，地球上所有的陆地都是连在一起的，后来因为不断漂移，才分成今天的各个大陆，它们的海岸线才会惊人的吻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3C34-982D-4173-B9EB-E4103C1250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句子四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开始在各大洲之间的联系和对比中进行考察，在浩如烟海的资料中寻找大陆漂移的证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DB00-6BE5-4330-857D-E356714F86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Arial"/>
              </a:rPr>
              <a:t>句子五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种叫中龙的爬行动物，既见于巴西东部，也见于非洲西南部，显然，这些动物当时生活在同一块大陆上，否则，即使是插上翅膀也难以飞渡重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6C89-3DAF-4FA3-B631-0EF0551448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23:57:35Z</dcterms:created>
  <dc:creator>绿色圃中小学教育网|http://www.lspjy.com; Chinese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57:09Z</dcterms:modified>
  <cp:revision>8</cp:revision>
  <dc:subject>绿色圃中小学教育网|http://www.lspjy.com</dc:subject>
  <dc:title>绿色圃中小学教育网|http://www.lspjy.com</dc:title>
</cp:coreProperties>
</file>