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2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5.jpeg" ContentType="image/jpeg"/>
  <Override PartName="/ppt/media/image7.png" ContentType="image/png"/>
  <Override PartName="/ppt/media/image4.gif" ContentType="image/gif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94E1-780B-45DA-97CE-FA809DA47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561C-61D9-4577-B836-D16C3AB64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F4578A-CE9F-4AF0-A799-9BD381D1C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AB70C9-7BB9-47DF-A174-E0C7D4CEB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0251D9-B072-4367-8AB2-C8829CF1D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AD4267-5DF5-4944-AA5E-3A7A99575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4C6CCA-F03E-419E-A19F-DC7E3DBBE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A7A299-CB75-425B-B0B5-DAA8CF310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9380E5-44D6-4027-919F-019294110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AC5AC1-9D4B-4731-A77D-F39385061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267EAC-3D33-4089-BEE4-6DC18450A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4E04D0-4133-4686-B171-B8D5C079A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E199-191E-4508-BBC9-DE0688D47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0778F5-46C2-4F2C-9257-424303E8B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95CBD8-7CB3-45AE-BBA5-EA3DA7BCC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D26587-BD6E-427E-BA25-CC4A048D0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94C8B5-8FDF-456C-87CA-0BCEF6142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552721-EECD-4EBF-AFE1-FA185A7F3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4D0A0C-0087-4FA4-A2CD-F0A4598E4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C476AE-C130-491A-9961-5B8EC67E6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A2298C-4463-4495-96F3-7F02E4F39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F717E8-CF0D-4DB5-8A06-04271FD90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475146-9BD7-4B7E-A3DE-47DD71023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BFAD-E1F5-4DFA-8914-B3F499F1F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255C68-BAF5-4E40-9AC1-F3C8CCD26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314F04-0982-493E-8CF9-9819F1F35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2CA7AC-ED7F-46C3-BD02-66D2EA3A9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9AF8B6-9DBB-4A86-9E23-0CD3AE4AE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9FBEED-0A53-45E1-B8CC-879789971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A06FF8-BAF4-4828-9144-B02AF2A00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2B35A7-6DF9-47E8-B37D-118ABFEDC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8EB5ED-F852-4101-A30E-8C4F8A0E1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AC6D20-B54E-4531-A2F7-5A163B1B3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DC13E1-BC7D-4065-928A-8C68B7F1D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6DF58-875E-4C9F-9E57-69E0335F8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2FAB6A-8B2D-4BBF-9CF2-309CFFEBF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1F9F8C-9E10-478F-95C8-3B56FB882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A73A07-652B-4C4C-8A44-69680A9B8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B7BD6-9271-45C4-98C7-AF5367AAF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364F1-6541-4EF9-AF28-3C9E2B8A8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9B9C8-F68D-482E-BE31-A0CA861B3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2F0C3-507A-44D4-966A-8A6F5B604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A3449-E351-4C49-B199-AAE19D274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9EBA8-E52D-4EE4-B006-AD3BCB141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C232-A1ED-41A5-B969-00AE5D74F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09078-807F-4577-B55C-E9099AEA0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2356C-424B-4873-815A-86883C248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D34D3-7EF1-40F7-B0E1-5CDF871B5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A9B9B-79CC-4BBF-ADFE-F31B691A1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BD96B-6791-424F-A752-1D2A9A000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9DD00E-5A95-423D-AED4-EACF9D18F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76DEBB-3E94-4046-8BAB-93689DD9E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A2AA83-38A8-429A-A3F5-194F56041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1B2EE7-3BE4-4A0E-B4A3-9F2673FA0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8088DE-48AA-410D-8337-E1DAA0F5A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2CC8-2027-482C-AC26-CAAAC6297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6B3A53-910A-4277-9DD5-0F1D4443D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4DC291-1A34-426A-BAB4-0360491FE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50FB80-72C4-4BA3-B763-B8A7EE094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AB9449-B420-4239-80B5-94D94C179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FB76B1-BE70-483B-9297-7344C2C37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37E299-B6BF-4479-9435-7D4667310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5F2FA5-B792-45FF-BDB8-C66711ECF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110D0A-A377-4E7B-A927-1251E76B4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6339B3-681B-4B1C-8AED-341921D2B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1AD4B5-D8C4-4214-AE4A-F24279173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55F3-4807-4369-9117-6F8C15205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B3BB12-2D4F-46F5-9D4F-0204BA19D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4E9569-E997-445E-8AB9-D850C27B4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22AB8F-9B77-467A-98B4-174C47639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D700F3-C7D4-4B9E-BBFC-428FBE6E0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10C2C6-C2E5-44A4-A6DD-F4CA9289F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0C357C-A93C-429B-8B81-98FFC5CDD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0FAA3B-F357-4EFD-8040-CBE4A9456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74EA78-09DA-4925-994A-59313ABD9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C3F961-D3CD-4A1B-BD6F-396780CF6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F6C0E4-3DB2-4EAC-94E7-E398B8BA4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A5D0-E93F-40C6-842A-77CF3A785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820CAC-A270-4CB3-968E-FDC8DFD7C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6220DF-13C3-454B-AD1F-924082BBF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B41171-C121-4068-B3A8-304F0F4AA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E19813-ABE4-4897-AAE7-38FDE1B5A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676F45-E4B2-4781-8D99-E12524077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812B71-0E6A-4566-AD09-AB20A2E55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93D393-7E39-404C-8C41-33E24890F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7997CC-D5AC-4221-8C06-25B2DB5A9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46EC89-F7B4-4383-9FC5-756149B71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AE3553-457C-4E2E-8EC7-40CF8D31D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EDC2-E11C-4EA2-83D3-B8174C99F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929BB2-63CD-447F-ADC8-38999F6AE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865771-8AB9-433E-A2B5-46F2F0A4B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C71BE4-7284-400F-A33B-62ACA38D1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81F660-165A-4599-AF68-4C7DDEF12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E1ADF4-E65F-4828-92C6-532ABA8BB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3AB358-9332-4116-B52B-EF67045B1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BC2A8E-729C-4AE5-A5B5-CDC891FEC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19C908-A971-4DB6-A791-8022B6362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04A7FD-0AFE-44B6-899F-125F80719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E47FCB-E069-42E0-B449-6FEF3F04D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4C54-1DFE-4521-BFE0-2DE1BAE52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6A0384-7822-4C6D-9158-1D6495D19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6FAF6F-2256-44B4-80F3-2567525E9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90306B-D96D-4BE3-98CF-A77D5FEBF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3C1DC8-B356-4AF4-8404-E644D681D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2A8493-95AF-4F02-A749-BD8342BBA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A4F7BC-D09B-40E8-8B58-D475641EB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496FBE-A1F8-44EC-A42D-3C5F487A2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846310-E240-4480-A9F5-E01CB064D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8151B8-6800-4B6D-94A2-F4885095E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FC80F5-8AD6-4223-9FA6-AE16E6F37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855E-200E-4E03-A8EF-E60938E2B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B33C87-91D6-47AC-AC18-A9417B647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E73253-5AE8-463B-AAC5-F70EF671D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CF8C91-7076-4416-BF29-AC2EF016E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EDA917-20C8-45EB-892B-982A845E2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37688E-C199-45FE-A6AE-6F0CF0AD2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DB4CE3-668E-4B43-96FA-B9E4DFC98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DD68A4-0FDB-44F6-A26F-201CE36F7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DF51A1-D41D-44C3-A0B8-D3653ED1E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62F1DC-F29A-4805-B898-E2C95E12F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006458-E409-45A7-8954-C138D3ED8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EE3E-11C5-432A-B267-32E5223BA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9AC72D-DA0D-4AC3-8EBF-5F4A2E56F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E0FFB0-32F0-4E57-9DA9-9D4208BEB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1AA0CF-A312-47E1-9DE1-454473DB9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53C070-3059-4FD0-9474-F4A866E48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3B7BE4-5E27-47A1-A591-1FB23E7C8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1E1A51-4243-4CBB-A2FD-A0557DC99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BBBE31-80A1-4827-9B7D-0E141F2EC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D016F7-15A4-499C-BD66-CACE7FF94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89C31B-28FA-4DEA-A9A8-E9D86BADA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C024E6-8C81-4E00-92BF-6926E8DAE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2a4"/>
            </a:gs>
            <a:gs pos="100000">
              <a:srgbClr val="f999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EDBD2-C551-44FE-8A29-FB2268AFC2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2a4"/>
            </a:gs>
            <a:gs pos="100000">
              <a:srgbClr val="f999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352FE-D54D-43F3-8906-90F6953B7F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2a4"/>
            </a:gs>
            <a:gs pos="100000">
              <a:srgbClr val="f999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23A9A-2A8C-4D39-A1C4-A0ADDEB77A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2a4"/>
            </a:gs>
            <a:gs pos="100000">
              <a:srgbClr val="f999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2985F-BB6F-44EF-BB10-DAEFB35821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2a4"/>
            </a:gs>
            <a:gs pos="100000">
              <a:srgbClr val="f999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59CA4-7C08-4A04-A597-8EC220732C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2a4"/>
            </a:gs>
            <a:gs pos="100000">
              <a:srgbClr val="f999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FA706-83CE-402F-BEAA-F2E8020C4F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2a4"/>
            </a:gs>
            <a:gs pos="100000">
              <a:srgbClr val="f999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17508-EB9D-483F-9B9F-6BFD8B5FA9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2a4"/>
            </a:gs>
            <a:gs pos="100000">
              <a:srgbClr val="f999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72685-D28A-459D-BE98-3D2D57C802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2a4"/>
            </a:gs>
            <a:gs pos="100000">
              <a:srgbClr val="f999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78304-E3ED-474F-9A78-C459B4E736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2a4"/>
            </a:gs>
            <a:gs pos="100000">
              <a:srgbClr val="f999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2026B-ADA4-43D7-B935-0053BDB7C6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2a4"/>
            </a:gs>
            <a:gs pos="100000">
              <a:srgbClr val="f999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5C782-A55C-4B25-9431-2422F71C5C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7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7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7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7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taokejian.com/soft/177/list177_1.html" TargetMode="External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taokejian.com/soft/177/list177_1.html" TargetMode="External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Picture 2" descr="6808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2" name="WordArt 3"/>
          <p:cNvSpPr txBox="1"/>
          <p:nvPr/>
        </p:nvSpPr>
        <p:spPr>
          <a:xfrm>
            <a:off x="1042920" y="1700280"/>
            <a:ext cx="746784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火烧云</a:t>
            </a:r>
            <a:endParaRPr b="1" lang="en-US" sz="40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53" name="灯片编号占位符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B7C8B-2958-42B5-B6BD-3BF9C70429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页脚占位符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矩形 6"/>
          <p:cNvSpPr/>
          <p:nvPr/>
        </p:nvSpPr>
        <p:spPr>
          <a:xfrm>
            <a:off x="0" y="0"/>
            <a:ext cx="588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lspjy.com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矩形 6"/>
          <p:cNvSpPr/>
          <p:nvPr/>
        </p:nvSpPr>
        <p:spPr>
          <a:xfrm>
            <a:off x="4386240" y="3375000"/>
            <a:ext cx="37116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1" lang="en-US" sz="1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矩形 7"/>
          <p:cNvSpPr/>
          <p:nvPr/>
        </p:nvSpPr>
        <p:spPr>
          <a:xfrm>
            <a:off x="4538520" y="3527280"/>
            <a:ext cx="37116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1" lang="en-US" sz="1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WordArt 5" descr=""/>
          <p:cNvPicPr/>
          <p:nvPr/>
        </p:nvPicPr>
        <p:blipFill>
          <a:blip r:embed="rId1"/>
          <a:stretch/>
        </p:blipFill>
        <p:spPr>
          <a:xfrm>
            <a:off x="3193920" y="-6480"/>
            <a:ext cx="5980320" cy="493920"/>
          </a:xfrm>
          <a:prstGeom prst="rect">
            <a:avLst/>
          </a:prstGeom>
          <a:ln w="0">
            <a:noFill/>
          </a:ln>
        </p:spPr>
      </p:pic>
      <p:sp>
        <p:nvSpPr>
          <p:cNvPr id="502" name="灯片编号占位符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16232-E8A4-4392-85F6-1F4F1408AA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页脚占位符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矩形 4"/>
          <p:cNvSpPr/>
          <p:nvPr/>
        </p:nvSpPr>
        <p:spPr>
          <a:xfrm>
            <a:off x="4386240" y="3375000"/>
            <a:ext cx="37116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1" lang="en-US" sz="1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矩形 5"/>
          <p:cNvSpPr/>
          <p:nvPr/>
        </p:nvSpPr>
        <p:spPr>
          <a:xfrm>
            <a:off x="4538520" y="3527280"/>
            <a:ext cx="37116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1" lang="en-US" sz="1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Text Box 1026"/>
          <p:cNvSpPr/>
          <p:nvPr/>
        </p:nvSpPr>
        <p:spPr>
          <a:xfrm>
            <a:off x="457200" y="175248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Text Box 1027"/>
          <p:cNvSpPr/>
          <p:nvPr/>
        </p:nvSpPr>
        <p:spPr>
          <a:xfrm>
            <a:off x="609480" y="2362320"/>
            <a:ext cx="236232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上来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AutoShape 1028"/>
          <p:cNvSpPr/>
          <p:nvPr/>
        </p:nvSpPr>
        <p:spPr>
          <a:xfrm>
            <a:off x="2438280" y="2819520"/>
            <a:ext cx="838440" cy="380880"/>
          </a:xfrm>
          <a:prstGeom prst="rightArrow">
            <a:avLst>
              <a:gd name="adj1" fmla="val 50000"/>
              <a:gd name="adj2" fmla="val 55033"/>
            </a:avLst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Text Box 1029"/>
          <p:cNvSpPr/>
          <p:nvPr/>
        </p:nvSpPr>
        <p:spPr>
          <a:xfrm>
            <a:off x="3505320" y="2362320"/>
            <a:ext cx="304776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变化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AutoShape 1030"/>
          <p:cNvSpPr/>
          <p:nvPr/>
        </p:nvSpPr>
        <p:spPr>
          <a:xfrm>
            <a:off x="5562720" y="2895480"/>
            <a:ext cx="914400" cy="381240"/>
          </a:xfrm>
          <a:prstGeom prst="rightArrow">
            <a:avLst>
              <a:gd name="adj1" fmla="val 50000"/>
              <a:gd name="adj2" fmla="val 59962"/>
            </a:avLst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Text Box 1031"/>
          <p:cNvSpPr/>
          <p:nvPr/>
        </p:nvSpPr>
        <p:spPr>
          <a:xfrm>
            <a:off x="6629400" y="2438280"/>
            <a:ext cx="220968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下去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Line 1032"/>
          <p:cNvSpPr/>
          <p:nvPr/>
        </p:nvSpPr>
        <p:spPr>
          <a:xfrm flipH="1">
            <a:off x="3429000" y="33526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Line 1033"/>
          <p:cNvSpPr/>
          <p:nvPr/>
        </p:nvSpPr>
        <p:spPr>
          <a:xfrm>
            <a:off x="4952880" y="3352680"/>
            <a:ext cx="533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Text Box 1034"/>
          <p:cNvSpPr/>
          <p:nvPr/>
        </p:nvSpPr>
        <p:spPr>
          <a:xfrm>
            <a:off x="2743200" y="3809880"/>
            <a:ext cx="15238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颜 色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 Box 1035"/>
          <p:cNvSpPr/>
          <p:nvPr/>
        </p:nvSpPr>
        <p:spPr>
          <a:xfrm>
            <a:off x="5029200" y="3886200"/>
            <a:ext cx="18288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形 状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Line 1036"/>
          <p:cNvSpPr/>
          <p:nvPr/>
        </p:nvSpPr>
        <p:spPr>
          <a:xfrm>
            <a:off x="3352680" y="4419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Line 1037"/>
          <p:cNvSpPr/>
          <p:nvPr/>
        </p:nvSpPr>
        <p:spPr>
          <a:xfrm flipH="1">
            <a:off x="5029200" y="449568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 Box 1038"/>
          <p:cNvSpPr/>
          <p:nvPr/>
        </p:nvSpPr>
        <p:spPr>
          <a:xfrm>
            <a:off x="3733920" y="5181480"/>
            <a:ext cx="17524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多、 快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灯片编号占位符 1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8D8C1-CF8F-4E34-9D4E-41214C3556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页脚占位符 1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Picture 2" descr="34701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2" name="灯片编号占位符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C5F32-4931-407A-ACF6-3467AD1E40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页脚占位符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Picture 2" descr="34705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5" name="灯片编号占位符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646EB-3BE3-48FD-9C2E-3F05CAE609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页脚占位符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Picture 2" descr="5100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8" name="Text Box 3"/>
          <p:cNvSpPr/>
          <p:nvPr/>
        </p:nvSpPr>
        <p:spPr>
          <a:xfrm>
            <a:off x="304920" y="281952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800" spc="-1" strike="noStrike">
                <a:solidFill>
                  <a:srgbClr val="ffcc00"/>
                </a:solidFill>
                <a:latin typeface="楷体_GB2312"/>
                <a:ea typeface="楷体_GB2312"/>
              </a:rPr>
              <a:t>仔细观察   大胆想象</a:t>
            </a:r>
            <a:endParaRPr b="0" lang="en-US" sz="6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9B692-BA6E-49C7-BAF5-B20365D2ED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页脚占位符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Picture 2" descr="580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2" name="灯片编号占位符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85524-BA07-4EC6-B1D2-549D9944D9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页脚占位符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Picture 2" descr="79006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5" name="灯片编号占位符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64AAD-FC44-4640-A043-3BCF933F91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页脚占位符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Picture 2" descr="345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8" name="灯片编号占位符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200A6-ED73-4E5E-BCA2-138A0FB471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页脚占位符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WordArt 2" descr=""/>
          <p:cNvPicPr/>
          <p:nvPr/>
        </p:nvPicPr>
        <p:blipFill>
          <a:blip r:embed="rId1"/>
          <a:stretch/>
        </p:blipFill>
        <p:spPr>
          <a:xfrm>
            <a:off x="3193920" y="-6480"/>
            <a:ext cx="5980320" cy="493920"/>
          </a:xfrm>
          <a:prstGeom prst="rect">
            <a:avLst/>
          </a:prstGeom>
          <a:ln w="0">
            <a:noFill/>
          </a:ln>
        </p:spPr>
      </p:pic>
      <p:sp>
        <p:nvSpPr>
          <p:cNvPr id="541" name="灯片编号占位符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3F9C2-0317-469A-AE4A-CBF1FE0DD1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页脚占位符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矩形 4"/>
          <p:cNvSpPr/>
          <p:nvPr/>
        </p:nvSpPr>
        <p:spPr>
          <a:xfrm>
            <a:off x="4386240" y="3375000"/>
            <a:ext cx="37116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1" lang="en-US" sz="1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矩形 5"/>
          <p:cNvSpPr/>
          <p:nvPr/>
        </p:nvSpPr>
        <p:spPr>
          <a:xfrm>
            <a:off x="4538520" y="3527280"/>
            <a:ext cx="37116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1" lang="en-US" sz="1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Picture 2" descr="4403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6" name="灯片编号占位符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89485-8799-4779-A0FE-704931841F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页脚占位符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WordArt 2"/>
          <p:cNvSpPr txBox="1"/>
          <p:nvPr/>
        </p:nvSpPr>
        <p:spPr>
          <a:xfrm>
            <a:off x="1258920" y="1341360"/>
            <a:ext cx="5905440" cy="231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淘课件网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59" name="WordArt 3"/>
          <p:cNvSpPr txBox="1"/>
          <p:nvPr/>
        </p:nvSpPr>
        <p:spPr>
          <a:xfrm>
            <a:off x="1476360" y="3716280"/>
            <a:ext cx="6191280" cy="103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www.taokejian.com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60" name="Text Box 4"/>
          <p:cNvSpPr/>
          <p:nvPr/>
        </p:nvSpPr>
        <p:spPr>
          <a:xfrm>
            <a:off x="1476360" y="5013360"/>
            <a:ext cx="590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Arial"/>
              </a:rPr>
              <a:t>淘课件网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-</a:t>
            </a:r>
            <a:r>
              <a:rPr b="0" lang="zh-CN" sz="2400" spc="-1" strike="noStrike">
                <a:solidFill>
                  <a:srgbClr val="3333ff"/>
                </a:solidFill>
                <a:latin typeface="Arial"/>
              </a:rPr>
              <a:t>免费提供课件、教案、试题、论文、计划、总结、说课、反思、手抄报、等资源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.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并且所有资料无须注册免费下载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00"/>
                </a:solidFill>
                <a:latin typeface="Arial"/>
              </a:rPr>
              <a:t>淘课件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您永远的学习伴侣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灯片编号占位符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F029D-F492-4D71-9A46-9E53301B9F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页脚占位符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Picture 2" descr="34508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9" name="灯片编号占位符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91877-F6CE-4593-8C83-49688D0F6C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页脚占位符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Picture 2" descr="11809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2" name="灯片编号占位符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0A33B-1DB8-499A-95BA-00C3DDFA77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页脚占位符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4" name="Picture 2" descr="1905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5" name="灯片编号占位符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2BD9B-79FD-45CC-BC93-D0DE836C0C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页脚占位符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7" name="Picture 2" descr="9307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8" name="灯片编号占位符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26A68-6621-41AC-94DB-025E74057B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页脚占位符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WordArt 3" descr=""/>
          <p:cNvPicPr/>
          <p:nvPr/>
        </p:nvPicPr>
        <p:blipFill>
          <a:blip r:embed="rId1"/>
          <a:stretch/>
        </p:blipFill>
        <p:spPr>
          <a:xfrm>
            <a:off x="3193920" y="-6480"/>
            <a:ext cx="5980320" cy="493920"/>
          </a:xfrm>
          <a:prstGeom prst="rect">
            <a:avLst/>
          </a:prstGeom>
          <a:ln w="0">
            <a:noFill/>
          </a:ln>
        </p:spPr>
      </p:pic>
      <p:sp>
        <p:nvSpPr>
          <p:cNvPr id="561" name="灯片编号占位符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4350C-2E0E-44DF-BAAA-654BFB348C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页脚占位符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WordArt 2"/>
          <p:cNvSpPr txBox="1"/>
          <p:nvPr/>
        </p:nvSpPr>
        <p:spPr>
          <a:xfrm>
            <a:off x="1258920" y="1341360"/>
            <a:ext cx="5905440" cy="231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淘课件网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64" name="WordArt 3"/>
          <p:cNvSpPr txBox="1"/>
          <p:nvPr/>
        </p:nvSpPr>
        <p:spPr>
          <a:xfrm>
            <a:off x="1476360" y="3716280"/>
            <a:ext cx="6191280" cy="103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www.taokejian.com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65" name="Text Box 4"/>
          <p:cNvSpPr/>
          <p:nvPr/>
        </p:nvSpPr>
        <p:spPr>
          <a:xfrm>
            <a:off x="1476360" y="5013360"/>
            <a:ext cx="590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Arial"/>
              </a:rPr>
              <a:t>淘课件网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-</a:t>
            </a:r>
            <a:r>
              <a:rPr b="0" lang="zh-CN" sz="2400" spc="-1" strike="noStrike">
                <a:solidFill>
                  <a:srgbClr val="3333ff"/>
                </a:solidFill>
                <a:latin typeface="Arial"/>
              </a:rPr>
              <a:t>免费提供课件、教案、试题、论文、计划、总结、说课、反思、手抄报、等资源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.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并且所有资料无须注册免费下载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00"/>
                </a:solidFill>
                <a:latin typeface="Arial"/>
              </a:rPr>
              <a:t>淘课件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您永远的学习伴侣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灯片编号占位符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52726-B64F-424B-86CA-0476797A42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页脚占位符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2">
            <a:hlinkClick r:id="rId1"/>
          </p:cNvPr>
          <p:cNvSpPr/>
          <p:nvPr/>
        </p:nvSpPr>
        <p:spPr>
          <a:xfrm>
            <a:off x="946080" y="3141720"/>
            <a:ext cx="780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http://www.taokejian.com/soft/177/list177_1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WordArt 3"/>
          <p:cNvSpPr txBox="1"/>
          <p:nvPr/>
        </p:nvSpPr>
        <p:spPr>
          <a:xfrm>
            <a:off x="1258920" y="1052640"/>
            <a:ext cx="6400800" cy="124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小学四年级语文全册课件下载地址：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70" name="Text Box 4"/>
          <p:cNvSpPr/>
          <p:nvPr/>
        </p:nvSpPr>
        <p:spPr>
          <a:xfrm>
            <a:off x="4242960" y="4508640"/>
            <a:ext cx="66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每一课的都有好几个课件供您选，快用上面的地址去下载吧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灯片编号占位符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5B777-3927-46DB-B855-C874CB5EDD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页脚占位符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2">
            <a:hlinkClick r:id="rId1"/>
          </p:cNvPr>
          <p:cNvSpPr/>
          <p:nvPr/>
        </p:nvSpPr>
        <p:spPr>
          <a:xfrm>
            <a:off x="946080" y="3141720"/>
            <a:ext cx="780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http://www.taokejian.com/soft/177/list177_1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WordArt 3"/>
          <p:cNvSpPr txBox="1"/>
          <p:nvPr/>
        </p:nvSpPr>
        <p:spPr>
          <a:xfrm>
            <a:off x="1258920" y="1052640"/>
            <a:ext cx="6400800" cy="124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小学四年级语文全册课件下载地址：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65" name="Text Box 4"/>
          <p:cNvSpPr/>
          <p:nvPr/>
        </p:nvSpPr>
        <p:spPr>
          <a:xfrm>
            <a:off x="4242960" y="4508640"/>
            <a:ext cx="66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每一课的都有好几个课件供您选，快用上面的地址去下载吧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灯片编号占位符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06C7C-A68C-4FFD-9238-BEAA507E64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页脚占位符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Text Box 1026"/>
          <p:cNvSpPr/>
          <p:nvPr/>
        </p:nvSpPr>
        <p:spPr>
          <a:xfrm>
            <a:off x="533520" y="380880"/>
            <a:ext cx="685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思考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 Box 1027"/>
          <p:cNvSpPr/>
          <p:nvPr/>
        </p:nvSpPr>
        <p:spPr>
          <a:xfrm>
            <a:off x="609480" y="1981080"/>
            <a:ext cx="83059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4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全文是按什么顺序写的？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Text Box 1029"/>
          <p:cNvSpPr/>
          <p:nvPr/>
        </p:nvSpPr>
        <p:spPr>
          <a:xfrm>
            <a:off x="684360" y="3645000"/>
            <a:ext cx="65530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4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课文重点讲什么？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灯片编号占位符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E8CE2-ED4F-44B4-B9C4-C1658D341E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页脚占位符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Text Box 2"/>
          <p:cNvSpPr/>
          <p:nvPr/>
        </p:nvSpPr>
        <p:spPr>
          <a:xfrm>
            <a:off x="457200" y="175248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 Box 3"/>
          <p:cNvSpPr/>
          <p:nvPr/>
        </p:nvSpPr>
        <p:spPr>
          <a:xfrm>
            <a:off x="609480" y="2362320"/>
            <a:ext cx="236232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上来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AutoShape 4"/>
          <p:cNvSpPr/>
          <p:nvPr/>
        </p:nvSpPr>
        <p:spPr>
          <a:xfrm>
            <a:off x="2438280" y="2819520"/>
            <a:ext cx="838440" cy="380880"/>
          </a:xfrm>
          <a:prstGeom prst="rightArrow">
            <a:avLst>
              <a:gd name="adj1" fmla="val 50000"/>
              <a:gd name="adj2" fmla="val 55033"/>
            </a:avLst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 Box 5"/>
          <p:cNvSpPr/>
          <p:nvPr/>
        </p:nvSpPr>
        <p:spPr>
          <a:xfrm>
            <a:off x="3505320" y="2362320"/>
            <a:ext cx="304776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变化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AutoShape 6"/>
          <p:cNvSpPr/>
          <p:nvPr/>
        </p:nvSpPr>
        <p:spPr>
          <a:xfrm>
            <a:off x="5562720" y="2895480"/>
            <a:ext cx="914400" cy="381240"/>
          </a:xfrm>
          <a:prstGeom prst="rightArrow">
            <a:avLst>
              <a:gd name="adj1" fmla="val 50000"/>
              <a:gd name="adj2" fmla="val 59962"/>
            </a:avLst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Text Box 7"/>
          <p:cNvSpPr/>
          <p:nvPr/>
        </p:nvSpPr>
        <p:spPr>
          <a:xfrm>
            <a:off x="6629400" y="2438280"/>
            <a:ext cx="220968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下去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Line 9"/>
          <p:cNvSpPr/>
          <p:nvPr/>
        </p:nvSpPr>
        <p:spPr>
          <a:xfrm flipH="1">
            <a:off x="3419640" y="34290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Line 10"/>
          <p:cNvSpPr/>
          <p:nvPr/>
        </p:nvSpPr>
        <p:spPr>
          <a:xfrm>
            <a:off x="4952880" y="3352680"/>
            <a:ext cx="533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Text Box 11"/>
          <p:cNvSpPr/>
          <p:nvPr/>
        </p:nvSpPr>
        <p:spPr>
          <a:xfrm>
            <a:off x="2743200" y="3809880"/>
            <a:ext cx="15238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颜 色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 Box 12"/>
          <p:cNvSpPr/>
          <p:nvPr/>
        </p:nvSpPr>
        <p:spPr>
          <a:xfrm>
            <a:off x="5029200" y="3886200"/>
            <a:ext cx="18288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形 状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灯片编号占位符 1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A7D31-59BB-4E69-82D6-F379BF42ED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页脚占位符 1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矩形 13"/>
          <p:cNvSpPr/>
          <p:nvPr/>
        </p:nvSpPr>
        <p:spPr>
          <a:xfrm>
            <a:off x="0" y="0"/>
            <a:ext cx="574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lspjy.com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Text Box 1026"/>
          <p:cNvSpPr/>
          <p:nvPr/>
        </p:nvSpPr>
        <p:spPr>
          <a:xfrm>
            <a:off x="609480" y="1143000"/>
            <a:ext cx="8229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c92a4"/>
                </a:solidFill>
                <a:latin typeface="Times New Roman"/>
              </a:rPr>
              <a:t>        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天 空 的 云 从 西 边一 直 </a:t>
            </a: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烧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到 东 边， 红 彤 彤 的， 好 像 是 天 空 着 了 火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灯片编号占位符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7E472-B60D-469E-A962-F8AB49D6B5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页脚占位符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9" name="Picture 10" descr="hat"/>
          <p:cNvPicPr/>
          <p:nvPr/>
        </p:nvPicPr>
        <p:blipFill>
          <a:blip r:embed="rId1"/>
          <a:stretch/>
        </p:blipFill>
        <p:spPr>
          <a:xfrm>
            <a:off x="762120" y="304920"/>
            <a:ext cx="1295280" cy="2286000"/>
          </a:xfrm>
          <a:prstGeom prst="rect">
            <a:avLst/>
          </a:prstGeom>
          <a:ln w="0">
            <a:noFill/>
          </a:ln>
        </p:spPr>
      </p:pic>
      <p:sp>
        <p:nvSpPr>
          <p:cNvPr id="490" name="AutoShape 11"/>
          <p:cNvSpPr/>
          <p:nvPr/>
        </p:nvSpPr>
        <p:spPr>
          <a:xfrm>
            <a:off x="2819520" y="228600"/>
            <a:ext cx="4419360" cy="1371600"/>
          </a:xfrm>
          <a:prstGeom prst="wedgeEllipseCallout">
            <a:avLst>
              <a:gd name="adj1" fmla="val -60129"/>
              <a:gd name="adj2" fmla="val 4224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向你请教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Text Box 13"/>
          <p:cNvSpPr/>
          <p:nvPr/>
        </p:nvSpPr>
        <p:spPr>
          <a:xfrm>
            <a:off x="609480" y="2666880"/>
            <a:ext cx="59436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请用</a:t>
            </a:r>
            <a:r>
              <a:rPr b="0" lang="zh-CN" sz="3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0" lang="en-US" sz="3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BB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0" lang="zh-CN" sz="3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形式填空</a:t>
            </a:r>
            <a:r>
              <a:rPr b="0" lang="en-US" sz="3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Text Box 14"/>
          <p:cNvSpPr/>
          <p:nvPr/>
        </p:nvSpPr>
        <p:spPr>
          <a:xfrm>
            <a:off x="762120" y="3505320"/>
            <a:ext cx="7315200" cy="22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ff0000"/>
                </a:solidFill>
                <a:latin typeface="Times New Roman"/>
              </a:rPr>
              <a:t>红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__ __           </a:t>
            </a:r>
            <a:r>
              <a:rPr b="1" lang="zh-CN" sz="3500" spc="-1" strike="noStrike">
                <a:solidFill>
                  <a:srgbClr val="ffff00"/>
                </a:solidFill>
                <a:latin typeface="Times New Roman"/>
              </a:rPr>
              <a:t>黄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__ __            </a:t>
            </a:r>
            <a:r>
              <a:rPr b="1" lang="zh-CN" sz="3500" spc="-1" strike="noStrike">
                <a:solidFill>
                  <a:srgbClr val="0066cc"/>
                </a:solidFill>
                <a:latin typeface="Times New Roman"/>
              </a:rPr>
              <a:t>蓝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__ __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33cc33"/>
                </a:solidFill>
                <a:latin typeface="Times New Roman"/>
              </a:rPr>
              <a:t>绿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__ __           </a:t>
            </a:r>
            <a:r>
              <a:rPr b="1" lang="zh-CN" sz="3500" spc="-1" strike="noStrike">
                <a:solidFill>
                  <a:srgbClr val="ffffff"/>
                </a:solidFill>
                <a:latin typeface="Times New Roman"/>
              </a:rPr>
              <a:t>白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__ __            </a:t>
            </a:r>
            <a:r>
              <a:rPr b="1" lang="zh-CN" sz="3500" spc="-1" strike="noStrike">
                <a:solidFill>
                  <a:srgbClr val="000000"/>
                </a:solidFill>
                <a:latin typeface="Times New Roman"/>
              </a:rPr>
              <a:t>黑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__ __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808080"/>
                </a:solidFill>
                <a:latin typeface="Times New Roman"/>
              </a:rPr>
              <a:t>灰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__ __           </a:t>
            </a:r>
            <a:r>
              <a:rPr b="1" lang="zh-CN" sz="3500" spc="-1" strike="noStrike">
                <a:solidFill>
                  <a:srgbClr val="ff9900"/>
                </a:solidFill>
                <a:latin typeface="Times New Roman"/>
              </a:rPr>
              <a:t>金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__ __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灯片编号占位符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9B2BB-3D3F-4B64-AF16-A6F23A8BEC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页脚占位符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Picture 2" descr="3950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6" name="灯片编号占位符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0DDB1-A99A-43E8-B584-9DF4A774DD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页脚占位符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8" name="Picture 1026" descr="79003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9" name="灯片编号占位符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08082-013B-4CCC-9D37-EEA5A99BAA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页脚占位符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3T10:18:48Z</dcterms:created>
  <dc:creator>绿色圃中小学教育网|http://www.lspjy.com; legend</dc:creator>
  <dc:description>绿色圃中小学教育网|http://www.lspjy.com</dc:description>
  <cp:keywords>绿色圃中小学教育网|http:/www.lspjy.com</cp:keywords>
  <dc:language>en-US</dc:language>
  <cp:lastModifiedBy>Administrator</cp:lastModifiedBy>
  <dcterms:modified xsi:type="dcterms:W3CDTF">2015-10-07T13:35:39Z</dcterms:modified>
  <cp:revision>22</cp:revision>
  <dc:subject>绿色圃中小学教育网|http://www.lspjy.com</dc:subject>
  <dc:title>绿色圃中小学教育网|http://www.lspjy.com</dc:title>
</cp:coreProperties>
</file>