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B8BE-79A4-487C-8A4E-64CE9730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4BA-272B-4C3C-891B-EE18E808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085C5-F498-4667-9BBE-8696E99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9B0F-A06F-4AD4-86E6-08CC5604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CE885-AA99-4574-8699-5CCE291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AD8FA-3995-4C1F-BA8D-5366600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F04E-1837-483B-9F82-3E3C4082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EAC1B-0A03-4EFB-A114-1A3E8C9C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B4B16-F8B8-4735-9A7D-BB618413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CD2FC-472F-43F4-8049-7D698A2D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469B7-9528-4474-ABEE-27AB3847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FEEF4-5D55-48BF-8379-80675D10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870-42BA-428F-9CF0-4CBD7334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8D9C8-7B88-40F2-ABE0-2675E6C9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ACE70-DA17-4AFF-99DF-21E93481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9CD3-EF14-465F-B94B-AF328318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79B15-C539-447E-A614-FAB4EC24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B9DC2-A16C-495E-9985-50C3B644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78F84-43CF-44F3-864F-28185FD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C82FF-7309-49E5-AAC1-6B43CCA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5B39D-2889-44EB-9298-3CB1B7B0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03455-5587-4A38-848B-02E0F7D3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A5536-021C-4C11-BC1F-51918349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192-25F9-4E20-9C95-6FF761BF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FDD11-4071-4982-9608-4EC62C79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7F8F9-EC1F-4C2C-BEEB-C8807F25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01083-1FAB-4801-9CD9-96F23F75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752E1-0448-454A-BCEB-6FED2E24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71725-9BF4-4A87-854F-E4431288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491F1-2584-421A-88EC-5506A49E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D6491-281D-414C-9D56-FEA295EE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CA80E-CA20-4BFF-B475-17571838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1EAA3-AD34-41AF-B6B8-957770E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92BA4-8BCE-4004-8110-CE2EF4B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CEEA-3B29-47C0-BF30-598A2F36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7321-286F-4986-A2CC-B6FF5EB8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704E6-84E6-42AA-91D9-9AA02C02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16099-98B0-4FAA-9380-CAC09DED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20555-33D7-4FB5-BFFA-CCC91488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8DBDD-A15E-4124-96BA-9A0007F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80126-309D-4F5D-800B-D46C9EE2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D10EB-4D80-4745-B007-82D48A17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681C0C-1ABB-47EE-8F1E-5E768130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23AC7-5AF1-4DE3-BA3B-D49C546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A953F-91F6-422E-B7D9-C5ABED3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CBC1-33E6-48BD-9CE2-BE31EF42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69754-E23C-4C9F-8B59-9886C9CC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2045B-1395-4AB0-B03E-17D80B5D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CB177-2E78-4947-8AF6-B3801C7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8B915-ECD9-4156-9C02-E225E874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5E52A-58E8-461F-9BAC-15B6C9C8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ACC0F5-2289-4073-96D9-15B30B29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92AD7-000F-4BC5-8096-1418862A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A5708-8E3D-45CB-A9C9-C02BA718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12883-8EC6-4778-9107-B68B10AD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9C6DF-6CCB-4821-9F77-4488B4E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F8D8-6E26-44CF-B564-909E1F89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50AC6-5F32-4635-8D11-1695B0A9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A6601-AC48-46A8-8C85-535D9720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C6859-B3E7-4C1F-B927-96ED1389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109EE-9B92-4A17-AFB2-7C182AE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BDBB2-0948-458C-8F60-99302472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A2609-7FF4-42F9-868A-5176F5F7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0A648-152F-49EB-AD78-3ADA265B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5DE4-5807-4D0A-ADAA-7F4DC17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F322-DD04-4109-9D06-66A32257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47C3-12EB-45B4-AC0A-22B0617D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241B-3657-4C40-8667-9E3D334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7EB-0B9B-4BB9-BABA-B39A1951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18E3-0F6E-407B-9AB5-0CF7F108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9288-64A5-49FA-9D9F-1A2EFAFD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5918-0FDD-4419-ADDF-461A0ED1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5738-10B8-4537-8B3B-B6E89748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7982-AE34-4F96-A5D6-5B4366B6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7896-E178-4206-A4FF-556CFB9A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47568-615C-4758-9702-B3FEE2AD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802C-864D-4FD4-8BD6-2BE9A785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FF98-E523-4250-9FFF-122AC7EB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A7551-4BAE-4688-A007-41B2C492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83B-45B5-47CA-A513-B220497B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CE0A-CDDE-4C28-9053-0E137AB7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8F19-B0EC-4828-9B66-47203437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BB97-2C26-41CD-B0BB-21B45DF2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9936-FA60-4427-9528-3D7843E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B73CC-95CC-4CB7-96AC-5732540A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F572-8CF2-4831-B25F-2BC0BB10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CA53-28C4-481C-B6EB-1F305C03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924D-68AF-4D4D-A97E-BBB820B3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ACEE-1F48-4B7C-9387-A5F54FD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C24F0-129D-489F-A241-5C752D22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06C-9A38-4F4C-9C1E-94A820D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3B394-4AB0-44EB-AB1D-090E1380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337BE-7D3F-4075-80D8-107F5188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292D-F147-4BDF-A247-A3D3085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C70C4-7B2D-4BFB-9BB3-35452BF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D3BA5-77BE-4EBA-B048-A3F48CB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C4B64-E7E8-4730-B6C7-F8C1D69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147D4-8615-4DCA-A382-D516E88F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E7B1-8724-44DF-80A8-78566BC0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AADF-590D-4F8E-85A3-F71CBC04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7318-7A95-4FB3-BBEF-3EF0B662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46C-2B0C-47E3-B5B7-05B49EF4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12B38-8EE6-4D51-B3C0-088D60E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00D42-5134-48DD-92A4-72D87ACA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E1581-F97C-4A86-B818-11114C48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436B-0210-4AE6-8C23-D1668DA3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C60C1-EDFC-4DE8-A3FD-B44371A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D1BC-E350-486F-B394-C818499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B9FAC-3DF0-478C-BE95-93AADF8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E6F73-8B11-4C7A-8DE1-A04E03C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5EDC-C977-42AE-BA3B-1A8B13A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90ED4-87DA-47AE-A6AF-78092F8B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BF2-972E-42BF-A19D-4464C0CF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F9C41-99E6-4B05-AF2C-5DAFBE6A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4F8D-265E-4CA5-8E1E-440C0F82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1905C-6EA8-4B4D-A741-1677D384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0931F-5FE0-4E67-9440-A19FCD19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FF044-4753-46EB-B3BD-AC739A8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4764-1793-4871-BBF0-A7D84DC0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3710E-1141-4219-BEA9-5BE83C28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182A-9BE9-4913-BCA5-6F32FB21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1308C-BDF6-4DD8-A3A6-1352DDF2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10B08-59FF-4625-B086-37F6CCE4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208-F14D-4550-B8AF-E53A91EC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34C61-D2BF-4CA5-B6D3-1E2EE329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134F-A8E3-415E-BB2C-0B6B4195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483ED-4C4E-4834-9BB1-F8C2A1F3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20E8F-6D27-455A-9FB2-902BC5C0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46B4-2A21-47E2-A1B6-634F034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7A865-9D13-4581-8396-FA27D10B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7D93F-0D55-4139-85CE-9B4F9D12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E39BB-521D-40B4-A45E-B4F6FF7A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77256-D6A0-4FF6-9081-BC91ED04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9D75-0161-4297-A58A-F0631694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55D-E855-40C1-B1CF-AEB1B7D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519F-B79B-4688-9889-932EED87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57AB-2C04-4422-8C9C-35BE9E6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40878-A453-4C1E-A57B-ABC16B9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0FC8-2507-40C6-B503-1BF4C943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A1866-A3C6-4A61-A2B6-9F89851C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19760-6FA8-422A-B0AC-74F0076A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E267-3EEC-4566-859B-7F8B6898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38696-3A34-4017-BA4B-2A8E696C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8F2C-5DB9-48A2-9AFD-3174C5B1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86597-DF20-4863-9DBD-8E646B84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60C-BA93-48C7-8B06-2D50395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9F2F7-AA98-41F3-903F-A97C64A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25D15-8818-49CE-8359-B8847D04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062A-6191-4269-A373-BA457C1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836A8-26FD-4F8A-9DC8-95CFA014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886BC-7B93-47AA-83F1-D7D61B11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19046-DE18-45F7-8C4B-80E377F5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BA31A-8BC1-4AB4-A2A9-A29A02A9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94213-DB81-4152-BDEE-FC1DBF8E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8C3AC-43AF-4CD3-9F7C-ED266E2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6542C-9AED-4F26-9024-F887C245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3435-912A-4D47-989F-604A225EEB60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397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1DBD-10AD-4422-889F-BDCEE82C23D5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44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D10-D3A6-4266-A6BA-89CD360D7FBF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485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4B72-B15C-4BB2-A70E-765D354E7388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529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345-A82F-499C-AE8B-8374FC25B0B9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47B5-78B8-49DD-ACB2-4A220A445A96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89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BC96-18CD-4957-9DEF-A74DF10026F6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33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A5A2-4BAB-48F2-9429-D63A22B4AD51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77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E15D-FE97-49DF-AA42-B5F40EF2F91E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22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8D25-77DF-4672-9F7C-902B529B4755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265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AA83-1187-4323-BA90-E5A9E520A4E2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309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1D4-84AE-4259-93D5-9FE5CA77F253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353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3CE-CB3E-42AF-BE58-ADC63FC5F0E2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1hk01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WordArt 7"/>
          <p:cNvSpPr txBox="1"/>
          <p:nvPr/>
        </p:nvSpPr>
        <p:spPr>
          <a:xfrm>
            <a:off x="1835280" y="227664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秦兵马俑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6AC6-378A-4175-808C-CC3C2BA78911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矩形 5"/>
          <p:cNvSpPr/>
          <p:nvPr/>
        </p:nvSpPr>
        <p:spPr>
          <a:xfrm>
            <a:off x="0" y="0"/>
            <a:ext cx="66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advTm="8000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324000" y="1270080"/>
            <a:ext cx="87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誉   瞰     统      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征     靡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52360" y="260280"/>
            <a:ext cx="900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yù  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àn   tǒng  shuài 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hē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ǐ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395280" y="2133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ǔ   hàn   bìn    kǎi</a:t>
            </a: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uí  </a:t>
            </a: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ó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1150920" y="2925720"/>
            <a:ext cx="638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弩    颔      鬓      铠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魁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搏 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470880" y="4076640"/>
            <a:ext cx="727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h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è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       zhu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ó             sā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1561320" y="4941720"/>
            <a:ext cx="653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称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着</a:t>
            </a: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短甲</a:t>
            </a:r>
            <a:r>
              <a:rPr b="1" lang="zh-CN" sz="4400" spc="-1" strike="noStrike">
                <a:solidFill>
                  <a:srgbClr val="000c0c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撒</a:t>
            </a:r>
            <a:r>
              <a:rPr b="1" lang="zh-CN" sz="4400" spc="-1" strike="noStrike">
                <a:solidFill>
                  <a:srgbClr val="ffffcc"/>
                </a:solidFill>
                <a:latin typeface="Arial"/>
              </a:rPr>
              <a:t>开四蹄</a:t>
            </a:r>
            <a:r>
              <a:rPr b="1" lang="zh-CN" sz="4000" spc="-1" strike="noStrike">
                <a:solidFill>
                  <a:srgbClr val="000c0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灯片编号占位符 9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9CC6-F80D-4C29-8D8C-6869C9F7D975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7" name="页脚占位符 10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32400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2411280" y="90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252360" y="260280"/>
            <a:ext cx="892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举世无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全世界找不到第二个。形容非常稀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2400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征北战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形容转战南北，经历了许多战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2867400" y="1486080"/>
            <a:ext cx="15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惟妙惟肖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描写或模仿得非常逼真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324000" y="3645000"/>
            <a:ext cx="85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向披靡：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比喻力量所到达的地方，一切障碍全被扫除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395280" y="4941720"/>
            <a:ext cx="91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跃跃欲试：</a:t>
            </a: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急于要行动的样子。形容急切的想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试试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灯片编号占位符 10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8409-77A5-4775-B5DF-E6CB8691E05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6" name="页脚占位符 1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611280" y="1557360"/>
            <a:ext cx="81532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兵马俑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不仅</a:t>
            </a: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规模宏大，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而且</a:t>
            </a:r>
            <a:r>
              <a:rPr b="1" lang="zh-CN" sz="5400" spc="-1" strike="noStrike">
                <a:solidFill>
                  <a:srgbClr val="ffffcc"/>
                </a:solidFill>
                <a:latin typeface="Times New Roman"/>
              </a:rPr>
              <a:t>类型众多，个性鲜明。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07B7-3B0F-48E2-A78F-94B32BCE5259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9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0" y="-17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0242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60242"/>
                </a:solidFill>
                <a:latin typeface="Arial"/>
              </a:rPr>
              <a:t>兵马俑规模宏大。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已挖掘的三个俑坑，总面积近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000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平方米，差不多有五十个篮球场那么大，坑内有兵马俑近八千个。在三个俑坑中，一号坑最大，东西长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23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米，南北宽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62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米，总面积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14260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平方米；坑里的兵马俑也最多，有六千多个。一号坑上面，现在已经盖起了一座巨大的拱形大厅。走进大厅，站在高处鸟瞰，坑里的兵马俑一行行、一列列，十分整齐，排成了一个巨大的长方形军阵，真像是秦始皇当年统率的一支南征北战、所向披靡的大军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2A32-14D1-4B4E-AFD2-4DCD93F34467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1173960" y="981000"/>
            <a:ext cx="383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哪些语句说明兵马俑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的确“规模宏大”呢？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2676240" y="29973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面积之大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数量之多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阵容巨大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气势恢弘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灯片编号占位符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E22-DDA4-4979-B703-8C7647E4AA8E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页脚占位符 6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68360" y="620640"/>
            <a:ext cx="828036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兵马俑</a:t>
            </a:r>
            <a:r>
              <a:rPr b="1" lang="zh-CN" sz="32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规模宏大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已挖掘的三个俑坑，总面积近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20000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平方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，差不多有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五十个篮球场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那么大，坑内有兵马俑近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八千个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在三个俑坑中，一号坑最大，东西长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，南北宽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，总面积</a:t>
            </a:r>
            <a:r>
              <a:rPr b="1" lang="en-US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平方米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；坑里的兵马俑也最多，有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六千多个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一号坑上面，现在已经盖起了一座巨大的拱形大厅。走进大厅，站在高处鸟瞰，坑里的兵马俑一行行、一列列，十分整齐，排成了一个巨大的长方形军阵，真像是秦始皇当年统率的一支南征北战、所向披靡的大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92CE-CC3D-4D4E-8AAD-B4B5F2609F83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468360" y="620640"/>
            <a:ext cx="828036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兵马俑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规模宏大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。已挖掘的三个俑坑，总面积近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000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，差不多有五十个篮球场那么大，坑内有兵马俑近八千个。在三个俑坑中，一号坑最大，东西长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南北宽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米，总面积</a:t>
            </a:r>
            <a:r>
              <a:rPr b="1" lang="en-US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平方米；坑里的兵马俑也最多，有六千多个。一号坑上面，现在已经盖起了一座巨大的拱形大厅。走进大厅，站在高处鸟瞰，坑里的兵马俑一行行、一列列，十分整齐，排成了一个巨大的长方形军阵，真像是秦始皇当年统率的一支</a:t>
            </a:r>
            <a:r>
              <a:rPr b="1" lang="zh-CN" sz="3200" spc="-1" strike="noStrike">
                <a:solidFill>
                  <a:srgbClr val="f60242"/>
                </a:solidFill>
                <a:latin typeface="楷体_GB2312"/>
                <a:ea typeface="楷体_GB2312"/>
              </a:rPr>
              <a:t>南征北战、所向披靡</a:t>
            </a:r>
            <a:r>
              <a:rPr b="1" lang="zh-CN" sz="3200" spc="-1" strike="noStrike">
                <a:solidFill>
                  <a:srgbClr val="001010"/>
                </a:solidFill>
                <a:latin typeface="楷体_GB2312"/>
                <a:ea typeface="楷体_GB2312"/>
              </a:rPr>
              <a:t>的大军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2F5C-6F10-46A3-A545-C0E48E1A6B79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自学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4-9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自然段，完成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读一读，划出描写兵马俑外貌、神态、动作的词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议一议，你喜欢哪一类兵马俑，为什么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演一演，根据书上的描写摆一个造型，其他同学猜猜演的是什么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8406-B904-4B34-A0D8-EE2181B0BA1C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40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将军俑身材魁梧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头戴鹖冠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身披铠甲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手握宝剑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昂首挺胸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那神态自若的样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一看就知道是久经沙场、重任在肩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49" name="Picture 4" descr="yty23"/>
          <p:cNvPicPr/>
          <p:nvPr/>
        </p:nvPicPr>
        <p:blipFill>
          <a:blip r:embed="rId1"/>
          <a:stretch/>
        </p:blipFill>
        <p:spPr>
          <a:xfrm>
            <a:off x="7178760" y="1523880"/>
            <a:ext cx="1965240" cy="5334120"/>
          </a:xfrm>
          <a:prstGeom prst="rect">
            <a:avLst/>
          </a:prstGeom>
          <a:ln w="0">
            <a:noFill/>
          </a:ln>
        </p:spPr>
      </p:pic>
      <p:sp>
        <p:nvSpPr>
          <p:cNvPr id="650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FC7-FAF6-4E14-8E4F-71D43B3B5BC4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40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武士俑高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1.8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米左右，体格健壮，体态匀称。他们身着战袍，披挂铠甲，脚蹬前端向上翘起的战靴，手持兵器，整装待发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4" name="Picture 4" descr="ety24"/>
          <p:cNvPicPr/>
          <p:nvPr/>
        </p:nvPicPr>
        <p:blipFill>
          <a:blip r:embed="rId1"/>
          <a:stretch/>
        </p:blipFill>
        <p:spPr>
          <a:xfrm>
            <a:off x="6588000" y="1676520"/>
            <a:ext cx="2556000" cy="5181480"/>
          </a:xfrm>
          <a:prstGeom prst="rect">
            <a:avLst/>
          </a:prstGeom>
          <a:ln w="0">
            <a:noFill/>
          </a:ln>
        </p:spPr>
      </p:pic>
      <p:sp>
        <p:nvSpPr>
          <p:cNvPr id="655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6460-C038-46BE-B9CC-7E211F8EC24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6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5"/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9" name="Picture 6" descr="1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342A-5269-4CDF-AC34-D6573209DF90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1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59" name="Picture 4" descr="ety25"/>
          <p:cNvPicPr/>
          <p:nvPr/>
        </p:nvPicPr>
        <p:blipFill>
          <a:blip r:embed="rId1"/>
          <a:stretch/>
        </p:blipFill>
        <p:spPr>
          <a:xfrm>
            <a:off x="4038480" y="1676520"/>
            <a:ext cx="5105520" cy="4873680"/>
          </a:xfrm>
          <a:prstGeom prst="rect">
            <a:avLst/>
          </a:prstGeom>
          <a:ln w="0">
            <a:noFill/>
          </a:ln>
        </p:spPr>
      </p:pic>
      <p:sp>
        <p:nvSpPr>
          <p:cNvPr id="660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935-D385-42D8-9094-4FB0F9521850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4" name="Picture 4" descr="马"/>
          <p:cNvPicPr/>
          <p:nvPr/>
        </p:nvPicPr>
        <p:blipFill>
          <a:blip r:embed="rId1"/>
          <a:stretch/>
        </p:blipFill>
        <p:spPr>
          <a:xfrm>
            <a:off x="3200400" y="1933560"/>
            <a:ext cx="5943600" cy="4567320"/>
          </a:xfrm>
          <a:prstGeom prst="rect">
            <a:avLst/>
          </a:prstGeom>
          <a:ln w="0">
            <a:noFill/>
          </a:ln>
        </p:spPr>
      </p:pic>
      <p:sp>
        <p:nvSpPr>
          <p:cNvPr id="665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FAB6-2F78-4249-8BAA-FB1FDCF7377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668" name="Picture 3" descr="斜头"/>
            <p:cNvPicPr/>
            <p:nvPr/>
          </p:nvPicPr>
          <p:blipFill>
            <a:blip r:embed="rId1"/>
            <a:stretch/>
          </p:blipFill>
          <p:spPr>
            <a:xfrm>
              <a:off x="1042920" y="4138560"/>
              <a:ext cx="15685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Text Box 4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拳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听候号角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待命出征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0" name="Group 5"/>
          <p:cNvGrpSpPr/>
          <p:nvPr/>
        </p:nvGrpSpPr>
        <p:grpSpPr>
          <a:xfrm>
            <a:off x="250920" y="549360"/>
            <a:ext cx="3526920" cy="2043720"/>
            <a:chOff x="250920" y="549360"/>
            <a:chExt cx="3526920" cy="2043720"/>
          </a:xfrm>
        </p:grpSpPr>
        <p:pic>
          <p:nvPicPr>
            <p:cNvPr id="671" name="Picture 6" descr="深思"/>
            <p:cNvPicPr/>
            <p:nvPr/>
          </p:nvPicPr>
          <p:blipFill>
            <a:blip r:embed="rId2"/>
            <a:stretch/>
          </p:blipFill>
          <p:spPr>
            <a:xfrm>
              <a:off x="571680" y="694080"/>
              <a:ext cx="13723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Text Box 7"/>
            <p:cNvSpPr/>
            <p:nvPr/>
          </p:nvSpPr>
          <p:spPr>
            <a:xfrm>
              <a:off x="701280" y="549360"/>
              <a:ext cx="30765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有的颔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首低眉，若有所思，好像在考虑如何相互配合，战胜敌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250920" y="1805400"/>
              <a:ext cx="3076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4" name="Group 9"/>
          <p:cNvGrpSpPr/>
          <p:nvPr/>
        </p:nvGrpSpPr>
        <p:grpSpPr>
          <a:xfrm>
            <a:off x="5075280" y="333360"/>
            <a:ext cx="3600360" cy="4480920"/>
            <a:chOff x="5075280" y="333360"/>
            <a:chExt cx="3600360" cy="4480920"/>
          </a:xfrm>
        </p:grpSpPr>
        <p:pic>
          <p:nvPicPr>
            <p:cNvPr id="675" name="Picture 10" descr="发火"/>
            <p:cNvPicPr/>
            <p:nvPr/>
          </p:nvPicPr>
          <p:blipFill>
            <a:blip r:embed="rId3"/>
            <a:stretch/>
          </p:blipFill>
          <p:spPr>
            <a:xfrm>
              <a:off x="5087880" y="407880"/>
              <a:ext cx="15717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11"/>
            <p:cNvSpPr/>
            <p:nvPr/>
          </p:nvSpPr>
          <p:spPr>
            <a:xfrm>
              <a:off x="5075280" y="333360"/>
              <a:ext cx="3600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有的目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光炯炯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Text Box 12"/>
            <p:cNvSpPr/>
            <p:nvPr/>
          </p:nvSpPr>
          <p:spPr>
            <a:xfrm>
              <a:off x="530136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78" name="Group 13"/>
          <p:cNvGrpSpPr/>
          <p:nvPr/>
        </p:nvGrpSpPr>
        <p:grpSpPr>
          <a:xfrm>
            <a:off x="5003640" y="4076640"/>
            <a:ext cx="3396240" cy="2197080"/>
            <a:chOff x="5003640" y="4076640"/>
            <a:chExt cx="3396240" cy="2197080"/>
          </a:xfrm>
        </p:grpSpPr>
        <p:pic>
          <p:nvPicPr>
            <p:cNvPr id="679" name="Picture 14" descr="远方"/>
            <p:cNvPicPr/>
            <p:nvPr/>
          </p:nvPicPr>
          <p:blipFill>
            <a:blip r:embed="rId4"/>
            <a:stretch/>
          </p:blipFill>
          <p:spPr>
            <a:xfrm>
              <a:off x="5003640" y="4186440"/>
              <a:ext cx="158580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 Box 15"/>
            <p:cNvSpPr/>
            <p:nvPr/>
          </p:nvSpPr>
          <p:spPr>
            <a:xfrm>
              <a:off x="699984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cc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1" name="AutoShape 1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2" name="灯片编号占位符 1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EE9-58CD-404D-984A-86FB3CFBD131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页脚占位符 17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gsy9"/>
          <p:cNvPicPr/>
          <p:nvPr/>
        </p:nvPicPr>
        <p:blipFill>
          <a:blip r:embed="rId1"/>
          <a:stretch/>
        </p:blipFill>
        <p:spPr>
          <a:xfrm>
            <a:off x="5796000" y="620640"/>
            <a:ext cx="2879640" cy="568980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3"/>
          <p:cNvSpPr/>
          <p:nvPr/>
        </p:nvSpPr>
        <p:spPr>
          <a:xfrm>
            <a:off x="3816000" y="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9933"/>
                </a:solidFill>
                <a:latin typeface="Arial"/>
                <a:ea typeface="华文隶书"/>
              </a:rPr>
              <a:t>课堂小练笔：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华文楷体"/>
              </a:rPr>
              <a:t>抓住外貌、神态描写，并能展开合理的想象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7" name="Picture 5" descr="lsy5"/>
          <p:cNvPicPr/>
          <p:nvPr/>
        </p:nvPicPr>
        <p:blipFill>
          <a:blip r:embed="rId2"/>
          <a:stretch/>
        </p:blipFill>
        <p:spPr>
          <a:xfrm>
            <a:off x="324000" y="3068640"/>
            <a:ext cx="1655640" cy="31687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6" descr="qshtu4"/>
          <p:cNvPicPr/>
          <p:nvPr/>
        </p:nvPicPr>
        <p:blipFill>
          <a:blip r:embed="rId3"/>
          <a:stretch/>
        </p:blipFill>
        <p:spPr>
          <a:xfrm>
            <a:off x="3059280" y="620640"/>
            <a:ext cx="2519280" cy="244944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7"/>
          <p:cNvSpPr/>
          <p:nvPr/>
        </p:nvSpPr>
        <p:spPr>
          <a:xfrm>
            <a:off x="0" y="6308640"/>
            <a:ext cx="9001080" cy="520560"/>
          </a:xfrm>
          <a:prstGeom prst="rect">
            <a:avLst/>
          </a:prstGeom>
          <a:solidFill>
            <a:srgbClr val="808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有的兵俑，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001010"/>
                </a:solidFill>
                <a:uFillTx/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00101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90" name="Picture 8" descr="无标题"/>
          <p:cNvPicPr/>
          <p:nvPr/>
        </p:nvPicPr>
        <p:blipFill>
          <a:blip r:embed="rId4"/>
          <a:stretch/>
        </p:blipFill>
        <p:spPr>
          <a:xfrm>
            <a:off x="2124000" y="3141720"/>
            <a:ext cx="3527640" cy="3051000"/>
          </a:xfrm>
          <a:prstGeom prst="rect">
            <a:avLst/>
          </a:prstGeom>
          <a:ln w="0">
            <a:noFill/>
          </a:ln>
        </p:spPr>
      </p:pic>
      <p:pic>
        <p:nvPicPr>
          <p:cNvPr id="691" name="一生爱恋..wma" descr=""/>
          <p:cNvPicPr/>
          <p:nvPr/>
        </p:nvPicPr>
        <p:blipFill>
          <a:blip r:embed="rId5"/>
          <a:stretch/>
        </p:blipFill>
        <p:spPr>
          <a:xfrm>
            <a:off x="8640720" y="584028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0" descr="whyc005"/>
          <p:cNvPicPr/>
          <p:nvPr/>
        </p:nvPicPr>
        <p:blipFill>
          <a:blip r:embed="rId6"/>
          <a:stretch/>
        </p:blipFill>
        <p:spPr>
          <a:xfrm>
            <a:off x="0" y="476280"/>
            <a:ext cx="3024360" cy="2395440"/>
          </a:xfrm>
          <a:prstGeom prst="rect">
            <a:avLst/>
          </a:prstGeom>
          <a:ln w="0">
            <a:noFill/>
          </a:ln>
        </p:spPr>
      </p:pic>
      <p:sp>
        <p:nvSpPr>
          <p:cNvPr id="693" name="灯片编号占位符 1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42E-FBB7-489F-8D08-517193B843EC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页脚占位符 13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69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69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31705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神态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96" name="Picture 4" descr="低头"/>
          <p:cNvPicPr/>
          <p:nvPr/>
        </p:nvPicPr>
        <p:blipFill>
          <a:blip r:embed="rId1"/>
          <a:stretch/>
        </p:blipFill>
        <p:spPr>
          <a:xfrm>
            <a:off x="6761160" y="0"/>
            <a:ext cx="2382840" cy="34290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5" descr="愁眉苦脸"/>
          <p:cNvPicPr/>
          <p:nvPr/>
        </p:nvPicPr>
        <p:blipFill>
          <a:blip r:embed="rId2"/>
          <a:stretch/>
        </p:blipFill>
        <p:spPr>
          <a:xfrm>
            <a:off x="4572000" y="0"/>
            <a:ext cx="2300400" cy="3429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" descr="出征"/>
          <p:cNvPicPr/>
          <p:nvPr/>
        </p:nvPicPr>
        <p:blipFill>
          <a:blip r:embed="rId3"/>
          <a:stretch/>
        </p:blipFill>
        <p:spPr>
          <a:xfrm>
            <a:off x="2438280" y="0"/>
            <a:ext cx="2162160" cy="3429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7" descr="打仗"/>
          <p:cNvPicPr/>
          <p:nvPr/>
        </p:nvPicPr>
        <p:blipFill>
          <a:blip r:embed="rId4"/>
          <a:stretch/>
        </p:blipFill>
        <p:spPr>
          <a:xfrm>
            <a:off x="228600" y="0"/>
            <a:ext cx="2197080" cy="3429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8" descr="光头"/>
          <p:cNvPicPr/>
          <p:nvPr/>
        </p:nvPicPr>
        <p:blipFill>
          <a:blip r:embed="rId5"/>
          <a:stretch/>
        </p:blipFill>
        <p:spPr>
          <a:xfrm>
            <a:off x="228600" y="3429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9" descr="老头"/>
          <p:cNvPicPr/>
          <p:nvPr/>
        </p:nvPicPr>
        <p:blipFill>
          <a:blip r:embed="rId6"/>
          <a:stretch/>
        </p:blipFill>
        <p:spPr>
          <a:xfrm>
            <a:off x="4724280" y="342900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702" name="AutoShape 10">
            <a:hlinkClick r:id="" action="ppaction://hlinkshowjump?jump=nextslide"/>
          </p:cNvPr>
          <p:cNvSpPr/>
          <p:nvPr/>
        </p:nvSpPr>
        <p:spPr>
          <a:xfrm>
            <a:off x="85345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3" name="AutoShape 11">
            <a:hlinkClick r:id="" action="ppaction://hlinkshowjump?jump=lastslide"/>
          </p:cNvPr>
          <p:cNvSpPr/>
          <p:nvPr/>
        </p:nvSpPr>
        <p:spPr>
          <a:xfrm>
            <a:off x="8915400" y="64771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AutoShape 12">
            <a:hlinkClick r:id="" action="ppaction://hlinkshowjump?jump=firstslide"/>
          </p:cNvPr>
          <p:cNvSpPr/>
          <p:nvPr/>
        </p:nvSpPr>
        <p:spPr>
          <a:xfrm>
            <a:off x="80773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0800" y="6540"/>
                </a:moveTo>
                <a:lnTo>
                  <a:pt x="13376" y="9151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2"/>
                </a:lnTo>
                <a:lnTo>
                  <a:pt x="5491" y="20692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6">
                <a:moveTo>
                  <a:pt x="13376" y="9151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6">
                <a:moveTo>
                  <a:pt x="9877" y="17002"/>
                </a:moveTo>
                <a:lnTo>
                  <a:pt x="11723" y="17002"/>
                </a:lnTo>
                <a:lnTo>
                  <a:pt x="11723" y="20692"/>
                </a:lnTo>
                <a:lnTo>
                  <a:pt x="16109" y="20692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2"/>
                </a:lnTo>
                <a:lnTo>
                  <a:pt x="9877" y="20692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05" name="Picture 13" descr="思考"/>
          <p:cNvPicPr/>
          <p:nvPr/>
        </p:nvPicPr>
        <p:blipFill>
          <a:blip r:embed="rId7"/>
          <a:stretch/>
        </p:blipFill>
        <p:spPr>
          <a:xfrm>
            <a:off x="2438280" y="3429000"/>
            <a:ext cx="22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4" descr="铜铃"/>
          <p:cNvPicPr/>
          <p:nvPr/>
        </p:nvPicPr>
        <p:blipFill>
          <a:blip r:embed="rId8"/>
          <a:stretch/>
        </p:blipFill>
        <p:spPr>
          <a:xfrm>
            <a:off x="6983280" y="342900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707" name="AutoShape 15">
            <a:hlinkClick r:id="" action="ppaction://hlinkshowjump?jump=nextslide"/>
          </p:cNvPr>
          <p:cNvSpPr/>
          <p:nvPr/>
        </p:nvSpPr>
        <p:spPr>
          <a:xfrm>
            <a:off x="86104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灯片编号占位符 1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8792-62ED-4F0E-8BB5-B47669192BD8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9" name="页脚占位符 1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380880" y="457200"/>
            <a:ext cx="312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秦兵马俑，在古今中外的雕塑史上是绝无仅有的。它惟妙惟肖地模拟军阵的排列，生动地再现了秦军雄兵百万、战车千乘的宏伟气势，形象地展示了中华民族的强大力量和英雄气概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12" name="Picture 4" descr="Cover"/>
          <p:cNvPicPr/>
          <p:nvPr/>
        </p:nvPicPr>
        <p:blipFill>
          <a:blip r:embed="rId1"/>
          <a:srcRect l="0" t="2205" r="4704" b="0"/>
          <a:stretch/>
        </p:blipFill>
        <p:spPr>
          <a:xfrm>
            <a:off x="144360" y="2781360"/>
            <a:ext cx="8748720" cy="4365720"/>
          </a:xfrm>
          <a:prstGeom prst="rect">
            <a:avLst/>
          </a:prstGeom>
          <a:ln w="0">
            <a:noFill/>
          </a:ln>
        </p:spPr>
      </p:pic>
      <p:sp>
        <p:nvSpPr>
          <p:cNvPr id="713" name="灯片编号占位符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CE1A-A5ED-4348-8DA0-9C18E4259613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页脚占位符 7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华文隶书"/>
              </a:rPr>
              <a:t>有关资料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秦始皇兵马俑博物馆，是建立在兵马俑坑原址上的遗址性博物馆，是举世闻名的大型遗址性博物馆。兵马俑被誉为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世界第八大奇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二十世纪考古史上的伟大发现之一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987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2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月，联合国教科文组织已将秦始皇陵（包括兵马俑坑）列入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世界文化遗产名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”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。它不仅是中国人民、也是全人类的一份珍贵文化财富。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7" name="灯片编号占位符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EED-FDF1-4B08-99A4-94A5D26A16B6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页脚占位符 6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世界八大奇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埃及金字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巴比伦的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空中花园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以弗所（小亚细亚）的阿泰密斯神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奥林匹亚的宙斯神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哈利卡纳苏（小亚细亚）的摩索拉斯陵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地中海罗得岛上的太阳神巨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亚历山大城的灯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国兵马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1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5D5A-423D-45C6-826F-1C9F5A69058B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6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自选题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-360" y="19414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请你谈谈学了本课后的感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请你观察书上的插图（或上网寻找有关图片资料），展开想象，描述你感兴趣的一个兵马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5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5E6A-ACDB-451C-AC98-A65BB3FFF593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5"/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3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722-BE18-4DAF-8701-64665E8AF3C0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5"/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88" name="Picture 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4780-388A-4432-ABFE-362D38691BD3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2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灯片编号占位符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2914-C2A2-4446-AF47-A903B95162BF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页脚占位符 4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矩形 5"/>
          <p:cNvSpPr/>
          <p:nvPr/>
        </p:nvSpPr>
        <p:spPr>
          <a:xfrm>
            <a:off x="0" y="0"/>
            <a:ext cx="65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灯片编号占位符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521-A350-4ADB-BEA3-E244BBF228F5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页脚占位符 3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1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灯片编号占位符 2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2BC8-52A2-4CCB-9D96-64BBBAC301AE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页脚占位符 3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301680" y="1125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世界的奇迹，民族的骄傲。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李光耀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这一激动人心印象深刻的秦俑，是具有创造性的人民和伟大未来的证明。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基辛格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古都有先人留艺术瑰宝，华夏待来者绘锦绣宏图。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萧克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0CD-46D9-40DE-875B-1BDCF2473170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1hk01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668920"/>
          </a:xfrm>
          <a:prstGeom prst="rect">
            <a:avLst/>
          </a:prstGeom>
          <a:ln w="0">
            <a:noFill/>
          </a:ln>
        </p:spPr>
      </p:pic>
      <p:sp>
        <p:nvSpPr>
          <p:cNvPr id="608" name="灯片编号占位符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ECAE-C4B7-4ED7-BB82-E1772D3C6DC7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页脚占位符 5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绿色圃中小学教育网|http://www.lspjy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5:27Z</dcterms:modified>
  <cp:revision>27</cp:revision>
  <dc:subject>绿色圃中小学教育网|http://www.lspjy.com</dc:subject>
  <dc:title>绿色圃中小学教育网|http://www.lspjy.com</dc:title>
</cp:coreProperties>
</file>