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jpeg" ContentType="image/jpeg"/>
  <Override PartName="/ppt/media/image16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1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6917-7B07-4AFB-B8FC-D1F23B74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4971-EA11-4F4F-9065-AFFB3324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B2EB6-003C-41C3-9A0B-5E12C50B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FB666-27CC-4ED7-ADFC-53647A31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9453E-0BD1-4AE8-8ECA-5CB48965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68441A-10FE-4DBA-A24F-63096A17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A8321-AF59-46EC-86E8-33F2D2B1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1E635-5299-4EB3-A840-410E0E0C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677BE-997A-4E06-A837-34CC6990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A1F6B-593F-4B3F-8C24-7D5AA70B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9BC55-7743-4DAC-8DFF-E3AB21C2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26D22-BC82-42AB-AE1D-12DE12F6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F4B-573E-4446-8E0B-E324F4F7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EA33C-F99E-4F68-A42F-1D591EBC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B840E-80B3-4DA8-B12B-8BA654A9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3A198-94DD-40E4-9B8C-4DE4E968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23A7E-E917-47F1-A901-881622A3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AF7BF-BD72-48F6-B09E-93598D6E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9BBF8-6267-4605-83B6-98D34308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D472A-EDCF-46B3-9C27-2A2CDF91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A0214-1BF6-42C1-ABDD-41C5AB34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ED2F3-707F-48A5-A3C2-49BAC6CA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92CF8-AE92-45A2-8FA8-0BFE6A16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E68-EB67-4743-B9B0-CD5F1E69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6E01F-49A8-4388-8BBB-53FBC257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8CC77-6DC2-4A15-90FC-AD66F518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C24CB-1EFE-425E-84ED-8AD5F6FC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90762-DF37-4007-AB08-CA315D40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1A42F-5EEB-4E8B-8A23-A86A7462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B3D01-4835-45D6-9A0E-1ED7DCB1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95BF0-A175-44F1-9625-BAA1FD68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9A847-4316-4B56-87BC-83B755A1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136F1-C488-41F6-BF6A-CF3999ED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FEEC5-B9AC-4846-8035-D5704A0C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0B0A-9DFC-41BA-B01E-DFC93A50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324CC-A6DE-4A10-8974-5660711F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7EE06-061D-4764-9BE3-90EBCE89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92B8C4-7013-420E-8A6F-24D1EDBA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BC192-D65E-43A3-BEEB-6F1F05B6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9D521-B84A-4C55-9A73-9F148E8F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1B477F-1161-4A27-AFE4-E78A041A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F4BA1-FC0B-4CAC-A26B-B0563564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B2949-317D-46F6-9CD8-D03E368A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ADB55-9A78-4537-BE2E-0603D781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112A2-81B4-4B0F-B175-1A0E548D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ECC0-A5A2-4B19-AA32-60FC2466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CD2DE-A77F-48EA-AD7D-0810B9D3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18168-6BC5-4F64-9BB1-80832E4F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A13F3-E9FD-4481-9F03-D79820FB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EE888-CB52-4D62-9993-45048E6E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A1086-E976-46DD-8230-EB8BDD03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A583F-6338-4433-8E69-1C03982D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E3BAF-39B8-47B1-94A4-938FBC93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6A9AB6-7A40-497D-BBE0-F2369806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621A42-2FAD-497A-B258-80317EFA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34AA7-76B7-4AE0-82D1-60A0284B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0C9F-C7D3-44EF-9898-A4854E6A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B6AFC-FD86-4012-B1F5-E8D2896E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5CEFD-D37F-44D4-842A-5AEEB37C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BC0832-EBCA-43ED-8357-4B4B853A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F6A34-BECB-4702-B33C-55FA8949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C143C1-3040-4B59-B5F6-D56FF68B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0BF86-C0C2-42F5-84E1-61657E72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C6231-C69C-431C-B950-A9515F27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A7AD02-E39E-47D8-A5BD-86D74AEE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C8E9E-E52A-408F-825F-9B32341B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97C498-A30C-415E-B858-CCC3B410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BC70-7CC5-4651-A9A3-47F68597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A1D778-3A82-4AD1-88A9-AEAE0D10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7FC426-09C7-4D16-AA99-CAE3AE9F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8407FE-3E50-4B5D-BAC0-DEE4951B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9B6F0-ECA4-4CB2-AFF7-ACC8DCAC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1FB57E-378B-44FD-9044-7892DB00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1EB00-24A1-4557-A8E4-CF01068A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4016F6-E88B-4886-9916-EE332F7A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F62C2D-9F8D-45A0-BB09-A2462CE7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D8B2CA-90BA-48A9-A8A8-8D574370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A18A6-016F-4608-9A86-99093E23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CAAC-5F37-4827-B517-AD01A280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8797CE-1D39-4508-9705-5D803B68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C6112B-CB9F-45F7-93C7-0B84E232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5C3382-B2DE-4784-A3D7-804C16E0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A546E7-127B-49C3-A998-DE75506A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581FC8-05BE-4CF4-83B8-925676A6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B47627-58C1-4AB0-8506-95ACFCF5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B831C2-85FB-4845-84D7-E57D21BA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472BBE-8B16-49F7-A60E-32C535E2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4D09BC-0AE5-4B10-A843-8B6D0544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1AC60-DED0-46CF-831F-9486CE4C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8AE0-F5E5-44BC-813A-715C4D6C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B52A60-817D-4731-96FD-6E347204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5AD3-02B4-45CD-9AC0-4B1A2AB2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0FB-506D-49B0-9F25-D5377A42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08BF-9E22-495B-99B7-4EA40A53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E6F0-5A8A-45FE-AC40-0F71E10D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2DF6-6BA8-4FDC-B33D-C73472E7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42CF-4C15-48A6-8352-B2BB3749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4D42-F4D9-4E99-BC91-CC2FFA66A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65035-524F-4A97-AE83-A3EDF612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E7602-C2B0-4509-B392-FA64887A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568AF-BD55-40AB-ADD1-B08456A1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40E5F-5B58-4DCA-AF75-62607186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FDB73-46E4-45D5-8C25-4774FBCD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BE31-C730-4B90-9CF7-C14362FC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97239-C9D0-4B47-9852-E220B144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2478D-ABAF-4EBF-9CBD-B00E8255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A1428-B29F-49CE-9B95-657741B7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3853C-68A6-43DF-970A-6C94A804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2C1EC-A81E-4838-94A0-E2BC4799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F7EE3-2A46-454F-858B-6B0E01A8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9F7FF-F8C5-4A68-A3E3-5F3440D2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0A6E1-BB61-4053-942F-626DEEE2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FC046-DEFA-4687-A69A-6D30FD08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BE57E-7234-4332-B349-33CC1822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94B-BFEF-4541-A515-34997189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85F5C-4774-4854-B96E-ACA63C4F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304D2-1FAB-4680-BDF8-3C20AE4B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81AB6-4B31-48C9-A35C-4D323117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A654B-0329-4C86-BE53-475F5CDB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BC73F-CDC2-4116-BFAF-283F0E2A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30E1B-C5BD-45E9-AD32-AFE1F15C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FEA48-A662-45A4-80B3-8AAAD659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48AAF-4D1E-4F90-964E-1CB305DF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36134-73DB-48E4-B9C0-C53ED0D2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E6D25-A85E-4A08-9E10-067EF817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4E3-35DE-4DCB-92EA-E96B9733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E7498-F0E5-4E83-999C-1D9CB447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8CCF0-63DF-4C84-9794-6D4BDA55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E1E9F-1185-4F46-B6E6-09D4E73F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4BC8C-AAB5-4506-A132-0BB6F18E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B9A82-4F03-4EFE-8721-4D5972E4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EB376-DA52-413A-80BF-15B57C1A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D3AA2-9E31-4E5E-8BE3-F00C8A10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33C52-E775-451F-8DE4-EFE47656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389D7-7C78-4EE4-9AA4-0548C9F7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A0A88-9815-4418-95BA-28E6196F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F1F-F9A4-4379-BC6A-AD53B187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265FE-BF25-4ACD-A239-A0E55CB0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9FDF1-DB8A-4E74-ABAF-BAF01413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C9ABC-2C04-4A02-91B0-7D07D35E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10F3C-15C6-4DD1-B108-C38B3C04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A4F5A-5585-4787-AC3D-BCCC8B68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3C500-7646-40DD-94A8-3EF7CA3E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54EFD-B099-438F-A6DB-83EE937D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4C386-6712-48F2-A63F-3E9463FC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56CBA-14CA-4DA4-B5F7-FEEF5DE4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F0EE7-D56B-41FE-8DC0-853E9512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F5ED-592E-4B0A-A1FA-276A276E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D9463-41AA-4B47-A1BD-E2242D47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1D705-A080-410A-A9FE-493B3AB3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F2738-DF19-4DD5-8DDA-C2F1567A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6636C-4FC4-4447-BA2E-0A9815342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B6894-307B-4DBD-8E10-99296C31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3517B-AA7B-48F6-9D4B-D5E8910A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1E6A5-ADE5-42DD-96AD-88D0D75D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691C5-E400-47B5-B30C-236D720B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61780-99D4-4BE8-A264-4084B25D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941EE-2309-4E4E-BE30-45C2F4BD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ADEC-8AA7-4800-8890-7B25F648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8FCCF-14DA-4591-9057-2FE32378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C528C-0A39-4972-8726-A93802F5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B3EE9-EDD0-4CF1-8D77-64152D9D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5C99C-68BD-445C-88D7-BF45FF7D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0010F-A68F-474B-9C34-5708A476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744E0-1117-4665-A553-ADB209F9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1831C-8ED2-4602-85FA-38273A04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95333-38AD-431F-B68E-08E4E54C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8E64B-462F-41B5-80A3-6CAF1AD2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A3340-6845-47F5-A3D0-A86A2E36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C528-EA76-45D4-8C8F-6885B87F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181BF-EAAB-4EA7-972F-05ECAF67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2EEB3-3270-4318-91DF-7B5FBF5E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B5035-BDC1-4E08-89B7-55A4A2D3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E30D1-8189-42D9-AE96-89514205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7958B-955C-4387-A4C1-73F76DB9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DBFCD-515F-4D88-A337-48D717DC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13BF8-3730-432A-A0CE-80985E39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BB3C3-B69A-4E4A-85B2-C96302E6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08519-2100-4421-9E45-1AB0F0C9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04D98-EF6F-4377-8ED8-ACE66E10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40FD-2FAE-4AF4-8388-86C285DBA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9785-1233-44DB-9837-A1121ADFC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3402-5346-41A8-AFAC-370EC278A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71D1-3C6A-41F9-A28B-A96D22D74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2D9F-C42A-4B2E-9A56-0ECE2DF52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371A-C790-44F0-BB1C-9297DD57B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6BB2-477F-43F8-A879-E52C4DF914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7063-E777-4760-BE73-DE94926C5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97FD-09F4-4E99-A4CA-4B0A49016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5FAC-978C-4698-80AE-2BAA4D873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B053-8C5A-41FB-B4E6-C6A6FF78A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9E03-4C6C-4A5A-B515-C95899277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4527-1D65-4F37-B1B0-F3E29F22E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C1E0-102E-41CD-BA92-0AFCAB0B0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99DA-F707-40C4-9792-8BF0823DA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4" descr="bhxs"/>
          <p:cNvPicPr/>
          <p:nvPr/>
        </p:nvPicPr>
        <p:blipFill>
          <a:blip r:embed="rId1"/>
          <a:stretch/>
        </p:blipFill>
        <p:spPr>
          <a:xfrm>
            <a:off x="2050920" y="2743200"/>
            <a:ext cx="5086440" cy="411480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66"/>
                </a:solidFill>
                <a:latin typeface="隶书"/>
                <a:ea typeface="隶书"/>
              </a:rPr>
              <a:t>第</a:t>
            </a:r>
            <a:r>
              <a:rPr b="1" lang="en-US" sz="8000" spc="-1" strike="noStrike">
                <a:solidFill>
                  <a:srgbClr val="ffff66"/>
                </a:solidFill>
                <a:latin typeface="隶书"/>
                <a:ea typeface="隶书"/>
              </a:rPr>
              <a:t>13</a:t>
            </a:r>
            <a:r>
              <a:rPr b="1" lang="zh-CN" sz="8000" spc="-1" strike="noStrike">
                <a:solidFill>
                  <a:srgbClr val="ffff66"/>
                </a:solidFill>
                <a:latin typeface="隶书"/>
                <a:ea typeface="隶书"/>
              </a:rPr>
              <a:t>课 白鹅</a:t>
            </a:r>
            <a:endParaRPr b="0" lang="en-US" sz="8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1476360" y="1844640"/>
            <a:ext cx="5616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丰子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灯片编号占位符 6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0E1F-1063-4C4A-B3DC-CF10991375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|http://www.lspjy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矩形 6"/>
          <p:cNvSpPr/>
          <p:nvPr/>
        </p:nvSpPr>
        <p:spPr>
          <a:xfrm>
            <a:off x="391320" y="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矩形 7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矩形 8"/>
          <p:cNvSpPr/>
          <p:nvPr/>
        </p:nvSpPr>
        <p:spPr>
          <a:xfrm>
            <a:off x="4538520" y="352728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659" name="Picture 4" descr="yadan"/>
          <p:cNvPicPr/>
          <p:nvPr/>
        </p:nvPicPr>
        <p:blipFill>
          <a:blip r:embed="rId1"/>
          <a:stretch/>
        </p:blipFill>
        <p:spPr>
          <a:xfrm>
            <a:off x="0" y="0"/>
            <a:ext cx="5219640" cy="35370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6" descr="yadan"/>
          <p:cNvPicPr/>
          <p:nvPr/>
        </p:nvPicPr>
        <p:blipFill>
          <a:blip r:embed="rId2"/>
          <a:stretch/>
        </p:blipFill>
        <p:spPr>
          <a:xfrm>
            <a:off x="4464000" y="3554280"/>
            <a:ext cx="4680000" cy="3303720"/>
          </a:xfrm>
          <a:prstGeom prst="rect">
            <a:avLst/>
          </a:prstGeom>
          <a:ln w="0">
            <a:noFill/>
          </a:ln>
        </p:spPr>
      </p:pic>
      <p:sp>
        <p:nvSpPr>
          <p:cNvPr id="661" name="灯片编号占位符 6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6AF6-0FFC-4D28-8B41-A1A9CE3002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5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0000cc"/>
                </a:solidFill>
                <a:latin typeface="Arial"/>
              </a:rPr>
              <a:t>叫嚣    麒麟    冥顽    </a:t>
            </a:r>
            <a:br>
              <a:rPr sz="6600"/>
            </a:br>
            <a:r>
              <a:rPr b="1" lang="zh-CN" sz="6600" spc="-1" strike="noStrike">
                <a:solidFill>
                  <a:srgbClr val="0000cc"/>
                </a:solidFill>
                <a:latin typeface="Arial"/>
              </a:rPr>
              <a:t>  岑寂    盛馔    窥伺           </a:t>
            </a:r>
            <a:br>
              <a:rPr sz="6600"/>
            </a:br>
            <a:r>
              <a:rPr b="1" lang="zh-CN" sz="6600" spc="-1" strike="noStrike">
                <a:solidFill>
                  <a:srgbClr val="0000cc"/>
                </a:solidFill>
                <a:latin typeface="Arial"/>
              </a:rPr>
              <a:t>  猥鄙                              引吭高歌    蹑手蹑脚</a:t>
            </a:r>
            <a:br>
              <a:rPr sz="6600"/>
            </a:br>
            <a:endParaRPr b="0" lang="en-US" sz="6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4" name="灯片编号占位符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59ED-E3E9-4707-9ED5-E542A4648B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301680" y="476280"/>
            <a:ext cx="85406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目标</a:t>
            </a: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6000" spc="-1" strike="noStrike">
                <a:solidFill>
                  <a:srgbClr val="0000cc"/>
                </a:solidFill>
                <a:latin typeface="黑体"/>
                <a:ea typeface="黑体"/>
              </a:rPr>
              <a:t>、作者运用对比突出白鹅特点的写法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6000" spc="-1" strike="noStrike">
                <a:solidFill>
                  <a:srgbClr val="0000cc"/>
                </a:solidFill>
                <a:latin typeface="黑体"/>
                <a:ea typeface="黑体"/>
              </a:rPr>
              <a:t>、了解文章抓住事物特征写作的角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灯片编号占位符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DCFC-D620-418A-8056-FCDD6E7588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矩形 4"/>
          <p:cNvSpPr/>
          <p:nvPr/>
        </p:nvSpPr>
        <p:spPr>
          <a:xfrm>
            <a:off x="391320" y="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矩形 5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矩形 6"/>
          <p:cNvSpPr/>
          <p:nvPr/>
        </p:nvSpPr>
        <p:spPr>
          <a:xfrm>
            <a:off x="4538520" y="352728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4" descr="1311"/>
          <p:cNvPicPr/>
          <p:nvPr/>
        </p:nvPicPr>
        <p:blipFill>
          <a:blip r:embed="rId1"/>
          <a:stretch/>
        </p:blipFill>
        <p:spPr>
          <a:xfrm>
            <a:off x="900000" y="333360"/>
            <a:ext cx="7344000" cy="6191280"/>
          </a:xfrm>
          <a:prstGeom prst="rect">
            <a:avLst/>
          </a:prstGeom>
          <a:ln w="0">
            <a:noFill/>
          </a:ln>
        </p:spPr>
      </p:pic>
      <p:sp>
        <p:nvSpPr>
          <p:cNvPr id="633" name="灯片编号占位符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A819-8E1F-4B4C-815E-01004F19C9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301680" y="333360"/>
            <a:ext cx="8540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作者简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丰子恺 （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898—1975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）</a:t>
            </a:r>
            <a:br>
              <a:rPr sz="1600"/>
            </a:br>
            <a:br>
              <a:rPr sz="1600"/>
            </a:b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初名丰润，后改名丰仁，字子凱，后称子愷。</a:t>
            </a: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898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年</a:t>
            </a: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1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月</a:t>
            </a: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9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日生于浙江桐乡石门镇。</a:t>
            </a: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914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年秋考入浙江省第一师范学校，受教于文学家夏丏尊，艺术家李叔同。</a:t>
            </a: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975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年</a:t>
            </a: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9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月</a:t>
            </a: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5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日在上海逝世，享年</a:t>
            </a: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77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岁。</a:t>
            </a:r>
            <a:br>
              <a:rPr sz="4000"/>
            </a:b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著名画家、艺术教育家，我国美育教育的先驱者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灯片编号占位符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5F07-D806-4DA6-BD4B-10EA235B6C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快速阅读全文思考</a:t>
            </a: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文章突出了白鹅什么特点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文章从哪几个方面描写白鹅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全文最突出运用的修辞方法是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C6C1-9F5D-4EF8-A959-3CFC9F389B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4" descr="e8"/>
          <p:cNvPicPr/>
          <p:nvPr/>
        </p:nvPicPr>
        <p:blipFill>
          <a:blip r:embed="rId1"/>
          <a:stretch/>
        </p:blipFill>
        <p:spPr>
          <a:xfrm>
            <a:off x="611280" y="333360"/>
            <a:ext cx="2992320" cy="30956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" descr="lang"/>
          <p:cNvPicPr/>
          <p:nvPr/>
        </p:nvPicPr>
        <p:blipFill>
          <a:blip r:embed="rId2"/>
          <a:stretch/>
        </p:blipFill>
        <p:spPr>
          <a:xfrm>
            <a:off x="6732720" y="333360"/>
            <a:ext cx="2133360" cy="35272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9" descr="qilin"/>
          <p:cNvPicPr/>
          <p:nvPr/>
        </p:nvPicPr>
        <p:blipFill>
          <a:blip r:embed="rId3"/>
          <a:stretch/>
        </p:blipFill>
        <p:spPr>
          <a:xfrm>
            <a:off x="611280" y="4076640"/>
            <a:ext cx="3024000" cy="24670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虎"/>
          <p:cNvPicPr/>
          <p:nvPr/>
        </p:nvPicPr>
        <p:blipFill>
          <a:blip r:embed="rId4"/>
          <a:stretch/>
        </p:blipFill>
        <p:spPr>
          <a:xfrm>
            <a:off x="4067280" y="3645000"/>
            <a:ext cx="4249800" cy="28321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5" descr="猪"/>
          <p:cNvPicPr/>
          <p:nvPr/>
        </p:nvPicPr>
        <p:blipFill>
          <a:blip r:embed="rId5"/>
          <a:stretch/>
        </p:blipFill>
        <p:spPr>
          <a:xfrm>
            <a:off x="3924360" y="620640"/>
            <a:ext cx="2449440" cy="2449440"/>
          </a:xfrm>
          <a:prstGeom prst="rect">
            <a:avLst/>
          </a:prstGeom>
          <a:ln w="0">
            <a:noFill/>
          </a:ln>
        </p:spPr>
      </p:pic>
      <p:sp>
        <p:nvSpPr>
          <p:cNvPr id="647" name="灯片编号占位符 8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F798-1C4C-4B18-8D5E-4EC223797E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4" descr="2e"/>
          <p:cNvPicPr/>
          <p:nvPr/>
        </p:nvPicPr>
        <p:blipFill>
          <a:blip r:embed="rId1"/>
          <a:stretch/>
        </p:blipFill>
        <p:spPr>
          <a:xfrm>
            <a:off x="395280" y="836640"/>
            <a:ext cx="4392720" cy="43927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e10"/>
          <p:cNvPicPr/>
          <p:nvPr/>
        </p:nvPicPr>
        <p:blipFill>
          <a:blip r:embed="rId2"/>
          <a:stretch/>
        </p:blipFill>
        <p:spPr>
          <a:xfrm>
            <a:off x="4788000" y="836640"/>
            <a:ext cx="4246560" cy="4392720"/>
          </a:xfrm>
          <a:prstGeom prst="rect">
            <a:avLst/>
          </a:prstGeom>
          <a:ln w="0">
            <a:noFill/>
          </a:ln>
        </p:spPr>
      </p:pic>
      <p:sp>
        <p:nvSpPr>
          <p:cNvPr id="651" name="灯片编号占位符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35AE-AAC0-4E47-8191-4665EE6E2A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4" descr="e9"/>
          <p:cNvPicPr/>
          <p:nvPr/>
        </p:nvPicPr>
        <p:blipFill>
          <a:blip r:embed="rId1"/>
          <a:stretch/>
        </p:blipFill>
        <p:spPr>
          <a:xfrm>
            <a:off x="395280" y="333360"/>
            <a:ext cx="3759120" cy="38876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htd"/>
          <p:cNvPicPr/>
          <p:nvPr/>
        </p:nvPicPr>
        <p:blipFill>
          <a:blip r:embed="rId2"/>
          <a:stretch/>
        </p:blipFill>
        <p:spPr>
          <a:xfrm>
            <a:off x="4788000" y="404640"/>
            <a:ext cx="3887640" cy="25750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wgte"/>
          <p:cNvPicPr/>
          <p:nvPr/>
        </p:nvPicPr>
        <p:blipFill>
          <a:blip r:embed="rId3"/>
          <a:stretch/>
        </p:blipFill>
        <p:spPr>
          <a:xfrm>
            <a:off x="4788000" y="3284640"/>
            <a:ext cx="2382840" cy="3240000"/>
          </a:xfrm>
          <a:prstGeom prst="rect">
            <a:avLst/>
          </a:prstGeom>
          <a:ln w="0">
            <a:noFill/>
          </a:ln>
        </p:spPr>
      </p:pic>
      <p:sp>
        <p:nvSpPr>
          <p:cNvPr id="656" name="灯片编号占位符 6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B220-8CCD-47F2-B007-EBCFF14951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00:22:04Z</dcterms:created>
  <dc:creator>绿色圃中小学教育网|http://www.lspjy.com; 六十铺中小学教育网http://www.lspjy.com</dc:creator>
  <dc:description>绿色圃中小学教育网|http://www.lspjy.com</dc:description>
  <cp:keywords>绿色圃中小学教育网|http:/www.lspjy.com</cp:keywords>
  <dc:language>en-US</dc:language>
  <cp:lastModifiedBy>Administrator</cp:lastModifiedBy>
  <dcterms:modified xsi:type="dcterms:W3CDTF">2015-10-07T13:53:59Z</dcterms:modified>
  <cp:revision>13</cp:revision>
  <dc:subject>绿色圃中小学教育网|http://www.lspjy.com</dc:subject>
  <dc:title>绿色圃中小学教育网|http://www.lspjy.com</dc:title>
</cp:coreProperties>
</file>