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DONGW141.WAV" ContentType="audio/x-wav"/>
  <Override PartName="/ppt/media/image2.jpeg" ContentType="image/jpeg"/>
  <Override PartName="/ppt/media/GY.WAV" ContentType="audio/x-wav"/>
  <Override PartName="/ppt/media/image6.jpeg" ContentType="image/jpeg"/>
  <Override PartName="/ppt/media/image11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106-BDFD-4334-B30B-0AA39E86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8BA-79E9-46EC-8611-6CD58D07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D6C10-988A-4313-B33C-BAC6E810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E862D-657E-47A7-B130-25B0DDE6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34E2A-AEEB-40EC-B66A-08F9277A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A0C1B-686A-4A49-9CA4-AB6F8522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08906-30C1-477F-9A7B-C5F5D5E5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0E153-74D1-44AA-AB0D-9CD1265B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F3741-EBF6-4C93-9E60-CDFBCD1B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4DA26-16FA-4AF1-8E1A-5612235D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EDED7-559C-4EC9-A783-60C9DFEC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0401A-7269-4DA0-B112-D6ED4805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DFF-D4EB-4D7D-84F3-81246270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08A32-A8C6-4FAC-BF5D-09823894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1C749-BD25-4CD8-956B-3533C65A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4EFD8-E829-4A2B-B273-D666D65E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F2CB2-A4A0-4A19-9514-A6FB366D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EC57E-583B-401C-B47E-4E2B1E3D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74D1A-8DC8-4B95-9B7C-B3B9A1D7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B3DE5-13B5-4318-BE02-8D4A2680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3D313-6876-49C9-A0D9-7E03F790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11545-FB28-44CC-BD3B-697F9FE4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3206B-90A6-4D30-B8E9-ECA30C97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B4B-0403-4052-B00C-DDFBFC40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547BD-D682-48A0-B6C8-18B9ADFE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2162A-A888-412B-84C4-BFDD24BB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43300-EEA1-477F-B6C1-F501FC61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75AAD-59F1-4DA8-B7BA-7CDFB5A8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50215-517A-40A7-A3BE-88733930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30FEA-F843-4C11-8085-3463FA3A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96EF4-5F98-4F8E-8838-7AA7158C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ADBCD-9706-4484-BDEB-B2FB4C30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ADA7A-42AF-4B46-A0A6-A80646DA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1AA22-FDE0-4BFE-80A4-EA3EB1EB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DA39-0162-4213-A15F-457107C7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0AEF1-12D0-4052-83DB-56885B43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35E35-13BF-4FE2-827D-823F258A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5DF4A-A740-436E-B317-6043FC65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9BDC1-3907-4D31-837F-A9BBED78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48D5A-ADE3-4992-A8FD-F699D4B8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94981-9539-4615-B257-A1C2630F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5E845-D4B8-4E10-83C4-2F9A7F45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44059-C2AC-4841-B706-BEA5AAB9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B878A-B652-4E0F-9164-5B342CCA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82ED7-DB1C-40EF-AF7F-7AE16A53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455C-B3CE-44D7-8A38-9DD1BB4C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5837E-F720-4659-B79D-BCB488FB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E51B2-CEB1-452B-B584-49AA0999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16E13-CCBF-420D-9D10-233093D2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DA4B9-7FFF-4920-AE15-D5205C8E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45B6D-E486-4D7F-A026-3C8010E8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F803-4D1E-4D17-B958-4BE2ABD6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1373-2CA1-443E-82AE-8DB54E38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B65C-C1F3-4A1A-A076-97E85785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51CA-A551-4227-8FE6-56D57D2C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A763-9F3C-4C21-B68B-57E004EF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5A2-CC6B-4376-9A17-22457B72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C1F-9201-47A6-B1BA-F528CAB1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C49B-1E7A-4170-A2B5-0E489318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018A-BA33-4EFE-8F21-0921730B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469C-48AF-4CCD-A2C2-1A87719C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712F-5ABD-42E4-893A-9E9E140A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20C59-8D84-4498-AFE5-D4425CB5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9D7E3-5AAD-475A-A8C4-DC59790C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32BD7-DC19-4EE5-9274-A6BB6132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F5AA-3CD4-4782-A003-03A760F6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8379-C216-421A-AAF3-DD6CEC6F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DF9-9FEB-43E3-9437-B61A7458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FA8F4-D766-4AD4-ABC1-D8AAD313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54EC4-0FDF-4741-B4A9-487EAC9C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9B5B3-D973-4704-9469-D24E6722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D9A8-6F6B-47FC-93B9-DCEA4BB0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F6F7-C81C-48B8-A19B-93F794E0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6D18-0239-4FC1-96FC-39726A46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C3E9B-7B54-47D0-9270-A8C36F3D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B670E-38BF-4178-A022-0DA4FC10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60E8-D00E-4761-8C6F-1AF802DD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62B69-7F16-4014-9893-EA0BA723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7CA-05C2-4AEB-8633-3B393EEC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DF2C-9917-483B-B984-FAC34B3D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ED985-DE7D-4C66-826D-6E834387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D1605-27E3-440F-9276-04EDFE7F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9460B-8507-46B0-8F7F-F8D8B351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69D3D-2C2F-4594-ADC3-AA6D239C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8F553-A416-4B3C-853D-350EA573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628BE-50E9-406A-8EBD-F0C17BAE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34297-8B9C-46A0-97D1-71906AF5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E2255-2386-4263-A11D-D107D875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1E153-63CC-436D-8823-64CFD8C3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EC8-5EDD-4F5C-A3EB-073D9610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776F1-9102-4DF3-97A5-4C008B60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D7451-CBEB-4A85-A389-158E3A81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E949C-73AD-4BF1-BF71-CAEDDBE9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7439D-B6D4-4010-A2C2-14025C4A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D985C-03B2-4159-A40D-6CF1EF2E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A9FB3-A9C2-4FA4-B159-F0E5C463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130CB-2675-4C68-AFD5-46D671D3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3A67-F937-4F0B-9779-AC65BF7C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63E5C-85D6-42C9-A2E5-5032E0F8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E96FF-658A-4B93-926C-1AA82E2C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451-C0B9-4BF8-ACBF-41278FBE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F0384-112E-4326-8488-40DE30A7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923D6-01C5-4CEA-895F-03591AE3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61440-F830-4AF7-88F1-02104104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65ED8-0B0B-49BD-9AF4-CE932E24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C8292-CD18-4F8E-81A1-330331FA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21710-C064-4102-AFCA-0CF11C2C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1793D-FF09-4193-AC01-3E50B6E4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3DB37-25BA-41AF-8ADE-97252AFB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4505C-E9F0-4C6C-A8EB-8D077C36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A925A-DA88-4F55-B392-93E80855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168-32A5-4160-9538-43871491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D56BE-A314-440C-8BC2-E31C6E55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2266E-FBAE-4817-83DB-BCC2875A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29DCB-F9E5-488B-8F29-ECF3AB44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DFBB7-5779-4A4A-8078-90BF4749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9610D-B4F8-4F44-AAF2-2311E35B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09F24-C01C-4EF6-A35A-3E784163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4D3C2-9286-47AE-9B0B-17444287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744A9-A605-4CD3-A2D0-E73C0BD5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ACA77-C786-4E5C-A935-836D4ABD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7246D-4246-450A-B35C-FC5D1769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32E-FA7C-4D7D-AC86-26D6F388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AEE88-91B9-406C-89FF-37FFB6F2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ACB99-4414-4E75-BA92-505F7B5E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E871D-B01C-4515-B339-6411CBBA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52DF4-38DF-4CB0-99D4-6FF06A07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1E7ED-2442-4177-81E3-66E40FD6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C7CFB-0E04-4F17-A559-E72A9367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53092-DDA1-44A8-85B4-E688E851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23017-A510-4DAA-97AC-20D53A6F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5C221-E385-4548-A025-25BE01E0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6DECE-6C64-4B76-B92B-E9B493B6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407-A6BE-487F-B871-27E2DE8B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3379A-DB05-4B53-8D7A-EFD364D1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ECBDA-FB46-4173-9A4E-06625C60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7BE3A-69FF-405B-86EA-05A658EE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53824-3CE8-4C61-9575-1ECFAF86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859ED-52A7-44C0-862F-1284472E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C97E4-2C94-4966-AEC7-EB24636E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84B66-343B-4B0D-B3EF-A1C6FB16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0DE1A-3FAD-4B8C-A803-D69BA446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97BFC-5835-4242-825A-7D6F6CB7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A6E51-D01B-4C2C-9C56-9D3C4539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90BF-479D-43CA-BA43-BC2F63BEF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FB7D-D9F9-4CAF-A3E5-238AAC8F9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121B-1BD4-40E3-B555-0FC68C825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93F7-68C5-43FA-8707-D8BE07470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553F-0D53-4C50-BA6F-E49F37C39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FF3C-0533-49A4-A968-B03E3C0F7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35B6-E649-4F32-95C6-C729A11BC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3209-72B2-41D4-959C-52DD28D19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068A-679C-4AB7-AF21-871808548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A0DF-B68C-4BBF-8441-79E9F7233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F9B5-62E6-439C-B59E-68DEC271E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794B-F9C3-47CC-B74D-EEA219F43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xxyw.stedu.net/kjzy/kejian/niao-tiantang.swf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DONGW141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audio" Target="../media/DONGW141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audio" Target="../media/DONGW141.WAV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GY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GY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4" descr="7">
            <a:hlinkClick r:id="rId1"/>
          </p:cNvPr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WordArt 5"/>
          <p:cNvSpPr txBox="1"/>
          <p:nvPr/>
        </p:nvSpPr>
        <p:spPr>
          <a:xfrm>
            <a:off x="1619280" y="256536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鸟的天堂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5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63CB-6A73-4357-B055-8D1CA3323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矩形 6"/>
          <p:cNvSpPr/>
          <p:nvPr/>
        </p:nvSpPr>
        <p:spPr>
          <a:xfrm>
            <a:off x="0" y="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矩形 7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NGW1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539640" y="404640"/>
            <a:ext cx="82314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榕树正在茂盛的时期，好像把它的全部生命力展示给我们看。那么多的绿叶，一簇堆在另一簇上面，不留一点缝隙。那翠绿的颜色，明亮地照耀着我们的眼睛，似乎每一片新的生命在颤动。这美丽的南国的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DA92-C9C6-4CD2-9A19-40787A6B3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826920" y="260280"/>
            <a:ext cx="7728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榕树正在茂盛的时期，好像把它的全部生命力展示给我们看。那么多的绿叶，一簇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在另一簇上面，不留一点缝隙。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华文楷体"/>
                <a:ea typeface="华文楷体"/>
              </a:rPr>
              <a:t>那翠绿的颜色，明亮地照耀着我们的眼睛，似乎每一片新的生命在颤动。</a:t>
            </a:r>
            <a:r>
              <a:rPr b="0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这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美丽的南国的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85BF-BE41-4F53-BF99-EC1AB1658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矩形 4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0" y="0"/>
            <a:ext cx="914400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起初周围是静寂的。后来忽然起了一声鸟叫。我们把手一拍，便看见一只大鸟飞了起来。接着又看见第二只，第三只。我们继续拍掌，树上就变得热闹了，到处都是鸟声，到处都是鸟影。大的，小的，花的，黑的，有的站在树枝上叫，有的飞起来，有的在扑翅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注意地看着，眼睛应接不暇，看清楚了这只，又错过了那只，看见了那只，另一只又飞起来了。一只画眉鸟飞了出来，被我们的掌声一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飞进了叶丛。站在一根小枝上兴奋地叫着，那歌声真好听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0327-2272-4E10-9F94-F46C16FBB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26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027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1028"/>
          <p:cNvSpPr/>
          <p:nvPr/>
        </p:nvSpPr>
        <p:spPr>
          <a:xfrm>
            <a:off x="0" y="0"/>
            <a:ext cx="9144000" cy="202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   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起初周围是静寂的。后来忽然起了一声鸟叫。我们把手一拍，便看见一只大鸟飞了起来。接着又看见第二只，第三只。我们继续拍掌，树上就变得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热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了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到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都是鸟声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到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都是鸟影。大的，小的，花的，黑的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站在树枝上叫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飞起来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Arial Unicode MS"/>
              </a:rPr>
              <a:t>有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在扑翅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注意地看着，眼睛应接不暇，看清楚了这只，又错过了那只，看见了那只，另一只又飞起来了。一只画眉鸟飞了出来，被我们的掌声一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飞进了叶丛。站在一根小枝上兴奋地叫着，那歌声真好听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7FBB-8C9F-4E07-9321-7BF6602D3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a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E499-5FC6-4A98-8DF6-8F1A36267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NGW1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4" descr="a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027E-11B8-4E4A-ACD2-6DBA0A468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ONGW14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228600" y="22860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0" y="0"/>
            <a:ext cx="9144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1332000" y="1628640"/>
            <a:ext cx="669924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昨天是我的眼睛骗了我，那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鸟的天堂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的确是鸟的天堂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905760" y="52848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F8F2-B850-4B68-B9A4-240110904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762120" y="609480"/>
            <a:ext cx="754380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imes New Roman"/>
                <a:ea typeface="华文新魏"/>
              </a:rPr>
              <a:t>鸟的天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田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</a:rPr>
              <a:t>　  </a:t>
            </a: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三百年来榕一章，浓荫十亩鸟千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并肩只许木棉树，立脚长依天马江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新枝还比旧枝壮，白鹤能眠灰鹤床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  <a:ea typeface="楷体_GB2312"/>
              </a:rPr>
              <a:t>　 历难经灾从不犯，人间毕竟有天堂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这首诗，是著名剧作家田汉同志</a:t>
            </a:r>
            <a:r>
              <a:rPr b="1" lang="en-US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1962</a:t>
            </a:r>
            <a:r>
              <a:rPr b="1" lang="zh-CN" sz="2400" spc="-1" strike="noStrike">
                <a:solidFill>
                  <a:srgbClr val="ff6633"/>
                </a:solidFill>
                <a:latin typeface="Times New Roman"/>
                <a:ea typeface="楷体_GB2312"/>
              </a:rPr>
              <a:t>年到新会，游览小鸟天堂时即兴而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BFBE-C8EB-420A-B4F1-D02CF786E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G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20020702d"/>
          <p:cNvPicPr/>
          <p:nvPr/>
        </p:nvPicPr>
        <p:blipFill>
          <a:blip r:embed="rId2"/>
          <a:stretch/>
        </p:blipFill>
        <p:spPr>
          <a:xfrm>
            <a:off x="228600" y="380880"/>
            <a:ext cx="2743200" cy="297180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"/>
          <p:cNvSpPr/>
          <p:nvPr/>
        </p:nvSpPr>
        <p:spPr>
          <a:xfrm>
            <a:off x="3352680" y="83808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505320" y="45720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巴金（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04~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）原名李尧棠、字芾甘。四川成都人。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3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从封建家庭出走，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7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赴法国留学，写成了处女作出了长篇小说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灭亡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，发表时始用巴金的笔名。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8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底回到上海，从事创造和翻译。从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29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到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37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中，创作了主要代表作出长篇小说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激流三部曲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中的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家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，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755640" y="3429000"/>
            <a:ext cx="807732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海的梦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春天里的秋天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砂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爱情三部曲（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雾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雨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电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）等中长篇小说。出版了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复仇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等短篇小说集和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海行集记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等散文集。以其独特的风格和丰硕的创作令人瞩目，被鲁迅称为“一个有热情的有进步思想的作家，在屈指可数的好作家之列的作家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838080" y="5410080"/>
            <a:ext cx="8077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1933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，巴金到广东新会访友时，途经新会天马河，看到一株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500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年树龄的大榕树，于是写下了脍炙人口的</a:t>
            </a:r>
            <a:r>
              <a:rPr b="1" lang="en-US" sz="16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鸟的天堂</a:t>
            </a: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6699"/>
                </a:solidFill>
                <a:latin typeface="Times New Roman"/>
              </a:rPr>
              <a:t>（一说是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666699"/>
                </a:solidFill>
                <a:latin typeface="Times New Roman"/>
              </a:rPr>
              <a:t>小鸟的天堂</a:t>
            </a:r>
            <a:r>
              <a:rPr b="1" lang="en-US" sz="2000" spc="-1" strike="noStrike">
                <a:solidFill>
                  <a:srgbClr val="666699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666699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672F-FCA9-4210-89D5-12FB4CC86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G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5"/>
          <p:cNvSpPr/>
          <p:nvPr/>
        </p:nvSpPr>
        <p:spPr>
          <a:xfrm>
            <a:off x="900000" y="2565360"/>
            <a:ext cx="7239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巴金爷爷几次经过鸟的天堂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经过鸟的天堂后分别在课文中给我们描写了什么样的景象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6" descr="我会猜"/>
          <p:cNvPicPr/>
          <p:nvPr/>
        </p:nvPicPr>
        <p:blipFill>
          <a:blip r:embed="rId2"/>
          <a:stretch/>
        </p:blipFill>
        <p:spPr>
          <a:xfrm>
            <a:off x="998640" y="560520"/>
            <a:ext cx="1295280" cy="1201680"/>
          </a:xfrm>
          <a:prstGeom prst="rect">
            <a:avLst/>
          </a:prstGeom>
          <a:ln w="0">
            <a:noFill/>
          </a:ln>
        </p:spPr>
      </p:pic>
      <p:sp>
        <p:nvSpPr>
          <p:cNvPr id="511" name="WordArt 8"/>
          <p:cNvSpPr txBox="1"/>
          <p:nvPr/>
        </p:nvSpPr>
        <p:spPr>
          <a:xfrm>
            <a:off x="2433600" y="109224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读书思考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2" name="Rectangle 9"/>
          <p:cNvSpPr/>
          <p:nvPr/>
        </p:nvSpPr>
        <p:spPr>
          <a:xfrm>
            <a:off x="714240" y="1811160"/>
            <a:ext cx="6782040" cy="74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2FF3-4EE5-4E2B-890E-FB5F4FF8D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900000" y="620640"/>
            <a:ext cx="772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      </a:t>
            </a:r>
            <a:r>
              <a:rPr b="1" lang="zh-CN" sz="4400" spc="-1" strike="noStrike">
                <a:solidFill>
                  <a:srgbClr val="006600"/>
                </a:solidFill>
                <a:latin typeface="华文楷体"/>
                <a:ea typeface="华文楷体"/>
              </a:rPr>
              <a:t>我们的船渐渐逼近榕树了。我有机会看清它的真面目，真是一株大树，枝干的数目不可计数。枝上又生根，有许多根直垂到地上，伸进泥土里。一部分树枝垂到水面，从远处看，就像一株大树卧在水面上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8D17-71BB-4257-8CB0-AB659AB73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228600" y="228600"/>
            <a:ext cx="8915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755640" y="98100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       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我们的船渐渐逼近榕树了。我有机会看清它的真面目，真是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一株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大树，枝干的数目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楷体"/>
                <a:ea typeface="华文楷体"/>
              </a:rPr>
              <a:t>不可计数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。枝上又生根，有许多根直垂到地上，伸进泥土里。一部分树枝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垂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到水面，从远处看，就像一株大树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卧</a:t>
            </a:r>
            <a:r>
              <a:rPr b="1" lang="zh-CN" sz="4000" spc="-1" strike="noStrike">
                <a:solidFill>
                  <a:srgbClr val="006600"/>
                </a:solidFill>
                <a:latin typeface="华文楷体"/>
                <a:ea typeface="华文楷体"/>
              </a:rPr>
              <a:t>在水面上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5634-0759-4ED1-8B0F-9DCADC135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柳树"/>
          <p:cNvPicPr/>
          <p:nvPr/>
        </p:nvPicPr>
        <p:blipFill>
          <a:blip r:embed="rId2"/>
          <a:stretch/>
        </p:blipFill>
        <p:spPr>
          <a:xfrm>
            <a:off x="533520" y="228600"/>
            <a:ext cx="3606840" cy="29354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" descr="松树"/>
          <p:cNvPicPr/>
          <p:nvPr/>
        </p:nvPicPr>
        <p:blipFill>
          <a:blip r:embed="rId3"/>
          <a:stretch/>
        </p:blipFill>
        <p:spPr>
          <a:xfrm>
            <a:off x="5334120" y="228600"/>
            <a:ext cx="3429000" cy="29718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独木成林"/>
          <p:cNvPicPr/>
          <p:nvPr/>
        </p:nvPicPr>
        <p:blipFill>
          <a:blip r:embed="rId4"/>
          <a:stretch/>
        </p:blipFill>
        <p:spPr>
          <a:xfrm>
            <a:off x="1752480" y="3521160"/>
            <a:ext cx="5029200" cy="3281400"/>
          </a:xfrm>
          <a:prstGeom prst="rect">
            <a:avLst/>
          </a:prstGeom>
          <a:ln w="0">
            <a:noFill/>
          </a:ln>
        </p:spPr>
      </p:pic>
      <p:sp>
        <p:nvSpPr>
          <p:cNvPr id="526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A745-5A09-43B9-8E70-A8E3BB045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矩形 6"/>
          <p:cNvSpPr/>
          <p:nvPr/>
        </p:nvSpPr>
        <p:spPr>
          <a:xfrm>
            <a:off x="0" y="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矩形 7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" descr="鸟的天堂1111"/>
          <p:cNvPicPr/>
          <p:nvPr/>
        </p:nvPicPr>
        <p:blipFill>
          <a:blip r:embed="rId2"/>
          <a:stretch/>
        </p:blipFill>
        <p:spPr>
          <a:xfrm>
            <a:off x="1600200" y="0"/>
            <a:ext cx="585144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2DC-6F32-4734-9A3D-5DD78F7D9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4" descr="a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89C3-226B-4016-AD8E-678CDC1BD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05:04:30Z</dcterms:created>
  <dc:creator>绿色圃中小学教育网|http://www.lspjy.com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5:52Z</dcterms:modified>
  <cp:revision>30</cp:revision>
  <dc:subject>绿色圃中小学教育网|http://www.lspjy.com</dc:subject>
  <dc:title>绿色圃中小学教育网|http://www.lspjy.com</dc:title>
</cp:coreProperties>
</file>