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FA0-8B4E-4FC4-8C2F-CA31D559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DA0-151D-4326-B503-5E91A51C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84F12-CDD5-44C1-99DE-605A22BD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53972-CEC9-44D6-932E-3F18867D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D33A9-E6C2-4713-BAA0-5D0A0CB6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38D77-E333-4661-84A6-765AF289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9A69D-8991-4B76-8814-90C01E46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A610A-B297-4A0D-B515-56DB9FAC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11828-727F-43D6-AC49-9842B777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94E85-469C-454E-9543-3D7CC022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9BC61-ECF0-44B8-A858-64135E89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7CE93-DB09-4FDF-82EA-9E6534F1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42C-E954-44DA-886D-6C054628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D041D-6E15-4E89-88F9-CF26A534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50097-D05C-4E1A-A86D-BC9A761E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EF0BB-7095-4BED-B326-B2DAD96D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5042C-1BC2-496C-B757-E2AC2492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8ECA8-EBF6-4077-907A-59C35970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63C9F-A403-4B10-BF3F-5D8D2F8E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D4A70-91AB-4302-85D8-D05FE908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EBEE0-7852-4018-B5CF-D5122856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6CCBA-3F09-41E8-B4BA-2906F9A3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BE903-06BC-401F-AFC7-7D743204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13D-DA1E-4BA5-93AC-24310B41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CCF69-1AC1-45E9-8343-10C83E5E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A9382-801C-4875-B6F7-7C345124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17FA6-62EE-4962-8356-163ABB0A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560BA-DBEB-4385-937D-113C9BD6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F435E-1434-4A82-84FF-C4E4989A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654F9-0843-4C29-95F7-08460765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DABA4-B041-4832-828F-2EB26276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22F6E-50C0-411C-8D46-05D2E612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E5536-67BE-4EB6-BA18-ED791FCE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FF42A-7617-4F99-9705-1972D6D3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2FEC-CFCF-40D9-B5D2-5FF6D568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9AEE4-6F47-4C65-B08B-CDDF5386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0F5EB-7647-4CE2-9A4E-70CF0901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F7BB9-6DB7-498F-8503-62691D04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A8E24-F657-4543-9CB2-6B1B4D87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FE905-BDC6-4702-A6EA-16FFCD1E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082F1-8ED6-4B3D-8D51-ED1BFF74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D467F-BEF1-4CE0-BFD9-63AE56F5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68DE8-D9AF-4E9A-B429-4D444947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4F5C7-F674-482C-9D00-C1C70904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74AA1-936D-4131-85F0-2CE72A02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2644-5E36-4C57-A62F-BB3706BD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0B8DD-FCF1-4241-8C7F-1AA63784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ED783-BC81-44FD-A87A-863E4C43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6A521-3B1B-4EDC-BD1A-CD3071B8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6A135-1190-4613-8397-51AC7987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F443D-B221-47D9-8A2D-0BBB6791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29995-A229-4054-8F70-EE6105F7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872D1-0F86-4C3B-ABA6-269530BD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F3A140-95AA-42A4-8A51-A3600FD3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A7734-563A-4F1F-A71F-77C846CE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72974-9110-4A79-83B8-1EEB8EF5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374D-B154-42D0-9604-F2492463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8433C-F7D7-4A01-B871-7DD35FDA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4522B-10ED-4241-BA41-6617478E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D9D16-A66C-44C4-9F5E-F4691911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63ADE-72F5-46E3-8585-D1E1FF2C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F9EA4-6770-455F-A3B7-1A9369BB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BBA2A-F2A8-4279-AD70-C06F7F70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A08DF-74C2-48CE-965F-EE66D280B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3F41C-1C1E-45DA-AAD9-367A1FD3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B18EA5-A6A3-4C5D-955A-335810D2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5AB78-376D-4A37-9562-EE58757A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06DD-EB7E-4EEC-9EAB-E2BE923D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74EB4-D15E-4928-9F01-0BBCEB7D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AC58D-AF30-4348-9D11-343118A9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65561D-D10F-4228-A02E-4C645EB4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E8C9E-6C11-4CF9-B294-7E054C1C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64D13-A3EB-4158-B13F-41341B64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C0F56-F3B1-4080-9E07-367639B9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4A8BF-AAF6-47CE-AF5A-110C7FA2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36E372-18EB-46F9-94C4-E29085C3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300D5-E4E1-43DC-95C6-8D7CD4EB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DC17-550A-4905-A0C1-A7ECDB52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0830-DFF6-47B8-8260-A01481CC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A603-EF62-4CE1-8269-4038B2B8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2B4-DAAF-4943-8F18-FE6B0D3D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E54C-B3CE-4387-960B-1F3D318E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35CE-4C91-4E5E-BF17-09257FE8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B5ED-1D9A-497E-8EC8-3D4E8110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6CB0-0DDB-4034-B206-5192D9B1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268A-9B66-4F2C-846B-64F9C711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78FF9-0B3F-47DB-AC4D-D865DD14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0755-B374-46FB-A14E-C22E0565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1A90-1CB4-447E-B21F-2D8C8BAD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7CB3B-3EF8-46FE-91FE-03408818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31AAF-9CC6-40F9-A321-701B8B1E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82F-A8B4-4762-8B3F-25F99A5D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080E-DA43-43B9-8F03-6F161C8E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60C35-62B3-4CB9-B1AF-5FBD2907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88BAC-3CDB-4BDB-B65C-00B71D8F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615D7-F648-4FC9-83D1-C9E74DD3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A1E4C-6965-409E-B091-F440EA47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2805-A8FE-450B-BFE8-E6B8452F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9F1EB-6915-49E0-ACC6-F84C583A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32BFF-B9AF-4386-97A8-CD4D87D5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22DCA-A329-41A4-A94F-0CDFCCDF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94A4E-BCDB-46F5-8F3D-EB704498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B03-5D4F-49B2-92E9-362CE994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14D8F-9E50-4628-B483-133D10E5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11DA3-BFD6-4FBA-80CF-2EB0C2A3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73CED-8917-49C7-B178-72560173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2288D-D51F-4D42-8782-B7A50B84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3CCAE-CAF3-4FDD-9756-071169C1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28E2B-EBC9-40F2-8BC4-70ADF31E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39172-264B-42F0-B7BB-63268FDC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E8D7A-6150-4BA3-B3A1-1E2346FA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8140F-0678-427B-AFC0-20E2682C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EFC88-E511-4D91-B67B-4E05628B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400-06BB-4BA6-B0FE-BB88A852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32131-65AB-437D-AA86-96B53A28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B661E-AF61-465F-A5B1-7C742A16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8B00E-2DFB-4DEC-AC82-C1DA5567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9C0A3-C206-4785-BF9F-B0A01B2D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266D6-8FB1-43E6-8CC1-59F15734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2CAD1-BEF4-456A-9E09-A2B97298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47393-D18F-404B-BB06-C1FAD265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EAC7E-1932-4E12-8A71-000FBBEF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8F0BF-BFCA-45F0-85C5-128827D5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13ACF-A9D0-46B0-BA7F-544D6DC2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C0F-870B-4262-B5C3-EC180D55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34763-455D-47D7-8D36-F860ED87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E6EE2-8D4D-4409-9387-F340A1D4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53C84-66BF-481E-A220-D247D41A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5FA61-60EF-48DB-ABA1-B93D1285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2E39F-5B74-4431-9A68-13AEB799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B5B3F-4A1C-4E88-9058-53E36D06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629A6-7FA6-4057-9CA1-C3706B95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F8832-9BAE-4C46-9B1F-382BC0D6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600D3-904E-4D90-9ADF-3C30D11B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794FE-50BC-4244-89C3-1F5ABBC4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816-F342-497F-9B73-47D8E7C2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51E52-3981-4C3B-A9E6-F2C4769F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739B8-4CF0-471E-98E1-DD1C906B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8CB10-DEA7-405A-B172-2C5CDB73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DC1F1-E6DC-4F4A-9C0B-54A76B28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0797A-86D1-4740-BFFF-9B2E89FF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F2D11-7329-40D7-9370-B3B41134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AE5FC-258C-4DBB-90A4-194AD5D4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68041-FCA7-418F-B87A-E60848F1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68D69-F069-4071-87D1-54BC0578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586C6-9150-448D-B4ED-A87187AC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A37-3BDD-439F-8B54-45B06DF6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94B74-CE3D-4845-97AF-99234DD5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D7813-E3D4-4B11-849E-46CA9156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683AB-EC0F-4E77-B216-21C8D91F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3C16B-BA05-4A92-B182-E0D80E28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7B4FB-2AB7-4A36-BD5F-C086A77E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1660E-5279-45F7-BFF6-BD39B414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5F98D-376E-4BEF-9C66-83F4C238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6EB87-8841-4F1B-8CA8-BDDB5111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E91C4-34A3-4BE7-8004-E4C88CC6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D9A5C-0C1A-4E7C-A726-D8F0E937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C5E-808F-45C6-8E31-33D98640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C00D3-B702-4026-A809-7FD0977E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5E4EC-B429-40D6-9B70-58E69469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3A30F-CB56-4D08-900B-D7B95B1D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C0FA3-2B04-4601-85E5-664A024B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0EE90-10C6-4653-9BAA-24FB38BD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23D99-6127-4D26-8C1B-FBC1C303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F883B-41AA-4B54-A41F-62B469FDE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447B5-3D67-409F-A7A7-00380572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E3772-BAEE-45CF-8668-B1785E64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9D174-1BEC-476E-8453-574E2840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1300-06DF-44A6-9379-3BE5A1BD3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55A8-7328-42FD-9072-BFA10C2DD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B43A-C320-4FC3-AA27-946958472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A76F-7037-43AB-9357-B4FAC877E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BDF6-EACA-4C59-B644-7F6D862BD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8193-A4B0-4715-A6FC-631036FBB796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FF79-A610-4F00-84F9-9BC4D4E76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06DA-22DC-4483-B18B-CB028AA40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E30F-DB0A-49A4-92C5-A3D01DA86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6C2C-82AF-4B3E-B654-59EDF44EF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D487-29BD-4AB4-8776-D262F3578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780A-022B-459C-A934-01BFB6EA6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DB06-B83C-491C-8CE8-3C60B3262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57E4-AB3F-4970-9DB4-7C7E51F6C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5" descr="20061127215557755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7"/>
          <p:cNvSpPr/>
          <p:nvPr/>
        </p:nvSpPr>
        <p:spPr>
          <a:xfrm>
            <a:off x="1959120" y="285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WordArt 8"/>
          <p:cNvSpPr txBox="1"/>
          <p:nvPr/>
        </p:nvSpPr>
        <p:spPr>
          <a:xfrm>
            <a:off x="1116000" y="981000"/>
            <a:ext cx="71294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巨人的花园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7" name="灯片编号占位符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524F-F4CA-44BD-9B62-CE0A30F0D20A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9" name="矩形 6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矩形 7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41" name="Picture 4" descr="1978653_m_1978655_13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2" name="灯片编号占位符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C8CD-BF38-421C-93D3-F50F616DF206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46" name="Picture 4" descr="xhsj001"/>
          <p:cNvPicPr/>
          <p:nvPr/>
        </p:nvPicPr>
        <p:blipFill>
          <a:blip r:embed="rId1"/>
          <a:stretch/>
        </p:blipFill>
        <p:spPr>
          <a:xfrm>
            <a:off x="0" y="0"/>
            <a:ext cx="4140360" cy="31417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" descr="101"/>
          <p:cNvPicPr/>
          <p:nvPr/>
        </p:nvPicPr>
        <p:blipFill>
          <a:blip r:embed="rId2"/>
          <a:stretch/>
        </p:blipFill>
        <p:spPr>
          <a:xfrm>
            <a:off x="4292640" y="0"/>
            <a:ext cx="4851360" cy="31417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6" descr="67431"/>
          <p:cNvPicPr/>
          <p:nvPr/>
        </p:nvPicPr>
        <p:blipFill>
          <a:blip r:embed="rId3"/>
          <a:stretch/>
        </p:blipFill>
        <p:spPr>
          <a:xfrm>
            <a:off x="0" y="3284640"/>
            <a:ext cx="4140360" cy="35733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1978653_m_1978655_1378"/>
          <p:cNvPicPr/>
          <p:nvPr/>
        </p:nvPicPr>
        <p:blipFill>
          <a:blip r:embed="rId4"/>
          <a:stretch/>
        </p:blipFill>
        <p:spPr>
          <a:xfrm>
            <a:off x="4284720" y="3276720"/>
            <a:ext cx="4859280" cy="3581280"/>
          </a:xfrm>
          <a:prstGeom prst="rect">
            <a:avLst/>
          </a:prstGeom>
          <a:ln w="0">
            <a:noFill/>
          </a:ln>
        </p:spPr>
      </p:pic>
      <p:sp>
        <p:nvSpPr>
          <p:cNvPr id="650" name="灯片编号占位符 9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366B-F973-4A83-B459-3621E35D04B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1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37" descr="BAS001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49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王尔德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世纪后期英国著名的作家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诗人、剧作家。他的一生留下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篇童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最著名的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自私的巨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快乐王子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篇课文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巨人的花园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就是根据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自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巨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改编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Arial"/>
              </a:rPr>
              <a:t>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54" name="Picture 33" descr="line253"/>
          <p:cNvPicPr/>
          <p:nvPr/>
        </p:nvPicPr>
        <p:blipFill>
          <a:blip r:embed="rId2"/>
          <a:stretch/>
        </p:blipFill>
        <p:spPr>
          <a:xfrm>
            <a:off x="0" y="6308640"/>
            <a:ext cx="2876400" cy="5493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4" descr="line253"/>
          <p:cNvPicPr/>
          <p:nvPr/>
        </p:nvPicPr>
        <p:blipFill>
          <a:blip r:embed="rId3"/>
          <a:stretch/>
        </p:blipFill>
        <p:spPr>
          <a:xfrm>
            <a:off x="2843280" y="6381720"/>
            <a:ext cx="2876400" cy="476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5" descr="line253"/>
          <p:cNvPicPr/>
          <p:nvPr/>
        </p:nvPicPr>
        <p:blipFill>
          <a:blip r:embed="rId4"/>
          <a:stretch/>
        </p:blipFill>
        <p:spPr>
          <a:xfrm>
            <a:off x="5651640" y="6381720"/>
            <a:ext cx="2876400" cy="4762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36" descr="line253"/>
          <p:cNvPicPr/>
          <p:nvPr/>
        </p:nvPicPr>
        <p:blipFill>
          <a:blip r:embed="rId5"/>
          <a:stretch/>
        </p:blipFill>
        <p:spPr>
          <a:xfrm>
            <a:off x="6267600" y="6553080"/>
            <a:ext cx="2876400" cy="30492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43"/>
          <p:cNvSpPr/>
          <p:nvPr/>
        </p:nvSpPr>
        <p:spPr>
          <a:xfrm>
            <a:off x="95076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9" name="灯片编号占位符 10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0656-6D15-4EF3-8C0C-0F723FA0B86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0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" descr="BAS001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7a77"/>
                </a:solidFill>
                <a:latin typeface="Arial"/>
                <a:ea typeface="Arial"/>
              </a:rPr>
              <a:t>      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7a77"/>
                </a:solidFill>
                <a:latin typeface="Arial"/>
              </a:rPr>
              <a:t>                    </a:t>
            </a:r>
            <a:endParaRPr b="0" lang="en-US" sz="9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宋体"/>
              </a:rPr>
              <a:t>          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他见到孩子们在花园里玩耍，很生气：“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允许你们到这儿来玩的！都滚出去！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      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可是巨人又发脾气了，“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好容易才盼来春天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你们又来胡闹。滚出去。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”孩子们听到可怕的训斥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纷纷逃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    “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喂！你赶快滚出去！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”巨人大声叱责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3111480" y="473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灯片编号占位符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E1E4-9DC0-4B6E-839C-CC3675AC1BB4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BAS001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49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  <a:ea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68" name="Picture 4" descr="line253"/>
          <p:cNvPicPr/>
          <p:nvPr/>
        </p:nvPicPr>
        <p:blipFill>
          <a:blip r:embed="rId2"/>
          <a:stretch/>
        </p:blipFill>
        <p:spPr>
          <a:xfrm>
            <a:off x="0" y="6308640"/>
            <a:ext cx="2876400" cy="54936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5" descr="line253"/>
          <p:cNvPicPr/>
          <p:nvPr/>
        </p:nvPicPr>
        <p:blipFill>
          <a:blip r:embed="rId3"/>
          <a:stretch/>
        </p:blipFill>
        <p:spPr>
          <a:xfrm>
            <a:off x="2843280" y="6381720"/>
            <a:ext cx="2876400" cy="4762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" descr="line253"/>
          <p:cNvPicPr/>
          <p:nvPr/>
        </p:nvPicPr>
        <p:blipFill>
          <a:blip r:embed="rId4"/>
          <a:stretch/>
        </p:blipFill>
        <p:spPr>
          <a:xfrm>
            <a:off x="5651640" y="6381720"/>
            <a:ext cx="2876400" cy="4762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7" descr="line253"/>
          <p:cNvPicPr/>
          <p:nvPr/>
        </p:nvPicPr>
        <p:blipFill>
          <a:blip r:embed="rId5"/>
          <a:stretch/>
        </p:blipFill>
        <p:spPr>
          <a:xfrm>
            <a:off x="6267600" y="6553080"/>
            <a:ext cx="2876400" cy="30492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8"/>
          <p:cNvSpPr/>
          <p:nvPr/>
        </p:nvSpPr>
        <p:spPr>
          <a:xfrm>
            <a:off x="950760" y="631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3" name="Rectangle 9"/>
          <p:cNvSpPr/>
          <p:nvPr/>
        </p:nvSpPr>
        <p:spPr>
          <a:xfrm>
            <a:off x="539640" y="1341360"/>
            <a:ext cx="804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不久，北风呼啸，隆冬来临，刺骨的寒风吹起雪花。巨人孤独地度过了漫长的严冬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春天终于来了，村子里又开出美丽的鲜花，不时传来小鸟的欢叫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不知为什么，巨人的花园里仍然是冬天，天天狂风大作，雪花飞舞。巨人裹着毯子，还瑟瑟发抖。他想：“今年的春天为什么这么冷，这么荒凉呀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……”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4" name="灯片编号占位符 1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EB38-2ADE-4002-8FE9-4EB5995E08A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5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77" name="Picture 3" descr="line260"/>
          <p:cNvPicPr/>
          <p:nvPr/>
        </p:nvPicPr>
        <p:blipFill>
          <a:blip r:embed="rId1"/>
          <a:stretch/>
        </p:blipFill>
        <p:spPr>
          <a:xfrm>
            <a:off x="1979640" y="6338880"/>
            <a:ext cx="4038480" cy="51912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" descr="line260"/>
          <p:cNvPicPr/>
          <p:nvPr/>
        </p:nvPicPr>
        <p:blipFill>
          <a:blip r:embed="rId2"/>
          <a:stretch/>
        </p:blipFill>
        <p:spPr>
          <a:xfrm>
            <a:off x="-1189080" y="6338880"/>
            <a:ext cx="4038480" cy="5191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5" descr="line260"/>
          <p:cNvPicPr/>
          <p:nvPr/>
        </p:nvPicPr>
        <p:blipFill>
          <a:blip r:embed="rId3"/>
          <a:stretch/>
        </p:blipFill>
        <p:spPr>
          <a:xfrm>
            <a:off x="4716360" y="6229440"/>
            <a:ext cx="4896000" cy="6285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6" descr="line280"/>
          <p:cNvPicPr/>
          <p:nvPr/>
        </p:nvPicPr>
        <p:blipFill>
          <a:blip r:embed="rId4"/>
          <a:stretch/>
        </p:blipFill>
        <p:spPr>
          <a:xfrm>
            <a:off x="5438880" y="0"/>
            <a:ext cx="3705120" cy="3142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7" descr="line280"/>
          <p:cNvPicPr/>
          <p:nvPr/>
        </p:nvPicPr>
        <p:blipFill>
          <a:blip r:embed="rId5"/>
          <a:stretch/>
        </p:blipFill>
        <p:spPr>
          <a:xfrm>
            <a:off x="2771640" y="0"/>
            <a:ext cx="3705480" cy="31428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8" descr="line280"/>
          <p:cNvPicPr/>
          <p:nvPr/>
        </p:nvPicPr>
        <p:blipFill>
          <a:blip r:embed="rId6"/>
          <a:stretch/>
        </p:blipFill>
        <p:spPr>
          <a:xfrm>
            <a:off x="-684360" y="0"/>
            <a:ext cx="3705480" cy="31428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9"/>
          <p:cNvSpPr/>
          <p:nvPr/>
        </p:nvSpPr>
        <p:spPr>
          <a:xfrm>
            <a:off x="0" y="47628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一天早晨，巨人被喧闹声吵醒了。他抬头     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望去，一缕阳光从窗外射进来。好几个月没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过这么明媚的阳光了。巨人激动地跑到花园里，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他看到花园里草翠花开，有许多孩子在欢快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游戏，他们大概是从围墙的破损处钻进来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孩子们的欢笑使花园增添了春意。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可是巨人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发脾气了，“好容易才盼来春天，你们又来胡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闹。滚出去！”孩子们听到可怕的训斥，纷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逃窜。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与此同时，鲜花凋谢，树叶飘落，花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又被冰雪覆盖了。巨人不解地看看四周，突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发现桃树底下站着个小男孩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4" name="灯片编号占位符 11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1627-0826-4D55-A642-B80A912B4C43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5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背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3"/>
          <p:cNvSpPr/>
          <p:nvPr/>
        </p:nvSpPr>
        <p:spPr>
          <a:xfrm>
            <a:off x="1066680" y="9144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　　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噢！是这么回事呀！”巨人终于明白，没有孩子的地方就没有春天。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他不禁抱住了那个孩子：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唤来寒冬的，是我那颗任性、冷酷的心啊！要不是你提醒，春天将永远被我赶走了。谢谢你！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8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BAC9-3551-4C41-B192-C4E8DD34F5D2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7005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2" name="Text Box 10"/>
          <p:cNvSpPr/>
          <p:nvPr/>
        </p:nvSpPr>
        <p:spPr>
          <a:xfrm>
            <a:off x="2661120" y="1220760"/>
            <a:ext cx="432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赶走孩子以后，巨人在花园周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砌起围墙，而且竖起一块“禁止入内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的告示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649760" y="1905120"/>
            <a:ext cx="419256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94" name="Group 13"/>
          <p:cNvGrpSpPr/>
          <p:nvPr/>
        </p:nvGrpSpPr>
        <p:grpSpPr>
          <a:xfrm>
            <a:off x="3054240" y="2772360"/>
            <a:ext cx="4937040" cy="2753280"/>
            <a:chOff x="3054240" y="2772360"/>
            <a:chExt cx="4937040" cy="2753280"/>
          </a:xfrm>
        </p:grpSpPr>
        <p:sp>
          <p:nvSpPr>
            <p:cNvPr id="695" name="AutoShape 14"/>
            <p:cNvSpPr/>
            <p:nvPr/>
          </p:nvSpPr>
          <p:spPr>
            <a:xfrm rot="10788000">
              <a:off x="3058560" y="2780640"/>
              <a:ext cx="4871880" cy="2736360"/>
            </a:xfrm>
            <a:prstGeom prst="wedgeRoundRectCallout">
              <a:avLst>
                <a:gd name="adj1" fmla="val -28703"/>
                <a:gd name="adj2" fmla="val 70027"/>
                <a:gd name="adj3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96" name="Text Box 15"/>
            <p:cNvSpPr/>
            <p:nvPr/>
          </p:nvSpPr>
          <p:spPr>
            <a:xfrm>
              <a:off x="3540240" y="3134520"/>
              <a:ext cx="4451040" cy="7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97" name="Text Box 16"/>
          <p:cNvSpPr/>
          <p:nvPr/>
        </p:nvSpPr>
        <p:spPr>
          <a:xfrm>
            <a:off x="2247840" y="537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8" name="Text Box 17"/>
          <p:cNvSpPr/>
          <p:nvPr/>
        </p:nvSpPr>
        <p:spPr>
          <a:xfrm>
            <a:off x="6478560" y="1684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禁止入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9" name="Text Box 18"/>
          <p:cNvSpPr/>
          <p:nvPr/>
        </p:nvSpPr>
        <p:spPr>
          <a:xfrm>
            <a:off x="3448440" y="2997360"/>
            <a:ext cx="172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禁止了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禁止了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禁止了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禁止了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0" name="Text Box 22"/>
          <p:cNvSpPr/>
          <p:nvPr/>
        </p:nvSpPr>
        <p:spPr>
          <a:xfrm>
            <a:off x="5708880" y="2997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春天进入花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1" name="Text Box 23"/>
          <p:cNvSpPr/>
          <p:nvPr/>
        </p:nvSpPr>
        <p:spPr>
          <a:xfrm>
            <a:off x="5781960" y="3573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温暖进入花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2" name="Text Box 24"/>
          <p:cNvSpPr/>
          <p:nvPr/>
        </p:nvSpPr>
        <p:spPr>
          <a:xfrm>
            <a:off x="5781960" y="4076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欢乐进入花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3" name="Text Box 25"/>
          <p:cNvSpPr/>
          <p:nvPr/>
        </p:nvSpPr>
        <p:spPr>
          <a:xfrm>
            <a:off x="5781960" y="4508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幸福进入花园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Text Box 27"/>
          <p:cNvSpPr/>
          <p:nvPr/>
        </p:nvSpPr>
        <p:spPr>
          <a:xfrm>
            <a:off x="5417640" y="49323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灯片编号占位符 18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F579-8B76-4078-A263-7529CF49B6E1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6" name="页脚占位符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"/>
          <p:cNvSpPr/>
          <p:nvPr/>
        </p:nvSpPr>
        <p:spPr>
          <a:xfrm>
            <a:off x="468360" y="620640"/>
            <a:ext cx="820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20a20"/>
                </a:solidFill>
                <a:latin typeface="Times New Roman"/>
                <a:ea typeface="楷体_GB2312"/>
              </a:rPr>
              <a:t>        </a:t>
            </a:r>
            <a:r>
              <a:rPr b="1" lang="zh-CN" sz="8800" spc="-1" strike="noStrike">
                <a:solidFill>
                  <a:srgbClr val="c20a20"/>
                </a:solidFill>
                <a:latin typeface="Times New Roman"/>
                <a:ea typeface="楷体_GB2312"/>
              </a:rPr>
              <a:t>我的花园会因你们的到来焕发生机与活力。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8" name="灯片编号占位符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AA47-8765-4C9D-A98A-1247FAC2C84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500_XyPDK8Cf"/>
          <p:cNvPicPr/>
          <p:nvPr/>
        </p:nvPicPr>
        <p:blipFill>
          <a:blip r:embed="rId1"/>
          <a:stretch/>
        </p:blipFill>
        <p:spPr>
          <a:xfrm>
            <a:off x="3995640" y="0"/>
            <a:ext cx="2176560" cy="217656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3"/>
          <p:cNvSpPr/>
          <p:nvPr/>
        </p:nvSpPr>
        <p:spPr>
          <a:xfrm>
            <a:off x="395280" y="227664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15241"/>
                </a:solidFill>
                <a:latin typeface="Times New Roman"/>
                <a:ea typeface="楷体_GB2312"/>
              </a:rPr>
              <a:t>        </a:t>
            </a:r>
            <a:r>
              <a:rPr b="1" lang="zh-CN" sz="6600" spc="-1" strike="noStrike">
                <a:solidFill>
                  <a:srgbClr val="f15241"/>
                </a:solidFill>
                <a:latin typeface="Times New Roman"/>
                <a:ea typeface="楷体_GB2312"/>
              </a:rPr>
              <a:t>不要自私，要学会爱，快乐只有和大家一起分享了，才会真正快乐。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2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5F12-03F1-48E8-9B40-5D407029231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生字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539640" y="1981080"/>
            <a:ext cx="83534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溢 允 墙 牌 添 训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覆 凝 辣 酷 愉 拆 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灯片编号占位符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A574-5626-412F-981B-FFDFD17FAD5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324000" y="0"/>
            <a:ext cx="8413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分享让我们看到更多的阳光，温馨与美丽，更多的享受快乐！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灯片编号占位符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C1E3-6065-4BAE-9683-A11771DBD13C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BAS00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6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2352960" y="1413000"/>
            <a:ext cx="4517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“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唤来寒冬的，是我那颗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任性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冷酷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心啊！要不是你提醒，春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将永远被我赶走了。谢谢你！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灯片编号占位符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5CB2-FDDF-40EC-8259-82F731913254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179280" y="1844640"/>
            <a:ext cx="8839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洋溢  允许  墙壁  告示牌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增添  训斥  覆盖  火辣辣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冷酷  脸颊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灯片编号占位符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C6FA-5741-48E9-9EE1-835FEA622157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" descr="BAS00151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91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       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a77"/>
                </a:solidFill>
                <a:latin typeface="Arial"/>
              </a:rPr>
              <a:t>            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755640" y="16765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1967760" y="1413000"/>
            <a:ext cx="523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洋溢  绽出  冷酷  脸颊  凝视 裹着 瑟瑟发抖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允许  训斥  喧闹  增添  破损  拆除  叱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Text Box 9"/>
          <p:cNvSpPr/>
          <p:nvPr/>
        </p:nvSpPr>
        <p:spPr>
          <a:xfrm>
            <a:off x="1023840" y="4299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1883880" y="4149720"/>
            <a:ext cx="49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疼痛  长久  寒冷  奇怪  消灭  珍贵   明亮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Text Box 13"/>
          <p:cNvSpPr/>
          <p:nvPr/>
        </p:nvSpPr>
        <p:spPr>
          <a:xfrm>
            <a:off x="625320" y="2378160"/>
            <a:ext cx="724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允许  训斥  喧闹  增添  破损  拆除  叱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灯片编号占位符 10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DAE8-8211-489A-AF24-3EEADD5EA647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Oval 2"/>
          <p:cNvSpPr/>
          <p:nvPr/>
        </p:nvSpPr>
        <p:spPr>
          <a:xfrm>
            <a:off x="457200" y="228600"/>
            <a:ext cx="2590920" cy="10666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457200" y="380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  <a:ea typeface="华文行楷"/>
              </a:rPr>
              <a:t>学习词语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304920" y="1413000"/>
            <a:ext cx="883908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绿树成荫  鲜果飘香  孤独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北风呼啸  四处逃散  漫长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狂风大作  雪花飞舞  荒凉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草翠花开  树叶飘落  凋谢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3" name="灯片编号占位符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D191-A804-4410-A80D-FC23D972059F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5" name="矩形 6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6" name="矩形 7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7" name="矩形 8"/>
          <p:cNvSpPr/>
          <p:nvPr/>
        </p:nvSpPr>
        <p:spPr>
          <a:xfrm>
            <a:off x="4538520" y="352728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609480" y="173664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喧闹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（    ）   允许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训斥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（    ）    凝视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457200" y="228600"/>
            <a:ext cx="3124080" cy="1066680"/>
            <a:chOff x="457200" y="228600"/>
            <a:chExt cx="3124080" cy="1066680"/>
          </a:xfrm>
        </p:grpSpPr>
        <p:sp>
          <p:nvSpPr>
            <p:cNvPr id="610" name="Oval 4"/>
            <p:cNvSpPr/>
            <p:nvPr/>
          </p:nvSpPr>
          <p:spPr>
            <a:xfrm>
              <a:off x="457200" y="228600"/>
              <a:ext cx="2590920" cy="1066680"/>
            </a:xfrm>
            <a:prstGeom prst="ellipse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1" name="Text Box 5"/>
            <p:cNvSpPr/>
            <p:nvPr/>
          </p:nvSpPr>
          <p:spPr>
            <a:xfrm>
              <a:off x="762120" y="380880"/>
              <a:ext cx="281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近义词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12" name="Text Box 6"/>
          <p:cNvSpPr/>
          <p:nvPr/>
        </p:nvSpPr>
        <p:spPr>
          <a:xfrm>
            <a:off x="2438280" y="1706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喧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438280" y="2438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斥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6012000" y="177336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许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5" name="Text Box 9"/>
          <p:cNvSpPr/>
          <p:nvPr/>
        </p:nvSpPr>
        <p:spPr>
          <a:xfrm>
            <a:off x="6084720" y="2492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注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16" name="Group 10"/>
          <p:cNvGrpSpPr/>
          <p:nvPr/>
        </p:nvGrpSpPr>
        <p:grpSpPr>
          <a:xfrm>
            <a:off x="609480" y="3429000"/>
            <a:ext cx="3124440" cy="1066680"/>
            <a:chOff x="609480" y="3429000"/>
            <a:chExt cx="3124440" cy="1066680"/>
          </a:xfrm>
        </p:grpSpPr>
        <p:sp>
          <p:nvSpPr>
            <p:cNvPr id="617" name="Oval 11"/>
            <p:cNvSpPr/>
            <p:nvPr/>
          </p:nvSpPr>
          <p:spPr>
            <a:xfrm>
              <a:off x="609480" y="3429000"/>
              <a:ext cx="2590920" cy="1066680"/>
            </a:xfrm>
            <a:prstGeom prst="ellipse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8" name="Text Box 12"/>
            <p:cNvSpPr/>
            <p:nvPr/>
          </p:nvSpPr>
          <p:spPr>
            <a:xfrm>
              <a:off x="914400" y="3581280"/>
              <a:ext cx="2819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反义词</a:t>
              </a:r>
              <a:endParaRPr b="0" lang="en-US" sz="4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19" name="Text Box 13"/>
          <p:cNvSpPr/>
          <p:nvPr/>
        </p:nvSpPr>
        <p:spPr>
          <a:xfrm>
            <a:off x="609480" y="5181480"/>
            <a:ext cx="8139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漂亮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（    ）   喧闹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荒凉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（    ）   允许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（   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0" name="Text Box 14"/>
          <p:cNvSpPr/>
          <p:nvPr/>
        </p:nvSpPr>
        <p:spPr>
          <a:xfrm>
            <a:off x="2438280" y="5181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丑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Text Box 15"/>
          <p:cNvSpPr/>
          <p:nvPr/>
        </p:nvSpPr>
        <p:spPr>
          <a:xfrm>
            <a:off x="2362320" y="5867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繁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16"/>
          <p:cNvSpPr/>
          <p:nvPr/>
        </p:nvSpPr>
        <p:spPr>
          <a:xfrm>
            <a:off x="6084720" y="5157720"/>
            <a:ext cx="19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寂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17"/>
          <p:cNvSpPr/>
          <p:nvPr/>
        </p:nvSpPr>
        <p:spPr>
          <a:xfrm>
            <a:off x="6084720" y="595008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禁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4" name="灯片编号占位符 19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4E87-FF90-4471-B1A4-3341AF9E5DC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5" name="页脚占位符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xhsj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灯片编号占位符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56EF-1A07-4795-AFC6-F765FA575AE0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3"/>
          <p:cNvSpPr/>
          <p:nvPr/>
        </p:nvSpPr>
        <p:spPr>
          <a:xfrm>
            <a:off x="2286000" y="5943600"/>
            <a:ext cx="4816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春天鲜花盛开，夏天绿树成阴，秋天鲜果飘香，冬天白雪一片。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花园里常年洋溢着孩子们欢乐的笑声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2" name="灯片编号占位符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7250-08DF-4899-B777-7029483BF28A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4"/>
          <p:cNvSpPr/>
          <p:nvPr/>
        </p:nvSpPr>
        <p:spPr>
          <a:xfrm>
            <a:off x="3255840" y="3139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6932520" y="2446200"/>
            <a:ext cx="6717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6948360" y="620640"/>
            <a:ext cx="67176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7" name="灯片编号占位符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D3F5-75D4-4341-979B-28E5A7D4D1A1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2:42:55Z</dcterms:created>
  <dc:creator>绿色圃中小学教育网|http://www.lspjy.com; HXJ</dc:creator>
  <dc:description>绿色圃中小学教育网|http://www.lspjy.com</dc:description>
  <cp:keywords>绿色圃中小学教育网|http:/www.lspjy.com</cp:keywords>
  <dc:language>en-US</dc:language>
  <cp:lastModifiedBy>Administrator</cp:lastModifiedBy>
  <dcterms:modified xsi:type="dcterms:W3CDTF">2015-10-07T13:35:47Z</dcterms:modified>
  <cp:revision>75</cp:revision>
  <dc:subject>绿色圃中小学教育网|http://www.lspjy.com</dc:subject>
  <dc:title>绿色圃中小学教育网|http://www.lspjy.com</dc:title>
</cp:coreProperties>
</file>