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chimes.wav" ContentType="audio/x-wav"/>
  <Override PartName="/ppt/media/image6.jpeg" ContentType="image/jpeg"/>
  <Override PartName="/ppt/media/image11.jpeg" ContentType="image/jpeg"/>
  <Override PartName="/ppt/media/camera.wav" ContentType="audio/x-wav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BA9D-9DA4-4D0F-9BAE-03AF076FA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A8EA-7D26-4759-A2E6-DD640157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0CA72-5B0B-483C-B55C-F61B7202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EC035-76BC-4EE2-9F00-4A483B87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C8D5C-639F-486D-B512-029DF948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7BBBF-3FAA-41D0-8DEC-1F41B90E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C4C0E-3D48-4647-AD89-9B5731B1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3E03C-F65C-4E66-8378-2875201B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BA4E1-36F2-4D56-B9BA-3787F6B9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52DE8-819A-461D-9C6C-5152A3CF4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3C6F4-F9D3-4531-9B43-2225516D9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2D0C6-722D-4092-9AFF-36811C16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971D-F5CB-48AF-AA9A-A3417EB8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C218BB-CA16-44FB-9464-8CD76CB1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DC443-4DC1-4FE9-AE22-CB80C034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D27FE-5506-4043-B2E9-E08CAFFC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16793-9F42-47DC-ABBC-CA4AB00A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72E8C-E54F-4A6E-9F21-E98144C3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1038E-3D77-4098-8E03-713A46C6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7570B-F09B-46CD-B9C4-E2EF1D6A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E3C7F-2A84-4694-BFA2-A8EC576B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E1E35-D205-4B1A-8991-B1A6B7A2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68CA1-B6E1-4133-BEBA-2151DA40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1BD7-15F7-4E33-83B7-446DADA46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411F9-9836-44A4-88C3-7078CEC64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37BCC-8CBB-4E8B-9591-D7B20DA13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28743-14C4-4141-8F79-669F571F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FA51E-DF84-4094-A827-5E13644E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B7846-7BF8-430A-B194-D3EE1FF2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1906A-5DE1-40DD-A368-C769C56B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0F3CC-2765-4205-9580-76B3C9BA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631E0-FA46-4F6C-8648-E5ADA23E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482A4-273E-4A28-819F-2F861893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E9BDB-B96B-4323-8FC3-81794605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69AB-7276-4779-91C6-1B2C8037B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6A16A-08A1-4467-A52D-1F7FFBE9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0E4C9-3E46-45F3-920F-646238DA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D4133-D15D-4B78-9862-ADE6DBD56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5052-0AB9-4B97-A307-527C58E1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01CC-AE14-4B47-A1D9-FBF401E8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1EAD-CABA-40FE-8D64-335A5B64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FF78-3218-4C7A-A430-BFBC0ECE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02CC-FB3B-4E0E-8D61-2B631FD6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7909-B2BE-4028-8C34-CDA1E6FD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28ED-5A10-44C0-AB29-108E3D67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CA67-A46E-404D-BB91-7FD219CF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985B-8506-4597-9D7B-25762130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1ACB-DD8B-4371-9465-9705B152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B69F-CD65-42D9-85F0-59080DED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4FE4-FDA6-4FA3-A59C-A74BC980E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0CF49-A365-46F2-BF69-A7D1AF1F8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84AAF-1D24-446A-9AAF-BA0C8EF1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DE31D-7B7A-4E3D-AE4A-DFA77FFD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C0828-87D4-4CB5-AD0B-B7EBB674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A1D02-66DE-412F-ACD8-12461C73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CD8A-0313-4113-A895-5A403F05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DB77D-3F0F-47F6-90D0-BA15A02A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045D5-E1BE-4656-AC25-200C2C56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B8231-EE32-467E-A184-9F31B778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4C6E8-5923-446B-8C32-EEFDB866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CF1D4-62CC-4E85-9A4F-1153F6E5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A03CF-B431-4986-BFD5-CFFFCAC1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1562F-1863-437C-9221-4FBE26F2A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B0855-E0BC-4D20-B3AA-820995A6D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4634D-33B3-466D-9EE6-F376561F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55FC5-432B-4467-B144-E52CCF59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B9FE-8B29-4AC6-B372-E3739417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CD396-E1ED-4192-A2B5-5D85CFC5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A4273-11F4-4B8B-8340-75C4DCD2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CB2DF-D82D-4A7F-ABF5-08CA8947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3A47C-E26A-41E7-AB34-F7FE9EA9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D513D-CC71-4108-8C13-C4731915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3289F-60C5-4E3D-961B-A9245C63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7E1A6-AF48-4352-9918-F8B08219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40EE2-CB8F-42CA-93D7-0F70DBC0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3E225-0169-4208-97F9-12AD22799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99581-A1A1-4DC5-AB08-2C3687C2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F928-6294-47F4-A3AE-4C165659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C3C6A-6CC1-4EE3-938E-BA2E6932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B47D4-42BF-410D-A371-1746D476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C1BD1-E959-45F4-8738-BAA548A7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426AE-80E3-4DF2-8B62-4764D1DE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BBF89-1E24-48E7-A188-E336D1F6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23324-F161-449C-94C9-42499DB5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05E37-FA05-4EE4-9AE7-59C506BA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80F37-7460-4D90-B871-49592886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11776-11F5-41E4-BA73-9E71A339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C653A-3590-412B-8FE4-C82ABF3E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C8BD-6E40-4DC6-8B65-57635523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92B95-5A43-43B1-B9E5-ED5A5243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C3343-A769-40B7-A9E0-02564A6E6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A98A2-B6C6-46FC-9610-05318655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DADE7-8A8B-4B56-8B75-D76B0B83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13696-924D-4DAC-8D85-4E706645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FC5F3-C10A-4D0E-9402-9B3B0B94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EE8AF-9BBA-415B-9C7E-9B986B6C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150A4-41E4-45B8-9811-F9267286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66640-8369-40D8-A5A8-0762B5FE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AFE7F-93C6-4DAB-B5F4-FA7CFE16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0259-9640-4069-9D91-893B7445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6A211-99E8-4BE0-8DDC-A9F63DCB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4990D-D660-47B9-A363-A83F94D28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25A4B-2808-49C2-BB29-5B0266722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A063B-702D-4139-8CD6-D49955EB6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F073B-57FE-4C80-B5B1-6738F458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7F3DF-82B1-4CE6-A225-5B5CF9D3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F29D8-9B42-4D08-AFA6-1AEA1CB0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36A33-C161-478F-A69C-715E71EF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ADDA7-E392-43E8-B2B2-0EE6BA25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161A6-69C9-49B2-8A08-9D6C89CB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1C3E-62E9-4594-99FB-2ED1DC19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F2B1E-D963-4B49-8C34-F51E6345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77DAC-DCFF-49E5-B5F1-3D7EB31B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1C877-5E3F-4049-9C3F-0766A985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A6BDC-D36A-4166-8BBB-FA87AD01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44DDD-DE65-4C4B-A193-60D07128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9F050-36F1-4E41-9E0C-E0ADAF54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B8423-FD0C-447B-B13C-36729663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3DD21-96F2-4114-9D11-856FE84D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ADD25-8432-4CEF-9CE9-49533CFC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3DFC8-FAD9-46EA-953E-B9AA8839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79C3-8468-4FC7-9713-6C4346C5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134B2-9B71-4AD2-A0B7-E54F3BC4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3BA89-E849-45D5-BD1D-60FD9E55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A27E4-6148-40E2-A2D7-C354A2F1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A8242-18F0-4F82-806A-7AC9E8CC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5BF20-ABA8-4D4A-8B74-CC5FA4E5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C2B2B-067F-4E0D-9918-4FD73CD5D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4AAB2-5701-40BE-944A-39F264D4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350E0-3F6C-4FF2-A5E4-58D5B4EA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7D256-CB34-4E11-B97C-6A50176D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19A5A-3EDB-4411-9625-880C9137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BE00-C277-4134-8D69-E93787AF7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E46C-6E94-4D2A-81E0-18C12DC21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B0AF-875F-4EB8-ACC3-CF3D6A5C9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76A8-F4AA-4836-B8DA-D26901C5B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9E68-6249-4DFA-B421-0AF290CFF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E302-24F3-460D-9163-86D5BEE70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57BB-80FD-484D-9117-D18D1008C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A8DE-502F-4849-BFFF-8A2196865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1340-5F2D-4FE2-9BCD-8C6864330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F606-D528-4EA2-99F6-6CA3CBFDF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3187-FE83-4899-9712-3943E6DAC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chaoshui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5"/>
          <p:cNvSpPr/>
          <p:nvPr/>
        </p:nvSpPr>
        <p:spPr>
          <a:xfrm>
            <a:off x="2195640" y="549360"/>
            <a:ext cx="4557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浪淘沙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                        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刘禹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八月涛声吼地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头高数丈触山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须臾却入海门去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卷起沙堆似雪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渔舟唱晚.mp3" descr=""/>
          <p:cNvPicPr/>
          <p:nvPr/>
        </p:nvPicPr>
        <p:blipFill>
          <a:blip r:embed="rId2"/>
          <a:stretch/>
        </p:blipFill>
        <p:spPr>
          <a:xfrm>
            <a:off x="1116000" y="5877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54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3E23-3C48-447C-A032-DDA88B6F4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6"/>
          <p:cNvSpPr/>
          <p:nvPr/>
        </p:nvSpPr>
        <p:spPr>
          <a:xfrm>
            <a:off x="391320" y="0"/>
            <a:ext cx="36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7"/>
          <p:cNvSpPr/>
          <p:nvPr/>
        </p:nvSpPr>
        <p:spPr>
          <a:xfrm>
            <a:off x="4386240" y="337500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3081" fill="hold"/>
                                        <p:tgtEl>
                                          <p:spTgt spid="4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4"/>
          <p:cNvSpPr/>
          <p:nvPr/>
        </p:nvSpPr>
        <p:spPr>
          <a:xfrm>
            <a:off x="3111480" y="213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7"/>
          <p:cNvSpPr/>
          <p:nvPr/>
        </p:nvSpPr>
        <p:spPr>
          <a:xfrm>
            <a:off x="1403280" y="0"/>
            <a:ext cx="77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8" descr="200410311402145018"/>
          <p:cNvPicPr/>
          <p:nvPr/>
        </p:nvPicPr>
        <p:blipFill>
          <a:blip r:embed="rId1"/>
          <a:stretch/>
        </p:blipFill>
        <p:spPr>
          <a:xfrm>
            <a:off x="0" y="0"/>
            <a:ext cx="9970920" cy="6858000"/>
          </a:xfrm>
          <a:prstGeom prst="rect">
            <a:avLst/>
          </a:prstGeom>
          <a:ln w="0">
            <a:noFill/>
          </a:ln>
        </p:spPr>
      </p:pic>
      <p:sp>
        <p:nvSpPr>
          <p:cNvPr id="494" name="Text Box 9"/>
          <p:cNvSpPr/>
          <p:nvPr/>
        </p:nvSpPr>
        <p:spPr>
          <a:xfrm>
            <a:off x="1116000" y="907920"/>
            <a:ext cx="7273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八月十八，我去海宁观潮。（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这天早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江面上（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风平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静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，岸边却早已（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人山人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；（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午后一点左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，从远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传来的潮声犹如（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闷雷滚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），过了一会儿水天相接处出现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一条白线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）；不一会儿，白线拉长变粗，（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横贯江面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）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再近些，那浪潮是一浪一浪像六七米高的（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白色城墙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，一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浪像千万匹（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白色战马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，此时的潮水声犹如（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山崩地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连大地都在惊颤；（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霎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潮过去了，可是余波还在（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漫天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涌来，而堤下的江水已经涨了七八米高。这真是（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天下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啊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24F5-4C3D-4592-B5F1-EA893B180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8" descr="回头潮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3"/>
          <p:cNvSpPr/>
          <p:nvPr/>
        </p:nvSpPr>
        <p:spPr>
          <a:xfrm>
            <a:off x="5841000" y="907920"/>
            <a:ext cx="200916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观      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B634-4616-4B53-8DBE-373BFCDF6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第二段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7D3D-999E-460D-B838-D7D6C1FAA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6454" fill="hold"/>
                                        <p:tgtEl>
                                          <p:spTgt spid="4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4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8" descr=""/>
          <p:cNvPicPr/>
          <p:nvPr/>
        </p:nvPicPr>
        <p:blipFill>
          <a:blip r:embed="rId1"/>
          <a:stretch/>
        </p:blipFill>
        <p:spPr>
          <a:xfrm>
            <a:off x="-973080" y="-297000"/>
            <a:ext cx="10117080" cy="715500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11"/>
          <p:cNvSpPr/>
          <p:nvPr/>
        </p:nvSpPr>
        <p:spPr>
          <a:xfrm>
            <a:off x="2968200" y="828720"/>
            <a:ext cx="18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  <a:ea typeface="仿宋_GB2312"/>
              </a:rPr>
              <a:t>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2"/>
          <p:cNvSpPr/>
          <p:nvPr/>
        </p:nvSpPr>
        <p:spPr>
          <a:xfrm>
            <a:off x="2340000" y="620640"/>
            <a:ext cx="6335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盐           据              堤             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若           昂              崩             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奇观       闷雷           据说        昂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人声鼎沸       浩浩荡荡        水天相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山崩地裂      风平浪静         若隐若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3827-9D99-45BB-9D68-F17245325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6" descr="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C013-2D0E-4020-A82A-C4745AC9F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9" descr="pic_2489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EA97-BC71-4B49-B66D-E06F3FF93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2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13" descr="20050920132234194"/>
          <p:cNvPicPr/>
          <p:nvPr/>
        </p:nvPicPr>
        <p:blipFill>
          <a:blip r:embed="rId1"/>
          <a:stretch/>
        </p:blipFill>
        <p:spPr>
          <a:xfrm>
            <a:off x="0" y="0"/>
            <a:ext cx="9144000" cy="30686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4" descr="00053103"/>
          <p:cNvPicPr/>
          <p:nvPr/>
        </p:nvPicPr>
        <p:blipFill>
          <a:blip r:embed="rId2"/>
          <a:stretch/>
        </p:blipFill>
        <p:spPr>
          <a:xfrm>
            <a:off x="0" y="3068640"/>
            <a:ext cx="9144000" cy="3789360"/>
          </a:xfrm>
          <a:prstGeom prst="rect">
            <a:avLst/>
          </a:prstGeom>
          <a:ln w="0">
            <a:noFill/>
          </a:ln>
        </p:spPr>
      </p:pic>
      <p:sp>
        <p:nvSpPr>
          <p:cNvPr id="47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7A55-A10C-4EF0-A113-D3DBB4D46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5"/>
          <p:cNvSpPr/>
          <p:nvPr/>
        </p:nvSpPr>
        <p:spPr>
          <a:xfrm>
            <a:off x="391320" y="0"/>
            <a:ext cx="36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6"/>
          <p:cNvSpPr/>
          <p:nvPr/>
        </p:nvSpPr>
        <p:spPr>
          <a:xfrm>
            <a:off x="4386240" y="337500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3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4" descr="200410252053362096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48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28DE-61FE-4EED-BA54-D1657515C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2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762120" y="40384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霎时，潮头奔腾西去，可是余波还在漫天卷地涌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3" descr="2004103114021450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4"/>
          <p:cNvSpPr/>
          <p:nvPr/>
        </p:nvSpPr>
        <p:spPr>
          <a:xfrm>
            <a:off x="838080" y="213372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imes New Roman"/>
                <a:ea typeface="隶书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684360" y="765000"/>
            <a:ext cx="7775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八月十八，我去海宁观潮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 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时间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）江面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），岸边却早已（                ）；（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时间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）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从远处传来的潮声犹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，过了一会儿水天相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处出现了（                     ）；不一会儿，那条白线拉长变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   ），再近些，浪潮是一浪一浪像六七米高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     ），一浪一浪像千万匹（               ），此时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潮水声犹如（               ），连大地都在惊颤；（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时间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潮过去了，可是余波还在（                 ）涌来，而堤下的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水已经涨了七八米高。这真是（               ）啊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35E3-9E65-4857-B09B-458A39B26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1:05:55Z</dcterms:created>
  <dc:creator>绿色圃中小学教育网|http://www.lspjy.com; hyj</dc:creator>
  <dc:description>绿色圃中小学教育网|http://www.lspjy.com</dc:description>
  <cp:keywords>绿色圃中小学教育网|http:/www.lspjy.com</cp:keywords>
  <dc:language>en-US</dc:language>
  <cp:lastModifiedBy>Administrator</cp:lastModifiedBy>
  <dcterms:modified xsi:type="dcterms:W3CDTF">2015-10-07T13:57:31Z</dcterms:modified>
  <cp:revision>78</cp:revision>
  <dc:subject>绿色圃中小学教育网|http://www.lspjy.com</dc:subject>
  <dc:title>绿色圃中小学教育网|http://www.lspjy.com</dc:title>
</cp:coreProperties>
</file>