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A331-DBC0-4632-88DF-B401FB8D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721-D1E2-414C-9C28-911E7783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7623-8F83-4755-8FAD-F550428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E4906-32CD-44B1-8CB6-1A9DC482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A2C7C-7E6F-495D-BE7E-A02F7A1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FA2C3-0636-47CA-9889-47563C62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CD73-258A-478B-999B-740710E5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1871F-EAD9-482E-A664-EBC50506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00D08-E777-4F7A-94A9-88D73C63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0E4BF-90CC-4589-9B90-B2664D52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50D0E-3A01-4B88-90D1-F75B4B0A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6C71B-F543-4D46-BE90-09F1713B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96A-3C67-4CA2-AB0E-DF1D3155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0EC43-ECA8-4404-9569-C48D2837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12CAF-26AD-4981-844C-E4CDC4F2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01E2-8325-4AB5-BE54-0A54D28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A0A88-C1F5-412F-BFEA-0D28EB59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570E7-1BE2-4D9D-B171-FA305A2A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FD436-5008-4CD1-9AEB-D04609E5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5EF1C2-19CD-45D9-9775-6226015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F6104-322B-4FC7-9770-747E342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E6582-06BE-467F-B937-8F100D08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69357-7008-4711-957B-097B96C5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0A6-2925-4FA1-99AC-CE236BF3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080FD-3F94-4FC3-AB72-597373C2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F0FCA-962A-401A-9E0A-CBA0C3CB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88768-4696-429A-994A-B325E843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91F24-F56D-42B7-904D-FD98E632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EA70B-BF42-4E74-9DFF-1E81780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91EE2-6FFF-4FD0-8E70-83474DDA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5B7D-F38C-404F-99DB-AAB6415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72233-E1CD-4FAC-BB02-EAFDD42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351A3-96BB-4489-ABDF-D12C792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25ED35-6852-40DC-9F69-45DD19F7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0D5A-9004-4C95-AAD5-E5D45468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63A9C-C11D-4C59-BC56-4A2137EF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F8A8-4E73-47C2-9EB2-8CC37D20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0185B-B4F3-4E4A-A7F4-5EE4BD15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7A60-9E4E-4F68-AFD0-CC0C6BE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7ED-95DF-4F6B-9ADB-C8D8CAF7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FBD0-AE96-4A31-91F5-9BDFF18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092-3B7D-4EA0-BB0D-E910D2E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3EE9-8203-46DF-9700-38DC98A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EDDF-CCF2-424A-9A65-A5AFBA2C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566-BD8B-4287-88FC-2F2E367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5022-9533-4DA1-B2E4-69E037A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6E35-C784-4C1E-9DC7-9A62646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965-79E9-47BF-9F23-A7E495E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4E4-0C98-415F-B0D6-794E5C2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6718-6A2C-436F-91B0-6CE36F49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AAE5-0BB4-4374-9A55-67560305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0A9C1-018D-4924-B689-B9362A0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B4A7E-A1BB-4E52-9C2B-DCE79C6C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CD1BB-65D3-4882-8215-D3DE427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84D53-3AFA-4334-A4C5-BCCE622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2EDD-D063-46EB-9EE2-C7A8E8DC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CCC3-B9CE-426B-8558-22316D5B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92F1-6F3F-4B70-80B6-54263572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A7804-3FFE-427A-862B-A4217AC6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ACE5-620B-4B97-8709-19858A0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2AF0-74F4-4952-932E-58794704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0EF6-65EB-491C-8136-523F3922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46294-548F-432D-9482-7118BA53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80306-9526-4F1C-9052-3D75B402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67EA-BC19-440F-9F71-5A1E3A6D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9BB6F-E337-4467-876F-98700A41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EB6-BAD3-4D24-B78C-83DEDA9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5FA2-7359-40A5-8650-8D534B5E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28FD4-0686-4E8A-B4B5-61B012A6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AA57-DB28-4D6B-8B83-57F131AE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101C9-7E79-469D-B310-85A5E2A9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E29C0-10E7-49DB-8724-872B16B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AD2B-D40A-4EFD-94E3-EE20E68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8DDD1-DAF7-4D9D-AA31-07D3D328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522B-2903-41A6-BD6A-3CD82C61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F42BB-2AE4-4784-83D9-E08A0303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B0CD0-F326-47DA-90B4-ADFB51AA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FC9-3398-448A-A68D-0E120D26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F7BD-4029-405A-A22E-F96F2C42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BA414-E6C3-43BC-888A-16F72995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A5A67-15C0-41B3-8435-341F089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7E35-3A16-4ACF-A441-56D492E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AE00-44B0-49EC-B6C3-42387CF9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AEC8-BBE1-4EB3-8B84-D37C415D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4A77F-3CF7-4772-A762-CEFA43C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46C8-975E-42B2-8072-08D9733B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5B34-EA1A-4063-9AF5-18CE1036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CEFD-2B9C-4101-B247-A7F4C30A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223-EB09-446A-B29B-AA737AD6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F666B-5DA8-4CF5-9B9A-3F639B2A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4AA81-F599-488C-B8E7-45A57C5F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58C57-0421-40FB-B5EF-8E3042C7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8B992-3AC7-439A-B9A4-50932D2D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4283-71C1-43F3-A73F-519C58A8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6603-2F5C-45F5-AF77-71B5735A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886CA-B032-470E-87B5-615C2187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E7F68-8C80-48CC-860D-F95A2D2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D9C5-BD67-4EBC-8447-52D76C2A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350E7-F48F-4F41-BEAA-BA2F3074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328-E725-4CE9-BD34-80DFDD4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F262-A90F-4269-9C86-927FB600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9C232-3362-45F3-8C47-62E19BE8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44E80-6CF4-4D18-9A75-A81386E9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2FF58-9F5E-47C2-BB63-33A7EC36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5439-8646-4776-A76E-4C07FCC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A6AB3-2039-41B9-A72D-62F2708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987FE-AF10-46CA-BB41-61115FF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176E-9A3A-4669-BC82-CE524886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B60B-A70B-46EA-9677-56C63AFD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06E16-93FB-4492-9564-2410BF09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C71-2DAA-457F-8A89-146A9985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69E3-8002-4656-9CE8-3B3D5813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0944-E9F2-4A3A-865D-58D16341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6ADF2-1323-40B1-A547-17FAA65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304A-FEB5-4E00-A6B1-D8B6E832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85873-5247-4A47-8C9F-ABD2E41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1A30D-A1B1-484D-992C-8B5E1E6C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816E-0037-4E89-A5CB-5096707F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BBAE8-549E-439C-BA7B-BFABFE52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E34CE-61D7-480A-8CAB-D54764F4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4CEB7-9017-4C31-B496-048CCF0E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327-E205-423F-AC8E-F081F9B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CB344-B892-4065-B52E-0EC9DD39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01C0-9636-41AC-A8D1-FE06C80F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064C6-4ADA-4A95-A728-8CFCC545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68823-5B57-4938-91AC-9C3CD1D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331B8-9205-483A-A3C0-D4C235A1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1459C-699B-4B13-A17E-E5586E99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E4835-9A49-48E0-BF45-C253BCBF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D1B25-8F16-4054-B46A-F2046A28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BA6BE-8FDD-46AF-86C4-5AFA39A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18857-01C7-42E1-AA3D-F1809AC5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C589-2034-48CA-83B1-FE23089DA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33E6-4286-4C1D-9280-047F1E8FB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11A-18A1-4365-A7A5-FB9AB2A79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8973-368A-420A-95B6-8E74C8B2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AD66-1164-4998-9F84-1878FEA79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C82E-3BC4-4132-B716-9B948832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0FDF-D0DF-4C1F-B12A-BD0C7EE17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1E8D-F8D8-456A-8780-E3CBD8AEB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B35-5723-4F26-B214-E3DC67827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DC41-EDC8-4131-BAC7-3DD966D46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83F-9873-4D76-B04D-6509C647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0" descr="mm00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WordArt 8"/>
          <p:cNvSpPr txBox="1"/>
          <p:nvPr/>
        </p:nvSpPr>
        <p:spPr>
          <a:xfrm>
            <a:off x="2057400" y="274320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幸福是什么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23E8-6ADF-4E41-993A-12D3CB46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7" descr="200932118047559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8"/>
          <p:cNvSpPr/>
          <p:nvPr/>
        </p:nvSpPr>
        <p:spPr>
          <a:xfrm>
            <a:off x="3124080" y="22860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就是童年吹出的五彩缤纷的泡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B9D2-E61B-4FB9-A1C0-8325E0CBF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7" descr="7a313110613858f7a6ef3f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就是海滩上回荡的玩耍时的串串笑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9CA0-1343-42C4-8FEA-0BBDDD8C4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7" descr="妈妈亲吻孩子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6434640" y="762120"/>
            <a:ext cx="1642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就是妈妈留在我脸上的香香甜甜的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570-563D-48CB-A4CE-3EB7620A0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帮妈妈做完家务时的满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80D84F36CF5FB37AC4243C9ABD1191C9"/>
          <p:cNvPicPr/>
          <p:nvPr/>
        </p:nvPicPr>
        <p:blipFill>
          <a:blip r:embed="rId1"/>
          <a:stretch/>
        </p:blipFill>
        <p:spPr>
          <a:xfrm>
            <a:off x="380880" y="1752480"/>
            <a:ext cx="8763120" cy="4799160"/>
          </a:xfrm>
          <a:prstGeom prst="rect">
            <a:avLst/>
          </a:prstGeom>
          <a:ln w="0">
            <a:noFill/>
          </a:ln>
        </p:spPr>
      </p:pic>
      <p:sp>
        <p:nvSpPr>
          <p:cNvPr id="4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D96C-69A6-4AEB-A105-85814854A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924320" y="304920"/>
            <a:ext cx="685800" cy="58212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            幸福是同伴之间的一声声问候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8" descr="7171EE409503989D4C63D65DCD1F1968"/>
          <p:cNvPicPr/>
          <p:nvPr/>
        </p:nvPicPr>
        <p:blipFill>
          <a:blip r:embed="rId1"/>
          <a:stretch/>
        </p:blipFill>
        <p:spPr>
          <a:xfrm>
            <a:off x="0" y="0"/>
            <a:ext cx="73915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6F7-FDF2-4363-A0A4-122A5D9F3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5" descr="1010011724e8941c4f3f39ee9e"/>
          <p:cNvPicPr/>
          <p:nvPr/>
        </p:nvPicPr>
        <p:blipFill>
          <a:blip r:embed="rId1"/>
          <a:stretch/>
        </p:blipFill>
        <p:spPr>
          <a:xfrm>
            <a:off x="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924320" y="304920"/>
            <a:ext cx="685800" cy="582120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            幸福是扶起摔倒的老人时脸上的微笑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F961-2AB0-43F8-8F4C-D6D32E047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pcgames0223xiaohong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什么？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付出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是给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就是珍惜现在拥有的一切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Adobe 楷体 Std R"/>
              </a:rPr>
              <a:t>幸福就在你身边，有爱就有幸福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3E9A-54AC-4796-B959-28D05A9C6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绿色圃中小学教育网|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9:35Z</dcterms:modified>
  <cp:revision>47</cp:revision>
  <dc:subject>绿色圃中小学教育网|http://www.lspjy.com</dc:subject>
  <dc:title>绿色圃中小学教育网|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