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8FA-C649-4D84-A2E8-65C415E7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0C7-6785-483C-9238-64B7663C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2F780-FB08-40EA-B679-29510EFE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FDC04-E84F-40B1-A133-04213558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9605B-184D-46F0-902D-9714837C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F2323-9060-44C3-A22E-B87D159B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1C8FD-7EF7-42B2-B6FA-965F32B8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A2E91-7823-4856-A1F7-1CD4055A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84474-1946-4494-8E20-D7E9D7F6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7E754-6A7E-42F9-9B07-DC1D6B46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3AF90-9D13-428C-BA01-4DE69A84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81057-24B8-4D1D-AA31-7E8693E7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033-8472-42E0-82E4-076685F3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4576A-F652-409F-836E-0E945FAC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C3732-C476-4954-8220-562B00C2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7425C-5CB7-4468-B5A8-E3422367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25B06-9CCE-4004-ACEA-1D4FFB55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F3048-DF48-4E16-B7A0-6718AE9F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8E695-A9F2-4DE4-8EBA-678F695E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EBA01-2DBF-4E69-9BA0-23BFC75A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64150-21E7-44F1-B9E7-412E3ED8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85F62-8C4C-4DAA-AD21-533D1BD5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43F0F-BD64-4886-B93B-D5CB39C1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2F5-9315-4002-8A88-A68FE752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592A6-7AA2-4DD8-8413-0AE6C04E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BFC72-4059-4598-B053-ED5A6ADF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9D9B0-4871-41E7-8208-8DDD00FE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56F82-8376-4DE3-8962-B8C82E7F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55524-0E13-4C54-B036-B0BFAF4B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645BA-8EE9-4EFD-B714-0FE80ADF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2EF02-3198-42C5-82BC-4B625BEF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BF7AE-F2D7-43F3-83E0-1283D3EC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48DAD-6512-4E6C-A94D-A9B32458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BFFF1-898B-45BC-BFFD-46EBFB31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6B11-1D62-4A94-B2F8-5B0A31A7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9AC86-550F-4BD4-804B-2F3002B5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06F47-F888-4019-8814-C45748B4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CF344-69B0-4B8D-9FFF-78613ED4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EFDD-E75D-4606-9512-A627819C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417D-1960-4D3B-9F1E-3515B13D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28BC-2478-47B3-959E-42792BF4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2980B-D168-452D-A607-5A389C1E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3F53-FAE6-4332-ABE4-C151ED44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3AC1-2CAF-449B-84A2-3870B297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38E-70CF-44E2-9710-8E079369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6565-5140-4BFE-BAA2-837DA8E1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33BA-8FB7-4A99-B18A-145BEC39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D59E-CAD7-482D-9A0D-1E2192B5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8A68-BFBA-46C0-96A5-FF2A372A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BF48-3A30-4EBD-9675-B5C2B2745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AC4E0-14D9-40AF-BC3F-B11DB481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C4E8C-C375-4511-A5C3-0E591FDC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58B05-C938-4142-9572-5AAC14DE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46C3-1D11-4FD5-A6CD-90055216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90233-31F0-4BC8-9034-102DF791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9F16-DF47-48C4-B3EB-6CD50281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AB334-3681-4A37-A247-642F000F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C89E-328A-4C67-B7B9-9FCF445F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C5D1E-24D5-4089-A6C8-1758EC06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4D327-7F7D-4ABA-AB3E-1BDFBEF4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99075-2C5E-4319-92E4-C4F4E15E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7EF8C-416C-49F6-9DB8-F1B70B55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94803-4C1F-4B5C-B932-4E578FD4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CAD62-25AD-46D6-9289-41050CBF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82896-AE20-4902-ABFD-1072971B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464A5-B08C-40DE-A723-5EBE27F0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F2FD-EB59-4C1D-9B90-689B28C0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60ED5-7DB2-48FA-AAD3-1ED3CF73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380F6-7E7B-462C-89EF-DB4C2ED3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B7BBB-936F-46DB-8138-117AEABE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B64A6-4E91-4D27-941E-BE38BF1C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C0283-0072-43E1-913D-F82EB336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41819-7565-411C-AD37-029E5D80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0E6B2-BEAE-4609-BCC0-2816AB6D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9E3C2-E1D5-455E-9398-F263E66F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6D199-8A71-4507-B86A-7734E59C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4442B-0C90-43F4-BFD6-EE7297D2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A99-75E8-46E2-A0F4-CBA96F50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0D70C-629D-4D2C-8B94-ADE66005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07ABB-0C7B-4681-AC54-C173F150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7F53B-4063-4FB4-BEA4-ACF1C1D2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36037-81E8-4004-8D10-D2D23156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C6D50-7094-4D89-8C90-5BC50CFD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18C1F-8F5B-4F41-BFF0-E92A7301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B6E0C-133D-44DC-BF1E-E75770A8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E0761-676B-4DD6-BA5F-F5F5B974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E9B39-9F3A-4025-9B14-245BD5F6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93C16-E02F-4CC8-A9A6-BF67C51F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EC8-89A3-4BA1-9219-356271A4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EE2FC-2FFD-47D3-9246-E19F7DAB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931C4-3B34-4A86-80BC-41ACA2C6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E30A4-7E78-4712-B66A-21093B3E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8DA3A-104D-4735-8A1A-37C8A6A4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4D2DA-62A4-457C-8B3C-33615085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7E8CD-F4A0-422F-A448-96405AA6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9526B-3AEF-4184-BA00-87EA24AE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6CC87-104C-4327-80DB-7147FC2E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73512-8C6A-40FF-B715-9E4C317A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56A9B-D85D-4DF4-BC3B-76D82081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6CA-FCD9-4EAB-B8F8-869BB7F7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21151-5689-49B7-9A08-683F0579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DDED0-8B52-46D3-9105-585D3111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6AD7F-4F3F-4FF4-A3BD-D6D36A7B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C4A3A-C5ED-4B96-A306-012487D9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71DA2-7F84-4870-AA0A-9ABAB602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9F92B-CA3B-4E26-8DA1-029F0C71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0BC92-404C-43C0-891F-70858247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541FD-D767-444E-913E-00EAD2DB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C12CD-55D5-43CB-B2B7-22A671B3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61D49-6845-4F1A-97E9-906FCE5B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14CF-F627-4563-A0DB-BCB787B4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2AD27-0FE4-4255-BBB6-7758B695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AC8E6-A297-425C-AF52-EEF810FF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FB1D4-2890-4D3C-89DA-BB76BCE4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3061C-D1B4-42EA-ABEE-1B5E9B5D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6A7D7-4A13-4FAF-ABF9-58A25644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8EE64-7FDF-4A61-94CE-534983BF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7F9C7-2E62-442F-AF2F-E28F0787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630B2-6C3D-49A6-9805-8946D025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A894F-AD8C-4F94-9C04-5B85F273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2872F-1E1D-4D23-8C1E-1C509888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359-F3FF-4275-B82E-7E83D019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F331A-E02F-45CE-9EEA-DA485F7E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F08A7-7915-4EC0-876F-7B9A6635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0DA79-5791-42ED-9A60-FB2197F4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4222D-B636-4EA7-861A-CA87BD5A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99B15-CE65-4515-BB2E-A6C72E89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884C1-8798-4F2B-A945-A0D9354D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758BF-7EF2-418B-B54B-1B92FC68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52C98-59E3-491C-BEB2-F8C7C1D2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5F55D-2FB2-41F4-989E-E7633A58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4EE10-73C7-4E65-A8DF-B3133655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D242-5D7D-4502-A650-572DCAF95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61BB-A71D-477E-AA4C-00D0C93E0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E505-DEA3-4DB6-85D2-8D47D40FB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BA68-1877-4C30-B664-EF3E966FF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EF4C-D11D-4B70-90CF-1E156EA00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A6CC-14E8-4898-8A4E-5817B0A30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BA65-AD17-4672-8D4E-753ACAC2B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06A3-DD4E-4284-94E4-65B4683C8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D646-BB28-4EFF-B953-CBCCE2B4F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99EF-1030-44F1-A28E-759565C2A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0DA2-FE1C-49C2-ACE6-17751267A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312;%B0%AE&amp;in=16&amp;cl=2&amp;cm=1&amp;sc=0&amp;lm=-1&amp;pn=15&amp;rn=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312;%B0%AE&amp;in=91&amp;cl=2&amp;cm=1&amp;sc=0&amp;lm=-1&amp;pn=90&amp;rn=1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10193400" cy="7245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图片1"/>
          <p:cNvPicPr/>
          <p:nvPr/>
        </p:nvPicPr>
        <p:blipFill>
          <a:blip r:embed="rId2"/>
          <a:stretch/>
        </p:blipFill>
        <p:spPr>
          <a:xfrm>
            <a:off x="0" y="0"/>
            <a:ext cx="10193400" cy="724536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7"/>
          <p:cNvSpPr/>
          <p:nvPr/>
        </p:nvSpPr>
        <p:spPr>
          <a:xfrm>
            <a:off x="1763640" y="620640"/>
            <a:ext cx="756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8" descr="20060308220151988"/>
          <p:cNvPicPr/>
          <p:nvPr/>
        </p:nvPicPr>
        <p:blipFill>
          <a:blip r:embed="rId3"/>
          <a:stretch/>
        </p:blipFill>
        <p:spPr>
          <a:xfrm>
            <a:off x="2268360" y="765000"/>
            <a:ext cx="5689800" cy="5689800"/>
          </a:xfrm>
          <a:prstGeom prst="rect">
            <a:avLst/>
          </a:prstGeom>
          <a:ln w="0">
            <a:noFill/>
          </a:ln>
        </p:spPr>
      </p:pic>
      <p:sp>
        <p:nvSpPr>
          <p:cNvPr id="455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1BEF-A8D1-42D9-82AF-D6E679C44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7"/>
          <p:cNvSpPr/>
          <p:nvPr/>
        </p:nvSpPr>
        <p:spPr>
          <a:xfrm>
            <a:off x="391320" y="18900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8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5" descr="0906031852952786d8985327f0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7"/>
          <p:cNvSpPr/>
          <p:nvPr/>
        </p:nvSpPr>
        <p:spPr>
          <a:xfrm>
            <a:off x="6172200" y="6370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8"/>
          <p:cNvSpPr/>
          <p:nvPr/>
        </p:nvSpPr>
        <p:spPr>
          <a:xfrm>
            <a:off x="6300720" y="5950080"/>
            <a:ext cx="2232000" cy="36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FA67-9ACB-487E-ABD7-2692521CB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5" descr="u=2011381153,2506338328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502" name="WordArt 7"/>
          <p:cNvSpPr txBox="1"/>
          <p:nvPr/>
        </p:nvSpPr>
        <p:spPr>
          <a:xfrm>
            <a:off x="1116000" y="1989000"/>
            <a:ext cx="3456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黑体"/>
              </a:rPr>
              <a:t>母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黑体"/>
              <a:ea typeface="黑体"/>
            </a:endParaRPr>
          </a:p>
        </p:txBody>
      </p:sp>
      <p:sp>
        <p:nvSpPr>
          <p:cNvPr id="503" name="WordArt 9"/>
          <p:cNvSpPr txBox="1"/>
          <p:nvPr/>
        </p:nvSpPr>
        <p:spPr>
          <a:xfrm>
            <a:off x="6084720" y="765000"/>
            <a:ext cx="15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宋体"/>
              </a:rPr>
              <a:t>无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宋体"/>
              <a:ea typeface="宋体"/>
            </a:endParaRPr>
          </a:p>
        </p:txBody>
      </p:sp>
      <p:sp>
        <p:nvSpPr>
          <p:cNvPr id="504" name="WordArt 10"/>
          <p:cNvSpPr txBox="1"/>
          <p:nvPr/>
        </p:nvSpPr>
        <p:spPr>
          <a:xfrm>
            <a:off x="6156360" y="3789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勇敢</a:t>
            </a:r>
            <a:endParaRPr b="0" lang="en-US" sz="1800" spc="1" strike="noStrike">
              <a:ln w="9360">
                <a:solidFill>
                  <a:srgbClr val="808080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505" name="WordArt 11"/>
          <p:cNvSpPr txBox="1"/>
          <p:nvPr/>
        </p:nvSpPr>
        <p:spPr>
          <a:xfrm>
            <a:off x="6227640" y="4797360"/>
            <a:ext cx="15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宋体"/>
              </a:rPr>
              <a:t>辛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  <p:sp>
        <p:nvSpPr>
          <p:cNvPr id="506" name="WordArt 12"/>
          <p:cNvSpPr txBox="1"/>
          <p:nvPr/>
        </p:nvSpPr>
        <p:spPr>
          <a:xfrm>
            <a:off x="6156360" y="1773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负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507" name="WordArt 13"/>
          <p:cNvSpPr txBox="1"/>
          <p:nvPr/>
        </p:nvSpPr>
        <p:spPr>
          <a:xfrm>
            <a:off x="6156360" y="2781360"/>
            <a:ext cx="151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宋体"/>
              </a:rPr>
              <a:t>慈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宋体"/>
              <a:ea typeface="宋体"/>
            </a:endParaRPr>
          </a:p>
        </p:txBody>
      </p:sp>
      <p:sp>
        <p:nvSpPr>
          <p:cNvPr id="508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F34B-27C9-4A67-938A-8A1011F68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图片1"/>
          <p:cNvPicPr/>
          <p:nvPr/>
        </p:nvPicPr>
        <p:blipFill>
          <a:blip r:embed="rId1"/>
          <a:stretch/>
        </p:blipFill>
        <p:spPr>
          <a:xfrm>
            <a:off x="684360" y="765000"/>
            <a:ext cx="8143560" cy="56008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3"/>
          <p:cNvSpPr/>
          <p:nvPr/>
        </p:nvSpPr>
        <p:spPr>
          <a:xfrm>
            <a:off x="1258920" y="112536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文描写了作者对母鸡的看法的变化，表达了对母爱的赞颂之情。课文以作者的情感变化为线索，前后形成了鲜明的对比。作者对母鸡的情感由讨厌转变为喜欢最后是尊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7991-3E5B-452F-86CE-67D7482DE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图片1"/>
          <p:cNvPicPr/>
          <p:nvPr/>
        </p:nvPicPr>
        <p:blipFill>
          <a:blip r:embed="rId1"/>
          <a:stretch/>
        </p:blipFill>
        <p:spPr>
          <a:xfrm>
            <a:off x="684360" y="765000"/>
            <a:ext cx="8143560" cy="560088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3"/>
          <p:cNvSpPr/>
          <p:nvPr/>
        </p:nvSpPr>
        <p:spPr>
          <a:xfrm>
            <a:off x="1258920" y="1125360"/>
            <a:ext cx="6408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1476360" y="1341360"/>
            <a:ext cx="65516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如怨如诉：形容没完没了地        抱怨、诉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趁其不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趁人不防备的时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警戒：戒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鸡雏：幼小的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E2F8-9D1B-4DDD-AE85-ACAF6BF85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图片1"/>
          <p:cNvPicPr/>
          <p:nvPr/>
        </p:nvPicPr>
        <p:blipFill>
          <a:blip r:embed="rId1"/>
          <a:stretch/>
        </p:blipFill>
        <p:spPr>
          <a:xfrm>
            <a:off x="684360" y="765000"/>
            <a:ext cx="8143560" cy="560088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3"/>
          <p:cNvSpPr/>
          <p:nvPr/>
        </p:nvSpPr>
        <p:spPr>
          <a:xfrm>
            <a:off x="1258920" y="1125360"/>
            <a:ext cx="6408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1476360" y="1341360"/>
            <a:ext cx="6551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6362-6AFD-4402-A5A6-CDD188BD2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u=2392229512,1844039189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91976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3"/>
          <p:cNvSpPr/>
          <p:nvPr/>
        </p:nvSpPr>
        <p:spPr>
          <a:xfrm>
            <a:off x="5003640" y="122400"/>
            <a:ext cx="4140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发生在一位游子与母亲之间。游子探亲期满离开故乡，母亲送他去车站。在车站，儿子放旅行包的拎带被挤断。眼看着就要到发车时间，母亲急忙从身上解下裤腰带，把旅行包扎好。解裤腰带时，由于心急又用力，她把脸都涨红了。儿子问母亲怎么回家呢？母亲说，不要紧，慢慢走。多少年来，儿子一直把母亲这根裤腰带珍藏在身边。多少年来，儿子一直在想，他母亲没有裤腰带是怎样走回几里外的家的。 另一个故事由发生在一个犯人同母亲之间，探监的日子，一位来自贫困山区的母亲，经过乘驴车、汽车和火车的辗转，探望服刑的儿子。在探监人五光十色的物品中，老母亲给儿子掏出用白布包着的葵花子。葵花子已经炒熟，老母亲全嗑好了。没有皮，白花花的像密密麻麻的雀舌头服刑的儿子接过这堆葵花子肉，手开始抖。母亲亦无言语，撩起衣襟拭泪。她千里迢迢探望儿子，卖掉了鸡蛋和小猪崽，还要节省许多开支才凑足路费，来之前，在白天的劳碌后，晚上在煤油灯下嗑瓜子。嗑好的瓜子肉放在一起，看它们像小山一点点增多，不舍得吃一粒。十多斤瓜子嗑了许多夜晚。在所有探监人当中，他母亲的衣着是最褴褛的。母亲一口一口嗑的瓜子，包含了千言万语。儿子“扑通”给母亲跪下，他忏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A354-5FAF-4DEC-A478-BFE54A136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5" descr="200819151917175_2"/>
          <p:cNvPicPr/>
          <p:nvPr/>
        </p:nvPicPr>
        <p:blipFill>
          <a:blip r:embed="rId1"/>
          <a:stretch/>
        </p:blipFill>
        <p:spPr>
          <a:xfrm>
            <a:off x="-304920" y="380880"/>
            <a:ext cx="9753840" cy="6096240"/>
          </a:xfrm>
          <a:prstGeom prst="rect">
            <a:avLst/>
          </a:prstGeom>
          <a:ln w="0">
            <a:noFill/>
          </a:ln>
        </p:spPr>
      </p:pic>
      <p:sp>
        <p:nvSpPr>
          <p:cNvPr id="529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B323-9DB0-4B0F-8AA7-A2A6644BB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5" descr="3443932_184809002275_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8EEA-A837-4382-89FB-3FFF4A017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5" descr="1103131752bbba45b1a4fa51a7"/>
          <p:cNvPicPr/>
          <p:nvPr/>
        </p:nvPicPr>
        <p:blipFill>
          <a:blip r:embed="rId1"/>
          <a:stretch/>
        </p:blipFill>
        <p:spPr>
          <a:xfrm>
            <a:off x="-190440" y="-1333440"/>
            <a:ext cx="9524880" cy="9524880"/>
          </a:xfrm>
          <a:prstGeom prst="rect">
            <a:avLst/>
          </a:prstGeom>
          <a:ln w="0">
            <a:noFill/>
          </a:ln>
        </p:spPr>
      </p:pic>
      <p:sp>
        <p:nvSpPr>
          <p:cNvPr id="53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7202-2590-4373-9B04-853618DF5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5" descr="12_299646_301718a858fdb31"/>
          <p:cNvPicPr/>
          <p:nvPr/>
        </p:nvPicPr>
        <p:blipFill>
          <a:blip r:embed="rId1"/>
          <a:stretch/>
        </p:blipFill>
        <p:spPr>
          <a:xfrm>
            <a:off x="-1116000" y="-171360"/>
            <a:ext cx="10260000" cy="7272360"/>
          </a:xfrm>
          <a:prstGeom prst="rect">
            <a:avLst/>
          </a:prstGeom>
          <a:ln w="0">
            <a:noFill/>
          </a:ln>
        </p:spPr>
      </p:pic>
      <p:sp>
        <p:nvSpPr>
          <p:cNvPr id="53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0EF2-62AA-49C9-A396-7F9EDBD41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da033070ss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02640"/>
          </a:xfrm>
          <a:prstGeom prst="rect">
            <a:avLst/>
          </a:prstGeom>
          <a:ln w="0">
            <a:noFill/>
          </a:ln>
        </p:spPr>
      </p:pic>
      <p:sp>
        <p:nvSpPr>
          <p:cNvPr id="460" name="WordArt 3"/>
          <p:cNvSpPr txBox="1"/>
          <p:nvPr/>
        </p:nvSpPr>
        <p:spPr>
          <a:xfrm>
            <a:off x="5076720" y="981000"/>
            <a:ext cx="345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黑体"/>
              </a:rPr>
              <a:t>母鸡</a:t>
            </a:r>
            <a:endParaRPr b="0" lang="en-US" sz="4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黑体"/>
              <a:ea typeface="黑体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7721640" y="2930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WordArt 5"/>
          <p:cNvSpPr txBox="1"/>
          <p:nvPr/>
        </p:nvSpPr>
        <p:spPr>
          <a:xfrm>
            <a:off x="7451640" y="299736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黑体"/>
              </a:rPr>
              <a:t>老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黑体"/>
              <a:ea typeface="黑体"/>
            </a:endParaRPr>
          </a:p>
        </p:txBody>
      </p:sp>
      <p:sp>
        <p:nvSpPr>
          <p:cNvPr id="463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AA5F-482E-4B25-9C37-421C571BB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5" descr="2_446986_1701140d33834c7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4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F2A6-704C-46D4-87C8-441E79500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Img3208250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7FBC-99FF-4BC5-A916-75AC5DBBD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u=752775633,913791774&amp;fm=0&amp;gp=-16[1]"/>
          <p:cNvPicPr/>
          <p:nvPr/>
        </p:nvPicPr>
        <p:blipFill>
          <a:blip r:embed="rId1"/>
          <a:stretch/>
        </p:blipFill>
        <p:spPr>
          <a:xfrm>
            <a:off x="0" y="3473280"/>
            <a:ext cx="3298680" cy="338472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3"/>
          <p:cNvSpPr/>
          <p:nvPr/>
        </p:nvSpPr>
        <p:spPr>
          <a:xfrm>
            <a:off x="0" y="-243000"/>
            <a:ext cx="7956720" cy="3456000"/>
          </a:xfrm>
          <a:prstGeom prst="cloudCallout">
            <a:avLst>
              <a:gd name="adj1" fmla="val -7300"/>
              <a:gd name="adj2" fmla="val 89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Arial"/>
              </a:rPr>
              <a:t>想一想：课文是分为几部分写母鸡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4"/>
          <p:cNvSpPr/>
          <p:nvPr/>
        </p:nvSpPr>
        <p:spPr>
          <a:xfrm>
            <a:off x="900000" y="3284640"/>
            <a:ext cx="9649080" cy="3573360"/>
          </a:xfrm>
          <a:prstGeom prst="cloudCallout">
            <a:avLst>
              <a:gd name="adj1" fmla="val -19152"/>
              <a:gd name="adj2" fmla="val -13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大家真聪明。分为两部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孵鸡雏以前令人讨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孵鸡雏以后令人喜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7F89-2338-4D91-A9F0-03D85FCA4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6"/>
          <p:cNvSpPr/>
          <p:nvPr/>
        </p:nvSpPr>
        <p:spPr>
          <a:xfrm>
            <a:off x="391320" y="18900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7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u=3249722823,1835130107&amp;fm=0&amp;gp=28[1]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3500280"/>
          </a:xfrm>
          <a:prstGeom prst="rect">
            <a:avLst/>
          </a:prstGeom>
          <a:ln w="0">
            <a:noFill/>
          </a:ln>
        </p:spPr>
      </p:pic>
      <p:sp>
        <p:nvSpPr>
          <p:cNvPr id="473" name="AutoShape 3"/>
          <p:cNvSpPr/>
          <p:nvPr/>
        </p:nvSpPr>
        <p:spPr>
          <a:xfrm>
            <a:off x="250920" y="0"/>
            <a:ext cx="6516720" cy="4392720"/>
          </a:xfrm>
          <a:prstGeom prst="cloudCallout">
            <a:avLst>
              <a:gd name="adj1" fmla="val 51143"/>
              <a:gd name="adj2" fmla="val -27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为什么孵鸡雏之前会讨厌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1692360" y="3645000"/>
            <a:ext cx="6624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对，它的叫声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欺辱弱者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96AF-6B29-4F5E-B522-3C236C6B8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鸡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" descr="鸡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13F5-5C53-4F96-A89D-A2C464F28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4" descr="ji2_061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2708-5CD9-4104-9A9A-D6BE454A6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AutoShape 2"/>
          <p:cNvSpPr/>
          <p:nvPr/>
        </p:nvSpPr>
        <p:spPr>
          <a:xfrm>
            <a:off x="3024360" y="836640"/>
            <a:ext cx="6119640" cy="432108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Arial"/>
              </a:rPr>
              <a:t>孵鸡雏以后为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Arial"/>
              </a:rPr>
              <a:t>么又令人喜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" descr="u=2247633772,738805878&amp;fm=0&amp;gp=36"/>
          <p:cNvPicPr/>
          <p:nvPr/>
        </p:nvPicPr>
        <p:blipFill>
          <a:blip r:embed="rId1"/>
          <a:stretch/>
        </p:blipFill>
        <p:spPr>
          <a:xfrm>
            <a:off x="0" y="765000"/>
            <a:ext cx="3492360" cy="575964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4"/>
          <p:cNvSpPr/>
          <p:nvPr/>
        </p:nvSpPr>
        <p:spPr>
          <a:xfrm>
            <a:off x="3348000" y="3357720"/>
            <a:ext cx="5796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它受尊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负责、勇敢（挺着脖子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警戒、预备作战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慈爱、辛苦（啄食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掘地、洗澡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很伟大，是一位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00FE-FB22-4FEF-AE26-E70719F6F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4" descr="ji2_059"/>
          <p:cNvPicPr/>
          <p:nvPr/>
        </p:nvPicPr>
        <p:blipFill>
          <a:blip r:embed="rId1"/>
          <a:stretch/>
        </p:blipFill>
        <p:spPr>
          <a:xfrm>
            <a:off x="-304920" y="166680"/>
            <a:ext cx="9753840" cy="6524640"/>
          </a:xfrm>
          <a:prstGeom prst="rect">
            <a:avLst/>
          </a:prstGeom>
          <a:ln w="0">
            <a:noFill/>
          </a:ln>
        </p:spPr>
      </p:pic>
      <p:sp>
        <p:nvSpPr>
          <p:cNvPr id="49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F888-6690-43CA-980F-32FE5011D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鸡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" descr="鸡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5D32-61E5-4432-9571-FFA074515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2:37:50Z</dcterms:created>
  <dc:creator>绿色圃中小学教育网|http://www.lspjy.com; 六十铺中小学教育网http://www.lspjy.com</dc:creator>
  <dc:description>绿色圃中小学教育网|http://www.lspjy.com</dc:description>
  <cp:keywords>绿色圃中小学教育网|http:/www.lspjy.com</cp:keywords>
  <dc:language>en-US</dc:language>
  <cp:lastModifiedBy>Administrator</cp:lastModifiedBy>
  <dcterms:modified xsi:type="dcterms:W3CDTF">2015-10-07T13:56:32Z</dcterms:modified>
  <cp:revision>15</cp:revision>
  <dc:subject>绿色圃中小学教育网|http://www.lspjy.com</dc:subject>
  <dc:title>绿色圃中小学教育网|http://www.lspjy.com</dc:title>
</cp:coreProperties>
</file>