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0.jpeg" ContentType="image/jpeg"/>
  <Override PartName="/ppt/media/image24.jpeg" ContentType="image/jpeg"/>
  <Override PartName="/ppt/media/image43.png" ContentType="image/pn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BD8-9B08-4893-9AC4-5D570C2D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F81-8B70-427D-9EEB-45726F2B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05191-6DC2-45FC-8F5B-6C87D73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07423-39A8-48FC-8C31-01955973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89767-2892-4C5A-81E3-F8637506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9C302-7AC6-42C0-81FD-5FB8FE9C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1F914-6C66-4F0C-9846-09E8D386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D5C71-7B8C-4ACE-8223-4C96364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C93F1-82C8-4926-8241-BA2B9D89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EBF81-C4B3-4296-9130-060EB0DD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214F2-2035-42D6-AB63-5DDDBF85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EB329-1078-4366-A1F0-D7E351DB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FC2-E57B-4782-9EC0-1B9A90E4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55E3F-D5D3-4269-AD5C-22D10612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9041D-954B-4D7B-B51E-4D6A253E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5A58-ADC3-4972-8A2E-C3590A34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AC960-EAE3-4718-9C81-1B3B1AC5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C77ED-2D0C-4920-9E45-8E6B2F83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F28DE-294D-4379-8289-D86C37D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64EB4-8531-440C-9198-57AE9AC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2D328-D411-4574-8F5F-9979DD3A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61ADD-BC0B-4576-A625-031D19FC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9899D-88DB-4DA1-8C17-8CF717ED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67D-F3DD-4E65-B5D8-946C06CB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6818D-B6C9-4170-88C8-C81DC10D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203DF-B2A3-430C-9BF3-F274D206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7F1E3-6AF8-4102-97D1-F32727E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C5BA4-F0E0-4769-8AD4-01FF3096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BF8D5-02DA-48AA-9C5E-EBBA368F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27F94-3E5E-446F-B3AA-33875051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1DDEB-4F46-48ED-BB21-AFA6B84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2025B-0B66-428D-BCF8-76276D4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C7239-45C5-43D1-AC45-84F02BEE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A0CBD-3058-4E20-80F3-BF9BA7B4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0674-7552-4A98-B7B6-6CCB96C1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54830-7679-4090-BA8F-E1634CC3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1BB8-F162-46F1-B615-E8AB685D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A1B51-C674-4FE6-87FD-305E7857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7B2E-4EAE-4927-999A-147CA806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38FF-120C-4472-8850-07F90A11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250B-4833-40F4-B985-50C534C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FE58-0091-4A6C-8D5A-E7A2427D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1EBB-58C7-4382-A571-EE92454C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D977-455D-4C59-B4F9-52D5F1F2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CA6-12BE-4774-A02D-02DC6A9A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3C6-B3CC-4A73-9A55-E8E3C36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F27C-B4C3-4DEC-BA19-A6997E66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2C44-9FB2-4947-8151-1F0F320A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ABD6-59C7-4DED-BE25-D42E477F0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906E-65B7-444F-83BE-0543BCB7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94CAD-14AF-4D07-B3E6-8C4CF918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9CC2-7107-4EAB-8741-D203782E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41BD-4715-41BB-8A04-497AF56F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46125-CEF5-4E74-82F3-A3ED16BF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F306-08C2-417D-B686-4AFAA52A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746-0EA2-4721-BD1F-CEC93108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6755-9827-48D6-A5D8-922D567A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4170-B6A5-444B-BBB0-F5ED3BF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55E3-9A13-4A5A-B86A-89F55B04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B131-9829-4888-936F-8EAA6DA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71F3-D444-48D6-9D21-8CADF90D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11350-8FF2-45A5-A9EA-3889A3A5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2FD7-5FDC-4505-8769-47ED1D21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AF2E-A31A-4A64-BAB1-768E91FB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7532-FAB0-4882-9589-67A477B8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9DD8-7351-4787-8493-D8EE50B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41A-4578-4AFC-A6BF-C745C000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1027-E889-42A8-A8AF-E55E7DF5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99FF4-F8B3-443C-8A48-CC1D40B4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A108-8F6D-4D42-B676-F303F4D7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69E1-8976-40C7-BBF1-F53F014E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A513-483D-478B-B4D3-EE0C8C20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75F22-9449-404F-87D3-B5CF019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2D85-B30D-4975-811E-DE07E85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FA54-AAE6-4F1B-ABC3-EEE56FF6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9993E-BDF4-4C94-93DA-2C4F0C5C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A0AFA-049C-42F2-A162-A0C2AAA8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96A-8C98-4E9E-AB6E-EF8F6A0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66C6-F0BE-49D7-A658-B445F10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F88E-B0B5-4998-B932-36751F4A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6B826-B789-4A42-B616-D82724D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BBAA0-887D-483C-9F19-F9BF23D1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0BBD4-0ED9-4EF3-9719-A190897A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5CB1-AA35-4FFE-98D8-27D81BE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A6F6-3AA0-4584-9954-38CF47CF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3AAD-C3FD-4AFE-B6A6-D135E7CC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22E5-97B2-4E24-8197-C49E689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C2598-E5CD-4314-B2C1-FE27E3A6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4DD-C24D-41DD-852E-A8A973E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82CC2-F828-4F2A-9AEA-98854D15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5C3BA-4984-4141-BEC2-8FA4CB9C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1446-5FEE-408A-8755-E29BAD64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36BB6-506A-4D49-96E4-3CB8AD34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E71FC-7683-4DA1-89FB-1C58B6B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1D213-CFB1-4ED2-808E-BBE4CA16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B1F2-6755-4D4E-9940-2D22F804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919F7-8199-4650-9AFB-61DD469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6350-CCF9-4DA1-9EC0-344FE894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82B72-06E8-4BEE-8C3C-9D8A0B6A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417-2C54-4730-AA77-E559219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968F9-7D67-433D-ABCF-C5612D4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C072-78F3-415C-AE15-9B7EEE0E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8EF9C-0E82-4F03-984C-73810292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1B429-E1FA-4F4C-B2A4-7C86EAD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0C8D-DF99-499B-9D4D-FB3A680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51AD0-2AC8-47AE-89EB-374B366A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1416B-3D54-47A0-8BCB-7637D184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D1A8C-D122-474D-B0AB-7808A015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93E9-A98F-4C99-B9B5-FEE12165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6123-AFC8-4791-BC49-3E4F1CC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2AD0-DB71-4931-804E-F354D188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8D72E-E88A-438D-8EDB-677F2364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6485F-C458-499E-9C3C-4518E710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2B00A-44DF-44E1-B676-1FCB5080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700C2-F6A8-4DFC-8C5C-D7A9CD57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80B19-AF30-4C03-83A7-1DCD96B7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09E6D-523B-46AA-B37B-A6168C6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D30B6-4179-40F8-B437-FC46B3DE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B3627-8662-4DD7-9DFE-F8F37D21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84937-CFFC-40BC-984E-B3CC9F83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39914-C499-4BE9-854E-5DDDC08B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02F-7E27-4223-AB5D-1CEC9DB5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D7FFA-6B04-4B78-A858-3EF14F33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7930-BBF8-4888-9DF5-BBF94AA4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B96D-0645-4D2C-9BC9-0881965E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6C5E-DD8A-4004-B97E-D9966D35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0E869-3332-4828-B8F5-AA348250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2D3EE-E513-49FA-AD96-0545E6AD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6370-64E1-4F1C-8F7C-77C520B3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31576-FE01-40FC-AE7C-5D1395EE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F8BD0-1AC6-41BB-AD0E-E086280A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B814A-ED06-459B-A313-0D6CC4A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C86-BAE8-4CE9-8107-EAC5E2C4C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58AF-3A4C-4366-9D21-885933F5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4B20-38CF-45DA-B886-A9D43F6E3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FCBB-8420-42BF-A6FA-F30C35D88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10C1-CD56-4224-8CB3-AB8523C1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092F-D4D5-4286-9F71-56392011D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9A1E-ADEC-4FB8-91D8-0A3D48A44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BBC-C51E-4B2A-AA5E-70538EC93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048B-4E7C-4AAB-AB24-88DFAD4F4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3AA4-9ED3-4271-9147-D7A58DE0F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876F-5AE1-457D-823C-0E452FA02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ist.cn/ylzb/ylzb.asp?rb=6102" TargetMode="External"/><Relationship Id="rId2" Type="http://schemas.openxmlformats.org/officeDocument/2006/relationships/hyperlink" Target="http://www.tist.cn/ylzb/ylzb.asp?rb=6102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hhpl.com/difang/ACCESS/Photo_Viewer.asp?UrlID=1&amp;PhotoID=181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tist.cn/ylzb/ylzb.asp?rb=6102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topcanyon/top_pic09b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topcanyon/top_pic18b.html" TargetMode="External"/><Relationship Id="rId2" Type="http://schemas.openxmlformats.org/officeDocument/2006/relationships/hyperlink" Target="http://www.kepu.net.cn/gb/earth/canyon/topcanyon/top_pic18b.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topcanyon/top_pic20b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topcanyon/top_pic19b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kepu.net.cn/gb/earth/canyon/fantastic/fan306_pic01.html" TargetMode="External"/><Relationship Id="rId3" Type="http://schemas.openxmlformats.org/officeDocument/2006/relationships/hyperlink" Target="http://www.kepu.net.cn/gb/earth/canyon/fantastic/fan307_pic01.html" TargetMode="External"/><Relationship Id="rId4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fantastic/fan307_pic02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fantastic/fan401_pic01.html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fantastic/fan501_pic01.html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kepu.net.cn/gb/earth/canyon/fantastic/fan501_pic02.html" TargetMode="External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fantastic/fan502_pic01.htm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kepu.net.cn/gb/earth/canyon/fantastic/fan504_pic01.html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5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1.bbs.zol.com.cn/tips/show_pic.php?picid=1132294" TargetMode="External"/><Relationship Id="rId2" Type="http://schemas.openxmlformats.org/officeDocument/2006/relationships/hyperlink" Target="http://v1.bbs.zol.com.cn/tips/show_pic.php?picid=1132294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7"/>
          <p:cNvGrpSpPr/>
          <p:nvPr/>
        </p:nvGrpSpPr>
        <p:grpSpPr>
          <a:xfrm>
            <a:off x="0" y="1281240"/>
            <a:ext cx="9144000" cy="4297320"/>
            <a:chOff x="0" y="1281240"/>
            <a:chExt cx="9144000" cy="4297320"/>
          </a:xfrm>
        </p:grpSpPr>
        <p:sp>
          <p:nvSpPr>
            <p:cNvPr id="452" name="Rectangle 2"/>
            <p:cNvSpPr/>
            <p:nvPr/>
          </p:nvSpPr>
          <p:spPr>
            <a:xfrm>
              <a:off x="0" y="1281240"/>
              <a:ext cx="8961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Group 6"/>
            <p:cNvGrpSpPr/>
            <p:nvPr/>
          </p:nvGrpSpPr>
          <p:grpSpPr>
            <a:xfrm>
              <a:off x="0" y="1281240"/>
              <a:ext cx="9144000" cy="4297320"/>
              <a:chOff x="0" y="1281240"/>
              <a:chExt cx="9144000" cy="4297320"/>
            </a:xfrm>
          </p:grpSpPr>
          <p:sp>
            <p:nvSpPr>
              <p:cNvPr id="454" name="Rectangle 3"/>
              <p:cNvSpPr/>
              <p:nvPr/>
            </p:nvSpPr>
            <p:spPr>
              <a:xfrm>
                <a:off x="0" y="1281240"/>
                <a:ext cx="4465800" cy="15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4"/>
              <p:cNvSpPr/>
              <p:nvPr/>
            </p:nvSpPr>
            <p:spPr>
              <a:xfrm>
                <a:off x="0" y="1281240"/>
                <a:ext cx="9144000" cy="42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6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6" name="Picture 5" descr="200647164828290"/>
          <p:cNvPicPr/>
          <p:nvPr/>
        </p:nvPicPr>
        <p:blipFill>
          <a:blip r:embed="rId1"/>
          <a:stretch/>
        </p:blipFill>
        <p:spPr>
          <a:xfrm>
            <a:off x="0" y="0"/>
            <a:ext cx="9144000" cy="7237440"/>
          </a:xfrm>
          <a:prstGeom prst="rect">
            <a:avLst/>
          </a:prstGeom>
          <a:ln w="0">
            <a:noFill/>
          </a:ln>
        </p:spPr>
      </p:pic>
      <p:sp>
        <p:nvSpPr>
          <p:cNvPr id="457" name="WordArt 8"/>
          <p:cNvSpPr txBox="1"/>
          <p:nvPr/>
        </p:nvSpPr>
        <p:spPr>
          <a:xfrm>
            <a:off x="838080" y="91440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雅鲁藏布大峡谷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8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5686-C454-41D5-9C06-E19D58FB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0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1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1143000" y="1690560"/>
            <a:ext cx="6858000" cy="3476520"/>
            <a:chOff x="1143000" y="1690560"/>
            <a:chExt cx="6858000" cy="3476520"/>
          </a:xfrm>
        </p:grpSpPr>
        <p:sp>
          <p:nvSpPr>
            <p:cNvPr id="517" name="Rectangle 3"/>
            <p:cNvSpPr/>
            <p:nvPr/>
          </p:nvSpPr>
          <p:spPr>
            <a:xfrm>
              <a:off x="1143000" y="1690560"/>
              <a:ext cx="6858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Group 4"/>
            <p:cNvGrpSpPr/>
            <p:nvPr/>
          </p:nvGrpSpPr>
          <p:grpSpPr>
            <a:xfrm>
              <a:off x="1143000" y="1690560"/>
              <a:ext cx="3730680" cy="3476520"/>
              <a:chOff x="1143000" y="1690560"/>
              <a:chExt cx="3730680" cy="3476520"/>
            </a:xfrm>
          </p:grpSpPr>
          <p:sp>
            <p:nvSpPr>
              <p:cNvPr id="519" name="Rectangle 5"/>
              <p:cNvSpPr/>
              <p:nvPr/>
            </p:nvSpPr>
            <p:spPr>
              <a:xfrm>
                <a:off x="1143000" y="1690560"/>
                <a:ext cx="5256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6"/>
              <p:cNvSpPr/>
              <p:nvPr/>
            </p:nvSpPr>
            <p:spPr>
              <a:xfrm>
                <a:off x="1195560" y="1690560"/>
                <a:ext cx="352584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/>
                  </a:rPr>
                  <a:t>  </a:t>
                </a:r>
                <a:r>
                  <a:rPr b="1" lang="en-US" sz="20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7"/>
              <p:cNvSpPr/>
              <p:nvPr/>
            </p:nvSpPr>
            <p:spPr>
              <a:xfrm>
                <a:off x="4721400" y="1690560"/>
                <a:ext cx="15228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8"/>
              <p:cNvSpPr/>
              <p:nvPr/>
            </p:nvSpPr>
            <p:spPr>
              <a:xfrm>
                <a:off x="1143000" y="5059080"/>
                <a:ext cx="5256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23" name="Picture 9" descr="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728640"/>
            <a:ext cx="7010640" cy="5091120"/>
          </a:xfrm>
          <a:prstGeom prst="rect">
            <a:avLst/>
          </a:prstGeom>
          <a:ln w="0">
            <a:noFill/>
          </a:ln>
        </p:spPr>
      </p:pic>
      <p:sp>
        <p:nvSpPr>
          <p:cNvPr id="52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A434-6989-47D4-A877-636707F25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4" descr="2004611947209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1746720" y="3581280"/>
            <a:ext cx="5882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它的下游围绕喜马拉雅山东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最高峰，形成一个奇特的马蹄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拐弯，在青藏高原上切割出一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0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千米的距大峡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6" descr="ma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228600"/>
            <a:ext cx="4952880" cy="3276720"/>
          </a:xfrm>
          <a:prstGeom prst="rect">
            <a:avLst/>
          </a:prstGeom>
          <a:ln w="0">
            <a:noFill/>
          </a:ln>
        </p:spPr>
      </p:pic>
      <p:sp>
        <p:nvSpPr>
          <p:cNvPr id="529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FE85-C1BE-42CA-B277-8F50B43B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2"/>
          <p:cNvGrpSpPr/>
          <p:nvPr/>
        </p:nvGrpSpPr>
        <p:grpSpPr>
          <a:xfrm>
            <a:off x="988920" y="2160720"/>
            <a:ext cx="7165800" cy="2536560"/>
            <a:chOff x="988920" y="2160720"/>
            <a:chExt cx="7165800" cy="2536560"/>
          </a:xfrm>
        </p:grpSpPr>
        <p:sp>
          <p:nvSpPr>
            <p:cNvPr id="532" name="Rectangle 3"/>
            <p:cNvSpPr/>
            <p:nvPr/>
          </p:nvSpPr>
          <p:spPr>
            <a:xfrm>
              <a:off x="988920" y="2160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Group 4"/>
            <p:cNvGrpSpPr/>
            <p:nvPr/>
          </p:nvGrpSpPr>
          <p:grpSpPr>
            <a:xfrm>
              <a:off x="988920" y="2160720"/>
              <a:ext cx="5943600" cy="2536560"/>
              <a:chOff x="988920" y="2160720"/>
              <a:chExt cx="5943600" cy="2536560"/>
            </a:xfrm>
          </p:grpSpPr>
          <p:sp>
            <p:nvSpPr>
              <p:cNvPr id="534" name="Rectangle 5"/>
              <p:cNvSpPr/>
              <p:nvPr/>
            </p:nvSpPr>
            <p:spPr>
              <a:xfrm>
                <a:off x="988920" y="2160720"/>
                <a:ext cx="5943600" cy="25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6"/>
              <p:cNvSpPr/>
              <p:nvPr/>
            </p:nvSpPr>
            <p:spPr>
              <a:xfrm>
                <a:off x="988920" y="2160720"/>
                <a:ext cx="2816280" cy="16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10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6" name="Group 7"/>
          <p:cNvGrpSpPr/>
          <p:nvPr/>
        </p:nvGrpSpPr>
        <p:grpSpPr>
          <a:xfrm>
            <a:off x="263520" y="1971720"/>
            <a:ext cx="7165800" cy="360"/>
            <a:chOff x="263520" y="1971720"/>
            <a:chExt cx="7165800" cy="360"/>
          </a:xfrm>
        </p:grpSpPr>
        <p:sp>
          <p:nvSpPr>
            <p:cNvPr id="537" name="Rectangle 8"/>
            <p:cNvSpPr/>
            <p:nvPr/>
          </p:nvSpPr>
          <p:spPr>
            <a:xfrm>
              <a:off x="263520" y="1971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"/>
            <p:cNvSpPr/>
            <p:nvPr/>
          </p:nvSpPr>
          <p:spPr>
            <a:xfrm>
              <a:off x="263520" y="1971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9" name="Picture 10" descr="top_pic09b"/>
          <p:cNvPicPr/>
          <p:nvPr/>
        </p:nvPicPr>
        <p:blipFill>
          <a:blip r:embed="rId2"/>
          <a:srcRect l="0" t="0" r="0" b="1071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1"/>
          <p:cNvSpPr/>
          <p:nvPr/>
        </p:nvSpPr>
        <p:spPr>
          <a:xfrm>
            <a:off x="4304880" y="152280"/>
            <a:ext cx="3990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峡谷平均深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26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最深处达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0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容置疑的世界第一大峡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183280" y="22860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写出了大峡谷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5571000" y="3174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长   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408B-A22B-4204-815B-12C9A850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top_pic21b"/>
          <p:cNvPicPr/>
          <p:nvPr/>
        </p:nvPicPr>
        <p:blipFill>
          <a:blip r:embed="rId1"/>
          <a:srcRect l="0" t="0" r="0" b="9294"/>
          <a:stretch/>
        </p:blipFill>
        <p:spPr>
          <a:xfrm>
            <a:off x="-380880" y="-23760"/>
            <a:ext cx="9524880" cy="69343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3"/>
          <p:cNvGrpSpPr/>
          <p:nvPr/>
        </p:nvGrpSpPr>
        <p:grpSpPr>
          <a:xfrm>
            <a:off x="144360" y="2589120"/>
            <a:ext cx="7165800" cy="360"/>
            <a:chOff x="144360" y="2589120"/>
            <a:chExt cx="7165800" cy="360"/>
          </a:xfrm>
        </p:grpSpPr>
        <p:sp>
          <p:nvSpPr>
            <p:cNvPr id="547" name="Rectangle 4"/>
            <p:cNvSpPr/>
            <p:nvPr/>
          </p:nvSpPr>
          <p:spPr>
            <a:xfrm>
              <a:off x="144360" y="25891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5"/>
            <p:cNvSpPr/>
            <p:nvPr/>
          </p:nvSpPr>
          <p:spPr>
            <a:xfrm>
              <a:off x="144360" y="25891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Group 6"/>
          <p:cNvGrpSpPr/>
          <p:nvPr/>
        </p:nvGrpSpPr>
        <p:grpSpPr>
          <a:xfrm>
            <a:off x="0" y="3124080"/>
            <a:ext cx="7165800" cy="360"/>
            <a:chOff x="0" y="3124080"/>
            <a:chExt cx="7165800" cy="360"/>
          </a:xfrm>
        </p:grpSpPr>
        <p:sp>
          <p:nvSpPr>
            <p:cNvPr id="550" name="Rectangle 7"/>
            <p:cNvSpPr/>
            <p:nvPr/>
          </p:nvSpPr>
          <p:spPr>
            <a:xfrm>
              <a:off x="0" y="31240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8"/>
            <p:cNvSpPr/>
            <p:nvPr/>
          </p:nvSpPr>
          <p:spPr>
            <a:xfrm>
              <a:off x="0" y="31240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9"/>
          <p:cNvSpPr/>
          <p:nvPr/>
        </p:nvSpPr>
        <p:spPr>
          <a:xfrm>
            <a:off x="4061880" y="43131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雪山冰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0"/>
          <p:cNvGrpSpPr/>
          <p:nvPr/>
        </p:nvGrpSpPr>
        <p:grpSpPr>
          <a:xfrm>
            <a:off x="263520" y="1989000"/>
            <a:ext cx="7165800" cy="360"/>
            <a:chOff x="263520" y="1989000"/>
            <a:chExt cx="7165800" cy="360"/>
          </a:xfrm>
        </p:grpSpPr>
        <p:sp>
          <p:nvSpPr>
            <p:cNvPr id="554" name="Rectangle 11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2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FB14-244F-4157-9F5B-D46E1686C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988920" y="2160720"/>
            <a:ext cx="7165800" cy="2536560"/>
            <a:chOff x="988920" y="2160720"/>
            <a:chExt cx="7165800" cy="2536560"/>
          </a:xfrm>
        </p:grpSpPr>
        <p:sp>
          <p:nvSpPr>
            <p:cNvPr id="559" name="Rectangle 3"/>
            <p:cNvSpPr/>
            <p:nvPr/>
          </p:nvSpPr>
          <p:spPr>
            <a:xfrm>
              <a:off x="988920" y="2160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4"/>
            <p:cNvGrpSpPr/>
            <p:nvPr/>
          </p:nvGrpSpPr>
          <p:grpSpPr>
            <a:xfrm>
              <a:off x="988920" y="2160720"/>
              <a:ext cx="5943600" cy="2536560"/>
              <a:chOff x="988920" y="2160720"/>
              <a:chExt cx="5943600" cy="2536560"/>
            </a:xfrm>
          </p:grpSpPr>
          <p:sp>
            <p:nvSpPr>
              <p:cNvPr id="561" name="Rectangle 5"/>
              <p:cNvSpPr/>
              <p:nvPr/>
            </p:nvSpPr>
            <p:spPr>
              <a:xfrm>
                <a:off x="988920" y="2160720"/>
                <a:ext cx="5943600" cy="25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6"/>
              <p:cNvSpPr/>
              <p:nvPr/>
            </p:nvSpPr>
            <p:spPr>
              <a:xfrm>
                <a:off x="988920" y="2160720"/>
                <a:ext cx="2816280" cy="16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10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3" name="Picture 7" descr="top_pic18">
            <a:hlinkClick r:id="rId2"/>
          </p:cNvPr>
          <p:cNvPicPr/>
          <p:nvPr/>
        </p:nvPicPr>
        <p:blipFill>
          <a:blip r:embed="rId3"/>
          <a:srcRect l="0" t="0" r="0" b="81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8"/>
          <p:cNvGrpSpPr/>
          <p:nvPr/>
        </p:nvGrpSpPr>
        <p:grpSpPr>
          <a:xfrm>
            <a:off x="0" y="304920"/>
            <a:ext cx="9143640" cy="2536560"/>
            <a:chOff x="0" y="304920"/>
            <a:chExt cx="9143640" cy="2536560"/>
          </a:xfrm>
        </p:grpSpPr>
        <p:sp>
          <p:nvSpPr>
            <p:cNvPr id="565" name="Rectangle 9"/>
            <p:cNvSpPr/>
            <p:nvPr/>
          </p:nvSpPr>
          <p:spPr>
            <a:xfrm>
              <a:off x="0" y="304920"/>
              <a:ext cx="9143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Group 10"/>
            <p:cNvGrpSpPr/>
            <p:nvPr/>
          </p:nvGrpSpPr>
          <p:grpSpPr>
            <a:xfrm>
              <a:off x="0" y="304920"/>
              <a:ext cx="7583760" cy="2536560"/>
              <a:chOff x="0" y="304920"/>
              <a:chExt cx="7583760" cy="2536560"/>
            </a:xfrm>
          </p:grpSpPr>
          <p:sp>
            <p:nvSpPr>
              <p:cNvPr id="567" name="Rectangle 11"/>
              <p:cNvSpPr/>
              <p:nvPr/>
            </p:nvSpPr>
            <p:spPr>
              <a:xfrm>
                <a:off x="0" y="304920"/>
                <a:ext cx="7583760" cy="25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2"/>
              <p:cNvSpPr/>
              <p:nvPr/>
            </p:nvSpPr>
            <p:spPr>
              <a:xfrm>
                <a:off x="0" y="304920"/>
                <a:ext cx="15314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Text Box 13"/>
          <p:cNvSpPr/>
          <p:nvPr/>
        </p:nvSpPr>
        <p:spPr>
          <a:xfrm>
            <a:off x="0" y="4572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"/>
          <p:cNvSpPr/>
          <p:nvPr/>
        </p:nvSpPr>
        <p:spPr>
          <a:xfrm>
            <a:off x="1508040" y="32544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3318120" y="-1116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大峡谷中云雾缭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BD0B-5E79-423E-9DCA-D67B8B293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top_pic22b"/>
          <p:cNvPicPr/>
          <p:nvPr/>
        </p:nvPicPr>
        <p:blipFill>
          <a:blip r:embed="rId1"/>
          <a:srcRect l="0" t="0" r="0" b="77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3"/>
          <p:cNvGrpSpPr/>
          <p:nvPr/>
        </p:nvGrpSpPr>
        <p:grpSpPr>
          <a:xfrm>
            <a:off x="144360" y="2589120"/>
            <a:ext cx="7165800" cy="360"/>
            <a:chOff x="144360" y="2589120"/>
            <a:chExt cx="7165800" cy="360"/>
          </a:xfrm>
        </p:grpSpPr>
        <p:sp>
          <p:nvSpPr>
            <p:cNvPr id="576" name="Rectangle 4"/>
            <p:cNvSpPr/>
            <p:nvPr/>
          </p:nvSpPr>
          <p:spPr>
            <a:xfrm>
              <a:off x="144360" y="25891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5"/>
            <p:cNvSpPr/>
            <p:nvPr/>
          </p:nvSpPr>
          <p:spPr>
            <a:xfrm>
              <a:off x="144360" y="25891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7"/>
          <p:cNvGrpSpPr/>
          <p:nvPr/>
        </p:nvGrpSpPr>
        <p:grpSpPr>
          <a:xfrm>
            <a:off x="263520" y="1989000"/>
            <a:ext cx="7165800" cy="360"/>
            <a:chOff x="263520" y="1989000"/>
            <a:chExt cx="7165800" cy="360"/>
          </a:xfrm>
        </p:grpSpPr>
        <p:sp>
          <p:nvSpPr>
            <p:cNvPr id="579" name="Rectangle 8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D4A7-4C88-4AB9-BA78-897CB036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263520" y="1989000"/>
            <a:ext cx="7165800" cy="360"/>
            <a:chOff x="263520" y="1989000"/>
            <a:chExt cx="7165800" cy="360"/>
          </a:xfrm>
        </p:grpSpPr>
        <p:sp>
          <p:nvSpPr>
            <p:cNvPr id="584" name="Rectangle 3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4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6" name="Picture 5" descr="top_pic23b"/>
          <p:cNvPicPr/>
          <p:nvPr/>
        </p:nvPicPr>
        <p:blipFill>
          <a:blip r:embed="rId1"/>
          <a:srcRect l="0" t="0" r="0" b="9294"/>
          <a:stretch/>
        </p:blipFill>
        <p:spPr>
          <a:xfrm>
            <a:off x="-380880" y="-23760"/>
            <a:ext cx="9524880" cy="6881760"/>
          </a:xfrm>
          <a:prstGeom prst="rect">
            <a:avLst/>
          </a:prstGeom>
          <a:ln w="0">
            <a:noFill/>
          </a:ln>
        </p:spPr>
      </p:pic>
      <p:sp>
        <p:nvSpPr>
          <p:cNvPr id="58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FB3D-12E3-4991-909C-287DE5ADC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385920" y="1353960"/>
            <a:ext cx="7165800" cy="360"/>
            <a:chOff x="385920" y="1353960"/>
            <a:chExt cx="7165800" cy="360"/>
          </a:xfrm>
        </p:grpSpPr>
        <p:sp>
          <p:nvSpPr>
            <p:cNvPr id="590" name="Rectangle 3"/>
            <p:cNvSpPr/>
            <p:nvPr/>
          </p:nvSpPr>
          <p:spPr>
            <a:xfrm>
              <a:off x="385920" y="13539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4"/>
            <p:cNvSpPr/>
            <p:nvPr/>
          </p:nvSpPr>
          <p:spPr>
            <a:xfrm>
              <a:off x="385920" y="13539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Picture 5" descr="top_pic11b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6"/>
          <p:cNvGrpSpPr/>
          <p:nvPr/>
        </p:nvGrpSpPr>
        <p:grpSpPr>
          <a:xfrm>
            <a:off x="0" y="3048120"/>
            <a:ext cx="7165800" cy="360"/>
            <a:chOff x="0" y="3048120"/>
            <a:chExt cx="7165800" cy="360"/>
          </a:xfrm>
        </p:grpSpPr>
        <p:sp>
          <p:nvSpPr>
            <p:cNvPr id="594" name="Rectangle 7"/>
            <p:cNvSpPr/>
            <p:nvPr/>
          </p:nvSpPr>
          <p:spPr>
            <a:xfrm>
              <a:off x="0" y="30481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0" y="30481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39A2-B660-424C-B98F-0CFAEBAF8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988920" y="2160720"/>
            <a:ext cx="7165800" cy="2536560"/>
            <a:chOff x="988920" y="2160720"/>
            <a:chExt cx="7165800" cy="2536560"/>
          </a:xfrm>
        </p:grpSpPr>
        <p:sp>
          <p:nvSpPr>
            <p:cNvPr id="599" name="Rectangle 3"/>
            <p:cNvSpPr/>
            <p:nvPr/>
          </p:nvSpPr>
          <p:spPr>
            <a:xfrm>
              <a:off x="988920" y="2160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Group 4"/>
            <p:cNvGrpSpPr/>
            <p:nvPr/>
          </p:nvGrpSpPr>
          <p:grpSpPr>
            <a:xfrm>
              <a:off x="988920" y="2160720"/>
              <a:ext cx="5943600" cy="2536560"/>
              <a:chOff x="988920" y="2160720"/>
              <a:chExt cx="5943600" cy="2536560"/>
            </a:xfrm>
          </p:grpSpPr>
          <p:sp>
            <p:nvSpPr>
              <p:cNvPr id="601" name="Rectangle 5"/>
              <p:cNvSpPr/>
              <p:nvPr/>
            </p:nvSpPr>
            <p:spPr>
              <a:xfrm>
                <a:off x="988920" y="2160720"/>
                <a:ext cx="5943600" cy="25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6"/>
              <p:cNvSpPr/>
              <p:nvPr/>
            </p:nvSpPr>
            <p:spPr>
              <a:xfrm>
                <a:off x="988920" y="2160720"/>
                <a:ext cx="2241720" cy="22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1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3" name="Group 7"/>
          <p:cNvGrpSpPr/>
          <p:nvPr/>
        </p:nvGrpSpPr>
        <p:grpSpPr>
          <a:xfrm>
            <a:off x="388800" y="1360440"/>
            <a:ext cx="7165800" cy="360"/>
            <a:chOff x="388800" y="1360440"/>
            <a:chExt cx="7165800" cy="360"/>
          </a:xfrm>
        </p:grpSpPr>
        <p:sp>
          <p:nvSpPr>
            <p:cNvPr id="604" name="Rectangle 8"/>
            <p:cNvSpPr/>
            <p:nvPr/>
          </p:nvSpPr>
          <p:spPr>
            <a:xfrm>
              <a:off x="388800" y="13604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9"/>
            <p:cNvSpPr/>
            <p:nvPr/>
          </p:nvSpPr>
          <p:spPr>
            <a:xfrm>
              <a:off x="388800" y="13604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Picture 10" descr="top_pic20b"/>
          <p:cNvPicPr/>
          <p:nvPr/>
        </p:nvPicPr>
        <p:blipFill>
          <a:blip r:embed="rId2"/>
          <a:srcRect l="0" t="0" r="0" b="747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620120" y="533520"/>
            <a:ext cx="54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6968520" y="-627840"/>
            <a:ext cx="1703880" cy="78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Times New Roman"/>
              </a:rPr>
              <a:t>大峡谷的波状高积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B3B4-A414-4D1D-8C03-411A00E2F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988920" y="2160720"/>
            <a:ext cx="7165800" cy="2536560"/>
            <a:chOff x="988920" y="2160720"/>
            <a:chExt cx="7165800" cy="2536560"/>
          </a:xfrm>
        </p:grpSpPr>
        <p:sp>
          <p:nvSpPr>
            <p:cNvPr id="612" name="Rectangle 3"/>
            <p:cNvSpPr/>
            <p:nvPr/>
          </p:nvSpPr>
          <p:spPr>
            <a:xfrm>
              <a:off x="988920" y="2160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4"/>
            <p:cNvGrpSpPr/>
            <p:nvPr/>
          </p:nvGrpSpPr>
          <p:grpSpPr>
            <a:xfrm>
              <a:off x="988920" y="2160720"/>
              <a:ext cx="5943600" cy="2536560"/>
              <a:chOff x="988920" y="2160720"/>
              <a:chExt cx="5943600" cy="2536560"/>
            </a:xfrm>
          </p:grpSpPr>
          <p:sp>
            <p:nvSpPr>
              <p:cNvPr id="614" name="Rectangle 5"/>
              <p:cNvSpPr/>
              <p:nvPr/>
            </p:nvSpPr>
            <p:spPr>
              <a:xfrm>
                <a:off x="988920" y="2160720"/>
                <a:ext cx="5943600" cy="25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6"/>
              <p:cNvSpPr/>
              <p:nvPr/>
            </p:nvSpPr>
            <p:spPr>
              <a:xfrm>
                <a:off x="988920" y="2160720"/>
                <a:ext cx="2816280" cy="16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10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Group 7"/>
          <p:cNvGrpSpPr/>
          <p:nvPr/>
        </p:nvGrpSpPr>
        <p:grpSpPr>
          <a:xfrm>
            <a:off x="263520" y="1989000"/>
            <a:ext cx="7165800" cy="360"/>
            <a:chOff x="263520" y="1989000"/>
            <a:chExt cx="7165800" cy="360"/>
          </a:xfrm>
        </p:grpSpPr>
        <p:sp>
          <p:nvSpPr>
            <p:cNvPr id="617" name="Rectangle 8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9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9" name="Picture 10" descr="top_pic19b"/>
          <p:cNvPicPr/>
          <p:nvPr/>
        </p:nvPicPr>
        <p:blipFill>
          <a:blip r:embed="rId2"/>
          <a:srcRect l="0" t="0" r="0" b="10843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1"/>
          <p:cNvSpPr/>
          <p:nvPr/>
        </p:nvSpPr>
        <p:spPr>
          <a:xfrm>
            <a:off x="1981080" y="0"/>
            <a:ext cx="4587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cc3300"/>
                </a:solidFill>
                <a:latin typeface="Times New Roman"/>
              </a:rPr>
              <a:t>彩虹跨峡谷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2452-D8EF-4763-88BB-06C4B1CC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vp2005-denny907-050815-39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5"/>
          <p:cNvSpPr/>
          <p:nvPr/>
        </p:nvSpPr>
        <p:spPr>
          <a:xfrm>
            <a:off x="1203480" y="63180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84360" y="8604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06668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青藏高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280B-BC82-42C7-9F95-70EB27D3F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top_pic24b"/>
          <p:cNvPicPr/>
          <p:nvPr/>
        </p:nvPicPr>
        <p:blipFill>
          <a:blip r:embed="rId1"/>
          <a:srcRect l="0" t="0" r="0" b="94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4" name="Group 3"/>
          <p:cNvGrpSpPr/>
          <p:nvPr/>
        </p:nvGrpSpPr>
        <p:grpSpPr>
          <a:xfrm>
            <a:off x="141120" y="2600280"/>
            <a:ext cx="7165800" cy="360"/>
            <a:chOff x="141120" y="2600280"/>
            <a:chExt cx="7165800" cy="360"/>
          </a:xfrm>
        </p:grpSpPr>
        <p:sp>
          <p:nvSpPr>
            <p:cNvPr id="625" name="Rectangle 4"/>
            <p:cNvSpPr/>
            <p:nvPr/>
          </p:nvSpPr>
          <p:spPr>
            <a:xfrm>
              <a:off x="141120" y="26002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5"/>
            <p:cNvSpPr/>
            <p:nvPr/>
          </p:nvSpPr>
          <p:spPr>
            <a:xfrm>
              <a:off x="141120" y="26002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Text Box 6"/>
          <p:cNvSpPr/>
          <p:nvPr/>
        </p:nvSpPr>
        <p:spPr>
          <a:xfrm>
            <a:off x="291960" y="-46224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涓涓细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258840" y="2017800"/>
            <a:ext cx="7165800" cy="360"/>
            <a:chOff x="258840" y="2017800"/>
            <a:chExt cx="7165800" cy="360"/>
          </a:xfrm>
        </p:grpSpPr>
        <p:sp>
          <p:nvSpPr>
            <p:cNvPr id="629" name="Rectangle 8"/>
            <p:cNvSpPr/>
            <p:nvPr/>
          </p:nvSpPr>
          <p:spPr>
            <a:xfrm>
              <a:off x="258840" y="20178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258840" y="20178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82E4-961B-462E-AFD4-4BCD1581A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fan307_pic01b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3"/>
          <p:cNvGrpSpPr/>
          <p:nvPr/>
        </p:nvGrpSpPr>
        <p:grpSpPr>
          <a:xfrm>
            <a:off x="800280" y="-1119240"/>
            <a:ext cx="7165800" cy="4983120"/>
            <a:chOff x="800280" y="-1119240"/>
            <a:chExt cx="7165800" cy="4983120"/>
          </a:xfrm>
        </p:grpSpPr>
        <p:sp>
          <p:nvSpPr>
            <p:cNvPr id="635" name="Rectangle 4"/>
            <p:cNvSpPr/>
            <p:nvPr/>
          </p:nvSpPr>
          <p:spPr>
            <a:xfrm>
              <a:off x="800280" y="-1119240"/>
              <a:ext cx="716580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"/>
            <p:cNvSpPr/>
            <p:nvPr/>
          </p:nvSpPr>
          <p:spPr>
            <a:xfrm>
              <a:off x="800280" y="-11192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6"/>
          <p:cNvGrpSpPr/>
          <p:nvPr/>
        </p:nvGrpSpPr>
        <p:grpSpPr>
          <a:xfrm>
            <a:off x="2400480" y="3863880"/>
            <a:ext cx="5943600" cy="4114800"/>
            <a:chOff x="2400480" y="3863880"/>
            <a:chExt cx="5943600" cy="4114800"/>
          </a:xfrm>
        </p:grpSpPr>
        <p:sp>
          <p:nvSpPr>
            <p:cNvPr id="638" name="Rectangle 7"/>
            <p:cNvSpPr/>
            <p:nvPr/>
          </p:nvSpPr>
          <p:spPr>
            <a:xfrm>
              <a:off x="2400480" y="3863880"/>
              <a:ext cx="5943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8"/>
            <p:cNvSpPr/>
            <p:nvPr/>
          </p:nvSpPr>
          <p:spPr>
            <a:xfrm>
              <a:off x="2400480" y="3863880"/>
              <a:ext cx="22129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9"/>
          <p:cNvGrpSpPr/>
          <p:nvPr/>
        </p:nvGrpSpPr>
        <p:grpSpPr>
          <a:xfrm>
            <a:off x="800280" y="-1119240"/>
            <a:ext cx="7165800" cy="4983120"/>
            <a:chOff x="800280" y="-1119240"/>
            <a:chExt cx="7165800" cy="4983120"/>
          </a:xfrm>
        </p:grpSpPr>
        <p:sp>
          <p:nvSpPr>
            <p:cNvPr id="641" name="Rectangle 10"/>
            <p:cNvSpPr/>
            <p:nvPr/>
          </p:nvSpPr>
          <p:spPr>
            <a:xfrm>
              <a:off x="800280" y="-1119240"/>
              <a:ext cx="716580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1"/>
            <p:cNvSpPr/>
            <p:nvPr/>
          </p:nvSpPr>
          <p:spPr>
            <a:xfrm>
              <a:off x="800280" y="-11192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12"/>
          <p:cNvGrpSpPr/>
          <p:nvPr/>
        </p:nvGrpSpPr>
        <p:grpSpPr>
          <a:xfrm>
            <a:off x="2400480" y="3863880"/>
            <a:ext cx="5943600" cy="4114800"/>
            <a:chOff x="2400480" y="3863880"/>
            <a:chExt cx="5943600" cy="4114800"/>
          </a:xfrm>
        </p:grpSpPr>
        <p:sp>
          <p:nvSpPr>
            <p:cNvPr id="644" name="Rectangle 13"/>
            <p:cNvSpPr/>
            <p:nvPr/>
          </p:nvSpPr>
          <p:spPr>
            <a:xfrm>
              <a:off x="2400480" y="3863880"/>
              <a:ext cx="5943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4"/>
            <p:cNvSpPr/>
            <p:nvPr/>
          </p:nvSpPr>
          <p:spPr>
            <a:xfrm>
              <a:off x="2400480" y="3863880"/>
              <a:ext cx="594360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/>
                </a:rPr>
                <a:t>  </a:t>
              </a:r>
              <a:r>
                <a:rPr b="0" lang="en-US" sz="9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15"/>
          <p:cNvGrpSpPr/>
          <p:nvPr/>
        </p:nvGrpSpPr>
        <p:grpSpPr>
          <a:xfrm>
            <a:off x="800280" y="-1119240"/>
            <a:ext cx="7165800" cy="4983120"/>
            <a:chOff x="800280" y="-1119240"/>
            <a:chExt cx="7165800" cy="4983120"/>
          </a:xfrm>
        </p:grpSpPr>
        <p:sp>
          <p:nvSpPr>
            <p:cNvPr id="647" name="Rectangle 16"/>
            <p:cNvSpPr/>
            <p:nvPr/>
          </p:nvSpPr>
          <p:spPr>
            <a:xfrm>
              <a:off x="800280" y="-1119240"/>
              <a:ext cx="716580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7"/>
            <p:cNvSpPr/>
            <p:nvPr/>
          </p:nvSpPr>
          <p:spPr>
            <a:xfrm>
              <a:off x="800280" y="-11192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18"/>
          <p:cNvGrpSpPr/>
          <p:nvPr/>
        </p:nvGrpSpPr>
        <p:grpSpPr>
          <a:xfrm>
            <a:off x="1219320" y="609480"/>
            <a:ext cx="5943600" cy="4114800"/>
            <a:chOff x="1219320" y="609480"/>
            <a:chExt cx="5943600" cy="4114800"/>
          </a:xfrm>
        </p:grpSpPr>
        <p:sp>
          <p:nvSpPr>
            <p:cNvPr id="650" name="Rectangle 19"/>
            <p:cNvSpPr/>
            <p:nvPr/>
          </p:nvSpPr>
          <p:spPr>
            <a:xfrm>
              <a:off x="1219320" y="609480"/>
              <a:ext cx="5943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20"/>
            <p:cNvSpPr/>
            <p:nvPr/>
          </p:nvSpPr>
          <p:spPr>
            <a:xfrm>
              <a:off x="1219320" y="60948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0000"/>
                  </a:solidFill>
                  <a:latin typeface="Times New Roman"/>
                </a:rPr>
                <a:t>帘帘飞瀑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EE2B-DF31-4E82-B37B-9638B8BB5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800280" y="-1119240"/>
            <a:ext cx="7165800" cy="4983120"/>
            <a:chOff x="800280" y="-1119240"/>
            <a:chExt cx="7165800" cy="4983120"/>
          </a:xfrm>
        </p:grpSpPr>
        <p:sp>
          <p:nvSpPr>
            <p:cNvPr id="655" name="Rectangle 3"/>
            <p:cNvSpPr/>
            <p:nvPr/>
          </p:nvSpPr>
          <p:spPr>
            <a:xfrm>
              <a:off x="800280" y="-1119240"/>
              <a:ext cx="7165800" cy="498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4"/>
            <p:cNvSpPr/>
            <p:nvPr/>
          </p:nvSpPr>
          <p:spPr>
            <a:xfrm>
              <a:off x="800280" y="-11192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5"/>
          <p:cNvGrpSpPr/>
          <p:nvPr/>
        </p:nvGrpSpPr>
        <p:grpSpPr>
          <a:xfrm>
            <a:off x="2400480" y="3863880"/>
            <a:ext cx="5943600" cy="4114800"/>
            <a:chOff x="2400480" y="3863880"/>
            <a:chExt cx="5943600" cy="4114800"/>
          </a:xfrm>
        </p:grpSpPr>
        <p:sp>
          <p:nvSpPr>
            <p:cNvPr id="658" name="Rectangle 6"/>
            <p:cNvSpPr/>
            <p:nvPr/>
          </p:nvSpPr>
          <p:spPr>
            <a:xfrm>
              <a:off x="2400480" y="3863880"/>
              <a:ext cx="59436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"/>
            <p:cNvSpPr/>
            <p:nvPr/>
          </p:nvSpPr>
          <p:spPr>
            <a:xfrm>
              <a:off x="2400480" y="3863880"/>
              <a:ext cx="280656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9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Picture 8" descr="fan307_pic02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9"/>
          <p:cNvSpPr/>
          <p:nvPr/>
        </p:nvSpPr>
        <p:spPr>
          <a:xfrm>
            <a:off x="3405240" y="39600"/>
            <a:ext cx="284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Times New Roman"/>
              </a:rPr>
              <a:t>奔腾的绒扎瀑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1455840" y="13716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滔滔江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9168-2497-460A-BB24-B96ABA1B2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2"/>
          <p:cNvGrpSpPr/>
          <p:nvPr/>
        </p:nvGrpSpPr>
        <p:grpSpPr>
          <a:xfrm>
            <a:off x="800280" y="-1114560"/>
            <a:ext cx="7165800" cy="4515120"/>
            <a:chOff x="800280" y="-1114560"/>
            <a:chExt cx="7165800" cy="4515120"/>
          </a:xfrm>
        </p:grpSpPr>
        <p:sp>
          <p:nvSpPr>
            <p:cNvPr id="666" name="Rectangle 3"/>
            <p:cNvSpPr/>
            <p:nvPr/>
          </p:nvSpPr>
          <p:spPr>
            <a:xfrm>
              <a:off x="800280" y="-1114560"/>
              <a:ext cx="7165800" cy="45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"/>
            <p:cNvSpPr/>
            <p:nvPr/>
          </p:nvSpPr>
          <p:spPr>
            <a:xfrm>
              <a:off x="800280" y="-11145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5"/>
          <p:cNvGrpSpPr/>
          <p:nvPr/>
        </p:nvGrpSpPr>
        <p:grpSpPr>
          <a:xfrm>
            <a:off x="2400480" y="3400560"/>
            <a:ext cx="5943600" cy="4572000"/>
            <a:chOff x="2400480" y="3400560"/>
            <a:chExt cx="5943600" cy="4572000"/>
          </a:xfrm>
        </p:grpSpPr>
        <p:sp>
          <p:nvSpPr>
            <p:cNvPr id="669" name="Rectangle 6"/>
            <p:cNvSpPr/>
            <p:nvPr/>
          </p:nvSpPr>
          <p:spPr>
            <a:xfrm>
              <a:off x="2400480" y="3400560"/>
              <a:ext cx="5943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2400480" y="3400560"/>
              <a:ext cx="5943600" cy="16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0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1" name="Picture 8" descr="fan401_pic01b"/>
          <p:cNvPicPr/>
          <p:nvPr/>
        </p:nvPicPr>
        <p:blipFill>
          <a:blip r:embed="rId2"/>
          <a:stretch/>
        </p:blipFill>
        <p:spPr>
          <a:xfrm>
            <a:off x="-304920" y="3240"/>
            <a:ext cx="9448920" cy="6854760"/>
          </a:xfrm>
          <a:prstGeom prst="rect">
            <a:avLst/>
          </a:prstGeom>
          <a:ln w="0">
            <a:noFill/>
          </a:ln>
        </p:spPr>
      </p:pic>
      <p:sp>
        <p:nvSpPr>
          <p:cNvPr id="67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3AFC-8290-4963-976A-FB01CC6D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800280" y="-1125360"/>
            <a:ext cx="7165800" cy="6778440"/>
            <a:chOff x="800280" y="-1125360"/>
            <a:chExt cx="7165800" cy="6778440"/>
          </a:xfrm>
        </p:grpSpPr>
        <p:sp>
          <p:nvSpPr>
            <p:cNvPr id="675" name="Rectangle 3"/>
            <p:cNvSpPr/>
            <p:nvPr/>
          </p:nvSpPr>
          <p:spPr>
            <a:xfrm>
              <a:off x="800280" y="-11253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"/>
            <p:cNvSpPr/>
            <p:nvPr/>
          </p:nvSpPr>
          <p:spPr>
            <a:xfrm>
              <a:off x="800280" y="-11253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Group 5"/>
          <p:cNvGrpSpPr/>
          <p:nvPr/>
        </p:nvGrpSpPr>
        <p:grpSpPr>
          <a:xfrm>
            <a:off x="2400480" y="5653080"/>
            <a:ext cx="5943600" cy="2286000"/>
            <a:chOff x="2400480" y="5653080"/>
            <a:chExt cx="5943600" cy="2286000"/>
          </a:xfrm>
        </p:grpSpPr>
        <p:sp>
          <p:nvSpPr>
            <p:cNvPr id="678" name="Rectangle 6"/>
            <p:cNvSpPr/>
            <p:nvPr/>
          </p:nvSpPr>
          <p:spPr>
            <a:xfrm>
              <a:off x="2400480" y="565308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7"/>
            <p:cNvSpPr/>
            <p:nvPr/>
          </p:nvSpPr>
          <p:spPr>
            <a:xfrm>
              <a:off x="2400480" y="5653080"/>
              <a:ext cx="227016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0" name="Picture 8" descr="fan501_pic01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5D04-2F3F-4E33-AD12-8404B194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fan501_pic0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84" name="Group 3"/>
          <p:cNvGrpSpPr/>
          <p:nvPr/>
        </p:nvGrpSpPr>
        <p:grpSpPr>
          <a:xfrm>
            <a:off x="800280" y="-765000"/>
            <a:ext cx="7165800" cy="6778440"/>
            <a:chOff x="800280" y="-765000"/>
            <a:chExt cx="7165800" cy="6778440"/>
          </a:xfrm>
        </p:grpSpPr>
        <p:sp>
          <p:nvSpPr>
            <p:cNvPr id="685" name="Rectangle 4"/>
            <p:cNvSpPr/>
            <p:nvPr/>
          </p:nvSpPr>
          <p:spPr>
            <a:xfrm>
              <a:off x="800280" y="-76500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5"/>
            <p:cNvSpPr/>
            <p:nvPr/>
          </p:nvSpPr>
          <p:spPr>
            <a:xfrm>
              <a:off x="800280" y="-765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6"/>
          <p:cNvGrpSpPr/>
          <p:nvPr/>
        </p:nvGrpSpPr>
        <p:grpSpPr>
          <a:xfrm>
            <a:off x="2400480" y="6013440"/>
            <a:ext cx="5943600" cy="1585800"/>
            <a:chOff x="2400480" y="6013440"/>
            <a:chExt cx="5943600" cy="1585800"/>
          </a:xfrm>
        </p:grpSpPr>
        <p:sp>
          <p:nvSpPr>
            <p:cNvPr id="688" name="Rectangle 7"/>
            <p:cNvSpPr/>
            <p:nvPr/>
          </p:nvSpPr>
          <p:spPr>
            <a:xfrm>
              <a:off x="2400480" y="6013440"/>
              <a:ext cx="594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8"/>
            <p:cNvSpPr/>
            <p:nvPr/>
          </p:nvSpPr>
          <p:spPr>
            <a:xfrm>
              <a:off x="2400480" y="6013440"/>
              <a:ext cx="2809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en-US" sz="9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Text Box 9"/>
          <p:cNvSpPr/>
          <p:nvPr/>
        </p:nvSpPr>
        <p:spPr>
          <a:xfrm>
            <a:off x="5859000" y="254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高山杜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C42C-875C-41F9-A952-B27EE14AE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800280" y="-1125360"/>
            <a:ext cx="7165800" cy="6778440"/>
            <a:chOff x="800280" y="-1125360"/>
            <a:chExt cx="7165800" cy="6778440"/>
          </a:xfrm>
        </p:grpSpPr>
        <p:sp>
          <p:nvSpPr>
            <p:cNvPr id="694" name="Rectangle 3"/>
            <p:cNvSpPr/>
            <p:nvPr/>
          </p:nvSpPr>
          <p:spPr>
            <a:xfrm>
              <a:off x="800280" y="-11253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"/>
            <p:cNvSpPr/>
            <p:nvPr/>
          </p:nvSpPr>
          <p:spPr>
            <a:xfrm>
              <a:off x="800280" y="-11253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2400480" y="5653080"/>
            <a:ext cx="5943600" cy="2286000"/>
            <a:chOff x="2400480" y="5653080"/>
            <a:chExt cx="5943600" cy="2286000"/>
          </a:xfrm>
        </p:grpSpPr>
        <p:sp>
          <p:nvSpPr>
            <p:cNvPr id="697" name="Rectangle 6"/>
            <p:cNvSpPr/>
            <p:nvPr/>
          </p:nvSpPr>
          <p:spPr>
            <a:xfrm>
              <a:off x="2400480" y="565308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7"/>
            <p:cNvSpPr/>
            <p:nvPr/>
          </p:nvSpPr>
          <p:spPr>
            <a:xfrm>
              <a:off x="2400480" y="5653080"/>
              <a:ext cx="5943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 Box 8"/>
          <p:cNvSpPr/>
          <p:nvPr/>
        </p:nvSpPr>
        <p:spPr>
          <a:xfrm>
            <a:off x="-453240" y="838080"/>
            <a:ext cx="20091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林   芝   云   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Picture 9" descr="fan502_pic01b"/>
          <p:cNvPicPr/>
          <p:nvPr/>
        </p:nvPicPr>
        <p:blipFill>
          <a:blip r:embed="rId2"/>
          <a:stretch/>
        </p:blipFill>
        <p:spPr>
          <a:xfrm>
            <a:off x="21337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678F-E947-4743-8B37-0D58373E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Group 2"/>
          <p:cNvGrpSpPr/>
          <p:nvPr/>
        </p:nvGrpSpPr>
        <p:grpSpPr>
          <a:xfrm>
            <a:off x="800280" y="-1400040"/>
            <a:ext cx="7165800" cy="6778440"/>
            <a:chOff x="800280" y="-1400040"/>
            <a:chExt cx="7165800" cy="6778440"/>
          </a:xfrm>
        </p:grpSpPr>
        <p:sp>
          <p:nvSpPr>
            <p:cNvPr id="704" name="Rectangle 3"/>
            <p:cNvSpPr/>
            <p:nvPr/>
          </p:nvSpPr>
          <p:spPr>
            <a:xfrm>
              <a:off x="800280" y="-140004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"/>
            <p:cNvSpPr/>
            <p:nvPr/>
          </p:nvSpPr>
          <p:spPr>
            <a:xfrm>
              <a:off x="800280" y="-14000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5"/>
          <p:cNvGrpSpPr/>
          <p:nvPr/>
        </p:nvGrpSpPr>
        <p:grpSpPr>
          <a:xfrm>
            <a:off x="2400480" y="5378400"/>
            <a:ext cx="5943600" cy="549360"/>
            <a:chOff x="2400480" y="5378400"/>
            <a:chExt cx="5943600" cy="549360"/>
          </a:xfrm>
        </p:grpSpPr>
        <p:sp>
          <p:nvSpPr>
            <p:cNvPr id="707" name="Rectangle 6"/>
            <p:cNvSpPr/>
            <p:nvPr/>
          </p:nvSpPr>
          <p:spPr>
            <a:xfrm>
              <a:off x="2400480" y="537840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7"/>
            <p:cNvSpPr/>
            <p:nvPr/>
          </p:nvSpPr>
          <p:spPr>
            <a:xfrm>
              <a:off x="2400480" y="537840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8"/>
          <p:cNvGrpSpPr/>
          <p:nvPr/>
        </p:nvGrpSpPr>
        <p:grpSpPr>
          <a:xfrm>
            <a:off x="800280" y="-1400040"/>
            <a:ext cx="7165800" cy="6778440"/>
            <a:chOff x="800280" y="-1400040"/>
            <a:chExt cx="7165800" cy="6778440"/>
          </a:xfrm>
        </p:grpSpPr>
        <p:sp>
          <p:nvSpPr>
            <p:cNvPr id="710" name="Rectangle 9"/>
            <p:cNvSpPr/>
            <p:nvPr/>
          </p:nvSpPr>
          <p:spPr>
            <a:xfrm>
              <a:off x="800280" y="-140004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"/>
            <p:cNvSpPr/>
            <p:nvPr/>
          </p:nvSpPr>
          <p:spPr>
            <a:xfrm>
              <a:off x="800280" y="-140004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2400480" y="5378400"/>
            <a:ext cx="5943600" cy="549360"/>
            <a:chOff x="2400480" y="5378400"/>
            <a:chExt cx="5943600" cy="549360"/>
          </a:xfrm>
        </p:grpSpPr>
        <p:sp>
          <p:nvSpPr>
            <p:cNvPr id="713" name="Rectangle 12"/>
            <p:cNvSpPr/>
            <p:nvPr/>
          </p:nvSpPr>
          <p:spPr>
            <a:xfrm>
              <a:off x="2400480" y="537840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3"/>
            <p:cNvSpPr/>
            <p:nvPr/>
          </p:nvSpPr>
          <p:spPr>
            <a:xfrm>
              <a:off x="2400480" y="537840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4"/>
          <p:cNvSpPr/>
          <p:nvPr/>
        </p:nvSpPr>
        <p:spPr>
          <a:xfrm>
            <a:off x="3966840" y="130932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小果紫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15" descr="fan502_pic02b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6" descr="fan502_pic03b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6B9A-3B91-40BC-94C5-A6DD42FE1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800280" y="-1125360"/>
            <a:ext cx="7165800" cy="6778440"/>
            <a:chOff x="800280" y="-1125360"/>
            <a:chExt cx="7165800" cy="6778440"/>
          </a:xfrm>
        </p:grpSpPr>
        <p:sp>
          <p:nvSpPr>
            <p:cNvPr id="721" name="Rectangle 3"/>
            <p:cNvSpPr/>
            <p:nvPr/>
          </p:nvSpPr>
          <p:spPr>
            <a:xfrm>
              <a:off x="800280" y="-11253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4"/>
            <p:cNvSpPr/>
            <p:nvPr/>
          </p:nvSpPr>
          <p:spPr>
            <a:xfrm>
              <a:off x="800280" y="-11253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5"/>
          <p:cNvGrpSpPr/>
          <p:nvPr/>
        </p:nvGrpSpPr>
        <p:grpSpPr>
          <a:xfrm>
            <a:off x="2400480" y="5653080"/>
            <a:ext cx="5943600" cy="2286000"/>
            <a:chOff x="2400480" y="5653080"/>
            <a:chExt cx="5943600" cy="2286000"/>
          </a:xfrm>
        </p:grpSpPr>
        <p:sp>
          <p:nvSpPr>
            <p:cNvPr id="724" name="Rectangle 6"/>
            <p:cNvSpPr/>
            <p:nvPr/>
          </p:nvSpPr>
          <p:spPr>
            <a:xfrm>
              <a:off x="2400480" y="565308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7"/>
            <p:cNvSpPr/>
            <p:nvPr/>
          </p:nvSpPr>
          <p:spPr>
            <a:xfrm>
              <a:off x="2400480" y="5653080"/>
              <a:ext cx="59436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8"/>
          <p:cNvSpPr/>
          <p:nvPr/>
        </p:nvSpPr>
        <p:spPr>
          <a:xfrm>
            <a:off x="461520" y="209340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imes New Roman"/>
              </a:rPr>
              <a:t>阿  丁  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9" descr="fan504_pic01b"/>
          <p:cNvPicPr/>
          <p:nvPr/>
        </p:nvPicPr>
        <p:blipFill>
          <a:blip r:embed="rId2"/>
          <a:stretch/>
        </p:blipFill>
        <p:spPr>
          <a:xfrm>
            <a:off x="2209680" y="0"/>
            <a:ext cx="5181840" cy="6858000"/>
          </a:xfrm>
          <a:prstGeom prst="rect">
            <a:avLst/>
          </a:prstGeom>
          <a:ln w="0">
            <a:noFill/>
          </a:ln>
        </p:spPr>
      </p:pic>
      <p:sp>
        <p:nvSpPr>
          <p:cNvPr id="72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4B93-31E9-4748-8044-1A3F0727C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800280" y="-1125360"/>
            <a:ext cx="7165800" cy="6778440"/>
            <a:chOff x="800280" y="-1125360"/>
            <a:chExt cx="7165800" cy="6778440"/>
          </a:xfrm>
        </p:grpSpPr>
        <p:sp>
          <p:nvSpPr>
            <p:cNvPr id="731" name="Rectangle 3"/>
            <p:cNvSpPr/>
            <p:nvPr/>
          </p:nvSpPr>
          <p:spPr>
            <a:xfrm>
              <a:off x="800280" y="-11253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4"/>
            <p:cNvSpPr/>
            <p:nvPr/>
          </p:nvSpPr>
          <p:spPr>
            <a:xfrm>
              <a:off x="800280" y="-11253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5"/>
          <p:cNvGrpSpPr/>
          <p:nvPr/>
        </p:nvGrpSpPr>
        <p:grpSpPr>
          <a:xfrm>
            <a:off x="2400480" y="5653080"/>
            <a:ext cx="5943600" cy="2286000"/>
            <a:chOff x="2400480" y="5653080"/>
            <a:chExt cx="5943600" cy="2286000"/>
          </a:xfrm>
        </p:grpSpPr>
        <p:sp>
          <p:nvSpPr>
            <p:cNvPr id="734" name="Rectangle 6"/>
            <p:cNvSpPr/>
            <p:nvPr/>
          </p:nvSpPr>
          <p:spPr>
            <a:xfrm>
              <a:off x="2400480" y="565308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7"/>
            <p:cNvSpPr/>
            <p:nvPr/>
          </p:nvSpPr>
          <p:spPr>
            <a:xfrm>
              <a:off x="2400480" y="5653080"/>
              <a:ext cx="227016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8"/>
          <p:cNvSpPr/>
          <p:nvPr/>
        </p:nvSpPr>
        <p:spPr>
          <a:xfrm>
            <a:off x="674280" y="201744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imes New Roman"/>
              </a:rPr>
              <a:t>鱼  尾  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9" descr="fan504_pic02b"/>
          <p:cNvPicPr/>
          <p:nvPr/>
        </p:nvPicPr>
        <p:blipFill>
          <a:blip r:embed="rId1"/>
          <a:stretch/>
        </p:blipFill>
        <p:spPr>
          <a:xfrm>
            <a:off x="243828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C5EB-ACF2-4CEF-8A62-6C3D0AC90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vp2005-denny907-050815-39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"/>
          <p:cNvSpPr/>
          <p:nvPr/>
        </p:nvSpPr>
        <p:spPr>
          <a:xfrm>
            <a:off x="1771920" y="101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昆仑雪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BC45-5D76-47D7-9A2C-64E8B431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fan504_pic0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1" name="Group 3"/>
          <p:cNvGrpSpPr/>
          <p:nvPr/>
        </p:nvGrpSpPr>
        <p:grpSpPr>
          <a:xfrm>
            <a:off x="800280" y="-771480"/>
            <a:ext cx="7165800" cy="6778440"/>
            <a:chOff x="800280" y="-771480"/>
            <a:chExt cx="7165800" cy="6778440"/>
          </a:xfrm>
        </p:grpSpPr>
        <p:sp>
          <p:nvSpPr>
            <p:cNvPr id="742" name="Rectangle 4"/>
            <p:cNvSpPr/>
            <p:nvPr/>
          </p:nvSpPr>
          <p:spPr>
            <a:xfrm>
              <a:off x="800280" y="-77148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5"/>
            <p:cNvSpPr/>
            <p:nvPr/>
          </p:nvSpPr>
          <p:spPr>
            <a:xfrm>
              <a:off x="800280" y="-7714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6"/>
          <p:cNvGrpSpPr/>
          <p:nvPr/>
        </p:nvGrpSpPr>
        <p:grpSpPr>
          <a:xfrm>
            <a:off x="2400480" y="6006960"/>
            <a:ext cx="5943600" cy="1600200"/>
            <a:chOff x="2400480" y="6006960"/>
            <a:chExt cx="5943600" cy="1600200"/>
          </a:xfrm>
        </p:grpSpPr>
        <p:sp>
          <p:nvSpPr>
            <p:cNvPr id="745" name="Rectangle 7"/>
            <p:cNvSpPr/>
            <p:nvPr/>
          </p:nvSpPr>
          <p:spPr>
            <a:xfrm>
              <a:off x="2400480" y="600696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8"/>
            <p:cNvSpPr/>
            <p:nvPr/>
          </p:nvSpPr>
          <p:spPr>
            <a:xfrm>
              <a:off x="2400480" y="6006960"/>
              <a:ext cx="28130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9"/>
          <p:cNvSpPr/>
          <p:nvPr/>
        </p:nvSpPr>
        <p:spPr>
          <a:xfrm>
            <a:off x="603360" y="3049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imes New Roman"/>
              </a:rPr>
              <a:t>芭 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9523-D745-4730-98E0-6B7AE097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fan505_pic0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1" name="Group 3"/>
          <p:cNvGrpSpPr/>
          <p:nvPr/>
        </p:nvGrpSpPr>
        <p:grpSpPr>
          <a:xfrm>
            <a:off x="800280" y="-1039680"/>
            <a:ext cx="7165800" cy="6778440"/>
            <a:chOff x="800280" y="-1039680"/>
            <a:chExt cx="7165800" cy="6778440"/>
          </a:xfrm>
        </p:grpSpPr>
        <p:sp>
          <p:nvSpPr>
            <p:cNvPr id="752" name="Rectangle 4"/>
            <p:cNvSpPr/>
            <p:nvPr/>
          </p:nvSpPr>
          <p:spPr>
            <a:xfrm>
              <a:off x="800280" y="-103968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>
              <a:off x="800280" y="-10396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6"/>
          <p:cNvGrpSpPr/>
          <p:nvPr/>
        </p:nvGrpSpPr>
        <p:grpSpPr>
          <a:xfrm>
            <a:off x="2400480" y="5738760"/>
            <a:ext cx="5943600" cy="549360"/>
            <a:chOff x="2400480" y="5738760"/>
            <a:chExt cx="5943600" cy="549360"/>
          </a:xfrm>
        </p:grpSpPr>
        <p:sp>
          <p:nvSpPr>
            <p:cNvPr id="755" name="Rectangle 7"/>
            <p:cNvSpPr/>
            <p:nvPr/>
          </p:nvSpPr>
          <p:spPr>
            <a:xfrm>
              <a:off x="2400480" y="573876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>
              <a:off x="2400480" y="573876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226800" y="27720"/>
            <a:ext cx="91152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兰   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DAC3-A097-48E1-BF9E-1C79365E9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fan505_pic0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1" name="Group 3"/>
          <p:cNvGrpSpPr/>
          <p:nvPr/>
        </p:nvGrpSpPr>
        <p:grpSpPr>
          <a:xfrm>
            <a:off x="800280" y="-1039680"/>
            <a:ext cx="7165800" cy="6778440"/>
            <a:chOff x="800280" y="-1039680"/>
            <a:chExt cx="7165800" cy="6778440"/>
          </a:xfrm>
        </p:grpSpPr>
        <p:sp>
          <p:nvSpPr>
            <p:cNvPr id="762" name="Rectangle 4"/>
            <p:cNvSpPr/>
            <p:nvPr/>
          </p:nvSpPr>
          <p:spPr>
            <a:xfrm>
              <a:off x="800280" y="-103968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"/>
            <p:cNvSpPr/>
            <p:nvPr/>
          </p:nvSpPr>
          <p:spPr>
            <a:xfrm>
              <a:off x="800280" y="-10396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Group 6"/>
          <p:cNvGrpSpPr/>
          <p:nvPr/>
        </p:nvGrpSpPr>
        <p:grpSpPr>
          <a:xfrm>
            <a:off x="2400480" y="5738760"/>
            <a:ext cx="5943600" cy="549360"/>
            <a:chOff x="2400480" y="5738760"/>
            <a:chExt cx="5943600" cy="549360"/>
          </a:xfrm>
        </p:grpSpPr>
        <p:sp>
          <p:nvSpPr>
            <p:cNvPr id="765" name="Rectangle 7"/>
            <p:cNvSpPr/>
            <p:nvPr/>
          </p:nvSpPr>
          <p:spPr>
            <a:xfrm>
              <a:off x="2400480" y="573876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2400480" y="573876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 Box 9"/>
          <p:cNvSpPr/>
          <p:nvPr/>
        </p:nvSpPr>
        <p:spPr>
          <a:xfrm>
            <a:off x="7694280" y="-3600"/>
            <a:ext cx="91152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虎 头 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8FC6-0042-4AAC-BEE4-8F60E8F97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2"/>
          <p:cNvGrpSpPr/>
          <p:nvPr/>
        </p:nvGrpSpPr>
        <p:grpSpPr>
          <a:xfrm>
            <a:off x="800280" y="-1125360"/>
            <a:ext cx="7165800" cy="6778440"/>
            <a:chOff x="800280" y="-1125360"/>
            <a:chExt cx="7165800" cy="6778440"/>
          </a:xfrm>
        </p:grpSpPr>
        <p:sp>
          <p:nvSpPr>
            <p:cNvPr id="771" name="Rectangle 3"/>
            <p:cNvSpPr/>
            <p:nvPr/>
          </p:nvSpPr>
          <p:spPr>
            <a:xfrm>
              <a:off x="800280" y="-11253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4"/>
            <p:cNvSpPr/>
            <p:nvPr/>
          </p:nvSpPr>
          <p:spPr>
            <a:xfrm>
              <a:off x="800280" y="-11253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Group 5"/>
          <p:cNvGrpSpPr/>
          <p:nvPr/>
        </p:nvGrpSpPr>
        <p:grpSpPr>
          <a:xfrm>
            <a:off x="2400480" y="5653080"/>
            <a:ext cx="5943600" cy="2286000"/>
            <a:chOff x="2400480" y="5653080"/>
            <a:chExt cx="5943600" cy="2286000"/>
          </a:xfrm>
        </p:grpSpPr>
        <p:sp>
          <p:nvSpPr>
            <p:cNvPr id="774" name="Rectangle 6"/>
            <p:cNvSpPr/>
            <p:nvPr/>
          </p:nvSpPr>
          <p:spPr>
            <a:xfrm>
              <a:off x="2400480" y="565308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"/>
            <p:cNvSpPr/>
            <p:nvPr/>
          </p:nvSpPr>
          <p:spPr>
            <a:xfrm>
              <a:off x="2400480" y="5653080"/>
              <a:ext cx="224172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Text Box 8"/>
          <p:cNvSpPr/>
          <p:nvPr/>
        </p:nvSpPr>
        <p:spPr>
          <a:xfrm>
            <a:off x="674280" y="2023560"/>
            <a:ext cx="91152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Times New Roman"/>
              </a:rPr>
              <a:t>野 花 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9" descr="fan505_pic04b"/>
          <p:cNvPicPr/>
          <p:nvPr/>
        </p:nvPicPr>
        <p:blipFill>
          <a:blip r:embed="rId1"/>
          <a:stretch/>
        </p:blipFill>
        <p:spPr>
          <a:xfrm>
            <a:off x="2362320" y="0"/>
            <a:ext cx="4779720" cy="6858000"/>
          </a:xfrm>
          <a:prstGeom prst="rect">
            <a:avLst/>
          </a:prstGeom>
          <a:ln w="0">
            <a:noFill/>
          </a:ln>
        </p:spPr>
      </p:pic>
      <p:sp>
        <p:nvSpPr>
          <p:cNvPr id="77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E676-811D-4A93-81C4-5864C8E4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fan505_pic0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1" name="Group 3"/>
          <p:cNvGrpSpPr/>
          <p:nvPr/>
        </p:nvGrpSpPr>
        <p:grpSpPr>
          <a:xfrm>
            <a:off x="800280" y="-777960"/>
            <a:ext cx="7165800" cy="6778440"/>
            <a:chOff x="800280" y="-777960"/>
            <a:chExt cx="7165800" cy="6778440"/>
          </a:xfrm>
        </p:grpSpPr>
        <p:sp>
          <p:nvSpPr>
            <p:cNvPr id="782" name="Rectangle 4"/>
            <p:cNvSpPr/>
            <p:nvPr/>
          </p:nvSpPr>
          <p:spPr>
            <a:xfrm>
              <a:off x="800280" y="-7779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5"/>
            <p:cNvSpPr/>
            <p:nvPr/>
          </p:nvSpPr>
          <p:spPr>
            <a:xfrm>
              <a:off x="800280" y="-7779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6"/>
          <p:cNvGrpSpPr/>
          <p:nvPr/>
        </p:nvGrpSpPr>
        <p:grpSpPr>
          <a:xfrm>
            <a:off x="2400480" y="6000840"/>
            <a:ext cx="5943600" cy="1616040"/>
            <a:chOff x="2400480" y="6000840"/>
            <a:chExt cx="5943600" cy="1616040"/>
          </a:xfrm>
        </p:grpSpPr>
        <p:sp>
          <p:nvSpPr>
            <p:cNvPr id="785" name="Rectangle 7"/>
            <p:cNvSpPr/>
            <p:nvPr/>
          </p:nvSpPr>
          <p:spPr>
            <a:xfrm>
              <a:off x="2400480" y="600084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8"/>
            <p:cNvSpPr/>
            <p:nvPr/>
          </p:nvSpPr>
          <p:spPr>
            <a:xfrm>
              <a:off x="2400480" y="6000840"/>
              <a:ext cx="2816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9"/>
          <p:cNvSpPr/>
          <p:nvPr/>
        </p:nvSpPr>
        <p:spPr>
          <a:xfrm>
            <a:off x="8045640" y="-402480"/>
            <a:ext cx="8506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沁人心肺的瑞香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E33D-A0A6-40A6-B2CD-406114587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Group 2"/>
          <p:cNvGrpSpPr/>
          <p:nvPr/>
        </p:nvGrpSpPr>
        <p:grpSpPr>
          <a:xfrm>
            <a:off x="800280" y="-760320"/>
            <a:ext cx="7165800" cy="6778440"/>
            <a:chOff x="800280" y="-760320"/>
            <a:chExt cx="7165800" cy="6778440"/>
          </a:xfrm>
        </p:grpSpPr>
        <p:sp>
          <p:nvSpPr>
            <p:cNvPr id="791" name="Rectangle 3"/>
            <p:cNvSpPr/>
            <p:nvPr/>
          </p:nvSpPr>
          <p:spPr>
            <a:xfrm>
              <a:off x="800280" y="-76032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4"/>
            <p:cNvSpPr/>
            <p:nvPr/>
          </p:nvSpPr>
          <p:spPr>
            <a:xfrm>
              <a:off x="800280" y="-7603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5"/>
          <p:cNvGrpSpPr/>
          <p:nvPr/>
        </p:nvGrpSpPr>
        <p:grpSpPr>
          <a:xfrm>
            <a:off x="2400480" y="6018120"/>
            <a:ext cx="5943600" cy="1569960"/>
            <a:chOff x="2400480" y="6018120"/>
            <a:chExt cx="5943600" cy="1569960"/>
          </a:xfrm>
        </p:grpSpPr>
        <p:sp>
          <p:nvSpPr>
            <p:cNvPr id="794" name="Rectangle 6"/>
            <p:cNvSpPr/>
            <p:nvPr/>
          </p:nvSpPr>
          <p:spPr>
            <a:xfrm>
              <a:off x="2400480" y="601812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7"/>
            <p:cNvSpPr/>
            <p:nvPr/>
          </p:nvSpPr>
          <p:spPr>
            <a:xfrm>
              <a:off x="2400480" y="6018120"/>
              <a:ext cx="594360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8"/>
          <p:cNvGrpSpPr/>
          <p:nvPr/>
        </p:nvGrpSpPr>
        <p:grpSpPr>
          <a:xfrm>
            <a:off x="800280" y="-264960"/>
            <a:ext cx="7165800" cy="6778440"/>
            <a:chOff x="800280" y="-264960"/>
            <a:chExt cx="7165800" cy="6778440"/>
          </a:xfrm>
        </p:grpSpPr>
        <p:sp>
          <p:nvSpPr>
            <p:cNvPr id="797" name="Rectangle 9"/>
            <p:cNvSpPr/>
            <p:nvPr/>
          </p:nvSpPr>
          <p:spPr>
            <a:xfrm>
              <a:off x="800280" y="-2649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10"/>
            <p:cNvSpPr/>
            <p:nvPr/>
          </p:nvSpPr>
          <p:spPr>
            <a:xfrm>
              <a:off x="800280" y="-2649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11"/>
          <p:cNvGrpSpPr/>
          <p:nvPr/>
        </p:nvGrpSpPr>
        <p:grpSpPr>
          <a:xfrm>
            <a:off x="2400480" y="6513480"/>
            <a:ext cx="5943600" cy="609480"/>
            <a:chOff x="2400480" y="6513480"/>
            <a:chExt cx="5943600" cy="609480"/>
          </a:xfrm>
        </p:grpSpPr>
        <p:sp>
          <p:nvSpPr>
            <p:cNvPr id="800" name="Rectangle 12"/>
            <p:cNvSpPr/>
            <p:nvPr/>
          </p:nvSpPr>
          <p:spPr>
            <a:xfrm>
              <a:off x="2400480" y="6513480"/>
              <a:ext cx="594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3"/>
            <p:cNvSpPr/>
            <p:nvPr/>
          </p:nvSpPr>
          <p:spPr>
            <a:xfrm>
              <a:off x="2400480" y="6513480"/>
              <a:ext cx="5943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小熊猫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 Box 14"/>
          <p:cNvSpPr/>
          <p:nvPr/>
        </p:nvSpPr>
        <p:spPr>
          <a:xfrm>
            <a:off x="2465640" y="34920"/>
            <a:ext cx="14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小 熊 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5" descr="fan503_pic0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16"/>
          <p:cNvSpPr/>
          <p:nvPr/>
        </p:nvSpPr>
        <p:spPr>
          <a:xfrm>
            <a:off x="1967040" y="-15840"/>
            <a:ext cx="1323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Times New Roman"/>
              </a:rPr>
              <a:t>小熊猫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灯片编号占位符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229E-1718-4873-AF88-0AB8800BC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页脚占位符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2" descr="fan503_pic0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8" name="Group 3"/>
          <p:cNvGrpSpPr/>
          <p:nvPr/>
        </p:nvGrpSpPr>
        <p:grpSpPr>
          <a:xfrm>
            <a:off x="800280" y="-771480"/>
            <a:ext cx="7165800" cy="6778440"/>
            <a:chOff x="800280" y="-771480"/>
            <a:chExt cx="7165800" cy="6778440"/>
          </a:xfrm>
        </p:grpSpPr>
        <p:sp>
          <p:nvSpPr>
            <p:cNvPr id="809" name="Rectangle 4"/>
            <p:cNvSpPr/>
            <p:nvPr/>
          </p:nvSpPr>
          <p:spPr>
            <a:xfrm>
              <a:off x="800280" y="-77148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5"/>
            <p:cNvSpPr/>
            <p:nvPr/>
          </p:nvSpPr>
          <p:spPr>
            <a:xfrm>
              <a:off x="800280" y="-77148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6"/>
          <p:cNvGrpSpPr/>
          <p:nvPr/>
        </p:nvGrpSpPr>
        <p:grpSpPr>
          <a:xfrm>
            <a:off x="2400480" y="6006960"/>
            <a:ext cx="5943600" cy="1600200"/>
            <a:chOff x="2400480" y="6006960"/>
            <a:chExt cx="5943600" cy="1600200"/>
          </a:xfrm>
        </p:grpSpPr>
        <p:sp>
          <p:nvSpPr>
            <p:cNvPr id="812" name="Rectangle 7"/>
            <p:cNvSpPr/>
            <p:nvPr/>
          </p:nvSpPr>
          <p:spPr>
            <a:xfrm>
              <a:off x="2400480" y="6006960"/>
              <a:ext cx="5943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8"/>
            <p:cNvSpPr/>
            <p:nvPr/>
          </p:nvSpPr>
          <p:spPr>
            <a:xfrm>
              <a:off x="2400480" y="6006960"/>
              <a:ext cx="281304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9"/>
          <p:cNvSpPr/>
          <p:nvPr/>
        </p:nvSpPr>
        <p:spPr>
          <a:xfrm>
            <a:off x="999000" y="5589720"/>
            <a:ext cx="11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cc00"/>
                </a:solidFill>
                <a:latin typeface="Times New Roman"/>
              </a:rPr>
              <a:t>豹 猫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9D7A-F53D-4CE4-8DA7-25AA6854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fan503_pic0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8" name="Group 3"/>
          <p:cNvGrpSpPr/>
          <p:nvPr/>
        </p:nvGrpSpPr>
        <p:grpSpPr>
          <a:xfrm>
            <a:off x="800280" y="-765000"/>
            <a:ext cx="7165800" cy="6778440"/>
            <a:chOff x="800280" y="-765000"/>
            <a:chExt cx="7165800" cy="6778440"/>
          </a:xfrm>
        </p:grpSpPr>
        <p:sp>
          <p:nvSpPr>
            <p:cNvPr id="819" name="Rectangle 4"/>
            <p:cNvSpPr/>
            <p:nvPr/>
          </p:nvSpPr>
          <p:spPr>
            <a:xfrm>
              <a:off x="800280" y="-76500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5"/>
            <p:cNvSpPr/>
            <p:nvPr/>
          </p:nvSpPr>
          <p:spPr>
            <a:xfrm>
              <a:off x="800280" y="-765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6"/>
          <p:cNvGrpSpPr/>
          <p:nvPr/>
        </p:nvGrpSpPr>
        <p:grpSpPr>
          <a:xfrm>
            <a:off x="800280" y="-264960"/>
            <a:ext cx="7165800" cy="6778440"/>
            <a:chOff x="800280" y="-264960"/>
            <a:chExt cx="7165800" cy="6778440"/>
          </a:xfrm>
        </p:grpSpPr>
        <p:sp>
          <p:nvSpPr>
            <p:cNvPr id="822" name="Rectangle 7"/>
            <p:cNvSpPr/>
            <p:nvPr/>
          </p:nvSpPr>
          <p:spPr>
            <a:xfrm>
              <a:off x="800280" y="-2649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8"/>
            <p:cNvSpPr/>
            <p:nvPr/>
          </p:nvSpPr>
          <p:spPr>
            <a:xfrm>
              <a:off x="800280" y="-2649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9"/>
          <p:cNvGrpSpPr/>
          <p:nvPr/>
        </p:nvGrpSpPr>
        <p:grpSpPr>
          <a:xfrm>
            <a:off x="800280" y="-264960"/>
            <a:ext cx="7165800" cy="6778440"/>
            <a:chOff x="800280" y="-264960"/>
            <a:chExt cx="7165800" cy="6778440"/>
          </a:xfrm>
        </p:grpSpPr>
        <p:sp>
          <p:nvSpPr>
            <p:cNvPr id="825" name="Rectangle 10"/>
            <p:cNvSpPr/>
            <p:nvPr/>
          </p:nvSpPr>
          <p:spPr>
            <a:xfrm>
              <a:off x="800280" y="-26496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"/>
            <p:cNvSpPr/>
            <p:nvPr/>
          </p:nvSpPr>
          <p:spPr>
            <a:xfrm>
              <a:off x="800280" y="-26496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2"/>
          <p:cNvGrpSpPr/>
          <p:nvPr/>
        </p:nvGrpSpPr>
        <p:grpSpPr>
          <a:xfrm>
            <a:off x="1219320" y="685800"/>
            <a:ext cx="1143000" cy="609480"/>
            <a:chOff x="1219320" y="685800"/>
            <a:chExt cx="1143000" cy="609480"/>
          </a:xfrm>
        </p:grpSpPr>
        <p:sp>
          <p:nvSpPr>
            <p:cNvPr id="828" name="Rectangle 13"/>
            <p:cNvSpPr/>
            <p:nvPr/>
          </p:nvSpPr>
          <p:spPr>
            <a:xfrm>
              <a:off x="1219320" y="685800"/>
              <a:ext cx="114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4"/>
            <p:cNvSpPr/>
            <p:nvPr/>
          </p:nvSpPr>
          <p:spPr>
            <a:xfrm>
              <a:off x="1219320" y="685800"/>
              <a:ext cx="181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猕猴和红豆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15"/>
          <p:cNvGrpSpPr/>
          <p:nvPr/>
        </p:nvGrpSpPr>
        <p:grpSpPr>
          <a:xfrm>
            <a:off x="800280" y="-765000"/>
            <a:ext cx="7165800" cy="6778440"/>
            <a:chOff x="800280" y="-765000"/>
            <a:chExt cx="7165800" cy="6778440"/>
          </a:xfrm>
        </p:grpSpPr>
        <p:sp>
          <p:nvSpPr>
            <p:cNvPr id="831" name="Rectangle 16"/>
            <p:cNvSpPr/>
            <p:nvPr/>
          </p:nvSpPr>
          <p:spPr>
            <a:xfrm>
              <a:off x="800280" y="-765000"/>
              <a:ext cx="7165800" cy="67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7"/>
            <p:cNvSpPr/>
            <p:nvPr/>
          </p:nvSpPr>
          <p:spPr>
            <a:xfrm>
              <a:off x="800280" y="-765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18"/>
          <p:cNvGrpSpPr/>
          <p:nvPr/>
        </p:nvGrpSpPr>
        <p:grpSpPr>
          <a:xfrm>
            <a:off x="2400480" y="6013440"/>
            <a:ext cx="5943600" cy="1585800"/>
            <a:chOff x="2400480" y="6013440"/>
            <a:chExt cx="5943600" cy="1585800"/>
          </a:xfrm>
        </p:grpSpPr>
        <p:sp>
          <p:nvSpPr>
            <p:cNvPr id="834" name="Rectangle 19"/>
            <p:cNvSpPr/>
            <p:nvPr/>
          </p:nvSpPr>
          <p:spPr>
            <a:xfrm>
              <a:off x="2400480" y="6013440"/>
              <a:ext cx="59436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20"/>
            <p:cNvSpPr/>
            <p:nvPr/>
          </p:nvSpPr>
          <p:spPr>
            <a:xfrm>
              <a:off x="2400480" y="6013440"/>
              <a:ext cx="2809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Text Box 21"/>
          <p:cNvSpPr/>
          <p:nvPr/>
        </p:nvSpPr>
        <p:spPr>
          <a:xfrm>
            <a:off x="1144440" y="223920"/>
            <a:ext cx="246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cc33"/>
                </a:solidFill>
                <a:latin typeface="Times New Roman"/>
              </a:rPr>
              <a:t>猕猴和红豆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灯片编号占位符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0A9-AE25-4EAC-8F23-2AF13E52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2" descr="vap_pic02b"/>
          <p:cNvPicPr/>
          <p:nvPr/>
        </p:nvPicPr>
        <p:blipFill>
          <a:blip r:embed="rId1"/>
          <a:srcRect l="0" t="0" r="0" b="929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Group 3"/>
          <p:cNvGrpSpPr/>
          <p:nvPr/>
        </p:nvGrpSpPr>
        <p:grpSpPr>
          <a:xfrm>
            <a:off x="988920" y="2160720"/>
            <a:ext cx="7165800" cy="2536560"/>
            <a:chOff x="988920" y="2160720"/>
            <a:chExt cx="7165800" cy="2536560"/>
          </a:xfrm>
        </p:grpSpPr>
        <p:sp>
          <p:nvSpPr>
            <p:cNvPr id="841" name="Rectangle 4"/>
            <p:cNvSpPr/>
            <p:nvPr/>
          </p:nvSpPr>
          <p:spPr>
            <a:xfrm>
              <a:off x="988920" y="216072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2" name="Group 5"/>
            <p:cNvGrpSpPr/>
            <p:nvPr/>
          </p:nvGrpSpPr>
          <p:grpSpPr>
            <a:xfrm>
              <a:off x="988920" y="2160720"/>
              <a:ext cx="5943600" cy="2536560"/>
              <a:chOff x="988920" y="2160720"/>
              <a:chExt cx="5943600" cy="2536560"/>
            </a:xfrm>
          </p:grpSpPr>
          <p:sp>
            <p:nvSpPr>
              <p:cNvPr id="843" name="Rectangle 6"/>
              <p:cNvSpPr/>
              <p:nvPr/>
            </p:nvSpPr>
            <p:spPr>
              <a:xfrm>
                <a:off x="988920" y="2160720"/>
                <a:ext cx="5943600" cy="253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7"/>
              <p:cNvSpPr/>
              <p:nvPr/>
            </p:nvSpPr>
            <p:spPr>
              <a:xfrm>
                <a:off x="988920" y="2160720"/>
                <a:ext cx="2816280" cy="16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80"/>
                    </a:solidFill>
                    <a:latin typeface="Times New Roman"/>
                  </a:rPr>
                  <a:t>  </a:t>
                </a:r>
                <a:r>
                  <a:rPr b="0" lang="en-US" sz="10000" spc="-1" strike="noStrike">
                    <a:solidFill>
                      <a:srgbClr val="00008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80"/>
                    </a:solidFill>
                    <a:latin typeface="Times New Roman"/>
                  </a:rPr>
                  <a:t>                                                                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Text Box 8"/>
          <p:cNvSpPr/>
          <p:nvPr/>
        </p:nvSpPr>
        <p:spPr>
          <a:xfrm>
            <a:off x="4436640" y="147600"/>
            <a:ext cx="18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99"/>
                </a:solidFill>
                <a:latin typeface="Times New Roman"/>
              </a:rPr>
              <a:t>帕隆藏布江畔</a:t>
            </a:r>
            <a:br>
              <a:rPr sz="3600"/>
            </a:br>
            <a:r>
              <a:rPr b="0" lang="zh-CN" sz="36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9966"/>
                </a:solidFill>
                <a:latin typeface="Times New Roman"/>
              </a:rPr>
              <a:t>百里桃花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9"/>
          <p:cNvGrpSpPr/>
          <p:nvPr/>
        </p:nvGrpSpPr>
        <p:grpSpPr>
          <a:xfrm>
            <a:off x="263520" y="1989000"/>
            <a:ext cx="7165800" cy="360"/>
            <a:chOff x="263520" y="1989000"/>
            <a:chExt cx="7165800" cy="360"/>
          </a:xfrm>
        </p:grpSpPr>
        <p:sp>
          <p:nvSpPr>
            <p:cNvPr id="847" name="Rectangle 10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11"/>
            <p:cNvSpPr/>
            <p:nvPr/>
          </p:nvSpPr>
          <p:spPr>
            <a:xfrm>
              <a:off x="263520" y="1989000"/>
              <a:ext cx="7165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灯片编号占位符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F9FD-5AE5-4CBE-BFEE-A8E34F72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 Box 3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3B9A-94BB-4B06-9127-49755F1C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vp2005-denny907-050815-39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/>
          <p:cNvSpPr/>
          <p:nvPr/>
        </p:nvSpPr>
        <p:spPr>
          <a:xfrm>
            <a:off x="2076840" y="32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达拉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CB61-FC2C-430E-9226-20D477D6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2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5"/>
          <p:cNvSpPr/>
          <p:nvPr/>
        </p:nvSpPr>
        <p:spPr>
          <a:xfrm>
            <a:off x="4046400" y="76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珠穆朗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6"/>
          <p:cNvSpPr/>
          <p:nvPr/>
        </p:nvSpPr>
        <p:spPr>
          <a:xfrm>
            <a:off x="4386240" y="1660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号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4424400" y="257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山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8"/>
          <p:cNvSpPr/>
          <p:nvPr/>
        </p:nvSpPr>
        <p:spPr>
          <a:xfrm>
            <a:off x="4348080" y="3489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游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4122720" y="4419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滔江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0"/>
          <p:cNvSpPr/>
          <p:nvPr/>
        </p:nvSpPr>
        <p:spPr>
          <a:xfrm>
            <a:off x="4348080" y="531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水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84D7-854C-4A54-AD57-6D289DF1B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根据意思选择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0" y="11271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不允许提出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形容姿态多种多样，各不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很少有人去的荒僻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2514600" y="20574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不容置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2514600" y="3870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千姿百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2514600" y="56228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人迹罕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13F7-6473-4E2F-9DC0-39391649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3160"/>
          </a:xfrm>
          <a:prstGeom prst="rect">
            <a:avLst/>
          </a:prstGeom>
          <a:ln w="0">
            <a:noFill/>
          </a:ln>
        </p:spPr>
      </p:pic>
      <p:sp>
        <p:nvSpPr>
          <p:cNvPr id="87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F30-D84D-4FEF-913E-EC82DAED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7"/>
          <p:cNvGrpSpPr/>
          <p:nvPr/>
        </p:nvGrpSpPr>
        <p:grpSpPr>
          <a:xfrm>
            <a:off x="1135080" y="847800"/>
            <a:ext cx="6875280" cy="4997520"/>
            <a:chOff x="1135080" y="847800"/>
            <a:chExt cx="6875280" cy="4997520"/>
          </a:xfrm>
        </p:grpSpPr>
        <p:sp>
          <p:nvSpPr>
            <p:cNvPr id="479" name="Rectangle 2"/>
            <p:cNvSpPr/>
            <p:nvPr/>
          </p:nvSpPr>
          <p:spPr>
            <a:xfrm>
              <a:off x="1135080" y="847800"/>
              <a:ext cx="4232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Group 6"/>
            <p:cNvGrpSpPr/>
            <p:nvPr/>
          </p:nvGrpSpPr>
          <p:grpSpPr>
            <a:xfrm>
              <a:off x="1135080" y="847800"/>
              <a:ext cx="6875280" cy="4997520"/>
              <a:chOff x="1135080" y="847800"/>
              <a:chExt cx="6875280" cy="4997520"/>
            </a:xfrm>
          </p:grpSpPr>
          <p:sp>
            <p:nvSpPr>
              <p:cNvPr id="481" name="Rectangle 5"/>
              <p:cNvSpPr/>
              <p:nvPr/>
            </p:nvSpPr>
            <p:spPr>
              <a:xfrm>
                <a:off x="1135080" y="847800"/>
                <a:ext cx="6875280" cy="499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3"/>
              <p:cNvSpPr/>
              <p:nvPr/>
            </p:nvSpPr>
            <p:spPr>
              <a:xfrm>
                <a:off x="1168200" y="936720"/>
                <a:ext cx="6841800" cy="473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ea typeface="normal 宋体"/>
                    <a:hlinkClick r:id="rId1"/>
                  </a:rPr>
                  <a:t>  </a:t>
                </a:r>
                <a:r>
                  <a:rPr b="0" lang="en-US" sz="31600" spc="-1" strike="noStrike">
                    <a:solidFill>
                      <a:srgbClr val="333333"/>
                    </a:solidFill>
                    <a:latin typeface="Arial"/>
                    <a:ea typeface="normal 宋体"/>
                  </a:rPr>
                  <a:t> 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Arial"/>
                    <a:ea typeface="normal 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3" name="Picture 4" descr="珠穆朗玛峰（申精）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8"/>
          <p:cNvSpPr/>
          <p:nvPr/>
        </p:nvSpPr>
        <p:spPr>
          <a:xfrm>
            <a:off x="311400" y="-502920"/>
            <a:ext cx="310500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珠穆朗玛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世界最高的山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E0EF-B58F-4DBA-90A9-042A4C87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ylzbj_000"/>
          <p:cNvPicPr/>
          <p:nvPr/>
        </p:nvPicPr>
        <p:blipFill>
          <a:blip r:embed="rId1"/>
          <a:stretch/>
        </p:blipFill>
        <p:spPr>
          <a:xfrm>
            <a:off x="0" y="114480"/>
            <a:ext cx="4419720" cy="3323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" descr="ylzbj_001"/>
          <p:cNvPicPr/>
          <p:nvPr/>
        </p:nvPicPr>
        <p:blipFill>
          <a:blip r:embed="rId2"/>
          <a:stretch/>
        </p:blipFill>
        <p:spPr>
          <a:xfrm>
            <a:off x="4800600" y="152280"/>
            <a:ext cx="4343400" cy="3268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0" descr="ylzbj_002"/>
          <p:cNvPicPr/>
          <p:nvPr/>
        </p:nvPicPr>
        <p:blipFill>
          <a:blip r:embed="rId3"/>
          <a:stretch/>
        </p:blipFill>
        <p:spPr>
          <a:xfrm>
            <a:off x="0" y="38098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8" descr="ylzbj_026"/>
          <p:cNvPicPr/>
          <p:nvPr/>
        </p:nvPicPr>
        <p:blipFill>
          <a:blip r:embed="rId4"/>
          <a:stretch/>
        </p:blipFill>
        <p:spPr>
          <a:xfrm>
            <a:off x="4952880" y="3741840"/>
            <a:ext cx="4191120" cy="296388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34"/>
          <p:cNvSpPr/>
          <p:nvPr/>
        </p:nvSpPr>
        <p:spPr>
          <a:xfrm>
            <a:off x="380988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雅鲁藏布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D6EC-6459-4B02-96C7-4E2852E2E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40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8"/>
          <p:cNvGrpSpPr/>
          <p:nvPr/>
        </p:nvGrpSpPr>
        <p:grpSpPr>
          <a:xfrm>
            <a:off x="1224000" y="1790640"/>
            <a:ext cx="6697440" cy="3276720"/>
            <a:chOff x="1224000" y="1790640"/>
            <a:chExt cx="6697440" cy="3276720"/>
          </a:xfrm>
        </p:grpSpPr>
        <p:sp>
          <p:nvSpPr>
            <p:cNvPr id="496" name="Rectangle 7"/>
            <p:cNvSpPr/>
            <p:nvPr/>
          </p:nvSpPr>
          <p:spPr>
            <a:xfrm>
              <a:off x="1224000" y="1790640"/>
              <a:ext cx="6697440" cy="327672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Group 6"/>
            <p:cNvGrpSpPr/>
            <p:nvPr/>
          </p:nvGrpSpPr>
          <p:grpSpPr>
            <a:xfrm>
              <a:off x="1224000" y="1790640"/>
              <a:ext cx="6697080" cy="3276720"/>
              <a:chOff x="1224000" y="1790640"/>
              <a:chExt cx="6697080" cy="3276720"/>
            </a:xfrm>
          </p:grpSpPr>
          <p:sp>
            <p:nvSpPr>
              <p:cNvPr id="498" name="Rectangle 3"/>
              <p:cNvSpPr/>
              <p:nvPr/>
            </p:nvSpPr>
            <p:spPr>
              <a:xfrm>
                <a:off x="1224000" y="1790640"/>
                <a:ext cx="669708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4"/>
              <p:cNvSpPr/>
              <p:nvPr/>
            </p:nvSpPr>
            <p:spPr>
              <a:xfrm>
                <a:off x="1224000" y="1790640"/>
                <a:ext cx="6048360" cy="327672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99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0" name="Picture 5" descr="科技时代_中国最美十大峡谷：雅鲁藏布大峡谷(图)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8690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9"/>
          <p:cNvSpPr/>
          <p:nvPr/>
        </p:nvSpPr>
        <p:spPr>
          <a:xfrm>
            <a:off x="76212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661760" y="30492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最深最长的河流峡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雅鲁藏布大峡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F424-4830-4CAF-9F0E-209BD1202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6"/>
          <p:cNvSpPr/>
          <p:nvPr/>
        </p:nvSpPr>
        <p:spPr>
          <a:xfrm>
            <a:off x="4800600" y="1295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cc0066"/>
                </a:solidFill>
                <a:latin typeface="黑体"/>
                <a:ea typeface="黑体"/>
              </a:rPr>
              <a:t>有关雅鲁藏布大峡谷你都知道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E50-ABC2-4150-A656-20FDDF5EC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fan201_pic01b"/>
          <p:cNvPicPr/>
          <p:nvPr/>
        </p:nvPicPr>
        <p:blipFill>
          <a:blip r:embed="rId1"/>
          <a:srcRect l="0" t="0" r="0" b="9333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>
            <a:off x="1503000" y="228600"/>
            <a:ext cx="621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完全文，你觉得文中哪几个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能体现大峡谷的特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1486800" y="198108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壮丽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6344640" y="1752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奇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EAFC-D1AD-4839-A678-A42C663A4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绿色圃中小学教育网|http://www.lspjy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9:41Z</dcterms:modified>
  <cp:revision>48</cp:revision>
  <dc:subject>绿色圃中小学教育网|http://www.lspjy.com</dc:subject>
  <dc:title>绿色圃中小学教育网|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