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6D70-5C30-4A79-961B-5B0957DB7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0877-2996-40E0-9BD4-277BBB5A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D35D1-164F-4FE4-86E4-639A345E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508AE-5C20-4E2D-946C-D842FC71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93D2F-32EB-4CC1-B34D-839A019E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937E4-A388-4BE2-B72A-981782D8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CCADF4-E063-4766-B79B-2B9BB173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AB447-6BAC-4767-86B0-8B2E7F2C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1FA75-58DB-4C82-A3C7-881F7681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CD406E-B13B-4ABC-AC93-8A10F349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43DB5-8FC9-4D2E-BFDF-FB75B5FE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22848-63A6-40F5-89FA-3A3EC615C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9C92-5862-4C6E-95B9-FA6AAC375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8727E-C241-49BD-B84D-D84DC785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38BA1-CC24-49B8-AF99-A6CC92C4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A8601-C31E-485F-8563-1D9434A9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07FCF-27EC-4547-AC5D-3C306247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A4D64-C396-4AF4-AC23-D6A681FF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F3F50-8005-4B0F-936B-45DCEA95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AC312-D820-4430-8ECB-5E761C03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46BAE-FFC3-43D1-8D30-6A88250C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61AB2F-CFB2-484B-B97A-3A88F0DD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1A91A0-2E18-4E83-839D-25840902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F6EF-291F-42F4-B51C-4DD02CAD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17028-B6F6-4A0A-8CF3-76726DEA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E13B3-5CD0-4900-886E-AA4042FA7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35C2C-29B0-4CFF-99C9-5850E89D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BC251-9C1E-4FC8-9ED1-4491A54C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DFD50-45A9-4458-BE1C-A977D6D5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04D63-CF9B-4FBB-969E-B7296099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2A752-787D-43F2-B458-46A60EBB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CE797-A123-49C5-ABFB-80B07115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CB2BF-618B-4A21-947C-7793B278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A6698-14CE-4B27-BD89-8169208D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ED14-FE34-4D08-9025-4CD346EF4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71346-EC9D-432A-A7CA-611ECCC3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006E5-52B6-440A-A1E4-072BD42C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01735-A1A4-4E55-B5A1-16A0E26C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87A46D-409A-4251-8AF8-AB16481F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B0B968-2289-459B-95A2-F1AF1F7F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1472B2-8164-45FC-9F99-860CFFA6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C7BCA-F312-4772-B074-BBF4420F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021F95-E712-4795-8C59-6C06F4D8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CD97CB-B308-4EE1-B92A-5A921E1A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71AF1E-EDCB-4299-97C9-27C003B4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5C83-D94D-4285-834C-DC15D2CD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AB0F5D-DB32-4B92-9EB7-EC52E311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4C31D-F448-49D5-8879-CEDC004E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30AC3-6994-4000-B945-3A2FFDDB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6BFEAD-6F7C-4FDB-BDBA-51A24EE87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8BCFF-0766-4B05-BA4A-D1C81A661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D6D5-9360-478A-8221-7608C0B7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50F1-11FD-41EF-80BE-00373CA2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7E81-B1C4-4F44-89FF-C95F5F1E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77EE-8D0E-4C57-8396-4152BAD8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DCAD-7147-45FF-B982-F919BE15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316C-7B49-44D2-A4B8-D5A34C90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6D98-EA46-48E4-92C9-CF85D32E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92C9-88AE-46E6-96D5-A6ECA7C4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8187-94D7-4574-B72E-B028D511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FABE-3F73-4479-AEDA-201F2AA5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544D-BDA4-4602-83C3-45127368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F8583-8CEA-49EE-9E2F-E65F238B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845FA-EF3F-4090-9E62-30CC3ACA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2201D-5DE9-434B-8E5D-2B56C80E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EBEFC-B878-4177-98AA-87E1C3BB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0DBDC-8DDC-4BE4-A430-F2578584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15DB-DA70-4B6D-AECA-4F433496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F0C8A-B47A-4548-9115-1A342AAD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3017F-E84A-41FC-A56F-9636B3CC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04FCE-4089-4A23-8E13-E61F65CF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F1AC9-D717-4107-A780-06595759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4D320-48AB-44CB-AFA9-35F1F173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B0B54-1510-4ED7-A658-EEE1529E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CF396-D3F0-4163-B02D-E9F60C84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65E15-8B26-43E6-873E-A6D74480C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62870-FC40-4389-92CC-3C84AE94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53E06-001A-49E4-A681-F9D70A93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D773-451B-4C47-BB82-A6F2F576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D23BE-9C24-4810-9BBF-DE57AC4A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D92DD-58E7-4D30-B0FA-D5552FEC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0C2C6-3036-451C-9A3D-D5544DA1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C4574-8318-48F1-9011-31697888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55588-EA4A-4A1D-885C-88E0FEA4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16FFA-BCA7-4DBD-BB66-186D0379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5540F-F6F7-4C9A-97F7-169F714E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2B725-23A2-4F59-8F2D-38DBFDE54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29D14-4785-4AE3-BB31-16FFBD64A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D4360-24EE-4077-858A-8D96247DD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A016-96E4-4CAF-A56C-DA1007E6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DAD0F-F850-4B35-AA8E-80DAE726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F5042-96D0-4EDF-B906-5743B545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6CAF3-6C6A-429D-8B95-8A9EB170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7D097-47B5-41D8-997A-F75574B9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68732-218F-48D1-A216-2A7C7A3C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C0876-C58D-497A-B1F7-D886CBFE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CCB01-E95B-444F-B1CA-12DE5A92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35B69-3640-495C-8C59-D8AB55E0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A66A5-9CA6-46EF-9AB1-5D726579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0186E-A838-4B8D-9C38-2C58A715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2618-0E7C-4812-ADEF-0CA94E24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7FFD8-CFB4-4C43-A89F-A411641B7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9F67B-EDAD-4695-A949-5372F200E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5A356-5E37-40DD-8ECE-C36D3162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E60B9-7F3F-4787-A000-767D95DD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DDC75-393C-46A3-A0C1-60525319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93822-B5DE-4126-A64B-75B4FECB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358A0-1EA7-489D-8027-0DDA0D47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60E0B-422E-4BEF-90D1-9B678B7E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4360F-8FEB-40C2-9D40-5D0DDF9A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F1A2D-37D2-4119-B028-2652E103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A26B-A665-443A-92FB-B4D20F7F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50EF8-2EC4-4AFA-8210-859C6E24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17845-417F-45C2-8275-202447096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4E171-9445-467B-AD59-BB06DF9F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C690A-0769-43A6-98A6-424B84E61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440B4-A632-47C3-8041-33FFC0FC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FE95F-1324-4EDB-9586-A3A26F25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1DFEE-1FB3-44E4-AE4F-F126E228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5D462-8782-4715-BEBD-79BB1544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B5FEB-3F8C-4211-AD29-A7EE9157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6A33E-4488-47A6-B9CE-E2A3DC7E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23AD-8C42-44F2-9A79-7BF9EE43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65D43-8151-4F35-97D4-A832B31A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4F3F3-8A96-452D-A37E-0B09ECB1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665B7-5E1B-4AF3-BC22-3C8E83E3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EB620-E05B-46A4-A117-CB2F2941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D9DF1-69B6-4A9D-818C-E77B2C2A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78284-918B-471C-B714-0302C721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2F4FA-1269-4769-B5A1-A444A4DF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667DC-BADA-4A65-986F-CC3DE15C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D1D4D-378E-41E6-B654-01C9E18C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7DF5D-B119-4D83-968E-6ACD4D07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81FF-1CB6-43D1-807C-20A2963E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0AE1E-BE97-4364-BE67-1B6DB430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ECE72-E6DC-406E-B888-59678078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1FB2D-ECDA-4F98-BA17-90D71886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8636B-31A2-46B1-AE40-E57A087C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C2D22-AA9B-4C40-8CA6-32A46529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00BDE-1EC4-4719-A81C-F68F8FDA3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1D17B-5FF6-4C33-8219-EE8DDA4D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D6906-4FC9-46E5-A421-8A06237A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05FF3-4629-4B74-B53C-B7313C5A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F5D87-B6CD-4BEA-87C1-56EFD7B4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0844-01E9-4E01-B3D8-8444BF04B79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658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9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660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9218-23B4-41CE-9C28-66AC9AA92D0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3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3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73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A5AC-C764-420E-A228-6CDB2D59FCE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80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05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80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1D30-E59E-4A69-8CF5-3EAB329AF22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BCD1-D5E2-4C4A-A954-1869B52AFAC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47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8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149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4249-4C37-4505-BA11-81EA2EE50D5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220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1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222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994A-65D1-4309-92E0-91FF3A9E510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293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295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CE35-4A8E-4F04-8048-7573D46812C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366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7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68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FD40-96C8-41FA-98E6-E38A3B46773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439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0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441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B9A0-545E-45B3-87D0-589337C49D3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512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3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514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F67B-0C54-4BBE-80D9-1F5C7D24B83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585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6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587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4F26-6C84-441F-846F-9042493775A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Text Box 2"/>
          <p:cNvSpPr/>
          <p:nvPr/>
        </p:nvSpPr>
        <p:spPr>
          <a:xfrm>
            <a:off x="3124080" y="2666880"/>
            <a:ext cx="511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华文隶书"/>
                <a:ea typeface="华文隶书"/>
              </a:rPr>
              <a:t>长  城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灯片编号占位符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FC16-3FA7-4B0B-8D31-0D13FAD2EE1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页脚占位符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矩形 4"/>
          <p:cNvSpPr/>
          <p:nvPr/>
        </p:nvSpPr>
        <p:spPr>
          <a:xfrm>
            <a:off x="0" y="0"/>
            <a:ext cx="62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绿色圃中小学教育网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lspjy.com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矩形 5"/>
          <p:cNvSpPr/>
          <p:nvPr/>
        </p:nvSpPr>
        <p:spPr>
          <a:xfrm>
            <a:off x="4386240" y="337500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Picture 2" descr="laolongto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5" name="灯片编号占位符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22EC-CF2D-4E79-B973-091CC9918F7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页脚占位符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Picture 2" descr="jiaosh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8" name="灯片编号占位符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468F-FEC4-442F-8569-E675146BC4E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页脚占位符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矩形 4"/>
          <p:cNvSpPr/>
          <p:nvPr/>
        </p:nvSpPr>
        <p:spPr>
          <a:xfrm>
            <a:off x="0" y="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绿色圃中小学教育网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lspjy.com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矩形 5"/>
          <p:cNvSpPr/>
          <p:nvPr/>
        </p:nvSpPr>
        <p:spPr>
          <a:xfrm>
            <a:off x="4386240" y="337500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4" descr="x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3" name="灯片编号占位符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7593-7BF4-44E1-9D74-06E35E0D613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页脚占位符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Text Box 2"/>
          <p:cNvSpPr/>
          <p:nvPr/>
        </p:nvSpPr>
        <p:spPr>
          <a:xfrm>
            <a:off x="1219320" y="609480"/>
            <a:ext cx="761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远看长城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,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像一条长龙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,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在崇山峻岭之间盘旋。从东头的山海关到西头的嘉峪关，有一万三千里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灯片编号占位符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CE9B-DFF4-4806-8CFC-ED6C93D67F7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页脚占位符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Picture 2" descr="c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9" name="Text Box 3"/>
          <p:cNvSpPr/>
          <p:nvPr/>
        </p:nvSpPr>
        <p:spPr>
          <a:xfrm>
            <a:off x="5562720" y="6858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经典黑体简"/>
              </a:rPr>
              <a:t>高大坚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Text Box 4"/>
          <p:cNvSpPr/>
          <p:nvPr/>
        </p:nvSpPr>
        <p:spPr>
          <a:xfrm>
            <a:off x="5257800" y="5638680"/>
            <a:ext cx="1676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经典黑体简"/>
              </a:rPr>
              <a:t>城墙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Text Box 5"/>
          <p:cNvSpPr/>
          <p:nvPr/>
        </p:nvSpPr>
        <p:spPr>
          <a:xfrm>
            <a:off x="838080" y="43434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经典黑体简"/>
              </a:rPr>
              <a:t>垛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Text Box 6"/>
          <p:cNvSpPr/>
          <p:nvPr/>
        </p:nvSpPr>
        <p:spPr>
          <a:xfrm>
            <a:off x="2286000" y="2590920"/>
            <a:ext cx="1219320" cy="70344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经典黑体简"/>
              </a:rPr>
              <a:t>城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灯片编号占位符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BD34-AACA-4B1F-9C27-42161E2F7FD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页脚占位符 9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Text Box 2"/>
          <p:cNvSpPr/>
          <p:nvPr/>
        </p:nvSpPr>
        <p:spPr>
          <a:xfrm>
            <a:off x="1295280" y="60948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经典黑体简"/>
              </a:rPr>
              <a:t>      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经典黑体简"/>
              </a:rPr>
              <a:t>站在长城上，踏着脚下的方砖，扶着墙上的条石，很自然地想起古代修筑长城的劳动人民来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Text Box 3"/>
          <p:cNvSpPr/>
          <p:nvPr/>
        </p:nvSpPr>
        <p:spPr>
          <a:xfrm>
            <a:off x="1295280" y="609480"/>
            <a:ext cx="754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经典黑体简"/>
              </a:rPr>
              <a:t>      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经典黑体简"/>
              </a:rPr>
              <a:t>站在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经典黑体简"/>
              </a:rPr>
              <a:t>长城上，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经典黑体简"/>
              </a:rPr>
              <a:t>踏着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经典黑体简"/>
              </a:rPr>
              <a:t>脚下的方砖，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经典黑体简"/>
              </a:rPr>
              <a:t>扶着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经典黑体简"/>
              </a:rPr>
              <a:t>墙上的条石，很自然地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经典黑体简"/>
              </a:rPr>
              <a:t>想起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经典黑体简"/>
              </a:rPr>
              <a:t>古代修筑长城的劳动人民来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灯片编号占位符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2413-83CB-4E1D-B6D8-403A576D743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页脚占位符 6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Text Box 2"/>
          <p:cNvSpPr/>
          <p:nvPr/>
        </p:nvSpPr>
        <p:spPr>
          <a:xfrm>
            <a:off x="1295280" y="60948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经典黑体简"/>
              </a:rPr>
              <a:t>           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经典黑体简"/>
              </a:rPr>
              <a:t>多少劳动人民的血汗和智慧，才凝结成这前不见头、后不见尾的万里长城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Text Box 3"/>
          <p:cNvSpPr/>
          <p:nvPr/>
        </p:nvSpPr>
        <p:spPr>
          <a:xfrm>
            <a:off x="1295280" y="60948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经典黑体简"/>
              </a:rPr>
              <a:t>           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经典黑体简"/>
              </a:rPr>
              <a:t>多少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经典黑体简"/>
              </a:rPr>
              <a:t>劳动人民的血汗和智慧，才凝结成这前不见头、后不见尾的万里长城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灯片编号占位符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6811-135C-4DCA-842D-4539EB79CA9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页脚占位符 6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Picture 2" descr="d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4" name="灯片编号占位符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115B-EC1D-43E4-919F-972AFD45C37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页脚占位符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Picture 1026" descr="d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2" name="灯片编号占位符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874B-8359-4E0C-A07E-797E05AFA42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页脚占位符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Picture 2" descr="gw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5" name="灯片编号占位符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7848-9E67-4BAF-A67C-C4FDE709269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页脚占位符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Picture 2" descr="c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8" name="灯片编号占位符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B386-EF4A-4B58-B33C-86FC08399B6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页脚占位符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Text Box 2"/>
          <p:cNvSpPr/>
          <p:nvPr/>
        </p:nvSpPr>
        <p:spPr>
          <a:xfrm>
            <a:off x="914400" y="609480"/>
            <a:ext cx="380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崇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山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峻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岭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Text Box 3"/>
          <p:cNvSpPr/>
          <p:nvPr/>
        </p:nvSpPr>
        <p:spPr>
          <a:xfrm>
            <a:off x="4724280" y="533520"/>
            <a:ext cx="381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蜿蜒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盘旋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914400" y="18288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嘉峪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关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3733920" y="175248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城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砖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Text Box 6"/>
          <p:cNvSpPr/>
          <p:nvPr/>
        </p:nvSpPr>
        <p:spPr>
          <a:xfrm>
            <a:off x="6095880" y="1752480"/>
            <a:ext cx="198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垛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子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Text Box 7"/>
          <p:cNvSpPr/>
          <p:nvPr/>
        </p:nvSpPr>
        <p:spPr>
          <a:xfrm>
            <a:off x="1219320" y="3352680"/>
            <a:ext cx="19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屯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兵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Text Box 8"/>
          <p:cNvSpPr/>
          <p:nvPr/>
        </p:nvSpPr>
        <p:spPr>
          <a:xfrm>
            <a:off x="3886200" y="327672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堡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垒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Text Box 9"/>
          <p:cNvSpPr/>
          <p:nvPr/>
        </p:nvSpPr>
        <p:spPr>
          <a:xfrm>
            <a:off x="6400800" y="327672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陡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峭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Text Box 10"/>
          <p:cNvSpPr/>
          <p:nvPr/>
        </p:nvSpPr>
        <p:spPr>
          <a:xfrm>
            <a:off x="1371600" y="480060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凝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结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Text Box 11"/>
          <p:cNvSpPr/>
          <p:nvPr/>
        </p:nvSpPr>
        <p:spPr>
          <a:xfrm>
            <a:off x="4800600" y="4648320"/>
            <a:ext cx="380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气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魄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雄伟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灯片编号占位符 1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D629-318B-437A-9F3C-0A5737DD793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页脚占位符 1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Text Box 2"/>
          <p:cNvSpPr/>
          <p:nvPr/>
        </p:nvSpPr>
        <p:spPr>
          <a:xfrm>
            <a:off x="1219320" y="609480"/>
            <a:ext cx="761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远看长城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,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像一条长龙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,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在崇山峻岭之间盘旋。从东头的山海关到西头的嘉峪关，有一万三千里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灯片编号占位符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E74B-3FD9-470C-862B-7E06BF528D3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页脚占位符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Picture 2" descr="mc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6" name="灯片编号占位符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B692-3426-4076-840A-A10CB06A698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页脚占位符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Picture 2" descr="jiayugu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9" name="灯片编号占位符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3877-11B9-4437-915C-67F0A4AB6B9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页脚占位符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Picture 2" descr="shanhaigu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2" name="灯片编号占位符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2F7A-4D3B-47D7-8D8C-A532D36EE67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页脚占位符 5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3T13:12:35Z</dcterms:created>
  <dc:creator>绿色圃中小学教育网|http://www.lspjy.com; user</dc:creator>
  <dc:description>绿色圃中小学教育网|http://www.lspjy.com</dc:description>
  <cp:keywords>绿色圃中小学教育网|http:/www.lspjy.com</cp:keywords>
  <dc:language>en-US</dc:language>
  <cp:lastModifiedBy>Administrator</cp:lastModifiedBy>
  <dcterms:modified xsi:type="dcterms:W3CDTF">2015-10-07T14:00:25Z</dcterms:modified>
  <cp:revision>16</cp:revision>
  <dc:subject>绿色圃中小学教育网|http://www.lspjy.com</dc:subject>
  <dc:title>绿色圃中小学教育网|http://www.lspjy.com</dc:title>
</cp:coreProperties>
</file>