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7.jpeg" ContentType="image/jpeg"/>
  <Override PartName="/ppt/media/image18.png" ContentType="image/png"/>
  <Override PartName="/ppt/media/image11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23.gif" ContentType="image/gif"/>
  <Override PartName="/ppt/media/image17.jpeg" ContentType="image/jpeg"/>
  <Override PartName="/ppt/media/image19.png" ContentType="image/png"/>
  <Override PartName="/ppt/media/image16.gif" ContentType="image/gif"/>
  <Override PartName="/ppt/media/image2.jpeg" ContentType="image/jpeg"/>
  <Override PartName="/ppt/media/image3.gif" ContentType="image/gif"/>
  <Override PartName="/ppt/media/image4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7F33-430A-4227-9CA6-DD3BF75B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C23B-67E1-42B6-BC81-DDE2800AE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371E-8AF8-49E3-AF55-893D02A8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851-0CF5-4103-8524-DA675CB9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799-8C77-4DBF-983C-37A0410E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84D-8A47-4561-AD04-B33716C6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B0C-7AA7-49A1-9634-CF206C1F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CE1-805A-4A03-923A-B11A3EA6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8F24F-202A-4C37-9A55-31EF8E5D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96AA3-EA5F-4A7F-98FF-4D0A31F8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36635-DAC4-4F4B-9421-ABF49757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6F7B7-1DC9-41E2-BA25-7BF44D5C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83847-36AC-4818-BD16-5A6C504F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0379F-30AF-4EB4-B121-6B7D404E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B64A5-213D-4AA6-9B8D-DDB46316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4CB9E-9D23-4382-B7D0-D233884E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4870-DD23-4DBB-80A1-62A84582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8121C-7865-463E-9B58-8AA293B2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BFC-3BC1-400D-A009-B58EACF7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FFB1E-78A9-43F5-A337-8EE7614A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21D10-12C0-415F-9FE9-61E6E85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895A3-2E73-4086-8A86-D0C607B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1537D-75AE-41D5-97A0-78FB41AA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28401-8EC7-462E-A2CA-17B44B09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06DEC-C866-46F8-A1C0-0EB45856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97E13-827E-491E-9B9E-E05F98B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2224B-95B5-47F8-99FB-8757F3C4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21316-2EAB-4A9B-B94F-EC16F5A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0D3B2-EEA3-41B4-9DBB-E418F9A2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E4E-58EF-40D1-8F61-9933B91F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87447-3B2B-462A-A628-69176825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1CFAC-D15D-41E0-9151-C037CC9A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2C208-7277-4555-B9A7-216F557D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7F1EC-86DB-4002-8A41-70CABFCC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3EE08-B4F6-40CF-9A44-5847DC5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5086-3FE3-4CAD-B6AC-36BAD7D1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69411-BD39-4041-AE17-BC99880C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DECD8-EBE0-4757-AA11-960E7BA1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54700-CF95-4C1B-B469-5A63A8C3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28216-3C74-40D9-BAC8-23D5EE37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FC93-4B1F-4D8F-975F-0145FBE8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1FC98-0F0F-4DF1-88A2-2FAAA31E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B7CEA-46A2-46B0-8148-3BCA0C0D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6279D-31D8-4246-8540-83888CEE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68B54-2944-48F4-B7AD-65703986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BDF9A-A09B-4E05-B7DC-05FA1C39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09CA14-CEC1-4830-AFB3-7FA1DEB7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0DF09-B966-46F3-BDB4-B1CC47B9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1DC9E-F374-456D-B9E1-EE040B99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19847-74B8-4EAB-943C-0223A26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CADA1-81B8-4254-8688-120D9A9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EEF4-0AEB-4E5B-A3A9-E29CC56A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49A6A-6E1A-4161-87BB-4AEF373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3CAFF-BB6E-47E5-A597-7974D88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72156-1B32-431B-B761-05A46A7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B7D76-3469-4AF8-930B-0EF9D0BC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DF9B4-D648-4B25-B798-F3AEF257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6A0-DB77-40FD-BC8E-07347594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59D8-E97C-47BB-9488-82CFB9DC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374A-6668-45EF-9144-28A5F3C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5E5F-AC01-40D2-9950-EF4E1959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5AB-7CB2-4198-9A3A-64CBB941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ECC-5F44-4678-8BFA-2FA77EB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CDE-298B-48DB-BBAE-82B7DCC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F6E-929F-4876-AA17-B16DCFD5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CA3A-D873-4242-A789-99C4C1A6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9691-2659-461A-8D08-707D7CE8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000-C424-4F7C-83FF-309569DB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AA4FA-787A-482F-996D-6A9DE197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ED20-5DAD-423D-B174-D5BD7F6A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EE08-98EF-4C83-BBFF-55172FE0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6D2E7-D5ED-48EF-936F-853647A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BD40-34F0-417F-AAF6-76562D95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AAF-7567-47FD-AF55-9E993FA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2D56-04D4-432C-95C0-192323C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6641-8A93-4602-BFB8-AEB42DE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8935-AA84-44CA-84B5-ABBF05C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B6791-4450-425C-8071-10771DF3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9D90-B292-4553-AFD6-CFD9EDEC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4419-2EFC-49EF-828A-0FB821E2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C009-7BF1-4EA4-9AE9-13680E42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7318A-A43A-4043-A235-255CEFB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EB7D-E5D4-4B4D-A75B-C0CBE9A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136D-7464-4C5A-83CD-5903222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EAA-376F-46D2-A548-C2E1070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0842-EBC9-4610-9C40-2C1CB4D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7C6A1-5A55-49B9-B907-DE819993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FCD5-3519-46E4-85E4-D1BA8CB6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9AD57-B317-4F7C-B5DA-07760A37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B5FB-F81A-46D5-BDE3-0C2EC69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1784-F8EA-4B97-B975-F1A154A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BC8A-37BC-4D00-8258-0157D03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2BEA-6F96-4136-8812-9098F577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6BD3C-ABAC-400B-A4D7-120D8372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2940E-1B83-41B7-87D8-72A85466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A30-95D4-4668-BE42-BF6F4772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B4BF-E47B-4197-A1A2-91A52DB4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6D896-6691-427F-9175-DCD39CAD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26ED-EFCD-4D11-AEB9-FCD048CB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C498-83B9-42A0-9484-5B11C6E7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753EA-7237-4B7F-A712-F309FC60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0D87-3809-450D-AA15-52A2E645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ACCE3-8054-49DD-B0ED-8709FF3A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7439-ACDE-4A7A-A8A6-45F64B4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4E55F-D038-41E9-9EDC-6A8ACFF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DAA5-5793-4FD5-BD99-E66CE81E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824-CA18-4B3E-B052-C318CDB4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F37A-455F-43FE-98D6-D7B3ED82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E7E7-528A-41A3-81FC-DCF01DAF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4CEB-3D12-4AC2-B228-FEDF835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C44D3-4A23-4526-A318-494C416C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5596-767D-42EF-9F26-972359C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A6E09-8EE8-4964-BBE3-1BDC7445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8E142-3ADD-4385-814F-1E7833EF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A86A1-C7A6-42A6-A57B-73C2CF11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D2DC-01B5-4204-9EE6-CF1C26C4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6C432-D280-43DA-A8DB-D5F32B54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056E-AB50-4BD7-AB22-19458FCB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ECE27-083F-4ABE-A829-0C3AE1EC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E035-5AC6-48A2-B7F3-B2B7083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83700-6502-4C38-A0E5-9EE22B3A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87781-DD44-46E8-ADB0-7FD7B2C9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80A4-BCFF-47EF-B3A4-A39C7EB4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975E9-F85C-4A7E-9477-D25D3DB8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A25A-D3F0-4908-AA18-85A93B62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ED59-3F6F-4759-827A-5BC74E96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DBA16-A9DE-42C1-9252-6160E13E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6C831-1C4E-459D-9237-A0219C1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012-FEEB-4662-A927-3022B5A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BE00F-5481-4B12-8A86-DA349185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FBD3D-D86A-4B16-9BE9-3367C7C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5952-2E9B-47E1-9818-4D81355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B0A6-AFDC-40E5-B3CA-6B707C4EC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08C01-5F8A-4B6D-B9D9-DE1396E4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B0D6-C79F-4A2F-98A7-904C131A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D49AE-355C-4CF7-8941-B3880F89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762C7-5A45-42AA-9CD7-E028BFD5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B09A1-923A-4878-94E5-271AFA46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BE1A-4F65-4FFF-B20D-1F62B88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AEC-0F55-4E3E-9DD4-44DE61CA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FFA50-93AE-40C5-9C66-561E4231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5D858-5CC8-4F20-A967-8C631D43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948C4-4A99-4D0A-AD51-594A4AC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533E-18D0-4276-8446-40215AA0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10B88-1880-4BD4-99D8-6E04F660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C9192-8CBC-4CE4-9637-287329D3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189A9-D03A-4C0A-A9CE-11A3F982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B76A-C110-4507-AE6C-866DF6E5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ACBB9-79CD-4B4B-83EC-5D1C6FD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E56E1-B96A-44E0-AB65-098B772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4832-8BA7-49C1-9F0E-43369F07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401-DD67-4665-B234-1D34C214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7550-AE76-41F0-8E62-242805C98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DB9C-CE52-4AD4-BBA0-43E750B22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00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12D3-51B7-4E0A-91F3-1944CA472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5748-9C20-46AA-BF18-5CCA5F36F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C751-1270-48F9-BC7E-2C4B59519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12AF-0CA0-45B8-A9CE-C3142C0A9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375C-BD82-46B4-A13E-71FE65802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FB45-34D0-47A5-95E0-9B158BE3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A43-834E-4CB1-BFC2-A9420575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7D90-40CA-48EC-B1A9-B2C0FDA2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小木偶的故事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5"/>
          <p:cNvSpPr txBox="1"/>
          <p:nvPr/>
        </p:nvSpPr>
        <p:spPr>
          <a:xfrm rot="5400000">
            <a:off x="-577440" y="2456640"/>
            <a:ext cx="5257800" cy="172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小木偶的故事</a:t>
            </a:r>
            <a:endParaRPr b="1" lang="en-US" sz="1800" spc="1" strike="noStrike">
              <a:ln w="19080">
                <a:solidFill>
                  <a:srgbClr val="ffcc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E701-25EF-4DE7-84D7-A63151668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5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6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7"/>
          <p:cNvSpPr/>
          <p:nvPr/>
        </p:nvSpPr>
        <p:spPr>
          <a:xfrm>
            <a:off x="4538520" y="352728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kwy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3167640" y="1773360"/>
            <a:ext cx="3637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板着脸   笑嘻嘻   亲热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楞住  愤怒   委屈   温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龇牙咧嘴  痛苦  嘟嘟囔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可怜巴巴  伤心  放声大哭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气  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WordArt 4"/>
          <p:cNvSpPr txBox="1"/>
          <p:nvPr/>
        </p:nvSpPr>
        <p:spPr>
          <a:xfrm>
            <a:off x="684360" y="333360"/>
            <a:ext cx="417492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圈出课文中关于表情的词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2" name="Picture 5" descr="2010032112005671"/>
          <p:cNvPicPr/>
          <p:nvPr/>
        </p:nvPicPr>
        <p:blipFill>
          <a:blip r:embed="rId2"/>
          <a:stretch/>
        </p:blipFill>
        <p:spPr>
          <a:xfrm>
            <a:off x="287280" y="1484280"/>
            <a:ext cx="1538280" cy="3417840"/>
          </a:xfrm>
          <a:prstGeom prst="rect">
            <a:avLst/>
          </a:prstGeom>
          <a:ln w="0">
            <a:noFill/>
          </a:ln>
        </p:spPr>
      </p:pic>
      <p:sp>
        <p:nvSpPr>
          <p:cNvPr id="60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71EE-C903-457A-A087-F0F3BC529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1155699878972"/>
          <p:cNvPicPr/>
          <p:nvPr/>
        </p:nvPicPr>
        <p:blipFill>
          <a:blip r:embed="rId1"/>
          <a:stretch/>
        </p:blipFill>
        <p:spPr>
          <a:xfrm>
            <a:off x="-468360" y="-285840"/>
            <a:ext cx="10009080" cy="803592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2031120"/>
            <a:ext cx="6842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请在括号里给小木偶填上体现他真实的表情或心情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那是我的，我的，我的！”小木偶（）地尖叫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脑袋疼。”小木偶抬起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）地回答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脑袋很疼。”小木偶是一副（）的表情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是，而且越来越疼了。”小木偶（）地说。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D154-D2A9-47C2-A040-57787656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card00_wq55eGTPTFcp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610" name="WordArt 3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5138640" cy="28465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5"/>
          <p:cNvSpPr/>
          <p:nvPr/>
        </p:nvSpPr>
        <p:spPr>
          <a:xfrm>
            <a:off x="826920" y="357336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续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的故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D492-1DCA-4854-A436-22F91E0EB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2"/>
          <p:cNvSpPr/>
          <p:nvPr/>
        </p:nvSpPr>
        <p:spPr>
          <a:xfrm>
            <a:off x="118728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的故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表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原题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偶的眼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二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后来入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年度最佳童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改名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木偶的故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里面包含三篇童话故事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笑是远远不够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不是一段普通的木头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喜欢做我自己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课文是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笑是远远不够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编的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步阅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棒的还是我自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根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喜欢做我自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C9E4-C2AB-4A09-97DC-BC5F4C1CF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18412225578466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WordArt 5"/>
          <p:cNvSpPr txBox="1"/>
          <p:nvPr/>
        </p:nvSpPr>
        <p:spPr>
          <a:xfrm>
            <a:off x="324000" y="5300640"/>
            <a:ext cx="3384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推荐你阅读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21" name="Picture 6" descr="1"/>
          <p:cNvPicPr/>
          <p:nvPr/>
        </p:nvPicPr>
        <p:blipFill>
          <a:blip r:embed="rId2"/>
          <a:stretch/>
        </p:blipFill>
        <p:spPr>
          <a:xfrm>
            <a:off x="4859280" y="260280"/>
            <a:ext cx="3960720" cy="4535640"/>
          </a:xfrm>
          <a:prstGeom prst="rect">
            <a:avLst/>
          </a:prstGeom>
          <a:ln w="0">
            <a:noFill/>
          </a:ln>
        </p:spPr>
      </p:pic>
      <p:sp>
        <p:nvSpPr>
          <p:cNvPr id="622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174-DA87-4B84-ADEB-83DF5B82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再见"/>
          <p:cNvPicPr/>
          <p:nvPr/>
        </p:nvPicPr>
        <p:blipFill>
          <a:blip r:embed="rId2"/>
          <a:stretch/>
        </p:blipFill>
        <p:spPr>
          <a:xfrm>
            <a:off x="2268360" y="1844640"/>
            <a:ext cx="3598920" cy="2698920"/>
          </a:xfrm>
          <a:prstGeom prst="rect">
            <a:avLst/>
          </a:prstGeom>
          <a:ln w="0">
            <a:noFill/>
          </a:ln>
        </p:spPr>
      </p:pic>
      <p:sp>
        <p:nvSpPr>
          <p:cNvPr id="625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E34A-707B-4A23-BC52-79B17066B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gifmb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"/>
          <p:cNvSpPr/>
          <p:nvPr/>
        </p:nvSpPr>
        <p:spPr>
          <a:xfrm>
            <a:off x="1258920" y="2421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拽  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492360" y="234936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毛 茸 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6516720" y="234936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 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1332000" y="3789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可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4"/>
          <p:cNvSpPr/>
          <p:nvPr/>
        </p:nvSpPr>
        <p:spPr>
          <a:xfrm>
            <a:off x="3419640" y="3789360"/>
            <a:ext cx="194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魔  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5"/>
          <p:cNvSpPr/>
          <p:nvPr/>
        </p:nvSpPr>
        <p:spPr>
          <a:xfrm>
            <a:off x="2843280" y="5229360"/>
            <a:ext cx="29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90000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huai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7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"/>
          <p:cNvSpPr/>
          <p:nvPr/>
        </p:nvSpPr>
        <p:spPr>
          <a:xfrm>
            <a:off x="4140360" y="19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9"/>
          <p:cNvSpPr/>
          <p:nvPr/>
        </p:nvSpPr>
        <p:spPr>
          <a:xfrm>
            <a:off x="428472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0"/>
          <p:cNvSpPr/>
          <p:nvPr/>
        </p:nvSpPr>
        <p:spPr>
          <a:xfrm>
            <a:off x="694836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f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1"/>
          <p:cNvSpPr/>
          <p:nvPr/>
        </p:nvSpPr>
        <p:spPr>
          <a:xfrm>
            <a:off x="7740720" y="191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"/>
          <p:cNvSpPr/>
          <p:nvPr/>
        </p:nvSpPr>
        <p:spPr>
          <a:xfrm>
            <a:off x="1403280" y="3357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3"/>
          <p:cNvSpPr/>
          <p:nvPr/>
        </p:nvSpPr>
        <p:spPr>
          <a:xfrm>
            <a:off x="1763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4"/>
          <p:cNvSpPr/>
          <p:nvPr/>
        </p:nvSpPr>
        <p:spPr>
          <a:xfrm>
            <a:off x="320364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3995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6"/>
          <p:cNvSpPr/>
          <p:nvPr/>
        </p:nvSpPr>
        <p:spPr>
          <a:xfrm>
            <a:off x="2484360" y="4797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7"/>
          <p:cNvSpPr/>
          <p:nvPr/>
        </p:nvSpPr>
        <p:spPr>
          <a:xfrm>
            <a:off x="270036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9"/>
          <p:cNvSpPr/>
          <p:nvPr/>
        </p:nvSpPr>
        <p:spPr>
          <a:xfrm>
            <a:off x="4859280" y="4869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0"/>
          <p:cNvSpPr/>
          <p:nvPr/>
        </p:nvSpPr>
        <p:spPr>
          <a:xfrm>
            <a:off x="5148360" y="47242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WordArt 31"/>
          <p:cNvSpPr txBox="1"/>
          <p:nvPr/>
        </p:nvSpPr>
        <p:spPr>
          <a:xfrm>
            <a:off x="611280" y="907920"/>
            <a:ext cx="2808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30" name="灯片编号占位符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6935-0E1C-44F5-9413-DCB214FBB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页脚占位符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116000" y="184464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神奇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    ） 热闹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愤怒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    ） 灵活</a:t>
            </a:r>
            <a:r>
              <a:rPr b="1" lang="en-US" sz="3600" spc="-1" strike="noStrike">
                <a:solidFill>
                  <a:srgbClr val="333399"/>
                </a:solidFill>
                <a:latin typeface="黑体"/>
                <a:ea typeface="黑体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"/>
          <p:cNvGrpSpPr/>
          <p:nvPr/>
        </p:nvGrpSpPr>
        <p:grpSpPr>
          <a:xfrm>
            <a:off x="457200" y="228600"/>
            <a:ext cx="3124080" cy="1066680"/>
            <a:chOff x="457200" y="228600"/>
            <a:chExt cx="3124080" cy="1066680"/>
          </a:xfrm>
        </p:grpSpPr>
        <p:sp>
          <p:nvSpPr>
            <p:cNvPr id="534" name="Oval 4"/>
            <p:cNvSpPr/>
            <p:nvPr/>
          </p:nvSpPr>
          <p:spPr>
            <a:xfrm>
              <a:off x="457200" y="22860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5"/>
            <p:cNvSpPr/>
            <p:nvPr/>
          </p:nvSpPr>
          <p:spPr>
            <a:xfrm>
              <a:off x="762120" y="380880"/>
              <a:ext cx="281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近义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6"/>
          <p:cNvSpPr/>
          <p:nvPr/>
        </p:nvSpPr>
        <p:spPr>
          <a:xfrm>
            <a:off x="2987640" y="177336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神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843280" y="263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愤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6300720" y="1773360"/>
            <a:ext cx="21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喧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1004760" y="3573360"/>
            <a:ext cx="8139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重要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3492360" y="3573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6300720" y="263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敏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7308720" y="3429000"/>
            <a:ext cx="146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2319480" y="3860640"/>
            <a:ext cx="9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2320920" y="387972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5" descr="1364309212118097480"/>
          <p:cNvPicPr/>
          <p:nvPr/>
        </p:nvPicPr>
        <p:blipFill>
          <a:blip r:embed="rId2"/>
          <a:stretch/>
        </p:blipFill>
        <p:spPr>
          <a:xfrm>
            <a:off x="7093080" y="5105520"/>
            <a:ext cx="2050920" cy="1752480"/>
          </a:xfrm>
          <a:prstGeom prst="rect">
            <a:avLst/>
          </a:prstGeom>
          <a:ln w="0">
            <a:noFill/>
          </a:ln>
        </p:spPr>
      </p:pic>
      <p:sp>
        <p:nvSpPr>
          <p:cNvPr id="546" name="灯片编号占位符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0E13-5293-47E1-8DE8-A584C961A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页脚占位符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826920" y="1989000"/>
            <a:ext cx="7921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愤怒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  撒谎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神奇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）灵活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重要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4716360" y="333360"/>
            <a:ext cx="3124080" cy="1066680"/>
            <a:chOff x="4716360" y="333360"/>
            <a:chExt cx="3124080" cy="1066680"/>
          </a:xfrm>
        </p:grpSpPr>
        <p:sp>
          <p:nvSpPr>
            <p:cNvPr id="550" name="Oval 4"/>
            <p:cNvSpPr/>
            <p:nvPr/>
          </p:nvSpPr>
          <p:spPr>
            <a:xfrm>
              <a:off x="4716360" y="333360"/>
              <a:ext cx="259092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5"/>
            <p:cNvSpPr/>
            <p:nvPr/>
          </p:nvSpPr>
          <p:spPr>
            <a:xfrm>
              <a:off x="5021280" y="485640"/>
              <a:ext cx="2819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6600"/>
                  </a:solidFill>
                  <a:latin typeface="Times New Roman"/>
                  <a:ea typeface="华文行楷"/>
                </a:rPr>
                <a:t>反义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xt Box 6"/>
          <p:cNvSpPr/>
          <p:nvPr/>
        </p:nvSpPr>
        <p:spPr>
          <a:xfrm>
            <a:off x="2627280" y="19890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愉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2843280" y="2781360"/>
            <a:ext cx="24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平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6588000" y="1916280"/>
            <a:ext cx="21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诚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468360" y="3716280"/>
            <a:ext cx="81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2917800" y="6058080"/>
            <a:ext cx="2497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6792840" y="28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呆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3121200" y="37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次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13" descr="1364309212118097480"/>
          <p:cNvPicPr/>
          <p:nvPr/>
        </p:nvPicPr>
        <p:blipFill>
          <a:blip r:embed="rId2"/>
          <a:stretch/>
        </p:blipFill>
        <p:spPr>
          <a:xfrm>
            <a:off x="6877080" y="4375080"/>
            <a:ext cx="1977840" cy="1690920"/>
          </a:xfrm>
          <a:prstGeom prst="rect">
            <a:avLst/>
          </a:prstGeom>
          <a:ln w="0">
            <a:noFill/>
          </a:ln>
        </p:spPr>
      </p:pic>
      <p:sp>
        <p:nvSpPr>
          <p:cNvPr id="56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30F3-B9EE-49D2-9B64-B0645FCBE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18412225578466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5" name="WordArt 8" descr=""/>
          <p:cNvPicPr/>
          <p:nvPr/>
        </p:nvPicPr>
        <p:blipFill>
          <a:blip r:embed="rId2"/>
          <a:stretch/>
        </p:blipFill>
        <p:spPr>
          <a:xfrm>
            <a:off x="884160" y="249120"/>
            <a:ext cx="3127320" cy="112896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9"/>
          <p:cNvSpPr/>
          <p:nvPr/>
        </p:nvSpPr>
        <p:spPr>
          <a:xfrm>
            <a:off x="1042920" y="1636920"/>
            <a:ext cx="79218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Impact"/>
                <a:hlinkClick r:id="rId3" action="ppaction://hlinksldjump"/>
              </a:rPr>
              <a:t>小木偶身上发生了什么事？</a:t>
            </a:r>
            <a:r>
              <a:rPr b="0" lang="zh-CN" sz="6000" spc="-1" strike="noStrike" u="sng">
                <a:solidFill>
                  <a:srgbClr val="009999"/>
                </a:solidFill>
                <a:uFillTx/>
                <a:latin typeface="Impact"/>
                <a:hlinkClick r:id="rId4" action="ppaction://hlinksldjump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1258920" y="2781360"/>
            <a:ext cx="6626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通过这个故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了解到了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感受到了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事的情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蕴涵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道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1" descr="20091010195143866"/>
          <p:cNvPicPr/>
          <p:nvPr/>
        </p:nvPicPr>
        <p:blipFill>
          <a:blip r:embed="rId6"/>
          <a:stretch/>
        </p:blipFill>
        <p:spPr>
          <a:xfrm>
            <a:off x="6443640" y="4508640"/>
            <a:ext cx="2411280" cy="1807920"/>
          </a:xfrm>
          <a:prstGeom prst="rect">
            <a:avLst/>
          </a:prstGeom>
          <a:ln w="0">
            <a:noFill/>
          </a:ln>
        </p:spPr>
      </p:pic>
      <p:sp>
        <p:nvSpPr>
          <p:cNvPr id="569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BDD8-E523-4CF0-8934-5C85FA1E6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0"/>
          <p:cNvSpPr/>
          <p:nvPr/>
        </p:nvSpPr>
        <p:spPr>
          <a:xfrm>
            <a:off x="391320" y="0"/>
            <a:ext cx="36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gifmb2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2001240" y="1628640"/>
            <a:ext cx="59796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先写了老木匠做了一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在它的脸上添上了（            ）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着写了小木偶在生活中遇到了一系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），最后在（             ）的帮助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（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659640" y="1916280"/>
            <a:ext cx="20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木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4859280" y="2637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笑嘻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1332000" y="429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遭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5003640" y="422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女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3"/>
          <p:cNvSpPr/>
          <p:nvPr/>
        </p:nvSpPr>
        <p:spPr>
          <a:xfrm>
            <a:off x="1979640" y="501336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所有的表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WordArt 14"/>
          <p:cNvSpPr txBox="1"/>
          <p:nvPr/>
        </p:nvSpPr>
        <p:spPr>
          <a:xfrm>
            <a:off x="539640" y="765000"/>
            <a:ext cx="324036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文概要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1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38D-9F41-49E7-B4C5-252965AD7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chfgbk005_z6rpMHwSKnw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1619280" y="24922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华文琥珀"/>
              </a:rPr>
              <a:t>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老木匠说得没错，笑是很重要的。不过，要是只会笑，那可是远远不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2772360" y="15177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这篇课文中，你明白了感受到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ben150058"/>
          <p:cNvPicPr/>
          <p:nvPr/>
        </p:nvPicPr>
        <p:blipFill>
          <a:blip r:embed="rId2"/>
          <a:stretch/>
        </p:blipFill>
        <p:spPr>
          <a:xfrm>
            <a:off x="6012000" y="3500280"/>
            <a:ext cx="1726920" cy="1914840"/>
          </a:xfrm>
          <a:prstGeom prst="rect">
            <a:avLst/>
          </a:prstGeom>
          <a:ln w="0">
            <a:noFill/>
          </a:ln>
        </p:spPr>
      </p:pic>
      <p:sp>
        <p:nvSpPr>
          <p:cNvPr id="58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89E1-F7A4-49B5-A430-D0B2A4DD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"/>
          <p:cNvSpPr/>
          <p:nvPr/>
        </p:nvSpPr>
        <p:spPr>
          <a:xfrm>
            <a:off x="4386240" y="3375000"/>
            <a:ext cx="37116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直线画出描写小木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笑嘻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表情的句子，并有感情地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ktxs3-022"/>
          <p:cNvPicPr/>
          <p:nvPr/>
        </p:nvPicPr>
        <p:blipFill>
          <a:blip r:embed="rId1"/>
          <a:stretch/>
        </p:blipFill>
        <p:spPr>
          <a:xfrm>
            <a:off x="3492360" y="3500280"/>
            <a:ext cx="1584360" cy="1513080"/>
          </a:xfrm>
          <a:prstGeom prst="rect">
            <a:avLst/>
          </a:prstGeom>
          <a:ln w="0">
            <a:noFill/>
          </a:ln>
        </p:spPr>
      </p:pic>
      <p:sp>
        <p:nvSpPr>
          <p:cNvPr id="59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7C5D-B9AF-4DA7-9242-79277A899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900000" y="907920"/>
            <a:ext cx="7201080" cy="24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老木匠拿起他的神奇雕刻刀，在小木偶的脸上添了一个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笑嘻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穿警服的熊看看小红狐，小红狐满脸的愤怒；再看看小木偶，小木偶一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笑嘻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疼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抬起头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笑嘻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地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◆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很疼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还是一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笑嘻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的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7DDA-A06F-4A37-9FBE-72C93712E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9:01:22Z</dcterms:created>
  <dc:creator>绿色圃中小学教育网|http://www.lspjy.com; ZZHXX</dc:creator>
  <dc:description>绿色圃中小学教育网|http://www.lspjy.com</dc:description>
  <cp:keywords>绿色圃中小学教育网|http:/www.lspjy.com</cp:keywords>
  <dc:language>en-US</dc:language>
  <cp:lastModifiedBy>Administrator</cp:lastModifiedBy>
  <dcterms:modified xsi:type="dcterms:W3CDTF">2015-10-07T13:53:43Z</dcterms:modified>
  <cp:revision>65</cp:revision>
  <dc:subject>绿色圃中小学教育网|http://www.lspjy.com</dc:subject>
  <dc:title>绿色圃中小学教育网|http://www.lspjy.com</dc:title>
</cp:coreProperties>
</file>