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7A1-70AF-44A2-BFAF-1B92F0606E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93F4-66E3-44C7-B63B-21EEBFA494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页脚占位符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页眉占位符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EFE-B591-42E6-B327-28C342D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00E-C54E-474C-BA53-B6CDBB37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340-AAAF-4862-A07C-42BE7E95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B7C-CA7E-4C61-951C-B760E623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A2A-3B5A-4141-9ED6-F20E4ACF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769D-A0DA-4AC1-8E56-E716481B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27F-36B2-4421-ADD1-69D33BC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A4BC-96B8-4058-953C-33B828B0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1703-9139-4150-A4EC-0EC82A66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1252-59A9-45BD-8242-5D129F96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255E-FA5C-4272-9795-9098E74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193-E56B-468F-93B2-4A0F95F3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AA6D-785C-49D5-97E7-EBF0C4F8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FD9-34DC-4DFB-AAC0-A89D358F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246-8505-4155-BDF6-7AA9249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D26-8FED-4497-9836-E91FA4FC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33F-FA5E-40D7-83BB-7F8C5BA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6A29-88FF-4EC8-8D8E-68019CF6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68EF-E24D-4A44-9454-072FE541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9090-EBB9-4AC6-8F57-664EEF79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9636C-3849-449D-8E50-AFEB1519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21501-DC13-491A-AE5A-3AA8F8F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4D2-BD41-418F-A1E3-6559ECF6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B7EB-38B2-4F6C-87ED-66900B08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0C9B-1F4A-4ACA-BD34-28FBA1D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D662-85F4-4990-BBC0-F1E94BAD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B431-D03D-42F2-8727-379B700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E7EB-C3A5-410E-BF91-85D728BD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25A6-279E-4131-A995-9FBBF32B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0692-60F0-463B-B838-B523A9E09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4369-5CCF-4A8C-9481-E8B584EB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EC7D4-9B04-4620-848E-F2DCA5A4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F494-4856-4C13-A8D5-E6C5C73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1E6-09ED-4A4F-9B2C-923F4AB0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5E87C-DA8F-43CA-8E3C-966E9E57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ABFA-7F71-41B2-ABCA-584EDBB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A067-24FB-46D2-985B-C3013B82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57396-E018-442C-BC24-AE9E798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E7ECD-D733-42A2-A309-D298D79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85BB8-9BA8-45B4-A60C-7980219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C82E-858B-4617-9E6D-04A7FFE7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F6068-F717-4123-99C3-11AF7338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689E-D397-4D15-8206-BDBB4100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F1A66-DEB3-43ED-8726-20622C63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F94-4459-45F2-833F-0C79BAA5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C1B33-3FB3-4897-9205-5B1DD4E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8A3C4-FCCB-40A0-8010-1AC6E1E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C5843B-9382-4C12-97D5-7C1F380F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388DB-51E6-49F1-B5DB-147A9AA3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4731C-C548-471A-9E5F-2758E76A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883C9-48A7-45DC-B9D1-B559C99A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1B3A7-12D8-4DBC-B0BF-A0BDEFB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AE674-177B-49CC-AAC5-B5B82F3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C1EDE-3EE6-4B34-A167-8E04B70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98856-9ADE-488A-966E-CED37EE6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073-D9F6-41DC-A3F3-09545F6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44BE9-7C87-4BB8-81D5-D27DDB04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7644B-EDA5-445A-91A9-E4C41E84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47670-ECB5-4E81-83F0-93B9539B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3FA090-A110-47C0-AFC2-260BFD0C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797155-2BD8-4BDA-B491-4DF26922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6FBC9-A3EF-468D-8051-8272C6F0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65EE8-C31B-484C-9A6B-80C233A1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28FA-D0C3-410F-9332-0425DA8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4EA7F-D073-4A28-B862-1ACA9A9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A8ADE-DA8C-48CC-9C8C-217958E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AC8-7B6C-4682-B00B-71E8319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594F3-53FA-4CD6-9FD3-33DBB07A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486F3-12EF-4A76-A97B-60DD0759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E4D69-3A69-4A1C-8E90-83B07F37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B7A-C908-454C-9ECC-E775B4D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115-2A10-4E13-A49F-8124AD1B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1682-59A4-4B12-8610-FF32DFE524C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D3A-036F-4B49-9FE5-E917A6959C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436F-3E30-44E2-9307-51D8C3ABC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0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05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0B04-1BEA-4C17-A3A0-2C93966B7E7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2C9-04D7-48A0-8C15-2D96B2F9DE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www.lspjy.com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BED-A5A4-4DA0-9C5E-4A6BAA51B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7"/>
          <p:cNvSpPr txBox="1"/>
          <p:nvPr/>
        </p:nvSpPr>
        <p:spPr>
          <a:xfrm>
            <a:off x="900000" y="2133720"/>
            <a:ext cx="5978520" cy="15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去 年 的 树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3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4"/>
          <p:cNvSpPr/>
          <p:nvPr/>
        </p:nvSpPr>
        <p:spPr>
          <a:xfrm>
            <a:off x="1332000" y="1557360"/>
            <a:ext cx="611964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据提示，回顾课文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儿和树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鸟儿飞走之前答应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第二年春天，鸟儿飞回来却发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，于是就在火柴点燃的灯火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。因为她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4"/>
          <p:cNvSpPr/>
          <p:nvPr/>
        </p:nvSpPr>
        <p:spPr>
          <a:xfrm>
            <a:off x="1116000" y="1341360"/>
            <a:ext cx="68407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学习目标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有感情地朗读课文，培养语感，感受童话的语言美，思想美，意境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领悟小鸟的四次对话，感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信守诺言，珍惜友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755640" y="981000"/>
            <a:ext cx="741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自学指导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独立完成：用自己喜欢的方式朗读课文，把鸟儿与树、树根、大门、小女孩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次对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同桌合作完成：分角色感情朗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第一次对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900000" y="141300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树对鸟儿说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再见了，小鸟！明年春天请你回来，还唱歌给我听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鸟儿说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好的，我明年春天一定回来，给你唱歌。请等着我吧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3"/>
          <p:cNvSpPr/>
          <p:nvPr/>
        </p:nvSpPr>
        <p:spPr>
          <a:xfrm>
            <a:off x="391320" y="18900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684360" y="90792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学指导二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填上表达心情的词语，练习读一读，用心体会此时鸟儿的心情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826920" y="227664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鸟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问树根。“站在这儿的那棵树，到什么地方去了呢？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问大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门先生，我的好朋友──树在哪儿，您知道吗？”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鸟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问小女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姑娘，请告诉我，你知道火柴在哪儿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908000" y="22050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奇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1908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着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124000" y="4437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伤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050920" y="55897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组内分角色读三次对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页脚占位符 9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4"/>
          <p:cNvSpPr/>
          <p:nvPr/>
        </p:nvSpPr>
        <p:spPr>
          <a:xfrm>
            <a:off x="179280" y="134136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儿睁大眼睛，盯着灯火看了一会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着就唱起去年唱过的歌给灯火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唱完了歌，鸟儿又对着灯火看了一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，就飞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0" y="1268280"/>
            <a:ext cx="87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学指导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句中的鸟儿换成“我”， 把句子补充完整。再读一读这几句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鸟儿睁大眼睛，盯着灯火看了一会儿，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说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接着就唱起去年唱过的歌给灯火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唱完了歌，鸟儿又对着灯火看了一会儿，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就飞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324000" y="907920"/>
            <a:ext cx="8424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当堂训练（写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这篇课文的读者，你一定有很多话要说，想对谁说？让我们把心里话写出来，好吗？（任选一题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想对小鸟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想对大树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想对伐木人说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想对作者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页脚占位符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lspjy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6T09:39:43Z</dcterms:created>
  <dc:creator>绿色圃中小学教育网http://www.lspjy.com/; 微软用户</dc:creator>
  <dc:description>绿色圃中小学教育网http://www.lspjy.com/</dc:description>
  <cp:keywords>绿色圃中小学教育网http:/www.lspjy.com</cp:keywords>
  <dc:language>en-US</dc:language>
  <cp:lastModifiedBy>Administrator</cp:lastModifiedBy>
  <dcterms:modified xsi:type="dcterms:W3CDTF">2015-10-07T13:55:34Z</dcterms:modified>
  <cp:revision>86</cp:revision>
  <dc:subject>绿色圃中小学教育网http://www.lspjy.com/</dc:subject>
  <dc:title>绿色圃中小学教育网http://www.lspjy.com/</dc:title>
</cp:coreProperties>
</file>