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685-2641-4A85-8CC6-2D273B86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569-EE65-467B-93BA-B7694BB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A43BB-A16D-401A-8C28-6BF4855A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04E54-3A22-42D6-BBF6-DEAF9BF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98BF8-44E2-4B24-A3D6-FE842E3F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709F6-9472-48FF-AE49-022A7A3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A482D-C5E8-4117-A7F7-8D6A96F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54CC2-7214-442D-983D-BF1BF81F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BC741-09F7-4897-8FD2-AC6DABD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88AE5-DB89-432C-990A-62B93C22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C0720-1DDA-44AA-BA3A-DF5E0451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9EEDD-3FC4-4F25-AEF1-8DE9CCD9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5BB-2222-4C02-B591-7B129798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51799-895B-4E08-8407-E0539B38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CBDA8-170F-4391-95FE-A2AF0A7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23FFB-91A7-4855-B826-FAE98A01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0571B-595E-477C-85EC-C78BB92E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6035A-4F5A-43B9-B968-EDD472EA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19438-EB3C-44C0-BDDD-A0719673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D8046-8386-468A-B7F6-8C06E36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1B7AA-F4D4-4532-B272-7C4A4038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EE638-0D71-4D74-B6F9-CA5D17FC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C05A2-6DC8-4FAB-B5FF-5CF1B99E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550-B61C-4B3D-B18E-61510E00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58828-F4C3-46CD-A25C-F8774C26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CAAF0-759D-4C46-9849-B5CF9FD5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9EF3-3B93-4538-A527-C80095AF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0758A-CBDA-422D-A34F-909AA62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2F9F9-5254-41CA-B4CD-46D86310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64327-0A1D-43C5-9D0C-E26BFB2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6BCD6-E247-401B-8104-93B985EB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D8EEA-FE25-4026-9AD8-30F6C7B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6CE84-22C5-44B2-BC75-D60601E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61CBA-E96D-4ADC-864C-81A958D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8EA6-C6D2-4B29-AE06-C7DB881E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6999E-1A58-42CC-BE63-F238A601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9278A-8D7B-46A1-9A79-762007E4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8908-B351-4AA8-A6A8-FA8FAEEE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46779-34DF-4F59-A288-5447C36E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74B4C-EEB5-4E35-8BBD-7742EAE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40097-805D-4366-A41D-E646C55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42D73-951C-4667-BD72-F792977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F4CC3-A886-402B-AB84-F1B5DEDB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803FC-5F63-463B-ADBA-885347B2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CD839-59B1-4426-8D3D-8E61802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D848-4290-4699-9FFC-F73755E7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93DDD-ED74-468F-9714-9D068B2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00115-5639-4D4C-BBDB-88CD8FE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24D7-9C28-4E4F-B3DE-694029FC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EA31F-2241-42BF-AEB4-D49B76D5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2A715-6B84-409F-AD38-9310F554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D548-7E64-40C9-A304-65A47F7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6DA-1F57-4235-8EAF-43ABA163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4E6E-39C7-4776-AC53-56C7E7EA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1BDD-CB3E-48DB-B22E-EB5ED28F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A6B7-166E-4B5A-9167-C0E04C6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A5D-3A06-40A3-A578-C23847A8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AE17-B178-4F9F-B366-AE67B44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133C-F59F-4506-8627-E5E1F78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8614-6D36-4B70-B449-BB665E16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713B-EEAB-4BB9-91A6-968DCEBD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8EE8-3A10-40CE-B9F6-6B8B7B48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2697-02F5-4AE6-BB67-AC06EBDE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DE6F-5EE9-46F0-83AB-A913635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B2AB-8389-40B7-A000-4B355C8A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7217-7A27-4D1F-A55D-F9EA288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A44F-E84B-4DAA-9981-CD8F2223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B03-2408-4D1C-808E-8794F0B5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F911-AE74-4852-AB10-779A8BC0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1186-F08B-43D8-8DDB-284B65C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F78F-2C1B-423F-B5E4-6CCF1D7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F031-2616-4D27-BD85-FDFF1AA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7B31-C1B5-4E8B-BD3E-2F99363B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C17E-9AE8-4A80-A516-C3D0F08E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BD5D-DCBF-45AA-B04B-A18FF496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0F72-E99F-4B41-BA01-AD455CDB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D0C3-8732-4111-83AD-A4E1609C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26E6-CA03-461C-AE10-82F3945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895-15F7-47A7-9AC1-203004CB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170AA-E40C-4BBE-A567-A15C6E5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E804-D827-4E48-8906-40C7ACE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1217-5018-4AAE-BA93-544D3E5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8530-881F-4BDE-B64E-1B5E7CEE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DD80-999C-4DED-AF55-5C8F479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FECB2-24F5-4E6F-8B5C-7467477B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AA1F3-E45C-4DBD-B7A9-810FE417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399FA-83C5-4BE8-9A5C-E3C3D7AC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245BC-8B31-432C-8E8F-B7F541FB8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FE0F1-24CB-486D-84EA-93593602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A3A-A049-4DB1-897B-3F26918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D3B3-7FBF-498C-A4C6-87C2F9C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E32CD-C452-46B7-8E9E-8C74FA95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38D78-E547-49BD-892E-98E85BA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B4252-B7D0-4E83-BC07-37660C1F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1C14-9D17-40CE-9027-477E73A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A2B4D-24CF-4A94-BB80-A6105F8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EFE82-738E-43A9-B15D-F92D87F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45DD-F3C2-46AC-8E5C-21D5C991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4C505-E254-48A9-B310-D65BB88B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EE3E1-C739-49A2-B15F-8A8B7E00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663-FCA9-4EEE-A840-DA81E600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1966-C701-4167-95F2-A9325F12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1687-52ED-4773-9483-810E9679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43F7-687F-4083-B82D-400766A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BD9E-3D43-43F7-983F-07A18D67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68F4-33F8-4232-9FA7-7E368AD1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0C51-CF50-4DD3-8D1C-5CFED11B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50BC5-D69E-4F8C-85C0-A5F3F592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3267-CD74-4B5F-B501-935EB155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8C9BA-BF50-49ED-8706-66DAACB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90E77-306E-48DA-A245-0C3E308D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6BE-B111-4051-A95F-A6822823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36B8E-B57B-4B19-859A-7416C11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A89FF-AAAB-40EB-AE41-AABD5BC2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F268-C649-49AB-86BA-D1301CB3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05F2F-A391-45DE-83AD-55D79464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7F7E5-1CF5-4067-99BA-57A721ED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E7C0-8BAD-4AE2-B2BE-B69FBA0B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E700-40EB-4F94-BE4F-0B309000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A2E3-3C3A-4C64-9E87-C6CFBA5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D0760-C514-4B03-9644-C20F127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51C1-FF77-4441-A3C5-CED42FD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75B0-A777-49C6-AEFA-5C262FF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F483D-8F9A-4053-836D-4DD4A26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9C48A-DA27-4FB1-826E-95CA49F5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C969B-90DB-415C-84E3-F852B45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27692-2F31-4B4E-A89A-FA210B5E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734AD-39D9-4542-B053-B562A22A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3B9B0-B282-4E40-A2B7-72933623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AC244-1106-4761-BBB8-4CCD6F36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75C3A-45E7-4F96-BA2B-877312AF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9A226-3F6E-415E-92DC-96BA19E0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0109-731A-4DE9-B1E4-9F3758A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D0A-11D7-4D7B-800C-4B83BC67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C2412-A1AA-4156-9D1E-7693260E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EBBB1-6960-4757-B19F-411E7FAF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9C10D-2743-4BBB-B951-18A613A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C1393-7C30-41E1-A6DF-97D6CE65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D88B8-E863-40C4-B818-4ACBB172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E5B58-F3FE-4CD7-950E-FADC9BDA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DFA9A-230A-4764-8656-243E3A64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1528C-14AF-4500-8E40-B2D79FAB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7C065-FD22-46CD-893F-C50B2DFD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45062-BEB9-4096-9F43-450513FF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83BA-0E34-4632-8895-512B7DB8A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BBD-1B77-4B88-B6F9-F3D457A96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FAC3-F15D-4684-8CEF-BEBB709B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479-15A1-48E9-8EDB-BBAEC51A8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A29-3402-49F3-8B7F-D61103BA6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366-BEB9-46E8-8506-0F9E94025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014E-93C2-46D2-B051-1EF278AD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5AD-C375-478A-9D38-BA3D1142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FF7-A464-422A-9D10-B7D4EED57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9A96-8F69-4810-9C97-5C44279B4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949D-EFA6-4B05-9965-CA9D1FE1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F9F9-F61C-4C88-9C96-C46F4597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woduhom.com/wslf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nta.org.cn/2003101yb/city/lushan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hanpoko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7750440" y="358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</a:rPr>
              <a:t>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B7C-B370-4D00-9E16-D7DB8154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showim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3"/>
          <p:cNvSpPr/>
          <p:nvPr/>
        </p:nvSpPr>
        <p:spPr>
          <a:xfrm>
            <a:off x="677160" y="549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Arial"/>
              </a:rPr>
              <a:t>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DF9-9D34-4677-8DD9-6C331743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shuangjianfe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3"/>
          <p:cNvSpPr/>
          <p:nvPr/>
        </p:nvSpPr>
        <p:spPr>
          <a:xfrm>
            <a:off x="684360" y="260280"/>
            <a:ext cx="102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0AC-CF4D-4FD0-8724-8B58A93FD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t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lusan0927_05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5"/>
          <p:cNvSpPr/>
          <p:nvPr/>
        </p:nvSpPr>
        <p:spPr>
          <a:xfrm>
            <a:off x="4128840" y="64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幼圆"/>
              </a:rPr>
              <a:t>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E4C5-4A40-4EAB-B3FD-956AB4F27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603800" y="1066680"/>
            <a:ext cx="605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欣赏了刚才几组庐山的图片，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们认为庐山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远近高低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识庐山真面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只缘身在此山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能用自己的话说说对它的理解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同桌互相讨论，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ABE1-1038-4EF5-A358-9FD9E890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4"/>
          <p:cNvSpPr/>
          <p:nvPr/>
        </p:nvSpPr>
        <p:spPr>
          <a:xfrm>
            <a:off x="2843280" y="256536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六十铺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0583-6B1A-4F83-9E14-224F81A08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21:21:23Z</dcterms:created>
  <dc:creator>绿色圃中小学教育网|http://www.lspjy.com; 微软用户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9:24Z</dcterms:modified>
  <cp:revision>8</cp:revision>
  <dc:subject>绿色圃中小学教育网|http://www.lspjy.com</dc:subject>
  <dc:title>绿色圃中小学教育网|http://www.lspjy.com</dc:title>
</cp:coreProperties>
</file>