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B854-3C7A-41CD-A035-522A4E03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83A9-BEE4-4CE5-95FB-1DB94BBB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51C8-A32C-4EC2-A216-960969B7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703F-7466-4922-98DA-7CBB5CE4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C17-D19C-420E-A4B9-6F545095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F9D-E764-4C0A-AAD2-87DB8129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F05E-E8C7-4F25-A329-2519CADF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B89D-AB1F-45C0-A790-616D32A2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25D2-597F-4FCB-A2D2-5D39091F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71B9-74D4-40D2-B2F2-4934B0F0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7A3C-9663-4583-9863-FAF2D3E7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CF7C-0D49-43A8-B234-64CA4EAB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734B-8347-4CB9-9FC3-9E6C226D5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3300"/>
              </a:solidFill>
              <a:latin typeface="宋体"/>
            </a:endParaRPr>
          </a:p>
        </p:txBody>
      </p:sp>
      <p:pic>
        <p:nvPicPr>
          <p:cNvPr id="5" name="Picture 7" descr="内页-4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封面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539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思迅老板助手</a:t>
            </a:r>
            <a:endParaRPr b="0" lang="en-US" sz="44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58920" y="5084640"/>
            <a:ext cx="6400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安装程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544680" y="773280"/>
            <a:ext cx="77724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42600" y="1643040"/>
            <a:ext cx="80010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安装之前，应确保本机的操作系统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p/NT4/2000/2003/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行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安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.Net Framework2.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框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安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SQL Server Native Clien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别说明：如果所安装的系统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7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则可以不用安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.Net Framework2.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框架，直接跳过第二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544680" y="773280"/>
            <a:ext cx="77724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安装后台服务程序</a:t>
            </a:r>
            <a:endParaRPr b="0" lang="en-US" sz="3600" spc="-1" strike="noStrike">
              <a:solidFill>
                <a:srgbClr val="ff33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安装程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544680" y="773280"/>
            <a:ext cx="7772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85640" y="164304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思迅老板助手服务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安装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者支持局域网的服务器上，将“思迅老板助手”软件产品光盘放入光驱中，运行光盘中的程序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\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思迅老板助手服务程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ms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运行《思迅老板助手服务程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ms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择有关选项后，安装程序将开始安装“思迅老板助手服务程序”。安装完成后，将在电脑的桌面上出现“思迅老板助手服务程序”的图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544680" y="773280"/>
            <a:ext cx="77724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安装后台服务程序</a:t>
            </a:r>
            <a:endParaRPr b="0" lang="en-US" sz="3600" spc="-1" strike="noStrike">
              <a:solidFill>
                <a:srgbClr val="ff33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安装程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544680" y="773280"/>
            <a:ext cx="7772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9680" y="1428840"/>
            <a:ext cx="85726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思迅老板助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hon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安装“思迅老板助手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开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 Stor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程序，等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程序载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择收索选项页，在收索栏中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板助手查询系统”，等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 Stor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返回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询结果，然后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查询结果中，找到“深圳万国思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软件有限公司“的“老板助手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统”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IMG_0037"/>
          <p:cNvPicPr/>
          <p:nvPr/>
        </p:nvPicPr>
        <p:blipFill>
          <a:blip r:embed="rId1"/>
          <a:stretch/>
        </p:blipFill>
        <p:spPr>
          <a:xfrm>
            <a:off x="5572080" y="1236600"/>
            <a:ext cx="3357720" cy="46213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544680" y="773280"/>
            <a:ext cx="77724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安装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iphone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应用程序</a:t>
            </a:r>
            <a:endParaRPr b="0" lang="en-US" sz="3600" spc="-1" strike="noStrike">
              <a:solidFill>
                <a:srgbClr val="ff33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安装程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4680" y="773280"/>
            <a:ext cx="7772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6760" y="1231920"/>
            <a:ext cx="85726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思迅老板助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程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击，选中“老板助手查询系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看到“老板助手查询系统”的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介信息，然后再点击免费（此时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进入安装状态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待下载安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安装成功后，点击进入老板助手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IMG_0043"/>
          <p:cNvPicPr/>
          <p:nvPr/>
        </p:nvPicPr>
        <p:blipFill>
          <a:blip r:embed="rId1"/>
          <a:stretch/>
        </p:blipFill>
        <p:spPr>
          <a:xfrm>
            <a:off x="5500800" y="1285920"/>
            <a:ext cx="34495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初始配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544680" y="773280"/>
            <a:ext cx="7772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硬件配置</a:t>
            </a:r>
            <a:endParaRPr b="0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4200" y="1571760"/>
            <a:ext cx="8715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路由器外网访问配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P-Lin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访问路由器选择“动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项，请先申请一个花生壳或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动态域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配置您的动态域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账号密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板助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系统设置中，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此动态域名，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服务端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hone&amp;Andr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初始配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8G_BXX`1)_ULP~4NW(}DZYQ"/>
          <p:cNvPicPr/>
          <p:nvPr/>
        </p:nvPicPr>
        <p:blipFill>
          <a:blip r:embed="rId1"/>
          <a:stretch/>
        </p:blipFill>
        <p:spPr>
          <a:xfrm>
            <a:off x="3143160" y="2543040"/>
            <a:ext cx="5643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初始配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544680" y="773280"/>
            <a:ext cx="7772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硬件配置</a:t>
            </a:r>
            <a:endParaRPr b="0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14200" y="1571400"/>
            <a:ext cx="8715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路由器外网访问配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P-Lin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访问路由器选择“虚拟服务器”项，点击添加新条目，添加端口映射（注意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端口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必须是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思迅老板助手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程序”配置的端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电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，点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保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@U9NFLH{3G3]A5AE@$8B{WP"/>
          <p:cNvPicPr/>
          <p:nvPr/>
        </p:nvPicPr>
        <p:blipFill>
          <a:blip r:embed="rId1"/>
          <a:stretch/>
        </p:blipFill>
        <p:spPr>
          <a:xfrm>
            <a:off x="3214800" y="2500200"/>
            <a:ext cx="56433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初始配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544680" y="844560"/>
            <a:ext cx="77724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硬件配置</a:t>
            </a:r>
            <a:endParaRPr b="0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pic>
        <p:nvPicPr>
          <p:cNvPr id="103" name="Picture 2" descr="HJN756$Z5VL8ML3BP9C~3)3"/>
          <p:cNvPicPr/>
          <p:nvPr/>
        </p:nvPicPr>
        <p:blipFill>
          <a:blip r:embed="rId1"/>
          <a:stretch/>
        </p:blipFill>
        <p:spPr>
          <a:xfrm>
            <a:off x="1500120" y="1643040"/>
            <a:ext cx="6500880" cy="4637160"/>
          </a:xfrm>
          <a:prstGeom prst="rect">
            <a:avLst/>
          </a:prstGeom>
          <a:ln w="0">
            <a:noFill/>
          </a:ln>
        </p:spPr>
      </p:pic>
      <p:sp>
        <p:nvSpPr>
          <p:cNvPr id="104" name="内容占位符 5"/>
          <p:cNvSpPr/>
          <p:nvPr/>
        </p:nvSpPr>
        <p:spPr>
          <a:xfrm>
            <a:off x="214200" y="1446120"/>
            <a:ext cx="8715600" cy="45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系统设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571680" y="773280"/>
            <a:ext cx="77454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台服务程序初始设置</a:t>
            </a:r>
            <a:endParaRPr b="0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2884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包括服务器地址、数据库名称、服务端口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hon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序列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服务器地址和数据库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思迅老板助手配套产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支持商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专卖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食通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商业之星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如：商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所在电脑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数据库名称，默认的服务器地址和数据库名称分别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7.0.0.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即本地电脑）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posev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商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据库），点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修改数据库连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钮即可进行修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服务端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该端口不可设置，为无线传输服务端口，如果用户电脑有安装防火墙，请在该防火墙中开启此端口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hon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序列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连接到服务服务程序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hon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序列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系统设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44680" y="773280"/>
            <a:ext cx="77724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台服务程序初始设置</a:t>
            </a:r>
            <a:endParaRPr b="0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1"/>
          <a:stretch/>
        </p:blipFill>
        <p:spPr>
          <a:xfrm>
            <a:off x="1306440" y="1565280"/>
            <a:ext cx="62485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系统设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544680" y="773280"/>
            <a:ext cx="7772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户管理</a:t>
            </a:r>
            <a:endParaRPr b="0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47492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设置老板助手登录用户及相关权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户信息，可添加、修改用户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权限，选择用户后，可勾选每个用户的使用权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安装完后，管理员密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默认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建议用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安装完后修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员的密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143240" y="2867040"/>
            <a:ext cx="471492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8920" y="1928520"/>
            <a:ext cx="836316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74ace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5f5f5f"/>
                </a:solidFill>
                <a:latin typeface="黑体"/>
                <a:ea typeface="黑体"/>
              </a:rPr>
              <a:t>产品简介</a:t>
            </a:r>
            <a:r>
              <a:rPr b="1" lang="en-US" sz="3600" spc="-1" strike="noStrike">
                <a:solidFill>
                  <a:srgbClr val="5f5f5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74ace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5f5f5f"/>
                </a:solidFill>
                <a:latin typeface="黑体"/>
                <a:ea typeface="黑体"/>
              </a:rPr>
              <a:t>安装程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74ace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5f5f5f"/>
                </a:solidFill>
                <a:latin typeface="黑体"/>
                <a:ea typeface="黑体"/>
              </a:rPr>
              <a:t>初始配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74ace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5f5f5f"/>
                </a:solidFill>
                <a:latin typeface="黑体"/>
                <a:ea typeface="黑体"/>
              </a:rPr>
              <a:t>系统设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思迅老板助手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44680" y="773280"/>
            <a:ext cx="7772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3130560" y="1576440"/>
            <a:ext cx="2519280" cy="9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9b40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spcBef>
                <a:spcPts val="499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系统设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544680" y="773280"/>
            <a:ext cx="7772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迅老板助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iPhone&amp;Androi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初始配置</a:t>
            </a:r>
            <a:endParaRPr b="0" lang="en-US" sz="32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主要为与“思迅老板助手服务程序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连接所涉及的服务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地址和服务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口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服务端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运行《思迅老板助手服务程序》的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算机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地址，输入正确的服务端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址（注意外网访问使用动态域名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服务端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该端口须与后台服务端所开启的端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致（注意默认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9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881680" y="1576440"/>
            <a:ext cx="3048120" cy="4562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549360" y="6138720"/>
            <a:ext cx="712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宋体"/>
              </a:rPr>
              <a:t>注；程序装好后默认连接我司官方网站演示服务器（</a:t>
            </a:r>
            <a:r>
              <a:rPr b="0" lang="en-US" sz="1600" spc="-1" strike="noStrike">
                <a:solidFill>
                  <a:srgbClr val="ff0000"/>
                </a:solidFill>
                <a:latin typeface="宋体"/>
              </a:rPr>
              <a:t>www.siss.con.cn</a:t>
            </a:r>
            <a:r>
              <a:rPr b="0" lang="zh-CN" sz="16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1600" spc="-1" strike="noStrike">
              <a:solidFill>
                <a:srgbClr val="ff33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封面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Arial"/>
                <a:ea typeface="黑体"/>
              </a:rPr>
              <a:t>感谢您的聆听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产品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544680" y="773280"/>
            <a:ext cx="7772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0040" y="1213920"/>
            <a:ext cx="82296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思迅老板助手”是深圳万国思迅软件有限公司所研发的新一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hon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移动实时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统，实现与思迅零售行业、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卖行业、餐饮行业产品无缝完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结合，公司管理层人员可通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hon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c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平台实时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询公司的营业情况，查看关键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效的销售数据，极大提高了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作效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F:\ipad老板助手\temp\temp\IMG_0129.PNG"/>
          <p:cNvPicPr/>
          <p:nvPr/>
        </p:nvPicPr>
        <p:blipFill>
          <a:blip r:embed="rId1"/>
          <a:stretch/>
        </p:blipFill>
        <p:spPr>
          <a:xfrm>
            <a:off x="5524560" y="171468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产品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544680" y="773280"/>
            <a:ext cx="7772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思迅老板助手</a:t>
            </a:r>
            <a:endParaRPr b="0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迅老板助手”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部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迅老板助手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hon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程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迅老板助手服务程序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产品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544680" y="773280"/>
            <a:ext cx="7772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94608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系统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hon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程序通过网络连接到后台服务程序，再由后台服务程序通过传输协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访问数据库服务器获取查询数据，然后将查询数据反馈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hon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ADC71N[`%XT4~JF_7PEHG`C"/>
          <p:cNvPicPr/>
          <p:nvPr/>
        </p:nvPicPr>
        <p:blipFill>
          <a:blip r:embed="rId1"/>
          <a:stretch/>
        </p:blipFill>
        <p:spPr>
          <a:xfrm>
            <a:off x="1500120" y="2928960"/>
            <a:ext cx="63579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产品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544680" y="773280"/>
            <a:ext cx="7772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iphone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程序主界面</a:t>
            </a:r>
            <a:endParaRPr b="0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列表的方式展示查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功能项，并标注查询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项简要的备注说明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连接不同的思迅产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报表内容将各不相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348160" y="1305000"/>
            <a:ext cx="2867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产品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44680" y="773280"/>
            <a:ext cx="7772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查询功能项查询参数填写</a:t>
            </a:r>
            <a:endParaRPr b="0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按照查询条件输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357880" y="1785960"/>
            <a:ext cx="2619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产品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44680" y="773280"/>
            <a:ext cx="7772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查询显示</a:t>
            </a:r>
            <a:endParaRPr b="0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报表查询显示分为单条显示和多条显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571760" y="2428920"/>
            <a:ext cx="2786040" cy="3643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4923000" y="2428920"/>
            <a:ext cx="272088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产品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4680" y="773280"/>
            <a:ext cx="7772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1221840"/>
            <a:ext cx="82296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支持产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商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商业之星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食通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快餐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客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专卖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hop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烘焙之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服装之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3:43:47Z</dcterms:created>
  <dc:creator>番茄花园</dc:creator>
  <dc:description/>
  <dc:language>en-US</dc:language>
  <cp:lastModifiedBy>蓝凌软件</cp:lastModifiedBy>
  <dcterms:modified xsi:type="dcterms:W3CDTF">2013-03-27T07:21:58Z</dcterms:modified>
  <cp:revision>386</cp:revision>
  <dc:subject/>
  <dc:title>演讲标题</dc:title>
</cp:coreProperties>
</file>