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6CC-32C1-4719-BC9D-18F56DFB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3B2-BE18-430B-B340-FC7D6A65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16C-D59D-47DA-9EA3-CC13C87A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167-0440-48CC-A205-399BA8FF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818A-8E19-4500-A955-E9F516E0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888C-F4B3-45FD-AD89-0F219AF4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CBCA-5E24-47BF-B3B2-F40E7E18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C63D-A875-4A91-ADDB-C82BCB49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D69F-4466-48AA-A05E-7F142D2C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BD28-9F74-476B-ACE2-3FED1614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D4BF-2696-438F-AE96-66F3484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E92-69FB-4FEF-8658-1AB0CCE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B6DC-F2B2-464D-85D3-1D9ADCD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0B94-5BE3-46A4-9F68-A08BE5B5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1B77-404F-4195-8474-9CD7881A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3B60-F2CE-41DD-A1B0-E93443BA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F2C4-0309-437F-9607-D202D0B4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B7E-453F-47EF-9427-7EB86C97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A38-FCE5-4185-AFF9-0AF62127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4FC-8173-4CC5-B1B1-B12479A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634-00B1-46FA-AAA5-F5C23912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5B5-4229-4A7F-B1DA-12F9514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237-F38D-4C22-AAC8-EBAC631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71C-9907-4501-9B26-608093B5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BC8B-A5B9-48AB-8937-A11D852B3227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DA53-BBBD-4F59-92EB-A63DA7A1B273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 Black"/>
                <a:ea typeface="黑体"/>
              </a:rPr>
              <a:t>第</a:t>
            </a:r>
            <a:r>
              <a:rPr b="1" lang="zh-CN" sz="4400" spc="-1" strike="noStrike">
                <a:solidFill>
                  <a:srgbClr val="ccecff"/>
                </a:solidFill>
                <a:latin typeface="Arial Black"/>
                <a:ea typeface="黑体"/>
              </a:rPr>
              <a:t>10</a:t>
            </a:r>
            <a:r>
              <a:rPr b="1" lang="zh-CN" sz="4400" spc="-1" strike="noStrike">
                <a:solidFill>
                  <a:srgbClr val="ccecff"/>
                </a:solidFill>
                <a:latin typeface="Arial Black"/>
                <a:ea typeface="黑体"/>
              </a:rPr>
              <a:t>章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动画设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动画是用连续的图片来表述物体的运动，给人的感觉更直观和清晰。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SolidWorks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利用自带插件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Motion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可以制作产品的动画演示，并可做运动分析。本章主要介绍运动算例简介、装配体爆炸动画、旋转动画、视像属性动画、距离和角度配合动画以及物理模拟动画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6.1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引力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843280" y="2205000"/>
            <a:ext cx="40338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6.2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线性马达和旋转马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45080" y="1600200"/>
            <a:ext cx="1917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6.3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线性弹簧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56000" y="1557360"/>
            <a:ext cx="2131920" cy="5300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076720" y="2421000"/>
            <a:ext cx="2395800" cy="3600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7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范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6920" y="1628640"/>
            <a:ext cx="745200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1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运动算例简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）动画（可在核心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olidWorks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内使用）：可使用动画来演示装配体的运动，例如：添加马达来驱动装配体一个或多个零件的运动；使用设定键码点在不同时间规定装配体零部件的位置。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22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）基本运动（可在核心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olidWorks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内使用）：可使用基本运动在装配体上模仿马达、弹簧、碰撞，以及引力，基本运动在计算运动时考虑到质量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22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）运动分析（可在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olidWorks premium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的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olidWorks Motion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插件中使用）：可使用运动分析装配体上精确模拟和分析运动单元的效果（包括力、弹簧、阻尼，以及摩擦）。运动分析使用计算能力强大的动力求解器，在计算中考虑到材料属性和质量及惯性。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1.1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时间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989000"/>
            <a:ext cx="860400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1.2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键码点和键码属性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5480" y="2354400"/>
            <a:ext cx="73548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2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装配体爆炸动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1557360"/>
            <a:ext cx="56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3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旋转动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71640" y="1484280"/>
            <a:ext cx="7056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4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视像属性动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411280" y="1484280"/>
            <a:ext cx="4503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5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距离或者角度配合动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43080" y="2209680"/>
            <a:ext cx="50659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240000"/>
              </a:lnSpc>
              <a:spcBef>
                <a:spcPts val="2001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10.6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物理模拟动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8:04:41Z</dcterms:created>
  <dc:creator>MC SYSTEM</dc:creator>
  <dc:description/>
  <dc:language>en-US</dc:language>
  <cp:lastModifiedBy>MC SYSTEM</cp:lastModifiedBy>
  <dcterms:modified xsi:type="dcterms:W3CDTF">2014-11-14T00:17:36Z</dcterms:modified>
  <cp:revision>7</cp:revision>
  <dc:subject/>
  <dc:title>第10章动画设计</dc:title>
</cp:coreProperties>
</file>