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EEE-37D2-4F83-842C-DAAF245B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D7F-02F5-463D-8422-AE66A31D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168-A25E-44A0-AD45-B870D1EE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BA2-CD5B-4363-930D-9C8AFB77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5B4-ECD4-4468-8FC6-8C670AAA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88E-99DE-4C92-BEB2-36F51DC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E8C-15F5-45E0-B22E-7218F7DC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4C9-D134-42BC-8919-93266559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6E0-D3A1-4769-9364-49A0BD2C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5E7-FA0A-43D2-9735-45B6C1A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999-831A-4367-BC19-7DF41831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122-0CE1-4B36-BE8B-D318F6C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259C-7125-423C-B3DD-19890F132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200211817249788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962520" y="259092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宋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357200" y="685800"/>
            <a:ext cx="687240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送东阳马生序 </a:t>
            </a:r>
            <a:endParaRPr b="1" lang="en-US" sz="8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0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4" descr=""/>
          <p:cNvPicPr/>
          <p:nvPr/>
        </p:nvPicPr>
        <p:blipFill>
          <a:blip r:embed="rId2"/>
          <a:stretch/>
        </p:blipFill>
        <p:spPr>
          <a:xfrm>
            <a:off x="893880" y="1219320"/>
            <a:ext cx="758988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95280" y="2276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自己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求学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627280" y="836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幼时求书之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627280" y="242100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成年从师之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91840" y="4135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总结求学艰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411280" y="1052640"/>
            <a:ext cx="358920" cy="3600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540240" y="148428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余幼时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余因得遍观群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322440" y="3141720"/>
            <a:ext cx="40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既加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不知口体之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不若人也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885480" y="486900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最后一句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08000" y="1915920"/>
            <a:ext cx="187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嗜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力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908000" y="3357720"/>
            <a:ext cx="19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苦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勤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7280" y="2060640"/>
            <a:ext cx="15210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求学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859280" y="2276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致书之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6655320" y="1413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118240" y="1413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20"/>
          <p:cNvSpPr txBox="1"/>
          <p:nvPr/>
        </p:nvSpPr>
        <p:spPr>
          <a:xfrm>
            <a:off x="755640" y="549360"/>
            <a:ext cx="734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66ff"/>
                  </a:solidFill>
                  <a:round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克难乐学，鼓励马生</a:t>
            </a:r>
            <a:endParaRPr b="1" lang="en-US" sz="2400" spc="1" strike="noStrike">
              <a:ln w="12600">
                <a:solidFill>
                  <a:srgbClr val="3366ff"/>
                </a:solidFill>
                <a:round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771640" y="1700280"/>
            <a:ext cx="3673440" cy="288720"/>
          </a:xfrm>
          <a:prstGeom prst="leftArrow">
            <a:avLst>
              <a:gd name="adj1" fmla="val 50000"/>
              <a:gd name="adj2" fmla="val 31802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679320" y="4985640"/>
            <a:ext cx="84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每假借于藏书之家，手自笔录，计日以还。天大寒，砚冰坚，手指不可屈伸 ，弗之怠。录毕，走送之，不敢稍逾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859280" y="2852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师之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859280" y="342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奔走之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85928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之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971640" y="4581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趋百里外，从乡之先达执经叩问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俯身傾耳以请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遇其叱咄，色愈恭，礼愈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042920" y="443700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负箧曳屣行深山巨谷中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穷冬烈风，大雪深数尺，足肤皲裂而不知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四支僵劲不能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1187280" y="472428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日再食，无鲜肥滋味之享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缊袍敝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1" descr="20021181724978886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0" descr="007248"/>
          <p:cNvPicPr/>
          <p:nvPr/>
        </p:nvPicPr>
        <p:blipFill>
          <a:blip r:embed="rId2"/>
          <a:stretch/>
        </p:blipFill>
        <p:spPr>
          <a:xfrm>
            <a:off x="5580000" y="4581360"/>
            <a:ext cx="1897200" cy="15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2195640" y="472356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作者：緼袍敝衣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日仅再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6"/>
          <p:cNvSpPr txBox="1"/>
          <p:nvPr/>
        </p:nvSpPr>
        <p:spPr>
          <a:xfrm rot="5400000">
            <a:off x="6263640" y="224136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对比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5240" y="9810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师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态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39640" y="361620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情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763640" y="549360"/>
            <a:ext cx="39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师：辞色严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甚至叱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835280" y="198900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生：色愈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礼愈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619280" y="314172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同舍生：衣饰华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饮食鲜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92360" y="98100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1619280" y="364500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300080" y="549360"/>
            <a:ext cx="7898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对比鲜明，有说服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406120" y="76500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尊师重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06120" y="357336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乐在学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9" descr="0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007248"/>
          <p:cNvPicPr/>
          <p:nvPr/>
        </p:nvPicPr>
        <p:blipFill>
          <a:blip r:embed="rId2"/>
          <a:stretch/>
        </p:blipFill>
        <p:spPr>
          <a:xfrm>
            <a:off x="611280" y="4797360"/>
            <a:ext cx="189684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4920" y="907920"/>
            <a:ext cx="9001080" cy="21657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翻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余幼时即嗜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喜欢，爱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；特殊的爱好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763640" y="4365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年幼时就爱好读书。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88920" y="290520"/>
            <a:ext cx="9001080" cy="2775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家贫，无从致书以观，每假借于藏书之家，手自笔录，计日以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无从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没有办法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致：取得，这里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买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的意思。每：</a:t>
            </a:r>
            <a:r>
              <a:rPr b="1" lang="zh-CN" sz="4400" spc="-1" strike="noStrike">
                <a:solidFill>
                  <a:srgbClr val="008000"/>
                </a:solidFill>
                <a:latin typeface="宋体"/>
              </a:rPr>
              <a:t>常常，时常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假借：假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jiǎ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假，借同义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9840" y="4444920"/>
            <a:ext cx="89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家里穷，没有办法得到书，就经常向有书的人家去借，亲手用笔抄写，计算着约定的日子按期归还。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20760" y="333360"/>
            <a:ext cx="8437320" cy="28033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天大寒，砚冰坚，手指不可屈伸，弗之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弗之怠：“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弗怠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，否定句中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代词作宾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前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怠，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懈怠，放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之：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指抄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79280" y="47131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气特别冷的时候，砚池里的墨水结成坚冰，手指不能屈伸，也不敢放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776160" y="826920"/>
            <a:ext cx="7602840" cy="17838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录毕，走送之，不敢稍逾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走：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跑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越过、超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约：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约定的期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830160" y="4149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抄写完毕，赶快把书送还，不敢稍稍超过约定的期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41520" y="399960"/>
            <a:ext cx="7602480" cy="24541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以是人多以书假余，余因得遍观群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以是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因此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以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把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假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借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因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因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得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能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00120" y="3573360"/>
            <a:ext cx="767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，人家多愿意把书借给我，我也因此能够看到各种各样的书。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79280" y="115920"/>
            <a:ext cx="8640720" cy="163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既加冠，益慕圣贤之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既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已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益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更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道，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学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71440" y="20606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成年以后，更加仰慕古代圣贤的学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71440" y="3068640"/>
            <a:ext cx="8332920" cy="163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又患无硕师名人与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患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硕师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才学渊博的老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硕，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 游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交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41200" y="5732640"/>
            <a:ext cx="80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又担心没有大师、名人与自己交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言道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古雄才多磨难，从来纨绔少伟男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孟子也说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夫天将降大任于斯人也，必先苦其心志，劳其筋骨，饿其体肤，空乏其身，行拂乱其所为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些都说明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苦难并非全是坏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只要我们善于化苦难为动力，则苦难就会成为成功的垫脚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468360" y="260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赠言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28600"/>
            <a:ext cx="8569440" cy="2803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尝趋百里外从乡之先达执经叩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尝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曾经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趋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快步走，奔赴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从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：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乡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之先达：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</a:rPr>
              <a:t>当地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道德学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的前辈。  </a:t>
            </a:r>
            <a:r>
              <a:rPr b="1" lang="zh-CN" sz="4400" spc="-1" strike="noStrike">
                <a:solidFill>
                  <a:srgbClr val="008000"/>
                </a:solidFill>
                <a:latin typeface="宋体"/>
              </a:rPr>
              <a:t>叩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问：</a:t>
            </a:r>
            <a:r>
              <a:rPr b="1" lang="zh-CN" sz="4400" spc="-1" strike="noStrike">
                <a:solidFill>
                  <a:srgbClr val="008000"/>
                </a:solidFill>
                <a:latin typeface="宋体"/>
              </a:rPr>
              <a:t>请教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1128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曾经跑到百里以外捧着经书向同乡有道德学问的前辈请教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50920" y="101520"/>
            <a:ext cx="8642160" cy="2409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先达德隆望尊，门人弟子填其室，未尝稍降辞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德隆望尊：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德高望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</a:rPr>
              <a:t>道德声望高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填：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</a:rPr>
              <a:t>充塞，挤满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  降：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</a:rPr>
              <a:t>和缓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辞色：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语言和脸色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30040" y="4653000"/>
            <a:ext cx="868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辈德高望重，向他求教的学生挤满了屋子，他从不把言辞和表情放温和些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9640" y="189000"/>
            <a:ext cx="8164800" cy="18486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余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立侍左右，援疑质理，俯身倾耳以请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立侍：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站着侍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以：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73120" y="3720960"/>
            <a:ext cx="801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我站在旁边侍候着，提出疑难，询问道理，弯着身子，侧着耳朵，向他请教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468360" y="260280"/>
            <a:ext cx="8280360" cy="2725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或遇其叱咄，色愈恭，礼愈至，不敢出一言以复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或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有时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叱咄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duō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训斥，呵责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至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周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87240" y="407664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有时遇到他斥责，我的表情更加恭顺，礼节更加周到，一句话也不敢多说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544680" y="620640"/>
            <a:ext cx="8208720" cy="27259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俟其欣悦，则又请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俟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等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则又请焉：焉，兼词，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于之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的合音，向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84360" y="48229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等到他高兴了，就又去请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541440" y="228600"/>
            <a:ext cx="7343640" cy="19371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故余虽愚，卒获有所闻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卒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最终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90680" y="2781360"/>
            <a:ext cx="81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所以我虽然愚笨，但终于能够有所收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20640" y="115920"/>
            <a:ext cx="779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本段讲述作者</a:t>
            </a:r>
            <a:r>
              <a:rPr b="1" lang="zh-CN" sz="4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求学之难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8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用心之专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分为两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50920" y="1662120"/>
            <a:ext cx="880884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层：叙述幼时求学的情形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了求学的勤和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层：叙述成年后求师的情形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了求师之难和作者求知的渴望和决心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79280" y="115920"/>
            <a:ext cx="8785440" cy="31413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当余之从师也，负箧曳屣，行深山巨谷中，穷冬烈风，大雪深数尺，足肤皲裂而不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当余之从师也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之，助词，取消句子独立性，不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箧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书箱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屣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x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拖着鞋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曳，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拖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屣，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鞋子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穷冬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隆冬，深冬，严冬 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皲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ū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裂：皮肤因寒冷干燥而开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82520" y="52880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当我从师求学的时候，背着书箱，拖着鞋子，行走在深山大谷里，深冬季节，刮着猛烈的寒风，踏着几尺深的积雪，脚上的皮肤冻裂了还不知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79280" y="115920"/>
            <a:ext cx="8856720" cy="35679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至舍，四支僵劲不能动，媵人持汤沃灌，以衾拥覆，久而乃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舍：这里指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学舍、书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支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通“肢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僵劲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僵硬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ì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服侍的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汤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热水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沃灌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浇洗，擦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衾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被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拥覆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围盖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久而：时间副词，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好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而，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副词词尾，不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缓解（过来），暖和（过来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90440" y="4811760"/>
            <a:ext cx="88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到了客舍，四肢僵硬不能动弹，伙计端来热水给我洗手洗脚，用被子给我盖上，很久才暖和过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17600" y="4724280"/>
            <a:ext cx="844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住在客舍里，每天只吃两顿饭，没有新鲜肥美的东西可以享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35040" y="228600"/>
            <a:ext cx="8229600" cy="26683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寓逆旅，主人日再食，无鲜肥滋味之享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寓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寄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逆旅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旅店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再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两次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食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同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饲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0000cc"/>
                </a:solidFill>
                <a:latin typeface="宋体"/>
              </a:rPr>
              <a:t>，给饭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7174080" y="32846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P1000495_JPG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1628640"/>
          </a:xfrm>
          <a:prstGeom prst="rect">
            <a:avLst/>
          </a:prstGeom>
          <a:ln w="0">
            <a:noFill/>
          </a:ln>
        </p:spPr>
      </p:pic>
      <p:pic>
        <p:nvPicPr>
          <p:cNvPr id="48" name="Object 4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743200" cy="4514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6248520" y="380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115920"/>
            <a:ext cx="543564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宋濂，字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景濂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，号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潜溪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明朝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初期著名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文学家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，生平著作甚丰，曾主修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元史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》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与刘基、高启并称为明初诗文三大家，为明代“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开国文臣之首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9080" y="146160"/>
            <a:ext cx="8945640" cy="4385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同舍生皆被绮绣，戴朱缨宝饰之帽，腰白玉之环，左佩刀，右备容臭，烨然若神人；余则缊袍敝衣处其间，略无慕艳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朱缨宝饰之帽：用红缨珠宝装饰的帽子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容臭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香袋，香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臭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气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这里指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香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 烨然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光彩照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的样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敝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破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略无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毫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慕艳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羡慕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意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神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9080" y="146160"/>
            <a:ext cx="8945640" cy="13129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同舍生皆被绮绣，戴朱缨宝饰之帽，腰白玉之环，左佩刀，右备容臭，烨然若神人；余则缊袍敝衣处其间，略无慕艳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360" y="2544840"/>
            <a:ext cx="90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跟我住在一起的同学，都穿着华丽的衣服，戴着红缨装饰成的缀着珠宝的帽子，腰上系着白玉环，左边佩着刀，右边挂着香袋，浑身光彩照耀，像神仙一样。我却穿着破棉袄，旧衣衫，生活在他们当中，一点不羡慕他们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79280" y="228600"/>
            <a:ext cx="8713800" cy="163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以中有足乐者，不知口体之奉不若人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以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因为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中：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内心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口体之奉： 指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吃的穿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79280" y="3429000"/>
            <a:ext cx="794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因为心中有足以快乐的事，不感到衣食的享受比不上其他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79280" y="4869000"/>
            <a:ext cx="7632720" cy="703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盖余之勤且艰若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9280" y="59738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求学时的勤奋和艰苦大概就是这样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299880" y="189000"/>
            <a:ext cx="85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第二段，讲述作者求学时道路之艰辛，生活之简朴，得出要勤奋求学的结论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14360" y="2313000"/>
            <a:ext cx="846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、写从师求教道路的艰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二、叙述生活的简朴，与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同舍生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比较，说明作者一心向学的心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、总括全段，说明学有所成的原因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4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词多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患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970640" y="119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既加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358720" y="1844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太尉以才略冠天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140360" y="1125360"/>
            <a:ext cx="62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男子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0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岁成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64000" y="1773360"/>
            <a:ext cx="42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天下第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174400" y="2349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俯身倾耳以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062800" y="29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战则请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500720" y="2852640"/>
            <a:ext cx="32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请让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859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请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97560" y="342900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再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1970640" y="40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再而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708360" y="33577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两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564000" y="4005360"/>
            <a:ext cx="32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第二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523960" y="4581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又患无硕师名人与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2081880" y="522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无冻馁之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6084720" y="4508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担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4500720" y="5157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忧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619280" y="148428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1619280" y="256536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2"/>
          <p:cNvSpPr/>
          <p:nvPr/>
        </p:nvSpPr>
        <p:spPr>
          <a:xfrm>
            <a:off x="1547640" y="371628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1547640" y="4869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333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古今词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媵人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沃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送之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尝趋百里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遇其叱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获有所闻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是人多以书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499360" y="47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热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499360" y="98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菜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812400" y="148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99000" y="198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行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385600" y="249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快步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26280" y="299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趋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849920" y="350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有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778640" y="40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或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923000" y="44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最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92300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士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6044400" y="522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931000" y="5805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假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3708360" y="54936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 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今义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195640" y="1557360"/>
            <a:ext cx="187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 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今义 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3635280" y="249228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 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今义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3203640" y="3573360"/>
            <a:ext cx="194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 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今义 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4500720" y="5303880"/>
            <a:ext cx="165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 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今义 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3203640" y="4508640"/>
            <a:ext cx="208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 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今义 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3708360" y="765000"/>
            <a:ext cx="71640" cy="71928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2195640" y="1700280"/>
            <a:ext cx="71280" cy="7189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564000" y="270828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3276720" y="3789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3203640" y="465300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7"/>
          <p:cNvSpPr/>
          <p:nvPr/>
        </p:nvSpPr>
        <p:spPr>
          <a:xfrm>
            <a:off x="4500720" y="5589720"/>
            <a:ext cx="71280" cy="7189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68360" y="549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词性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白玉之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、通假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四支劲不能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同舍生皆被绮绣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024800" y="9810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手──动手，名词用作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笔──用笔，名词作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293000" y="20606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挂在腰间，名词用作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105640" y="4149720"/>
            <a:ext cx="29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支 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肢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34360" y="5446800"/>
            <a:ext cx="29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被 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穿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难句解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000" y="11970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或遇其叱咄，色愈恭，礼愈至，不敢出一言以复；俟其欣悦，则又请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以中有足乐者，不知口体之奉不若人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39640" y="19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有时遇到先达训斥，（自己的）脸色（就）更加恭敬，礼节（就）更加周到不敢（随便地）回一句话，等到先达高兴了，就又去请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84360" y="456876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因为（我的）心中有足以快乐的（读书）事，（我）不去理会嘴里吃的和身上穿的不如别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611280" y="549360"/>
            <a:ext cx="806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每假借于藏书之家。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无从致书以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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益慕圣贤之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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62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每：时常。假借：同义词连用，可译为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。时常向藏有书籍的人家去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826920" y="299736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无从：没有办法。致：取得，这里指买到。没有办法买书来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63200" y="4869000"/>
            <a:ext cx="62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道：学说。更加仰慕古代圣贤的学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678760" y="692280"/>
            <a:ext cx="169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又患无硕师名人与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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俟其欣悦，则又请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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01640" y="1268280"/>
            <a:ext cx="844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硕：大。硕师即大师，才学渊博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游：交往。又担心没有才学渊博的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师，不能与有名望的人交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736360" y="3755880"/>
            <a:ext cx="34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俟：等待。欣悦：高兴。请：请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焉：兼词，“于之”的合音，向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等先生高兴了，便又向他请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15920"/>
            <a:ext cx="914400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序，文体名。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作为文章的体裁，序有书序和赠序之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文是一篇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赠序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赠序是古代的一种文体，其中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并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序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而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赠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书序，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即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序言，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相当于前言后记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。赠序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为推重、赞许或勉励之辞。它与书序的性质不同，为文人之间的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赠言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本文即属此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7620120" y="5541840"/>
            <a:ext cx="1523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11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四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句式解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弗之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71640" y="213372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否定句，代词“之”作宾语，动词后置。“之”代笔录的事。“弗怠之”就是“不懈怠抄书这件事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5" descr="007248"/>
          <p:cNvPicPr/>
          <p:nvPr/>
        </p:nvPicPr>
        <p:blipFill>
          <a:blip r:embed="rId1"/>
          <a:stretch/>
        </p:blipFill>
        <p:spPr>
          <a:xfrm>
            <a:off x="5219640" y="4437000"/>
            <a:ext cx="189720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187280" y="765000"/>
            <a:ext cx="7220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衾拥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家贫，无从致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俯身倾耳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有足乐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人多以书假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443960" y="1890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虚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8852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021200" y="692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介词，相当于“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713320" y="17002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连词，表目的，译为“来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221560" y="2708280"/>
            <a:ext cx="49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连词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表修饰关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连接状语与中心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2466000" y="371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连词，表原因，相当于“因为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1952640" y="4581360"/>
            <a:ext cx="513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前一个“以”同“是”组成复音虚词，相当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因此”，引出事理发展或推理的结果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后一个“以”是介词，相当于“把”或“拿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971640" y="907920"/>
            <a:ext cx="144360" cy="360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16000" y="836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录毕，走送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鲜肥滋味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享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弗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余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师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549040" y="134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代词 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56203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助词 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635280" y="2492280"/>
            <a:ext cx="36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助词 提宾的标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95160" y="1706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1332000" y="170028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9" descr="007248"/>
          <p:cNvPicPr/>
          <p:nvPr/>
        </p:nvPicPr>
        <p:blipFill>
          <a:blip r:embed="rId1"/>
          <a:stretch/>
        </p:blipFill>
        <p:spPr>
          <a:xfrm>
            <a:off x="5364000" y="4437000"/>
            <a:ext cx="1897200" cy="15811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"/>
          <p:cNvSpPr/>
          <p:nvPr/>
        </p:nvSpPr>
        <p:spPr>
          <a:xfrm>
            <a:off x="3025800" y="37688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助词，取消句子独立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品读赏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说作者在求学过程中遇到了哪些困难，他是如何克服的，他为什么能够这么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0084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9" descr="P1000495_JPG"/>
          <p:cNvPicPr/>
          <p:nvPr/>
        </p:nvPicPr>
        <p:blipFill>
          <a:blip r:embed="rId1"/>
          <a:stretch/>
        </p:blipFill>
        <p:spPr>
          <a:xfrm>
            <a:off x="0" y="55440"/>
            <a:ext cx="3124080" cy="13924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83268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讨论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0" y="1197000"/>
            <a:ext cx="8839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求学过程中遇到了哪些困难？他是如何克服的？（可引用原文的词语或者句子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9528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家贫，无从致书以观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979640" y="3933720"/>
            <a:ext cx="288720" cy="792360"/>
          </a:xfrm>
          <a:prstGeom prst="downArrow">
            <a:avLst>
              <a:gd name="adj1" fmla="val 50000"/>
              <a:gd name="adj2" fmla="val 68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395280" y="472428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困难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读书的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5940360" y="299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解决办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6732720" y="3645000"/>
            <a:ext cx="288720" cy="792000"/>
          </a:xfrm>
          <a:prstGeom prst="downArrow">
            <a:avLst>
              <a:gd name="adj1" fmla="val 50000"/>
              <a:gd name="adj2" fmla="val 685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5003640" y="4653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常借书于人，手自笔录，天大寒而弗之怠，走送之，因此得以遍观群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P1000495_JPG"/>
          <p:cNvPicPr/>
          <p:nvPr/>
        </p:nvPicPr>
        <p:blipFill>
          <a:blip r:embed="rId1"/>
          <a:stretch/>
        </p:blipFill>
        <p:spPr>
          <a:xfrm>
            <a:off x="0" y="55440"/>
            <a:ext cx="3124080" cy="13924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83268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讨论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1197000"/>
            <a:ext cx="8839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求学过程中遇到了哪些困难？他是如何克服的？（可引用原文的词语或者句子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39528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患无硕师名人与游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1979640" y="3933720"/>
            <a:ext cx="288720" cy="792360"/>
          </a:xfrm>
          <a:prstGeom prst="downArrow">
            <a:avLst>
              <a:gd name="adj1" fmla="val 50000"/>
              <a:gd name="adj2" fmla="val 685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95280" y="472428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困难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求师的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940360" y="299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解决办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6732720" y="3645000"/>
            <a:ext cx="288720" cy="792000"/>
          </a:xfrm>
          <a:prstGeom prst="downArrow">
            <a:avLst>
              <a:gd name="adj1" fmla="val 50000"/>
              <a:gd name="adj2" fmla="val 685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003640" y="4653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趋百里外，从师叩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P1000495_JPG"/>
          <p:cNvPicPr/>
          <p:nvPr/>
        </p:nvPicPr>
        <p:blipFill>
          <a:blip r:embed="rId1"/>
          <a:stretch/>
        </p:blipFill>
        <p:spPr>
          <a:xfrm>
            <a:off x="0" y="55440"/>
            <a:ext cx="3124080" cy="13924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3"/>
          <p:cNvSpPr/>
          <p:nvPr/>
        </p:nvSpPr>
        <p:spPr>
          <a:xfrm>
            <a:off x="83268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讨论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0" y="1197000"/>
            <a:ext cx="8839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在求学过程中遇到了哪些困难？他是如何克服的？（可引用原文的词语或者句子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79280" y="3141720"/>
            <a:ext cx="561672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负箧曳屣行深山巨谷中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”“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足肤皲裂而不知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四支僵劲不能动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无鲜肥滋味之享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缊袍敝衣处其间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979640" y="4508640"/>
            <a:ext cx="288720" cy="792000"/>
          </a:xfrm>
          <a:prstGeom prst="downArrow">
            <a:avLst>
              <a:gd name="adj1" fmla="val 50000"/>
              <a:gd name="adj2" fmla="val 685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95280" y="537372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困难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求学的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5940360" y="299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解决办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6732720" y="3645000"/>
            <a:ext cx="288720" cy="792000"/>
          </a:xfrm>
          <a:prstGeom prst="downArrow">
            <a:avLst>
              <a:gd name="adj1" fmla="val 50000"/>
              <a:gd name="adj2" fmla="val 685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4643280" y="465300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以中有足乐者，不知口体之奉不若人也。”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精神上的富足，战胜了物质上的贫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P1000495_JPG"/>
          <p:cNvPicPr/>
          <p:nvPr/>
        </p:nvPicPr>
        <p:blipFill>
          <a:blip r:embed="rId1"/>
          <a:stretch/>
        </p:blipFill>
        <p:spPr>
          <a:xfrm>
            <a:off x="0" y="55440"/>
            <a:ext cx="3124080" cy="13924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83268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讨论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0" y="1197000"/>
            <a:ext cx="883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能克服种种困难，而“卒获有所闻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依靠精神的力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中有足乐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写自己艰苦求学的经历的目的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勉励马生勤奋学习，成为德才兼备的人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76320" y="0"/>
            <a:ext cx="89154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要写同舍生的衣饰豪华的情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通过对比写自己生活的艰苦，突出学习勤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成年求学时对老师是什么态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态度：毕恭毕敬，不敢出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本文作者勉励马生勤奋学习，并不讲大道理，却直接以自身经历相告，这样写有什么好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自身经历相告，现身说法，晓之以理，动之以情，态度恳切，易于接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送东阳马生"/>
          <p:cNvPicPr/>
          <p:nvPr/>
        </p:nvPicPr>
        <p:blipFill>
          <a:blip r:embed="rId1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41128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洪武十一年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宋濂告老还乡的第二年，应诏入朝晋见。正在太学读书的同乡晚辈马君则前来拜访，宋濂写了这篇序，介绍自己的学习经历和学习态度，勉励他勤奋学习，成为德才兼备的人。本课只节选了序文的前半部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对晚辈的称呼，也有亲密的意思。东阳马生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东阳的马君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3333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品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02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4920" y="1413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完本文，作者有哪些精神品质值得我们学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11280" y="306864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不畏艰苦、刻苦勤奋的求学精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坚守信约（不敢稍逾约）、谦虚有礼（俯身倾耳以请、色愈恭，礼愈至）的美好品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囊萤映雪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晋车胤和孙康的学习故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悬梁刺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战国苏秦的学习故事，也叫“头悬梁，锥刺股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凿壁偷光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西汉匡衡的学习故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韦编三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（孔子晚年读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易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的故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68360" y="404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古人勤学的故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苦读、勤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名言警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勤能补拙是良训，一分辛劳一分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书山有路勤为径，学海无涯苦作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业精于勤荒于嬉，行成于思毁于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、宝剑锋从磨砺出，梅花香自苦寒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勤劳一日，可得一夜安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勤劳一生，可得幸福长眠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0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0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7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总结全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4360" y="1483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本文的阅读，你如何看待学习条件与学习好坏之间的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468360" y="3068640"/>
            <a:ext cx="8136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学习条件的好坏对学习有影响，但不是绝对的。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主观上的勤奋努力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才是学习取得成功的关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WordArt 3" descr=""/>
          <p:cNvPicPr/>
          <p:nvPr/>
        </p:nvPicPr>
        <p:blipFill>
          <a:blip r:embed="rId1"/>
          <a:stretch/>
        </p:blipFill>
        <p:spPr>
          <a:xfrm>
            <a:off x="790560" y="1836720"/>
            <a:ext cx="7780320" cy="2341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LSR00055"/>
          <p:cNvPicPr/>
          <p:nvPr/>
        </p:nvPicPr>
        <p:blipFill>
          <a:blip r:embed="rId2"/>
          <a:stretch/>
        </p:blipFill>
        <p:spPr>
          <a:xfrm>
            <a:off x="4716360" y="4091040"/>
            <a:ext cx="4248360" cy="2766960"/>
          </a:xfrm>
          <a:prstGeom prst="rect">
            <a:avLst/>
          </a:prstGeom>
          <a:ln w="0">
            <a:noFill/>
          </a:ln>
        </p:spPr>
      </p:pic>
      <p:sp>
        <p:nvSpPr>
          <p:cNvPr id="313" name="WordArt 6"/>
          <p:cNvSpPr txBox="1"/>
          <p:nvPr/>
        </p:nvSpPr>
        <p:spPr>
          <a:xfrm>
            <a:off x="826920" y="333360"/>
            <a:ext cx="4464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拓展学习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4" name="WordArt 7"/>
          <p:cNvSpPr txBox="1"/>
          <p:nvPr/>
        </p:nvSpPr>
        <p:spPr>
          <a:xfrm>
            <a:off x="1042920" y="4941720"/>
            <a:ext cx="3097440" cy="9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读后感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08000" y="185760"/>
            <a:ext cx="892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读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送东阳马生序</a:t>
            </a:r>
            <a:r>
              <a:rPr b="1" lang="en-US" sz="3600" spc="-1" strike="noStrike">
                <a:solidFill>
                  <a:srgbClr val="003399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有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天学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送东阳马生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篇文章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想了很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宋濂是明初的散文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被誉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开国文臣之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谁想到这样一个伟人背后却有那么多的心酸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轻的他为了求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惜在冬天雪地里穿着破鞋去上门请教老师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了能学到知识他面对老师的责骂却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礼愈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色愈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满腹经论让他觉得自己很富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不与别的富家子弟比吃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想多学知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是怎样的一种境界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后文所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250920" y="333000"/>
            <a:ext cx="842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太学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是与现在的我们一样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小出生在父母的呵护中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像一朵温室之花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用担心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住，行，照理来说我们比宋濂幸运得多了，我们更应该好好读书，有远大的抱负，但像宋濂一样能干出一番事业的人又有多少呢？大多数的学生整天只和别人比吃，穿，对于自己的成绩却不屑一顾，每逢考试都只想多抄几道题目，却不肯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50920" y="620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好好用功，可悲呀！父母养育了我们这么多年，含辛茹苦，只希望儿女都能成龙成凤，出人头地，可是反而弄巧成拙，这能怪谁，只能怪我们自己，光口头说说长大想要一份好的工作，能出人头地，可是做的却与说的相反。天上不会掉下黄金的，一切只能靠我们自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38080" y="2133720"/>
            <a:ext cx="7239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5410080" y="2362320"/>
            <a:ext cx="25909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684360" y="227664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你还能举出一些古人在艰苦条件下勤奋学习、以苦为乐的事例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WordArt 8"/>
          <p:cNvSpPr txBox="1"/>
          <p:nvPr/>
        </p:nvSpPr>
        <p:spPr>
          <a:xfrm>
            <a:off x="1403280" y="333360"/>
            <a:ext cx="446400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拓展学习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小资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24000" y="1413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囊萤映雪（晋车胤和孙康的学习故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悬梁刺股（战国苏秦的学习故事，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叫“头悬梁，锥刺股 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凿壁偷光（西汉匡衡的学习故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韦编三绝（孔子晚年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易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故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画荻教子（欧阳修的学习故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4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1000495_JPG"/>
          <p:cNvPicPr/>
          <p:nvPr/>
        </p:nvPicPr>
        <p:blipFill>
          <a:blip r:embed="rId1"/>
          <a:stretch/>
        </p:blipFill>
        <p:spPr>
          <a:xfrm>
            <a:off x="0" y="76320"/>
            <a:ext cx="3962520" cy="1765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50920" y="1752480"/>
            <a:ext cx="856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理清思路，理解全文，学习用对比手法来表现中心的写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理解“以”字的用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学习古人求知若渴，克服艰难困苦，勤奋学习的精神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457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0138"/>
          <p:cNvPicPr/>
          <p:nvPr/>
        </p:nvPicPr>
        <p:blipFill>
          <a:blip r:embed="rId1"/>
          <a:srcRect l="5244" t="6314" r="4870" b="0"/>
          <a:stretch/>
        </p:blipFill>
        <p:spPr>
          <a:xfrm>
            <a:off x="5940360" y="41911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34648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40920" y="1628640"/>
            <a:ext cx="60220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学习中的苦和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为话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写一篇文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注意辩证说理；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对比的论证方法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5"/>
          <p:cNvSpPr txBox="1"/>
          <p:nvPr/>
        </p:nvSpPr>
        <p:spPr>
          <a:xfrm>
            <a:off x="826920" y="620640"/>
            <a:ext cx="432144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课外延伸</a:t>
            </a:r>
            <a:endParaRPr b="1" lang="en-US" sz="24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68000" y="1341000"/>
            <a:ext cx="7986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解释下面加横线词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患无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硕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名人与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媵人持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汤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沃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同舍生皆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被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绮绣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11280" y="4046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4" descr="23"/>
          <p:cNvPicPr/>
          <p:nvPr/>
        </p:nvPicPr>
        <p:blipFill>
          <a:blip r:embed="rId1"/>
          <a:stretch/>
        </p:blipFill>
        <p:spPr>
          <a:xfrm>
            <a:off x="6156360" y="4724280"/>
            <a:ext cx="2819520" cy="18050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5003640" y="184464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才学渊博的老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427640" y="2492280"/>
            <a:ext cx="23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热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859280" y="3213000"/>
            <a:ext cx="17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通“披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3132000" y="371628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两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340000" y="436572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严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000" y="476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以下加横线词不全是词类活用的一组是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公子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车骑   县官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廪稍之供                                                                       父母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裘葛之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白玉之环       二月草已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芽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臣修身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行数十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先达德隆望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吏民，封府库           左右欲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邑人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 渔人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  若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484360" y="90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884040" y="3664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25"/>
          <p:cNvPicPr/>
          <p:nvPr/>
        </p:nvPicPr>
        <p:blipFill>
          <a:blip r:embed="rId1"/>
          <a:srcRect l="0" t="3535" r="0" b="0"/>
          <a:stretch/>
        </p:blipFill>
        <p:spPr>
          <a:xfrm>
            <a:off x="5796000" y="4724280"/>
            <a:ext cx="3048120" cy="1905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539640" y="6206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下列各句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字用法不同的一项是（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门人弟子填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或遇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叱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流辈甚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业有不精，德有不成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782160" y="141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640" y="475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下列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字的用法归类正确的一项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衾拥覆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凤庐道奉檄守御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月十三日斩于市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乡人子谒余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连兵大举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至晋鄙军之日北乡自刎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撰长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贽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无从致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余故道为学之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告之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7/24/36 /89    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/236/48/79                                                                            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/36/457 /89   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/347/58/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635280" y="1125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0115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WordArt 5"/>
          <p:cNvSpPr txBox="1"/>
          <p:nvPr/>
        </p:nvSpPr>
        <p:spPr>
          <a:xfrm rot="5400000">
            <a:off x="4081320" y="1903320"/>
            <a:ext cx="4537080" cy="2403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背诵课文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138"/>
          <p:cNvPicPr/>
          <p:nvPr/>
        </p:nvPicPr>
        <p:blipFill>
          <a:blip r:embed="rId1"/>
          <a:srcRect l="5244" t="6314" r="4870" b="0"/>
          <a:stretch/>
        </p:blipFill>
        <p:spPr>
          <a:xfrm>
            <a:off x="5845320" y="407664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04360" y="1628280"/>
            <a:ext cx="860436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嗜（     ）     稍降（            ）辞色      俟（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箧（    ）    曳屣（    ）      皲（     ）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媵（      ）人      衾（       ）   被（    ）绮绣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容臭（    ）    烨（     ）然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缊（   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812000" y="170028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187280" y="17794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39220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067280" y="170172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ià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643040" y="257184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216320" y="256536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372360" y="2637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47760" y="335772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ì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278960" y="33577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6372360" y="3357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692360" y="42210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813480" y="4221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258920" y="5084640"/>
            <a:ext cx="9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ù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9" descr="P1000495_JPG"/>
          <p:cNvPicPr/>
          <p:nvPr/>
        </p:nvPicPr>
        <p:blipFill>
          <a:blip r:embed="rId2"/>
          <a:stretch/>
        </p:blipFill>
        <p:spPr>
          <a:xfrm>
            <a:off x="0" y="76320"/>
            <a:ext cx="2819520" cy="1255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1"/>
          <p:cNvSpPr/>
          <p:nvPr/>
        </p:nvSpPr>
        <p:spPr>
          <a:xfrm>
            <a:off x="304920" y="304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舒体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注音，解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叱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403280" y="1773360"/>
            <a:ext cx="90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sh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419640" y="1844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喜欢，特殊的爱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47640" y="2492280"/>
            <a:ext cx="8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y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59280" y="2635200"/>
            <a:ext cx="35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越过、超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476360" y="3213000"/>
            <a:ext cx="6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s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132000" y="335592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等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332000" y="3860640"/>
            <a:ext cx="103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qī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059280" y="4076640"/>
            <a:ext cx="18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被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65300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y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203640" y="4869000"/>
            <a:ext cx="29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光彩照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763640" y="5445000"/>
            <a:ext cx="174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ch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ì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du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851280" y="5516640"/>
            <a:ext cx="35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训斥，呵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11280" y="40428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皲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媵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容臭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负箧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曳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333360"/>
            <a:ext cx="99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jū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132000" y="333360"/>
            <a:ext cx="607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皮肤因寒冷干燥而开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332000" y="1125360"/>
            <a:ext cx="114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y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ì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32000" y="1052640"/>
            <a:ext cx="553716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原指陪送出嫁或陪嫁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人，这里指服役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908000" y="2637000"/>
            <a:ext cx="105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xi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132000" y="2492280"/>
            <a:ext cx="553716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香袋。臭，气味，这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指香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835280" y="4076640"/>
            <a:ext cx="10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qi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780000" y="4076640"/>
            <a:ext cx="7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y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651640" y="4005360"/>
            <a:ext cx="72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x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55640" y="4797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背着书箱，拖着鞋子。箧，箱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这里指书箱。曳，拖。屣，鞋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3:03:59Z</dcterms:created>
  <dc:creator>第一PPT模板网-WWW.1PPT.COM</dc:creator>
  <dc:description/>
  <dc:language>en-US</dc:language>
  <cp:lastModifiedBy>admin</cp:lastModifiedBy>
  <dcterms:modified xsi:type="dcterms:W3CDTF">2017-09-06T03:11:01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