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ADDE-9C9B-44B6-A0B1-EFA404A6D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6A83-85CE-471C-A05D-B9E9F6BE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91AA-071E-4E20-B45D-A708F5D4C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5EC0-5E55-40F1-B767-13C4726F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BCEF-18C6-4327-9B4E-2ACA7556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0B02-2F51-4456-BA53-5572070F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0777-3FB5-4213-9672-82523086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4827-5654-48D5-8062-2F7038E3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9A41-2878-427D-9F88-1C432ACC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A427-71A8-4CDF-B27B-F6F6349D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8152-B781-4606-B7DB-CBF00ECF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484C-81EC-4B8A-868B-5DB30FDF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8159-BC77-4841-BA2F-00F7170FE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0138"/>
          <p:cNvPicPr/>
          <p:nvPr/>
        </p:nvPicPr>
        <p:blipFill>
          <a:blip r:embed="rId2"/>
          <a:srcRect l="5244" t="6314" r="4870" b="0"/>
          <a:stretch/>
        </p:blipFill>
        <p:spPr>
          <a:xfrm>
            <a:off x="941400" y="1341360"/>
            <a:ext cx="4789440" cy="41752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5964840" y="981000"/>
            <a:ext cx="20091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8000"/>
                </a:solidFill>
                <a:latin typeface="Times New Roman"/>
              </a:rPr>
              <a:t>送东阳马生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144040" y="2514600"/>
            <a:ext cx="15314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宋    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前两部分是怎样说理的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6248520" y="20574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6324480" y="38098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7010280" y="29718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对比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5562720" y="1828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9"/>
          <p:cNvSpPr/>
          <p:nvPr/>
        </p:nvSpPr>
        <p:spPr>
          <a:xfrm>
            <a:off x="5867280" y="1752480"/>
            <a:ext cx="304920" cy="129564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solidFill>
            <a:srgbClr val="ffffcc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0"/>
          <p:cNvSpPr/>
          <p:nvPr/>
        </p:nvSpPr>
        <p:spPr>
          <a:xfrm>
            <a:off x="5867280" y="35053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solidFill>
            <a:srgbClr val="ffffcc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11"/>
          <p:cNvSpPr/>
          <p:nvPr/>
        </p:nvSpPr>
        <p:spPr>
          <a:xfrm>
            <a:off x="7010280" y="2514600"/>
            <a:ext cx="304920" cy="1676520"/>
          </a:xfrm>
          <a:custGeom>
            <a:avLst/>
            <a:gdLst>
              <a:gd name="textAreaLeft" fmla="*/ 0 w 304920"/>
              <a:gd name="textAreaRight" fmla="*/ 110160 w 3049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solidFill>
            <a:srgbClr val="ffffcc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533520" y="1523880"/>
            <a:ext cx="525780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余幼时学习情况：①致书之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  ②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师之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  ③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奔走之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  ④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生活之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380880" y="3429000"/>
            <a:ext cx="556272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诸生的学习条件：①无冻馁之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  ②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无奔走之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  ③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专门老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  ④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丰富藏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838080" y="2133720"/>
            <a:ext cx="72392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5410080" y="2362320"/>
            <a:ext cx="25909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762120" y="1143000"/>
            <a:ext cx="769608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古人在艰苦条件下勤奋学习、以苦为乐的事例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9">
            <a:hlinkClick r:id="" action="ppaction://hlinkshowjump?jump=lastslide"/>
          </p:cNvPr>
          <p:cNvSpPr/>
          <p:nvPr/>
        </p:nvSpPr>
        <p:spPr>
          <a:xfrm>
            <a:off x="7391520" y="5638680"/>
            <a:ext cx="1066680" cy="457200"/>
          </a:xfrm>
          <a:custGeom>
            <a:avLst/>
            <a:gdLst>
              <a:gd name="textAreaLeft" fmla="*/ 29520 w 1066680"/>
              <a:gd name="textAreaRight" fmla="*/ 1037160 w 1066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0372" h="21600">
                <a:moveTo>
                  <a:pt x="0" y="0"/>
                </a:moveTo>
                <a:lnTo>
                  <a:pt x="50372" y="0"/>
                </a:lnTo>
                <a:lnTo>
                  <a:pt x="50372" y="21600"/>
                </a:lnTo>
                <a:lnTo>
                  <a:pt x="0" y="21600"/>
                </a:lnTo>
                <a:close/>
              </a:path>
              <a:path fill="lightenLess" w="50372" h="21600">
                <a:moveTo>
                  <a:pt x="0" y="0"/>
                </a:moveTo>
                <a:lnTo>
                  <a:pt x="50372" y="0"/>
                </a:lnTo>
                <a:lnTo>
                  <a:pt x="48972" y="1400"/>
                </a:lnTo>
                <a:lnTo>
                  <a:pt x="1400" y="1400"/>
                </a:lnTo>
                <a:close/>
              </a:path>
              <a:path fill="darken" w="50372" h="21600">
                <a:moveTo>
                  <a:pt x="50372" y="0"/>
                </a:moveTo>
                <a:lnTo>
                  <a:pt x="50372" y="21600"/>
                </a:lnTo>
                <a:lnTo>
                  <a:pt x="48972" y="20200"/>
                </a:lnTo>
                <a:lnTo>
                  <a:pt x="48972" y="1400"/>
                </a:lnTo>
                <a:close/>
              </a:path>
              <a:path fill="darkenLess" w="50372" h="21600">
                <a:moveTo>
                  <a:pt x="50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2" y="20200"/>
                </a:lnTo>
                <a:close/>
              </a:path>
              <a:path fill="lighten" w="50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2" h="21600">
                <a:moveTo>
                  <a:pt x="18179" y="3794"/>
                </a:moveTo>
                <a:lnTo>
                  <a:pt x="32192" y="10800"/>
                </a:lnTo>
                <a:lnTo>
                  <a:pt x="18179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4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00"/>
                </a:solidFill>
                <a:latin typeface="Times New Roman"/>
              </a:rPr>
              <a:t>课堂训练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just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以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中的苦和乐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话题写一段文字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要求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注意辩证说理；              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运用对比的论证方法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8000"/>
                </a:solidFill>
                <a:latin typeface="Times New Roman"/>
                <a:ea typeface="隶书"/>
              </a:rPr>
              <a:t>拓展延伸</a:t>
            </a:r>
            <a:br>
              <a:rPr sz="6000"/>
            </a:b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布置作业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1980720"/>
            <a:ext cx="84582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本文以后，在读书笔记上为你的同桌写两条赠言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完成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指导用书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三两题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8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小资料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囊萤映雪（晋车胤和孙康的学习故事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悬梁刺股（战国苏秦的学习故事，也叫“头悬梁，锥刺股”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凿壁偷光（西汉匡衡的学习故事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韦编三绝（孔子晚年读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易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的故事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画荻教子（欧阳修的学习故事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028"/>
          <p:cNvSpPr/>
          <p:nvPr/>
        </p:nvSpPr>
        <p:spPr>
          <a:xfrm>
            <a:off x="8001000" y="58672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6765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7"/>
          <p:cNvSpPr/>
          <p:nvPr/>
        </p:nvSpPr>
        <p:spPr>
          <a:xfrm>
            <a:off x="7236000" y="256536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8000"/>
                </a:solidFill>
                <a:latin typeface="Times New Roman"/>
                <a:ea typeface="华文新魏"/>
              </a:rPr>
              <a:t>作者简介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0920" y="177480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宋濂，字景濂，号潜溪，明朝初期著名文学家，生平著作甚丰，曾主修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元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与刘基、高启并称为明初诗文三大家，为明代“开国文臣之首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" descr="fm001"/>
          <p:cNvPicPr/>
          <p:nvPr/>
        </p:nvPicPr>
        <p:blipFill>
          <a:blip r:embed="rId1"/>
          <a:stretch/>
        </p:blipFill>
        <p:spPr>
          <a:xfrm>
            <a:off x="6019920" y="1828800"/>
            <a:ext cx="27273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8000"/>
                </a:solidFill>
                <a:latin typeface="Times New Roman"/>
              </a:rPr>
              <a:t>教学目标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94920" y="177336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理解、掌握课文中的重点实词和虚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把握赠序的特征和本文对比的说理方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辩证地看待学习中的难与易、苦和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隶书"/>
              </a:rPr>
              <a:t>整体感知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隶书"/>
              </a:rPr>
              <a:t>质疑释疑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解释下面加横线词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患无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硕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人与游     （                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媵人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沃灌             （                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舍生皆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绮绣         （                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撰长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为贽             （                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食                         （                           ）                ⑥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冬                              （                          ）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62120" y="30492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Times New Roman"/>
              </a:rPr>
              <a:t>理 解文言实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23"/>
          <p:cNvPicPr/>
          <p:nvPr/>
        </p:nvPicPr>
        <p:blipFill>
          <a:blip r:embed="rId2"/>
          <a:stretch/>
        </p:blipFill>
        <p:spPr>
          <a:xfrm>
            <a:off x="2209680" y="4724280"/>
            <a:ext cx="2819520" cy="18050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5105520" y="1828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才学渊博的老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090840" y="2233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热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5562720" y="2743200"/>
            <a:ext cx="13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“披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5867280" y="3124080"/>
            <a:ext cx="4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5862240" y="36050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5638680" y="41148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严寒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以下加横线词不全是词类活用的一组是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公子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车骑      县官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廪稍之供                                                                       父母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裘葛之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白玉之环       二月草已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臣修身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行数十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先达德隆望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吏民，封府库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左右欲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邑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  渔人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  若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886200" y="1600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00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下列句中加横线词与现代汉语意义相同的一组是</a:t>
            </a:r>
            <a:r>
              <a:rPr b="1" lang="zh-CN" sz="4400" spc="-1" strike="noStrike">
                <a:solidFill>
                  <a:srgbClr val="0033cc"/>
                </a:solidFill>
                <a:latin typeface="隶书"/>
                <a:ea typeface="隶书"/>
              </a:rPr>
              <a:t>（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今诸生学于太学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县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有廪稍之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有司业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博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之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公子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颜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愈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非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天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卑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6402240" y="190512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5335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下列各句中“其”字用法不同的一项是（   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门人弟子填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或遇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叱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流辈甚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业有不精，德有不成者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736080" y="17524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828800" y="914400"/>
            <a:ext cx="4800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2426760" y="349200"/>
            <a:ext cx="336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Times New Roman"/>
              </a:rPr>
              <a:t>理 解 文言 虚 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7" descr="25"/>
          <p:cNvPicPr/>
          <p:nvPr/>
        </p:nvPicPr>
        <p:blipFill>
          <a:blip r:embed="rId2"/>
          <a:srcRect l="0" t="3535" r="0" b="0"/>
          <a:stretch/>
        </p:blipFill>
        <p:spPr>
          <a:xfrm>
            <a:off x="5638680" y="4724280"/>
            <a:ext cx="3048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09480" y="3045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下列对“以”字的归类正确的一项是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       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衾拥覆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凤庐道奉檄守御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八月十三日斩于市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乡人子谒余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约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连兵大举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至晋鄙军之日北乡自刭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撰长书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贽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无从致书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观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余故道为学之难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告之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4/36 /89         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/236/48/79                                                                            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/36/457 /89          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/347/58/6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048120" y="9144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33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6:56:43Z</dcterms:created>
  <dc:creator>第一PPT模板网-WWW.1PPT.COM</dc:creator>
  <dc:description>第一PPT模板网-WWW.1PPT.COM</dc:description>
  <cp:keywords>第一PPT模板网-WWW.1PPT.COM</cp:keywords>
  <dc:language>en-US</dc:language>
  <cp:lastModifiedBy>admin</cp:lastModifiedBy>
  <dcterms:modified xsi:type="dcterms:W3CDTF">2017-09-06T03:10:07Z</dcterms:modified>
  <cp:revision>8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