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gif" ContentType="image/gi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902D-735A-4639-BA9C-570F43AAB2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外形特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06B-0D41-4D91-8469-A237EBB5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B9B-BB59-4C57-B9FB-B58CD935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2D2-872B-4305-83CC-D0344962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F7F-E87F-4873-9F2D-93517AA3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9778-C4E7-4590-8D96-67E15EE6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419A-5D81-4490-8733-0A77AB64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A5F5-963E-40A7-B1B4-574CFCA5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7462-EDC2-4598-9BF2-59549279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3696-9A8F-4D31-960C-F4BD1908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E83E-FA88-44E7-95C6-D9E3417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8D34-2B51-4FA3-8EBB-C6C51D4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8CF-E597-42D2-B289-B0326337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F2A-73B8-4551-A981-455FE44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4DA9-42DB-42E0-A3E5-4E9F1847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8941-6794-41CD-AFCD-69305E7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3F8C-EC50-4CA0-B1C3-C9D0CD7F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51F3-0228-41A6-98BB-BF6ED89A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FDF-35F7-4487-B5D0-B13A4430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BFC-06C6-4D41-AC10-A6C86FFF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038-6C53-47DE-AEDE-454E4DE5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585-AF99-4506-A9FF-DF0A4194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49D-945C-4CC7-84CC-017A450E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3FA-A9D8-4535-962B-496FCC64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3655-1BF0-47D4-81D9-EA5FFA7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93E0-F9F8-46EE-B2A8-16ECD683C31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2BD2-BED7-4BF4-9620-FC52B02A8E9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15280" cy="688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7315200" y="457200"/>
            <a:ext cx="1295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松</a:t>
            </a:r>
            <a:endParaRPr b="1" lang="en-US" sz="4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鼠</a:t>
            </a:r>
            <a:endParaRPr b="1" lang="en-US" sz="4800" spc="1" strike="noStrike">
              <a:ln w="0">
                <a:noFill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/>
          <p:nvPr/>
        </p:nvSpPr>
        <p:spPr>
          <a:xfrm>
            <a:off x="7517520" y="3733920"/>
            <a:ext cx="1429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ff"/>
                </a:solidFill>
                <a:latin typeface="Times New Roman"/>
              </a:rPr>
              <a:t>布丰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>
            <a:hlinkClick r:id="rId1" action="ppaction://hlinksldjump"/>
          </p:cNvPr>
          <p:cNvPicPr/>
          <p:nvPr/>
        </p:nvPicPr>
        <p:blipFill>
          <a:blip r:embed="rId2"/>
          <a:srcRect l="4999" t="5552" r="14166" b="122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072440" y="4078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准确的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641400" y="1276200"/>
            <a:ext cx="19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例：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松鼠不躲藏在地底下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经常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高处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40960" y="20574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经常：指大多数时间，而非全部时间都在高处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26668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它们是十分警觉的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只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人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稍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树根上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触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下，它们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就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窝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来，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树枝底下，或者</a:t>
            </a: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别的树上去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4406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“只要……就……“这一句式来表现松鼠灵敏的反应与动作，“触动”这个动词前又加了一个“稍微”，以表示这种“触动”程度之轻，在“触动”后又用了三个动词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来表示松鼠对微小危险的快速应变能力，从而更显出它“十分警觉”的灵性，由此强调它的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乖巧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>
            <a:hlinkClick r:id="rId1" action="ppaction://hlinksldjump"/>
          </p:cNvPr>
          <p:cNvPicPr/>
          <p:nvPr/>
        </p:nvPicPr>
        <p:blipFill>
          <a:blip r:embed="rId2"/>
          <a:srcRect l="4999" t="5552" r="14166" b="122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3520" y="260496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运用拟人手法对松鼠作了人格化的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37036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例：“面容清秀”“玲珑的小面孔”“美丽的尾巴”中用“清秀”“玲珑”“美丽”对松鼠作了人格化的描写，突出它的“漂亮”。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9240" y="13161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生动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638680" y="4330800"/>
            <a:ext cx="3276720" cy="25272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93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25146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读出松鼠的乖巧、活泼可爱，讨人喜欢的语气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066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有感情地朗读描写松鼠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特点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的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533520" y="18288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．学习了本文之后，你觉得如何才能更好地介绍动物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9907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黑体"/>
              </a:rPr>
              <a:t>课后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289548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A.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抓住事物的特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B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、合理、清晰的结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C.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准确、生动的语言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D.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恰当选用说明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5105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    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996633"/>
                </a:solidFill>
                <a:latin typeface="华文仿宋"/>
                <a:ea typeface="华文仿宋"/>
              </a:rPr>
              <a:t>．回家观察一种小动物的外形和生活习性，动笔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4192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1187280" y="981000"/>
            <a:ext cx="6143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赏！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844640"/>
            <a:ext cx="5486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丰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法国著名的博物学家、作家。他毕生从事博物学研究，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时间写出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册巨著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《自然史》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部作品对自然界作了详细而科学的描述，并因其文笔优美而著称于世。在布丰的笔下，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小松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善良可爱，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大象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温和憨厚，</a:t>
            </a:r>
            <a:r>
              <a:rPr b="0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鸽子夫妇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亲相爱，具有人类的一切美好品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990720"/>
            <a:ext cx="361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Garamond"/>
              </a:rPr>
              <a:t>走近作者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638680" y="18288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能读准并理解以下生字吗？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432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驯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968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矫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922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蛰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20415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88360" y="204156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jiǎ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77280" y="2041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zh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09120" y="2955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苔 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3600" y="2041560"/>
            <a:ext cx="8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88640" y="204156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xi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3372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8656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97520" y="2863800"/>
            <a:ext cx="56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33440" y="2787480"/>
            <a:ext cx="157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 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3000" y="5089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帽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27320" y="49719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榛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9832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榉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344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褐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05920" y="492120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41720" y="48448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0716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9932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45440" y="425124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yī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34800" y="425124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zh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0080" y="4251240"/>
            <a:ext cx="7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8880" y="4251240"/>
            <a:ext cx="8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14040" y="2362320"/>
            <a:ext cx="7340760" cy="29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本文中的小松鼠有什么特点？</a:t>
            </a:r>
            <a:r>
              <a:rPr b="1" lang="zh-CN" sz="3600" spc="-1" strike="noStrike">
                <a:solidFill>
                  <a:srgbClr val="990033"/>
                </a:solidFill>
                <a:latin typeface="华文行楷"/>
                <a:ea typeface="华文行楷"/>
              </a:rPr>
              <a:t>(</a:t>
            </a:r>
            <a:r>
              <a:rPr b="1" lang="zh-CN" sz="3600" spc="-1" strike="noStrike">
                <a:solidFill>
                  <a:srgbClr val="990033"/>
                </a:solidFill>
                <a:latin typeface="华文行楷"/>
                <a:ea typeface="华文行楷"/>
              </a:rPr>
              <a:t>请用一句简洁的话来概括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华文新魏"/>
                <a:ea typeface="华文新魏"/>
              </a:rPr>
              <a:t>课文是在哪些段落分别阐述这些特点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5280" y="83808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自由朗读课文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029200" y="4514760"/>
            <a:ext cx="411480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ahoma"/>
              </a:rPr>
              <a:t>松鼠的特征：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05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Tahoma"/>
              </a:rPr>
              <a:t>  </a:t>
            </a:r>
            <a:r>
              <a:rPr b="1" lang="zh-CN" sz="6000" spc="-1" strike="noStrike">
                <a:solidFill>
                  <a:srgbClr val="660033"/>
                </a:solidFill>
                <a:latin typeface="Tahoma"/>
              </a:rPr>
              <a:t>漂亮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2214720"/>
            <a:ext cx="4262400" cy="4109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491440" y="3200400"/>
            <a:ext cx="16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</a:rPr>
              <a:t>驯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91440" y="4495680"/>
            <a:ext cx="160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660033"/>
                </a:solidFill>
                <a:latin typeface="Times New Roman"/>
              </a:rPr>
              <a:t>乖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2438280"/>
            <a:ext cx="380880" cy="3276720"/>
          </a:xfrm>
          <a:custGeom>
            <a:avLst/>
            <a:gdLst>
              <a:gd name="textAreaLeft" fmla="*/ 0 w 380880"/>
              <a:gd name="textAreaRight" fmla="*/ 137520 w 3808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993800" y="2265120"/>
            <a:ext cx="942120" cy="35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0000"/>
                </a:solidFill>
                <a:latin typeface="Times New Roman"/>
                <a:ea typeface="黑体"/>
              </a:rPr>
              <a:t>讨人喜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rcRect l="4999" t="5552" r="14166" b="122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124080" y="18716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77120" y="1676520"/>
            <a:ext cx="110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面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3240" y="2438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眼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7760" y="3276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身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02840" y="39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四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2976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尾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92520" y="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漂  亮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6324480" y="5334120"/>
            <a:ext cx="2819520" cy="152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04920" y="1371600"/>
            <a:ext cx="6095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他们面容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清秀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，眼睛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闪闪发光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，身体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矫健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，四肢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轻快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，非常敏捷，非常轻快。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玲珑的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小面孔，衬上一条帽缨型的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美丽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尾巴，显得</a:t>
            </a:r>
            <a:r>
              <a:rPr b="1" lang="zh-CN" sz="3600" spc="-1" strike="noStrike">
                <a:solidFill>
                  <a:srgbClr val="0066ff"/>
                </a:solidFill>
                <a:latin typeface="Times New Roman"/>
              </a:rPr>
              <a:t>格外漂亮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。尾巴老是翘起来，一直翘到头上，自己就躲在尾巴底下歇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32200" y="18446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活动范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97840" y="184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树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32200" y="315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活动时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56520" y="328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800" y="450864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常吃食物：</a:t>
            </a:r>
            <a:r>
              <a:rPr b="1" lang="zh-CN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46680" y="457848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杏仁、榛子、榉实和橡栗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33200" y="1066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松鼠 “驯 良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6960" y="184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不侵犯人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86960" y="3284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不骚扰人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53560" y="522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不伤害人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609560" y="10666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松鼠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“乖巧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30000" y="18288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动作、行为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95720" y="3809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搭窝特点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392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过水方法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5920" y="23922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警觉性强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30020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跑跳敏捷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83200" y="3078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叫声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48520" y="4595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选择窝址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8200" y="45957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搭窝过程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49480" y="5281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窝口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96216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Tahoma"/>
                <a:ea typeface="华文行楷"/>
              </a:rPr>
              <a:t>品味语言：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5680" y="1981080"/>
            <a:ext cx="446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篇</a:t>
            </a:r>
            <a:r>
              <a:rPr b="1" lang="zh-CN" sz="3200" spc="-1" strike="noStrike">
                <a:solidFill>
                  <a:srgbClr val="ffcf01"/>
                </a:solidFill>
                <a:latin typeface="Tahoma"/>
              </a:rPr>
              <a:t>文艺性说明文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用文学的笔调向我们介绍了松鼠这种小动物。品读时注意体会作者是怎样运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准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又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生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语言来描绘松鼠令人喜爱的特点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191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7T10:15:58Z</dcterms:created>
  <dc:creator>as3234</dc:creator>
  <dc:description/>
  <dc:language>en-US</dc:language>
  <cp:lastModifiedBy>User</cp:lastModifiedBy>
  <dcterms:modified xsi:type="dcterms:W3CDTF">2015-09-19T15:13:08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