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191-A3FC-4B17-84B8-FD71882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E76-BC55-43D1-98E8-3796C15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78C-1FE5-43D2-A978-488939E0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D42-8993-4299-A0AA-6F8506BD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C84-B15B-4160-8F37-A1558EF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9B0-41AA-4FF7-B2C5-B00BCBE0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6B8-F3FA-46B3-9AD2-F08F465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828-6BBE-4387-B9A4-3447708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E81-36D1-4DBE-9AC8-D10138A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232-4E21-4428-A3CE-FDBA29E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FB1-9B55-4C94-878D-01E60B2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AAA-3A3A-4CFB-A13B-D44F183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2E5-EED0-4021-ADE5-90C166AC8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71640" y="981000"/>
            <a:ext cx="37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四时田园杂兴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386520" y="2349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0f10"/>
                </a:solidFill>
                <a:latin typeface="Arial"/>
                <a:ea typeface="隶书"/>
              </a:rPr>
              <a:t>昼出耘田业绩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3213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3068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村庄儿女各当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6520" y="3789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童孙未解供耕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591080" y="4508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也傍桑阴学种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269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0:18:25Z</dcterms:created>
  <dc:creator>wangling</dc:creator>
  <dc:description/>
  <dc:language>en-US</dc:language>
  <cp:lastModifiedBy>wangling</cp:lastModifiedBy>
  <dcterms:modified xsi:type="dcterms:W3CDTF">2003-07-01T23:24:11Z</dcterms:modified>
  <cp:revision>2</cp:revision>
  <dc:subject/>
  <dc:title>幻灯片 1</dc:title>
</cp:coreProperties>
</file>