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chimes.wav" ContentType="audio/x-wav"/>
  <Override PartName="/ppt/media/image7.jpeg" ContentType="image/jpeg"/>
  <Override PartName="/ppt/media/CAMERA.WAV" ContentType="audio/x-wav"/>
  <Override PartName="/ppt/media/DRIVEBY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43B0-2A16-41C3-BE4F-F978CA93AA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DF6E-45DF-4447-A3F4-FBF927E95A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F4E-F209-45A0-92E9-2881CA68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B98-777F-4961-ACCB-B0BAA1D3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C49-8BB6-4389-B39B-C6355A9B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3A2-B2C8-447E-B4D3-A5540E76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98F2-5917-4A28-B7E7-73BFCAFE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405E-1903-4BB4-9EDA-45AE80FE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9A60-BF23-46F2-B6AF-34AAF1C5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E1DF-B222-48C2-9C08-32F0C4D9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AB57-7233-45C3-9B6C-6194C8C8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F4D4-E58B-4CFF-A871-103E6EAA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8E75-BDD2-407B-A83C-C231D4AF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7F6-E48E-4048-9D84-CDDE0AA2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BC95-74EE-43A6-B4A4-F33B15BB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0357-BD0F-4451-B95D-E147408A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3954-443A-4A5B-9F1D-69C0FAB9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296B-65E9-4419-A7A8-367D0B7E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28FB-F7F5-4C63-9E9D-923A9531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C9A2-FC2A-43BA-A9AA-6FB7A92D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ADE8-5915-4476-BB2E-360A2D88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A5EB8-BA53-4635-9974-F23A13BD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DC044-3579-41AF-93CA-60E690FA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1616-C37A-4D9A-9B25-D16BF015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181-118D-411C-A30C-F15555FF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17995-97F5-4955-8B50-A42157CB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7423-F18A-402E-AC3C-0D479C4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0255-5711-4D6A-8102-A004DFD7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EE97-82AC-4288-A3EC-46EB7A0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6CB1E-F245-499B-B507-A6D2F9BC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9224-7B90-47F2-A053-3EE6226D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487C-8120-4D32-BF50-392C1F73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704-0BAA-48C5-9573-100AF1BA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E59-7301-42BA-A0CE-FF8298BC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A83-9B29-44B8-824A-EE84B1DD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CD5-E782-4DFA-B9E7-6F2CEFE6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CFE-21D7-47E0-AF58-7F6E1184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6B1-335F-48E6-BA56-396D5983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8B0C-CCB6-4EF1-81AB-3D2BAA1127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07EE-F1C6-4DF8-96EF-063A06DC403A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86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55DA-2527-4451-B37F-D8329EBCF019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audio" Target="../media/CAMERA.WAV"/><Relationship Id="rId8" Type="http://schemas.openxmlformats.org/officeDocument/2006/relationships/audio" Target="../media/DRIVEBY.WAV"/><Relationship Id="rId9" Type="http://schemas.openxmlformats.org/officeDocument/2006/relationships/audio" Target="../media/CAMERA.WAV"/><Relationship Id="rId10" Type="http://schemas.openxmlformats.org/officeDocument/2006/relationships/audio" Target="../media/DRIVEBY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0"/>
            <a:ext cx="8610480" cy="73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我爱这土地   艾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假如我是一只鸟，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我也应该用嘶哑的喉咙歌唱：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这被暴风雨所打击着的土地，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这永远汹涌着我们的悲愤的河流，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这无止息地吹刮着的激怒的风，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和那来自林间的无比温柔的黎明……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——然后我死了，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连羽毛也腐烂在土地里面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为什么我的眼里常含泪水？ 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因为我对这土地爱得深沉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5105520" cy="8001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48320" y="228600"/>
            <a:ext cx="44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鲁肃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172-217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），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三国时吴国名将、政治家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字子敬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，出身士族，为孙权所敬重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304920"/>
            <a:ext cx="97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二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重难点字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1190520"/>
            <a:ext cx="93614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孤岂欲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卿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治经为博士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邪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但当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涉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猎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孰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若孤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即</a:t>
            </a:r>
            <a:r>
              <a:rPr b="1" lang="zh-CN" sz="4400" spc="-1" strike="noStrike">
                <a:solidFill>
                  <a:srgbClr val="ffff99"/>
                </a:solidFill>
                <a:latin typeface="黑体"/>
                <a:ea typeface="黑体"/>
              </a:rPr>
              <a:t>更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刮目相待  肃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遂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拜蒙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多音字：</a:t>
            </a:r>
            <a:r>
              <a:rPr b="1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当、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979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三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通假字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(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要解释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)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孤岂欲卿治经为博士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邪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耶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5105520"/>
            <a:ext cx="979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四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成语积累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(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要解释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)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吴下阿蒙   刮目相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895480"/>
            <a:ext cx="693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44136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Times New Roman"/>
                <a:ea typeface="黑体"/>
              </a:rPr>
              <a:t>二、重难点字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2562120"/>
            <a:ext cx="91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00ffff"/>
                </a:solidFill>
                <a:latin typeface="黑体"/>
                <a:ea typeface="黑体"/>
              </a:rPr>
              <a:t>卿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当</a:t>
            </a:r>
            <a:r>
              <a:rPr b="1" lang="zh-CN" sz="5400" spc="-1" strike="noStrike">
                <a:solidFill>
                  <a:srgbClr val="00ffff"/>
                </a:solidFill>
                <a:latin typeface="黑体"/>
                <a:ea typeface="黑体"/>
              </a:rPr>
              <a:t>涂 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为博士</a:t>
            </a:r>
            <a:r>
              <a:rPr b="1" lang="zh-CN" sz="5400" spc="-1" strike="noStrike">
                <a:solidFill>
                  <a:srgbClr val="00ffff"/>
                </a:solidFill>
                <a:latin typeface="黑体"/>
                <a:ea typeface="黑体"/>
              </a:rPr>
              <a:t>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ffff"/>
                </a:solidFill>
                <a:latin typeface="黑体"/>
                <a:ea typeface="黑体"/>
              </a:rPr>
              <a:t>涉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猎   </a:t>
            </a:r>
            <a:r>
              <a:rPr b="1" lang="zh-CN" sz="5400" spc="-1" strike="noStrike">
                <a:solidFill>
                  <a:srgbClr val="00ffff"/>
                </a:solidFill>
                <a:latin typeface="黑体"/>
                <a:ea typeface="黑体"/>
              </a:rPr>
              <a:t>孰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若  </a:t>
            </a:r>
            <a:r>
              <a:rPr b="1" lang="zh-CN" sz="5400" spc="-1" strike="noStrike">
                <a:solidFill>
                  <a:srgbClr val="00ffff"/>
                </a:solidFill>
                <a:latin typeface="黑体"/>
                <a:ea typeface="黑体"/>
              </a:rPr>
              <a:t>即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更  </a:t>
            </a:r>
            <a:r>
              <a:rPr b="1" lang="zh-CN" sz="5400" spc="-1" strike="noStrike">
                <a:solidFill>
                  <a:srgbClr val="00ffff"/>
                </a:solidFill>
                <a:latin typeface="黑体"/>
                <a:ea typeface="黑体"/>
              </a:rPr>
              <a:t>遂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6765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omic Sans MS"/>
                <a:ea typeface="隶书"/>
              </a:rPr>
              <a:t>q</a:t>
            </a:r>
            <a:r>
              <a:rPr b="1" lang="zh-CN" sz="5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ī</a:t>
            </a:r>
            <a:r>
              <a:rPr b="1" lang="zh-CN" sz="5400" spc="-1" strike="noStrike">
                <a:solidFill>
                  <a:srgbClr val="ffff00"/>
                </a:solidFill>
                <a:latin typeface="Comic Sans MS"/>
                <a:ea typeface="隶书"/>
              </a:rPr>
              <a:t>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15360" y="1676520"/>
            <a:ext cx="97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  <a:ea typeface="隶书"/>
              </a:rPr>
              <a:t>y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0920" y="4114800"/>
            <a:ext cx="137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omic Sans MS"/>
                <a:ea typeface="隶书"/>
              </a:rPr>
              <a:t>sh</a:t>
            </a:r>
            <a:r>
              <a:rPr b="1" lang="zh-CN" sz="5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4114800"/>
            <a:ext cx="14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omic Sans MS"/>
                <a:ea typeface="隶书"/>
              </a:rPr>
              <a:t>sh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76720" y="411480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omic Sans MS"/>
                <a:ea typeface="隶书"/>
              </a:rPr>
              <a:t>t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4038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omic Sans MS"/>
                <a:ea typeface="隶书"/>
              </a:rPr>
              <a:t>j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2000" y="243000"/>
            <a:ext cx="64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ff"/>
                </a:solidFill>
                <a:latin typeface="宋体"/>
                <a:ea typeface="黑体"/>
              </a:rPr>
              <a:t>三、通假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2057400"/>
            <a:ext cx="967752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imes New Roman"/>
                <a:ea typeface="黑体"/>
              </a:rPr>
              <a:t>孤岂欲卿治经为博士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黑体"/>
              </a:rPr>
              <a:t>邪</a:t>
            </a:r>
            <a:r>
              <a:rPr b="1" lang="zh-CN" sz="6600" spc="-1" strike="noStrike">
                <a:solidFill>
                  <a:srgbClr val="ffffcc"/>
                </a:solidFill>
                <a:latin typeface="Times New Roman"/>
                <a:ea typeface="黑体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通“耶”，吗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(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反问语气词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1890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ff"/>
                </a:solidFill>
                <a:latin typeface="宋体"/>
                <a:ea typeface="黑体"/>
              </a:rPr>
              <a:t>四、成语积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96524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吴下阿蒙</a:t>
            </a:r>
            <a:r>
              <a:rPr b="1" lang="zh-CN" sz="60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1" lang="zh-CN" sz="6000" spc="-1" strike="noStrike">
                <a:solidFill>
                  <a:srgbClr val="ffffcc"/>
                </a:solidFill>
                <a:latin typeface="Tahoma"/>
                <a:ea typeface="黑体"/>
              </a:rPr>
              <a:t>比喻学识浅薄的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40384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刮目相待</a:t>
            </a:r>
            <a:r>
              <a:rPr b="1" lang="zh-CN" sz="60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1" lang="zh-CN" sz="6000" spc="-1" strike="noStrike">
                <a:solidFill>
                  <a:srgbClr val="ffffcc"/>
                </a:solidFill>
                <a:latin typeface="Tahoma"/>
                <a:ea typeface="黑体"/>
              </a:rPr>
              <a:t>另眼相看，用新的眼光看待别人的进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452520"/>
            <a:ext cx="8763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初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权  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谓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吕蒙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卿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今 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当涂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掌事，不可不学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276720"/>
            <a:ext cx="266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古代君对臣或朋友之间的爱称（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3321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当道，当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1492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当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2743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15238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对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···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8280" y="4738680"/>
            <a:ext cx="39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99"/>
                </a:solidFill>
                <a:latin typeface="黑体"/>
                <a:ea typeface="黑体"/>
              </a:rPr>
              <a:t>（揭示学习的必要性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791320"/>
            <a:ext cx="92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黑体"/>
              </a:rPr>
              <a:t>孙权语气：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黑体"/>
              </a:rPr>
              <a:t>严格、关心、器重、期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1295280"/>
            <a:ext cx="9448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蒙  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辞      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  军中多    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务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1780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推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1477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40520" y="2209680"/>
            <a:ext cx="445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事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6120" y="3373560"/>
            <a:ext cx="947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  <a:ea typeface="黑体"/>
              </a:rPr>
              <a:t>吕蒙用军中事务繁多来推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4956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黑体"/>
              </a:rPr>
              <a:t>倒装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46240"/>
            <a:ext cx="944892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权曰：“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孤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   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岂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欲卿 </a:t>
            </a:r>
            <a:r>
              <a:rPr b="1" lang="zh-CN" sz="4800" spc="-1" strike="noStrike" u="sng">
                <a:solidFill>
                  <a:srgbClr val="00ffff"/>
                </a:solidFill>
                <a:uFillTx/>
                <a:latin typeface="Times New Roman"/>
                <a:ea typeface="黑体"/>
              </a:rPr>
              <a:t>治经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     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ffff"/>
                </a:solidFill>
                <a:uFillTx/>
                <a:latin typeface="Times New Roman"/>
                <a:ea typeface="黑体"/>
              </a:rPr>
              <a:t>博     士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             邪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05320" y="10350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难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106668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研究儒家经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590920"/>
            <a:ext cx="35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  <a:ea typeface="黑体"/>
              </a:rPr>
              <a:t>反问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20040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当时专掌经学传授的学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2578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黑体"/>
              </a:rPr>
              <a:t>我难道想要你研究儒家经典成为专掌经学传授的学官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97320" y="3352680"/>
            <a:ext cx="460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通“耶”，吗 ，    （反问语气词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06668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古代王侯自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081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成为，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18900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ff"/>
                </a:solidFill>
                <a:latin typeface="宋体"/>
                <a:ea typeface="黑体"/>
              </a:rPr>
              <a:t>古今异义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306396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黑体"/>
              </a:rPr>
              <a:t>孤岂欲卿治经为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博士</a:t>
            </a: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黑体"/>
              </a:rPr>
              <a:t>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2825640"/>
            <a:ext cx="473040" cy="2432160"/>
          </a:xfrm>
          <a:custGeom>
            <a:avLst/>
            <a:gdLst>
              <a:gd name="textAreaLeft" fmla="*/ 302400 w 473040"/>
              <a:gd name="textAreaRight" fmla="*/ 473400 w 473040"/>
              <a:gd name="textAreaTop" fmla="*/ 63360 h 2432160"/>
              <a:gd name="textAreaBottom" fmla="*/ 2368800 h 243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2011320"/>
            <a:ext cx="47246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古义：当时专掌经学传授的学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4738680"/>
            <a:ext cx="44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今义：学位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833400"/>
            <a:ext cx="84582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但 当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  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涉猎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， 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见  往事       耳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卿言多务，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孰       若    孤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3976560"/>
            <a:ext cx="330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Times New Roman"/>
                <a:ea typeface="黑体"/>
              </a:rPr>
              <a:t>反问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447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只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14479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粗略地阅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14479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5958000"/>
            <a:ext cx="1013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Times New Roman"/>
                <a:ea typeface="黑体"/>
              </a:rPr>
              <a:t>你说事务繁多，哪一个比得上我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9400" y="-63360"/>
            <a:ext cx="28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（读书方法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76320" y="2971800"/>
            <a:ext cx="998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黑体"/>
              </a:rPr>
              <a:t>只是应当粗略地阅读，了解历史罢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152388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罢了（限止语气词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15238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历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45403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谁，  哪一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4648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比得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141588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应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52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写作背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066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这首诗写于抗日战争开始后的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938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，当年日本侵略军连续攻占了华北、华东、华南的广大地区，所到之处疯狂肆虐，妄图摧毁中国人民的抵抗意志。中国人民奋起抵抗，进行了不屈不挠的斗争。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诗人在国土沦丧、民族危亡的关头，满怀对祖国的挚爱和对侵略者的仇恨，写下了这首慷慨激昂的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820800"/>
            <a:ext cx="952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孙权告诉吕蒙哪两种读书方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2025720"/>
            <a:ext cx="90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①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治（研究）：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从事专门学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335400"/>
            <a:ext cx="9524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②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涉猎（粗略地阅读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了解历史，吸取经验教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11430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孤常读书，自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以为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大有所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益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蒙 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 乃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始    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就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4114800"/>
            <a:ext cx="144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于是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41292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接近，从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55400" y="60480"/>
            <a:ext cx="289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(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现身说法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21016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认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20574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好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59480" y="571500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吕蒙：知错必改，虚心接受意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2652840"/>
            <a:ext cx="982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２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吕蒙拒绝学习的理由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471024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孙权向吕蒙提出的读书方法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55483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但当涉猎，见往事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33520"/>
            <a:ext cx="990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１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体现孙权深谋远虑及关心下属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5858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卿今当涂掌事，不可不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358128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蒙辞以军中多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152280"/>
            <a:ext cx="95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概括孙权劝学的三个理由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143000"/>
            <a:ext cx="86108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①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卿今当涂掌事，不可不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       ——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身居要职，必须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2971800"/>
            <a:ext cx="8915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②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但当涉猎，见往事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   ——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为了了解历史，应当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4800600"/>
            <a:ext cx="8610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③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孤常读书，自以为大有所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     ——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大有好处，不可不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9748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层：孙权劝学，吕蒙“乃始就学”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297180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孙权的善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533520"/>
            <a:ext cx="95248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ffff"/>
                </a:solidFill>
                <a:latin typeface="黑体"/>
                <a:ea typeface="黑体"/>
              </a:rPr>
              <a:t>及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鲁肃 </a:t>
            </a:r>
            <a:r>
              <a:rPr b="1" lang="zh-CN" sz="6000" spc="-1" strike="noStrike">
                <a:solidFill>
                  <a:srgbClr val="00ffff"/>
                </a:solidFill>
                <a:latin typeface="黑体"/>
                <a:ea typeface="黑体"/>
              </a:rPr>
              <a:t>过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寻阳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与蒙</a:t>
            </a:r>
            <a:r>
              <a:rPr b="1" lang="zh-CN" sz="6000" spc="-1" strike="noStrike">
                <a:solidFill>
                  <a:srgbClr val="00ffff"/>
                </a:solidFill>
                <a:latin typeface="黑体"/>
                <a:ea typeface="黑体"/>
              </a:rPr>
              <a:t>论议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1447920"/>
            <a:ext cx="108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42670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谈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432080"/>
            <a:ext cx="38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到了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···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的时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920" y="18900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ff"/>
                </a:solidFill>
                <a:latin typeface="宋体"/>
                <a:ea typeface="黑体"/>
              </a:rPr>
              <a:t>古今异义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274320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黑体"/>
              </a:rPr>
              <a:t>及鲁肃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过</a:t>
            </a: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黑体"/>
              </a:rPr>
              <a:t>寻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05280" y="22860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古义：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05280" y="39006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今义：超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2743200"/>
            <a:ext cx="344520" cy="1789200"/>
          </a:xfrm>
          <a:custGeom>
            <a:avLst/>
            <a:gdLst>
              <a:gd name="textAreaLeft" fmla="*/ 220320 w 344520"/>
              <a:gd name="textAreaRight" fmla="*/ 344880 w 344520"/>
              <a:gd name="textAreaTop" fmla="*/ 46440 h 1789200"/>
              <a:gd name="textAreaBottom" fmla="*/ 1742760 h 178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376200"/>
            <a:ext cx="8839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ahoma"/>
                <a:ea typeface="黑体"/>
              </a:rPr>
              <a:t>大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  惊曰：“卿今者</a:t>
            </a:r>
            <a:r>
              <a:rPr b="1" lang="zh-CN" sz="5400" spc="-1" strike="noStrike">
                <a:solidFill>
                  <a:srgbClr val="00ffff"/>
                </a:solidFill>
                <a:latin typeface="Tahoma"/>
                <a:ea typeface="黑体"/>
              </a:rPr>
              <a:t>才    略</a:t>
            </a:r>
            <a:r>
              <a:rPr b="1" lang="zh-CN" sz="5400" spc="-1" strike="noStrike">
                <a:solidFill>
                  <a:srgbClr val="00ff99"/>
                </a:solidFill>
                <a:latin typeface="Tahoma"/>
                <a:ea typeface="黑体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ahoma"/>
                <a:ea typeface="黑体"/>
              </a:rPr>
              <a:t>非复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    </a:t>
            </a:r>
            <a:r>
              <a:rPr b="1" lang="zh-CN" sz="5400" spc="-1" strike="noStrike" u="sng">
                <a:solidFill>
                  <a:srgbClr val="00ffff"/>
                </a:solidFill>
                <a:uFillTx/>
                <a:latin typeface="Tahoma"/>
                <a:ea typeface="黑体"/>
              </a:rPr>
              <a:t>吴下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阿蒙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24280" y="121932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军事或政治方面的才干和谋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2819520"/>
            <a:ext cx="31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Times New Roman"/>
                <a:ea typeface="黑体"/>
              </a:rPr>
              <a:t>感叹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37339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吴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9200" y="1295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非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5812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不再是， 表否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514980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ahoma"/>
                <a:ea typeface="黑体"/>
              </a:rPr>
              <a:t>鲁肃神态心理：</a:t>
            </a:r>
            <a:r>
              <a:rPr b="1" lang="zh-CN" sz="4800" spc="-1" strike="noStrike">
                <a:solidFill>
                  <a:srgbClr val="ffccff"/>
                </a:solidFill>
                <a:latin typeface="Tahoma"/>
                <a:ea typeface="黑体"/>
              </a:rPr>
              <a:t>出乎意料的惊讶之态、敬佩赞叹的心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36576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66"/>
                </a:solidFill>
                <a:latin typeface="Tahoma"/>
                <a:ea typeface="黑体"/>
              </a:rPr>
              <a:t>侧面衬托吕蒙学有所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88272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原指不爱读书的吴国大将吕蒙，后比喻学识浅薄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5302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例句：小黄已贵为总经理，可不再是吴下阿蒙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5480" y="-76320"/>
            <a:ext cx="18266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00"/>
                </a:solidFill>
                <a:uFillTx/>
                <a:latin typeface="Tahoma"/>
                <a:ea typeface="黑体"/>
                <a:hlinkClick r:id="rId1" action="ppaction://hlinksldjump"/>
              </a:rPr>
              <a:t>吴下阿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320" y="2381400"/>
            <a:ext cx="91440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Tahoma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ccff"/>
                </a:solidFill>
                <a:latin typeface="Tahoma"/>
                <a:ea typeface="黑体"/>
              </a:rPr>
              <a:t>现在多用在他人有了转变方面。凡学识大进，或地位从低下而攀高了，以及穷困而变富有了，都可以用此成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484200"/>
            <a:ext cx="998208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蒙曰：士别</a:t>
            </a:r>
            <a:r>
              <a:rPr b="1" lang="zh-CN" sz="4800" spc="-1" strike="noStrike">
                <a:solidFill>
                  <a:srgbClr val="00ffff"/>
                </a:solidFill>
                <a:latin typeface="Tahoma"/>
                <a:ea typeface="黑体"/>
              </a:rPr>
              <a:t>三日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，即</a:t>
            </a:r>
            <a:r>
              <a:rPr b="1" lang="zh-CN" sz="4800" spc="-1" strike="noStrike">
                <a:solidFill>
                  <a:srgbClr val="00ffff"/>
                </a:solidFill>
                <a:latin typeface="Tahoma"/>
                <a:ea typeface="黑体"/>
              </a:rPr>
              <a:t>更 刮目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相</a:t>
            </a:r>
            <a:r>
              <a:rPr b="1" lang="zh-CN" sz="4800" spc="-1" strike="noStrike">
                <a:solidFill>
                  <a:srgbClr val="00ffff"/>
                </a:solidFill>
                <a:latin typeface="Tahoma"/>
                <a:ea typeface="黑体"/>
              </a:rPr>
              <a:t>待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ahoma"/>
                <a:ea typeface="黑体"/>
              </a:rPr>
              <a:t>大兄  何  见事  之  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晚  </a:t>
            </a:r>
            <a:r>
              <a:rPr b="1" lang="zh-CN" sz="4800" spc="-1" strike="noStrike">
                <a:solidFill>
                  <a:srgbClr val="00ffff"/>
                </a:solidFill>
                <a:latin typeface="Tahoma"/>
                <a:ea typeface="黑体"/>
              </a:rPr>
              <a:t>乎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1143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重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31687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助词，不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2482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Times New Roman"/>
                <a:ea typeface="黑体"/>
              </a:rPr>
              <a:t>感叹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066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表示时间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3213000"/>
            <a:ext cx="83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怎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44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长兄 尊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1143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擦擦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31687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认清事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91320" y="32130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啊（感叹语气词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53280" y="11430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看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4952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黑体"/>
              </a:rPr>
              <a:t>吕蒙神态心理：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黑体"/>
              </a:rPr>
              <a:t>学有所成的洋洋得意之态、自信自豪又坦然的心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30780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黑体"/>
                <a:ea typeface="黑体"/>
              </a:rPr>
              <a:t>《资治通鉴》</a:t>
            </a:r>
            <a:r>
              <a:rPr b="0" lang="zh-CN" sz="7200" spc="-1" strike="noStrike">
                <a:solidFill>
                  <a:srgbClr val="00ffff"/>
                </a:solidFill>
                <a:latin typeface="黑体"/>
                <a:ea typeface="黑体"/>
              </a:rPr>
              <a:t>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728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黑体"/>
              </a:rPr>
              <a:t>孙权</a:t>
            </a: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黑体"/>
              </a:rPr>
              <a:t>劝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黑体"/>
              </a:rPr>
              <a:t>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5244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宋神宗认为此书“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鉴于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往事，有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资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于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治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道”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1782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黑体"/>
                <a:ea typeface="黑体"/>
              </a:rPr>
              <a:t>劝勉，劝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866880"/>
            <a:ext cx="975348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士别三日，即更刮目相待，大兄何见事之晚乎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79072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与读书人分别几天，就要重新擦擦眼睛，用新的眼光看待他，长兄怎么认清事物这么迟啊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0880" y="2328840"/>
            <a:ext cx="8763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ffccff"/>
                </a:solidFill>
                <a:latin typeface="Tahoma"/>
                <a:ea typeface="黑体"/>
              </a:rPr>
              <a:t>表示不要用老眼光看待别人，要用发展的眼光看待别人  的进步。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也作“刮目相看”</a:t>
            </a:r>
            <a:r>
              <a:rPr b="1" lang="zh-CN" sz="4800" spc="-1" strike="noStrike">
                <a:solidFill>
                  <a:srgbClr val="ffccff"/>
                </a:solidFill>
                <a:latin typeface="Tahoma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13240" y="407880"/>
            <a:ext cx="20095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ff00"/>
                </a:solidFill>
                <a:uFillTx/>
                <a:latin typeface="Tahoma"/>
                <a:ea typeface="黑体"/>
                <a:hlinkClick r:id="rId1" action="ppaction://hlinksldjump"/>
              </a:rPr>
              <a:t>刮目相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6876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另眼相看，用新的眼光看待别人的进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991880" y="212760"/>
            <a:ext cx="11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ff"/>
                </a:solidFill>
                <a:latin typeface="Arial"/>
                <a:ea typeface="黑体"/>
              </a:rPr>
              <a:t>一词多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81952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979"/>
                </a:lnTo>
                <a:cubicBezTo>
                  <a:pt x="10800" y="7879"/>
                  <a:pt x="5400" y="8779"/>
                  <a:pt x="0" y="8779"/>
                </a:cubicBezTo>
                <a:cubicBezTo>
                  <a:pt x="5400" y="8779"/>
                  <a:pt x="10800" y="9679"/>
                  <a:pt x="10800" y="1057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3032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黑体"/>
              </a:rPr>
              <a:t>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23464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了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55616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认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84600" y="44798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Arial"/>
                <a:ea typeface="黑体"/>
              </a:rPr>
              <a:t>大兄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见</a:t>
            </a:r>
            <a:r>
              <a:rPr b="1" lang="zh-CN" sz="6000" spc="-1" strike="noStrike">
                <a:solidFill>
                  <a:srgbClr val="ffffcc"/>
                </a:solidFill>
                <a:latin typeface="Arial"/>
                <a:ea typeface="黑体"/>
              </a:rPr>
              <a:t>事之晚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236232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见</a:t>
            </a:r>
            <a:r>
              <a:rPr b="1" lang="zh-CN" sz="6000" spc="-1" strike="noStrike">
                <a:solidFill>
                  <a:srgbClr val="ffffcc"/>
                </a:solidFill>
                <a:latin typeface="Arial"/>
                <a:ea typeface="黑体"/>
              </a:rPr>
              <a:t>往事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0492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肃 </a:t>
            </a:r>
            <a:r>
              <a:rPr b="1" lang="zh-CN" sz="5400" spc="-1" strike="noStrike">
                <a:solidFill>
                  <a:srgbClr val="00ffff"/>
                </a:solidFill>
                <a:latin typeface="Tahoma"/>
                <a:ea typeface="黑体"/>
              </a:rPr>
              <a:t>遂    拜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蒙母， </a:t>
            </a:r>
            <a:r>
              <a:rPr b="1" lang="zh-CN" sz="5400" spc="-1" strike="noStrike">
                <a:solidFill>
                  <a:srgbClr val="00ffff"/>
                </a:solidFill>
                <a:latin typeface="Tahoma"/>
                <a:ea typeface="黑体"/>
              </a:rPr>
              <a:t>结友而别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127944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拜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127944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于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295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与吕蒙结为好友，然后告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680" y="4146480"/>
            <a:ext cx="9296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ffff"/>
                </a:solidFill>
                <a:latin typeface="黑体"/>
                <a:ea typeface="黑体"/>
              </a:rPr>
              <a:t>与吕蒙结友：</a:t>
            </a:r>
            <a:r>
              <a:rPr b="1" lang="zh-CN" sz="5200" spc="-1" strike="noStrike">
                <a:solidFill>
                  <a:srgbClr val="ffccff"/>
                </a:solidFill>
                <a:latin typeface="黑体"/>
                <a:ea typeface="黑体"/>
              </a:rPr>
              <a:t>表明鲁肃对吕蒙的钦佩（敬才爱才）；从侧面衬托吕蒙才略的惊人长进。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974880"/>
            <a:ext cx="982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层：鲁肃“与蒙论议”，“结友而别”。（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对话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297180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鲁肃敬才爱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吕蒙学有所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880" y="38088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孙权与吕蒙对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的目的是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92096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吕蒙接受了孙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的建议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344484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从哪里看出吕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的学习效果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496872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鲁肃与吕蒙交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后的结果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3808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孙权劝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1981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吕蒙治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36576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鲁肃叹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73600" y="5334120"/>
            <a:ext cx="590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肃蒙结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238880" y="1219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38880" y="28954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315200" y="45720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480" y="5411880"/>
            <a:ext cx="861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士别三日，即更刮目相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304920"/>
            <a:ext cx="952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吕蒙的变化过程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144936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辞以军中多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33685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乃始就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45412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43556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1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2286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黑体"/>
              </a:rPr>
              <a:t>背诵课文，用原文填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1203480"/>
            <a:ext cx="87631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孙权劝学，吕蒙以“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”为理由来推托。孙权现身说法用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？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来反驳，并告诉吕蒙学习的方法是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”，其目的是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”。吕蒙诚服，于是开始学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112716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军中多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3302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卿言多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23464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孰若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30322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孤常读书      自以为大有所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4160" y="4479840"/>
            <a:ext cx="26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但当涉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896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见往事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6880" y="533520"/>
            <a:ext cx="866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学习了一段时间后，吕蒙大有长进，以至于鲁肃见后称赞道：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！”而吕蒙也自信地说：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”事后，鲁肃因敬其才略而拜见蒙母，并与吕蒙结为好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1676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卿今者才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22860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非复吴下阿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3489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士别三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3489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即更刮目相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7200" y="-763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Arial"/>
                <a:ea typeface="黑体"/>
              </a:rPr>
              <a:t>人物性格特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320" y="914400"/>
            <a:ext cx="975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孙权劝学，先指出学习的必要性， 再指出读书的方法，继而现身说法， 使吕蒙无可推辞，“乃始就学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380988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鲁肃惊讶赞叹，并以才结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533412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吕蒙自信而自豪的回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297180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严格要求又循循善诱，关心部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449568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豪爽而不失风度，敬才爱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019920"/>
            <a:ext cx="97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知错必改，虚心接受意见，坦诚好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33480"/>
            <a:ext cx="952488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一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.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文学常识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作者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司马光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（名时地作评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作品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《资治通鉴》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及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“四书五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三个重要人物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孙权、吕蒙、鲁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关于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“劝学”及“学习”的名言各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背诵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课文，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提出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两个以上的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6.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概括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孙权、吕蒙、鲁肃的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性格特点（书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108000" y="-635040"/>
            <a:ext cx="9360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15.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孙权劝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 flipV="1">
            <a:off x="228600" y="120024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吕蒙的变化对你有什么启示（道理）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2362320"/>
            <a:ext cx="8762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黑体"/>
              </a:rPr>
              <a:t>学习的重要性——读书可以改变人生，学习可以激发人的潜能，因此，人要不断地学习，坚持读书学习才有长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 flipV="1">
            <a:off x="304920" y="30312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ff"/>
                </a:solidFill>
                <a:latin typeface="黑体"/>
                <a:ea typeface="黑体"/>
              </a:rPr>
              <a:t>课文总结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1523880"/>
            <a:ext cx="876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本文通过描写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黑体"/>
              </a:rPr>
              <a:t>吕蒙在孙权的劝说下“乃始就学”，其才略很快就有了惊人长进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的故事，说明了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黑体"/>
              </a:rPr>
              <a:t>学习的重要性——“知识改变命运，学习成就未来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 flipV="1">
            <a:off x="304920" y="30312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ff"/>
                </a:solidFill>
                <a:latin typeface="黑体"/>
                <a:ea typeface="黑体"/>
              </a:rPr>
              <a:t>写作特色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1616040"/>
            <a:ext cx="876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黑体"/>
              </a:rPr>
              <a:t>1. </a:t>
            </a: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黑体"/>
              </a:rPr>
              <a:t>言简意丰、生动传神的</a:t>
            </a:r>
            <a:r>
              <a:rPr b="1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对话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379404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黑体"/>
              </a:rPr>
              <a:t>2. </a:t>
            </a: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黑体"/>
              </a:rPr>
              <a:t>剪裁（详略）得当， 记事简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666600" y="25621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读书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10880" y="387036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好读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10880" y="51656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读好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90720" y="380880"/>
            <a:ext cx="4114800" cy="21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赠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 flipV="1">
            <a:off x="-304560" y="683280"/>
            <a:ext cx="9601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ccff"/>
                </a:solidFill>
                <a:latin typeface="黑体"/>
                <a:ea typeface="黑体"/>
              </a:rPr>
              <a:t>《孙权》与《伤仲永》相同点：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1965240"/>
            <a:ext cx="89917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表现的主题相同：突出后天学习的重要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 flipV="1">
            <a:off x="0" y="319680"/>
            <a:ext cx="9601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ccff"/>
                </a:solidFill>
                <a:latin typeface="黑体"/>
                <a:ea typeface="黑体"/>
              </a:rPr>
              <a:t>《孙权》与《伤仲永》不同点：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1293840"/>
            <a:ext cx="929664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选材角度不同：分别从正反两面说明学习的重要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《孙权》：年长好学，学有所成（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”卿今者才略，非复吴下阿蒙”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）；《伤仲永》：幼年不学，毫无所成（</a:t>
            </a: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“泯然众人矣”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flipV="1">
            <a:off x="76320" y="225360"/>
            <a:ext cx="92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《孙权》与《伤仲永》对比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1293840"/>
            <a:ext cx="93726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写法不同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《孙权》：以对话描写为主，言简意赅，侧面描写突出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《伤仲永》：叙议结合，借 事说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 flipV="1">
            <a:off x="76320" y="225360"/>
            <a:ext cx="92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《孙权》与《伤仲永》对比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2280" y="1293840"/>
            <a:ext cx="93726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感情不同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《孙权》：包含着敬佩和赞 叹之情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《伤仲永》：流露出惋惜和 哀伤之情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2511360"/>
            <a:ext cx="87631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字君实，谥号文正，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追封为温国公，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世称涑水先生，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陕州夏县人，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北宋政治家、史学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40184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黑体"/>
                <a:ea typeface="黑体"/>
              </a:rPr>
              <a:t>1.</a:t>
            </a:r>
            <a:r>
              <a:rPr b="1" lang="zh-CN" sz="7200" spc="-1" strike="noStrike">
                <a:solidFill>
                  <a:srgbClr val="00ffff"/>
                </a:solidFill>
                <a:latin typeface="黑体"/>
                <a:ea typeface="黑体"/>
              </a:rPr>
              <a:t>司马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1825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ff"/>
                </a:solidFill>
                <a:latin typeface="黑体"/>
                <a:ea typeface="黑体"/>
              </a:rPr>
              <a:t>一、文学常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1101600"/>
            <a:ext cx="8991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《资治通鉴》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是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司马光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主编的一部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编年体通史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，记载了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从战国到五代共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1362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年间的史事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。此书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以政治、军事为主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，展示了历代君臣治乱、成败、安危之事迹，以此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为封建统治阶级提供政治借鉴，具有极高的史学价值和文学价值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。毛泽东曾通读《资治通鉴》多达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17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52280"/>
            <a:ext cx="7315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黑体"/>
                <a:ea typeface="黑体"/>
              </a:rPr>
              <a:t>2.</a:t>
            </a:r>
            <a:r>
              <a:rPr b="1" lang="zh-CN" sz="5400" spc="-1" strike="noStrike">
                <a:solidFill>
                  <a:srgbClr val="00ffff"/>
                </a:solidFill>
                <a:latin typeface="黑体"/>
                <a:ea typeface="黑体"/>
              </a:rPr>
              <a:t>《资治通鉴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54936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ff"/>
                </a:solidFill>
                <a:latin typeface="黑体"/>
                <a:ea typeface="黑体"/>
              </a:rPr>
              <a:t>3.</a:t>
            </a:r>
            <a:r>
              <a:rPr b="1" lang="zh-CN" sz="6600" spc="-1" strike="noStrike">
                <a:solidFill>
                  <a:srgbClr val="00ffff"/>
                </a:solidFill>
                <a:latin typeface="黑体"/>
                <a:ea typeface="黑体"/>
              </a:rPr>
              <a:t>关于四书、五经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040" y="1916280"/>
            <a:ext cx="92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四书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《论语》、《孟子》、《大学》、《中庸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8120" y="3881520"/>
            <a:ext cx="9372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五经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《诗》、《书》、《礼》、《易》、《春秋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62520" y="76320"/>
            <a:ext cx="50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孙权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(182—252),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字仲谋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吴郡富春人，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三国时吴国建立者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。孙权治国有术，守业有方，曹操也感慨“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生子当如孙仲谋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2120" y="-76320"/>
            <a:ext cx="464832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191120" y="11124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吕蒙，字子明，吴国名将。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接受孙权劝说，读史书、兵书，长进甚快。鲁肃卒，代领其军，擒关羽，占荆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495324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4-08T14:06:57Z</dcterms:modified>
  <cp:revision>1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