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493-5CAA-4B4D-B923-2024AB30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DBE-219E-41D0-BAA6-F0A57626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376-29C4-4FA0-87C2-ED1A92A3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DCE-12DA-4E3B-92CF-32670380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AEE7-3576-4C54-8DBC-0EDCB637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A4C-9A12-4D27-88CF-AAAA9B3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441E-8FDE-4BB0-93C0-CE21B9B3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B1D9-F738-4381-A5C2-BDACF97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653-531A-465B-8A51-E154FF7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A4CB-3512-4B63-A623-39035CA2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5BFB-0050-4FAF-9A42-5FF80EE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D39-3B0E-43F1-B263-F7D670C2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CFF7-DE93-4EF5-A191-AC69EB0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FAD2-491A-40F9-9450-928E1E1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77B1-CA4D-45BC-9685-1A04FA34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5AFF-C3D2-48CF-840E-F201B8AB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191A-9094-44FD-A4BB-44DA338D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DD6-5ED2-48AC-8E7E-BC4DC0E4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A69-7C2D-43B1-8FDB-1EE990B5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741-BFF1-4F0D-A1A5-28A04708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ED3-14AD-4DC2-8C1A-B535535B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BAA-8E69-499A-98FA-8EA4A0A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510-AAF2-4AE9-9917-A7AC918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998-6B5A-451B-B5C4-8CE92579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91AB-5E8B-421D-8E63-1692B5C2F0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A096-3ECF-439A-AC20-D7CB32BC251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u=4174936301,2359861021&amp;fm=23&amp;gp=0"/>
          <p:cNvPicPr/>
          <p:nvPr/>
        </p:nvPicPr>
        <p:blipFill>
          <a:blip r:embed="rId1"/>
          <a:stretch/>
        </p:blipFill>
        <p:spPr>
          <a:xfrm>
            <a:off x="395280" y="260280"/>
            <a:ext cx="4673520" cy="5905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5076720" y="105264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古代史学巨著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资治通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司马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持编纂的一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编年体通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载了从战国到五代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间的史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715000" y="357120"/>
            <a:ext cx="2527200" cy="6426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读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0" y="2286000"/>
            <a:ext cx="1295280" cy="2428920"/>
          </a:xfrm>
          <a:prstGeom prst="wedgeEllipseCallout">
            <a:avLst>
              <a:gd name="adj1" fmla="val 45268"/>
              <a:gd name="adj2" fmla="val -73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吴国开国皇帝，政治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500040" y="5500800"/>
            <a:ext cx="2000160" cy="714240"/>
          </a:xfrm>
          <a:prstGeom prst="wedgeEllipseCallout">
            <a:avLst>
              <a:gd name="adj1" fmla="val 22629"/>
              <a:gd name="adj2" fmla="val -129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吴名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5643720" y="5072040"/>
            <a:ext cx="2500200" cy="986040"/>
          </a:xfrm>
          <a:prstGeom prst="wedgeEllipseCallout">
            <a:avLst>
              <a:gd name="adj1" fmla="val -106995"/>
              <a:gd name="adj2" fmla="val -86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鉴于往事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有资于治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6732720" y="638172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枝江实验中学   肖发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214200" y="285840"/>
            <a:ext cx="2071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笔顺读写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2809080" y="285840"/>
            <a:ext cx="127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折捺折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接箭头连接符 11"/>
          <p:cNvCxnSpPr>
            <a:endCxn id="96" idx="1"/>
          </p:cNvCxnSpPr>
          <p:nvPr/>
        </p:nvCxnSpPr>
        <p:spPr>
          <a:xfrm>
            <a:off x="2214720" y="928440"/>
            <a:ext cx="848520" cy="1129680"/>
          </a:xfrm>
          <a:prstGeom prst="straightConnector1">
            <a:avLst/>
          </a:prstGeom>
          <a:ln w="5724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6" name="椭圆 14"/>
          <p:cNvSpPr/>
          <p:nvPr/>
        </p:nvSpPr>
        <p:spPr>
          <a:xfrm>
            <a:off x="2928960" y="1785960"/>
            <a:ext cx="914400" cy="185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箭头连接符 13"/>
          <p:cNvCxnSpPr/>
          <p:nvPr/>
        </p:nvCxnSpPr>
        <p:spPr>
          <a:xfrm flipV="1">
            <a:off x="3429000" y="1071720"/>
            <a:ext cx="357840" cy="64332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98" name="TextBox 15"/>
          <p:cNvSpPr/>
          <p:nvPr/>
        </p:nvSpPr>
        <p:spPr>
          <a:xfrm>
            <a:off x="4000680" y="10000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按五笔输入法来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箭头连接符 17"/>
          <p:cNvCxnSpPr/>
          <p:nvPr/>
        </p:nvCxnSpPr>
        <p:spPr>
          <a:xfrm flipH="1" flipV="1">
            <a:off x="4571280" y="713880"/>
            <a:ext cx="500760" cy="28656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Garamond"/>
              </a:rPr>
              <a:t>课后反思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详见：“课后反思”文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Garamond"/>
              </a:rPr>
              <a:t>学习目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准字音、读懂停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通课文，了解文言词义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重难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懂文意，说启示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重难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原文，写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66"/>
                </a:solidFill>
                <a:latin typeface="Garamond"/>
              </a:rPr>
              <a:t>读准字音</a:t>
            </a:r>
            <a:br>
              <a:rPr sz="42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（学生齐读）</a:t>
            </a:r>
            <a:r>
              <a:rPr b="1" lang="zh-CN" sz="4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424720" cy="475308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，权谓吕蒙曰：“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ī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当涂掌事，不可不学！”蒙辞以军中多务。权曰：“孤岂欲卿治经为博士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但当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猎，见往事耳。卿言多务，孰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孤？孤常读书，自以为大有所益。”蒙乃始就学。及鲁肃过寻阳，与蒙论议，大惊曰：“卿今者才略，非复吴下阿蒙！”蒙曰：“士别三日，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ē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刮目相待，大兄何见事之晚乎！”肃遂拜蒙母，结友而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148360" y="177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76720" y="1773360"/>
            <a:ext cx="7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928520"/>
            <a:ext cx="91440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初</a:t>
            </a:r>
            <a:r>
              <a:rPr b="1" lang="en-US" sz="29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900" spc="-1" strike="noStrike">
                <a:solidFill>
                  <a:srgbClr val="ff0066"/>
                </a:solidFill>
                <a:latin typeface="黑体"/>
                <a:ea typeface="黑体"/>
              </a:rPr>
              <a:t>权</a:t>
            </a:r>
            <a:r>
              <a:rPr b="1" lang="en-US" sz="29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谓吕蒙曰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卿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黑体"/>
                <a:ea typeface="黑体"/>
              </a:rPr>
              <a:t>qīng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) 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今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当涂掌事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不可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不学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蒙</a:t>
            </a:r>
            <a:r>
              <a:rPr b="1" lang="en-US" sz="29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辞以军中多务。权曰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孤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岂欲卿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治经为博士邪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en-US" sz="2900" spc="-1" strike="noStrike">
                <a:solidFill>
                  <a:srgbClr val="ff0000"/>
                </a:solidFill>
                <a:latin typeface="宋体"/>
                <a:ea typeface="黑体"/>
              </a:rPr>
              <a:t>é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！但当涉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黑体"/>
                <a:ea typeface="黑体"/>
              </a:rPr>
              <a:t>sh</a:t>
            </a:r>
            <a:r>
              <a:rPr b="1" lang="en-US" sz="2900" spc="-1" strike="noStrike">
                <a:solidFill>
                  <a:srgbClr val="ff0000"/>
                </a:solidFill>
                <a:latin typeface="宋体"/>
                <a:ea typeface="黑体"/>
              </a:rPr>
              <a:t>è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猎，见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往事耳。卿言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多务，孰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黑体"/>
                <a:ea typeface="黑体"/>
              </a:rPr>
              <a:t>sh</a:t>
            </a:r>
            <a:r>
              <a:rPr b="1" lang="en-US" sz="2900" spc="-1" strike="noStrike">
                <a:solidFill>
                  <a:srgbClr val="ff0000"/>
                </a:solidFill>
                <a:latin typeface="宋体"/>
                <a:ea typeface="黑体"/>
              </a:rPr>
              <a:t>ú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)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若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孤？孤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常读书，自以为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大有所益。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蒙</a:t>
            </a:r>
            <a:r>
              <a:rPr b="1" lang="en-US" sz="29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乃始就学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及</a:t>
            </a:r>
            <a:r>
              <a:rPr b="1" lang="en-US" sz="29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ff0066"/>
                </a:solidFill>
                <a:latin typeface="黑体"/>
                <a:ea typeface="黑体"/>
              </a:rPr>
              <a:t>鲁肃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过寻阳，与蒙</a:t>
            </a:r>
            <a:r>
              <a:rPr b="1" lang="en-US" sz="29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论议，大惊曰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卿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今者才略，非复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吴下阿蒙！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900" spc="-1" strike="noStrike">
                <a:solidFill>
                  <a:srgbClr val="ff0066"/>
                </a:solidFill>
                <a:latin typeface="黑体"/>
                <a:ea typeface="黑体"/>
              </a:rPr>
              <a:t>蒙曰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士别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三日，即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黑体"/>
                <a:ea typeface="黑体"/>
              </a:rPr>
              <a:t>j</a:t>
            </a:r>
            <a:r>
              <a:rPr b="1" lang="en-US" sz="2900" spc="-1" strike="noStrike">
                <a:solidFill>
                  <a:srgbClr val="ff0000"/>
                </a:solidFill>
                <a:latin typeface="宋体"/>
                <a:ea typeface="黑体"/>
              </a:rPr>
              <a:t>í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更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900" spc="-1" strike="noStrike">
                <a:solidFill>
                  <a:srgbClr val="ff0000"/>
                </a:solidFill>
                <a:latin typeface="黑体"/>
                <a:ea typeface="黑体"/>
              </a:rPr>
              <a:t>gēng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)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刮目相待，大兄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何</a:t>
            </a:r>
            <a:r>
              <a:rPr b="1" lang="en-US" sz="29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见事之晚乎！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肃</a:t>
            </a:r>
            <a:r>
              <a:rPr b="1" lang="en-US" sz="29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遂拜蒙母，结友而别</a:t>
            </a:r>
            <a:r>
              <a:rPr b="1" lang="zh-CN" sz="29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835280" y="404640"/>
            <a:ext cx="659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读懂停顿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分角色朗读。蓝色句子齐读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952280" y="71424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权：李新纪元、赫凡喆、王星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428760" y="114300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鲁：吴梦龙、金新林、肖祖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428760" y="15717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蒙：淡俊杰、周昕、曾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9858240" y="1857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430200" y="1571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33"/>
                </a:solidFill>
                <a:latin typeface="Arial"/>
                <a:ea typeface="隶书"/>
              </a:rPr>
              <a:t>读解课文，了解词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610000" y="3000240"/>
            <a:ext cx="41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同桌互学，展示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解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译文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143160" y="3932640"/>
            <a:ext cx="281268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示：文言翻译五字法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留、替、调、补、删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97632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  <a:ea typeface="隶书"/>
              </a:rPr>
              <a:t>           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隶书"/>
              </a:rPr>
              <a:t>初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，权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谓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 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吕蒙      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隶书"/>
              </a:rPr>
              <a:t>曰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  <a:ea typeface="隶书"/>
              </a:rPr>
              <a:t>/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：“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卿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隶书"/>
              </a:rPr>
              <a:t>今</a:t>
            </a:r>
            <a:r>
              <a:rPr b="1" lang="zh-CN" sz="3400" spc="-1" strike="noStrike" u="sng">
                <a:solidFill>
                  <a:srgbClr val="006600"/>
                </a:solidFill>
                <a:uFillTx/>
                <a:latin typeface="Arial"/>
                <a:ea typeface="隶书"/>
              </a:rPr>
              <a:t>当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掌 事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，不可不学！”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辞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以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军中多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务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。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权曰：“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孤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岂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     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欲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卿治经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为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博士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邪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！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但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  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当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涉猎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，</a:t>
            </a:r>
            <a:r>
              <a:rPr b="1" lang="zh-CN" sz="3400" spc="-1" strike="noStrike" u="sng">
                <a:solidFill>
                  <a:srgbClr val="006600"/>
                </a:solidFill>
                <a:uFillTx/>
                <a:latin typeface="Arial"/>
                <a:ea typeface="隶书"/>
              </a:rPr>
              <a:t>见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往事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        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耳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。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卿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隶书"/>
              </a:rPr>
              <a:t>言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多务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孰 若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孤？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孤常读书，自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以为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大有所益。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84360" y="140976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429160" y="2428920"/>
            <a:ext cx="13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659640" y="242100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事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143080" y="3500280"/>
            <a:ext cx="15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643200" y="357192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57880" y="350028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357960" y="3643200"/>
            <a:ext cx="25718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同“耶”，吗。表示反问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语气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250920" y="472428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900000" y="4653000"/>
            <a:ext cx="143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应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2627280" y="4653000"/>
            <a:ext cx="25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5003640" y="4797360"/>
            <a:ext cx="414036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罢了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限制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语气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214200" y="5000760"/>
            <a:ext cx="3286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谁。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得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716360" y="5805360"/>
            <a:ext cx="30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429680" y="1357200"/>
            <a:ext cx="14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9"/>
          <p:cNvSpPr/>
          <p:nvPr/>
        </p:nvSpPr>
        <p:spPr>
          <a:xfrm>
            <a:off x="4932360" y="2060640"/>
            <a:ext cx="2664000" cy="67140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6370200" y="1285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331920" y="241992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掌管政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4595400" y="14835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推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191880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1241280" y="39996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粗略地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3841920" y="47138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历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2606040" y="214200"/>
            <a:ext cx="39585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法：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词义，后进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译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展示的任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1643040" y="6215040"/>
            <a:ext cx="3500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积累语气词：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宋体"/>
              </a:rPr>
              <a:t>邪  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6"/>
          <p:cNvSpPr/>
          <p:nvPr/>
        </p:nvSpPr>
        <p:spPr>
          <a:xfrm>
            <a:off x="3349440" y="4071960"/>
            <a:ext cx="2554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[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古今异义词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]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往事：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今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过去的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7"/>
          <p:cNvSpPr/>
          <p:nvPr/>
        </p:nvSpPr>
        <p:spPr>
          <a:xfrm>
            <a:off x="5896440" y="2857680"/>
            <a:ext cx="198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[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古今异义词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]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博士：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今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学位名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6756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       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乃</a:t>
            </a:r>
            <a:r>
              <a:rPr b="1" lang="zh-CN" sz="3400" spc="-1" strike="noStrike">
                <a:solidFill>
                  <a:srgbClr val="336600"/>
                </a:solidFill>
                <a:latin typeface="Arial"/>
                <a:ea typeface="隶书"/>
              </a:rPr>
              <a:t>   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 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始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 </a:t>
            </a:r>
            <a:r>
              <a:rPr b="1" lang="zh-CN" sz="3400" spc="-1" strike="noStrike" u="sng">
                <a:solidFill>
                  <a:srgbClr val="006600"/>
                </a:solidFill>
                <a:uFillTx/>
                <a:latin typeface="Arial"/>
                <a:ea typeface="隶书"/>
              </a:rPr>
              <a:t>就</a:t>
            </a:r>
            <a:r>
              <a:rPr b="1" lang="zh-CN" sz="34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学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。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r>
              <a:rPr b="1" lang="zh-CN" sz="3400" spc="-1" strike="noStrike" u="sng">
                <a:solidFill>
                  <a:srgbClr val="006600"/>
                </a:solidFill>
                <a:uFillTx/>
                <a:latin typeface="Arial"/>
                <a:ea typeface="隶书"/>
              </a:rPr>
              <a:t>及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鲁肃</a:t>
            </a:r>
            <a:r>
              <a:rPr b="1" lang="zh-CN" sz="3400" spc="-1" strike="noStrike" u="sng">
                <a:solidFill>
                  <a:srgbClr val="006600"/>
                </a:solidFill>
                <a:uFillTx/>
                <a:latin typeface="Arial"/>
                <a:ea typeface="隶书"/>
              </a:rPr>
              <a:t>过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寻阳，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论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      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议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，  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大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             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隶书"/>
              </a:rPr>
              <a:t>惊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曰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：“卿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隶书"/>
              </a:rPr>
              <a:t>今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才略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，非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复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吴下阿蒙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！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”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蒙曰：“</a:t>
            </a:r>
            <a:r>
              <a:rPr b="1" lang="zh-CN" sz="3400" spc="-1" strike="noStrike" u="sng">
                <a:solidFill>
                  <a:srgbClr val="006600"/>
                </a:solidFill>
                <a:uFillTx/>
                <a:latin typeface="Arial"/>
                <a:ea typeface="隶书"/>
              </a:rPr>
              <a:t>士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隶书"/>
              </a:rPr>
              <a:t>别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隶书"/>
              </a:rPr>
              <a:t>日</a:t>
            </a:r>
            <a:r>
              <a:rPr b="1" lang="zh-CN" sz="3400" spc="-1" strike="noStrike">
                <a:solidFill>
                  <a:srgbClr val="ff0066"/>
                </a:solidFill>
                <a:latin typeface="Arial"/>
                <a:ea typeface="隶书"/>
              </a:rPr>
              <a:t>，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即</a:t>
            </a:r>
            <a:r>
              <a:rPr b="1" lang="zh-CN" sz="3400" spc="-1" strike="noStrike" u="sng">
                <a:solidFill>
                  <a:srgbClr val="006600"/>
                </a:solidFill>
                <a:uFillTx/>
                <a:latin typeface="Arial"/>
                <a:ea typeface="隶书"/>
              </a:rPr>
              <a:t>更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刮目相待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，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大兄 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何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  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见事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隶书"/>
              </a:rPr>
              <a:t>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隶书"/>
              </a:rPr>
              <a:t>晚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乎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！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”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肃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遂</a:t>
            </a:r>
            <a:r>
              <a:rPr b="1" lang="zh-CN" sz="3400" spc="-1" strike="noStrike">
                <a:solidFill>
                  <a:srgbClr val="008000"/>
                </a:solidFill>
                <a:latin typeface="Arial"/>
                <a:ea typeface="隶书"/>
              </a:rPr>
              <a:t>     </a:t>
            </a:r>
            <a:r>
              <a:rPr b="1" lang="zh-CN" sz="3400" spc="-1" strike="noStrike">
                <a:solidFill>
                  <a:srgbClr val="336600"/>
                </a:solidFill>
                <a:latin typeface="Arial"/>
                <a:ea typeface="隶书"/>
              </a:rPr>
              <a:t> </a:t>
            </a:r>
            <a:r>
              <a:rPr b="1" lang="zh-CN" sz="34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拜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蒙母，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结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友</a:t>
            </a:r>
            <a:r>
              <a:rPr b="1" lang="zh-CN" sz="3400" spc="-1" strike="noStrike">
                <a:solidFill>
                  <a:srgbClr val="006600"/>
                </a:solidFill>
                <a:latin typeface="Arial"/>
                <a:ea typeface="隶书"/>
              </a:rPr>
              <a:t>而别</a:t>
            </a:r>
            <a:r>
              <a:rPr b="1" lang="zh-CN" sz="3400" spc="-1" strike="noStrike">
                <a:solidFill>
                  <a:srgbClr val="000066"/>
                </a:solidFill>
                <a:latin typeface="Arial"/>
                <a:ea typeface="隶书"/>
              </a:rPr>
              <a:t>。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  <a:ea typeface="隶书"/>
              </a:rPr>
              <a:t>/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402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46196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360" y="1262160"/>
            <a:ext cx="13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627280" y="126216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908000" y="2349360"/>
            <a:ext cx="12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议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059280" y="2276640"/>
            <a:ext cx="226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常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十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9350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16000" y="458136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214960" y="457200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怎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2268360" y="566100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492360" y="55897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拜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643800" y="3429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读书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61928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，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468360" y="2349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547640" y="4581360"/>
            <a:ext cx="19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4284720" y="119700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083640" y="1285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8277840" y="1500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1001160" y="5733000"/>
            <a:ext cx="3895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啊。表感叹语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478560" y="45075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认清事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2776320" y="4507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新的眼光看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3423960" y="342792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没有文学的阿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5633640" y="58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结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7126200" y="571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分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>
            <a:off x="510480" y="3548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才干和谋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7"/>
          <p:cNvSpPr/>
          <p:nvPr/>
        </p:nvSpPr>
        <p:spPr>
          <a:xfrm>
            <a:off x="6760440" y="50720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才、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3342960" y="428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从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8065080" y="428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2411280" y="6286680"/>
            <a:ext cx="2858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积累成语：吴下阿蒙、刮目相待（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6215040" y="6286680"/>
            <a:ext cx="24289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积累语气词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"/>
                <a:ea typeface="仿宋"/>
              </a:rPr>
              <a:t>话题：与方仲永的变化</a:t>
            </a:r>
            <a:r>
              <a:rPr b="1" lang="zh-CN" sz="3200" spc="-1" strike="noStrike">
                <a:solidFill>
                  <a:srgbClr val="ff0066"/>
                </a:solidFill>
                <a:latin typeface="仿宋"/>
                <a:ea typeface="仿宋"/>
              </a:rPr>
              <a:t>相比</a:t>
            </a:r>
            <a:r>
              <a:rPr b="1" lang="zh-CN" sz="3200" spc="-1" strike="noStrike">
                <a:solidFill>
                  <a:srgbClr val="0000ff"/>
                </a:solidFill>
                <a:latin typeface="仿宋"/>
                <a:ea typeface="仿宋"/>
              </a:rPr>
              <a:t>，吕蒙的变化对我们有什么样的</a:t>
            </a:r>
            <a:r>
              <a:rPr b="1" lang="zh-CN" sz="3200" spc="-1" strike="noStrike">
                <a:solidFill>
                  <a:srgbClr val="ff0066"/>
                </a:solidFill>
                <a:latin typeface="仿宋"/>
                <a:ea typeface="仿宋"/>
              </a:rPr>
              <a:t>启示</a:t>
            </a:r>
            <a:r>
              <a:rPr b="1" lang="zh-CN" sz="3200" spc="-1" strike="noStrike">
                <a:solidFill>
                  <a:srgbClr val="0000ff"/>
                </a:solidFill>
                <a:latin typeface="仿宋"/>
                <a:ea typeface="仿宋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30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Garamond"/>
              </a:rPr>
              <a:t>读懂文意，说启示。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857680" y="3286080"/>
            <a:ext cx="4071600" cy="398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吕蒙：年长乃学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黑体"/>
              </a:rPr>
              <a:t>－－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黑体"/>
              </a:rPr>
              <a:t>学有所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786040" y="2714760"/>
            <a:ext cx="400536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仲永：少年不学－－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黑体"/>
              </a:rPr>
              <a:t>一事无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00040" y="4786200"/>
            <a:ext cx="81439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路提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结合自己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看待他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读书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428760" y="385776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仿宋"/>
                <a:ea typeface="仿宋"/>
              </a:rPr>
              <a:t>[</a:t>
            </a: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表达句式</a:t>
            </a:r>
            <a:r>
              <a:rPr b="1" lang="en-US" sz="2800" spc="-1" strike="noStrike">
                <a:solidFill>
                  <a:srgbClr val="0000ff"/>
                </a:solidFill>
                <a:latin typeface="仿宋"/>
                <a:ea typeface="仿宋"/>
              </a:rPr>
              <a:t>] </a:t>
            </a: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吕蒙的变化启示我们</a:t>
            </a: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：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仿宋"/>
                <a:ea typeface="仿宋"/>
              </a:rPr>
              <a:t>     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042080" y="107172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"/>
                <a:ea typeface="仿宋"/>
              </a:rPr>
              <a:t>（小组研讨，代表展示。请多角度思考。</a:t>
            </a: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2264040" y="1505520"/>
            <a:ext cx="450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吕蒙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巧遇</a:t>
            </a: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方仲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843720" y="300024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试写一段对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展示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428760" y="285840"/>
            <a:ext cx="4071960" cy="70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读原文，写对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285840" y="4429080"/>
            <a:ext cx="8286840" cy="11304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前不久，吕蒙到枝江五枊公园观光，看到老乡在大门旁摆摊给人擦皮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3893760" y="37148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情景创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请发挥想象，自拟开头。再写对话。参考例文：孙权劝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4:12:42Z</dcterms:created>
  <dc:creator>雨林木风</dc:creator>
  <dc:description/>
  <dc:language>en-US</dc:language>
  <cp:lastModifiedBy>xfx</cp:lastModifiedBy>
  <dcterms:modified xsi:type="dcterms:W3CDTF">2014-03-25T07:04:53Z</dcterms:modified>
  <cp:revision>60</cp:revision>
  <dc:subject/>
  <dc:title>孙权劝学</dc:title>
</cp:coreProperties>
</file>