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arrow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7BF-373E-4D78-8F87-28D914E5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54C-A0A1-4642-A2BC-E9F8EF7B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433-4185-4E2A-9951-428768A4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AB0-EB28-422F-94B0-F3F21A72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0041-8E9C-460D-B62F-02B89C5D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1EAD-4C7E-4177-81BC-4309F417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1042-A99C-484C-83B5-040A80EB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356D-2F78-4671-A4EC-DC2B0A3B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A5ED-10F1-4394-8CB8-C2F1E760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C73E-E003-4D6F-907B-FEF0E5BE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C116-8259-45AF-8AAF-ACCA3F7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3D0-15A4-4A73-80AB-CBBC358C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BF4A-B8C8-4ABF-9F71-5CD2AAE5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4AF9-F412-4AC9-93FE-715D5FC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4007-CF22-4DCB-9224-42461F6C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7CE7-AD3A-4CDB-A5A4-52FEC20B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2D2F-D7D9-43E9-9D9B-AC8E6620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D13-2BE6-4E9C-82F6-2421A127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022-6025-4FB9-8ED9-1EF18DEE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F44-DEED-402E-A16D-C729D2F6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081-D778-4391-87EA-536E8818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B9D-66C9-48D8-A43A-26753EED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824-112B-4C73-A752-3AC9C81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B1B-4A37-429C-8246-2EE34E6E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0F26-76DE-4291-AEC6-9BF74757C0AA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0BC8-9E7B-46C7-A243-19C49F4E6DD4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98100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8100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索溪峪的“野”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索溪峪的风光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9280" y="573408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6524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索溪峪的“野”</a:t>
            </a:r>
            <a:r>
              <a:rPr b="1" lang="zh-CN" sz="16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一走进张家界索溪峪，脑子里只剩下一个字：野。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山是野的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。索溪峪的山，是天然的美，是野性的美。这种美，是一种惊险的美：几十丈高的断壁悬崖拔地而起，半边悬空的巨石在山风中摇摇晃晃，游人仰头而掉帽，望石而惊心。什么“一线天”，什么百丈崃”，闻名就使人胆颤。这种美，是一种磅礴的美：不是一峰独秀，也不是三五峰呼应，而是千峰万仞绵亘蜿蜒，“十里画廊”“西海峰林”，令人浩气长舒。这种美，是一种随心所欲、不拘一格的美：直插云天，敢戏白云，横拦绿水，敢弄倩影；旁逸斜出，则崛起巍巍“斜山”，抱伙成团，便高筑峰上“平原”；相对相依，宛如“热恋情人”，亭亭玉立，好似“窈窕淑女”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...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水是野的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。索溪像是一个从深山中蹦跳而出的野孩子，一会儿缠绕着山奔跑，一会儿撅着屁股，赌着气又自个儿闹去了。它尤其爱跟山路哥哥闹着玩：一会儿手牵手，并肩而行；一会儿横铲一脚，将山路拦腰截断。山路哥哥倒不十分害怕，它请树木大叔帮忙，五根大树往索溪身上一搭，反从索溪身上跨过去了。山路哥哥还找石头弟弟帮忙，几块巨石一垫，山路便化成一条虚线，一跳一跳地从水中过去了。山路还有更巧妙的办法，它在河床上垫一排大卵石，从水底下一个猛子扎过去。这样的“路”，还可以过汽车。我们到黄龙洞去，六过索溪水，解放牌卡车就是从这水下的卵石路上开过去的。汽车吼叫着，车身摇晃着，水花四贱着，卵石挤碰着，我们的心也怦怦直跳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......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平生没走过这么</a:t>
            </a: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“野”的路！</a:t>
            </a:r>
            <a:br>
              <a:rPr sz="1600"/>
            </a:b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　　山上的野野物当然更是“野”性十足了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。那些大大小小的猴子，大约是因为和我们人类同祖先的缘故，对我们有着一种特殊的感情。我们来到野生植物园时，一大群猴子飞腾跳跃，十分欢喜地表示迎接，在我们头上的树枝间跳来跳去，亲热的劲头难以言状。但当我们一行中的一位年轻女同志从下面经过时，一只调皮的猴子竟恶作剧地撒起尿来，吓得这位女同胞惊叫一声，慌忙逃了过去。而那只调皮的家伙，却快活地叫着，跳到另一株树上去了。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   </a:t>
            </a:r>
            <a:r>
              <a:rPr b="0" lang="zh-CN" sz="1600" spc="-1" strike="noStrike">
                <a:solidFill>
                  <a:srgbClr val="0000cc"/>
                </a:solidFill>
                <a:latin typeface="Times New Roman"/>
              </a:rPr>
              <a:t>   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在这样的山水间行走，我们也渐渐变得“野”了起来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。城里戴眼镜的姑娘，一边攀缘，一边大嚼着煮熟的玉米棒；年过花甲的老叟，在石块间蹦来跳去，温习着童年的功课。遇上突然横在面前的山溪，一队人全都手提皮鞋、丝袜，踩着乱石，从齐膝的水中趟过去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......</a:t>
            </a: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满山的嘻嘻哈哈，满溪的亲亲热热。人们，在这山水中返朴归真了。      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6160" y="6181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板书设计：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257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图片欣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2803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6160" y="-25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图片欣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arrow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35640" y="333360"/>
            <a:ext cx="2743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索溪峪的山</a:t>
            </a:r>
            <a:endParaRPr b="0" lang="en-US" sz="2400" spc="1" strike="noStrike">
              <a:ln w="9360">
                <a:solidFill>
                  <a:srgbClr val="808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 spd="slow" advTm="4000">
    <p:split dir="out" orient="horz"/>
    <p:sndAc>
      <p:stSnd>
        <p:snd r:embed="rId3" name="arrow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6160" y="257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图片欣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-25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图片欣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60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25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图片欣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图片欣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352680" y="1600200"/>
            <a:ext cx="16002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琥珀"/>
              </a:rPr>
              <a:t>野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00200" y="762120"/>
            <a:ext cx="7621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山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00200" y="2057400"/>
            <a:ext cx="7714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水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9320" y="2895480"/>
            <a:ext cx="154296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动物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00200" y="4772160"/>
            <a:ext cx="771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人</a:t>
            </a:r>
            <a:endParaRPr b="1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86400" y="533520"/>
            <a:ext cx="182880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姿态各异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562720" y="1981080"/>
            <a:ext cx="190476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蜿蜒变幻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86400" y="2819520"/>
            <a:ext cx="213372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自由自在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86400" y="4800600"/>
            <a:ext cx="228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返璞归真</a:t>
            </a:r>
            <a:endParaRPr b="1" lang="en-US" sz="6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图片欣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648320" cy="6781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图片欣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课堂练习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、摘录本课你喜欢的语句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、小练笔：描写一处你喜欢的景物，可用上本课学到的表达方法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95680" y="6021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11.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8120"/>
            <a:ext cx="863748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学生的课后作业：</a:t>
            </a:r>
            <a:br>
              <a:rPr sz="44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（任选一个或几个、喜欢哪个做哪个）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98900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我会读，有感情的朗读课文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我会讲，做个小导游，向家人和朋友介绍索溪峪的美景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我会画，画一画索溪峪的山之野，水之野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我会搜索，搜集有关写山写水的文章并读         一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我会写，依照课文的写法（先概括，后具体）抓住特点写一处景物（一段话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27000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"/>
              </a:rPr>
              <a:t>张家界森林公园的简介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64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张家界森林公园，是我国第一个森林公园，它与天子山、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索溪峪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构成了山奇、水奇、石奇、云奇、树奇的武陵源。这里千峰竟立，争奇斗研，山势之雄伟，山色之秀丽，让人称奇叫绝。这里哪儿都是一副如诗如画的天然绝景。其中的索溪峪，更是别具一格，有着其他景点无法比美的魅力。想去看看吗？今天，我们就借助湖南作家曹敬庄的神笔一起游览“索溪峪”，感受它的美吧。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2286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索溪峪是张家界的一个主要景点。这里的一切都有一种野性的美。认真读读课文，想一想：“野”在本课是什么意思，课文从哪几个方面描写了索溪峪的“野”，是怎样写出这种野性美的。把你觉得写得好的地方多读一读，体会这样写好在哪里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阅读提示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29080" y="898560"/>
            <a:ext cx="39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498760"/>
            <a:ext cx="814716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索溪峪  磅礴  恶作剧  巍巍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蹚过去  撅着   撒尿   攀缘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绵亘蜿蜒  窈窕淑女  千峰万仞       望而生畏  水花四溅  返璞归真</a:t>
            </a: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读读下列词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57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请欣赏有感情地朗读课文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1079640"/>
            <a:ext cx="8964720" cy="577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126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课文第一段 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一走进张家界索溪峪，脑子里只剩下一个字：野。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思考：这一段在全文中起什么作用？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486900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2926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概括全文的作用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25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图片欣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2570040" cy="6021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56000" y="260280"/>
            <a:ext cx="658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索溪峪的山是天然的美，是野性的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　这种美，是一种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惊险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的美：几十丈高的断壁悬崖拔地而起，半边悬空的巨石在山风中摇摇晃晃，使人望而生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这种美，是一种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磅礴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的美：不是一峰独秀，也不是三五峰呼应，而是千峰万仞绵亘蜿蜒，“十里画廊”，“西海峰林”，令人浩气长舒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这种美，是一种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随心所欲、不拘一格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的美：或直插云天，或横拦绿水。旁逸斜出，崛起巍巍“斜山”；相对相依，宛如“热恋情人”；亭亭玉立，则好似“窈窕淑女”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666880" y="1676520"/>
            <a:ext cx="36576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自然美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743200" y="3905280"/>
            <a:ext cx="36576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天然美</a:t>
            </a:r>
            <a:endParaRPr b="1" lang="en-US" sz="9600" spc="1" strike="noStrike">
              <a:ln w="9360">
                <a:solidFill>
                  <a:srgbClr val="cc66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没有经过人工修饰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7:39:45Z</dcterms:created>
  <dc:creator>wangliping</dc:creator>
  <dc:description/>
  <dc:language>en-US</dc:language>
  <cp:lastModifiedBy>duanwen</cp:lastModifiedBy>
  <dcterms:modified xsi:type="dcterms:W3CDTF">2013-08-27T08:55:32Z</dcterms:modified>
  <cp:revision>39</cp:revision>
  <dc:subject/>
  <dc:title>PowerPoint 演示文稿</dc:title>
</cp:coreProperties>
</file>