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D2CB-D746-4266-9C7B-77B4FF060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8776-ACAA-4491-81A6-F12426AB6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3236-5FEE-4F4C-AE55-D78B65866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ACAF-EB43-4B3A-AAAC-5AF7BDFCE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EFBEC-9DCE-4D6E-A1C5-C7B6C72CA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27FA4-7F64-4EF6-918B-AC39CED65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DE4FC-2175-4761-9EF0-A5965B9E0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4B6B0-D580-4AC3-BF29-C2FB9E189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D36CB-FBFC-44B6-BD2E-FFEC1CAB8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3DB4A-07A7-4DDC-A58B-6FD53A1D8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16017-9A72-42A9-9DF7-EDDA5CAF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3D32-A7D5-4DA2-9607-F5E05ECD3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DE89D-126A-4FD4-ABD8-1D3D19E6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2196A-62B7-4171-872C-76D97B42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E219D-714E-4EB1-B748-2A7549C0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BB1F5-2787-4F1E-BFEA-72B12FFAC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B0C77-2DAE-44F1-9D10-7560832F0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9375-35C8-4E4E-8AEC-C61F37921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3F34-B58A-479C-97E4-998473EA6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0190-B0BE-4AA0-A781-B9755E580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3DF1-DFC0-40C7-B7B9-63055EE4D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973D-912D-45CD-8002-34505B42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2793-8561-4C5E-A58F-6D617C20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D829-73F9-40E8-9CCF-7EBF85D9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2F908-60E0-4348-BDF9-7462D6EE7838}" type="slidenum">
              <a:rPr b="0" lang="zh-CN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78EF1-EBED-4C7F-B8D3-CEF40559CEAA}" type="slidenum">
              <a:rPr b="0" lang="zh-CN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2298;&#36855;&#20154;&#30340;&#24352;&#23478;&#30028;&#12299;&#35829;&#35835;.swf" TargetMode="External"/><Relationship Id="rId3" Type="http://schemas.openxmlformats.org/officeDocument/2006/relationships/image" Target="../media/image3.png"/><Relationship Id="rId4" Type="http://schemas.openxmlformats.org/officeDocument/2006/relationships/hyperlink" Target="file:///&#12298;&#32034;&#28330;&#23786;&#30340;&#8220;&#37326;&#8221;&#12299;&#35829;&#35835;.swf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886200" y="236232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20* </a:t>
            </a:r>
            <a:r>
              <a:rPr b="0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索溪峪的“野”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2666880" y="1676520"/>
            <a:ext cx="365760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方正舒体"/>
              </a:rPr>
              <a:t>自然美</a:t>
            </a:r>
            <a:endParaRPr b="1" lang="en-US" sz="96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743200" y="3905280"/>
            <a:ext cx="365760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cc6600"/>
                  </a:solidFill>
                  <a:miter/>
                </a:ln>
                <a:solidFill>
                  <a:srgbClr val="cc66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方正舒体"/>
              </a:rPr>
              <a:t>天然美</a:t>
            </a:r>
            <a:endParaRPr b="1" lang="en-US" sz="9600" spc="1" strike="noStrike">
              <a:ln w="9360">
                <a:solidFill>
                  <a:srgbClr val="cc6600"/>
                </a:solidFill>
                <a:miter/>
              </a:ln>
              <a:solidFill>
                <a:srgbClr val="cc66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方正舒体"/>
              <a:ea typeface="方正舒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71600" y="216360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中央电教馆资源中心制作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376380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2003.1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1538280"/>
            <a:ext cx="281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cc"/>
                </a:solidFill>
                <a:latin typeface="Times New Roman"/>
                <a:ea typeface="黑体"/>
              </a:rPr>
              <a:t>桂林山水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2971800"/>
            <a:ext cx="396252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ffffcc"/>
                </a:solidFill>
                <a:uFillTx/>
                <a:latin typeface="Times New Roman"/>
                <a:ea typeface="黑体"/>
                <a:hlinkClick r:id="rId2"/>
              </a:rPr>
              <a:t>迷人的张家界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01000" y="175248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029200" y="4433760"/>
            <a:ext cx="396252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ffffcc"/>
                </a:solidFill>
                <a:uFillTx/>
                <a:latin typeface="Times New Roman"/>
                <a:ea typeface="黑体"/>
                <a:hlinkClick r:id="rId4"/>
              </a:rPr>
              <a:t>索溪峪的“野”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89" name="《索溪峪的“野”》插图" descr=""/>
          <p:cNvPicPr/>
          <p:nvPr/>
        </p:nvPicPr>
        <p:blipFill>
          <a:blip r:embed="rId5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895480" y="99072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cc"/>
                </a:solidFill>
                <a:latin typeface="Times New Roman"/>
                <a:ea typeface="黑体"/>
              </a:rPr>
              <a:t>阅读提示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28600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      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索溪峪是张家界的一个主要景点。这里的一切都有一种野性的美。认真读读课文，想一想：“野”在本课是什么意思，课文从哪几个方面描写了索溪峪的“野”，是怎样写出这种野性美的。把你觉得写得好的地方多读一读，体会这样写好在哪里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791320" y="1219320"/>
            <a:ext cx="53316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629080" y="898560"/>
            <a:ext cx="39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cc"/>
                </a:solidFill>
                <a:latin typeface="Times New Roman"/>
                <a:ea typeface="黑体"/>
              </a:rPr>
              <a:t>读读下列词语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2498760"/>
            <a:ext cx="82296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赋予  倩影  崛起  巍巍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千峰万仞  绵亘蜿蜒  窈窕淑女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撅着  水花四溅  老叟  荡涤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352680" y="1600200"/>
            <a:ext cx="160020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琥珀"/>
              </a:rPr>
              <a:t>野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琥珀"/>
              <a:ea typeface="华文琥珀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600200" y="762120"/>
            <a:ext cx="762120" cy="116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琥珀"/>
              </a:rPr>
              <a:t>山</a:t>
            </a:r>
            <a:endParaRPr b="0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600200" y="2057400"/>
            <a:ext cx="77148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琥珀"/>
              </a:rPr>
              <a:t>水</a:t>
            </a:r>
            <a:endParaRPr b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219320" y="2895480"/>
            <a:ext cx="1542960" cy="132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华文琥珀"/>
              </a:rPr>
              <a:t>动物</a:t>
            </a:r>
            <a:endParaRPr b="1" lang="en-US" sz="6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00200" y="4772160"/>
            <a:ext cx="7714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琥珀"/>
              </a:rPr>
              <a:t>人</a:t>
            </a:r>
            <a:endParaRPr b="1" lang="en-US" sz="60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486400" y="533520"/>
            <a:ext cx="1828800" cy="116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琥珀"/>
              </a:rPr>
              <a:t>姿态各异</a:t>
            </a:r>
            <a:endParaRPr b="0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562720" y="1981080"/>
            <a:ext cx="1904760" cy="90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琥珀"/>
              </a:rPr>
              <a:t>蜿蜒变幻</a:t>
            </a:r>
            <a:endParaRPr b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486400" y="2819520"/>
            <a:ext cx="2133720" cy="13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华文琥珀"/>
              </a:rPr>
              <a:t>自由自在</a:t>
            </a:r>
            <a:endParaRPr b="1" lang="en-US" sz="6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486400" y="4800600"/>
            <a:ext cx="2286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琥珀"/>
              </a:rPr>
              <a:t>返璞归真</a:t>
            </a:r>
            <a:endParaRPr b="1" lang="en-US" sz="60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琥珀"/>
              <a:ea typeface="华文琥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索溪水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索溪峪风光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索溪峪风光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索溪峪风光1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索溪峪风光2" descr=""/>
          <p:cNvPicPr/>
          <p:nvPr/>
        </p:nvPicPr>
        <p:blipFill>
          <a:blip r:embed="rId3"/>
          <a:stretch/>
        </p:blipFill>
        <p:spPr>
          <a:xfrm>
            <a:off x="4572000" y="0"/>
            <a:ext cx="464832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7T07:39:45Z</dcterms:created>
  <dc:creator>wangliping</dc:creator>
  <dc:description/>
  <dc:language>en-US</dc:language>
  <cp:lastModifiedBy>wangliping</cp:lastModifiedBy>
  <dcterms:modified xsi:type="dcterms:W3CDTF">2003-10-27T08:06:47Z</dcterms:modified>
  <cp:revision>6</cp:revision>
  <dc:subject/>
  <dc:title>PowerPoint 演示文稿</dc:title>
</cp:coreProperties>
</file>