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D20-4DDC-4DD3-B766-256B5B82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389-63DD-455C-B44A-1776EDAF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6D0D-7588-4B36-8063-C2011507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A2C-9681-4D3A-AD12-5810C3BF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9757-62A2-4018-BCF9-C68A515A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F3EC-97C6-4B69-9CF5-13B30A79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6772-8244-4A13-A18E-DB9AE3DE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243D-8BD7-427B-85AE-E6F5C09D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F668-CDCD-4213-9C38-F4359311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EFD1-5B6E-4CFB-BB0B-D12E41DD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07ED-7E99-4FB5-B77C-D1CCC79E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45BF-1ACA-4A76-A266-9C2E401E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90FD-D3DE-4B1A-BD78-BC9AE8D7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5643-BA39-4F40-AA70-A8FFA494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4835-89CB-4E71-9ECC-1033ADE7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1A3A-5B90-4A66-BFD7-CCFD03F8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78D3-7867-4B76-AD22-3DB6FB5C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772B-3942-417C-A3F8-7B5DE152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04AA-1C80-4688-8D37-A1198FB4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9204-AF83-4DC1-AC17-9DF05101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D9F5-88A5-4864-8266-1043B2CC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CDD4-E734-4E48-9CEF-1D4614F5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5F7-83CB-4A3B-8FEF-570AD0C5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7DEC-4593-41F4-8536-03B0AE15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91BE-91BD-4F97-8992-7E12D4814F36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51A7-7E7D-46F0-8771-77A48D52DA52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7160" y="716040"/>
            <a:ext cx="863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4* 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索溪峪的“野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4" name="图片 1" descr="1"/>
          <p:cNvPicPr/>
          <p:nvPr/>
        </p:nvPicPr>
        <p:blipFill>
          <a:blip r:embed="rId1"/>
          <a:stretch/>
        </p:blipFill>
        <p:spPr>
          <a:xfrm>
            <a:off x="1935000" y="1484280"/>
            <a:ext cx="467388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1265" descr="索溪峪风光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2289" descr="索溪峪风光1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12290" descr="索溪峪风光2"/>
          <p:cNvPicPr/>
          <p:nvPr/>
        </p:nvPicPr>
        <p:blipFill>
          <a:blip r:embed="rId2"/>
          <a:stretch/>
        </p:blipFill>
        <p:spPr>
          <a:xfrm>
            <a:off x="4572000" y="0"/>
            <a:ext cx="46483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7169"/>
          <p:cNvSpPr txBox="1"/>
          <p:nvPr/>
        </p:nvSpPr>
        <p:spPr>
          <a:xfrm>
            <a:off x="2666880" y="1676520"/>
            <a:ext cx="36576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方正舒体"/>
              </a:rPr>
              <a:t>自然美</a:t>
            </a:r>
            <a:endParaRPr b="1" lang="en-US" sz="96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13" name="矩形 7171"/>
          <p:cNvSpPr txBox="1"/>
          <p:nvPr/>
        </p:nvSpPr>
        <p:spPr>
          <a:xfrm>
            <a:off x="2743200" y="3905280"/>
            <a:ext cx="36576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6600"/>
                  </a:solidFill>
                  <a:round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方正舒体"/>
              </a:rPr>
              <a:t>天然美</a:t>
            </a:r>
            <a:endParaRPr b="1" lang="en-US" sz="9600" spc="1" strike="noStrike">
              <a:ln w="9360">
                <a:solidFill>
                  <a:srgbClr val="cc6600"/>
                </a:solidFill>
                <a:round/>
              </a:ln>
              <a:solidFill>
                <a:srgbClr val="cc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ffcc00"/>
                </a:solidFill>
                <a:latin typeface="Arial"/>
              </a:rPr>
              <a:t>文章通过描写索溪峪风景区的自然风光，赞颂了索溪峪﹙                 ﹚的美，抒发了作者畅游其间的﹙         ﹚心情。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文本框 14339"/>
          <p:cNvSpPr/>
          <p:nvPr/>
        </p:nvSpPr>
        <p:spPr>
          <a:xfrm>
            <a:off x="3564000" y="3645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文本框 14340"/>
          <p:cNvSpPr/>
          <p:nvPr/>
        </p:nvSpPr>
        <p:spPr>
          <a:xfrm>
            <a:off x="2195640" y="5157720"/>
            <a:ext cx="1296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文本框 14341"/>
          <p:cNvSpPr/>
          <p:nvPr/>
        </p:nvSpPr>
        <p:spPr>
          <a:xfrm>
            <a:off x="3851280" y="364500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文本框 14342"/>
          <p:cNvSpPr/>
          <p:nvPr/>
        </p:nvSpPr>
        <p:spPr>
          <a:xfrm>
            <a:off x="2411280" y="508464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文本框 14344"/>
          <p:cNvSpPr/>
          <p:nvPr/>
        </p:nvSpPr>
        <p:spPr>
          <a:xfrm>
            <a:off x="2340000" y="5084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愉快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文本框 14345"/>
          <p:cNvSpPr/>
          <p:nvPr/>
        </p:nvSpPr>
        <p:spPr>
          <a:xfrm>
            <a:off x="3492360" y="3573360"/>
            <a:ext cx="30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文本框 14347"/>
          <p:cNvSpPr/>
          <p:nvPr/>
        </p:nvSpPr>
        <p:spPr>
          <a:xfrm>
            <a:off x="3635280" y="364500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文本框 14349"/>
          <p:cNvSpPr/>
          <p:nvPr/>
        </p:nvSpPr>
        <p:spPr>
          <a:xfrm>
            <a:off x="3780000" y="364500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文本框 14350"/>
          <p:cNvSpPr/>
          <p:nvPr/>
        </p:nvSpPr>
        <p:spPr>
          <a:xfrm>
            <a:off x="3780000" y="357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天然野性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文本框 14351"/>
          <p:cNvSpPr/>
          <p:nvPr/>
        </p:nvSpPr>
        <p:spPr>
          <a:xfrm>
            <a:off x="2050920" y="5157720"/>
            <a:ext cx="18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6160" y="690840"/>
            <a:ext cx="86374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Arial"/>
              </a:rPr>
              <a:t>帮你理解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文本框 17412"/>
          <p:cNvSpPr/>
          <p:nvPr/>
        </p:nvSpPr>
        <p:spPr>
          <a:xfrm>
            <a:off x="539640" y="1557360"/>
            <a:ext cx="86043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望而生畏：看见了就害怕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婷婷玉立；形容美女身材细长或花木等形体挺拔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窈窕淑女：文静而美好的女子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绵亘蜿蜒：形容山延续不断，弯弯曲曲的延伸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千峰万仞：形容山多而高。仞，古时八尺或七尺叫一仞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浩气长舒：浩然之气使人感到心情舒畅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不拘一格：不局限于一种规格或形式。格，格局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随心所欲：随着自己的心意，想要怎样就怎样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旁逸斜出；指从山的旁边斜身出来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难以言状：很难用语言来表达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返璞归真：去掉外在的装饰，恢复原来的           质朴状态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年过花甲：年龄超过六十岁。花甲，指人六十岁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文本框 18435"/>
          <p:cNvSpPr/>
          <p:nvPr/>
        </p:nvSpPr>
        <p:spPr>
          <a:xfrm>
            <a:off x="395280" y="299736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8193"/>
          <p:cNvSpPr/>
          <p:nvPr/>
        </p:nvSpPr>
        <p:spPr>
          <a:xfrm>
            <a:off x="2629080" y="898560"/>
            <a:ext cx="39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读读下列词语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文本框 8194"/>
          <p:cNvSpPr/>
          <p:nvPr/>
        </p:nvSpPr>
        <p:spPr>
          <a:xfrm>
            <a:off x="457200" y="2498760"/>
            <a:ext cx="82296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磅礴  望而生畏 返璞归真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千峰万仞  绵亘蜿蜒  窈窕淑女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撅着  水花四溅  老叟  荡涤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1025"/>
          <p:cNvSpPr/>
          <p:nvPr/>
        </p:nvSpPr>
        <p:spPr>
          <a:xfrm>
            <a:off x="2895480" y="9907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阅读提示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文本框 1026"/>
          <p:cNvSpPr/>
          <p:nvPr/>
        </p:nvSpPr>
        <p:spPr>
          <a:xfrm>
            <a:off x="533520" y="22860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索溪峪是张家界的一个主要景点。这里的一切都有一种野性的美。认真读读课文，想一想：“野”在本课是什么意思，课文从哪几个方面描写了索溪峪的“野”，是怎样写出这种野性美的。把你觉得写得好的地方多读一读，体会这样写好在哪里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《索溪峪的“野”》课文朗读.MP3" descr=""/>
          <p:cNvPicPr/>
          <p:nvPr/>
        </p:nvPicPr>
        <p:blipFill>
          <a:blip r:embed="rId1"/>
          <a:stretch/>
        </p:blipFill>
        <p:spPr>
          <a:xfrm>
            <a:off x="5791320" y="12193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1028"/>
          <p:cNvSpPr/>
          <p:nvPr/>
        </p:nvSpPr>
        <p:spPr>
          <a:xfrm>
            <a:off x="1835280" y="5589720"/>
            <a:ext cx="64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Times New Roman"/>
              </a:rPr>
              <a:t>野：天然的、野性的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6145"/>
          <p:cNvSpPr txBox="1"/>
          <p:nvPr/>
        </p:nvSpPr>
        <p:spPr>
          <a:xfrm>
            <a:off x="3352680" y="1600200"/>
            <a:ext cx="16002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琥珀"/>
              </a:rPr>
              <a:t>野</a:t>
            </a:r>
            <a:endParaRPr b="1" lang="en-US" sz="9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sp>
        <p:nvSpPr>
          <p:cNvPr id="99" name="矩形 6146"/>
          <p:cNvSpPr txBox="1"/>
          <p:nvPr/>
        </p:nvSpPr>
        <p:spPr>
          <a:xfrm>
            <a:off x="1600200" y="762120"/>
            <a:ext cx="762120" cy="11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琥珀"/>
              </a:rPr>
              <a:t>山</a:t>
            </a:r>
            <a:endParaRPr b="0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00" name="矩形 6147"/>
          <p:cNvSpPr txBox="1"/>
          <p:nvPr/>
        </p:nvSpPr>
        <p:spPr>
          <a:xfrm>
            <a:off x="1600200" y="2057400"/>
            <a:ext cx="7714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琥珀"/>
              </a:rPr>
              <a:t>水</a:t>
            </a:r>
            <a:endParaRPr b="1" lang="en-US" sz="6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01" name="矩形 6148"/>
          <p:cNvSpPr txBox="1"/>
          <p:nvPr/>
        </p:nvSpPr>
        <p:spPr>
          <a:xfrm>
            <a:off x="1219320" y="2895480"/>
            <a:ext cx="1542960" cy="132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琥珀"/>
              </a:rPr>
              <a:t>动物</a:t>
            </a:r>
            <a:endParaRPr b="1" lang="en-US" sz="60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02" name="矩形 6149"/>
          <p:cNvSpPr txBox="1"/>
          <p:nvPr/>
        </p:nvSpPr>
        <p:spPr>
          <a:xfrm>
            <a:off x="1600200" y="4772160"/>
            <a:ext cx="771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人</a:t>
            </a:r>
            <a:endParaRPr b="1" lang="en-US" sz="6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03" name="矩形 6150"/>
          <p:cNvSpPr txBox="1"/>
          <p:nvPr/>
        </p:nvSpPr>
        <p:spPr>
          <a:xfrm>
            <a:off x="5486400" y="533520"/>
            <a:ext cx="1828800" cy="11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琥珀"/>
              </a:rPr>
              <a:t>姿态各异</a:t>
            </a:r>
            <a:endParaRPr b="0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04" name="矩形 6151"/>
          <p:cNvSpPr txBox="1"/>
          <p:nvPr/>
        </p:nvSpPr>
        <p:spPr>
          <a:xfrm>
            <a:off x="5562720" y="1981080"/>
            <a:ext cx="190476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琥珀"/>
              </a:rPr>
              <a:t>蜿蜒变幻</a:t>
            </a:r>
            <a:endParaRPr b="1" lang="en-US" sz="6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05" name="矩形 6152"/>
          <p:cNvSpPr txBox="1"/>
          <p:nvPr/>
        </p:nvSpPr>
        <p:spPr>
          <a:xfrm>
            <a:off x="5486400" y="2819520"/>
            <a:ext cx="213372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琥珀"/>
              </a:rPr>
              <a:t>自由自在</a:t>
            </a:r>
            <a:endParaRPr b="1" lang="en-US" sz="60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06" name="矩形 6153"/>
          <p:cNvSpPr txBox="1"/>
          <p:nvPr/>
        </p:nvSpPr>
        <p:spPr>
          <a:xfrm>
            <a:off x="5486400" y="4800600"/>
            <a:ext cx="2286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返璞归真</a:t>
            </a:r>
            <a:endParaRPr b="1" lang="en-US" sz="6000" spc="-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9217" descr="索溪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0241" descr="索溪峪风光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07:39:45Z</dcterms:created>
  <dc:creator>wangliping</dc:creator>
  <dc:description/>
  <dc:language>en-US</dc:language>
  <cp:lastModifiedBy>wuhan</cp:lastModifiedBy>
  <dcterms:modified xsi:type="dcterms:W3CDTF">2017-09-04T06:28:25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