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whoosh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8.wmf" ContentType="image/x-wm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5F7-5779-482C-8D9E-6B86E75CFF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史学家刘知几说《汉书》“言皆精炼，事甚该密”（《史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家》），则是其特色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1B4-B5B4-49EE-9FB2-B08306C1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6D3-8E6C-4E20-A6F0-3F17D2B6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113-733F-4E4C-A494-3D23E485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44C-1864-464B-A335-85BFEC62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130-CB42-4434-94EE-BD7680E8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1EF-CD9A-43E5-A6D8-CC62AA3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508-6411-4CFC-B64F-CFEA237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184-AE3B-42D9-A9AA-6E788675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9FE-80AE-4F68-997D-64F6700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F58-628F-4B2F-BB35-C5EF9879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057-A41D-45B1-B37F-DACB050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1ED-C997-4B28-8B64-B0B97B8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B7B-8444-42F8-82A3-06E11E3DA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121932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c3300"/>
                </a:solidFill>
                <a:latin typeface="Arial"/>
                <a:ea typeface="华文新魏"/>
              </a:rPr>
              <a:t>苏武传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0" y="2895120"/>
            <a:ext cx="4114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班固《汉书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128760" cy="5790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809880" y="1066680"/>
            <a:ext cx="51055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「苏武牧羊」的故事在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家喻户晓。《汉书 苏武传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： 天汉元年（公元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苏武奉命出使匈奴被扣，匈奴贵族多方威胁诱降未遂，又将他迁至北海（今贝加尔湖）边牧羊，苏武坚持十九年不屈。始元六年（公元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因匈奴与汉和好，方被遣回朝，官典属国。决不背叛祖国的气节，流芳百世，传唱千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6440" y="228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苏武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09480"/>
            <a:ext cx="3124080" cy="563904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5639040"/>
              <a:gd name="textAreaBottom" fmla="*/ 5436720 h 5639040"/>
            </a:gdLst>
            <a:ahLst/>
            <a:rect l="textAreaLeft" t="textAreaTop" r="textAreaRight" b="textAreaBottom"/>
            <a:pathLst>
              <a:path w="21600" h="38987">
                <a:moveTo>
                  <a:pt x="0" y="0"/>
                </a:moveTo>
                <a:lnTo>
                  <a:pt x="21600" y="0"/>
                </a:lnTo>
                <a:lnTo>
                  <a:pt x="21600" y="38987"/>
                </a:lnTo>
                <a:lnTo>
                  <a:pt x="0" y="38987"/>
                </a:lnTo>
                <a:close/>
              </a:path>
              <a:path fill="lightenLess" w="21600" h="389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987">
                <a:moveTo>
                  <a:pt x="21600" y="0"/>
                </a:moveTo>
                <a:lnTo>
                  <a:pt x="21600" y="38987"/>
                </a:lnTo>
                <a:lnTo>
                  <a:pt x="20200" y="37587"/>
                </a:lnTo>
                <a:lnTo>
                  <a:pt x="20200" y="1400"/>
                </a:lnTo>
                <a:close/>
              </a:path>
              <a:path fill="darkenLess" w="21600" h="38987">
                <a:moveTo>
                  <a:pt x="21600" y="38987"/>
                </a:moveTo>
                <a:lnTo>
                  <a:pt x="0" y="38987"/>
                </a:lnTo>
                <a:lnTo>
                  <a:pt x="1400" y="37587"/>
                </a:lnTo>
                <a:lnTo>
                  <a:pt x="20200" y="37587"/>
                </a:lnTo>
                <a:close/>
              </a:path>
              <a:path fill="lighten" w="21600" h="38987">
                <a:moveTo>
                  <a:pt x="0" y="38987"/>
                </a:moveTo>
                <a:lnTo>
                  <a:pt x="0" y="0"/>
                </a:lnTo>
                <a:lnTo>
                  <a:pt x="1400" y="1400"/>
                </a:lnTo>
                <a:lnTo>
                  <a:pt x="1400" y="37587"/>
                </a:lnTo>
                <a:close/>
              </a:path>
              <a:path fill="darken" w="21600" h="38987">
                <a:moveTo>
                  <a:pt x="3794" y="15994"/>
                </a:moveTo>
                <a:lnTo>
                  <a:pt x="4707" y="15994"/>
                </a:lnTo>
                <a:lnTo>
                  <a:pt x="5090" y="16360"/>
                </a:lnTo>
                <a:lnTo>
                  <a:pt x="14299" y="16360"/>
                </a:lnTo>
                <a:lnTo>
                  <a:pt x="14856" y="16917"/>
                </a:lnTo>
                <a:lnTo>
                  <a:pt x="14856" y="17465"/>
                </a:lnTo>
                <a:lnTo>
                  <a:pt x="16701" y="17465"/>
                </a:lnTo>
                <a:lnTo>
                  <a:pt x="17067" y="16917"/>
                </a:lnTo>
                <a:lnTo>
                  <a:pt x="17806" y="16917"/>
                </a:lnTo>
                <a:lnTo>
                  <a:pt x="17806" y="22070"/>
                </a:lnTo>
                <a:lnTo>
                  <a:pt x="17067" y="22070"/>
                </a:lnTo>
                <a:lnTo>
                  <a:pt x="16701" y="21521"/>
                </a:lnTo>
                <a:lnTo>
                  <a:pt x="14856" y="21521"/>
                </a:lnTo>
                <a:lnTo>
                  <a:pt x="14856" y="22801"/>
                </a:lnTo>
                <a:lnTo>
                  <a:pt x="5273" y="22801"/>
                </a:lnTo>
                <a:lnTo>
                  <a:pt x="5273" y="18571"/>
                </a:lnTo>
                <a:lnTo>
                  <a:pt x="5090" y="18571"/>
                </a:lnTo>
                <a:lnTo>
                  <a:pt x="4707" y="18936"/>
                </a:lnTo>
                <a:lnTo>
                  <a:pt x="3794" y="189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80880" y="456840"/>
            <a:ext cx="36576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苏武留胡节不辱！雪地又冰天，苦忍十九年。渴饮雪，饥吞毡，牧羊北海边。心存汉社稷，旄落犹未还，历尽难中难，心如铁石坚。夜坐塞上时，闻笳声入耳痛心酸。转眼北风吹，雁群汉关飞。白发娘，盼儿归，红妆守空帏。三更同入梦，两地谁梦谁；任海枯石烂，大节定不亏。终教匈奴惊心碎胆，共服汉德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5200560" cy="604836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sp>
        <p:nvSpPr>
          <p:cNvPr id="73" name="">
            <a:hlinkClick r:id="rId3"/>
          </p:cNvPr>
          <p:cNvSpPr/>
          <p:nvPr/>
        </p:nvSpPr>
        <p:spPr>
          <a:xfrm>
            <a:off x="3657600" y="380880"/>
            <a:ext cx="5029200" cy="6019920"/>
          </a:xfrm>
          <a:custGeom>
            <a:avLst/>
            <a:gdLst>
              <a:gd name="textAreaLeft" fmla="*/ 325800 w 5029200"/>
              <a:gd name="textAreaRight" fmla="*/ 4703400 w 5029200"/>
              <a:gd name="textAreaTop" fmla="*/ 325800 h 6019920"/>
              <a:gd name="textAreaBottom" fmla="*/ 5694120 h 6019920"/>
            </a:gdLst>
            <a:ahLst/>
            <a:rect l="textAreaLeft" t="textAreaTop" r="textAreaRight" b="textAreaBottom"/>
            <a:pathLst>
              <a:path w="21600" h="25855">
                <a:moveTo>
                  <a:pt x="0" y="0"/>
                </a:moveTo>
                <a:lnTo>
                  <a:pt x="21600" y="0"/>
                </a:lnTo>
                <a:lnTo>
                  <a:pt x="21600" y="25855"/>
                </a:lnTo>
                <a:lnTo>
                  <a:pt x="0" y="25855"/>
                </a:lnTo>
                <a:close/>
              </a:path>
              <a:path fill="lightenLess" w="21600" h="25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55">
                <a:moveTo>
                  <a:pt x="21600" y="0"/>
                </a:moveTo>
                <a:lnTo>
                  <a:pt x="21600" y="25855"/>
                </a:lnTo>
                <a:lnTo>
                  <a:pt x="20200" y="24455"/>
                </a:lnTo>
                <a:lnTo>
                  <a:pt x="20200" y="1400"/>
                </a:lnTo>
                <a:close/>
              </a:path>
              <a:path fill="darkenLess" w="21600" h="25855">
                <a:moveTo>
                  <a:pt x="21600" y="25855"/>
                </a:moveTo>
                <a:lnTo>
                  <a:pt x="0" y="25855"/>
                </a:lnTo>
                <a:lnTo>
                  <a:pt x="1400" y="24455"/>
                </a:lnTo>
                <a:lnTo>
                  <a:pt x="20200" y="24455"/>
                </a:lnTo>
                <a:close/>
              </a:path>
              <a:path fill="lighten" w="21600" h="25855">
                <a:moveTo>
                  <a:pt x="0" y="25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55"/>
                </a:lnTo>
                <a:close/>
              </a:path>
              <a:path fill="darken" w="21600" h="25855">
                <a:moveTo>
                  <a:pt x="3794" y="10534"/>
                </a:moveTo>
                <a:lnTo>
                  <a:pt x="8224" y="10534"/>
                </a:lnTo>
                <a:lnTo>
                  <a:pt x="12645" y="5921"/>
                </a:lnTo>
                <a:lnTo>
                  <a:pt x="12645" y="19934"/>
                </a:lnTo>
                <a:lnTo>
                  <a:pt x="8224" y="15321"/>
                </a:lnTo>
                <a:lnTo>
                  <a:pt x="3794" y="15321"/>
                </a:lnTo>
                <a:close/>
              </a:path>
              <a:path fill="darken" w="21600" h="25855">
                <a:moveTo>
                  <a:pt x="14299" y="12927"/>
                </a:moveTo>
                <a:lnTo>
                  <a:pt x="17806" y="12927"/>
                </a:lnTo>
              </a:path>
              <a:path fill="darken" w="21600" h="25855">
                <a:moveTo>
                  <a:pt x="14299" y="10534"/>
                </a:moveTo>
                <a:lnTo>
                  <a:pt x="17806" y="7766"/>
                </a:lnTo>
              </a:path>
              <a:path fill="darken" w="21600" h="25855">
                <a:moveTo>
                  <a:pt x="14299" y="15321"/>
                </a:moveTo>
                <a:lnTo>
                  <a:pt x="17806" y="180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7772400" cy="48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05720" y="4114800"/>
            <a:ext cx="2253960" cy="243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19320" y="2209680"/>
            <a:ext cx="6858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走进文本探究内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600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28600"/>
            <a:ext cx="2590920" cy="71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且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于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昆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阏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152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80880"/>
            <a:ext cx="304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秩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衣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60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1143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ū d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 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590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048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19112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  zh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762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ò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1295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1752480"/>
            <a:ext cx="15242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2209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q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743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3200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i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733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191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00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28600"/>
            <a:ext cx="31240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於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228600"/>
            <a:ext cx="2819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马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522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609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x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600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d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133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ǐ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590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má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124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581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u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qí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52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09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iǎ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1676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u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1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590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581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uān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“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k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5105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ān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“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ī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“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同“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1790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疏通文意，添小标题，理清脉络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8828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小标题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准确概括情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变化，并尽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展现人物性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，同时注意语言的通顺凝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12952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一段重点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3320" y="2057400"/>
            <a:ext cx="241416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武字子卿，少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使路充国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乃遣武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郎将使持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置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币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2209680"/>
            <a:ext cx="31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介词，表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1960" y="3048120"/>
            <a:ext cx="390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使动用法，使……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809880"/>
            <a:ext cx="2530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以…身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419720"/>
            <a:ext cx="5807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用作礼物的玉、马、皮、帛等赠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5000" y="38088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文本解读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1057320"/>
            <a:ext cx="38894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并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汉天子我丈人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持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10605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起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担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17082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国古代西北部民族的通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4108320"/>
            <a:ext cx="40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2427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互派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14784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抵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；副、表程度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3860640"/>
            <a:ext cx="4681440" cy="113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判断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辈；岳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52578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指持代表皇帝的旄节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333360"/>
            <a:ext cx="56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送匈奴使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留在汉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 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90792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后，“送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留在汉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匈奴使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413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介、趁机、趁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198900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起出发、同行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起、共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2500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已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31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摆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733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副、更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4956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19720"/>
            <a:ext cx="45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出使匈奴，以求通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51814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257800"/>
            <a:ext cx="45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出使匈奴，单于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22280" y="5943600"/>
            <a:ext cx="587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一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68200" y="601992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简介苏武家世以及出使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533520"/>
            <a:ext cx="8458200" cy="16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武字子卿，年轻时凭着父亲的职位，兄弟三人都做了皇帝的侍从，并逐渐被提升为掌管皇帝鞍马鹰犬射猎工具的官。当时汉朝廷不断讨伐匈奴，多次互派使节彼此暗中侦察。匈奴扣留了汉使节郭吉、路充国等前后十余批人。匈奴使节前来，汉朝庭也扣留他们以相抵。 公元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且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jū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鞮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dī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刚立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单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á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于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yú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唯恐受到汉的袭击，于是说：“汉皇帝，是我的长辈。”全部送还了汉廷使节路充国等人。汉武帝赞许他这种通晓情理的做法，于是派遣苏武以中郎将的身份出使，持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旄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máo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送扣留在汉的匈奴使者回国，顺便送给单于很丰厚的礼物，以答谢他的好意。苏武同副中郎将张胜以及临时委派的使臣属官常惠等，加上招募来的士卒、侦察人员百多人一同前往。到了匈奴那里，摆列财物赠给单于。单于越发傲慢，不是汉所期望的那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69600" y="609120"/>
            <a:ext cx="182664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课文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792160"/>
            <a:ext cx="7848720" cy="20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①了解班固《汉书》，掌握文中涉及的文言文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②分析文中的对话描写、细节描写、对照映衬的艺术手法；提高翻译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③认识苏武的忠贞守节精神的意义和价值，学习苏武威武不屈、贫贱不移的高尚品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981000"/>
            <a:ext cx="568944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缑王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昆邪王姊子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卫律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降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93600" y="1197000"/>
            <a:ext cx="7318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9874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正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派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62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副、正好，恰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70200" y="22114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图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动叛乱的意外变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29322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5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副、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36720" y="4653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缑王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汉降将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卫律所率领的投降之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53802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暗地里、秘密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6021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共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15920"/>
            <a:ext cx="34560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第二、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01960" y="333360"/>
            <a:ext cx="26463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私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许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以货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398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向来、平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7400" y="987480"/>
            <a:ext cx="38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暗地里拜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162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227664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意（赞同）虞常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3651120"/>
            <a:ext cx="35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出动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军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9760" y="300348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将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191120"/>
            <a:ext cx="18432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343400"/>
            <a:ext cx="59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343400"/>
            <a:ext cx="3809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财物，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380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三段重点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743200"/>
            <a:ext cx="1067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1524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告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3429000"/>
            <a:ext cx="1905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连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191120"/>
            <a:ext cx="1000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更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4191120"/>
            <a:ext cx="1712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对不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952880"/>
            <a:ext cx="1523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假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146240"/>
            <a:ext cx="5486400" cy="50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其一人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虞常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生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恐前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，以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事如此，此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见犯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，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单于，何以复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宜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5638680"/>
            <a:ext cx="3733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使动，使…投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2240" y="2057400"/>
            <a:ext cx="2539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被活捉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29528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在夜里，名词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1295280"/>
            <a:ext cx="129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19112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29000" y="3124080"/>
            <a:ext cx="4608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虞常谋反，祸及汉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1240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533520"/>
            <a:ext cx="1643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二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80880"/>
            <a:ext cx="5257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交待苏武的副使张胜参与了谋反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3640" y="1828800"/>
            <a:ext cx="1643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三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1600200"/>
            <a:ext cx="5790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匈奴缑王谋反失败，殃及汉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609480"/>
            <a:ext cx="8915400" cy="15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汉武帝正要打发派送苏武等人以及以前扣留的匈奴使者等的时候，适逢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缑（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ō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u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与长水人虞常等人在匈奴内部谋反。缑王是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昆（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h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）邪（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yé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姐姐的儿子，与昆邪王一起降汉，后来又跟随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浞（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zhuó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野侯赵破奴重新陷胡地，在卫律统率的那些投降者中，暗中共同策划绑架单于的母亲阏氏归汉。正好碰上苏武等人到匈奴。虞常在汉的时候，一向与副使张胜有交往，私下拜访张胜，说：“听说汉天子很怨恨卫律，我虞常能为汉廷埋伏弩弓将他射死。我的母亲与弟弟都在汉，希望受到汉廷的照顾。”张胜许诺了他，把财物送给了虞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304920"/>
            <a:ext cx="8305920" cy="133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多月后，单于外出打猎，只有阏氏和单于的子弟在家。虞常等七十余人将要起事，其中一人夜晚逃走，把他们的计划报告了阏氏及其子弟。单于子弟发兵与他们交战，缑王等都战死；虞常被活捉。单于派卫律审处这一案件。张胜听到这个消息，担心他和虞常私下所说的那些话被揭发，便把事情经过告诉了苏武。苏武说：“事情到了如此地步，这样一定会牵连到我们。受到侮辱才去死，更对不起国家！”因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自杀。张胜、常惠一起制止了他。虞常果然供出了张胜。单于大怒，召集许多贵族前来商议，想杀掉汉使者。左伊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秩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zhì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訾（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zī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假如是谋杀单于，又用什么更严的刑法呢？应当都叫他们投降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1073160"/>
            <a:ext cx="259236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语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状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犯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以复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佩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87480" y="3573360"/>
            <a:ext cx="44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“以何复加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98748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交谈的话被揭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162864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真实情况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告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2270160"/>
            <a:ext cx="63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被动句；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匈奴）凌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292428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对不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9400" y="422100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苟且活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4720" y="48038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拿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佩在身上的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5445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派人驱马快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6093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115920"/>
            <a:ext cx="3024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476280"/>
            <a:ext cx="2305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3352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手抬着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状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车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假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马者，非利足也。”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车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17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意动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认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的节操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壮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24084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囚禁、拘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421080" y="3508200"/>
            <a:ext cx="4535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舍生取义，以死明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12193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360" y="99072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叙述武及其属下被扣留在匈奴的直接原因和武临变时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35002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07920" y="228600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苏武被单于审问，屈节辱命以死明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380880"/>
            <a:ext cx="8229600" cy="10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派卫律召唤苏武来受审讯。苏武对常惠说：“丧失气节、玷辱使命，即使活着，还有什么脸面回到汉廷去呢！”说着拔出佩带的刀自刎，卫律大吃一惊，自己抱住、扶好苏武，派人骑快马去找医生。医生在地上挖一个坑，在坑中点燃微火，然后把苏武脸朝下放在坑上，踩他的背部，让淤血流出来。苏武本来已经断了气，这样过了好半天才重新呼吸。常惠等人哭泣着，抬着苏武返回营帐。单于钦佩苏武的节操，早晚派人探望、询问苏武，而把张胜逮捕监禁起来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书形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编年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年月日有次序地记载史事的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春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的编年体史书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左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丘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资治通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国别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国家为编排顺序记载史事的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国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国别体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战国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向编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纪传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采用为人物立传记的方式记叙史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传体史书的创立者是司马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史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是中国古代第一部纪传体通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十四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都是用纪传体写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5600" y="152280"/>
            <a:ext cx="237528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文学常识史书体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五段重点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8160" y="870120"/>
            <a:ext cx="3145320" cy="46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益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单于使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常，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拥众数万，马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以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背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反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我不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914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逐渐痊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9920" y="914400"/>
            <a:ext cx="24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使动，告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1371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定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371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905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没有参加谋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438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2895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名词作动词，滋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顺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03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通“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5720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使动用法，使…争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105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129528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使……投降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990720"/>
            <a:ext cx="388944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马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降虏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于蛮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以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心持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84720" y="581184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9144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判罪、判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15238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做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杀苏武的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228600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chù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马群；六畜兴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9080" y="6675480"/>
            <a:ext cx="338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第五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32440" y="3352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状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3526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在蛮夷之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投降的俘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76520" y="441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441972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何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见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562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居心平允，主持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51280" y="4443480"/>
            <a:ext cx="4753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卫律劝降，威武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235480"/>
            <a:ext cx="4753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卫律逼降，苏武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479412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9240" y="51642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27320" y="2209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五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84280" y="304812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单于派卫律劝降，苏武宁死不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477280" cy="10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武的伤势逐渐好了。单于派使者通知苏武，一起来审处虞常，想借这个机会使苏武投降。剑斩虞常后，卫律说：“汉使张胜，谋杀单于亲近的大臣，应当处死。单于招降的人，赦免他们的罪。”举剑要击杀张胜，张胜请求投降。卫律对苏武说：“副使有罪，应该连坐到你。”苏武说：“我本来就没有参予谋划，又不是他的亲属，怎么谈得上连坐？”卫律又举剑对准苏武，苏武岿然不动。卫律说：“苏君！我卫律以前背弃汉廷，归顺匈奴，幸运地受到单于的大恩，赐我爵号，让我称王；拥有奴隶数万、马和其他牲畜满山，如此富贵！苏君你今日投降，明日也是这样。白白地用身体给草地做肥料，又有谁知道你呢！”苏武毫无反应。卫律说：“你顺着我而投降，我与你结为兄弟；今天不听我的安排，以后再想见我，还能得到机会吗？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447920"/>
            <a:ext cx="84582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苏武痛骂卫律说：“你做人家的臣下和儿子，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顾及恩德义理，背叛皇上、抛弃亲人，在异族那里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投降的奴隶，我为什么要见你！况且单于信任你，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决定别人的死活，而你却居心不平，不主持公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反而想要使汉皇帝和匈奴单于二主相斗，旁观两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灾祸和损失！你明知道我决不会投降，想要使汉和匈奴互相攻打。匈奴灭亡的灾祸，将从我开始了！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4920" y="685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六段重点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752480"/>
            <a:ext cx="7359840" cy="37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匈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以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乳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官属常惠等，各置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告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名词作动词，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3429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把…当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191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名词作动词，生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隔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38680" y="5486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别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4360" y="789120"/>
            <a:ext cx="28080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愈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欲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饮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六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穹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徙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穷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692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更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投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1295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安放、安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752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跟外界隔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20968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使动，使之饮食，指供应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276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累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六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38098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圆形的帐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3434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迁移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49528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穷困的绝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44280"/>
            <a:ext cx="2592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第六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600200" y="4267080"/>
            <a:ext cx="1511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4114800"/>
            <a:ext cx="40338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饮雪吞毡，矢志不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48006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4876920"/>
            <a:ext cx="40323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流放北海，杖节放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44280"/>
            <a:ext cx="2592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第六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1360" y="1828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六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38760" y="27432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威胁、贫贱不能动摇苏武对大汉的忠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380880"/>
            <a:ext cx="8610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卫律知道终究无法迫使苏武投降，就报告了单于。单于更想让他投降了，就把苏武关在一个大地窖中，不给他吃的，喝的。天降大雪，苏武躺着吃雪，把雪和毡毛一起吞下肚去，过了几天都没有死。匈奴人视之为神，就把他放到北海边无人区，让他放公羊，公羊生了小羊才能回去。分开他的随从官吏常惠等人，分别投放到别的地方。苏武迁移到北海后，粮食运不到，只能掘取野鼠所收藏的野生果实来吃。他拄着汉廷的旄节牧羊，睡觉、起来都拿着，以致系在节上的牦牛尾毛全部脱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共过了五、六年，单于的弟弟於靬王到北海上打猎。苏武会编结打猎的网，矫正弓弩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於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靬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jiā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颇器重他，供给他衣服、食品。三年多过后，於靬王得病，赐给苏武马匹和牲畜、盛酒酪的瓦器、圆顶的毡帐篷。王死后，他的部下也都迁离。这年冬天，丁令人（应该是卫律指使）盗去了苏武的牛羊，苏武又陷入穷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093040" y="917640"/>
            <a:ext cx="33894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武使匈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明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故使陵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自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之地，信义安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扶辇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子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谁为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皆为陛下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兄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亲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子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陵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死久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因泣下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914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第二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访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828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劝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259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通“无”“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28195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台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3733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提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343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成为皇帝亲近之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4800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副词，一定，务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5257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料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5791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通“襟”，通“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52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七八段重点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5800"/>
            <a:ext cx="52578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孟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扶风安陵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陕西咸阳东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东汉著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史学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文学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少年时就能作文诵诗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大后博览群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兰台令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经过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年的努力，写成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《汉书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和帝永元元年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固随大将军窦宪出征匈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中护军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班固因窦宪专权受到株连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死于狱中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作品《汉书》由其妹班昭和同乡马续完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3380040" cy="5029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702720" y="22860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作者班固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4360" y="776160"/>
            <a:ext cx="5256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于）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之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76360" y="451656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白白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烟的地方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受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134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摆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酒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198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介、趁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24000" y="2643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特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派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28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偏指另一方，“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257800"/>
            <a:ext cx="673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古代用人拉的车，后多指皇帝、皇后坐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44280"/>
            <a:ext cx="24876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第七、八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333360"/>
            <a:ext cx="404964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女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亡罪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夷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者数十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尚复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谁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98748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“祀”，祭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162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妹妹；姐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妹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弟弟（今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234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使动，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己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受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35798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纪；春秋战国时期或指季节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32000" y="339840"/>
            <a:ext cx="55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车前驾牲畜的两根直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292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超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李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49482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没有罪过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被灭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已有几十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49800" y="5589720"/>
            <a:ext cx="52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前；还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尚复，副词同义连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32200" y="429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被动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8000" y="189000"/>
            <a:ext cx="394488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陛下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所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成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位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亲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诚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武：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喟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115920"/>
            <a:ext cx="61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被动句；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成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提拔、成全；业绩（今） 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5280" y="144612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官位；位置、地位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一般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普通的；排列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78748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亲近的侍臣；动词，靠近 （今）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4011480"/>
            <a:ext cx="45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使动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使……投降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35280" y="3357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真诚实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46594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无比真诚；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极、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8000" y="522936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叹气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96440" y="1981080"/>
            <a:ext cx="366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七、八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2743200"/>
            <a:ext cx="8001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李陵劝降，苏武大义凛然，绝不动摇。面对苏武一片忠心，李陵愧疚万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4495680"/>
            <a:ext cx="1730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4419720"/>
            <a:ext cx="44352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李陵劝降，忠贞不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228600"/>
            <a:ext cx="8686800" cy="23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段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初，苏武与李陵都为侍中。苏武出使匈奴的第二年，李陵投降匈奴，不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访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苏武。时间一久，单于派遣李陵去北海，为苏武安排了酒宴和歌舞。李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趁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苏武说：“单于听说我与你交情一向深厚，所以派我来劝说足下，单于准备对你以礼相待。你终究不能回归本朝了，白白地在荒无人烟的地方受苦，你对汉廷的信义又怎能有所表现呢？（即有谁知道你的表现呢？）以前你的大哥苏嘉做奉车都尉，跟随皇上到雍城的棫阳宫去，扶着皇帝的车驾下殿阶，碰到柱子，折断了车辕，被指控为大不敬的罪，用剑自杀了，只不过赐钱二百万用以下葬。你弟弟苏贤跟随皇上去祭祀河东土神，骑着马的宦官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黄门驸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争船，把黄门驸马推下去掉到河中淹死了。骑着马的宦官逃走了。皇上命令苏贤去追捕，他抓不到，因害怕而服毒自杀。我离开长安的时候，你的母亲已去世，我送葬到阳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7200" y="228600"/>
            <a:ext cx="830592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夫人年纪还轻，听说已改嫁了，家中只有两个妹妹，两个女儿和一个男孩，如今又过了十多年，生死不知。人生像早晨的露水，何必长久地像这样折磨自己！我刚投降时，终日若有所失，几乎要发狂，自己痛心对不起汉廷，加上老母拘禁在保宫，你不想投降的心情，怎能超过当时我李陵呢！并且皇上年纪大了，法令随时变更，大臣无罪而全家被杀的有十几家，安危不可预料。你还打算为谁守节呢？希望你听从我的劝告，不要再有什么话说了！（意思是就投降算了）” 苏武说：“我苏武父子无功劳和恩德，都是皇帝栽培提拔起来的，官职升到列将，爵位封为通侯，兄弟三人都是皇帝的亲近之臣，常常愿意为朝庭牺牲一切。现在得到牺牲自己以效忠国家的机会，即使受到斧钺和汤镬这样的极刑，我也心甘情愿。大臣效忠君王，就像儿子效忠父亲，儿子为父亲而死，没有什么可恨，希望你不要再说了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609480"/>
            <a:ext cx="85345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段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陵与苏武共饮了几天，又说：“你一定要听从我的话。”苏武说：“我料定自己已经是死去的人了！单于一定要逼迫我投降，那么就请结束今天的欢乐，让我死在你的面前！”李陵见苏武对朝廷如此真诚，慨然长叹道：“啊，义士！我李陵与卫律的罪恶，上能达天！”说着眼泪直流，浸湿了衣襟，告别苏武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990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九段重点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5640" y="2057400"/>
            <a:ext cx="3633480" cy="27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汉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惠语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使曰：“武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实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954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寻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2895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名词作状语，在夜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3581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责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道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4191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确实活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93800" y="189000"/>
            <a:ext cx="79200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（之）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惠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在：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竹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载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丹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画，何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子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驽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汉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贳陵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尚复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泣下数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18288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确实存在；诚实、老实（今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448920" y="333360"/>
            <a:ext cx="1277640" cy="165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第九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89440" y="1857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登上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9440" y="7621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他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一同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9440" y="13366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按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惠的话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责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297180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即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古代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史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记载的和图画描绘的名人，凭什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98920" y="44956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假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汉朝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姑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赦免我的罪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74920" y="39625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谦词；驽指才能低下；怯指懦弱胆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51280" y="502920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宾前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留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45080" y="5516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泪流满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27320" y="2057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九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20960" y="3048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昭帝即位，获知苏武存在的消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4419720"/>
            <a:ext cx="1474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419720"/>
            <a:ext cx="4066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汉匈和好，请还苏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2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627280" y="1159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及《汉书》简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280" y="765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班固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—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字孟坚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史学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后汉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传》称他“年九岁，能属文，诵诗赋。及长，遂博贯载籍，九流百家之言，无不穷究。所学无常师，不为章句，举大义而已”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父班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续司马迁《史记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《史记后传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未成而故。班固立志继承父业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《后传》基础上，进一步广搜材料，编写《汉书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因有人向汉明帝诬告他篡改国史，被捕入狱。其弟班超上书解释，始得获释，被命为兰台令史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过二十一年努力，写成了《汉书》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和帝永元初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随窦宪出征匈奴，不久窦宪因谋反案被诛，班固也受牵连被捕，死于狱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073240" y="685800"/>
            <a:ext cx="50878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汉昭帝登位，几年后，匈奴和汉达成和议。汉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寻求苏武等人，匈奴欺骗说苏武已死。后来汉使者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匈奴，常惠请求看守他的人同他一起去，在夜晚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了汉使，原原本本地述说了几年来在匈奴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告诉汉使者要他对单于说：“天子在上林苑中射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射得一只大雁，脚上系着帛书，上面说苏武等人在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海。”汉使者万分高兴，按照常惠所教的话去责问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。单于看着身边的人十分惊讶，向汉使道歉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苏武等人的确还活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60360" y="1490760"/>
            <a:ext cx="16336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太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149220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介、在、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98600" y="2211480"/>
            <a:ext cx="34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命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40000" y="28605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古代祭祀宴会时牛、羊、豕具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3080" y="3429000"/>
            <a:ext cx="45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拜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2200" y="330120"/>
            <a:ext cx="1728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第十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843200" y="1065600"/>
            <a:ext cx="3633480" cy="12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及物故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武还者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强壮出，及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6960" y="1219320"/>
            <a:ext cx="1155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通“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29600" y="1219320"/>
            <a:ext cx="121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81680" y="167652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34640" y="2590920"/>
            <a:ext cx="5600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召集苏武的部下，除了以前已经投降和死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总共跟随苏武回来的有九人。苏武于汉昭帝始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年（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春回到长安。被扣在匈奴共十九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初壮年出使，等到回来，胡须头发全都白了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304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99"/>
                </a:solidFill>
                <a:uFillTx/>
                <a:latin typeface="Times New Roman"/>
                <a:ea typeface="楷体_GB2312"/>
              </a:rPr>
              <a:t>第十段重点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640" y="2286000"/>
            <a:ext cx="1643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第十段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8600" y="327672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苏武不辱使命，终于出使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2670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4267080"/>
            <a:ext cx="44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历经艰难，发白归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838080" y="121932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苏武在匈奴坚持民族气节十九年，靠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124080"/>
            <a:ext cx="792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崇高的民族气节、强烈的爱国意识、艰苦卓绝的斗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22096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信念与意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47920" y="4800600"/>
            <a:ext cx="647676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忠诚，对国家、民族的忠诚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5" name=""/>
          <p:cNvSpPr/>
          <p:nvPr/>
        </p:nvSpPr>
        <p:spPr>
          <a:xfrm>
            <a:off x="596160" y="304920"/>
            <a:ext cx="12780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文本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1371600"/>
            <a:ext cx="84582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课文可以分为哪几部分？各部分的主要内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2133720"/>
            <a:ext cx="85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按苏武一生可以分为三部分：第一部分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，写苏武在胡、汉两国关系微妙时期奉汉武帝旨意出使匈奴，以通两国之好，主要交代了苏武出使的原因、背景和使团的主要成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3886200"/>
            <a:ext cx="8229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部分是第２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，主要写苏武被匈奴扣留胡地十九年，九死一生而不改气节的可歌可泣的动人事迹。先写了出使匈奴时所遇到的意外变故，再写卫津威逼利诱，苏武幽禁并流放到北海牧羊，以及李陵来劝降等事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5638680"/>
            <a:ext cx="8229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部分是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，写苏武返回汉朝的过程。写汉与匈奴和亲后苏武终得重见天日，重归祖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2720" y="22860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课文结构脉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19840" y="228600"/>
            <a:ext cx="12780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文章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600200"/>
            <a:ext cx="86263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苏武传》集中写了苏武出使匈奴被扣留期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事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颂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他在敌人面前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富贵不能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贱不能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威武不能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饥寒压不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私情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所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浩然正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充分肯定了他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坚毅忠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义凛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视死如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民族气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6280" y="1523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295280"/>
            <a:ext cx="7924680" cy="16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一、详略得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　详：苏武宁死不降、卧雪牧羊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　略：苏武为於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wū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）靬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jiān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）王赏识及牛羊被盗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作用：突出苏武的崇高的民族气节、强烈的爱国意识、艰苦卓绝的斗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9040" y="22860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艺术手法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685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二、用语言、行动、细节刻画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5334120"/>
            <a:ext cx="792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忠君爱国、威武不屈、贫贱不移、忠贞不渝、坚韧不拔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9600" cy="15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屈节辱命，虽生，何面目以归汉！”引佩刀自刺。复举剑拟之，武不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不应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武骂律曰：“女为人臣子，不顾恩义……匈奴之祸从我始矣。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杖汉节牧羊，卧起操持，节旄尽落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武曰：“武父子亡功德，皆为陛下所成就， ……愿勿言。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曰：“自分已死久矣！王必欲降武，请毕今日之欢，死于前！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武闻之，南乡号哭，呕血，旦夕临数月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留匈奴凡十九岁，始以强壮出，及还，须发尽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8080" y="7621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三、对比和映衬手法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36840" y="1676520"/>
            <a:ext cx="62402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课文中我们可以看到作者善于以对照、映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艺术手法，来塑造主人公形象。在言与行的比照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，见出人物的正邪之别。这种对照、映衬分别见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敌我两个营垒，出现于不同的场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32520" y="4267080"/>
            <a:ext cx="476784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在出使匈奴之初，与副使张胜的对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②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在威逼利诱之时，与叛徒卫律的对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③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在以情相劝之时，与降将李陵的对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97640" y="3581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三种对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家庭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弟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投笔从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妹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续写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作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汉书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辞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两都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咏史诗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1143000"/>
            <a:ext cx="4724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一、张胜与苏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1828800"/>
            <a:ext cx="8534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张胜糊涂地帮助了缑王的谋反，事情败露后又经受不住考验，叛变投降。而苏武清醒地认识到使节行为不当会引起两国纷争，欲以死息祸；面对匈奴的劝降始终保持着可贵的民族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886200"/>
            <a:ext cx="4038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二、卫律与苏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24280" y="4648320"/>
            <a:ext cx="50878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律卖国求荣，阴险狡诈，气焰嚣张，不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，而苏武为国效命，忠贞不二，不卑不亢 一身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，光明磊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03640" y="304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三种对比映衬的效果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621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、李陵与苏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74520" y="1676520"/>
            <a:ext cx="53866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陵为一己之私而叛国，懦弱，意志不坚，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盾，痛苦 。而苏武以国家的利益为先，忠贞不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坚韧不拔，无怨无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3429000"/>
            <a:ext cx="82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行楷"/>
              </a:rPr>
              <a:t>在各种人物的对比映衬下，我们看到了一个丰满立体的苏武，他有清醒的外交意识，待人接物不卑不亢，面对威逼利诱坚贞不二，长达十九年守节的坚韧不拔。苏武的这些性格在那些或屈或降的人物的对比下，更加具有勾魂摄魄的人格魅力，千古流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11280" y="2602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总结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765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胜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：糊涂地帮助了缑王的谋反，事情败露后又经受不住考验，叛变投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170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：清醒地认识到使者行为不当会引起两国纷争，欲以死息祸；面对匈奴的劝降始终保持着可贵的民族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306864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卫律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：卖国求荣，阴险狡诈，气焰嚣张，不可一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3933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：为国效命，忠贞不二，不卑不亢，一身正气，光明磊落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4797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陵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：为一己之私而叛国，懦弱，意志不坚，矛盾，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5661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：以国家的利益为先，忠贞不渝，坚韧不拔，无怨无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4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9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3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4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5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2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类对比）卫律和李陵劝降的情形和说辞有什么不同？为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律在劝降苏武时采取的是软硬兼施、威逼利诱的方式。先以副使张胜获罪，苏武“当相坐”来胁迫他，遭拒绝后，又“复举剑拟之”来威逼，然“武不动”。威逼不成，又以“赐号称王，拥众数万，马畜弥山，富贵如此”来利诱。而李陵则是以老朋友、老同事的身份，在饮酒叙谈之中，动之以情，晓之以理；先指出汉朝的薄情，其父兄都被汉武帝害死；再披露苏武家庭的悲剧；又以切身体会说明最初与苏武颇有同感；最后指出汉朝法令无常，即使回去也难保身家平安。所以“人生如朝露，何久自苦若此？”显得推心置腹，委婉通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人的劝降方式之所以不同，一是两人与苏武的关系不同，二是两个的地位与修养不同。卫律原来是汉朝的武将，被匈奴俘虏后投降的，本是无气节的武夫，希冀献功的小人，并无是非标准，唯利是图，所以丑态百出，遭到苏武的唾弃。而李陵是一代名将飞将军李广之后，曾为汉朝立下战功，因寡不敌众战败投降，被汉武帝诛灭家族。所以在劝降时用攻心法，而且是看到苏武的大义凛然后能“泣下沾襟”，可见尚存羞恶之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卫律和李陵的劝降，苏武的回答在措辞和态度上有什么不同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先，卫律与李陵和苏武的关系不同。卫律原来是汉人，但已经投降，成为国家和民族的罪人，可耻的叛徒，对于热爱祖国的苏武而言是敌人，所以不用客气。李陵虽然也已投降，但原来与苏武“俱为侍中”“陵与子卿素厚”，是亦敌亦友的关系。一人劝降的方式不同，苏武的回答方式也不相同。卫律手段卑鄙，态度傲慢，苏武对其威逼“不动”，对其利诱则“不应”，表现对其为人的鄙夷。当他说出“与君为兄弟”的话后，苏武终于忍无可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，“骂律”，自始至终都以强硬的姿态抵抗。李陵则是采取晓之以理动之以情的文雅方式，“至海上”“为武置酒设乐”，苏武全然不为所动，称李陵为“王”，划清二人的关系，表明自己的立场。采用的是绵里蔵针、有理有节的方式。对二人不同的回答表现了苏武爱憎分明、立场坚定、大义凛然的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3429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苏武形象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种人物的对比映衬下，我们看到了一个丰满立体的苏武，他有清醒的外交意识，待人接物不卑不亢，面对威逼利诱坚贞不二，长达十九年守节的坚忍不拔。苏武实在是一个铁骨铮铮的硬汉子，爱国忠诚的真君子！正因为如此，苏武才更加具有勾魂摄魄的人格魅力，千古流芳！他的名字，也成为了具有崇高的民族气节的代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838080" y="1066680"/>
            <a:ext cx="7483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塑造人物的艺术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详略得当的情节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个性化的人物语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次要人物的对比映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2133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7200" y="318960"/>
            <a:ext cx="8458200" cy="37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评价传主的功过和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围绕几个问题对传主的功过和价值进行讨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一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什么是真正的值得提倡的忠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晏子认为真正的忠诚是忠诚于国家、人民，而非忠诚于君主。换句话说，就是要忠诚于明君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因为明君善治国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，而非昏君。而那些不分黑白，一味盲目服从君主，为君主作无谓的牺牲的行为我们称之为“愚忠”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你认为苏武的忠诚是愚忠吗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773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作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班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撰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去世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其妹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班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马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性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汉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我国第一部纪传体断代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古代传记文学名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还收录了西汉大量的辞赋和散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总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性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内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了汉高祖元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6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王莽新地皇四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3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历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十二帝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八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十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七十列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23000" y="457200"/>
            <a:ext cx="73836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《汉书》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080" y="152280"/>
            <a:ext cx="86263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问题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前段时间，教育部对高中历史教科书的教学大纲进行修改，其中备受争议的是如下一段文字：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“中国历史上的民族战争，……是国内民族之间的战争，是‘兄弟阋墙，家里打架’，有正义与非正义的区别，不宜有侵略和反侵略的提法……对于岳飞、文天祥这样的杰出人物，我们虽然也肯定他们在反对民族掠夺和民族压迫当中的作用与地位，但并不称之为民族英雄。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按照教学大纲的说法，苏武也就不能称之为民族英雄，你对此有什么看法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4920" y="1295280"/>
            <a:ext cx="845820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课后作业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假如我是苏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假如你正在面对苏武所面对的局面，作为汉使出使匈奴，匈奴有骄横的单于，你的一个糊涂的部下参与了匈奴亲王的谋反，身为汉使的你会怎么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要怎样处理这种复杂的外交局面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运用你的智慧，结合你平时知道的历史和外交知识，看你能否做一个比苏武更加出色的使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题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考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陵劝降苏武时，曾对他诉说过汉武帝的刻薄寡恩，这一点在材料中得到一个印证。以“当享茅土之荐，受千乘之赏”之功却“赐不过二百万，位不过典属国”。同时李陵在衡量人生价值时是以个人利益得失为标准的，而苏武则以国家大局为重，不计较个人得失。苏武明知汉武帝的刻薄寡恩，还要归汉，是因为在他心中，君国一家，他抵死也要作汉臣，其实是忠于祖国。所以，汉帝给他多少赏赐他并不在乎。他在乎的是自己终于完成了使命，维护了国家民族尊严。这样，两人的境界高下便很分明了，更能说明苏武的伟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苏武传》中塑造的苏武这个形象是成功的，文章生动地刻画了一个爱国英雄的形象，歌颂了他伟大的民族气节。但我们对他生活中别的侧面不是很了解。这段文字向我们展现的是他自己归国后不忘故友，因为在李陵劝降苏武时，苏武看到李陵尚存爱国之心，而李陵自己也曾说“陵与卫律之罪上通于天”，所以苏武在归国后希望能帮他“改邪归正”，让他回归到节义的道路上来。这是他由己及人、不忘旧情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962520" y="1522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2280" y="914400"/>
            <a:ext cx="4267440" cy="76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为人臣子                    畔主背亲                         头县北阙                     与旃毛并咽之               掘野鼠去草实而食之、                    空自苦亡人之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义安所见乎                                            因泣下霑襟，与武决去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以降及物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毕今日之驩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914400"/>
            <a:ext cx="586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女”通“汝”，第二人称代词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43200" y="1447920"/>
            <a:ext cx="38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畔”通“叛”，背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1981080"/>
            <a:ext cx="38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县”通“悬”，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71800" y="2438280"/>
            <a:ext cx="449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旃”通“毡”，毛织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426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”通“弆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jǔ)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收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3505320"/>
            <a:ext cx="281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亡”通“无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5638680"/>
            <a:ext cx="38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以”通“已”，已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5105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衿”同“襟”。“霑”通“沾”“决”通“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720" y="15228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文言知识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6172200"/>
            <a:ext cx="365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驩”通“欢”，欢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403848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见”通“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0880" y="914400"/>
            <a:ext cx="4343400" cy="56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汉使路充国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一人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             天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宜皆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               惠等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因此时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欲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祸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以身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节牧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286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使动用法，使…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名词作状语，在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1981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词作动词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514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动用法，使…投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30481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词作动词，用车子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65760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意动用法，以…为壮，认为…豪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4267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使动用法，使…投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876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动用法，使…争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5410080"/>
            <a:ext cx="41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词作动词，滋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601992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名词作动词，手中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077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5268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1828800"/>
            <a:ext cx="655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稍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：渐渐       今：稍微，些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514600"/>
            <a:ext cx="7696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匈奴使来，汉亦留之以相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3048120"/>
            <a:ext cx="7010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古：抵押      今：正在（某时某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809880"/>
            <a:ext cx="5943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至匈奴，置币遗单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4419720"/>
            <a:ext cx="6095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古：送给。今：丢失，落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105520"/>
            <a:ext cx="784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会缑王与长水虞常等谋反匈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5791320"/>
            <a:ext cx="7238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会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古：正当，适逢。今：聚会，集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077320" cy="457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09480" y="1219320"/>
            <a:ext cx="815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稍迁至移（打不出，别字代替，对不起）中厩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35268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066680"/>
            <a:ext cx="1143000" cy="40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丈人明年不幸操持春秋成就左右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1219320"/>
            <a:ext cx="6782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：对男性长辈的尊称     今：岳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190512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：第二年        今：今年的下一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514600"/>
            <a:ext cx="7696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世   今：不幸运；使人失望伤心、痛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3200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：拿着      今：料理、筹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95280" y="3809880"/>
            <a:ext cx="5943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：年龄    今：春季、秋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4419720"/>
            <a:ext cx="7162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：成全。今：事业上的成绩；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510552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：侍卫人员。今：左和右两方面；支配，操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5791320"/>
            <a:ext cx="7239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：财务，礼品；今：供出售的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077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486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文言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1927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天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丈人行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缑王等皆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虞常生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节送匈奴使留在汉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益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汉所望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犯乃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负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以女为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缑王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昆邪王姊子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谋单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以复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降虏于蛮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面目以归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佩刀自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16720" y="952560"/>
            <a:ext cx="216072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定语后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语前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语前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介宾后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语前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宾语前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381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6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5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6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550440" y="152280"/>
            <a:ext cx="1826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知识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457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关于气节的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1373040"/>
            <a:ext cx="77724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１、岁寒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后知松柏之后凋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论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罕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２、不降其志，不辱其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论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志士仁人，无求生以害仁，有杀生以成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论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灵公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４、宁为玉碎，不为瓦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北齐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景安列传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５、疾风知劲草，板荡识诚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世民《赐萧禹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６、出淤泥而不染，濯清涟而不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敦颐《爱莲说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077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920" y="189000"/>
            <a:ext cx="88930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汉书》评价历史人物往往从封建正统观念出发，以儒家的伦理道德作为标准，如对陈涉、项羽加以贬抑，即是显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来《汉书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《史记》并称“史汉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汉书》“言皆精炼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结构严密，人物描绘细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43960" y="759240"/>
            <a:ext cx="8373600" cy="525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７、名节重泰山，利欲轻鸿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谦《无题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８、粉身碎骨浑不怕，要留清白在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谦《石灰吟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人固有一死，或重于泰山，或轻于鸿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迁《报任安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人生自古谁无死，留取丹心照汗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天祥《过零丁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咬定青山不放松，立根原在破岩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磨万击还坚劲，任尔东南西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板桥《题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石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4613040" cy="523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33782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　　　两千多年来，苏武崇高的气节，成为中国伦理人格的榜样，成为一种民族文化的心理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9840" y="228600"/>
            <a:ext cx="12780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情感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三亚博雅中学　</dc:creator>
  <dc:description/>
  <dc:language>en-US</dc:language>
  <cp:lastModifiedBy>微软用户</cp:lastModifiedBy>
  <dcterms:modified xsi:type="dcterms:W3CDTF">2012-06-05T14:25:32Z</dcterms:modified>
  <cp:revision>137</cp:revision>
  <dc:subject/>
  <dc:title>《苏武传》教学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