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627C-5FBF-4C44-9CD9-DA0261AB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A0BA-F31A-4844-BBBC-7FE6392D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史学家刘知几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言皆精炼，事甚该密”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史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家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，则是其特色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566-3700-4124-A02C-21FC2D91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8FC-E022-4E33-B9D7-B731EFCD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A47-5E9F-4F6E-A8D5-7B6899B7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701-08BC-4478-ADBE-EDDF82BE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F7B2-3633-41AF-B655-848EA048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E6C-1999-47DC-A193-98D7D84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3C8E-FE58-4E94-8674-F93BB7A1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8AC-9C93-49CE-90E3-5DA54F35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A24D-2654-41A4-9974-F8E59BEC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68E2-D124-4D3C-9B17-8AC545C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657-848B-4A15-8ACC-6A97ACB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A4A-34F3-4DC8-A403-DC9E9253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C5C2-8C49-48B4-9904-FBA2B34F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06F0-7F03-4CC5-87B3-5AC09B36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B9F-706E-4971-9BA3-F5F9906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D09-779B-403E-9660-E45F1C6D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23E1-DD03-4196-95DA-71459CCA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1979-50FB-4FC5-9576-02F8BFA7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CC50-517D-4D5C-A455-D702F02C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B9F2-82C1-4393-9584-814043A6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4C33-8AF1-4BF0-8E1D-06E30B12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0A19-3A53-443C-9161-E2BB4947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7BF-30AE-4421-8760-AE796A3C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6B36-4040-4B6D-8799-E329D9B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2884-1368-48AF-B9BB-17BDF2B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A34C-E472-4051-894F-95C4667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6F5E-016D-49F3-BDC9-49F8678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A400-8560-4D68-8180-A721E0E2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C2AD-A9E0-4D33-A8A6-537290D8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63C5-8AEF-4C65-8020-58E41EF9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40B-2EB5-4033-8B31-E25D2BDA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AF9-5564-4166-B269-D7A76688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8D7-2C1E-449C-B91F-FCD22C4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CA7-C7E5-4A2A-85D9-BD4C9FA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A54-47AC-4A4A-A9C8-9F9225E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492-BA3D-42C2-88BF-0E9A413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D11-3D88-4417-B7EF-A2CC605D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AAA5-F3EC-4525-822B-28BA024F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EF0-42E6-40D4-86C3-B4DD68CF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992760" cy="40388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628800" cy="66294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4743360" y="685800"/>
            <a:ext cx="325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1" lang="zh-CN" sz="8000" spc="-1" strike="noStrike">
                <a:solidFill>
                  <a:srgbClr val="3333cc"/>
                </a:solidFill>
                <a:latin typeface="隶书"/>
                <a:ea typeface="隶书"/>
              </a:rPr>
              <a:t>苏武传</a:t>
            </a:r>
            <a:r>
              <a:rPr b="1" lang="en-US" sz="80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539640" y="476280"/>
            <a:ext cx="2305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258920" y="54936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动词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用手抬着。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作状语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用车子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假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舆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马者，非利足也。”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车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2340000" y="177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意动，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认为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他的节操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壮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2411280" y="24084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囚禁、拘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3421080" y="3508200"/>
            <a:ext cx="4535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舍生取义，以死明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1403280" y="4371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第２～３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332000" y="511812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叙述武及其属下被扣留在匈奴的直接原因和武临变时的表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1403280" y="35002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395280" y="1055520"/>
            <a:ext cx="388944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欲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因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时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马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空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草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529080" y="98748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趁这时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；所以（今）。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使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投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3384720" y="581184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3419640" y="220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判罪、判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3384720" y="2852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做出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杀苏武的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3419640" y="35798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(ch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马群；六畜兴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3564000" y="4156200"/>
            <a:ext cx="4751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白白地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拿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血肉之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滋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荒草野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3635280" y="5300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按照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我的话降顺单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3529080" y="6675480"/>
            <a:ext cx="338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3635280" y="59500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叛”，背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179280" y="115920"/>
            <a:ext cx="2016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华文行楷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6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324000" y="404640"/>
            <a:ext cx="38163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降虏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于蛮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以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平心持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1908000" y="112536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在蛮夷之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做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投降的俘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4284720" y="242100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以何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见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3851280" y="4443480"/>
            <a:ext cx="4753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卫律劝降，威武不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2916360" y="3573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居心平允，主持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3851280" y="5235480"/>
            <a:ext cx="4753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卫律逼降，苏武不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1"/>
          <p:cNvSpPr/>
          <p:nvPr/>
        </p:nvSpPr>
        <p:spPr>
          <a:xfrm>
            <a:off x="389448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状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1042920" y="479412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2919240" y="51642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3076200" y="2427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684360" y="789120"/>
            <a:ext cx="28080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愈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欲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饮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得归：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六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穹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徙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穷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132000" y="692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更加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想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使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他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投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3133800" y="1341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安放、安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3132000" y="191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跟外界隔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3132000" y="2421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使动，使之饮食，指供应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3132000" y="29242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才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能够回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3059280" y="34974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累计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五六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0560" y="40053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圆形的帐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3132000" y="45054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迁移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3132000" y="501012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穷困的绝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1692360" y="5589720"/>
            <a:ext cx="1511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4068720" y="5589720"/>
            <a:ext cx="40338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饮雪吞毡，矢志不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3203640" y="6165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4068720" y="6165720"/>
            <a:ext cx="40323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流放北海，杖节放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8"/>
          <p:cNvSpPr/>
          <p:nvPr/>
        </p:nvSpPr>
        <p:spPr>
          <a:xfrm>
            <a:off x="179280" y="44280"/>
            <a:ext cx="2592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第五、六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684360" y="776160"/>
            <a:ext cx="525600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于）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之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所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1476360" y="451656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白白地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在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没有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人烟的地方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使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自己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受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2124000" y="765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第二年；今年的下一年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124000" y="134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摆设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酒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124000" y="198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介、趁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124000" y="26431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特意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派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124000" y="3284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偏指另一方，“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2411280" y="5805360"/>
            <a:ext cx="673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古代用人拉的车，后多指皇帝、皇后坐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2413080" y="51577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显现在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哪里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；见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通“现”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显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179280" y="44280"/>
            <a:ext cx="1728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第七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468360" y="333360"/>
            <a:ext cx="404964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女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亡罪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夷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者数十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尚复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谁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1403280" y="98748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通“祀”，祭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700360" y="162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妹妹；姐姐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妹妹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和弟弟（今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692360" y="234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使动，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自己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受苦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692360" y="35798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年纪；春秋战国时期或指季节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1332000" y="339840"/>
            <a:ext cx="55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车前驾牲畜的两根直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1763640" y="292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超过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我李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1979640" y="494820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没有罪过就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被灭族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的已有几十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3349800" y="5589720"/>
            <a:ext cx="52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宾前；还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谁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尚复，副词同义连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4732200" y="429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被动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08000" y="189000"/>
            <a:ext cx="394488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陛下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所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成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位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亲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诚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武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喟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3132000" y="115920"/>
            <a:ext cx="61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被动句；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成就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：提拔、成全；业绩（今）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835280" y="144612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位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：官位；位置、地位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列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：一般的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普通的；排列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1835280" y="278748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亲近的侍臣；动词，靠近 （今）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835280" y="4011480"/>
            <a:ext cx="45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使动，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使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投降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1835280" y="335772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真诚实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1835280" y="46594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无比真诚；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至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：极、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522936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叹气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4457880" y="5946840"/>
            <a:ext cx="44352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李陵劝降，忠贞不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2481120" y="59500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2556000" y="1628640"/>
            <a:ext cx="187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白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旦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4141800" y="1706400"/>
            <a:ext cx="30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穿白戴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4068720" y="242712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早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3708360" y="4146480"/>
            <a:ext cx="4392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武帝驾崩，恸哭数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322200" y="330120"/>
            <a:ext cx="1728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第八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1835280" y="4149720"/>
            <a:ext cx="1730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793800" y="189000"/>
            <a:ext cx="79200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即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（之）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惠语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在：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竹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载，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丹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画，何以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子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驽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汉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贳陵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尚复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泣下数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2089080" y="184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确实存在；诚实、老实（今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-448920" y="333360"/>
            <a:ext cx="1277640" cy="165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第九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889440" y="1857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登上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889440" y="7621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和他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一同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3889440" y="13366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按照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惠的话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责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1657440" y="30099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即使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是古代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史籍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记载的和图画描绘的名人，凭什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超过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602160" y="4581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假如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汉朝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姑且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赦免我的罪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2233440" y="400536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谦词；驽指才能低下；怯指懦弱胆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3673440" y="508464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宾前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留恋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什么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3745080" y="5516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泪流满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2592360" y="6093000"/>
            <a:ext cx="14749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4284720" y="6093000"/>
            <a:ext cx="40672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汉匈和好，请还苏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260360" y="1490760"/>
            <a:ext cx="16336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太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340000" y="149220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介、在、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2298600" y="2211480"/>
            <a:ext cx="34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下命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2340000" y="28605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古代祭祀宴会时牛、羊、豕具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2413080" y="3429000"/>
            <a:ext cx="45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拜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4084560" y="4290840"/>
            <a:ext cx="4448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历经艰难，发白归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322200" y="330120"/>
            <a:ext cx="1728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第十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2124000" y="429264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2627280" y="1159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71280" y="765000"/>
            <a:ext cx="8964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班固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字孟坚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史学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汉书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他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九岁，能属文，诵诗赋。及长，遂博贯载籍，九流百家之言，无不穷究。所学无常师，不为章句，举大义而已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父班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续司马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史记后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未成而故。班固立志继承父业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础上，进一步广搜材料，编写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书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因有人向汉明帝诬告他篡改国史，被捕入狱。其弟班超上书解释，始得获释，被命为兰台令史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经过二十一年努力，写成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书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和帝永元初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固随窦宪出征匈奴，不久窦宪因谋反案被诛，班固也受牵连被捕，死于狱中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其妹班昭补写，未能竣工，后由马续补写才全部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79640" y="5112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传记中人物性格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79280" y="1268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合课文，总结苏武的人物性格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081080" y="1916280"/>
            <a:ext cx="70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忠君爱国、威武不屈、贫贱不移、忠贞不渝、坚韧不拔 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50920" y="31748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果要深入挖掘人物的性格，还需从细节的分析入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6300720" y="246204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（概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1403280" y="4365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（在文中找出相关的细节描写语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324000" y="511344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爱国精神：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引刀自杀的刚烈举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杖节牧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77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7" dur="770" fill="hold"/>
                                        <p:tgtEl>
                                          <p:spTgt spid="7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9" dur="77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1" dur="77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1114560" y="12207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结文章塑造人物的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艺术手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2050920" y="19144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、详略得当的情节安排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25621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、用个性化的语言表现人物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2050920" y="32097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、次要人物的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对照、映衬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77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8" dur="770" fill="hold"/>
                                        <p:tgtEl>
                                          <p:spTgt spid="7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0" dur="77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2" dur="77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0"/>
            <a:ext cx="9144000" cy="352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人物性格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两千年前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在北海边上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有一位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杖节牧羊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老人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他坚守着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热爱祖国、忠贞不渝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民族气节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在饥寒交迫中艰难地生存着，在他的身上体现了“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富贵不能淫、贫贱不能移、威武不能屈”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传统美德和高尚人格。其气节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令人肃然起敬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他没有在敌人的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淫威面前屈服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也没有在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金钱、富贵面前动心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为了远大的理想、为了亲爱的祖国，他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餐冰卧雪、不辱使命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义无反顾地献出了自己的青春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坚守住了自己的信念。一直以来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这种英勇义举激励着千秋万代的华夏儿女奋然前行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可以说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苏武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真正称得上是我们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新宋体"/>
              </a:rPr>
              <a:t>民族的脊梁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1" dur="8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2" dur="8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8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539640" y="692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讨论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并不具体描述苏武的每一事迹，而是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有详有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比如文章对卫律和李陵劝降的部分就描写得特别详细，为什么作者要这样处理，用意是什么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539640" y="3141720"/>
            <a:ext cx="799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参考：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卫律和李陵对苏武的劝降是最能表现苏武的气节的，所谓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真金不怕火炼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，面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威逼利诱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，面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死亡威胁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，多少所谓的英雄好汉都经受不住考验而变节投降，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唯有苏武始终信念如磐石般坚定，宁死不屈，忠贞不渝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0" y="260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仔细研读卫律和李陵对苏武的劝降这部分内容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684360" y="1052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体会人物个性化的语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611280" y="17002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讨论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语言都表现了人物怎样的个性（总结卫律、李陵的性格特征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611280" y="2708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卫律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：傲慢自大、阴险狡诈，是个卖国求荣的小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826920" y="3429000"/>
            <a:ext cx="67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647640" y="3716280"/>
            <a:ext cx="76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李陵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：李陵和卫律不一样，他不是彻底的卖国之人。他对汉朝还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有感情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，对自己叛国的行为也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深感羞愧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，但他意志不够坚定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对国家不够忠诚，因为一己之私背叛祖国而投靠匈奴，而后又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后悔不已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，说明这个人物的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懦弱和意志的不坚定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1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2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3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324000" y="836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  <a:ea typeface="华文行楷"/>
              </a:rPr>
              <a:t>  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、苏武能够坚持操守的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684360" y="1628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苏武靠的是不屈节不辱命的爱国精神，忠于国家视死如归的浩然正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611280" y="2852640"/>
            <a:ext cx="82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李陵劝降对苏武形象的塑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利用与苏武的私谊以打动对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以汉朝对苏武家室的薄待以激起苏武的不满，动摇苏武的意志。但苏武不为所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反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苏武不计较个人得失，舍身为国的高贵品质，使苏武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形象更加鲜明突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468360" y="33336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0" y="115920"/>
            <a:ext cx="9144000" cy="576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8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4280"/>
                            </p:stCondLst>
                            <p:childTnLst>
                              <p:par>
                                <p:cTn id="1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对比手法对人物性格的塑造总结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324000" y="765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张胜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：糊涂地帮助了缑王的谋反，事情败露后又经受不住考验，叛变投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468360" y="170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苏武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黑体"/>
              </a:rPr>
              <a:t>：清醒地认识到使者行为不当会引起两国纷争，欲以死息祸；面对匈奴的劝降始终保持着可贵的民族气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24000" y="306864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卫律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：卖国求荣，阴险狡诈，气焰嚣张，不可一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755640" y="39337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苏武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：为国效命，忠贞不二，不卑不亢，一身正气，光明磊落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24000" y="4797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李陵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：为一己之私而叛国，懦弱，意志不坚，矛盾，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755640" y="5661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苏武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黑体"/>
              </a:rPr>
              <a:t>：以国家的利益为先，忠贞不渝，坚韧不拔，无怨无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7" dur="8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8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2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6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3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4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-252360" y="-360"/>
            <a:ext cx="9648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说是自各成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直而事核”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赡而事详”。司马迁感慨多，微情妙旨，时在文字蹊径之外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却一览之余，情词俱尽。但是就史论史，班固也许比较客观些，比较合体些。明茅坤说：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矩矱用”，清章学诚说“班氏守绳墨”，“班氏体方用智”，都是这个意思。晋傅玄评班固，“论国体则饰主阙而折忠臣，叙世教则贵取容而贱直节”。这些只关识见高低，不见性情偏正，和司马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货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传蕴含着无穷的身世之痛不能相比，所以还无碍其为客观。总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书，文质和繁省虽然各不相同。而所采者博，所择者精，却是一样，组织弘大，描写的曲达，也同工异曲，二书并称良史，决不是偶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解释划线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事详              ⑵以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论国体则饰主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忠臣   ⑷叙世教则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贵取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贱直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后面的文章里哪句话与前面“司马迁感慨多，微情妙旨”相呼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朱自清评价汉书时用了“文赡而事详”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汉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一览之余，情词俱尽”等评价，还突出地强调了一个词，概括了汉书的特点，它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鸿门宴</a:t>
            </a:r>
            <a:r>
              <a:rPr b="0" lang="en-US" sz="3600" spc="-1" strike="noStrike">
                <a:solidFill>
                  <a:srgbClr val="e4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中的材料，可用来论述什么论点？</a:t>
            </a:r>
            <a:br>
              <a:rPr sz="36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项羽攻入函谷关后，拥有大军四十万，实力强大，颇为自负。听说刘邦“欲王关中，使之婴为相，珍宝尽有之”，便大怒说要犒劳军队，攻打刘邦军队。此后又在鸿门宴上坦然接受刘邦的谢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述观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范增向项羽进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邦“其志不在小”，有“天子气”，应“急击勿失”； 项伯却劝项羽，“今人有大功而击之，不义也，不如因善遇之”。项羽对此摇摆不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述观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在项伯劝说下，项羽放弃了原先打刘邦的计划。鸿门宴上“范增数目项王，举所佩玉玦以示之者三，项王默然不应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述观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鸿门宴上，刘邦说：“今者以小人之言，令将军有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羽非常坦率地说是曹无伤说的，致使其被刘邦所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述观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项羽接受项伯的建议，在宴会上不忍心杀死刘邦。刘邦的参乘樊哙闯入军门，斥责项羽，项羽反而称之为“壮士”，赐酒和肉，没有怪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述观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樊哙听说刘邦处境危险，“即带剑拥盾入军门”，披帷西向立，嗔目视项王，头发上指，目眦尽裂”，面对项羽毫无畏惧地加以斥责。项羽对樊哙的无礼不加怪罪，反而赐酒、赐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述观点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42920" y="189000"/>
            <a:ext cx="889308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班固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国第一部纪传体断代史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例模仿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略有变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书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篇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篇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篇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十篇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一百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起自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汉高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止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记西汉一代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史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价历史人物往往从封建正统观念出发，以儒家的伦理道德作为标准，如对陈涉、项羽加以贬抑，即是显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史记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并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史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皆精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结构严密，人物描绘细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611280" y="1790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疏通文意，添小标题，理清脉络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900000" y="28828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小标题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准确概括情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变化，并尽量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展现人物性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，同时注意语言的通顺凝练。 （课后练习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395280" y="1057320"/>
            <a:ext cx="388944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并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相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汉天子我丈人行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持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484360" y="10605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一起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担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79280" y="115920"/>
            <a:ext cx="2016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华文行楷"/>
              </a:rPr>
              <a:t>第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2340000" y="17082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我国古代西北部民族的通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564000" y="4108320"/>
            <a:ext cx="40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411280" y="2427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互派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使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2411280" y="3147840"/>
            <a:ext cx="57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相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抵偿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；副、表程度（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4211640" y="3860640"/>
            <a:ext cx="4681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判断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老人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长辈；岳父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今</a:t>
            </a:r>
            <a:r>
              <a:rPr b="1" lang="en-US" sz="3600" spc="-1" strike="noStrike">
                <a:solidFill>
                  <a:srgbClr val="e4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2124000" y="5229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归还、送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2050920" y="58831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指持代表皇帝的旄节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324000" y="333360"/>
            <a:ext cx="568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送匈奴使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留在汉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因 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692360" y="90792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后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留在汉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匈奴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258920" y="1413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介、趁机、趁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58920" y="198900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动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黑体"/>
              </a:rPr>
              <a:t>,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一起出发、同行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起、共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692360" y="2500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已经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763640" y="3141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摆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763640" y="3718080"/>
            <a:ext cx="61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古人用作礼物的丝织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后泛指礼物、礼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1763640" y="47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副、更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1328760" y="558648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4138560" y="5157720"/>
            <a:ext cx="4537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出使匈奴，以求通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205080" y="5956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4138560" y="5877000"/>
            <a:ext cx="4537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出使匈奴，单于受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468360" y="981000"/>
            <a:ext cx="568944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缑王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昆邪王姊子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卫律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降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-95400" y="1197000"/>
            <a:ext cx="733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2771640" y="9874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正在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想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派谴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使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2771640" y="162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副、正好，恰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2770200" y="22114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图谋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发动叛乱的意外变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5435640" y="29322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2843280" y="35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副、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936720" y="4653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缑王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汉降将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80"/>
                </a:solidFill>
                <a:latin typeface="Arial"/>
                <a:ea typeface="楷体_GB2312"/>
              </a:rPr>
              <a:t>卫律所率领的投降之人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1906560" y="53802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暗地里、秘密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1979640" y="6021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共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179280" y="115920"/>
            <a:ext cx="2016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华文行楷"/>
              </a:rPr>
              <a:t>第二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2001960" y="333360"/>
            <a:ext cx="21384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私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许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3492360" y="3398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向来、平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497400" y="987480"/>
            <a:ext cx="38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暗地里拜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3492360" y="162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3492360" y="227664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同意（赞同）虞常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3492360" y="3651120"/>
            <a:ext cx="35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出动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军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3479760" y="300348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将要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起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419640" y="4869000"/>
            <a:ext cx="4608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虞常谋反，祸及汉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1328760" y="4869000"/>
            <a:ext cx="173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小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684360" y="1073160"/>
            <a:ext cx="259236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语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状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犯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以复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佩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787480" y="3573360"/>
            <a:ext cx="44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前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，“以何复加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771640" y="98748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交谈的话被揭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2771640" y="162864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把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真实情况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告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2771640" y="2270160"/>
            <a:ext cx="63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被动句；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被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（匈奴）凌辱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才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2843280" y="292428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对不起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国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2849400" y="422100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即使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苟且活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2844720" y="48038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拿着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佩在身上的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2843280" y="5445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派人驱马快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2843280" y="6093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179280" y="115920"/>
            <a:ext cx="20163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华文行楷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8:05Z</dcterms:created>
  <dc:creator>teacher</dc:creator>
  <dc:description/>
  <dc:language>en-US</dc:language>
  <cp:lastModifiedBy>Administrator</cp:lastModifiedBy>
  <dcterms:modified xsi:type="dcterms:W3CDTF">2015-04-07T08:23:29Z</dcterms:modified>
  <cp:revision>48</cp:revision>
  <dc:subject/>
  <dc:title>幻灯片 1</dc:title>
</cp:coreProperties>
</file>