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3EA-E341-45AE-B3F8-BABB3107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8C6-BF8B-4797-85E9-FA2B38A4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71B-3D8C-43AB-818E-11F2AF84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827-04E2-4199-9EEC-FDBF15EB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7C8-A49C-431F-9C7E-1C976D3B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F30-B4AD-4E49-8A16-81134CD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C34-446D-4503-BBA9-542B70D3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D1E-D154-466D-ADC9-51B449E0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AF0-835D-4FF4-AE66-366070A7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151-367E-45AF-9B59-A3F4AAA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C39-2F7A-487C-A842-AF3B72F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BBA-C76F-4DEF-A6EB-2336475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C437-EF27-40CB-A8B9-F44F872937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8380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苏武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29528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304920"/>
            <a:ext cx="815328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天汉元年，且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(jūdī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侯单于初立，恐汉袭之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曰：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汉天子我丈人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(háng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”尽归汉使路充国等。武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嘉其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乃遣武以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中郎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使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送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匈奴使留在汉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厚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单于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答其善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"/>
          <p:cNvSpPr/>
          <p:nvPr/>
        </p:nvSpPr>
        <p:spPr>
          <a:xfrm>
            <a:off x="351000" y="154476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就说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1397160" y="1447920"/>
            <a:ext cx="54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汉天子是我的长辈啊。行：辈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"/>
          <p:cNvSpPr/>
          <p:nvPr/>
        </p:nvSpPr>
        <p:spPr>
          <a:xfrm>
            <a:off x="1488960" y="2514600"/>
            <a:ext cx="52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赞许他这种合乎情理的做法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"/>
          <p:cNvSpPr/>
          <p:nvPr/>
        </p:nvSpPr>
        <p:spPr>
          <a:xfrm>
            <a:off x="5241960" y="3657600"/>
            <a:ext cx="26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皇帝的侍卫长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"/>
          <p:cNvSpPr/>
          <p:nvPr/>
        </p:nvSpPr>
        <p:spPr>
          <a:xfrm>
            <a:off x="7232760" y="251460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信物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"/>
          <p:cNvSpPr/>
          <p:nvPr/>
        </p:nvSpPr>
        <p:spPr>
          <a:xfrm>
            <a:off x="320760" y="480384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“</a:t>
            </a: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留在汉之匈奴使”的定语后置，者，定语后置的标志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"/>
          <p:cNvSpPr/>
          <p:nvPr/>
        </p:nvSpPr>
        <p:spPr>
          <a:xfrm>
            <a:off x="2746440" y="373392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顺便、趁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486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赠以丰厚的礼物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480060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以回报他的好意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685800"/>
            <a:ext cx="81532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武与副中郎将张胜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假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常惠等募士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斥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百余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既至匈奴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置币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(wèi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单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单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益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非汉所望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838080"/>
            <a:ext cx="27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临时充任使臣属吏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838080"/>
            <a:ext cx="14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侦察兵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"/>
          <p:cNvSpPr/>
          <p:nvPr/>
        </p:nvSpPr>
        <p:spPr>
          <a:xfrm>
            <a:off x="2098800" y="2146320"/>
            <a:ext cx="33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备办了一些财物给单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28600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更加倨傲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3429000"/>
            <a:ext cx="21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不是汉朝所期望的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609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一同前往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990720" y="144792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部分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段：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然段 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虞常谋反   牵连苏武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80880"/>
            <a:ext cx="824868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方欲发使送武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会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缑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(gōu)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与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(cháng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水虞常等谋反匈奴中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缑王者，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(hún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(yé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）王姊子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与昆邪王俱降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后随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浞野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胡中，及卫律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将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降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阴相与谋劫单于母阏氏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(yānzhī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归汉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52280"/>
            <a:ext cx="44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汉正要打发派送苏武等人以及以前扣留的匈奴使者等的时候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144792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恰逢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533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匈奴的一个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6002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缑王是昆邪王姐姐的儿子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与昆邪王一起降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743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汉将赵破奴的封号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38098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陷没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率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投降匈奴的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029200"/>
            <a:ext cx="43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暗地里一起密谋劫持单于的母亲阏氏归附汉朝。阴：暗地里。相与：相互，一起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09480"/>
            <a:ext cx="731520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会武等至匈奴，虞常在汉时素与副张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相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私候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曰：“闻汉天子甚怨卫律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常能为汉伏弩射杀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吾母与弟在汉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幸蒙其赏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”张胜许之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以货物与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762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相熟识，有交情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"/>
          <p:cNvSpPr/>
          <p:nvPr/>
        </p:nvSpPr>
        <p:spPr>
          <a:xfrm>
            <a:off x="442800" y="1963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私自拜访张胜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4197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希望得到皇帝的赏识。幸：希望。蒙：蒙受、得到。其，指汉天子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"/>
          <p:cNvSpPr/>
          <p:nvPr/>
        </p:nvSpPr>
        <p:spPr>
          <a:xfrm>
            <a:off x="2048040" y="4425840"/>
            <a:ext cx="26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把财物给虞常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能为汉廷埋伏弓手将他射死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533520"/>
            <a:ext cx="79250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后月余，单于出猎，独阏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(yānzhī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子弟在。虞常等七十余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欲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其一人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告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单于子弟发兵与战。缑王等皆死，虞常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生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 　　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2057400"/>
            <a:ext cx="19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准备动手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"/>
          <p:cNvSpPr/>
          <p:nvPr/>
        </p:nvSpPr>
        <p:spPr>
          <a:xfrm>
            <a:off x="5402160" y="2041560"/>
            <a:ext cx="130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逃走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20040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告发这件事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4567320"/>
            <a:ext cx="13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被活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52280"/>
            <a:ext cx="80136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单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卫律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其事。张胜闻之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恐前语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</a:rPr>
              <a:t>(yǔ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以状语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(yù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武曰：“事如此，此必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我。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见犯乃死，重负国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”欲自杀，胜、惠共止之。虞常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胜。单于怒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召诸贵人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欲杀汉使者。左伊秩訾曰：“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即谋单于，何以复加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宜皆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之。”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808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派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0492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审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304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揭露、暴露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219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担心（他和虞常）以前（私下所说的）那些话泄露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"/>
          <p:cNvSpPr/>
          <p:nvPr/>
        </p:nvSpPr>
        <p:spPr>
          <a:xfrm>
            <a:off x="442800" y="242100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便把事情经过告诉了苏武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4382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牵涉到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"/>
          <p:cNvSpPr/>
          <p:nvPr/>
        </p:nvSpPr>
        <p:spPr>
          <a:xfrm>
            <a:off x="272880" y="3533760"/>
            <a:ext cx="53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等到被（匈奴）侮辱后才死，更加对不起国家。见犯，受到侵犯、侮辱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80060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招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"/>
          <p:cNvSpPr/>
          <p:nvPr/>
        </p:nvSpPr>
        <p:spPr>
          <a:xfrm>
            <a:off x="3622680" y="4724280"/>
            <a:ext cx="27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召集贵族们商议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"/>
          <p:cNvSpPr/>
          <p:nvPr/>
        </p:nvSpPr>
        <p:spPr>
          <a:xfrm>
            <a:off x="2013120" y="5837400"/>
            <a:ext cx="46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假使杀死单于，又该用什么更重的处罚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4952880"/>
            <a:ext cx="20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使……投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2362320" y="1828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部分第二段：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124080" y="2895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卫律逼降 苏武不屈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1" name="Picture 8" descr="苏武6"/>
          <p:cNvPicPr/>
          <p:nvPr/>
        </p:nvPicPr>
        <p:blipFill>
          <a:blip r:embed="rId2"/>
          <a:stretch/>
        </p:blipFill>
        <p:spPr>
          <a:xfrm>
            <a:off x="640080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457200"/>
            <a:ext cx="754380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　　单于使卫律召武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受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武谓惠等：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屈节辱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虽生，何面目以归汉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引佩刀自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卫律惊，自抱持武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召医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"/>
          <p:cNvSpPr/>
          <p:nvPr/>
        </p:nvSpPr>
        <p:spPr>
          <a:xfrm>
            <a:off x="3687840" y="681120"/>
            <a:ext cx="17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受审讯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373392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使劲赶马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"/>
          <p:cNvSpPr/>
          <p:nvPr/>
        </p:nvSpPr>
        <p:spPr>
          <a:xfrm>
            <a:off x="6554880" y="38088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丧失气节又辜负了使命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1981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即使活着，还有什么脸面回到汉朝去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1905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说着拔出佩带的刀自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"/>
          <p:cNvSpPr/>
          <p:nvPr/>
        </p:nvSpPr>
        <p:spPr>
          <a:xfrm>
            <a:off x="3465360" y="4764240"/>
            <a:ext cx="30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（派人）骑马去召医生来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85800"/>
            <a:ext cx="74455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凿地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置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煴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覆武其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其背以出血。武气绝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半日复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惠等哭，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归营。单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壮其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朝夕遣人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候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武，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收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张胜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10666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坑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990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无焰的火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2133720"/>
            <a:ext cx="52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覆武于其上的省略，使苏武背朝上卧在燃火的坑上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106668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踩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"/>
          <p:cNvSpPr/>
          <p:nvPr/>
        </p:nvSpPr>
        <p:spPr>
          <a:xfrm>
            <a:off x="2013120" y="3730680"/>
            <a:ext cx="22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过了好半天才重新呼吸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"/>
          <p:cNvSpPr/>
          <p:nvPr/>
        </p:nvSpPr>
        <p:spPr>
          <a:xfrm>
            <a:off x="5127480" y="37558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抬，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"/>
          <p:cNvSpPr/>
          <p:nvPr/>
        </p:nvSpPr>
        <p:spPr>
          <a:xfrm>
            <a:off x="587520" y="5235480"/>
            <a:ext cx="246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钦佩苏武的气节，壮：形容词意动用法，认为……壮烈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问候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"/>
          <p:cNvSpPr/>
          <p:nvPr/>
        </p:nvSpPr>
        <p:spPr>
          <a:xfrm>
            <a:off x="4905360" y="52531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逮捕监禁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苏武3"/>
          <p:cNvPicPr/>
          <p:nvPr/>
        </p:nvPicPr>
        <p:blipFill>
          <a:blip r:embed="rId2"/>
          <a:stretch/>
        </p:blipFill>
        <p:spPr>
          <a:xfrm rot="322200">
            <a:off x="3429000" y="380880"/>
            <a:ext cx="2743200" cy="335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苏武"/>
          <p:cNvPicPr/>
          <p:nvPr/>
        </p:nvPicPr>
        <p:blipFill>
          <a:blip r:embed="rId3"/>
          <a:stretch/>
        </p:blipFill>
        <p:spPr>
          <a:xfrm rot="21024000">
            <a:off x="378000" y="203040"/>
            <a:ext cx="2819160" cy="327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苏武2"/>
          <p:cNvPicPr/>
          <p:nvPr/>
        </p:nvPicPr>
        <p:blipFill>
          <a:blip r:embed="rId4"/>
          <a:srcRect l="0" t="7144" r="0" b="7144"/>
          <a:stretch/>
        </p:blipFill>
        <p:spPr>
          <a:xfrm rot="498000">
            <a:off x="533520" y="2742840"/>
            <a:ext cx="3074760" cy="388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苏武4"/>
          <p:cNvPicPr/>
          <p:nvPr/>
        </p:nvPicPr>
        <p:blipFill>
          <a:blip r:embed="rId5"/>
          <a:stretch/>
        </p:blipFill>
        <p:spPr>
          <a:xfrm rot="21115200">
            <a:off x="3733920" y="3581280"/>
            <a:ext cx="246852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248520" y="1599840"/>
            <a:ext cx="259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千多年来，苏武崇高的气节，成为中国伦理人格的榜样，成为一种民族文化的心理要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380880" y="1981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部分第三段：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809880" y="31240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流放北海  持节牧羊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457200"/>
            <a:ext cx="8139240" cy="29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　　武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益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单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使使晓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会论虞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欲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此时降武。剑斩虞常已，律曰：“汉使张胜谋杀单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近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当死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单于募降者赦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”举剑欲击之，胜请降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838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渐渐痊愈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5335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派使者通知苏武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457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会同判定虞常的罪。会：会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趁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亲近之臣，这里是卫律自指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"/>
          <p:cNvSpPr/>
          <p:nvPr/>
        </p:nvSpPr>
        <p:spPr>
          <a:xfrm>
            <a:off x="2197080" y="472284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单于招募投降的人就赦免他们的罪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28600"/>
            <a:ext cx="813924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律谓武曰：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副有罪，当相坐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”武曰：“本无谋，又非亲属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何谓相坐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复举剑拟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武不动。律曰：“苏君，律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汉归匈奴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幸蒙大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赐号称王，拥众数万，马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弥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富贵如此。苏君今日降，明日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复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空以身膏草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谁复知之！”武不应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76320"/>
            <a:ext cx="33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副使有罪，有关的人应该连同治罪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447920"/>
            <a:ext cx="32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说什么连坐（治罪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举起剑来做要砍的样子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"/>
          <p:cNvSpPr/>
          <p:nvPr/>
        </p:nvSpPr>
        <p:spPr>
          <a:xfrm>
            <a:off x="3191040" y="26701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背弃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2590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幸而受到单于的大恩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3733920"/>
            <a:ext cx="11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满山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4952880"/>
            <a:ext cx="18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也会这样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4952880"/>
            <a:ext cx="63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白白地把身体给野草做肥料。膏：使……肥沃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601992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谁又知道你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380880"/>
            <a:ext cx="8139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律曰：“君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我降，与君为兄弟，今不听吾计，后虽欲复见我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尚可得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？”武骂律曰：“汝为人臣子，不顾恩义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畔主背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降虏于蛮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何以汝为见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7621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经由，通过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3429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背叛主上，离弃双亲。畔：通“叛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3809880"/>
            <a:ext cx="7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2286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还能得到机会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95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在异族那里投降做奴隶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8927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我要见你干什么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75248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你通过我的关系投降，（我）与你结为兄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304920"/>
            <a:ext cx="78134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且单于信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使决人死生，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不平心持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反欲斗两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观祸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知我不降明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欲令两国相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匈奴之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从我始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”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609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你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049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（而你却）居心叵测不主持公道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523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反而想要使汉皇帝和匈奴单于二主相斗。斗：使……相斗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"/>
          <p:cNvSpPr/>
          <p:nvPr/>
        </p:nvSpPr>
        <p:spPr>
          <a:xfrm>
            <a:off x="1359000" y="2971800"/>
            <a:ext cx="19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幸灾乐祸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2895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你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"/>
          <p:cNvSpPr/>
          <p:nvPr/>
        </p:nvSpPr>
        <p:spPr>
          <a:xfrm>
            <a:off x="5259240" y="2984400"/>
            <a:ext cx="33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想要使汉和匈奴互相攻打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41911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匈奴（灭亡）的灾祸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4191120"/>
            <a:ext cx="23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（将）从（杀死）我开始了！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228600"/>
            <a:ext cx="831240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　　律知武终不可胁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单于。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单于愈益欲降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乃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武置大窖中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绝不饮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天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雨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武卧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雪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毛并咽之，数日不死。匈奴以为神，乃徙武北海上无人处，使牧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</a:rPr>
              <a:t>(dī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羝乳乃得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官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常惠等，各置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他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0492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下对上报告，陈述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"/>
          <p:cNvSpPr/>
          <p:nvPr/>
        </p:nvSpPr>
        <p:spPr>
          <a:xfrm>
            <a:off x="701640" y="160956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禁闭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1600200"/>
            <a:ext cx="29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不给他吃的、喝的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2666880"/>
            <a:ext cx="23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下雪，雨：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"/>
          <p:cNvSpPr/>
          <p:nvPr/>
        </p:nvSpPr>
        <p:spPr>
          <a:xfrm>
            <a:off x="7077240" y="17146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咬、嚼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81952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同“毡”毛织的毡毯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411480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公羊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809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公羊生了小羊才能回，乳：生子。乃：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1562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分别、隔离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"/>
          <p:cNvSpPr/>
          <p:nvPr/>
        </p:nvSpPr>
        <p:spPr>
          <a:xfrm>
            <a:off x="7743960" y="5222880"/>
            <a:ext cx="11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所属官吏、部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533412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别的处所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"/>
          <p:cNvSpPr/>
          <p:nvPr/>
        </p:nvSpPr>
        <p:spPr>
          <a:xfrm>
            <a:off x="5259240" y="1374840"/>
            <a:ext cx="34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单于越发想要他投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228600"/>
            <a:ext cx="83124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　武既至海上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廪食不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掘野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去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草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而食之。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杖汉节牧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卧起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操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节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(máo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尽落。积五、六年，单于弟於靬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弋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海上。武能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网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纺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檠弓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於靬王爱之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其衣食。三岁余，王病，赐武马畜、服匿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穹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王死后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人众徙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其冬，丁令盗武牛羊，武复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穷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"/>
          <p:cNvSpPr/>
          <p:nvPr/>
        </p:nvSpPr>
        <p:spPr>
          <a:xfrm>
            <a:off x="214308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公家发给的粮食不来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"/>
          <p:cNvSpPr/>
          <p:nvPr/>
        </p:nvSpPr>
        <p:spPr>
          <a:xfrm>
            <a:off x="5648400" y="380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同“弆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jǔ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）”，收藏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1295280"/>
            <a:ext cx="21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野生果实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"/>
          <p:cNvSpPr/>
          <p:nvPr/>
        </p:nvSpPr>
        <p:spPr>
          <a:xfrm>
            <a:off x="463680" y="132084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执、拄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137160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拿着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"/>
          <p:cNvSpPr/>
          <p:nvPr/>
        </p:nvSpPr>
        <p:spPr>
          <a:xfrm>
            <a:off x="2905200" y="2438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用绳系在箭上而射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"/>
          <p:cNvSpPr/>
          <p:nvPr/>
        </p:nvSpPr>
        <p:spPr>
          <a:xfrm>
            <a:off x="5952960" y="243828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名作动，结网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342900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纺制系在箭尾的丝绳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57200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矫正弓和弩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"/>
          <p:cNvSpPr/>
          <p:nvPr/>
        </p:nvSpPr>
        <p:spPr>
          <a:xfrm>
            <a:off x="3343320" y="3571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供给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"/>
          <p:cNvSpPr/>
          <p:nvPr/>
        </p:nvSpPr>
        <p:spPr>
          <a:xfrm>
            <a:off x="3489480" y="56260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陷入困境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36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拄着汉朝的旄节牧羊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4572000"/>
            <a:ext cx="22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圆顶的毡帐篷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他的部下也都迁离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5"/>
          <p:cNvSpPr/>
          <p:nvPr/>
        </p:nvSpPr>
        <p:spPr>
          <a:xfrm>
            <a:off x="838080" y="20574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部分  第四段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352680" y="30481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李陵劝降  完全失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152280"/>
            <a:ext cx="8180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　　初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武与李陵俱为侍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武使匈奴明年，陵降，不敢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武。久之，单于使陵至海上，为武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置酒设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谓武曰：“单于闻陵与子卿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素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故使陵来说足下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虚心欲相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终不得归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空自苦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亡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人之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信义安所见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304920"/>
            <a:ext cx="47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苏武与李陵都做皇帝的侍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"/>
          <p:cNvSpPr/>
          <p:nvPr/>
        </p:nvSpPr>
        <p:spPr>
          <a:xfrm>
            <a:off x="1673280" y="1662120"/>
            <a:ext cx="10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访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13716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备办酒宴，安排歌舞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281952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一向关系很好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"/>
          <p:cNvSpPr/>
          <p:nvPr/>
        </p:nvSpPr>
        <p:spPr>
          <a:xfrm>
            <a:off x="1843200" y="41752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单于准备以礼相待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42670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无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181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（您对汉朝）的信义表现在哪里呢？（即有谁知道您的信义）。安：何。见：同“现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28954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趁机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3962520"/>
            <a:ext cx="192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你终究不能回归汉朝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5257800"/>
            <a:ext cx="235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白白地在荒无人烟的地方受苦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304920"/>
            <a:ext cx="83818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长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奉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从至雍棫阳宫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扶辇下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触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折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劾大不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伏剑自刎，赐钱二百万以葬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孺卿从祠河东后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宦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黄门驸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争船，推堕驸马河中溺死，宦骑亡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诏使孺卿逐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不得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惶恐饮药而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60948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大哥，指苏武的哥哥苏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8288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皇帝出行时的侍从，掌管皇帝的车马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3049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扶着皇帝的车子下殿阶，除：殿阶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"/>
          <p:cNvSpPr/>
          <p:nvPr/>
        </p:nvSpPr>
        <p:spPr>
          <a:xfrm>
            <a:off x="79246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车辕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27672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被指控为“大不敬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276720"/>
            <a:ext cx="32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您的弟弟苏贤跟随皇帝去祭祀河东后土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876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侍卫皇帝的骑马的宦官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3809880"/>
            <a:ext cx="39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宫中掌管车辆马匹的官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541008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（皇帝）命令苏贤追捕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334120"/>
            <a:ext cx="33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因为害怕而服毒自杀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893246"/>
          <p:cNvPicPr/>
          <p:nvPr/>
        </p:nvPicPr>
        <p:blipFill>
          <a:blip r:embed="rId2"/>
          <a:stretch/>
        </p:blipFill>
        <p:spPr>
          <a:xfrm rot="20973000">
            <a:off x="533160" y="1676160"/>
            <a:ext cx="2722320" cy="419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292929">
                <a:alpha val="50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38052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汉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前汉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52680" y="1523520"/>
            <a:ext cx="55692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作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撰写，班固去世后，由其妹班昭和同乡马续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性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第一部纪传体断代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古代传记文学名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了汉高祖元年（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至王莽新地皇四年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历史，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分为十二帝纪、八表、十志、七十列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11280" y="533520"/>
            <a:ext cx="80755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来时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太夫人已不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陵送葬至阳陵。子卿妇年少，闻已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更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矣。独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女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二人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两女一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今复十余年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存亡不可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"/>
          <p:cNvSpPr/>
          <p:nvPr/>
        </p:nvSpPr>
        <p:spPr>
          <a:xfrm>
            <a:off x="1515960" y="720720"/>
            <a:ext cx="31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您的母亲已去世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36232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改嫁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2362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妹妹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286000"/>
            <a:ext cx="33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指苏武的三个孩子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"/>
          <p:cNvSpPr/>
          <p:nvPr/>
        </p:nvSpPr>
        <p:spPr>
          <a:xfrm>
            <a:off x="561960" y="5078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如今又过了十多年，生死不知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0"/>
            <a:ext cx="83822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人生如朝露，何久自苦如此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陵始降时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忽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如狂，自痛负汉，加以老母系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保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子卿不欲降，何以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过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？且陛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春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法令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亡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大臣亡罪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夷灭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者数十家，安危不可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子卿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尚复谁为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？愿听陵计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勿复有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295280"/>
            <a:ext cx="58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人生像早晨的露水，（一下子就消失了），何必久久地这样折磨自己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31428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恍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"/>
          <p:cNvSpPr/>
          <p:nvPr/>
        </p:nvSpPr>
        <p:spPr>
          <a:xfrm>
            <a:off x="3243240" y="26449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关押在保宫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2514600"/>
            <a:ext cx="10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超过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30481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年纪老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31240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没有定规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消灭，指全家杀尽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548640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还又为谁（守节）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5638680"/>
            <a:ext cx="37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不要再有什么话说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1523880"/>
            <a:ext cx="35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你不想投降的心情，怎么能超过当时的我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4038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大臣无罪而全家被杀的有几十家，安危不可预料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880" y="0"/>
            <a:ext cx="83822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武曰：“武父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亡功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皆为陛下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成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列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爵通侯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兄弟亲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常愿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肝脑涂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今得杀身自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虽蒙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斧钺汤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诚甘乐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臣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君，犹子事父也。子为父死，无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愿勿复再言。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457200"/>
            <a:ext cx="20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无功无德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3808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栽培、提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150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一般将军的总称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1600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兄弟三人都是皇上的亲近之臣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"/>
          <p:cNvSpPr/>
          <p:nvPr/>
        </p:nvSpPr>
        <p:spPr>
          <a:xfrm>
            <a:off x="3911760" y="297180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本是形容死亡惨状，这里指以身许国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3048120"/>
            <a:ext cx="9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献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3429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泛指刑戮。意为被杀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"/>
          <p:cNvSpPr/>
          <p:nvPr/>
        </p:nvSpPr>
        <p:spPr>
          <a:xfrm>
            <a:off x="2681280" y="4594320"/>
            <a:ext cx="26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的确甘心乐意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502920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遗憾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"/>
          <p:cNvSpPr/>
          <p:nvPr/>
        </p:nvSpPr>
        <p:spPr>
          <a:xfrm>
            <a:off x="4917960" y="4581360"/>
            <a:ext cx="12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效忠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1440"/>
            <a:ext cx="78487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陵与武饮数日，复曰：“子卿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壹听陵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”武曰：“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已死久矣！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必欲降武，请毕今日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效死于前！”陵见其至诚，喟然叹曰：“嗟乎，义士！陵与卫律之罪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上通于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”因泣下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霑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与武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决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"/>
          <p:cNvSpPr/>
          <p:nvPr/>
        </p:nvSpPr>
        <p:spPr>
          <a:xfrm>
            <a:off x="4957920" y="222120"/>
            <a:ext cx="25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听一听我的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523880"/>
            <a:ext cx="23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料想、断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1523880"/>
            <a:ext cx="13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指李陵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你一定要逼迫我投降，（那么就）请结束今天的欢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"/>
          <p:cNvSpPr/>
          <p:nvPr/>
        </p:nvSpPr>
        <p:spPr>
          <a:xfrm>
            <a:off x="6986520" y="15048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通“欢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8862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罪行严重，无以复加。通：达。上：名作状，向上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53006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沾湿了衣襟。霑：通“沾”，衿：通“襟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告别而去。决：通“诀”，辞别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609480" y="1752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部分 第六段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886200" y="2743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苏武归汉  名垂青史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7" name="Picture 8" descr="竹简"/>
          <p:cNvPicPr/>
          <p:nvPr/>
        </p:nvPicPr>
        <p:blipFill>
          <a:blip r:embed="rId2"/>
          <a:srcRect l="27000" t="15841" r="32815" b="27583"/>
          <a:stretch/>
        </p:blipFill>
        <p:spPr>
          <a:xfrm rot="1173000">
            <a:off x="5943240" y="4038120"/>
            <a:ext cx="2590920" cy="2303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苏武墓"/>
          <p:cNvPicPr/>
          <p:nvPr/>
        </p:nvPicPr>
        <p:blipFill>
          <a:blip r:embed="rId3"/>
          <a:srcRect l="39428" t="17134" r="24073" b="14296"/>
          <a:stretch/>
        </p:blipFill>
        <p:spPr>
          <a:xfrm>
            <a:off x="609480" y="2971800"/>
            <a:ext cx="2595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9480" y="76320"/>
            <a:ext cx="79441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昭帝即位数年，匈奴与汉和亲。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汉求武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匈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诡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武死。后汉使复至匈奴，常惠请其守者与俱，得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见汉使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陈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教使者谓单于，言天子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上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中，得雁，足有系帛书，言武等在荒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中。使者大喜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惠语以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单于。单于视左右而惊，谢汉使曰：“武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实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"/>
          <p:cNvSpPr/>
          <p:nvPr/>
        </p:nvSpPr>
        <p:spPr>
          <a:xfrm>
            <a:off x="1019160" y="1295280"/>
            <a:ext cx="16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欺骗说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"/>
          <p:cNvSpPr/>
          <p:nvPr/>
        </p:nvSpPr>
        <p:spPr>
          <a:xfrm>
            <a:off x="2876400" y="229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完全，详尽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"/>
          <p:cNvSpPr/>
          <p:nvPr/>
        </p:nvSpPr>
        <p:spPr>
          <a:xfrm>
            <a:off x="3794040" y="344160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陈述说明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"/>
          <p:cNvSpPr/>
          <p:nvPr/>
        </p:nvSpPr>
        <p:spPr>
          <a:xfrm>
            <a:off x="455760" y="4567320"/>
            <a:ext cx="12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北海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"/>
          <p:cNvSpPr/>
          <p:nvPr/>
        </p:nvSpPr>
        <p:spPr>
          <a:xfrm>
            <a:off x="3335400" y="47116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依照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464832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责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63868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确实还活着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28600"/>
            <a:ext cx="30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汉朝寻求苏武等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2438280"/>
            <a:ext cx="24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名作状，在夜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35053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上林苑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62120" y="304920"/>
            <a:ext cx="8001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单于召会武官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前以降及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物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凡随武还者九人。 　　武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以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始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六年春至京师。武留匈奴凡十九岁，始以强壮出，及还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须发尽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83808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死亡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228600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在……的时候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3" name=""/>
          <p:cNvSpPr/>
          <p:nvPr/>
        </p:nvSpPr>
        <p:spPr>
          <a:xfrm>
            <a:off x="2798640" y="348156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汉昭帝的年号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5181480"/>
            <a:ext cx="31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胡须头发全白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685800"/>
            <a:ext cx="39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单于召集苏武的部下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"/>
          <p:cNvSpPr/>
          <p:nvPr/>
        </p:nvSpPr>
        <p:spPr>
          <a:xfrm>
            <a:off x="3203640" y="1832040"/>
            <a:ext cx="47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</a:rPr>
              <a:t>除了以前已经投降和死亡的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76720" y="5335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主旨</a:t>
            </a:r>
            <a:endParaRPr b="1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2133720"/>
            <a:ext cx="75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</a:rPr>
              <a:t>《苏武传》集中叙述了苏武出使匈奴，面对威逼利诱坚守节操，历经千辛万苦而不辱使命的事迹，表现了苏武崇高的民族气节和爱国精神，赞扬了他忠贞不渝、大义凛然、视死如归的气节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044720" y="6285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苏武：“富贵不能淫，贫贱不能移，威武不能屈”的高尚品质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828800"/>
            <a:ext cx="7848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苏武处处维护汉朝的尊严和利益，不忘使臣之命，既表现了与匈奴的修好之愿，而又不为所屈，奋力抗争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面对卫律等的威胁和李陵等人的劝降，他都从容处之，坚定不移地坚持自己的信念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苏武临危不惧，视死如归，处事得体，不失汉朝使节的身份，正气凛然，维护了尊严，感人至深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66358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艺术手法及人物形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汉书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与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史记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之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汉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133720"/>
            <a:ext cx="2133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裁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跨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例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828800" y="2209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第一部纪传体断代史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2209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第一部纪传体通史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05740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左右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年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905120" y="4572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、表、志、传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257800" y="4495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纪、列传、世家、书、表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914400" y="56386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两书合称为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343400" y="56386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史汉”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152280" y="2057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152280" y="32767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228600" y="54100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1752480" y="1600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5105520" y="1523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152280" y="4267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38080" y="914400"/>
            <a:ext cx="76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以典型的环境和细节描写表现人物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2057400"/>
            <a:ext cx="79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运用对话的方式表现人物性格特点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3429000"/>
            <a:ext cx="80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为了突出表现苏武的气节，文中着重写了三个叛徒（张胜、卫律和李陵），与苏武形成鲜明的对比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152280" y="228600"/>
            <a:ext cx="201312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比映衬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张胜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苏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卫律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苏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李陵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黑体"/>
                <a:ea typeface="黑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苏武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600200" y="838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糊涂地帮助了缑王的谋反，事情败露后又经受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住考验，叛变投降。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523880" y="160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清醒地认识到使节行为不当会引起两国纷争，欲以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死息祸；面对匈奴的劝降始终保持着可贵的民族气节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152388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以国家的利益为先，忠贞不渝，坚韧不拔，无怨无悔。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52388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为国效命，忠贞不二，不卑不亢 一身正气，光明磊落。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Line 11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52388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卖国求荣，阴险狡诈，气焰嚣张，不可一世。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1523880" y="4876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为一己之私而叛国，懦弱，意志不坚，矛盾，痛苦。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5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6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8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6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7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8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8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1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248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重点、难点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言字词、句式小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、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背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背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毛并咽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毛织的毡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掘野鼠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草实而食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收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自苦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之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毕今日之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驩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欢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泣下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打湿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衣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武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诀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2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7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古今异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743200" y="94428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古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今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152280" y="2392200"/>
            <a:ext cx="883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3352680" y="1935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官职，侍从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6019920" y="2011320"/>
            <a:ext cx="2684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对某种人的称呼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152280" y="1630440"/>
            <a:ext cx="28195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兄弟并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郎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副中郎将张胜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吏常惠等置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遗单于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因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单于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因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下霑衿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皆为陛下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成就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明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陵降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3791160" y="269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临时担任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5943600" y="2773440"/>
            <a:ext cx="304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相对，虚假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3352680" y="3306600"/>
            <a:ext cx="19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财物，礼品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7002000" y="3306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货币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3505320" y="391644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赠送财物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7002000" y="3992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贿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886200" y="460224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眼泪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7002000" y="4602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哭泣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3710160" y="52880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栽培，提拔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6514200" y="5288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事业上取得的成就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3628800" y="5897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</a:rPr>
              <a:t>明年，第二年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7063200" y="5897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今年的后一年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Line 35"/>
          <p:cNvSpPr/>
          <p:nvPr/>
        </p:nvSpPr>
        <p:spPr>
          <a:xfrm>
            <a:off x="2971800" y="1630440"/>
            <a:ext cx="0" cy="522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Line 36"/>
          <p:cNvSpPr/>
          <p:nvPr/>
        </p:nvSpPr>
        <p:spPr>
          <a:xfrm>
            <a:off x="5715000" y="1630440"/>
            <a:ext cx="0" cy="522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Line 37"/>
          <p:cNvSpPr/>
          <p:nvPr/>
        </p:nvSpPr>
        <p:spPr>
          <a:xfrm>
            <a:off x="152280" y="58975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Line 38"/>
          <p:cNvSpPr/>
          <p:nvPr/>
        </p:nvSpPr>
        <p:spPr>
          <a:xfrm>
            <a:off x="152280" y="33066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Line 39"/>
          <p:cNvSpPr/>
          <p:nvPr/>
        </p:nvSpPr>
        <p:spPr>
          <a:xfrm>
            <a:off x="152280" y="391644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Line 40"/>
          <p:cNvSpPr/>
          <p:nvPr/>
        </p:nvSpPr>
        <p:spPr>
          <a:xfrm>
            <a:off x="152280" y="460224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Line 41"/>
          <p:cNvSpPr/>
          <p:nvPr/>
        </p:nvSpPr>
        <p:spPr>
          <a:xfrm>
            <a:off x="152280" y="52117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Line 42"/>
          <p:cNvSpPr/>
          <p:nvPr/>
        </p:nvSpPr>
        <p:spPr>
          <a:xfrm>
            <a:off x="152280" y="26208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Line 43"/>
          <p:cNvSpPr/>
          <p:nvPr/>
        </p:nvSpPr>
        <p:spPr>
          <a:xfrm>
            <a:off x="152280" y="163044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四、词类活用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使动用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因此时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降，使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投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以身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野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膏，使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肥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欲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主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斗，使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争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久自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苦，使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受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蹈其背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出，使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胜、惠共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止，使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止，阻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动用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于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壮，认为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壮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816120" y="304560"/>
            <a:ext cx="699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名词活用为动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雨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雨、雪，下雨，下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得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乳，生育，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能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纺缴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网，结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弓弩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檠，矫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节牧羊　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杖，柱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孺卿从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东后土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祠，祭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惠等哭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营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舆，抬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侯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封爵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泣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霑衿，与武决去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59280" y="304560"/>
            <a:ext cx="493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名词作状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54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一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夜，在夜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陵与卫律之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上，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朝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遣人侯问武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朝夕，早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-816120" y="3276720"/>
            <a:ext cx="607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形容词作名词：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304920" y="4038480"/>
            <a:ext cx="854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兄弟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亲近　    亲近，亲近之臣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五、文言文特殊句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4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省略句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缑王与长水虞常等谋反（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匈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幽武置（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之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大窖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匈奴以（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推堕驸马（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河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380880" y="33526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判断句：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汉天子我丈人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缑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昆邪王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非汉所望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52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被动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54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犯乃死，重负国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见，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皆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陛下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所，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臣亡罪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夷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数十家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夷灭，被消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胜闻之，恐前语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发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被揭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28600" y="312408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定语后置句：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52280" y="3733920"/>
            <a:ext cx="854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送匈奴使留在汉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者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送（留在汉）匈奴使者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大臣亡罪夷灭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数十家　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（亡罪夷灭者）大臣数十家者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3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8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3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史书形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编年体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年月日有次序地记载史事的史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的编年体史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丘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治通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马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别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国家为编排顺序记载史事的史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国别体史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国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向编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宾语前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何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汝为见？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何见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卿尚复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谁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乎？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卿尚复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何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加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何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陵？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陵？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04920" y="3276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介词结构后置：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3886200"/>
            <a:ext cx="869328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为降虏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于蛮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于蛮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为降虏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05920" cy="54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纪传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为人物立传记的方式记叙史实的史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马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纪传体通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汉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纪传体断代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后汉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纪传体断代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纪   世家  列传  表  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纪传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纪   列传        表  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 flipV="1">
            <a:off x="5181480" y="51814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3" name="AutoShape 5"/>
          <p:cNvSpPr/>
          <p:nvPr/>
        </p:nvSpPr>
        <p:spPr>
          <a:xfrm rot="20390400">
            <a:off x="4724280" y="1752120"/>
            <a:ext cx="228600" cy="2210040"/>
          </a:xfrm>
          <a:prstGeom prst="upArrow">
            <a:avLst>
              <a:gd name="adj1" fmla="val 50000"/>
              <a:gd name="adj2" fmla="val 24169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228600" y="1981080"/>
            <a:ext cx="8540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：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然段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出使匈奴  以求通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52280"/>
            <a:ext cx="815328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武，字子卿。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以父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兄弟并为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稍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栘中厩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</a:rPr>
              <a:t>jiù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时汉连伐胡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通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相窥观。匈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汉使郭吉、路充国等，前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十余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匈奴使来，汉亦留之以相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76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因为父亲职任的关系而被任用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76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兄弟三人都作了皇帝的侍从官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1295280"/>
            <a:ext cx="17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渐渐升任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371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宫中有栘园，园中有马厩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管事的官员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"/>
          <p:cNvSpPr/>
          <p:nvPr/>
        </p:nvSpPr>
        <p:spPr>
          <a:xfrm>
            <a:off x="5022720" y="257796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互派使者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396252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十余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抵押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扣留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"/>
          <p:cNvSpPr/>
          <p:nvPr/>
        </p:nvSpPr>
        <p:spPr>
          <a:xfrm>
            <a:off x="4695840" y="16225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屡次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1:31:54Z</dcterms:created>
  <dc:creator/>
  <dc:description/>
  <dc:language>en-US</dc:language>
  <cp:lastModifiedBy>微软用户</cp:lastModifiedBy>
  <dcterms:modified xsi:type="dcterms:W3CDTF">2015-03-04T04:26:20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  <property fmtid="{D5CDD505-2E9C-101B-9397-08002B2CF9AE}" pid="3" name="Version">
    <vt:r8>1</vt:r8>
  </property>
</Properties>
</file>