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3B14-8326-4628-B383-F4E0A841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042-070E-4781-8123-B9CCF80E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BEE-133C-4CC8-B16A-6238B9E4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224-18E0-4AE3-A4C5-E0F7EC5B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411-EE69-4DFB-80B2-49C7F575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5E4-38E1-415A-A8C8-EAD2898E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04B-8435-4ED1-9329-1D9CB63A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883-775D-4E92-AF3A-3C2F2182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777-72CA-42FB-9EB2-6F7D32AB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2C2B-82C3-41C9-955E-231FD092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B98-C243-4C45-AAE7-FC2D4057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AE2-5EDA-4613-9460-4BB07D1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E593-124B-4C46-A9BF-8EDD1FF124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09880" y="148428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0000"/>
                </a:solidFill>
                <a:latin typeface="Arial"/>
                <a:ea typeface="楷体_GB2312"/>
              </a:rPr>
              <a:t>三   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51640" y="43657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Arial"/>
                <a:ea typeface="楷体_GB2312"/>
              </a:rPr>
              <a:t>长治市十五中   李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58920" y="333360"/>
            <a:ext cx="102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270828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水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14840" y="4762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连绵不断，遮天蔽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3141360" y="2060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夏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91840" y="2924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春冬之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91840" y="3860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晴初霜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31840" y="19890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奔放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31840" y="2924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清悠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03480" y="3860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凄婉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79280" y="489600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表达了作者对三峡的热爱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赞美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4724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78080" y="4829040"/>
            <a:ext cx="3533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两岸连山，略无阙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重岩叠嶂，隐天蔽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自非亭午夜分不见曦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8388360" y="6291360"/>
            <a:ext cx="755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80000" y="33480"/>
            <a:ext cx="5364000" cy="6824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-63000" y="0"/>
            <a:ext cx="377604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_GB2312"/>
              </a:rPr>
              <a:t>夏水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襄陵，沿溯阻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或王命急宣，有时朝发白帝，暮到江陵，其间千二百里，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虽乘奔御风，不亦疾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532720" y="6399360"/>
            <a:ext cx="61128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6920" y="287280"/>
            <a:ext cx="4446360" cy="65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_GB2312"/>
              </a:rPr>
              <a:t>春冬之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则素湍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潭，回清倒影，绝巘多生怪柏，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悬泉瀑布，飞漱其间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清荣峻茂，良多趣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207280" y="6154560"/>
            <a:ext cx="93672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076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03640" cy="4076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55440" y="4221000"/>
            <a:ext cx="5697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33"/>
                </a:solidFill>
                <a:latin typeface="Arial"/>
                <a:ea typeface="楷体_GB2312"/>
              </a:rPr>
              <a:t>晴初霜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林寒涧肃，高猿长啸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空谷传响，哀转久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388360" y="6291360"/>
            <a:ext cx="7556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396360" cy="6889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619280" y="1628640"/>
            <a:ext cx="5113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谢谢</a:t>
            </a:r>
            <a:endParaRPr b="0" lang="en-US" sz="9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91880" y="164628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0000"/>
                </a:solidFill>
                <a:latin typeface="Arial"/>
                <a:ea typeface="楷体_GB2312"/>
              </a:rPr>
              <a:t>三   峡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5440" y="432432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楷体_GB2312"/>
              </a:rPr>
              <a:t>郦 道 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43640" cy="6669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4040" y="0"/>
            <a:ext cx="2689200" cy="3860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3933720"/>
            <a:ext cx="2843280" cy="292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5120" y="985680"/>
            <a:ext cx="49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三峡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是瞿塘峡、巫峡和西陵峡的总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郦道元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，北魏地理学家，著有《水经注》，该书是我国古代最全面、最系统的综合性地理著作，文笔绚烂，语言清丽，具有较高的文学价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47640" y="549360"/>
            <a:ext cx="590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文学常识小测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700280"/>
            <a:ext cx="8926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三峡是（瞿塘峡 ）、（ 巫峡 ）和（ 西陵峡 ）的总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郦道元，北魏（地理）学家，著有（《水经注》），该书是我国古代最全面、最系统的综合性地理著作，文笔绚烂，语言清丽，具有较高的文学价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79640" y="47628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学习目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205000"/>
            <a:ext cx="760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、能正确、流利、有感情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、能正确译讲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、把握作品景物描写的特点，体会作者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8920" y="765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自学指导（一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654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轮读课文，要求读的同学声音响亮，吐字清楚，注意节奏。其余同学仔细听，帮他纠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自己大声地朗读课文，比一比哪位同学读得最正确、最流利、最有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765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自学指导（二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206064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请同学们边小声读课文，边对照课下注释，自己翻译课文，把不会的标注出来，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小组合作讨论不会翻译的词或句子，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译讲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：一人译讲一句，先读一句原文，再解释重点字词，最后连起来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411280" y="189000"/>
            <a:ext cx="460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3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牛刀小试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773360"/>
            <a:ext cx="35463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略无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夏水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王命急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虽乘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御风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清荣峻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素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绿潭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沿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阻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30280" y="184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通“缺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2492280"/>
            <a:ext cx="19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漫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141720"/>
            <a:ext cx="195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有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78936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这里指飞奔的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508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水清，树荣，山高，草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2120" y="51577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白色的急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99800" y="587700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顺流而下 逆流而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258920" y="76500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自学指导（三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227664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作者写了三峡哪些自然景物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作者分别抓住了这些自然景物的什么特点来写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课文表现了作者怎样的思想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5:16:05Z</dcterms:created>
  <dc:creator>未知用户</dc:creator>
  <dc:description/>
  <dc:language>en-US</dc:language>
  <cp:lastModifiedBy>未知用户</cp:lastModifiedBy>
  <dcterms:modified xsi:type="dcterms:W3CDTF">2015-11-08T11:38:46Z</dcterms:modified>
  <cp:revision>13</cp:revision>
  <dc:subject/>
  <dc:title>幻灯片 1</dc:title>
</cp:coreProperties>
</file>