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746-CF58-460E-8DCA-77B89E6B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18D-2D5A-4174-A31A-F307A5F0FA4B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06B-58E6-4504-B061-75AB9EA7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701-BF60-46DC-96B9-C49BFB98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AB9-7CBC-4C12-8565-DAFA3E1B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AD6-4604-49F1-82D3-D00CD23A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5F65-B1AD-4050-8FE7-680CA748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0F4-1246-44CE-82F9-ED1F386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8EB-15C0-42F8-968C-3005C34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6CF2-A5D3-48BF-93A8-DCF5822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43F5-65BB-4996-9698-69D838FF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48A-05E1-48AF-8833-7678C43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F0EF-0D19-4F24-9BFA-B31131A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BF8-E323-4F90-99BD-52AEBFF8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B38-A066-4467-97C1-BA66F29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7BF1-01A6-4F59-A956-B543D48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026-638F-4940-94DC-506B121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22B9-FF4F-4C25-B86B-41C8C956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3BB4-AB44-4386-9F58-7BC600D4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EEA-D182-4097-A428-8456BC88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AD9-0DB0-4FB2-829D-2B5CD7A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25B-A350-4C14-AA89-580C7BA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874-64FC-4D90-8A22-51E69895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DBA-A5B8-4248-B80B-A6E380D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E3A-209A-44C6-A966-347F1F3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B84-88EB-425E-9261-314D865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E60-9D54-4B36-8C7F-CAE25D08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02A-53BB-4B6A-984A-E6AABA5FF82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828800" y="83808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</a:t>
            </a:r>
            <a:r>
              <a:rPr b="1" lang="zh-CN" sz="37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96800" y="1014480"/>
            <a:ext cx="558648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2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元二：姓元，排行第二，作者的朋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使：出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安西：指唐代安西都护府，在今新疆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车附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渭城：秦时咸阳城，汉改渭城，在长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西北，渭水北岸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朝雨：早晨的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浥：湿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客舍：旅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阳关：在今甘肃省敦煌县西南，是古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通西域的要道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2556000" y="0"/>
            <a:ext cx="2808000" cy="117468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731960" y="1014480"/>
            <a:ext cx="31906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使：出使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朝雨：早晨的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浥：湿润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．客舍：旅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更尽：再饮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01960" y="476280"/>
            <a:ext cx="282492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使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朝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2221"/>
                </a:solidFill>
                <a:latin typeface="黑体"/>
                <a:ea typeface="黑体"/>
              </a:rPr>
              <a:t>．浥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221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．客舍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ee220c"/>
                </a:solidFill>
                <a:latin typeface="黑体"/>
                <a:ea typeface="黑体"/>
              </a:rPr>
              <a:t>更尽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配乐抒情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751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Picture 4" descr="1110356042294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61500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99320" y="1844640"/>
            <a:ext cx="6048360" cy="4055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ecf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渭城清晨一场如酥小雨，湿润了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上的尘埃，旅店旁的棵棵绿柳，被雨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冲洗得更加翠色欲滴。朋友，请再喝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这杯醇香的美酒吧，等你西行出了阳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之后，就再也没有一个交情深厚的老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1187280" y="189000"/>
            <a:ext cx="4537080" cy="936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诗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0600" y="2565360"/>
            <a:ext cx="644472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221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送元二使安西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通过写细雨中设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为朋友饯行时劝酒的情景，含蓄地表达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诗人对朋友的恋恋不舍之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1332000" y="404640"/>
            <a:ext cx="4464000" cy="134640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方正姚体"/>
              </a:rPr>
              <a:t>中心思想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6"/>
          <p:cNvSpPr/>
          <p:nvPr/>
        </p:nvSpPr>
        <p:spPr>
          <a:xfrm>
            <a:off x="2057400" y="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</a:t>
            </a:r>
            <a:r>
              <a:rPr b="1" lang="zh-CN" sz="37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学生书写配乐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990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062080" y="0"/>
            <a:ext cx="53294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</a:t>
            </a:r>
            <a:r>
              <a:rPr b="1" lang="zh-CN" sz="37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学生书写配乐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990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7335720" y="6156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渭水河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勋.mp3" descr=""/>
          <p:cNvPicPr/>
          <p:nvPr/>
        </p:nvPicPr>
        <p:blipFill>
          <a:blip r:embed="rId2"/>
          <a:stretch/>
        </p:blipFill>
        <p:spPr>
          <a:xfrm>
            <a:off x="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828800" y="7632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渭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城朝雨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505320" y="2362320"/>
            <a:ext cx="5331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971800" y="3200400"/>
            <a:ext cx="5335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云山浩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大漠茫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798840" y="3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荒凉的戈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407880" y="15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安西故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3048120" cy="350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阳关故址--修正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3505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4006233343523385278"/>
          <p:cNvPicPr/>
          <p:nvPr/>
        </p:nvPicPr>
        <p:blipFill>
          <a:blip r:embed="rId3"/>
          <a:stretch/>
        </p:blipFill>
        <p:spPr>
          <a:xfrm>
            <a:off x="0" y="3505320"/>
            <a:ext cx="3048120" cy="3504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安西古城2"/>
          <p:cNvPicPr/>
          <p:nvPr/>
        </p:nvPicPr>
        <p:blipFill>
          <a:blip r:embed="rId4"/>
          <a:stretch/>
        </p:blipFill>
        <p:spPr>
          <a:xfrm>
            <a:off x="6081840" y="3505320"/>
            <a:ext cx="3062160" cy="335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3"/>
          <p:cNvPicPr/>
          <p:nvPr/>
        </p:nvPicPr>
        <p:blipFill>
          <a:blip r:embed="rId5"/>
          <a:stretch/>
        </p:blipFill>
        <p:spPr>
          <a:xfrm>
            <a:off x="3048120" y="3505320"/>
            <a:ext cx="304776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云山浩渺1"/>
          <p:cNvPicPr/>
          <p:nvPr/>
        </p:nvPicPr>
        <p:blipFill>
          <a:blip r:embed="rId6"/>
          <a:stretch/>
        </p:blipFill>
        <p:spPr>
          <a:xfrm>
            <a:off x="6095880" y="152280"/>
            <a:ext cx="3048120" cy="335304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2362320" y="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浥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7" name="朗诵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4152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2057400" y="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浥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学生书写配乐.mp3" descr=""/>
          <p:cNvPicPr/>
          <p:nvPr/>
        </p:nvPicPr>
        <p:blipFill>
          <a:blip r:embed="rId2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990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拓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09680" y="304920"/>
            <a:ext cx="63248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送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相送罢，日暮掩柴扉。春草明年绿，王孙归不归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山中送别--配乐.mp3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609840" cy="533520"/>
          </a:xfrm>
          <a:prstGeom prst="rect">
            <a:avLst/>
          </a:prstGeom>
          <a:ln w="0">
            <a:noFill/>
          </a:ln>
        </p:spPr>
      </p:pic>
      <p:sp>
        <p:nvSpPr>
          <p:cNvPr id="17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5503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444920" y="2286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62120" y="0"/>
            <a:ext cx="838188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朝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、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早晨；日，天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zhā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、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向着，面对着；拜见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chá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送别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赠汪伦                                 送杜少府之任蜀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白                                        王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 白 乘 舟 将 欲 行，          城阙辅三秦，风烟望五津。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忽 闻 岸 上 踏 歌 声。           与君离别意，同是宦游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桃 花 潭 水 深 千 尺，           海内存知己，天涯若比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 及 汪 伦 送 我 情。           无为在歧路，儿女共沾巾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拓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458880" y="2590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海内存知己，天涯若比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拓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468240" y="2590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海内存知己，天涯若比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173320" y="3733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莫愁前路无知己，天下谁人不识君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517680" y="228600"/>
            <a:ext cx="8626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口语交际：除了饮酒，他们彼此之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间还会说些什么？说一说，演一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小练笔：试着把这首诗改写成为一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篇记叙文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5800" y="0"/>
            <a:ext cx="815328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舍</a:t>
            </a: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、舍弃，丢弃；施舍。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、居住的房子；居住，休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828800" y="838080"/>
            <a:ext cx="5329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送元二使安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渭城朝雨</a:t>
            </a:r>
            <a:r>
              <a:rPr b="1" lang="zh-CN" sz="37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轻尘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客舍青青柳色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君更尽一杯酒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4290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9280" y="476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Picture 3" descr="2004511155336581"/>
          <p:cNvPicPr/>
          <p:nvPr/>
        </p:nvPicPr>
        <p:blipFill>
          <a:blip r:embed="rId1"/>
          <a:stretch/>
        </p:blipFill>
        <p:spPr>
          <a:xfrm>
            <a:off x="7020000" y="1413000"/>
            <a:ext cx="1857240" cy="3816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24000" y="5493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维是盛唐山水田园诗代表作家，字摩诘，蒲州（今山西永济县）人。他是一个早熟的作家，九岁就负有才名，年十九，赴京城试，举解头（即第一名举子），二十一岁成进士。后官至尚书右丞。</a:t>
            </a:r>
            <a:br>
              <a:rPr sz="2400"/>
            </a:b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　　王维在诗歌上的成就是多方面的，无论边塞、山水诗，无论律诗、绝句等都有流传人口的佳篇。王维又是一位著名的绘画大师。苏轼说他：「诗中有画，画中有诗」。王维确实在描写自然景物方面，有其独到的造诣。无论是名山大川的壮丽宏伟，或者是边疆关塞的壮阔荒寒，小桥流水的恬静，都能准确、精炼地塑造出完美无比的鲜活形象，意境高远，诗情与画意完全融合成为一个整体，著有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右丞集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16000" y="836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2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、自读诗句找出文中讲了哪些地点？能自己画一画它们的位置吗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476360" y="1989000"/>
            <a:ext cx="6983280" cy="64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渭城     安西      阳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3310a24fac04c234c088d1a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870000" y="289548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程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0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公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187520" y="358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阳关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797000" y="4114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渭城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286000" y="28195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安西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11160" y="620640"/>
            <a:ext cx="3559320" cy="41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送元二使安西</a:t>
            </a:r>
            <a:br>
              <a:rPr sz="5400"/>
            </a:b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2221"/>
                </a:solidFill>
                <a:latin typeface="黑体"/>
                <a:ea typeface="黑体"/>
              </a:rPr>
              <a:t>[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唐</a:t>
            </a:r>
            <a:r>
              <a:rPr b="0" lang="en-US" sz="4000" spc="-1" strike="noStrike">
                <a:solidFill>
                  <a:srgbClr val="002221"/>
                </a:solidFill>
                <a:latin typeface="Arial"/>
              </a:rPr>
              <a:t>]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王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渭城朝雨浥轻尘，</a:t>
            </a:r>
            <a:br>
              <a:rPr sz="4000"/>
            </a:b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客舍青青柳色新。</a:t>
            </a:r>
            <a:br>
              <a:rPr sz="4000"/>
            </a:b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劝君更尽一杯酒，</a:t>
            </a:r>
            <a:br>
              <a:rPr sz="4000"/>
            </a:b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西出阳关无故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9-26T11:08:29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