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comments/comment1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<Relationship Id="rId16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2-03-10T18:27:03.737000000" idx="1">
    <p:pos x="5674" y="3278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349-3ACC-4F7A-9761-E651C3E4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6E06-30B0-4356-98C4-9010EB0E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905-49AC-447E-A068-05CBF005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3C0-13C2-48BA-AC59-24A13E1F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B27-D26B-4176-AD05-BECDB757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381B-9A42-4DF0-AF63-F7A42C75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694-8BAD-4554-A569-4FABDCDA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E2A-3C2F-438F-9599-15E36DE3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E9A-ED0A-4438-A3E6-2164184C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77F1-2812-49DE-A0E8-207E4B6A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F44F-26CE-4365-B0D5-2A5D5751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4491-41CD-4F3C-8B47-472B9605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E1C2-1797-4BD2-AFAC-04C3F1680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送别3"/>
          <p:cNvPicPr/>
          <p:nvPr/>
        </p:nvPicPr>
        <p:blipFill>
          <a:blip r:embed="rId1"/>
          <a:stretch/>
        </p:blipFill>
        <p:spPr>
          <a:xfrm>
            <a:off x="-285840" y="285840"/>
            <a:ext cx="9429840" cy="628632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785880" y="4786200"/>
            <a:ext cx="400032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华文行楷"/>
              </a:rPr>
              <a:t> </a:t>
            </a:r>
            <a:endParaRPr b="0" lang="en-US" sz="18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3" name="Text Box 6" descr=""/>
          <p:cNvPicPr/>
          <p:nvPr/>
        </p:nvPicPr>
        <p:blipFill>
          <a:blip r:embed="rId2"/>
          <a:stretch/>
        </p:blipFill>
        <p:spPr>
          <a:xfrm>
            <a:off x="5370480" y="5084640"/>
            <a:ext cx="3206880" cy="779760"/>
          </a:xfrm>
          <a:prstGeom prst="rect">
            <a:avLst/>
          </a:prstGeom>
          <a:ln w="0">
            <a:noFill/>
          </a:ln>
        </p:spPr>
      </p:pic>
      <p:sp>
        <p:nvSpPr>
          <p:cNvPr id="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 Box 6" descr=""/>
          <p:cNvPicPr/>
          <p:nvPr/>
        </p:nvPicPr>
        <p:blipFill>
          <a:blip r:embed="rId3"/>
          <a:stretch/>
        </p:blipFill>
        <p:spPr>
          <a:xfrm>
            <a:off x="1352520" y="4632480"/>
            <a:ext cx="4584600" cy="9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据说，元二来到安西一年后，曾给王维写过一封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王维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展信问安！记得去年今日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763640" y="4653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Arial"/>
                <a:ea typeface="隶书"/>
              </a:rPr>
              <a:t>但由于年代的久远，这封信已残缺不全，聪明的你，能根据今天这堂课，补全这封信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阳关三叠.mp3" descr=""/>
          <p:cNvPicPr/>
          <p:nvPr/>
        </p:nvPicPr>
        <p:blipFill>
          <a:blip r:embed="rId1"/>
          <a:stretch/>
        </p:blipFill>
        <p:spPr>
          <a:xfrm>
            <a:off x="802800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43775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阳关三叠.mp3" descr=""/>
          <p:cNvPicPr/>
          <p:nvPr/>
        </p:nvPicPr>
        <p:blipFill>
          <a:blip r:embed="rId1"/>
          <a:stretch/>
        </p:blipFill>
        <p:spPr>
          <a:xfrm>
            <a:off x="7596360" y="5300640"/>
            <a:ext cx="1096920" cy="10969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3995640" y="184464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阅读拓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芙蓉楼送辛渐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250920" y="515772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寒雨连江夜入吴，平明送客楚山孤。  洛阳亲友如相问，一片冰心在玉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4920" y="1125360"/>
            <a:ext cx="4105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黑体"/>
              </a:rPr>
              <a:t>芙蓉楼送辛渐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黑体"/>
              </a:rPr>
              <a:t>         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黑体"/>
              </a:rPr>
              <a:t>王昌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《别董大》"/>
          <p:cNvPicPr/>
          <p:nvPr/>
        </p:nvPicPr>
        <p:blipFill>
          <a:blip r:embed="rId1"/>
          <a:stretch/>
        </p:blipFill>
        <p:spPr>
          <a:xfrm>
            <a:off x="0" y="817560"/>
            <a:ext cx="9144000" cy="6040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 flipH="1" rot="21553200">
            <a:off x="3194280" y="1107000"/>
            <a:ext cx="219132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别董大 高适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          千里黄云白日曛，北风吹雁雪纷纷。莫愁前路无知己，天下谁人不识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王维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79280" y="105264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王维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(701-761)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唐代著名诗人，又是画家。字摩诘。他早年写过一些思想性很强的作品，但他最重要的文学成就，则是那些优美的山水诗和抒情小诗，他的写景诗善于选取大自然的美景，进行准确而简洁的描绘，情景交融、诗情画意相合，创造出迷人的艺术意境。王维又是杰出的画家，被苏轼誉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诗中有画，画中有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著有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王右丞集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000" spc="-1" strike="noStrike">
                <a:solidFill>
                  <a:srgbClr val="000000"/>
                </a:solidFill>
                <a:latin typeface="Arial"/>
              </a:rPr>
              <a:t>送 元二 使 安西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渭城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雨  浥  轻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客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舍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青青  柳色  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劝君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尽  一杯  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西出  阳关  无  故人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6"/>
          <p:cNvSpPr/>
          <p:nvPr/>
        </p:nvSpPr>
        <p:spPr>
          <a:xfrm>
            <a:off x="3492360" y="83664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送别0副本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684360" y="112536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渭城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朝雨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浥轻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客舍青青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柳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色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0" y="5057640"/>
            <a:ext cx="946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渭城：秦时咸阳城，汉改渭城，在长安西北，渭水北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朝雨：早晨下的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浥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ì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：湿。    客舍：旅店。    新：清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924360" y="3933720"/>
            <a:ext cx="4572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送别0副本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684360" y="112536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渭城朝雨浥轻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客舍青青柳色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5057640"/>
            <a:ext cx="946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渭城早晨的雨湿润了路上的沙尘。旅店和道路两旁的柳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都被雨水洗得格外清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95640" y="4365720"/>
            <a:ext cx="4572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中国唐朝地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内容占位符 3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88356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琥珀"/>
              </a:rPr>
              <a:t>阳关以西的地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内容占位符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3384720" cy="41767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4" descr=""/>
          <p:cNvPicPr/>
          <p:nvPr/>
        </p:nvPicPr>
        <p:blipFill>
          <a:blip r:embed="rId2"/>
          <a:stretch/>
        </p:blipFill>
        <p:spPr>
          <a:xfrm>
            <a:off x="4384800" y="1484280"/>
            <a:ext cx="4032000" cy="28497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6" descr=""/>
          <p:cNvPicPr/>
          <p:nvPr/>
        </p:nvPicPr>
        <p:blipFill>
          <a:blip r:embed="rId3"/>
          <a:stretch/>
        </p:blipFill>
        <p:spPr>
          <a:xfrm>
            <a:off x="4427640" y="4508640"/>
            <a:ext cx="2881080" cy="2158920"/>
          </a:xfrm>
          <a:prstGeom prst="rect">
            <a:avLst/>
          </a:prstGeom>
          <a:ln w="0">
            <a:noFill/>
          </a:ln>
        </p:spPr>
      </p:pic>
      <p:sp>
        <p:nvSpPr>
          <p:cNvPr id="7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送别"/>
          <p:cNvPicPr/>
          <p:nvPr/>
        </p:nvPicPr>
        <p:blipFill>
          <a:blip r:embed="rId1"/>
          <a:stretch/>
        </p:blipFill>
        <p:spPr>
          <a:xfrm>
            <a:off x="0" y="830160"/>
            <a:ext cx="9144000" cy="6054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06200" y="907920"/>
            <a:ext cx="47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劝君更尽一杯酒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西出阳关无故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140360" y="2060640"/>
            <a:ext cx="4608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更：再。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阳关：在今甘肃省敦煌县西      南，是古代通西域的要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故人：老朋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送别0副本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71280" y="50799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渭城清晨的绵绵春雨飘然而降，沾湿了驿道上的灰尘，使得微尘不扬，路边的杨柳经过朝雨的洗涤润泽，这清新怡人的新绿，使得客店上空也变得葱郁青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送别"/>
          <p:cNvPicPr/>
          <p:nvPr/>
        </p:nvPicPr>
        <p:blipFill>
          <a:blip r:embed="rId2"/>
          <a:stretch/>
        </p:blipFill>
        <p:spPr>
          <a:xfrm>
            <a:off x="0" y="830160"/>
            <a:ext cx="9144000" cy="60548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2997000" y="981000"/>
            <a:ext cx="34722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请您再干了这杯酒吧，出了阳关要塞，可就再也见不到我这个老朋友了！</a:t>
            </a:r>
            <a:r>
              <a:rPr b="1" lang="zh-CN" sz="3600" spc="-1" strike="noStrike">
                <a:solidFill>
                  <a:srgbClr val="9933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Administrator</cp:lastModifiedBy>
  <dcterms:modified xsi:type="dcterms:W3CDTF">2014-09-26T11:10:51Z</dcterms:modified>
  <cp:revision>52</cp:revision>
  <dc:subject/>
  <dc:title>幻灯片 1</dc:title>
</cp:coreProperties>
</file>