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594-8E69-4EDC-9679-3ADA0282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850-DDCB-4F02-9999-B23430C2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1A5-B0B5-44B0-862F-A3A5D04E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6E1-D19B-436B-AC28-93F4564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B5A-4660-4826-8ED3-5B315D68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F2C-DB0A-4840-ABAE-1202177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C189-214F-41DA-B8D7-E2134A7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ED4-498D-4511-9334-E83216D6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4CB8-ACEA-48D2-9344-6A3ED6A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961F-CD61-469C-B32F-A1E43B4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FD13-2484-400C-B670-F5C5AA5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62D-718C-46C7-9B5C-BD0DDDF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7CF7-D6ED-4722-AF58-3E6A9FC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314E-6D9D-4C47-835C-63463A3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552-FA0B-4083-9A4C-5409D7A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54F-8A5F-40D0-8FE7-B5FD5AF4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C056-E299-4536-933A-421789DC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4FB-2183-49C6-995D-00C30B6E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75C-E1AB-4E77-8E83-99FFF28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3BD-0A43-4E6F-B262-299170B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0A5-8888-4AFF-8C28-8C94E25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CE6-FCF0-45C5-A93E-4189DED1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9E1-7C36-48AF-8F91-2968CFE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CDC-FE14-4FBB-9B47-B7AAB6A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552B-D416-42D1-B748-9DC4A4A32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349-063F-462D-939B-693596E9B850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送元二使安西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08360" y="3716280"/>
            <a:ext cx="334476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王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页脚占位符 5"/>
          <p:cNvSpPr/>
          <p:nvPr/>
        </p:nvSpPr>
        <p:spPr>
          <a:xfrm>
            <a:off x="3124080" y="6076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7280" y="6092640"/>
            <a:ext cx="2675160" cy="58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渭城古塔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5796000" y="609300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渭城古城楼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关古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关古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荒漠古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156360" y="6093000"/>
            <a:ext cx="26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安西遗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6227640" y="6093000"/>
            <a:ext cx="26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安西遗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53276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劝君更尽一杯酒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出阳关无故人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189000"/>
            <a:ext cx="209880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728f8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练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本首诗是作者（            ）在（                 ）送别好友（             ）去（            ），其中好友要途经（             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更”字说明了（                               ），表达了（                                           ）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5444640"/>
            <a:ext cx="85759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劝君更尽一杯酒，西出阳关无故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Picture 7" descr="图片1玄6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400720"/>
          </a:xfrm>
          <a:prstGeom prst="rect">
            <a:avLst/>
          </a:prstGeom>
          <a:ln w="0">
            <a:noFill/>
          </a:ln>
        </p:spPr>
      </p:pic>
      <p:sp>
        <p:nvSpPr>
          <p:cNvPr id="149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送元二使安西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59000" y="2004480"/>
            <a:ext cx="6138720" cy="35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渭城朝雨浥轻尘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客舍青青柳色新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劝君更尽一杯酒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西出阳关无故人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12000" y="119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王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33200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270036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399564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529272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658800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7920000" y="6237360"/>
            <a:ext cx="1224000" cy="4334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03280" y="623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771640" y="623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06728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64000" y="623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665964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799164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页脚占位符 20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79280" y="5445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桃花潭水深千尺，不及汪伦送我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赠汪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Picture 12" descr="564564564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32908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537336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莫道前路无知己，天下谁人不识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别董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Picture 9" descr="图片153432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113440"/>
          </a:xfrm>
          <a:prstGeom prst="rect">
            <a:avLst/>
          </a:prstGeom>
          <a:ln w="0">
            <a:noFill/>
          </a:ln>
        </p:spPr>
      </p:pic>
      <p:sp>
        <p:nvSpPr>
          <p:cNvPr id="158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12" descr="图片15345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50920" y="494172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孤帆远影碧空尽，唯见长江天际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送孟浩然之广陵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530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海内存知己，天涯若比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送杜少府之任蜀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Picture 7" descr="图片1特瑞特让他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69" name="Picture 7" descr="图片15345退热贴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257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179280" y="5445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洛阳亲友如相问，一片冰心在玉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昌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芙蓉楼送辛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544500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山回路转不见君，雪上空余马行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岑参白雪歌送武判官归京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7" descr="图片14234234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5113440"/>
          </a:xfrm>
          <a:prstGeom prst="rect">
            <a:avLst/>
          </a:prstGeom>
          <a:ln w="0">
            <a:noFill/>
          </a:ln>
        </p:spPr>
      </p:pic>
      <p:sp>
        <p:nvSpPr>
          <p:cNvPr id="175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1280" y="620640"/>
            <a:ext cx="475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王维，字摩诘，祖籍山西祁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县，唐朝著名诗人，善画人物、丛竹、山水。今存诗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余首。王维诗书画都很有名，多才多艺。苏轼赞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“诗中有画，画中有诗”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音乐也很精通。他是盛唐山水田园诗派的代表作家，与孟浩然并称“王孟”。其中以五言律诗和五言绝句成就最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7" descr="jiuyuejiuri1"/>
          <p:cNvPicPr/>
          <p:nvPr/>
        </p:nvPicPr>
        <p:blipFill>
          <a:blip r:embed="rId1"/>
          <a:stretch/>
        </p:blipFill>
        <p:spPr>
          <a:xfrm>
            <a:off x="250920" y="260280"/>
            <a:ext cx="373068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84360" y="6237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维（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0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6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年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08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09" name="HTMLHidden2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720" y="188640"/>
            <a:ext cx="4402080" cy="865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小组交流讨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88560" y="2130120"/>
            <a:ext cx="747252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交流本诗的重点字词意思，了解本诗的大致意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你还有什么不会的地方吗？请交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作者要送别的人是谁？那个人要去什么地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送别的时间、地点、环境气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76360" y="508428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渭城朝雨浥轻尘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494136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客舍青青柳色新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34920" y="4869000"/>
            <a:ext cx="49546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劝君更尽一杯酒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08000" y="263664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出阳关无故人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059280" y="270828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708360" y="357336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阳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300720" y="3860640"/>
            <a:ext cx="64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渭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 flipV="1">
            <a:off x="4284360" y="3500280"/>
            <a:ext cx="1942920" cy="720720"/>
          </a:xfrm>
          <a:prstGeom prst="line">
            <a:avLst/>
          </a:prstGeom>
          <a:ln w="507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H="1" flipV="1">
            <a:off x="3059280" y="3141720"/>
            <a:ext cx="1225440" cy="287280"/>
          </a:xfrm>
          <a:prstGeom prst="line">
            <a:avLst/>
          </a:prstGeom>
          <a:ln w="507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26920" y="4869000"/>
            <a:ext cx="280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从渭城到安西有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000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多公里，古时候没有汽车、火车、飞机，就是用上最快的交通工具骑马去也要用上半年时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页脚占位符 9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9:06:51Z</dcterms:created>
  <dc:creator>微软用户</dc:creator>
  <dc:description/>
  <dc:language>en-US</dc:language>
  <cp:lastModifiedBy>Administrator</cp:lastModifiedBy>
  <dcterms:modified xsi:type="dcterms:W3CDTF">2014-09-26T11:07:28Z</dcterms:modified>
  <cp:revision>4</cp:revision>
  <dc:subject/>
  <dc:title>送元二使安西</dc:title>
</cp:coreProperties>
</file>