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E481-98AC-4CD7-A19F-7BD1C91AD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8AE7-7785-470C-B287-556DC17B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A369-6419-4004-9E50-481CA718A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EA1B-905D-4F35-B348-64A339D1B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362A-B14A-4BA2-9248-CD024957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6AA9-78C0-48D8-A8CA-5381DA3D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9783-530E-43CD-BA01-8A8EBFE2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23C1-7489-4092-AFAC-C682216B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F41B-5290-4D7D-93B8-E22292F3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0959-5559-41AC-8F53-CDD8F1F8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75CF-F991-40BD-97C3-8E8CB607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79C3-6BEB-4537-A73C-60463B10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6760-AE26-4435-9785-E66790272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送别3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324000" y="907920"/>
            <a:ext cx="5111640" cy="210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送元二使安西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403280" y="3357720"/>
            <a:ext cx="374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33ff"/>
                </a:solidFill>
                <a:latin typeface="Arial"/>
                <a:ea typeface="黑体"/>
              </a:rPr>
              <a:t>——</a:t>
            </a:r>
            <a:r>
              <a:rPr b="1" lang="zh-CN" sz="6000" spc="-1" strike="noStrike">
                <a:solidFill>
                  <a:srgbClr val="9933ff"/>
                </a:solidFill>
                <a:latin typeface="Arial"/>
                <a:ea typeface="黑体"/>
              </a:rPr>
              <a:t>王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179280" y="481644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元二：姓元，排行第二，王维的朋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使：出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安西：指唐代安西都护府，在今新疆库车附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1476000" y="13032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教新课标四年级语文上册第六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别董大2"/>
          <p:cNvPicPr/>
          <p:nvPr/>
        </p:nvPicPr>
        <p:blipFill>
          <a:blip r:embed="rId1"/>
          <a:stretch/>
        </p:blipFill>
        <p:spPr>
          <a:xfrm>
            <a:off x="-8893080" y="-7227720"/>
            <a:ext cx="19010160" cy="151207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-10541520" y="-6096240"/>
            <a:ext cx="217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王维得知元二要去安西，专程从长安赶来相送。老朋友再次相逢，举起酒杯，旧时的点点滴滴都如画面一般浮现眼前。然而这美好的日子就要定格在今天。当年张骞出使西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，苏武出使西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，班超出使西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，元二此行又要去多久？一想到这儿，王维、元二千言万语涌上心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来到渭城，再们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别的场景：如果你是王维或元二可能会说些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-6894000" y="-4140000"/>
            <a:ext cx="1455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老朋友，请再喝一杯酒吧，我想让你留下别走了。但我知道这是不可能的，你在安西一定要照顾好自己的身体，有空的时候给我写封信报个平安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王兄请回吧，送君千里终须一别。我会永远不会忘记你对我的深情厚谊。王兄请保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-5651640" y="-2259720"/>
            <a:ext cx="96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元二你这一走，我们可能很久都不能相见。但是我会想你的，你孤身在外，一定要注意安全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-3367800" y="-1612080"/>
            <a:ext cx="52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谢王兄，我会把你的情记在心里。等我回来我们再举杯畅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-1000800" y="-152640"/>
            <a:ext cx="150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、来，老朋友再喝一杯吧，刚才还是细雨绵绵，本想多留元兄一会，不想天已放晴，这是在催促元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上路啊，这次您为国家效力，出使安西，以显我大唐国威，在此，我祝你一路顺风，早日归来。 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-279720" y="112464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好，谢谢王兄的美意，我一定早日归来，我一定不会忘记自己的使命，王兄你也多保重，等我回来再喝个痛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7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送元二使安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是关于友情的一首诗，你还知道哪些关于友情的诗句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2005061218124620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-252360" y="0"/>
            <a:ext cx="70866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6788520" y="189000"/>
            <a:ext cx="28015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远芳侵古道，晴翠接荒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又送王孙去，萋萋满别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赋得古原草送别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唐代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白居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未标题-1"/>
          <p:cNvPicPr/>
          <p:nvPr/>
        </p:nvPicPr>
        <p:blipFill>
          <a:blip r:embed="rId1"/>
          <a:stretch/>
        </p:blipFill>
        <p:spPr>
          <a:xfrm>
            <a:off x="0" y="0"/>
            <a:ext cx="73152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1371600" y="66690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6344280" y="914400"/>
            <a:ext cx="29235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天涯若比邻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海内存知己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4716360" y="603576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送杜少府之任蜀州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唐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]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王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70866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7696080" y="1600200"/>
            <a:ext cx="91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066680" y="6858000"/>
            <a:ext cx="67820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972760" y="457200"/>
            <a:ext cx="339984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浮云游子意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落日故人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别董大2"/>
          <p:cNvPicPr/>
          <p:nvPr/>
        </p:nvPicPr>
        <p:blipFill>
          <a:blip r:embed="rId1"/>
          <a:stretch/>
        </p:blipFill>
        <p:spPr>
          <a:xfrm>
            <a:off x="0" y="0"/>
            <a:ext cx="71629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914400" y="6019920"/>
            <a:ext cx="7620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 flipH="1">
            <a:off x="6948000" y="0"/>
            <a:ext cx="34149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莫愁前路无知己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天下谁人不识君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阳关三叠.mp3" descr=""/>
          <p:cNvPicPr/>
          <p:nvPr/>
        </p:nvPicPr>
        <p:blipFill>
          <a:blip r:embed="rId1"/>
          <a:stretch/>
        </p:blipFill>
        <p:spPr>
          <a:xfrm>
            <a:off x="7596360" y="5300640"/>
            <a:ext cx="1096920" cy="10969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3995640" y="1844640"/>
            <a:ext cx="33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黑体"/>
              </a:rPr>
              <a:t>阅读拓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芙蓉楼送辛渐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250920" y="515772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寒雨连江夜入吴，平明送客楚山孤。  洛阳亲友如相问，一片冰心在玉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34920" y="1125360"/>
            <a:ext cx="41054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Arial"/>
                <a:ea typeface="黑体"/>
              </a:rPr>
              <a:t>芙蓉楼送辛渐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Arial"/>
                <a:ea typeface="黑体"/>
              </a:rPr>
              <a:t>         </a:t>
            </a:r>
            <a:r>
              <a:rPr b="1" lang="zh-CN" sz="4400" spc="-1" strike="noStrike">
                <a:solidFill>
                  <a:srgbClr val="9933ff"/>
                </a:solidFill>
                <a:latin typeface="Arial"/>
                <a:ea typeface="黑体"/>
              </a:rPr>
              <a:t>王昌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1" descr="官方logo"/>
          <p:cNvPicPr/>
          <p:nvPr/>
        </p:nvPicPr>
        <p:blipFill>
          <a:blip r:embed="rId3"/>
          <a:stretch/>
        </p:blipFill>
        <p:spPr>
          <a:xfrm>
            <a:off x="0" y="6326280"/>
            <a:ext cx="1106640" cy="531720"/>
          </a:xfrm>
          <a:prstGeom prst="rect">
            <a:avLst/>
          </a:prstGeom>
          <a:ln w="0">
            <a:noFill/>
          </a:ln>
        </p:spPr>
      </p:pic>
      <p:sp>
        <p:nvSpPr>
          <p:cNvPr id="124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送杜少府之任蜀州"/>
          <p:cNvPicPr/>
          <p:nvPr/>
        </p:nvPicPr>
        <p:blipFill>
          <a:blip r:embed="rId1"/>
          <a:stretch/>
        </p:blipFill>
        <p:spPr>
          <a:xfrm>
            <a:off x="0" y="933480"/>
            <a:ext cx="9144000" cy="59515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"/>
          <p:cNvSpPr/>
          <p:nvPr/>
        </p:nvSpPr>
        <p:spPr>
          <a:xfrm>
            <a:off x="108000" y="907920"/>
            <a:ext cx="6985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送杜少府之任蜀州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   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王勃                     城阙辅三秦，风烟望五津。        与君离别意，同是宦游人。        海内存知己，天涯若比邻。        无为在歧路，儿女共沾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官方logo"/>
          <p:cNvPicPr/>
          <p:nvPr/>
        </p:nvPicPr>
        <p:blipFill>
          <a:blip r:embed="rId2"/>
          <a:stretch/>
        </p:blipFill>
        <p:spPr>
          <a:xfrm>
            <a:off x="0" y="6326280"/>
            <a:ext cx="1106640" cy="531720"/>
          </a:xfrm>
          <a:prstGeom prst="rect">
            <a:avLst/>
          </a:prstGeom>
          <a:ln w="0">
            <a:noFill/>
          </a:ln>
        </p:spPr>
      </p:pic>
      <p:sp>
        <p:nvSpPr>
          <p:cNvPr id="12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6" descr="《别董大》"/>
          <p:cNvPicPr/>
          <p:nvPr/>
        </p:nvPicPr>
        <p:blipFill>
          <a:blip r:embed="rId1"/>
          <a:stretch/>
        </p:blipFill>
        <p:spPr>
          <a:xfrm>
            <a:off x="0" y="817560"/>
            <a:ext cx="9144000" cy="60404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 flipH="1" rot="21553200">
            <a:off x="3194280" y="1107000"/>
            <a:ext cx="219132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别董大 高适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          千里黄云白日曛，北风吹雁雪纷纷。莫愁前路无知己，天下谁人不识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" descr="官方logo"/>
          <p:cNvPicPr/>
          <p:nvPr/>
        </p:nvPicPr>
        <p:blipFill>
          <a:blip r:embed="rId2"/>
          <a:stretch/>
        </p:blipFill>
        <p:spPr>
          <a:xfrm>
            <a:off x="0" y="6326280"/>
            <a:ext cx="1106640" cy="531720"/>
          </a:xfrm>
          <a:prstGeom prst="rect">
            <a:avLst/>
          </a:prstGeom>
          <a:ln w="0">
            <a:noFill/>
          </a:ln>
        </p:spPr>
      </p:pic>
      <p:sp>
        <p:nvSpPr>
          <p:cNvPr id="13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送别4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-359280" y="1773360"/>
            <a:ext cx="62154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cc33"/>
                </a:solidFill>
                <a:latin typeface="华文行楷"/>
                <a:ea typeface="华文行楷"/>
              </a:rPr>
              <a:t>长亭外                     古道边                    芳草碧连天           晚风扶柳笛声残       夕阳山外山           天之涯                   地之角                    知交半零落           一壶浊酒尽余欢</a:t>
            </a:r>
            <a:br>
              <a:rPr sz="3600"/>
            </a:br>
            <a:r>
              <a:rPr b="1" lang="zh-CN" sz="3600" spc="-1" strike="noStrike">
                <a:solidFill>
                  <a:srgbClr val="33cc33"/>
                </a:solidFill>
                <a:latin typeface="华文行楷"/>
                <a:ea typeface="华文行楷"/>
              </a:rPr>
              <a:t>今宵别梦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5454720" y="1916280"/>
            <a:ext cx="24750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cc33"/>
                </a:solidFill>
                <a:latin typeface="华文行楷"/>
                <a:ea typeface="华文行楷"/>
              </a:rPr>
              <a:t>送别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cc33"/>
                </a:solidFill>
                <a:latin typeface="华文行楷"/>
                <a:ea typeface="华文行楷"/>
              </a:rPr>
              <a:t>     </a:t>
            </a:r>
            <a:r>
              <a:rPr b="1" lang="zh-CN" sz="2800" spc="-1" strike="noStrike">
                <a:solidFill>
                  <a:srgbClr val="33cc33"/>
                </a:solidFill>
                <a:latin typeface="华文行楷"/>
                <a:ea typeface="华文行楷"/>
              </a:rPr>
              <a:t>李淑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官方logo"/>
          <p:cNvPicPr/>
          <p:nvPr/>
        </p:nvPicPr>
        <p:blipFill>
          <a:blip r:embed="rId2"/>
          <a:stretch/>
        </p:blipFill>
        <p:spPr>
          <a:xfrm>
            <a:off x="0" y="6326280"/>
            <a:ext cx="1106640" cy="531720"/>
          </a:xfrm>
          <a:prstGeom prst="rect">
            <a:avLst/>
          </a:prstGeom>
          <a:ln w="0">
            <a:noFill/>
          </a:ln>
        </p:spPr>
      </p:pic>
      <p:sp>
        <p:nvSpPr>
          <p:cNvPr id="137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3733920" y="380880"/>
            <a:ext cx="350496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送元二使安西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渭城朝雨浥轻尘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客舍青青柳色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劝君更尽一杯酒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西出阳关无故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4390200" y="4419720"/>
            <a:ext cx="547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注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①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使：出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浥：湿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③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更尽：再饮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3303720" y="1869480"/>
            <a:ext cx="4724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shè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宿舍 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shě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依依不舍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jūn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君子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2192760" y="1843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2268720" y="44640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君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photo5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8001000" y="342900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6389280" y="304920"/>
            <a:ext cx="2754720" cy="49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渭城朝雨浥轻尘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客舍青青柳色新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王维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7"/>
          <p:cNvSpPr/>
          <p:nvPr/>
        </p:nvSpPr>
        <p:spPr>
          <a:xfrm>
            <a:off x="0" y="1052640"/>
            <a:ext cx="5759280" cy="48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［王维简介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01--76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字摩诘，唐朝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名诗人，世称“王右丞” ，和孟浩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称“王孟”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作品特点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诗中有画，画中有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代表作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送元二使安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鸟鸣涧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相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九月九日忆山东兄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送别0副本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684360" y="1125360"/>
            <a:ext cx="446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渭城朝雨浥轻尘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客舍青青柳色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0" y="5057640"/>
            <a:ext cx="946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渭城：秦时咸阳城，汉改渭城，在长安西北，渭水北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朝：早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浥（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y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ì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：湿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客舍：旅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>
            <a:off x="3851280" y="2421000"/>
            <a:ext cx="5047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官方logo"/>
          <p:cNvPicPr/>
          <p:nvPr/>
        </p:nvPicPr>
        <p:blipFill>
          <a:blip r:embed="rId2"/>
          <a:stretch/>
        </p:blipFill>
        <p:spPr>
          <a:xfrm>
            <a:off x="8037360" y="6326280"/>
            <a:ext cx="1106640" cy="531720"/>
          </a:xfrm>
          <a:prstGeom prst="rect">
            <a:avLst/>
          </a:prstGeom>
          <a:ln w="0">
            <a:noFill/>
          </a:ln>
        </p:spPr>
      </p:pic>
      <p:sp>
        <p:nvSpPr>
          <p:cNvPr id="67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0043181657270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0" y="0"/>
            <a:ext cx="421164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7910640" y="762120"/>
            <a:ext cx="54756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8596440" y="0"/>
            <a:ext cx="5475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4572000" y="47628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渭城朝雨浥轻尘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客舍青青柳色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5405040" y="2100240"/>
            <a:ext cx="286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　　渭城清晨一场如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小雨，湿润了路上的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埃，旅店旁的棵棵绿柳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被雨水冲洗得翠色欲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4615920" y="4653000"/>
            <a:ext cx="448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句诗点明了送别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4500720" y="515772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地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5867280" y="5157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7199280" y="51577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环境气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送别"/>
          <p:cNvPicPr/>
          <p:nvPr/>
        </p:nvPicPr>
        <p:blipFill>
          <a:blip r:embed="rId1"/>
          <a:stretch/>
        </p:blipFill>
        <p:spPr>
          <a:xfrm>
            <a:off x="0" y="830160"/>
            <a:ext cx="9144000" cy="60548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106200" y="907920"/>
            <a:ext cx="47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劝君更尽一杯酒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西出阳关无故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4140360" y="2060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黑体"/>
                <a:ea typeface="黑体"/>
              </a:rPr>
              <a:t>更尽：再饮完。         阳关：在今甘肃省敦煌县西      南，是古代通西域的要道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官方logo"/>
          <p:cNvPicPr/>
          <p:nvPr/>
        </p:nvPicPr>
        <p:blipFill>
          <a:blip r:embed="rId2"/>
          <a:stretch/>
        </p:blipFill>
        <p:spPr>
          <a:xfrm>
            <a:off x="0" y="6326280"/>
            <a:ext cx="1106640" cy="531720"/>
          </a:xfrm>
          <a:prstGeom prst="rect">
            <a:avLst/>
          </a:prstGeom>
          <a:ln w="0">
            <a:noFill/>
          </a:ln>
        </p:spPr>
      </p:pic>
      <p:sp>
        <p:nvSpPr>
          <p:cNvPr id="82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别董大2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5364000" y="620640"/>
            <a:ext cx="3448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劝君更进一杯酒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西出阳关无故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5823360" y="1989000"/>
            <a:ext cx="2527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朋友，请再喝尽这杯醇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的美酒吧，等你西行出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阳关之后，就再也没有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个交情深厚的老友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5645160" y="4057560"/>
            <a:ext cx="2879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两行诗由写景转入送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更”字表明酒已劝了多次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敬了多杯，这依依惜别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情虽只字未提，但都见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言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guibin</dc:creator>
  <dc:description/>
  <dc:language>en-US</dc:language>
  <cp:lastModifiedBy>Administrator</cp:lastModifiedBy>
  <dcterms:modified xsi:type="dcterms:W3CDTF">2014-09-26T11:07:36Z</dcterms:modified>
  <cp:revision>41</cp:revision>
  <dc:subject/>
  <dc:title>幻灯片 1</dc:title>
</cp:coreProperties>
</file>