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9DF-1DD4-40CC-9FE9-69205BC8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944-7E30-48B5-979B-325FB62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A45-51DA-4B20-94F3-0691D4AC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96E-1225-4D5C-80F6-87B6378A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0E0-4433-4E79-961D-8445BEE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388-7FC8-48AF-B8D4-9DD577D9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809-CA1B-43DB-8386-36287E6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547-9982-4EFB-AABD-22CF56AA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85E-6F21-4655-A180-7830FC2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495-EC51-48D2-BA67-F97F5BA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4C1-71AB-434F-9482-5FC4973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D12-B010-45FC-98FB-5A7F8F9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CBA-8DF8-4147-8951-69644D22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6">
            <a:hlinkClick r:id="rId1" action="ppaction://hlinksldjump"/>
          </p:cNvPr>
          <p:cNvSpPr/>
          <p:nvPr/>
        </p:nvSpPr>
        <p:spPr>
          <a:xfrm>
            <a:off x="304920" y="212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元二使安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7" descr="200451381043797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4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2" descr="荒凉的戈壁滩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5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2" descr="戈壁滩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8001000" y="6248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1" descr="a8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hechang(songbie).mp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80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8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57200" y="15238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685800" y="141120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长亭外                            天之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古道边                            海之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芳草碧连天                    知交半零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晚风拂柳笛声残            一壶浊酒尽余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夕阳山外山                    今宵别梦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无标题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80880" y="2209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海内存知己，天涯若比邻</a:t>
            </a: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送杜少府之任蜀川</a:t>
            </a: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王 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80880" y="1447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隶书"/>
              </a:rPr>
              <a:t>谁言寸草心，报得三春晖。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隶书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游子吟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》           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唐   孟  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52280" y="48769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隶书"/>
              </a:rPr>
              <a:t>桃花潭水深千尺，不及汪伦送我情。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赠汪伦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》     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唐  李  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52280" y="4038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隶书"/>
              </a:rPr>
              <a:t>莫愁前路无知己，天下谁人不识君。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  <a:ea typeface="隶书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别董大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》   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隶书"/>
              </a:rPr>
              <a:t>唐  高  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52280" y="3048120"/>
            <a:ext cx="8991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丈夫非无泪，不洒离别间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别离</a:t>
            </a: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》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陆龟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页脚占位符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mlxj003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391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安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无标题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送元二使安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唐  王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渭 城 朝 雨 浥 轻 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客 舍 青 青 柳 色 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劝 君 更 尽 一 杯 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西 出 阳 关 无 故 人。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>
            <a:hlinkClick r:id="rId2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200494113713392.mp3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914400" y="6248520"/>
            <a:ext cx="38088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09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渭城清晨一场小雨，湿润了路上的尘土。旅店旁的棵棵绿柳，被雨水冲洗得更加翠色欲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2349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朋友，请再喝完这杯美酒吧，等你西行出了阳关之后，就再也没有一个交情深厚的老友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阳关三叠.wma" descr=""/>
          <p:cNvPicPr/>
          <p:nvPr/>
        </p:nvPicPr>
        <p:blipFill>
          <a:blip r:embed="rId1"/>
          <a:stretch/>
        </p:blipFill>
        <p:spPr>
          <a:xfrm>
            <a:off x="723600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606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200494113713392.mp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无标题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送元二使安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唐  王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渭 城 朝 雨 浥 轻 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客 舍 青 青 柳 色 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劝 君 更 尽 一 杯 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西 出 阳 关 无 故 人。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2589120" y="281952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048120" y="2895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657600" y="2895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486400" y="2895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095880" y="2895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3657600" y="365760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365760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6095880" y="365760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3048120" y="44197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5486400" y="44197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362320" y="5105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4800600" y="5105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4341600" y="281952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025960" y="281952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2587320" y="3505320"/>
            <a:ext cx="468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3122280" y="3505320"/>
            <a:ext cx="468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5025960" y="350532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5560920" y="350532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2589120" y="426708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3732120" y="426708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4341600" y="426708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5025960" y="426708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6246720" y="426708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3120840" y="4952880"/>
            <a:ext cx="50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5559120" y="4952880"/>
            <a:ext cx="468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9">
            <a:hlinkClick r:id="rId3" action="ppaction://hlinksldjump"/>
          </p:cNvPr>
          <p:cNvSpPr/>
          <p:nvPr/>
        </p:nvSpPr>
        <p:spPr>
          <a:xfrm>
            <a:off x="495288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阳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0">
            <a:hlinkClick r:id="rId4" action="ppaction://hlinksldjump"/>
          </p:cNvPr>
          <p:cNvSpPr/>
          <p:nvPr/>
        </p:nvSpPr>
        <p:spPr>
          <a:xfrm>
            <a:off x="358128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路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加蓬方3.mp3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1600200" y="6248520"/>
            <a:ext cx="380880" cy="30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3"/>
          <p:cNvSpPr/>
          <p:nvPr/>
        </p:nvSpPr>
        <p:spPr>
          <a:xfrm>
            <a:off x="762120" y="6553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琴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1447920" y="6553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唱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5">
            <a:hlinkClick r:id="rId6" action="ppaction://hlinksldjump"/>
          </p:cNvPr>
          <p:cNvSpPr/>
          <p:nvPr/>
        </p:nvSpPr>
        <p:spPr>
          <a:xfrm>
            <a:off x="640080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杂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8"/>
          <p:cNvSpPr/>
          <p:nvPr/>
        </p:nvSpPr>
        <p:spPr>
          <a:xfrm>
            <a:off x="769608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页脚占位符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3509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4169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2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0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31" descr="200442192926275"/>
          <p:cNvPicPr/>
          <p:nvPr/>
        </p:nvPicPr>
        <p:blipFill>
          <a:blip r:embed="rId1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1032"/>
          <p:cNvSpPr/>
          <p:nvPr/>
        </p:nvSpPr>
        <p:spPr>
          <a:xfrm>
            <a:off x="2209680" y="2133720"/>
            <a:ext cx="3108600" cy="1027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33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34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035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036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37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38"/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39"/>
          <p:cNvSpPr/>
          <p:nvPr/>
        </p:nvSpPr>
        <p:spPr>
          <a:xfrm>
            <a:off x="5326200" y="3149640"/>
            <a:ext cx="83880" cy="52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8" descr="无标题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0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819520" y="1676520"/>
            <a:ext cx="3276360" cy="35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隶书"/>
                <a:ea typeface="隶书"/>
              </a:rPr>
              <a:t>杂  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隶书"/>
                <a:ea typeface="隶书"/>
              </a:rPr>
              <a:t>唐  王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隶书"/>
                <a:ea typeface="隶书"/>
              </a:rPr>
              <a:t>君 自 故 乡 来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隶书"/>
                <a:ea typeface="隶书"/>
              </a:rPr>
              <a:t>应 知 故 乡 事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隶书"/>
                <a:ea typeface="隶书"/>
              </a:rPr>
              <a:t>来 日 绮 窗 前 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隶书"/>
                <a:ea typeface="隶书"/>
              </a:rPr>
              <a:t>寒 梅 著 花 未 ？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4572000" y="2819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2971800" y="2819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2971800" y="342900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66688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H="1">
            <a:off x="5256360" y="327672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 flipH="1">
            <a:off x="4114800" y="396252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4114800" y="327672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3505320" y="342900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2971800" y="47242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3"/>
          <p:cNvSpPr/>
          <p:nvPr/>
        </p:nvSpPr>
        <p:spPr>
          <a:xfrm flipH="1">
            <a:off x="4114800" y="457200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3505320" y="47242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4648320" y="47242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2971800" y="4038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7"/>
          <p:cNvSpPr/>
          <p:nvPr/>
        </p:nvSpPr>
        <p:spPr>
          <a:xfrm flipH="1">
            <a:off x="3657600" y="396252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1"/>
          <p:cNvSpPr/>
          <p:nvPr/>
        </p:nvSpPr>
        <p:spPr>
          <a:xfrm flipH="1">
            <a:off x="3656160" y="266688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5105520" y="281952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5181480" y="4038480"/>
            <a:ext cx="228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 flipH="1">
            <a:off x="5256360" y="4572000"/>
            <a:ext cx="1440" cy="2286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20杂诗.mp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2120" y="6248520"/>
            <a:ext cx="38088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284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" descr="200451381043797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4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391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阳 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阳关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zy11.wav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西出阳关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8"/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01:49:35Z</dcterms:created>
  <dc:creator>cd</dc:creator>
  <dc:description/>
  <dc:language>en-US</dc:language>
  <cp:lastModifiedBy>Administrator</cp:lastModifiedBy>
  <dcterms:modified xsi:type="dcterms:W3CDTF">2014-09-26T11:09:15Z</dcterms:modified>
  <cp:revision>222</cp:revision>
  <dc:subject/>
  <dc:title>PowerPoint 演示文稿</dc:title>
</cp:coreProperties>
</file>