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065-AB42-4075-9EE5-7376CFD7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337-48C1-4406-9754-5A105A3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181-05CB-48DB-AF32-2FAC1521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840-B819-4AB9-B0CD-F2B6DEC2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DA0F-2DAA-4472-8457-B5709A17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8AD-EBF7-435A-B923-57BC54C5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451-2341-47A1-944C-6BF6D7A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0703-F112-417F-B2F8-730FC0B8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FDD6-00D4-4E8D-9EB6-D782A63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208E-9C5C-4F8B-8D75-DC5FBB67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C50-3547-439B-9CD1-65C80C9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147-1588-49A2-B39E-1FE54DB4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458-0000-4A07-ABE4-462A835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739-D37C-4F78-B8F3-5B9006E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96D3-FABA-430A-A8D5-C4BF060B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0DF1-CD63-4456-9D33-09C115F3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38C-9A2E-413B-AC5E-045A4854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001-9989-40AC-9CDA-0CC88BC2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E80-CC0F-474C-B0B1-22381A1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E63-441B-4F40-87B5-BF29CE5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E7B-6332-40B7-9127-2859FB5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C3E-44AA-4C06-8B80-992FA44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34F-F95F-4E2E-B715-15DA4FD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272-4F68-4791-BADC-7ECE64D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26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1030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AF4-3480-452E-8BA1-CE7B01DED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473C-E1C5-40B1-820A-6502BB862E0A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8461.htm" TargetMode="External"/><Relationship Id="rId2" Type="http://schemas.openxmlformats.org/officeDocument/2006/relationships/hyperlink" Target="http://baike.baidu.com/view/2161.htm" TargetMode="External"/><Relationship Id="rId3" Type="http://schemas.openxmlformats.org/officeDocument/2006/relationships/hyperlink" Target="http://baike.baidu.com/view/53648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6510.htm" TargetMode="External"/><Relationship Id="rId2" Type="http://schemas.openxmlformats.org/officeDocument/2006/relationships/hyperlink" Target="http://baike.baidu.com/view/5902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别董大2">
            <a:hlinkClick r:id="rId1" action="ppaction://hlinksldjump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3852720" y="0"/>
            <a:ext cx="428004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送元二使安西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页脚占位符 3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更：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57200" y="2209680"/>
            <a:ext cx="685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阳关：汉朝设置的边关名，故址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甘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省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敦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县西南，古代跟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3"/>
              </a:rPr>
              <a:t>玉门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同是出塞必经的关口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页脚占位符 10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2"/>
          <p:cNvSpPr/>
          <p:nvPr/>
        </p:nvSpPr>
        <p:spPr>
          <a:xfrm>
            <a:off x="76320" y="609480"/>
            <a:ext cx="9067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页脚占位符 4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uploadfile19594"/>
          <p:cNvPicPr/>
          <p:nvPr/>
        </p:nvPicPr>
        <p:blipFill>
          <a:blip r:embed="rId1"/>
          <a:stretch/>
        </p:blipFill>
        <p:spPr>
          <a:xfrm>
            <a:off x="0" y="-631800"/>
            <a:ext cx="9144000" cy="7489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219600" y="4251600"/>
            <a:ext cx="2023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劝君更尽一杯酒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西出阳关无故人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823360" y="19890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朋友，请再喝尽这杯醇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的美酒吧，等你西行出了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阳关之后，就再也没有一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交情深厚的老友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619960" y="4057560"/>
            <a:ext cx="293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送元二使安西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是关于友情的一首诗，你还知道哪些关于友情的诗句呢？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200506121812462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6788520" y="189000"/>
            <a:ext cx="28015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芳侵古道，晴翠接荒城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送王孙去，萋萋满别情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赋得古原草送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唐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白居易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页脚占位符 3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7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371600" y="6669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344280" y="914400"/>
            <a:ext cx="2923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天涯若比邻。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海内存知己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16360" y="60357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送杜少府之任蜀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页脚占位符 7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7696080" y="1600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6858000"/>
            <a:ext cx="6782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972760" y="457200"/>
            <a:ext cx="3399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浮云游子意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落日故人情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914400" y="60199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 flipH="1">
            <a:off x="6948000" y="0"/>
            <a:ext cx="3414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莫愁前路无知己，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天下谁人不识君。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页脚占位符 4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sh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304920" y="152280"/>
            <a:ext cx="8305560" cy="6400800"/>
          </a:xfrm>
          <a:prstGeom prst="rect">
            <a:avLst/>
          </a:prstGeom>
          <a:blipFill rotWithShape="0">
            <a:blip r:embed="rId2">
              <a:alphaModFix amt="17000"/>
            </a:blip>
            <a:srcRect/>
            <a:tile tx="0" ty="0" sx="100000" sy="100000" algn="ctr"/>
          </a:blip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127160" y="1160640"/>
            <a:ext cx="2619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黄鹤楼送孟浩然之广陵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故人西辞黄鹤楼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烟花三月下扬州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孤帆远影碧空尽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唯见长江天际流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5372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496840" y="1295280"/>
            <a:ext cx="24724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送元二使安西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王维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页脚占位符 8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1f7e9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1" name="Picture 5" descr="200442192926275"/>
          <p:cNvPicPr/>
          <p:nvPr/>
        </p:nvPicPr>
        <p:blipFill>
          <a:blip r:embed="rId2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"/>
          <p:cNvSpPr/>
          <p:nvPr/>
        </p:nvSpPr>
        <p:spPr>
          <a:xfrm>
            <a:off x="2209680" y="2133720"/>
            <a:ext cx="3108600" cy="1027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1f7e9">
              <a:alpha val="50000"/>
            </a:srgbClr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Rectangle 12">
            <a:hlinkClick r:id="rId3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5326200" y="3149640"/>
            <a:ext cx="83880" cy="52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页脚占位符 1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666880" y="380880"/>
            <a:ext cx="6096240" cy="61722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345480" y="914400"/>
            <a:ext cx="45543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［王维简介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701--76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，字摩诘，唐朝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名诗人，世称“王右丞” ，和孟浩然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并称“王孟”。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品特点：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诗中有画，画中有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鸟鸣涧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相思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九月九日忆山东兄弟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733920" y="380880"/>
            <a:ext cx="3504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元二使安西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王维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390200" y="4419720"/>
            <a:ext cx="5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注释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①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使：出使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②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浥：湿润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③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更尽：再饮完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页脚占位符 5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303720" y="1869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宿舍 ）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依依不舍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jūn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君子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92760" y="18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舍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68720" y="4464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君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页脚占位符 6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dash"/>
            <a:miter/>
          </a:ln>
          <a:effectLst>
            <a:outerShdw dist="17819" dir="2700000" blurRad="0" rotWithShape="0">
              <a:srgbClr val="366b1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769400" y="1344960"/>
            <a:ext cx="548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陕西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咸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市东北，渭水北岸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52600" y="25135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湿润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客舍：旅店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843960" y="2513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柳色：即指初春嫩柳的颜色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页脚占位符 10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90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解答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前两句写离别时的景色，地点是（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，季节是（     ），从哪里可以看出？“柳”与“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(       )”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谐音，暗含（        ）之意，你感觉这景色如何？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05800" y="2421000"/>
            <a:ext cx="91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城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500720" y="2421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春季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99708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45272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送别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页脚占位符 9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hoto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001000" y="3429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389280" y="304920"/>
            <a:ext cx="27547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页脚占位符 7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43181657270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7910640" y="762120"/>
            <a:ext cx="5475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596440" y="0"/>
            <a:ext cx="54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05040" y="2100240"/>
            <a:ext cx="286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渭城清晨一场如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雨，湿润了路上的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埃，旅店旁的棵棵绿柳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被雨水冲洗得翠色欲滴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92880" y="4653000"/>
            <a:ext cx="452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这句诗点明了送别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50072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719928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页脚占位符 10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8:36:46Z</dcterms:created>
  <dc:creator>xinhai</dc:creator>
  <dc:description/>
  <dc:language>en-US</dc:language>
  <cp:lastModifiedBy>Administrator</cp:lastModifiedBy>
  <dcterms:modified xsi:type="dcterms:W3CDTF">2014-09-26T11:09:22Z</dcterms:modified>
  <cp:revision>26</cp:revision>
  <dc:subject/>
  <dc:title>送元二使安西</dc:title>
</cp:coreProperties>
</file>