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8964613" cy="6804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F7-8416-4579-9832-34F00B7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933000"/>
            <a:ext cx="80690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55F-EA00-4428-8A6E-8F59E7B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80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93300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2800" y="393300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203-B1DB-4448-8904-583581F3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58724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4720" y="158724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93300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93300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4720" y="3933000"/>
            <a:ext cx="25981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FE4-E07C-4FCB-9822-6018D813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F7A-7028-42B7-BC14-8C7DEDF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306-9428-4566-A37E-5592AF9B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39376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2800" y="1587240"/>
            <a:ext cx="39376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C92-111A-4654-9610-BF0F9A6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FAC-6C29-408D-940F-6794567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272520"/>
            <a:ext cx="80690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891-152C-4CAC-99F3-BFB0068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800" y="1587240"/>
            <a:ext cx="39376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93300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107-3403-48B4-B7A5-3680EA4A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39376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80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800" y="393300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CDF-9A2E-4026-A424-4E672CF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2800" y="1587240"/>
            <a:ext cx="3937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933000"/>
            <a:ext cx="80690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BEF-FA13-452F-BC9E-D45ACAE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22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7644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7840" y="6195960"/>
            <a:ext cx="2092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1800" y="6195960"/>
            <a:ext cx="2840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24560" y="6195960"/>
            <a:ext cx="2092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457D2B2-FEDC-4EE5-BFC9-7E1D838CF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47760" y="274176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76760" y="890640"/>
            <a:ext cx="3209040" cy="98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59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362840" y="873720"/>
            <a:ext cx="1133640" cy="10461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139920" y="2398680"/>
            <a:ext cx="2505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just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战国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98720" y="44928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雎对曰：“否，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若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。安陵君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王而守之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里不敢易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岂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百里哉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93640"/>
            <a:ext cx="89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秦王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怫然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怒，谓唐雎曰：“公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亦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尝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闻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天子之怒乎？”唐雎对曰：“臣未尝闻也。”秦王曰：“天子之怒，伏尸百万，流血千里。”唐雎曰：“大王尝闻布衣之怒乎？”秦王曰：“布衣之怒，亦免冠徒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跣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抢地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尔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9280" y="522360"/>
            <a:ext cx="851544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唐雎曰：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此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庸夫之怒也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非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士之怒也。夫专诸之刺 王僚也，彗星袭月；聂政之刺韩傀也，白虹贯日；要离之刺 庆忌也，仓鹰击于殿上。此三子者，皆布衣之士也，怀怒未发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休祲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降于天，与臣而将四矣。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士必怒，伏尸二人，流血五步， 天下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缟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今日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也。”挺剑而起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0" algn="just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色挠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长跪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谢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之曰：“先生坐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至于此！寡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谕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矣：夫韩、魏灭亡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安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五十里之地存者，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有先生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1001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78000"/>
            <a:ext cx="89647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 解释加点的词，注意比较它们的词义。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982800"/>
            <a:ext cx="75452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9360" y="1738440"/>
            <a:ext cx="4474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360" y="3402000"/>
            <a:ext cx="4474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9360" y="4989600"/>
            <a:ext cx="4474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40280" y="1209600"/>
            <a:ext cx="44748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8480" y="2041560"/>
            <a:ext cx="7142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0240" y="2797200"/>
            <a:ext cx="7142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5480" y="3673440"/>
            <a:ext cx="7142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54120" y="4535640"/>
            <a:ext cx="62568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8760" y="5367240"/>
            <a:ext cx="7142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7720" y="1360440"/>
            <a:ext cx="223920" cy="1209600"/>
          </a:xfrm>
          <a:custGeom>
            <a:avLst/>
            <a:gdLst>
              <a:gd name="textAreaLeft" fmla="*/ 143280 w 223920"/>
              <a:gd name="textAreaRight" fmla="*/ 224280 w 223920"/>
              <a:gd name="textAreaTop" fmla="*/ 31320 h 1209600"/>
              <a:gd name="textAreaBottom" fmla="*/ 1178280 h 12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7720" y="3024360"/>
            <a:ext cx="223920" cy="1209600"/>
          </a:xfrm>
          <a:custGeom>
            <a:avLst/>
            <a:gdLst>
              <a:gd name="textAreaLeft" fmla="*/ 143280 w 223920"/>
              <a:gd name="textAreaRight" fmla="*/ 224280 w 223920"/>
              <a:gd name="textAreaTop" fmla="*/ 31320 h 1209600"/>
              <a:gd name="textAreaBottom" fmla="*/ 1178280 h 12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4687920"/>
            <a:ext cx="223920" cy="1209600"/>
          </a:xfrm>
          <a:custGeom>
            <a:avLst/>
            <a:gdLst>
              <a:gd name="textAreaLeft" fmla="*/ 143280 w 223920"/>
              <a:gd name="textAreaRight" fmla="*/ 224280 w 223920"/>
              <a:gd name="textAreaTop" fmla="*/ 31320 h 1209600"/>
              <a:gd name="textAreaBottom" fmla="*/ 1178280 h 12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1400" y="258840"/>
            <a:ext cx="829332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2687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检测   尽量不看注释，试译下列重点语句。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然，受地于先王，愿终守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以君为长者，故不错意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王尝闻布衣之怒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流血五步，天下缟素，今日是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669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 王色挠，长跪而谢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9280" y="378000"/>
            <a:ext cx="70977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师归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8000" y="1025640"/>
            <a:ext cx="76942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以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以大易小。（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⑵</a:t>
            </a: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有先生也。（  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⑶</a:t>
            </a: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。（    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⑷</a:t>
            </a: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以五十里之地存者。（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士必怒，伏尸二人 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（如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也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（像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徒     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(1 )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免冠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徒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跣（光着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徒</a:t>
            </a:r>
            <a:r>
              <a:rPr b="1" lang="zh-CN" sz="2800" spc="-1" strike="noStrike">
                <a:solidFill>
                  <a:srgbClr val="000808"/>
                </a:solidFill>
                <a:latin typeface="Tahoma"/>
              </a:rPr>
              <a:t>以有先生也（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38720" y="954000"/>
            <a:ext cx="1008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1817640"/>
            <a:ext cx="12240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83080" y="2538360"/>
            <a:ext cx="109080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402000"/>
            <a:ext cx="93672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凭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7840" y="217800"/>
            <a:ext cx="6510240" cy="7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陵君因使唐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（到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休祲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（从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仓鹰击于殿上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（到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于君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（对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57280" y="1170000"/>
            <a:ext cx="60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通假字：</a:t>
            </a:r>
            <a:br>
              <a:rPr sz="3600"/>
            </a:b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、不</a:t>
            </a:r>
            <a:r>
              <a:rPr b="1" lang="zh-CN" sz="3600" spc="-1" strike="noStrike" u="sng">
                <a:solidFill>
                  <a:srgbClr val="000808"/>
                </a:solidFill>
                <a:uFillTx/>
                <a:latin typeface="Tahoma"/>
              </a:rPr>
              <a:t>说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：通“悦”，高兴</a:t>
            </a:r>
            <a:br>
              <a:rPr sz="3600"/>
            </a:b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、</a:t>
            </a:r>
            <a:r>
              <a:rPr b="1" lang="zh-CN" sz="3600" spc="-1" strike="noStrike" u="sng">
                <a:solidFill>
                  <a:srgbClr val="000808"/>
                </a:solidFill>
                <a:uFillTx/>
                <a:latin typeface="Tahoma"/>
              </a:rPr>
              <a:t>错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意：通“措”，安置</a:t>
            </a:r>
            <a:br>
              <a:rPr sz="3600"/>
            </a:b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、</a:t>
            </a:r>
            <a:r>
              <a:rPr b="1" lang="zh-CN" sz="3600" spc="-1" strike="noStrike" u="sng">
                <a:solidFill>
                  <a:srgbClr val="000808"/>
                </a:solidFill>
                <a:uFillTx/>
                <a:latin typeface="Tahoma"/>
              </a:rPr>
              <a:t>仓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鹰：通“苍”，青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词类活用：</a:t>
            </a:r>
            <a:br>
              <a:rPr sz="3600"/>
            </a:br>
            <a:r>
              <a:rPr b="1" lang="zh-CN" sz="3600" spc="-1" strike="noStrike" u="sng">
                <a:solidFill>
                  <a:srgbClr val="000808"/>
                </a:solidFill>
                <a:uFillTx/>
                <a:latin typeface="Tahoma"/>
              </a:rPr>
              <a:t>缟素</a:t>
            </a:r>
            <a:r>
              <a:rPr b="1" lang="zh-CN" sz="3600" spc="-1" strike="noStrike">
                <a:solidFill>
                  <a:srgbClr val="000808"/>
                </a:solidFill>
                <a:latin typeface="Tahoma"/>
              </a:rPr>
              <a:t>：穿丧服（名词作动词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360" y="375840"/>
            <a:ext cx="8069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258560"/>
            <a:ext cx="8372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自学  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，理清故事情节，简要概括各段内容，理清文章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秦王想要并吞安陵国，采用了哪些手段？唐雎是如何应对的？最后结果如何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3f11e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f11e7"/>
                </a:solidFill>
                <a:latin typeface="Arial"/>
              </a:rPr>
              <a:t>从全文看，秦王是什么样的人？唐雎是什么样的人？文中是用什么方法来塑造人物形象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840" y="272880"/>
            <a:ext cx="806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95560" y="1115640"/>
            <a:ext cx="76197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积累文言词语， 训练学生朗读、翻译、复述能力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学习本文通过对话描写表现人物形象的写法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 学习唐雎作为小国之臣却不畏强权、敢于斗争、善于斗争的精神；激发学生学习文言文，了解民族文化的热情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1640" y="0"/>
            <a:ext cx="6894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教师拓展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各段的段意。</a:t>
            </a: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440" y="431640"/>
            <a:ext cx="20923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440" y="1133640"/>
            <a:ext cx="55148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440" y="2495520"/>
            <a:ext cx="6873840" cy="11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责备安陵君，并露威胁之意，唐雎从容镇定，据理答辩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66960" y="3884760"/>
            <a:ext cx="672444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面对秦王的武力恐吓，拼死抗争，捍卫安陵国和自己的尊严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36640" y="5216400"/>
            <a:ext cx="39708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被唐雎折服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2960" y="378000"/>
            <a:ext cx="82137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840" y="2116080"/>
            <a:ext cx="8069040" cy="16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先是采用“以大易小”的欺诈手段，被安陵君拒绝后，责备安陵君，并露威胁之意。唐雎则从容镇定，据理答辩。秦王大怒，用武力恐吓相威胁，但唐雎抗辩，步步紧逼，直至挺剑而起。秦王终于色挠，长跪而谢。唐雎不辱使命，捍卫了安陵国和自己的尊严。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2360" y="449280"/>
            <a:ext cx="84423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cc0000"/>
                </a:solidFill>
                <a:latin typeface="宋体"/>
              </a:rPr>
              <a:t>从这个故事可以看出秦王和唐雎各是什么样的人？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89200" y="1601640"/>
            <a:ext cx="56786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663300"/>
                </a:solidFill>
                <a:latin typeface="宋体"/>
              </a:rPr>
              <a:t>一个贪得无厌、阴险狡诈，骄横狂暴、外强中干，色厉内荏的封建统治者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4000" y="3689280"/>
            <a:ext cx="5902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cc0000"/>
                </a:solidFill>
                <a:latin typeface="宋体"/>
              </a:rPr>
              <a:t>一个从容镇定，有胆有识，具有凛然正气，不畏强暴的谋臣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1025640" y="1746360"/>
            <a:ext cx="1368360" cy="2041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1170000" y="4122720"/>
            <a:ext cx="1295280" cy="204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300" spc="-1" strike="noStrike">
                <a:solidFill>
                  <a:srgbClr val="3f11e7"/>
                </a:solidFill>
                <a:latin typeface="Arial"/>
              </a:rPr>
              <a:t>塑造人物形象的方法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通过语言描写塑造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通过对比来刻画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57280" y="0"/>
            <a:ext cx="7507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3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了解作家、作品及相关背景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" y="665280"/>
            <a:ext cx="85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《战国策》战国时代国别体史书，共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3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篇。西汉成帝时，刘向根据战国末年的纵横家著作整理编辑而成。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记事上起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前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453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，下迄前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209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年，载录了战国时期各国政治、军事、外交各方面的历史，着重记录了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谋臣的策略和言论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。雄辩的论说，铺张的叙事，尖刻的讽刺，耐人寻味的幽默，构成了独特的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语言风格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。它标志着我国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古代散文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发展到一个新的高度，给后世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散文和辞赋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的创作以重大影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8000" y="522000"/>
            <a:ext cx="8226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808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相关背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808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战国时期的最后十年，秦以秋风扫落叶之势相继歼灭了各诸侯国。公元前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808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年灭韩，公元前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22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年灭魏。安陵是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808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附庸小国，秦企图用“易地”的政治骗局不战而屈人之兵（秦人往往借迁徙之名行灭国之实），由此引出了安陵君派唐雎出使秦国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2720" y="453960"/>
            <a:ext cx="740880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听读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下列字的读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440" y="2116080"/>
            <a:ext cx="6499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    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跣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440" y="4157640"/>
            <a:ext cx="66499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夫    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祲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素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7560" y="1511280"/>
            <a:ext cx="6797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jū         fú                  ɡuān   xiǎn      nì         ná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440" y="3402000"/>
            <a:ext cx="6433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qiānɡ        yōnɡ               jìn       ɡǎo         ɡu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5640" y="449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8997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300" spc="-1" strike="noStrike" u="sng">
                <a:solidFill>
                  <a:srgbClr val="ff0066"/>
                </a:solidFill>
                <a:uFillTx/>
                <a:latin typeface="Arial"/>
              </a:rPr>
              <a:t>学生自学，讨论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注释，翻译全文，注意文中重点文言词语，标出有疑问的地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难的字词句，小组讨论解决，也可以向老师询问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4840" y="-360"/>
            <a:ext cx="8373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8080" y="615600"/>
            <a:ext cx="8373960" cy="52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展示      翻译课文，提示重点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“至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轻寡人与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“唐雎对曰”至“岂直五百里哉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至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头抢地尔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雎曰”至“挺剑而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7840" y="272520"/>
            <a:ext cx="80690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解释句中加红色的词语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7840" y="1587240"/>
            <a:ext cx="80690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秦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谓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安陵君曰：“寡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欲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五百里之地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易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安陵，安陵君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许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寡人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陵君曰：“大王加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以大易小，甚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虽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受地于先王，愿终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弗敢易！”秦王不说。安陵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唐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1001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3640" y="665280"/>
            <a:ext cx="837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秦王谓唐雎曰：“寡人以五百里之地易安陵，安陵君不听寡人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何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也？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且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秦灭韩亡魏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君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以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五十里之地存者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以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君为长者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故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不错意也。今吾以十倍之地，请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广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于君，而君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逆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寡人者，轻寡人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1:59:48Z</dcterms:created>
  <dc:creator/>
  <dc:description/>
  <dc:language>en-US</dc:language>
  <cp:lastModifiedBy/>
  <dcterms:modified xsi:type="dcterms:W3CDTF">2013-02-19T07:26:48Z</dcterms:modified>
  <cp:revision>0</cp:revision>
  <dc:subject/>
  <dc:title/>
</cp:coreProperties>
</file>