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7.jpeg" ContentType="image/jpeg"/>
  <Override PartName="/ppt/media/image15.jpeg" ContentType="image/jpeg"/>
  <Override PartName="/ppt/media/camera.wav" ContentType="audio/x-wav"/>
  <Override PartName="/ppt/media/image12.jpeg" ContentType="image/jpeg"/>
  <Override PartName="/ppt/media/image14.jpeg" ContentType="image/jpeg"/>
  <Override PartName="/ppt/media/image13.jpeg" ContentType="image/jpeg"/>
  <Override PartName="/ppt/media/zr57.wav" ContentType="audio/x-wav"/>
  <Override PartName="/ppt/media/image4.png" ContentType="image/png"/>
  <Override PartName="/ppt/media/image1.jpeg" ContentType="image/jpeg"/>
  <Override PartName="/ppt/media/image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zr25.wav" ContentType="audio/x-wav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8" end="2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3F6-EAF1-4AF4-BE24-B3E73BE2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923-35CD-4E9F-AA16-FD36A264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E4C-16C5-4278-B3A3-6C21FA13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A25-4636-4975-B943-26281144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71A-2D61-426E-8748-D87D82E3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BB1-B6E0-46B3-9688-0209C6C0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D96-A44D-4434-9B3C-0E963220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A09-C7EA-44BA-9776-04BC4E76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58F-D5FF-4A0B-AF42-9FA3E894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9B2-D432-4322-A1D6-9D24B921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748-8BA1-4FC5-83FA-E7553D0E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D06-1203-4AA0-AFB5-AB25CCC0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8285-0EF0-4D93-8481-10C2FBC2DEF6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zr25.wav"/><Relationship Id="rId3" Type="http://schemas.openxmlformats.org/officeDocument/2006/relationships/audio" Target="../media/zr57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bsimg.qq.com/2005/06/14/006/89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5416.com/bbs/UploadFile/2004-11/2004112723423957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5416.com/bbs/UploadFile/2004-11/20041127234328549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y5416.com/bbs/UploadFile/2004-11/20041127234445935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5416.com/bbs/UploadFile/2004-11/20041127234550486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5416.com/bbs/UploadFile/2004-11/2004112723476715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y5416.com/bbs/UploadFile/2004-11/2004112723487134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y5416.com/bbs/UploadFile/2004-11/2004112801446560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qxtx.com/bbs/printpage.asp?BoardID=25&amp;ID=1811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bbs.changde.gov.cn/printpage.asp?BoardID=34&amp;ID=88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28"/>
          <p:cNvPicPr/>
          <p:nvPr/>
        </p:nvPicPr>
        <p:blipFill>
          <a:blip r:embed="rId1"/>
          <a:stretch/>
        </p:blipFill>
        <p:spPr>
          <a:xfrm>
            <a:off x="0" y="-41400"/>
            <a:ext cx="960120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63244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d60093"/>
                </a:solidFill>
                <a:latin typeface="隶书"/>
                <a:ea typeface="隶书"/>
              </a:rPr>
              <a:t>桃 花 源 记</a:t>
            </a:r>
            <a:endParaRPr b="0" i="1" lang="en-US" sz="66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66720" y="3581280"/>
            <a:ext cx="3048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陶渊明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r2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r5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12760" y="498600"/>
            <a:ext cx="8931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此中人语（       ）云：“（              ）不足为外人道也。 ”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        ）既出，得其船，便扶向路，处处志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        ）及郡下，诣太守，说如此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        ）寻向所志，遂迷，不复得路。</a:t>
            </a:r>
            <a:br>
              <a:rPr sz="2400"/>
            </a:b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南阳刘子骥，高尚士也，闻之，欣然规往。未果，寻病终。后遂无问津者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644200" y="45720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渔人                桃花源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00000" y="121932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渔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80880" y="1676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渔人出了山洞以后，找到他的船，就沿着先前的路回去，一路上处处标上记号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71640" y="259092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渔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190160" y="33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渔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0" y="502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是位清高的隐士，听到这个消息，兴致勃勃地打算前往桃花源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没有实现，不久就病死了。从此以后，就不再有探访桃花源的人了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93a18"/>
                </a:solidFill>
                <a:latin typeface="Times New Roman"/>
                <a:ea typeface="幼圆"/>
              </a:rPr>
              <a:t>从课文题目中，你能联想到一个什么成语？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144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63634"/>
                </a:solidFill>
                <a:latin typeface="Times New Roman"/>
                <a:ea typeface="华文彩云"/>
              </a:rPr>
              <a:t>世外桃源</a:t>
            </a:r>
            <a:endParaRPr b="0" lang="en-US" sz="9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0" y="4549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-----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现指不受外界干扰的理想处所或与世隔绝的幻想世界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93a18"/>
                </a:solidFill>
                <a:latin typeface="Times New Roman"/>
              </a:rPr>
              <a:t>你认为课文中的桃花源是一个</a:t>
            </a:r>
            <a:br>
              <a:rPr sz="3600"/>
            </a:br>
            <a:r>
              <a:rPr b="1" i="1" lang="zh-CN" sz="3600" spc="-1" strike="noStrike">
                <a:solidFill>
                  <a:srgbClr val="393a18"/>
                </a:solidFill>
                <a:latin typeface="Times New Roman"/>
              </a:rPr>
              <a:t>（                              ）的地方？</a:t>
            </a:r>
            <a:r>
              <a:rPr b="0" i="1" lang="zh-CN" sz="3600" spc="-1" strike="noStrike" u="sng">
                <a:solidFill>
                  <a:srgbClr val="795241"/>
                </a:solidFill>
                <a:uFillTx/>
                <a:latin typeface="Times New Roman"/>
              </a:rPr>
              <a:t> 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0" name="Picture 7" descr="05"/>
          <p:cNvPicPr/>
          <p:nvPr/>
        </p:nvPicPr>
        <p:blipFill>
          <a:blip r:embed="rId1"/>
          <a:stretch/>
        </p:blipFill>
        <p:spPr>
          <a:xfrm>
            <a:off x="-228600" y="-173160"/>
            <a:ext cx="9829800" cy="7040520"/>
          </a:xfrm>
          <a:prstGeom prst="rect">
            <a:avLst/>
          </a:prstGeom>
          <a:ln w="0">
            <a:noFill/>
          </a:ln>
        </p:spPr>
      </p:pic>
      <p:sp>
        <p:nvSpPr>
          <p:cNvPr id="141" name="WordArt 2"/>
          <p:cNvSpPr txBox="1"/>
          <p:nvPr/>
        </p:nvSpPr>
        <p:spPr>
          <a:xfrm>
            <a:off x="0" y="0"/>
            <a:ext cx="8915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393a18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文中描写桃花源景色的句子有哪些？</a:t>
            </a:r>
            <a:endParaRPr b="0" lang="en-US" sz="4400" spc="1" strike="noStrike">
              <a:ln w="9360">
                <a:solidFill>
                  <a:srgbClr val="393a18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3" name="Picture 6" descr="8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60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0" y="0"/>
            <a:ext cx="8763120" cy="947160"/>
          </a:xfrm>
          <a:prstGeom prst="rect">
            <a:avLst/>
          </a:prstGeom>
          <a:solidFill>
            <a:srgbClr val="aa947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忽逢桃花林，夹岸数百步，中无杂树，芳草鲜美，落英缤纷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6" name="Picture 6" descr="200411272342395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土地平旷，屋舍俨然，有良田美池桑竹之属。阡陌交通，鸡犬相闻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0" y="0"/>
            <a:ext cx="903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60093"/>
                </a:solidFill>
                <a:uFillTx/>
                <a:latin typeface="Times New Roman"/>
              </a:rPr>
              <a:t>风景优美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绿水长流，桃花夭夭，花片纷飞，嫩草芳香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60093"/>
                </a:solidFill>
                <a:uFillTx/>
                <a:latin typeface="Times New Roman"/>
              </a:rPr>
              <a:t>环境平和、宁静、淡远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如一幅祥和、古朴的田园风景画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38240"/>
            <a:ext cx="9144000" cy="360"/>
          </a:xfrm>
          <a:prstGeom prst="rect">
            <a:avLst/>
          </a:prstGeom>
          <a:solidFill>
            <a:srgbClr val="a9d4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1" name="Picture 7" descr="200411272343285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066680"/>
            <a:ext cx="4495680" cy="579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200411272344459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990720"/>
            <a:ext cx="4495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4" name="Picture 266" descr="200411272345504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55" name="WordArt 2"/>
          <p:cNvSpPr txBox="1"/>
          <p:nvPr/>
        </p:nvSpPr>
        <p:spPr>
          <a:xfrm>
            <a:off x="457200" y="152280"/>
            <a:ext cx="8229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93a18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文中描写桃花源村民生活的句子有哪些？</a:t>
            </a:r>
            <a:endParaRPr b="0" lang="en-US" sz="2400" spc="1" strike="noStrike">
              <a:ln w="9360">
                <a:solidFill>
                  <a:srgbClr val="393a18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0880" y="6858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其中往来种作，男女衣着，悉如外人。黄发垂髫并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怡然自乐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。       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8" name="Picture 2" descr="20041127234767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0600" cy="326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2004112723487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3583080"/>
            <a:ext cx="4724280" cy="327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200411280144656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657600"/>
            <a:ext cx="4724280" cy="3016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6517800" y="304920"/>
            <a:ext cx="7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便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要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还家，设酒杀鸡作食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887440" y="1066680"/>
            <a:ext cx="20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村中闻有此人，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咸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来问讯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724280" y="175248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余人各复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延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至其家，皆出酒食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WordArt 12"/>
          <p:cNvSpPr txBox="1"/>
          <p:nvPr/>
        </p:nvSpPr>
        <p:spPr>
          <a:xfrm>
            <a:off x="533520" y="4572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93a18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文中描写桃花源村民生活的句子有哪些？</a:t>
            </a:r>
            <a:endParaRPr b="0" lang="en-US" sz="2400" spc="1" strike="noStrike">
              <a:ln w="9360">
                <a:solidFill>
                  <a:srgbClr val="393a18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28600" y="129528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其中往来种作，男女衣着，悉如外人。黄发垂髫并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怡然自乐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。     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便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要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还家，设酒杀鸡作食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村中闻有此人，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咸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来问讯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余人各复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延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至其家，皆出酒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0" y="3962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60093"/>
                </a:solidFill>
                <a:uFillTx/>
                <a:latin typeface="Times New Roman"/>
              </a:rPr>
              <a:t>生活和平、安宁、幸福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（自食其力，自给自足，自得其乐）</a:t>
            </a:r>
            <a:r>
              <a:rPr b="1" lang="zh-CN" sz="3200" spc="-1" strike="noStrike" u="sng">
                <a:solidFill>
                  <a:srgbClr val="d60093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                </a:t>
            </a:r>
            <a:r>
              <a:rPr b="1" lang="zh-CN" sz="3200" spc="-1" strike="noStrike" u="sng">
                <a:solidFill>
                  <a:srgbClr val="d60093"/>
                </a:solidFill>
                <a:uFillTx/>
                <a:latin typeface="Times New Roman"/>
              </a:rPr>
              <a:t>民风淳朴，热情好客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60093"/>
                </a:solidFill>
                <a:uFillTx/>
                <a:latin typeface="Times New Roman"/>
              </a:rPr>
              <a:t>与世隔绝</a:t>
            </a:r>
            <a:r>
              <a:rPr b="1" lang="zh-CN" sz="3200" spc="-1" strike="noStrike" u="sng">
                <a:solidFill>
                  <a:srgbClr val="d60093"/>
                </a:solidFill>
                <a:uFillTx/>
                <a:latin typeface="Times New Roman"/>
              </a:rPr>
              <a:t>,</a:t>
            </a:r>
            <a:r>
              <a:rPr b="1" lang="zh-CN" sz="3200" spc="-1" strike="noStrike" u="sng">
                <a:solidFill>
                  <a:srgbClr val="d60093"/>
                </a:solidFill>
                <a:uFillTx/>
                <a:latin typeface="Times New Roman"/>
              </a:rPr>
              <a:t>与世无争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3393720" y="2971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468360" y="3357720"/>
            <a:ext cx="64764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393a18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2056320" y="249120"/>
            <a:ext cx="4418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795241"/>
                </a:solidFill>
                <a:latin typeface="Times New Roman"/>
              </a:rPr>
              <a:t>                                       </a:t>
            </a:r>
            <a:r>
              <a:rPr b="1" lang="zh-CN" sz="2500" spc="-1" strike="noStrike">
                <a:solidFill>
                  <a:srgbClr val="795241"/>
                </a:solidFill>
                <a:latin typeface="Times New Roman"/>
              </a:rPr>
              <a:t>教学目标：</a:t>
            </a: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795241"/>
                </a:solidFill>
                <a:latin typeface="Times New Roman"/>
              </a:rPr>
              <a:t>1</a:t>
            </a:r>
            <a:r>
              <a:rPr b="1" lang="en-US" sz="2500" spc="-1" strike="noStrike">
                <a:solidFill>
                  <a:srgbClr val="795241"/>
                </a:solidFill>
                <a:latin typeface="宋体"/>
              </a:rPr>
              <a:t>.</a:t>
            </a:r>
            <a:r>
              <a:rPr b="1" lang="zh-CN" sz="2500" spc="-1" strike="noStrike">
                <a:solidFill>
                  <a:srgbClr val="795241"/>
                </a:solidFill>
                <a:latin typeface="宋体"/>
              </a:rPr>
              <a:t>正确、流利地朗读、背诵课文；</a:t>
            </a:r>
            <a:r>
              <a:rPr b="1" lang="zh-CN" sz="2500" spc="-1" strike="noStrike">
                <a:solidFill>
                  <a:srgbClr val="795241"/>
                </a:solidFill>
                <a:latin typeface="Times New Roman"/>
              </a:rPr>
              <a:t> </a:t>
            </a:r>
            <a:br>
              <a:rPr sz="2500"/>
            </a:br>
            <a:r>
              <a:rPr b="1" lang="zh-CN" sz="2500" spc="-1" strike="noStrike">
                <a:solidFill>
                  <a:srgbClr val="795241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795241"/>
                </a:solidFill>
                <a:latin typeface="宋体"/>
              </a:rPr>
              <a:t>.</a:t>
            </a:r>
            <a:r>
              <a:rPr b="1" lang="zh-CN" sz="2500" spc="-1" strike="noStrike">
                <a:solidFill>
                  <a:srgbClr val="795241"/>
                </a:solidFill>
                <a:latin typeface="宋体"/>
              </a:rPr>
              <a:t>积累常用文言词语的用法（古今异义、一词多义）；</a:t>
            </a:r>
            <a:r>
              <a:rPr b="1" lang="zh-CN" sz="2500" spc="-1" strike="noStrike">
                <a:solidFill>
                  <a:srgbClr val="795241"/>
                </a:solidFill>
                <a:latin typeface="Times New Roman"/>
              </a:rPr>
              <a:t> </a:t>
            </a:r>
            <a:br>
              <a:rPr sz="2500"/>
            </a:br>
            <a:r>
              <a:rPr b="1" lang="zh-CN" sz="2500" spc="-1" strike="noStrike">
                <a:solidFill>
                  <a:srgbClr val="795241"/>
                </a:solidFill>
                <a:latin typeface="Times New Roman"/>
              </a:rPr>
              <a:t>3</a:t>
            </a:r>
            <a:r>
              <a:rPr b="1" lang="en-US" sz="2500" spc="-1" strike="noStrike">
                <a:solidFill>
                  <a:srgbClr val="795241"/>
                </a:solidFill>
                <a:latin typeface="宋体"/>
              </a:rPr>
              <a:t>.</a:t>
            </a:r>
            <a:r>
              <a:rPr b="1" lang="zh-CN" sz="2500" spc="-1" strike="noStrike">
                <a:solidFill>
                  <a:srgbClr val="795241"/>
                </a:solidFill>
                <a:latin typeface="宋体"/>
              </a:rPr>
              <a:t>整体把握文章内容。</a:t>
            </a:r>
            <a:r>
              <a:rPr b="1" lang="zh-CN" sz="2500" spc="-1" strike="noStrike">
                <a:solidFill>
                  <a:srgbClr val="795241"/>
                </a:solidFill>
                <a:latin typeface="Times New Roman"/>
              </a:rPr>
              <a:t> </a:t>
            </a:r>
            <a:br>
              <a:rPr sz="2500"/>
            </a:br>
            <a:r>
              <a:rPr b="1" lang="zh-CN" sz="2500" spc="-1" strike="noStrike">
                <a:solidFill>
                  <a:srgbClr val="795241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795241"/>
                </a:solidFill>
                <a:latin typeface="宋体"/>
              </a:rPr>
              <a:t>.</a:t>
            </a:r>
            <a:r>
              <a:rPr b="1" lang="zh-CN" sz="2500" spc="-1" strike="noStrike">
                <a:solidFill>
                  <a:srgbClr val="795241"/>
                </a:solidFill>
                <a:latin typeface="宋体"/>
              </a:rPr>
              <a:t>理解作者笔下的社会理想及作者寄托的思想感情。</a:t>
            </a:r>
            <a:r>
              <a:rPr b="1" lang="zh-CN" sz="25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7" name="Picture 4" descr="25"/>
          <p:cNvPicPr/>
          <p:nvPr/>
        </p:nvPicPr>
        <p:blipFill>
          <a:blip r:embed="rId16"/>
          <a:stretch/>
        </p:blipFill>
        <p:spPr>
          <a:xfrm>
            <a:off x="0" y="3017880"/>
            <a:ext cx="91440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2743200"/>
            <a:ext cx="94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问今是何世，乃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不知有汉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无论魏晋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77524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思考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桃花源人为什么要躲进桃花源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492280" y="1295280"/>
            <a:ext cx="511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795241"/>
                </a:solidFill>
                <a:latin typeface="Times New Roman"/>
              </a:rPr>
              <a:t>自云</a:t>
            </a:r>
            <a:r>
              <a:rPr b="0" i="1" lang="zh-CN" sz="2800" spc="-1" strike="noStrike" u="sng">
                <a:solidFill>
                  <a:srgbClr val="795241"/>
                </a:solidFill>
                <a:uFillTx/>
                <a:latin typeface="Times New Roman"/>
              </a:rPr>
              <a:t>先世</a:t>
            </a:r>
            <a:r>
              <a:rPr b="0" i="1" lang="zh-CN" sz="2800" spc="-1" strike="noStrike" u="sng">
                <a:solidFill>
                  <a:srgbClr val="393a18"/>
                </a:solidFill>
                <a:uFillTx/>
                <a:latin typeface="Times New Roman"/>
              </a:rPr>
              <a:t>避</a:t>
            </a:r>
            <a:r>
              <a:rPr b="0" i="1" lang="zh-CN" sz="2800" spc="-1" strike="noStrike" u="sng">
                <a:solidFill>
                  <a:srgbClr val="795241"/>
                </a:solidFill>
                <a:uFillTx/>
                <a:latin typeface="Times New Roman"/>
              </a:rPr>
              <a:t>秦时乱</a:t>
            </a:r>
            <a:r>
              <a:rPr b="0" lang="zh-CN" sz="2800" spc="-1" strike="noStrike">
                <a:solidFill>
                  <a:srgbClr val="795241"/>
                </a:solidFill>
                <a:latin typeface="Times New Roman"/>
              </a:rPr>
              <a:t>，率妻子邑人来此</a:t>
            </a:r>
            <a:r>
              <a:rPr b="0" lang="zh-CN" sz="2800" spc="-1" strike="noStrike">
                <a:solidFill>
                  <a:srgbClr val="393a18"/>
                </a:solidFill>
                <a:latin typeface="Times New Roman"/>
              </a:rPr>
              <a:t>绝境</a:t>
            </a:r>
            <a:r>
              <a:rPr b="0" lang="zh-CN" sz="2800" spc="-1" strike="noStrike">
                <a:solidFill>
                  <a:srgbClr val="795241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393a18"/>
                </a:solidFill>
                <a:latin typeface="Times New Roman"/>
              </a:rPr>
              <a:t>不复出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95241"/>
                </a:solidFill>
                <a:latin typeface="Times New Roman"/>
              </a:rPr>
              <a:t>焉，遂于外人</a:t>
            </a:r>
            <a:r>
              <a:rPr b="0" lang="zh-CN" sz="2800" spc="-1" strike="noStrike">
                <a:solidFill>
                  <a:srgbClr val="393a18"/>
                </a:solidFill>
                <a:latin typeface="Times New Roman"/>
              </a:rPr>
              <a:t>间隔</a:t>
            </a:r>
            <a:r>
              <a:rPr b="0" lang="zh-CN" sz="2800" spc="-1" strike="noStrike">
                <a:solidFill>
                  <a:srgbClr val="795241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79680" y="234936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他们对外面世界了解吗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533520" y="3505320"/>
            <a:ext cx="82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“渔人一一为具言所闻”，渔人可能会对他们说些什么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80880" y="4419720"/>
            <a:ext cx="85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为什么桃花源人听了以后“皆叹惋”？他们心里会怎么想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998800" y="5410080"/>
            <a:ext cx="22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为什么桃花源人对渔人说桃花源“不足为外人道也”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80880" y="3886200"/>
            <a:ext cx="94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外面的世界战乱频繁，人民生活于苦难之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380880" y="5943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桃花源的人不希望也不屑与世俗交往，不愿意宁静的生活被打破，同时也为渔人出而复寻“不复得路”埋下伏笔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WordArt 2"/>
          <p:cNvSpPr txBox="1"/>
          <p:nvPr/>
        </p:nvSpPr>
        <p:spPr>
          <a:xfrm>
            <a:off x="838080" y="533520"/>
            <a:ext cx="7315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rnd" w="9360">
                  <a:solidFill>
                    <a:srgbClr val="393a18"/>
                  </a:solidFill>
                  <a:custDash>
                    <a:ds d="100000" sp="1000"/>
                  </a:custDash>
                  <a:round/>
                </a:ln>
                <a:solidFill>
                  <a:srgbClr val="ff6600"/>
                </a:solidFill>
                <a:latin typeface="宋体"/>
              </a:rPr>
              <a:t>思考一下，下面的句子说明了什么？</a:t>
            </a:r>
            <a:endParaRPr b="0" lang="en-US" sz="2400" spc="1" strike="noStrike">
              <a:ln cap="rnd" w="9360">
                <a:solidFill>
                  <a:srgbClr val="393a18"/>
                </a:solidFill>
                <a:custDash>
                  <a:ds d="100000" sp="1000"/>
                </a:custDash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2733840" y="1523880"/>
            <a:ext cx="30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缘溪行，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忘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路之远近。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忽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逢桃花林…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62520" y="2057400"/>
            <a:ext cx="44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         ……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寻向所志，遂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迷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不复得路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80880" y="266688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南阳刘子骥……闻之，欣然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规往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未果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寻病终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。后遂</a:t>
            </a:r>
            <a:r>
              <a:rPr b="1" lang="zh-CN" sz="2800" spc="-1" strike="noStrike">
                <a:solidFill>
                  <a:srgbClr val="393a18"/>
                </a:solidFill>
                <a:latin typeface="Times New Roman"/>
              </a:rPr>
              <a:t>无问津者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为什么后人寻而不得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2280" y="45720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795241"/>
                </a:solidFill>
                <a:latin typeface="Times New Roman"/>
              </a:rPr>
              <a:t>种种</a:t>
            </a:r>
            <a:r>
              <a:rPr b="1" lang="zh-CN" sz="2800" spc="-1" strike="noStrike" u="sng">
                <a:solidFill>
                  <a:srgbClr val="795241"/>
                </a:solidFill>
                <a:uFillTx/>
                <a:latin typeface="Times New Roman"/>
              </a:rPr>
              <a:t>描写为桃花源增添了神秘色彩，表面上是描写了桃花源的隐蔽，实质上，暗示了桃花源只是作者虚构的一种美好理想境界，寄托了作者对现实生活的不满、对理想生活的向往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86" name="Picture 5" descr="200532593941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2440"/>
            <a:ext cx="9144000" cy="6694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533520" y="29844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93a18"/>
                </a:solidFill>
                <a:latin typeface="Times New Roman"/>
              </a:rPr>
              <a:t>课文中的桃花源是一个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93a18"/>
                </a:solidFill>
                <a:latin typeface="Times New Roman"/>
              </a:rPr>
              <a:t>宁静安乐、虚无缥缈的理想社会</a:t>
            </a:r>
            <a:r>
              <a:rPr b="0" lang="zh-CN" sz="3600" spc="-1" strike="noStrike" u="sng">
                <a:solidFill>
                  <a:srgbClr val="795241"/>
                </a:solidFill>
                <a:uFillTx/>
                <a:latin typeface="Times New Roman"/>
              </a:rPr>
              <a:t>   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947520" y="763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研读鉴赏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95280" y="1771560"/>
            <a:ext cx="8353440" cy="1191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Arial"/>
                <a:ea typeface="隶书"/>
              </a:rPr>
              <a:t>一、改写</a:t>
            </a: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改写第一段写景部分。可以展开一定的想象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95280" y="3716280"/>
            <a:ext cx="83534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Arial"/>
                <a:ea typeface="隶书"/>
              </a:rPr>
              <a:t>二、炼句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我们随着渔人一同走进桃花源，阅读</a:t>
            </a:r>
            <a:r>
              <a:rPr b="1" lang="en-US" sz="3600" spc="-1" strike="noStrike">
                <a:solidFill>
                  <a:srgbClr val="463634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463634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段，告诉同学，你喜欢这个地方吗？请用这样的句式回答“我喜欢，因为</a:t>
            </a:r>
            <a:r>
              <a:rPr b="1" lang="en-US" sz="3600" spc="-1" strike="noStrike">
                <a:solidFill>
                  <a:srgbClr val="463634"/>
                </a:solidFill>
                <a:latin typeface="Arial"/>
              </a:rPr>
              <a:t>……”</a:t>
            </a: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或“我不喜欢，因为</a:t>
            </a:r>
            <a:r>
              <a:rPr b="1" lang="en-US" sz="3600" spc="-1" strike="noStrike">
                <a:solidFill>
                  <a:srgbClr val="463634"/>
                </a:solidFill>
                <a:latin typeface="Arial"/>
              </a:rPr>
              <a:t>……”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4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947520" y="1052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95241"/>
                </a:solidFill>
                <a:latin typeface="Arial"/>
                <a:ea typeface="隶书"/>
              </a:rPr>
              <a:t>范例欣赏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539640" y="4110480"/>
            <a:ext cx="8136000" cy="581400"/>
          </a:xfrm>
          <a:prstGeom prst="rect">
            <a:avLst/>
          </a:prstGeom>
          <a:noFill/>
          <a:ln w="57240">
            <a:solidFill>
              <a:srgbClr val="7952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船沿着那缓缓溪水向前划行着，不知不觉中，时间就好像就此定格了，两岸的景色如幕布似的向后退着，只见一片粉红夹岸而来，晴空下，桃枝交柯，纷纷扰扰，桃花菲薄迷离。花色胭红，占全了两岸的全幅幕布，一阵清风，伴随着芬芳香气，花瓣如粉红蝴蝶，飞舞空中。有落在岸上的，有落在溪水中，悠悠荡荡，沿着春天的津渡而上，清溪泻玉，桃花放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50560" y="1341000"/>
            <a:ext cx="8497800" cy="525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463634"/>
                </a:solidFill>
                <a:latin typeface="Times New Roman"/>
              </a:rPr>
              <a:t>         </a:t>
            </a:r>
            <a:r>
              <a:rPr b="1" lang="zh-CN" sz="3100" spc="-1" strike="noStrike">
                <a:solidFill>
                  <a:srgbClr val="463634"/>
                </a:solidFill>
                <a:latin typeface="Times New Roman"/>
              </a:rPr>
              <a:t>我喜欢，这里的人热情好客，从“便要还家”看出。</a:t>
            </a:r>
            <a:endParaRPr b="0" lang="en-US" sz="31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463634"/>
                </a:solidFill>
                <a:latin typeface="Times New Roman"/>
              </a:rPr>
              <a:t>           </a:t>
            </a:r>
            <a:r>
              <a:rPr b="1" lang="zh-CN" sz="3100" spc="-1" strike="noStrike">
                <a:solidFill>
                  <a:srgbClr val="463634"/>
                </a:solidFill>
                <a:latin typeface="Times New Roman"/>
              </a:rPr>
              <a:t>我喜欢，这里没有战争，因为这里可以躲避战乱，从“白云先世避秦时乱</a:t>
            </a:r>
            <a:r>
              <a:rPr b="1" lang="en-US" sz="3100" spc="-1" strike="noStrike">
                <a:solidFill>
                  <a:srgbClr val="463634"/>
                </a:solidFill>
                <a:latin typeface="Times New Roman"/>
              </a:rPr>
              <a:t>……</a:t>
            </a:r>
            <a:r>
              <a:rPr b="1" lang="zh-CN" sz="3100" spc="-1" strike="noStrike">
                <a:solidFill>
                  <a:srgbClr val="463634"/>
                </a:solidFill>
                <a:latin typeface="Times New Roman"/>
              </a:rPr>
              <a:t>不复出焉”。</a:t>
            </a:r>
            <a:endParaRPr b="0" lang="en-US" sz="31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463634"/>
                </a:solidFill>
                <a:latin typeface="Times New Roman"/>
              </a:rPr>
              <a:t>          </a:t>
            </a:r>
            <a:r>
              <a:rPr b="1" lang="zh-CN" sz="3100" spc="-1" strike="noStrike">
                <a:solidFill>
                  <a:srgbClr val="463634"/>
                </a:solidFill>
                <a:latin typeface="Times New Roman"/>
              </a:rPr>
              <a:t>不喜欢，因为这里与世隔绝，不能与外人来往，这就会造成社会进步缓慢。</a:t>
            </a:r>
            <a:endParaRPr b="0" lang="en-US" sz="31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463634"/>
                </a:solidFill>
                <a:latin typeface="Times New Roman"/>
              </a:rPr>
              <a:t>         </a:t>
            </a:r>
            <a:r>
              <a:rPr b="1" lang="zh-CN" sz="3100" spc="-1" strike="noStrike">
                <a:solidFill>
                  <a:srgbClr val="463634"/>
                </a:solidFill>
                <a:latin typeface="Times New Roman"/>
              </a:rPr>
              <a:t>不喜欢，那里的孩子学不到知识。</a:t>
            </a:r>
            <a:endParaRPr b="0" lang="en-US" sz="31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463634"/>
                </a:solidFill>
                <a:latin typeface="Times New Roman"/>
              </a:rPr>
              <a:t>         </a:t>
            </a:r>
            <a:r>
              <a:rPr b="1" lang="zh-CN" sz="3100" spc="-1" strike="noStrike">
                <a:solidFill>
                  <a:srgbClr val="463634"/>
                </a:solidFill>
                <a:latin typeface="Times New Roman"/>
              </a:rPr>
              <a:t>不喜欢，那里的人像井底之蛙，不能出去，不能与外人交往。</a:t>
            </a:r>
            <a:endParaRPr b="0" lang="en-US" sz="31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916920" y="620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95241"/>
                </a:solidFill>
                <a:latin typeface="Arial"/>
                <a:ea typeface="隶书"/>
              </a:rPr>
              <a:t>范例欣赏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94156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24000" y="1700280"/>
            <a:ext cx="849600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463634"/>
                </a:solidFill>
                <a:latin typeface="Arial"/>
              </a:rPr>
              <a:t>白居易的有句名言说：“文章合为时而著，歌诗合为事而作”这就告诉我们文学创作它是植根于现实的，陶渊明生活的时代是晋宋易代之际，东晋王朝极端腐败，对外一味割地投降。统治集团内部互相倾轧，军阀连年混战。赋税徭役繁重。这些状况激起陶渊明思想的波澜，产生了对刘裕政权的不满，加深了对当时社会的憎恨。但他无力改变，也不愿与统治者同流合污，只好借助创作来抒发情怀，塑造了一个与污浊黑暗社会相对立的美好境界，憧憬着一种没有君主、没有剥削压迫、人人劳动、风气淳朴、平等自由的理想社会，以寄托自己的政治理想和美好的情趣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4752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归纳总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03" name="Picture 4" descr="20051229343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45736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1835280" y="981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作业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翻译句子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林尽水源。……初极狭，才通人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土地平旷，屋舍俨然，有良田美池桑竹之属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阡陌交通，鸡犬相闻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黄发垂髫，并怡然自乐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自云先世避秦时乱，率妻子邑人来此绝境，不复出焉。遂与外人间隔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问今是何世，乃不知有汉，无论魏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此人一一为具言所闻，皆叹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此中人语云：“不足为外人道也。 ”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既出，得其船，便扶向路，处处志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寻向所志，遂迷，不复得路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未果，寻病终，后遂无问津者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渔人甚异之。复前行，欲穷其林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夹岸数百步，中无杂树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芳草鲜美，落英缤纷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写出重点词在句子中的不同意思 </a:t>
            </a:r>
            <a:br>
              <a:rPr sz="2400"/>
            </a:b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一词多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1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舍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  便舍船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  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屋舍俨然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 </a:t>
            </a:r>
            <a:br>
              <a:rPr sz="2400"/>
            </a:b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2</a:t>
            </a:r>
            <a:r>
              <a:rPr b="0" lang="en-US" sz="2400" spc="-1" strike="noStrike">
                <a:solidFill>
                  <a:srgbClr val="463634"/>
                </a:solidFill>
                <a:latin typeface="_x000b__x000c_"/>
              </a:rPr>
              <a:t>.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扶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     扶向路                出郭相扶将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3</a:t>
            </a:r>
            <a:r>
              <a:rPr b="0" lang="en-US" sz="2400" spc="-1" strike="noStrike">
                <a:solidFill>
                  <a:srgbClr val="463634"/>
                </a:solidFill>
                <a:latin typeface="_x000b__x000c_"/>
              </a:rPr>
              <a:t>.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寻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寻向所志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寻病终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4</a:t>
            </a:r>
            <a:r>
              <a:rPr b="0" lang="en-US" sz="2400" spc="-1" strike="noStrike">
                <a:solidFill>
                  <a:srgbClr val="463634"/>
                </a:solidFill>
                <a:latin typeface="_x000b__x000c_"/>
              </a:rPr>
              <a:t>.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     捕鱼为业             不足为外人道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5</a:t>
            </a:r>
            <a:r>
              <a:rPr b="0" lang="en-US" sz="2400" spc="-1" strike="noStrike">
                <a:solidFill>
                  <a:srgbClr val="463634"/>
                </a:solidFill>
                <a:latin typeface="_x000b__x000c_"/>
              </a:rPr>
              <a:t>.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向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寻向所志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眈眈相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6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志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处处志之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  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寻向所志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写出下列近义词的意思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咸、悉、皆、并          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要、延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缘、扶                          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云、言、道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重点字词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豁然开朗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诣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太守   欣然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规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写出下列词语的古义和今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交通、妻子、绝境、无论、鲜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9" name="Picture 2" descr="无标题"/>
          <p:cNvPicPr/>
          <p:nvPr/>
        </p:nvPicPr>
        <p:blipFill>
          <a:blip r:embed="rId1"/>
          <a:stretch/>
        </p:blipFill>
        <p:spPr>
          <a:xfrm>
            <a:off x="3855960" y="0"/>
            <a:ext cx="52880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0" y="380880"/>
            <a:ext cx="3733920" cy="1274040"/>
          </a:xfrm>
          <a:prstGeom prst="rect">
            <a:avLst/>
          </a:prstGeom>
          <a:noFill/>
          <a:ln w="7632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63634"/>
                </a:solidFill>
                <a:latin typeface="Times New Roman"/>
              </a:rPr>
              <a:t>         </a:t>
            </a:r>
            <a:r>
              <a:rPr b="1" lang="zh-CN" sz="2200" spc="-1" strike="noStrike">
                <a:solidFill>
                  <a:srgbClr val="463634"/>
                </a:solidFill>
                <a:latin typeface="Times New Roman"/>
              </a:rPr>
              <a:t>陶渊明，东晋诗人。名潜，字元亮。少时颇有壮志，博学能文，任性不羁。 但由于当时社会动荡不安，他空有才智却难以施展。他曾做过小官，因“不为五斗米折腰”，弃官回乡从此过起了田园式的隐居生活。后人称其为“靖节先生”。代表作有诗《饮酒》、《归园田居》，散文《归去来兮辞》等。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463634"/>
                </a:solidFill>
                <a:latin typeface="宋体"/>
              </a:rPr>
              <a:t>  </a:t>
            </a:r>
            <a:r>
              <a:rPr b="1" lang="zh-CN" sz="2200" spc="-1" strike="noStrike" u="sng">
                <a:solidFill>
                  <a:srgbClr val="463634"/>
                </a:solidFill>
                <a:uFillTx/>
                <a:latin typeface="宋体"/>
              </a:rPr>
              <a:t>《桃花源诗并记》</a:t>
            </a:r>
            <a:r>
              <a:rPr b="1" lang="zh-CN" sz="2200" spc="-1" strike="noStrike">
                <a:solidFill>
                  <a:srgbClr val="463634"/>
                </a:solidFill>
                <a:latin typeface="宋体"/>
              </a:rPr>
              <a:t>寄托了诗人自己的社会理想。</a:t>
            </a:r>
            <a:r>
              <a:rPr b="1" lang="zh-CN" sz="2200" spc="-1" strike="noStrike">
                <a:solidFill>
                  <a:srgbClr val="463634"/>
                </a:solidFill>
                <a:latin typeface="_x000b__x000c_"/>
              </a:rPr>
              <a:t>“</a:t>
            </a:r>
            <a:r>
              <a:rPr b="1" lang="zh-CN" sz="2200" spc="-1" strike="noStrike">
                <a:solidFill>
                  <a:srgbClr val="463634"/>
                </a:solidFill>
                <a:latin typeface="宋体"/>
              </a:rPr>
              <a:t>诗</a:t>
            </a:r>
            <a:r>
              <a:rPr b="1" lang="zh-CN" sz="2200" spc="-1" strike="noStrike">
                <a:solidFill>
                  <a:srgbClr val="463634"/>
                </a:solidFill>
                <a:latin typeface="_x000b__x000c_"/>
              </a:rPr>
              <a:t>”</a:t>
            </a:r>
            <a:r>
              <a:rPr b="1" lang="zh-CN" sz="2200" spc="-1" strike="noStrike">
                <a:solidFill>
                  <a:srgbClr val="463634"/>
                </a:solidFill>
                <a:latin typeface="宋体"/>
              </a:rPr>
              <a:t>追述了桃花源的形成，歌咏了一个人人安居乐业的理想社会；</a:t>
            </a:r>
            <a:r>
              <a:rPr b="1" lang="zh-CN" sz="2200" spc="-1" strike="noStrike">
                <a:solidFill>
                  <a:srgbClr val="463634"/>
                </a:solidFill>
                <a:latin typeface="_x000b__x000c_"/>
              </a:rPr>
              <a:t>“</a:t>
            </a:r>
            <a:r>
              <a:rPr b="1" lang="zh-CN" sz="2200" spc="-1" strike="noStrike">
                <a:solidFill>
                  <a:srgbClr val="463634"/>
                </a:solidFill>
                <a:latin typeface="宋体"/>
              </a:rPr>
              <a:t>记</a:t>
            </a:r>
            <a:r>
              <a:rPr b="1" lang="zh-CN" sz="2200" spc="-1" strike="noStrike">
                <a:solidFill>
                  <a:srgbClr val="463634"/>
                </a:solidFill>
                <a:latin typeface="_x000b__x000c_"/>
              </a:rPr>
              <a:t>”</a:t>
            </a:r>
            <a:r>
              <a:rPr b="1" lang="zh-CN" sz="2200" spc="-1" strike="noStrike">
                <a:solidFill>
                  <a:srgbClr val="463634"/>
                </a:solidFill>
                <a:latin typeface="宋体"/>
              </a:rPr>
              <a:t>相当于诗的序。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731880" y="98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5241"/>
                </a:solidFill>
                <a:latin typeface="Arial"/>
                <a:ea typeface="隶书"/>
              </a:rPr>
              <a:t>字词积累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614240"/>
            <a:ext cx="4321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68360" y="2668680"/>
            <a:ext cx="8136000" cy="3385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豁</a:t>
            </a:r>
            <a:r>
              <a:rPr b="1" lang="zh-CN" sz="3600" spc="-1" strike="noStrike">
                <a:solidFill>
                  <a:srgbClr val="463634"/>
                </a:solidFill>
                <a:latin typeface="宋体"/>
              </a:rPr>
              <a:t>然</a:t>
            </a:r>
            <a:r>
              <a:rPr b="1" lang="en-US" sz="3600" spc="-1" strike="noStrike">
                <a:solidFill>
                  <a:srgbClr val="463634"/>
                </a:solidFill>
                <a:latin typeface="宋体"/>
              </a:rPr>
              <a:t>(    )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俨</a:t>
            </a:r>
            <a:r>
              <a:rPr b="1" lang="zh-CN" sz="3600" spc="-1" strike="noStrike">
                <a:solidFill>
                  <a:srgbClr val="463634"/>
                </a:solidFill>
                <a:latin typeface="宋体"/>
              </a:rPr>
              <a:t>然</a:t>
            </a:r>
            <a:r>
              <a:rPr b="1" lang="en-US" sz="3600" spc="-1" strike="noStrike">
                <a:solidFill>
                  <a:srgbClr val="463634"/>
                </a:solidFill>
                <a:latin typeface="宋体"/>
              </a:rPr>
              <a:t>(    )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诣</a:t>
            </a:r>
            <a:r>
              <a:rPr b="1" lang="en-US" sz="3600" spc="-1" strike="noStrike">
                <a:solidFill>
                  <a:srgbClr val="463634"/>
                </a:solidFill>
                <a:latin typeface="宋体"/>
              </a:rPr>
              <a:t>(    )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宋体"/>
              </a:rPr>
              <a:t>黄发垂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髫</a:t>
            </a:r>
            <a:r>
              <a:rPr b="1" lang="en-US" sz="3600" spc="-1" strike="noStrike">
                <a:solidFill>
                  <a:srgbClr val="463634"/>
                </a:solidFill>
                <a:latin typeface="宋体"/>
              </a:rPr>
              <a:t>(    )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要</a:t>
            </a:r>
            <a:r>
              <a:rPr b="1" lang="zh-CN" sz="3600" spc="-1" strike="noStrike">
                <a:solidFill>
                  <a:srgbClr val="463634"/>
                </a:solidFill>
                <a:latin typeface="宋体"/>
              </a:rPr>
              <a:t>还家</a:t>
            </a:r>
            <a:r>
              <a:rPr b="1" lang="en-US" sz="3600" spc="-1" strike="noStrike">
                <a:solidFill>
                  <a:srgbClr val="463634"/>
                </a:solidFill>
                <a:latin typeface="宋体"/>
              </a:rPr>
              <a:t>(    )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邑</a:t>
            </a:r>
            <a:r>
              <a:rPr b="1" lang="zh-CN" sz="3600" spc="-1" strike="noStrike">
                <a:solidFill>
                  <a:srgbClr val="463634"/>
                </a:solidFill>
                <a:latin typeface="宋体"/>
              </a:rPr>
              <a:t>人</a:t>
            </a:r>
            <a:r>
              <a:rPr b="1" lang="en-US" sz="3600" spc="-1" strike="noStrike">
                <a:solidFill>
                  <a:srgbClr val="463634"/>
                </a:solidFill>
                <a:latin typeface="宋体"/>
              </a:rPr>
              <a:t>(    )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间</a:t>
            </a:r>
            <a:r>
              <a:rPr b="1" lang="zh-CN" sz="3600" spc="-1" strike="noStrike">
                <a:solidFill>
                  <a:srgbClr val="463634"/>
                </a:solidFill>
                <a:latin typeface="宋体"/>
              </a:rPr>
              <a:t>隔</a:t>
            </a:r>
            <a:r>
              <a:rPr b="1" lang="en-US" sz="3600" spc="-1" strike="noStrike">
                <a:solidFill>
                  <a:srgbClr val="463634"/>
                </a:solidFill>
                <a:latin typeface="宋体"/>
              </a:rPr>
              <a:t>(    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阡陌</a:t>
            </a:r>
            <a:r>
              <a:rPr b="1" lang="en-US" sz="3600" spc="-1" strike="noStrike">
                <a:solidFill>
                  <a:srgbClr val="463634"/>
                </a:solidFill>
                <a:latin typeface="宋体"/>
              </a:rPr>
              <a:t>(       )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宋体"/>
              </a:rPr>
              <a:t>此中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语</a:t>
            </a:r>
            <a:r>
              <a:rPr b="1" lang="zh-CN" sz="3600" spc="-1" strike="noStrike">
                <a:solidFill>
                  <a:srgbClr val="463634"/>
                </a:solidFill>
                <a:latin typeface="宋体"/>
              </a:rPr>
              <a:t>云</a:t>
            </a:r>
            <a:r>
              <a:rPr b="1" lang="en-US" sz="3600" spc="-1" strike="noStrike">
                <a:solidFill>
                  <a:srgbClr val="463634"/>
                </a:solidFill>
                <a:latin typeface="宋体"/>
              </a:rPr>
              <a:t>(    )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838520" y="302904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uò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493880" y="31003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ǎ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773800" y="38210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iáo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6436800" y="382104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āo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765080" y="4684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286520" y="46846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ià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206160" y="55497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6878520" y="30290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ì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6653160" y="461340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iān mò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053360" y="2514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词句疏通要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772640" y="3276720"/>
            <a:ext cx="532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要将古汉语的单音节词翻译成现代汉语的双音节词，</a:t>
            </a:r>
            <a:br>
              <a:rPr sz="2400"/>
            </a:b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如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鲜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——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鲜嫩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”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美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——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美丽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”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交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——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交错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”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等等；</a:t>
            </a:r>
            <a:br>
              <a:rPr sz="2400"/>
            </a:b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）注意古今词义的区别及一词多义的现象。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4572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自由阅读，请同学们找出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1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文章中难解的字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注解中没提到的字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3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应特别予以重视的字词。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628280" y="5805360"/>
            <a:ext cx="42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缘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溪行　　             芳草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鲜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落英缤纷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             渔人甚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异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之　　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欲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穷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其林               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仿佛若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有光</a:t>
            </a:r>
            <a:br>
              <a:rPr sz="2400"/>
            </a:b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便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舍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船　　             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才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通人　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豁然开朗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　　           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俨然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　　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有良田美池桑竹之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属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阡陌交通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　　           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悉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如外人　　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黄发垂髫并怡然自乐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问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所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从来　　           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具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答之      </a:t>
            </a:r>
            <a:br>
              <a:rPr sz="2400"/>
            </a:b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便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要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还家               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咸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来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问讯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率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妻子邑人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来此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绝境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　　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乃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不知有汉　　         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无论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魏晋　　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此人一一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为具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言所闻　　                   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延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至其家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辞去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                  此中人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语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云</a:t>
            </a:r>
            <a:br>
              <a:rPr sz="2400"/>
            </a:b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不足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为外人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道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也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　              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既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出　            </a:t>
            </a:r>
            <a:br>
              <a:rPr sz="2400"/>
            </a:b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便扶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向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路　　               处处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志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之　　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诣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太守                     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寻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向所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志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欣然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规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往，未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果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　　         </a:t>
            </a:r>
            <a:r>
              <a:rPr b="1" lang="zh-CN" sz="2400" spc="-1" strike="noStrike" u="sng">
                <a:solidFill>
                  <a:srgbClr val="463634"/>
                </a:solidFill>
                <a:uFillTx/>
                <a:latin typeface="宋体"/>
              </a:rPr>
              <a:t>寻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病终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647360" y="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沿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036840" y="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芳香的青草鲜嫩美丽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001560" y="76212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隐隐约约   好象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875960" y="1066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舍弃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5762160" y="1066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仅仅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64392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类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334400" y="253512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老人和小孩   都   高高兴兴，自得其乐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677960" y="29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地方，处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010120" y="299232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通“俱”，完全，详尽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5370480" y="329724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都       打听（消息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4197240" y="367812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妻子和儿女    同乡   与世隔绝的地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739160" y="4017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5274720" y="4038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更不用说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3280680" y="43434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给     同“俱”，详细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1537920" y="472428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告辞  离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746440" y="512604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不值得         说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19522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原来的，先前的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600624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动词，做标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6021360" y="586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名词，标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599920" y="617220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打算     实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5838480" y="6172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不久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5869080" y="5084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已经，以后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04920" y="304920"/>
            <a:ext cx="853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请你辨别下列加点词在句子中的不同意思 </a:t>
            </a:r>
            <a:br>
              <a:rPr sz="2400"/>
            </a:b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一词多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1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舍    便舍船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  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屋舍俨然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 </a:t>
            </a:r>
            <a:br>
              <a:rPr sz="2400"/>
            </a:b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2</a:t>
            </a:r>
            <a:r>
              <a:rPr b="0" lang="en-US" sz="2400" spc="-1" strike="noStrike">
                <a:solidFill>
                  <a:srgbClr val="463634"/>
                </a:solidFill>
                <a:latin typeface="_x000b__x000c_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扶        扶向路                出郭相扶将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3</a:t>
            </a:r>
            <a:r>
              <a:rPr b="0" lang="en-US" sz="2400" spc="-1" strike="noStrike">
                <a:solidFill>
                  <a:srgbClr val="463634"/>
                </a:solidFill>
                <a:latin typeface="_x000b__x000c_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寻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寻向所志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寻病终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4</a:t>
            </a:r>
            <a:r>
              <a:rPr b="0" lang="en-US" sz="2400" spc="-1" strike="noStrike">
                <a:solidFill>
                  <a:srgbClr val="463634"/>
                </a:solidFill>
                <a:latin typeface="_x000b__x000c_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为        捕鱼为业             不足为外人道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5</a:t>
            </a:r>
            <a:r>
              <a:rPr b="0" lang="en-US" sz="2400" spc="-1" strike="noStrike">
                <a:solidFill>
                  <a:srgbClr val="463634"/>
                </a:solidFill>
                <a:latin typeface="_x000b__x000c_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向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寻向所志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  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眈眈相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6</a:t>
            </a:r>
            <a:r>
              <a:rPr b="0" lang="en-US" sz="2400" spc="-1" strike="noStrike">
                <a:solidFill>
                  <a:srgbClr val="463634"/>
                </a:solidFill>
                <a:latin typeface="宋体"/>
              </a:rPr>
              <a:t>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志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处处志之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  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寻向所志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632240" y="4210200"/>
            <a:ext cx="438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近义词          你能从课文中找出同一意思的词语吗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沿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说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都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邀请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557440" y="4952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60093"/>
                </a:solidFill>
                <a:uFillTx/>
                <a:latin typeface="Times New Roman"/>
              </a:rPr>
              <a:t>缘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溪行    便</a:t>
            </a:r>
            <a:r>
              <a:rPr b="1" lang="zh-CN" sz="2400" spc="-1" strike="noStrike" u="sng">
                <a:solidFill>
                  <a:srgbClr val="d60093"/>
                </a:solidFill>
                <a:uFillTx/>
                <a:latin typeface="Times New Roman"/>
              </a:rPr>
              <a:t>扶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向路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01400" y="99072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舍弃                            房子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179160" y="177336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寻找                           不久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51160" y="25146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以前                             对着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164760" y="2895480"/>
            <a:ext cx="32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做标记                           标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101400" y="13716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沿着                            搀扶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237840" y="213372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作为                             对，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2687760" y="53341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不足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道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自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云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具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3164400" y="5659560"/>
            <a:ext cx="38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60093"/>
                </a:solidFill>
                <a:uFillTx/>
                <a:latin typeface="Times New Roman"/>
              </a:rPr>
              <a:t>悉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如外人   </a:t>
            </a:r>
            <a:r>
              <a:rPr b="1" lang="zh-CN" sz="2400" spc="-1" strike="noStrike" u="sng">
                <a:solidFill>
                  <a:srgbClr val="d60093"/>
                </a:solidFill>
                <a:uFillTx/>
                <a:latin typeface="Times New Roman"/>
              </a:rPr>
              <a:t>并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怡然自乐 </a:t>
            </a:r>
            <a:r>
              <a:rPr b="1" lang="zh-CN" sz="2400" spc="-1" strike="noStrike" u="sng">
                <a:solidFill>
                  <a:srgbClr val="d60093"/>
                </a:solidFill>
                <a:uFillTx/>
                <a:latin typeface="Times New Roman"/>
              </a:rPr>
              <a:t>咸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来问讯   </a:t>
            </a:r>
            <a:r>
              <a:rPr b="1" lang="zh-CN" sz="2400" spc="-1" strike="noStrike" u="sng">
                <a:solidFill>
                  <a:srgbClr val="d60093"/>
                </a:solidFill>
                <a:uFillTx/>
                <a:latin typeface="Times New Roman"/>
              </a:rPr>
              <a:t>皆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出酒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462760" y="6040440"/>
            <a:ext cx="21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便</a:t>
            </a:r>
            <a:r>
              <a:rPr b="1" lang="zh-CN" sz="2400" spc="-1" strike="noStrike" u="sng">
                <a:solidFill>
                  <a:srgbClr val="d60093"/>
                </a:solidFill>
                <a:uFillTx/>
                <a:latin typeface="Times New Roman"/>
              </a:rPr>
              <a:t>要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还家      </a:t>
            </a:r>
            <a:r>
              <a:rPr b="1" lang="zh-CN" sz="2400" spc="-1" strike="noStrike" u="sng">
                <a:solidFill>
                  <a:srgbClr val="d60093"/>
                </a:solidFill>
                <a:uFillTx/>
                <a:latin typeface="Times New Roman"/>
              </a:rPr>
              <a:t>延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至其家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0" y="15228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古今异义：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交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古：交错相通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今：运输和邮电事业的总称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           </a:t>
            </a:r>
            <a:br>
              <a:rPr sz="2400"/>
            </a:b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50292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不足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古：不值得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               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今：不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204200" y="137160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绝境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古：与世隔绝的地方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 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今：走投无路的境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882360" y="2209680"/>
            <a:ext cx="46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妻子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古：妻子儿女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 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今：男子的配偶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756360" y="3200400"/>
            <a:ext cx="45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鲜美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古：鲜艳美丽</a:t>
            </a:r>
            <a:r>
              <a:rPr b="0" lang="zh-CN" sz="2400" spc="-1" strike="noStrike">
                <a:solidFill>
                  <a:srgbClr val="463634"/>
                </a:solidFill>
                <a:latin typeface="_x000b__x000c_"/>
              </a:rPr>
              <a:t>                  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今：味道好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330560" y="4114800"/>
            <a:ext cx="48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无论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古：不要说，更不必说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    </a:t>
            </a:r>
            <a:r>
              <a:rPr b="0" lang="zh-CN" sz="2400" spc="-1" strike="noStrike">
                <a:solidFill>
                  <a:srgbClr val="463634"/>
                </a:solidFill>
                <a:latin typeface="宋体"/>
              </a:rPr>
              <a:t>今：表条件关系的连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0" y="205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翻译句子    留、删、补、调，注意古古今异义、一词多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忽逢桃花林，夹岸数百步，中无杂树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芳草鲜美，落英缤纷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     ）复前行，欲穷其林。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林尽（    ）水源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土地平旷，屋舍俨然，有良田美池桑竹之属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阡陌交通，鸡犬相闻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黄发垂髫，并怡然自乐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　　　）见渔人，乃大惊，问（　　　）所从来。（　　　）具答之。（　　　）便要（　　　）还家，设酒杀鸡作食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      ）自云先世避秦时乱，率妻子邑人来此绝境，不复出焉，遂与外人间隔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       ）问（     ）今是何世，（         ）乃不知有汉，无论魏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此人一一为（          ）具言所闻，（          ）皆叹惋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866880" y="762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渔人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348560" y="1143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于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641120" y="19051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土地平坦宽阔，房屋整整齐齐，有肥沃的土地，幽美的池塘，和桑园竹林之类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108440" y="2989440"/>
            <a:ext cx="721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桃源人                                                          渔人                                 渔人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桃源人                       渔人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766080" y="3657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桃源人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1057680" y="5105520"/>
            <a:ext cx="41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桃源人            渔人                              桃源人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0" y="44197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桃源人自己说，他们的祖先为了躲避秦朝的祸乱，带领妻子儿女和同乡人，来到这与世隔绝的地方，再也没有出去，于是就同外界的人隔绝了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0" y="5486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他们问渔人现在是什么朝代，他们竟然不知道有个汉朝，更不必说魏朝和晋朝了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243828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桃源人                                  桃源人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304920" y="632448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这个渔人一一地为桃花源中的人详细地说出他所知道的，他们听了都很惊叹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00:22:20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7-09-07T00:22:45Z</dcterms:modified>
  <cp:revision>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