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%E6%89%93%E5%BC%80%E6%97%B6%E5%A5%8F%E4%B9%90.wav" ContentType="audio/x-wav"/>
  <Override PartName="/ppt/media/image22.jpeg" ContentType="image/jpeg"/>
  <Override PartName="/ppt/media/image1.jpeg" ContentType="image/jpeg"/>
  <Override PartName="/ppt/media/image7.png" ContentType="image/png"/>
  <Override PartName="/ppt/media/image27.gif" ContentType="image/gif"/>
  <Override PartName="/ppt/media/image2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CHIMES.WAV" ContentType="audio/x-wav"/>
  <Override PartName="/ppt/media/image3.jpeg" ContentType="image/jpeg"/>
  <Override PartName="/ppt/media/image12.jpeg" ContentType="image/jpeg"/>
  <Override PartName="/ppt/media/image14.jpeg" ContentType="image/jpeg"/>
  <Override PartName="/ppt/media/image24.wmf" ContentType="image/x-wmf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20.jpeg" ContentType="image/jpeg"/>
  <Override PartName="/ppt/media/chimes.wav" ContentType="audio/x-wav"/>
  <Override PartName="/ppt/media/image21.jpeg" ContentType="image/jpeg"/>
  <Override PartName="/ppt/media/image2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1B9-2981-4EF1-91D5-00A124A3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5E2-ADDF-4DDF-9FC1-212977C3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373-CD84-4CC1-A1C5-9703E04D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3F0-47C1-4EF5-96CF-7BF6DBA2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B00-7FF8-4218-835F-5DF2AEAC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708C-04A7-4649-8F12-D709DEF7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5FA7-8A89-484B-BD2E-06F6288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D0C-6E28-47C0-9ECC-80095CA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96BD-BCB5-4009-A90B-3798ABC1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2086-E4ED-4150-80AD-2F50CBEB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C783-5D36-4109-A68A-0F33DD4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35E-FA86-4678-B07F-3683B0C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9C20-810B-415B-AA8F-5476788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26BE-E374-4F1A-A15C-EEBEF0F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D594-2F0F-4047-B49B-7F0CED8F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5753-51F0-4D9E-9850-67C78494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7C27-7871-450B-8727-4E35F773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A1DE3-DC3F-4055-A6EE-17A7D5D1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BF43B-ACC3-40E7-A990-FA459EC4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FCDE-2057-4DF2-8B11-E880D8C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11B1-FF14-4D5C-AC76-3D95624B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D92E-6AE7-43A9-9996-37FE4320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9E8-C578-41A9-BB42-3738CD2C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83075-BD17-49F3-87F2-600D7885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09DA-BB89-4043-BE51-0DBF90F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D463-9415-4ED2-A89B-13ADE835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0258-159A-4B72-83BD-6789A32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8536-2F8B-4C8B-A9E4-7FA36D7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5C04-916F-47B2-B1BA-2AC8B747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5FAC-81B9-44F9-B7DE-27F5CA64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4489-36E3-4065-B754-7ED0127B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800B3-DD8B-4A93-B1D3-E695442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FAE2F-AD8F-4997-8C34-FD32AC1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C79-3810-40A2-8530-5025B6A4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78A37-246E-4589-B574-869CEF4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8A77B-48D0-432E-B2B3-A8D60A16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346C-0E44-49A0-9F2D-434B240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9441-E8D0-4F66-AB6F-BBE6AFC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6F3B-2797-42CC-BD4D-A9852CEB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7A3E-9085-4957-AF26-F502A325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33920-1CCB-4A43-84D5-2E76B9D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E39C-87D2-4552-977B-6D38DCFE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4E10A-396F-46A8-A19D-B75D6C13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A70-2EEA-4C6B-90AE-7F8C83A6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0DA-B102-4A22-A056-0E223E1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325-DC28-4F8B-B700-23ADE91B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DB5-AC3E-4093-A52F-76A4921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661-0290-4CC0-88E9-815D746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CCF-5CD9-4AF9-A900-171FBE3D792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5492-A0AE-4BD2-AD29-537BBAF884B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CFA-D432-4935-B63E-DBE894ED6F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4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135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138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8FD-6DCD-41C5-B1CF-18E713EDB35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0.xml"/><Relationship Id="rId3" Type="http://schemas.openxmlformats.org/officeDocument/2006/relationships/slide" Target="slide0.xml"/><Relationship Id="rId4" Type="http://schemas.openxmlformats.org/officeDocument/2006/relationships/slide" Target="slide0.xml"/><Relationship Id="rId5" Type="http://schemas.openxmlformats.org/officeDocument/2006/relationships/slide" Target="slide0.xm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&#25171;&#24320;&#26102;&#22863;&#20048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26691;&#33457;&#28304;&#35760;&#25945;&#23398;&#35838;&#20214;/&#38518;&#28170;&#26126;%20&#26691;&#33457;&#28304;&#35760;%20&#25945;&#23398;&#24405;&#38899;.mp3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aohua" descr=""/>
          <p:cNvPicPr/>
          <p:nvPr/>
        </p:nvPicPr>
        <p:blipFill>
          <a:blip r:embed="rId1"/>
          <a:stretch/>
        </p:blipFill>
        <p:spPr>
          <a:xfrm>
            <a:off x="-596880" y="0"/>
            <a:ext cx="9740880" cy="7315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403280" y="189000"/>
            <a:ext cx="583272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桃花源记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278136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陶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渊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357336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4572000" cy="352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xinsrc_582040221113605010768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0" y="6086520"/>
          <a:ext cx="9143640" cy="771480"/>
        </p:xfrm>
        <a:graphic>
          <a:graphicData uri="http://schemas.openxmlformats.org/drawingml/2006/table">
            <a:tbl>
              <a:tblPr/>
              <a:tblGrid>
                <a:gridCol w="914364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黄发垂</a:t>
                      </a: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髫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，并</a:t>
                      </a: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怡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然自乐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51640" y="63352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xinsrc_58204022111362611939915" descr=""/>
          <p:cNvPicPr/>
          <p:nvPr/>
        </p:nvPicPr>
        <p:blipFill>
          <a:blip r:embed="rId1"/>
          <a:stretch/>
        </p:blipFill>
        <p:spPr>
          <a:xfrm>
            <a:off x="0" y="-12600"/>
            <a:ext cx="9325080" cy="4881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493704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见渔人，乃大惊，问所从来。具答之。便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还家，设酒杀鸡作食。村中闻有此人，咸来问讯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1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xinsrc_582040221113655110363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395280" y="4329000"/>
          <a:ext cx="8748720" cy="252900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25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自云先世避秦时乱，率妻子</a:t>
                      </a: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邑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人，来此绝境，不复出焉，遂与外人</a:t>
                      </a: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间隔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。 问今是何世，乃不知有汉，无论魏晋。此人一一为具言所闻，皆叹惋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 spd="slow" advTm="29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3" name="xinsrc_58204022111362611939915" descr=""/>
          <p:cNvPicPr/>
          <p:nvPr/>
        </p:nvPicPr>
        <p:blipFill>
          <a:blip r:embed="rId1"/>
          <a:stretch/>
        </p:blipFill>
        <p:spPr>
          <a:xfrm>
            <a:off x="0" y="-12600"/>
            <a:ext cx="9325080" cy="6178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余人各复延至其家，皆出酒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xinsrc_582040221113697229932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停数日，辞去。此中人语云：“不足为外人道也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xinsrc_592040221113624214814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既出，得其船，便扶向路，处处志之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0920" y="573408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4572000" cy="352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xinsrc_59204022111365333212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及郡下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诣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太守，说如此。太守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遣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人随其往，寻向所志，遂迷，不复得路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xinsrc_59204022111367631991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0" y="5548320"/>
          <a:ext cx="9144000" cy="1309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南阳刘子</a:t>
                      </a: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骥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，高尚士也，闻之，欣然规往。未果，寻病终。后遂无问津者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032280" y="338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41440" y="1268280"/>
            <a:ext cx="85597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豁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俨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怡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阡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)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邑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间隔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垂髫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语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)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)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)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刘子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)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落英缤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    )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郡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08560" y="1968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4360" y="160164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h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36160" y="1565280"/>
            <a:ext cx="4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260280"/>
            <a:ext cx="633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隶书"/>
              </a:rPr>
              <a:t>给下列加点的字注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2400" y="257976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iānm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8440" y="26082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97920" y="25938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ji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6120" y="35733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iá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06280" y="355932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15600" y="357336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ku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61920" y="45673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u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480" y="4581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84400" y="45673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qiǎ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41600" y="458136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ā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74240" y="5532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53360" y="553248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bīn fē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03680" y="551808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jù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82080" y="16146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ǎ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557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4000" y="1773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78136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9640" y="27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69840" y="26370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94240" y="3646440"/>
            <a:ext cx="5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4076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Mistral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97920" y="3646440"/>
            <a:ext cx="5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9960" y="3645000"/>
            <a:ext cx="6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6640" y="4581360"/>
            <a:ext cx="6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47242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39080" y="4581360"/>
            <a:ext cx="5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·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4360" y="46530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6000" y="56610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</a:t>
            </a:r>
            <a:r>
              <a:rPr b="1" lang="en-US" sz="6000" spc="-1" strike="noStrike">
                <a:solidFill>
                  <a:srgbClr val="006633"/>
                </a:solidFill>
                <a:latin typeface="Mistral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5661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</a:t>
            </a:r>
            <a:r>
              <a:rPr b="1" lang="en-US" sz="6000" spc="-1" strike="noStrike">
                <a:solidFill>
                  <a:srgbClr val="006633"/>
                </a:solidFill>
                <a:latin typeface="Mistral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566100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566100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Mistral"/>
                <a:ea typeface="华文行楷"/>
              </a:rPr>
              <a:t>·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53280" y="2781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9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晋太元中，武陵人捕鱼</a:t>
            </a:r>
            <a:r>
              <a:rPr b="1" lang="zh-CN" sz="3400" spc="-1" strike="noStrike">
                <a:solidFill>
                  <a:srgbClr val="ff5050"/>
                </a:solidFill>
                <a:latin typeface="Arial"/>
              </a:rPr>
              <a:t>为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业，</a:t>
            </a:r>
            <a:r>
              <a:rPr b="1" lang="zh-CN" sz="3400" spc="-1" strike="noStrike">
                <a:solidFill>
                  <a:srgbClr val="ff5050"/>
                </a:solidFill>
                <a:latin typeface="Arial"/>
              </a:rPr>
              <a:t>缘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忘路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远近。忽逢桃花林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夹岸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数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步，中无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树，芳草</a:t>
            </a:r>
            <a:r>
              <a:rPr b="1" lang="zh-CN" sz="3400" spc="-1" strike="noStrike" u="sng">
                <a:solidFill>
                  <a:srgbClr val="ff0000"/>
                </a:solidFill>
                <a:uFillTx/>
                <a:latin typeface="Arial"/>
              </a:rPr>
              <a:t>鲜美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落英</a:t>
            </a:r>
            <a:r>
              <a:rPr b="1" lang="zh-CN" sz="3400" spc="-1" strike="noStrike" u="sng">
                <a:solidFill>
                  <a:srgbClr val="ff0000"/>
                </a:solidFill>
                <a:uFillTx/>
                <a:latin typeface="Arial"/>
              </a:rPr>
              <a:t>缤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，渔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人甚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之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前行，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欲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其林。 　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80000" y="404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作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48428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6000" y="476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沿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155736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364500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鲜艳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494172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494172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5373720"/>
            <a:ext cx="41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意动用法（以</a:t>
            </a:r>
            <a:r>
              <a:rPr b="1" lang="en-US" sz="2800" spc="-1" strike="noStrike">
                <a:solidFill>
                  <a:srgbClr val="3333cc"/>
                </a:solidFill>
                <a:latin typeface="隶书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为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感到惊奇、奇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76720" y="4797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尽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走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3645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落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393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又，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59640" y="364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繁多的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5157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想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0360" y="270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夹着溪水的两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95640" y="2852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别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58920" y="162864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用在主谓间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708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划船前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11280" y="2997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陶渊明，东晋人。名潜，字元亮。少时颇有壮志，博学能文，任性不羁。他曾做过小官，由于当时社会动荡不安，他空有才智却难以施展，后弃官回乡过起田园式的隐居生活。</a:t>
            </a:r>
            <a:r>
              <a:rPr b="0" lang="zh-CN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图片1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553080" cy="25178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2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190188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重点句子翻译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、缘溪行，忘 路之远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、忽逢桃花林，夹岸数百步，中无 杂树，芳草鲜美，落英缤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16000" y="2421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一天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他顺着溪水划船，忘记了路程的远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1640" y="457200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突然遇到一片桃花林，生长在溪的两岸，长达几百步，中间没有别的树，花草遍地，鲜艳而美丽，落花纷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学习第一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,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思考下列问题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本段写了一件什么事情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件事情的起因什么？你能找出这件事的时间、地点、人物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852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事件：渔人发现桃花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3500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起因：忘路之远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1640" y="4149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时间：晋太元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4797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地点：武陵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人物：渔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我能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请找出描写挑花林自然景色的句子？面对着如此美景，渔人反应怎么样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3213000"/>
            <a:ext cx="763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2205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桃林自然景色：忽逢桃花林，夹岸数百步，中无杂树，芳草鲜美，落英缤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6920" y="371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人反应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渔人甚异之。复前行，欲穷其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4149720"/>
            <a:ext cx="66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5950080"/>
            <a:ext cx="7490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12000" y="4724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中景物描写的作用是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522936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渲染神秘气氛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下文写美好的世外桃源作铺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42920" y="3333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林尽水源，便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一山，山有小口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仿佛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光，便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船从口入。 初极狭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通人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行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十步，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豁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开朗。土地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平旷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屋舍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俨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有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田美池桑竹之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属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阡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交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鸡犬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相闻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往来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种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男女衣着，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外人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黄发垂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并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Arial"/>
              </a:rPr>
              <a:t>怡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自乐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42920" y="191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舍弃、放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2060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刚刚，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213372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又，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7280" y="4149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89480" y="429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田间小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11640" y="31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交错通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6000" y="5373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指老人小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31417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敞亮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2000" y="314172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整齐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537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63388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快乐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35640" y="836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隐隐约约，好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4149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以互相听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40000" y="98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看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21337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平坦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40720" y="32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指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530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耕种劳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04920" y="838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9810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初极狭，才通人  。  复行数十步，豁然开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4000" y="206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起初，洞口很狭窄，刚刚一个人能通过。又走了几十步，突然变得开阔敞亮了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838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21337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渔人从小口入桃花源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339" name="MIL55026_Thumbnail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380880" y="4419720"/>
            <a:ext cx="381024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0" name=""/>
          <p:cNvSpPr/>
          <p:nvPr/>
        </p:nvSpPr>
        <p:spPr>
          <a:xfrm>
            <a:off x="395280" y="-45720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312408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阡陌交通，鸡犬 相 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1280" y="9810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看到这里）土地平坦开阔，房屋整整齐齐，有肥沃的田地、美丽的池塘和桑林、竹园之类。 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04920"/>
            <a:ext cx="94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土地平旷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屋舍俨然，有良田 美 池 桑 竹之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809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田间小路交错相通，处处能听到鸡鸣狗叫的声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中 往 来 种作，男 女衣着，悉如 外 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们在田野来来往往，耕种劳作，男男女女的穿戴完全像世外的人一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114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老人和小孩们个个都安闲快乐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53440" y="3357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黄发垂髫，并怡然自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桃花源人的幸福生活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514600" cy="29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学习第二段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渔人发现桃花源的过程，你认为桃花源是否容易被发现？你认为作者这样安排情节用意何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5640" y="2781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用意：给桃花源蒙上一层神秘的色彩，从而使文章充满了传奇，更具魅力，引人入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渔人在桃花源里看到了哪些景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052640"/>
            <a:ext cx="7775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234936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社会环境良好、和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4149720"/>
            <a:ext cx="56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43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人们生活安定、满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1125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地平旷，屋舍俨然，有良田美池桑竹之属。 阡陌交通，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3284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往来种作，男女衣着，悉如外人。黄发垂髫，并怡然自乐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你认为桃花源里面的世界吸引人的根本原因是什么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49228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9640" y="256536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战争、没有剥削、没有徭役重赋、人人平等、人人劳作、自给自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620640"/>
            <a:ext cx="813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背景资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桃花源记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是陶渊明的代表作之一，大约作于永初二年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公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21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作者生活的时代正是晋宋易代之际。东晋王朝极端腐败，对外一味投降，安于江左一隅之地。统治集团内部互相倾轧，军阀连年混战，赋税徭役繁重，加深了对人民的剥削和压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50920" y="1110600"/>
            <a:ext cx="86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见渔人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惊，问所从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家，设酒杀鸡作食。村中闻有此人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问讯。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世避秦时乱，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妻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邑人来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绝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复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外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间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问今是何世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知有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魏晋。此人一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言所闻，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叹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余人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复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，皆出酒食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日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辞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此中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不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4762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竟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8000" y="62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详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00720" y="4762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指桃花源中的问话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27280" y="8366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同“邀”，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64680" y="14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全，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101080" y="14842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8000" y="22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妻子和儿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234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外界隔绝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32720" y="234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这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986240" y="22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于是，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31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隔绝，不通音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00720" y="314172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1417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更不必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393372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02560" y="40766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同“俱”，详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1640" y="40053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惊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84720" y="400536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8800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邀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8036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他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87480" y="4797360"/>
            <a:ext cx="11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32000" y="4797360"/>
            <a:ext cx="19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告辞，告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515772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离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72200" y="479736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告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2000" y="47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934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1840" y="573264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68360" y="33336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三、古人写文章，为了使文章精炼，常常省去某些根据语境不言自明的词语，语法上称作“省略”。阅读文章时要清楚它省略了什么，翻译时有的还需要补译出来。试看下面几句话中括弧处省略了什么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     ）见渔人，乃大惊，问（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所从来，（     ）具答之。（     ）便要（     ）还家，设酒杀鸡作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此人一一为（     ）具言所闻，（     ）皆叹惋。余人各复延（     ）至其家，皆出酒食。（     ）停数日，辞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29040" y="3108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村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2840" y="3108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渔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49760" y="368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渔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05760" y="364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村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9040" y="4116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渔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45400" y="4619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村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70840" y="512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渔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58680" y="4672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幼圆"/>
              </a:rPr>
              <a:t>村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21400" y="5556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幼圆"/>
              </a:rPr>
              <a:t>渔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1042920" y="333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见渔人，乃大惊，问所从来，具答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16000" y="112536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桃源人）看见渔人，竟然非常吃惊，问（渔人）从什么地方来，（渔人）详细地回答了（桃源人）的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16000" y="2852640"/>
            <a:ext cx="87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便要还 家，设酒杀鸡作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3429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桃源人）就邀请（渔人）到他们家里，摆酒杀鸡热情款待。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0" y="4941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村中闻有此人，咸来问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58920" y="5589720"/>
            <a:ext cx="75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村中听说来了这么个人，都来打听消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云先世避秦时乱，率妻子邑人来此绝境，不复出焉，遂与外人间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他们）自己说（他们的）祖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了躲避秦时的战乱，带着妻子儿女以及乡邻来到这个与世隔绝的地方，不再出去，于是跟外面的人断绝了来往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068640"/>
            <a:ext cx="9470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问今是何世，乃不知有汉，无论魏晋  。此人一一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为具言所闻 ，皆叹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58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（他们）问（渔人）现在是什么朝代，竟然不知道有汉朝，更不要说魏朝和晋朝了。渔人一个一个地为（他们）详尽讲述自己所知道的事，（桃源人）听了都感叹惋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189000"/>
            <a:ext cx="67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余人各复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至其家，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皆出酒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1052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其余的人各自都又请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渔人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到自己家中做客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都拿出好酒好菜招待他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渔人）住了几天后，就告别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他们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回去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桃花源的人告诉（他）说： “（这里的一切）不值得对外面的人说呀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3520" y="3124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7696080" y="5943600"/>
            <a:ext cx="838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幻灯片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22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板书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桃花渊中人延请渔人" descr=""/>
          <p:cNvPicPr/>
          <p:nvPr/>
        </p:nvPicPr>
        <p:blipFill>
          <a:blip r:embed="rId6"/>
          <a:stretch/>
        </p:blipFill>
        <p:spPr>
          <a:xfrm>
            <a:off x="6948360" y="228600"/>
            <a:ext cx="1967040" cy="3048120"/>
          </a:xfrm>
          <a:prstGeom prst="rect">
            <a:avLst/>
          </a:prstGeom>
          <a:ln w="0">
            <a:noFill/>
          </a:ln>
        </p:spPr>
      </p:pic>
      <p:pic>
        <p:nvPicPr>
          <p:cNvPr id="425" name="渔人离开桃花源" descr=""/>
          <p:cNvPicPr/>
          <p:nvPr/>
        </p:nvPicPr>
        <p:blipFill>
          <a:blip r:embed="rId7"/>
          <a:stretch/>
        </p:blipFill>
        <p:spPr>
          <a:xfrm>
            <a:off x="6948360" y="3581280"/>
            <a:ext cx="2044800" cy="3048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08000" y="285264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停数日， 辞去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此中人语云：“ 不足为外人道也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9880" y="609480"/>
            <a:ext cx="54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964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找出第三段中体现桃源人淳朴民风的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1197000"/>
            <a:ext cx="74170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便要还家，设酒杀鸡做食        村中闻有此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咸来问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余人各复延至其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05080" y="2997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大概是秦末以来的历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640" y="3716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为桃源外的世界如此动乱、黑暗而叹惋；为桃源外的人一直过着痛苦生活而叹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9640" y="220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据课文猜想渔人向桃源人说了些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桃源人为什么而叹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87080" y="48690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足为外人道”的原因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04960" y="54450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想被外面的战乱破坏了他们和平宁静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出， 得其船，便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向路，处处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之。及郡下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太守说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如此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太守即遣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随其往，寻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迷不复得路。南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刘子骥，高尚士也，闻之，欣然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规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果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寻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病终。后遂无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问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者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411280" y="1197000"/>
            <a:ext cx="11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62200" y="907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已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19640" y="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循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沿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03640" y="126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88000" y="907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动词，做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4221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计划前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58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不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43280" y="306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名词，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30064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没有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92360" y="530064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问路、寻访。津：渡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2276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前的，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95640" y="22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终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1197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像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2517120" y="47628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既出，得其船，便扶向路  ， 处处 志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981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渔人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出了洞，找到他的船，就沿着原来的路返回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沿途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处处做上标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58920" y="2492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及郡下，诣太守，说如此。太守即遣人随其往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寻向所志，遂迷，不复得路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3716280"/>
            <a:ext cx="77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到了武陵郡，拜见大守，说了他在桃花源的奇遇。太守当即派人跟他前去，寻找先前做的标记，竟然迷了路，再也找不到先前去桃花源的那条路了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627280" y="260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22096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8120" y="6094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20574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17524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1005804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83664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南阳刘子骥，高尚士也。闻之  ，欣然规往。未果，寻病终。后遂无问津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048120" y="2971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42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南阳人刘子骥，是个品行高尚的名士。听到这件事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高兴的计划着前往。计划没有实现，不久便病死了。 以后，就再也没有去探访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桃花源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的人了。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4495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48120" y="5715000"/>
            <a:ext cx="5715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点评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黑体"/>
              </a:rPr>
              <a:t>此段写渔人出山以后的事，说明了桃花源是一个虚无飘渺，在当时社会根本不可能找到的地方，更显示了世外桃源的神奇莫测。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0120" y="57150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543800" y="5867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996600"/>
                  </a:solidFill>
                  <a:miter/>
                </a:ln>
                <a:solidFill>
                  <a:srgbClr val="ff9900"/>
                </a:solidFill>
                <a:latin typeface="经典综艺体简"/>
              </a:rPr>
              <a:t>离开桃花源</a:t>
            </a:r>
            <a:endParaRPr b="0" lang="en-US" sz="4400" spc="-1" strike="noStrike">
              <a:ln w="9360">
                <a:solidFill>
                  <a:srgbClr val="996600"/>
                </a:solidFill>
                <a:miter/>
              </a:ln>
              <a:solidFill>
                <a:srgbClr val="ff9900"/>
              </a:solidFill>
              <a:latin typeface="经典综艺体简"/>
              <a:ea typeface="经典综艺体简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1600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33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渔人出桃源时，“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处处志之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”，可是再往时，“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寻向所志，遂迷，不复得路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”，“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南阳刘子骥，高尚士也。闻之，欣然规往。未果，寻病终。后遂无问津者。</a:t>
            </a:r>
            <a:r>
              <a:rPr b="1" lang="zh-CN" sz="3200" spc="-1" strike="noStrike">
                <a:solidFill>
                  <a:srgbClr val="006633"/>
                </a:solidFill>
                <a:latin typeface="黑体"/>
                <a:ea typeface="黑体"/>
              </a:rPr>
              <a:t>”这些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886200"/>
            <a:ext cx="7696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这样写的目的是使人觉得桃源是一个似有而无、似真而幻的所在。暗示桃源是虚构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24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3708360" cy="5732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68360" y="1341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朗读课文。注意生字词、朗读的停顿和感情的把握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/>
          </p:cNvPr>
          <p:cNvSpPr/>
          <p:nvPr/>
        </p:nvSpPr>
        <p:spPr>
          <a:xfrm>
            <a:off x="611280" y="5805360"/>
            <a:ext cx="288720" cy="71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    走进文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24382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女生朗读桃源外部环境美的句子，男生朗读内部环境美的句子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411480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取其中一个景点，用“这里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，你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句式，用优美的语言描写自己的遐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5238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960" y="15238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想像桃源之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45720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    走进文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7524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19320" y="175248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感受桃源之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24382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桃花源是美丽的，又是快乐，文章中哪些人能够感受到桃花源的快乐？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" y="43434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分别为什么而快乐，以文中某一类人的身份设身处地的感受桃花源生活之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31240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1828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175248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探讨桃源之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桃花源的美丽快乐，令人神往，桃花源的离奇神秘引人入胜，桃花源奇在何处，请你以”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奇，那是因为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句式说出自己的理由，后一空用原文回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457200"/>
            <a:ext cx="8001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    走进文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17524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领悟桃源之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25146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源是真有实景，还是纯属虚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411480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为什么要虚构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51055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认为陶渊明的社会理想能否实现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457200"/>
            <a:ext cx="4952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    走进文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826920" y="629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8920" y="1198440"/>
            <a:ext cx="8785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篇课文陶渊明以＿＿＿＿＿＿＿＿＿＿＿＿为线索，按照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桃花源、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桃花源、　　桃花源、    桃花源的顺序，描绘了一个                            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　　　　　　　　　　　　　　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理想社会，寄托了作者的社会理想，反映了他对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生活的向 往，反映了当时人民厌恶战争的情绪和追求和平劳动生活的愿望。　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987640" y="260280"/>
            <a:ext cx="324000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结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1197000"/>
            <a:ext cx="311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1125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武陵渔人进入桃花源的行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3508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0160" y="170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进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85080" y="1773360"/>
            <a:ext cx="30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59440" y="170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71108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再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没有阶级、没有剥削、自食其力、自给自足、和平恬静、人人自得其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5640" y="4221000"/>
            <a:ext cx="31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2240" y="4726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人人安居乐业、彼此和睦相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539640" y="54936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出自本文的成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26920" y="1773360"/>
            <a:ext cx="2519640" cy="764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6930"/>
                </a:solidFill>
                <a:latin typeface="方正舒体"/>
                <a:ea typeface="黑体"/>
              </a:rPr>
              <a:t>世外桃源</a:t>
            </a:r>
            <a:r>
              <a:rPr b="0" lang="zh-CN" sz="4400" spc="-1" strike="noStrike">
                <a:solidFill>
                  <a:srgbClr val="3b812f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32360" y="1773360"/>
            <a:ext cx="266400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豁然开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15440" y="2924280"/>
            <a:ext cx="164376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怡然自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03640" y="2997360"/>
            <a:ext cx="25909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黑体"/>
              </a:rPr>
              <a:t>无人问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4221000"/>
            <a:ext cx="25927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方正舒体"/>
                <a:ea typeface="黑体"/>
              </a:rPr>
              <a:t>鸡犬相闻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03640" y="4221000"/>
            <a:ext cx="25909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黑体"/>
              </a:rPr>
              <a:t>落英缤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32000" y="5300640"/>
            <a:ext cx="2590920" cy="764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  <a:ea typeface="黑体"/>
              </a:rPr>
              <a:t>黄发垂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6" dur="2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6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447920" y="179064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28800" y="304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4000" y="692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、通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" y="206064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、古今异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1341360"/>
            <a:ext cx="69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还家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要，通“邀”，邀请</a:t>
            </a:r>
            <a:r>
              <a:rPr b="1" lang="en-US" sz="3200" spc="-1" strike="noStrike">
                <a:solidFill>
                  <a:srgbClr val="3b812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" y="530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：交错相通           今：交通运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4508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阡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鸡犬相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276720" y="264960"/>
            <a:ext cx="215892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知识归类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371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：鲜艳美丽           今：食物味道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9640" y="299736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芳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鲜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落英缤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65360" y="404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二、文言词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9640" y="55180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诣太守，说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如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96720" y="487044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：不值得                        今：不够，不充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6720" y="6310440"/>
            <a:ext cx="717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：像这样                        今：这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4292640"/>
            <a:ext cx="46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不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为外人道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4000" y="321300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古：不用说，更不用说    今：关联词，表示           条件不同而结果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8360" y="263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乃不知有汉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无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魏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268280"/>
            <a:ext cx="9001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妻子：古：妻子和儿女       今：专指男子的配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绝境：古：与世隔绝之地   今：毫无出路的境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69228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率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妻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邑人来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绝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图片48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57200" y="473040"/>
            <a:ext cx="33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、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55640" y="1268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便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船，从口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24360" y="1125360"/>
            <a:ext cx="46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放弃、舍弃，动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1989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俨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67280" y="206064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房屋，名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1280" y="1495440"/>
            <a:ext cx="288720" cy="719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30686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处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299736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作标记，动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3789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寻向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3645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标记、记号，名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8320" y="2629080"/>
            <a:ext cx="228600" cy="809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09280"/>
              <a:gd name="textAreaBottom" fmla="*/ 788400 h 80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1280" y="47973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向所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35280" y="4653000"/>
            <a:ext cx="42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寻找，动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8360" y="5445000"/>
            <a:ext cx="31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未果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病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67280" y="5373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久，副词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3747960"/>
            <a:ext cx="252360" cy="798480"/>
          </a:xfrm>
          <a:custGeom>
            <a:avLst/>
            <a:gdLst>
              <a:gd name="textAreaLeft" fmla="*/ 161280 w 252360"/>
              <a:gd name="textAreaRight" fmla="*/ 252720 w 252360"/>
              <a:gd name="textAreaTop" fmla="*/ 20520 h 798480"/>
              <a:gd name="textAreaBottom" fmla="*/ 777960 h 79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5440" y="482436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68360" y="84132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71640" y="6206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武陵人捕鱼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88000" y="4762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作为（动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16000" y="1557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不足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外人道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1557360"/>
            <a:ext cx="39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，向（介词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71640" y="2565360"/>
            <a:ext cx="40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此人一一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具言所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4200" y="2536920"/>
            <a:ext cx="289080" cy="16128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760 h 1612800"/>
              <a:gd name="textAreaBottom" fmla="*/ 1571040 h 16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32360" y="2565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图片51" descr=""/>
          <p:cNvPicPr/>
          <p:nvPr/>
        </p:nvPicPr>
        <p:blipFill>
          <a:blip r:embed="rId1"/>
          <a:stretch/>
        </p:blipFill>
        <p:spPr>
          <a:xfrm>
            <a:off x="7308720" y="5661000"/>
            <a:ext cx="1150920" cy="6224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16000" y="4941720"/>
            <a:ext cx="29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既出，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00000" y="4221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前行，欲穷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00720" y="4076640"/>
            <a:ext cx="32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、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24360" y="4869000"/>
            <a:ext cx="32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4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4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xinsrc_56204022111367491990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304920" y="5575320"/>
          <a:ext cx="8514720" cy="1309680"/>
        </p:xfrm>
        <a:graphic>
          <a:graphicData uri="http://schemas.openxmlformats.org/drawingml/2006/table">
            <a:tbl>
              <a:tblPr/>
              <a:tblGrid>
                <a:gridCol w="851472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晋太元中，武陵人捕鱼为业。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缘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溪行，忘路之远近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1116000" y="619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845964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195640" y="189000"/>
            <a:ext cx="44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桃花源记</a:t>
            </a:r>
            <a:endParaRPr b="0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14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陶渊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4572000" cy="352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3384720" cy="352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-324000" y="549360"/>
            <a:ext cx="4572000" cy="35244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四、理解背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892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）本文中描绘桃花林中草美花繁（桃花林奇异景象）的语句是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</a:t>
            </a: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芳草鲜美，落英缤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）本文中描写了桃花源美好的自然环境的句子 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土地平旷，屋舍俨然，有良田美池桑竹之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）本文中描写了桃花源社会环境的安宁的句子：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黄发垂髫，并怡然自乐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35280" y="1628640"/>
            <a:ext cx="3114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108000" y="407880"/>
            <a:ext cx="914544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本文中描写了桃花源人民安居乐业、和平幸福的境况（或：描写老人和小孩神情）的句子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黄发垂髫，并怡然自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本文最能体现桃花源人热情好客、民风淳朴的句子有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黑体"/>
                <a:ea typeface="黑体"/>
              </a:rPr>
              <a:t>a.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便要还家，设酒杀鸡作食。村中闻有此人，咸来问讯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黑体"/>
                <a:ea typeface="黑体"/>
              </a:rPr>
              <a:t>B.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余人各复延至其家，皆出酒食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本文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此人一一为具言所闻，皆叹惋。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"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桃花源人为何叹惋不已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问今何世，乃不知有汉，无论魏晋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  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）交代桃源人来历的句子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黑体"/>
                <a:ea typeface="黑体"/>
              </a:rPr>
              <a:t>自云先世避秦时乱，率妻子邑人来此绝境，不复出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24000" y="134136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忽逢桃花林，夹岸数百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见渔人，乃大惊，问所从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乃不知有汉，无论魏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后遂无问津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阡陌交通，鸡犬相闻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土地平旷，屋舍俨然，有良田美池桑竹之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自云先世避秦时乱，率妻子邑人来此绝境，不复出焉，遂与外人间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01800" y="4064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五、会翻译以下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xinsrc_572040221113610912318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8000" y="5820480"/>
            <a:ext cx="89154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忽逢桃花林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夹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岸数百步，中无杂树，芳草鲜美，落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缤纷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6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xinsrc_572040221113632925780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46400" y="5373720"/>
            <a:ext cx="54612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9300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渔人甚异之，复前行，欲穷其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xinsrc_57204022111366005422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26920" y="6291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818240"/>
            <a:ext cx="9144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林尽水源，便得一山，山有小口，仿佛若有光。便舍船，从口入。初极狭，才通人。复行数十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然开朗。土地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旷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，屋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俨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然，有良田美池桑竹 之属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阡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交通，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8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xinsrc_572040221113680013692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其中往来种作，男女衣着，悉如外人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2:48:17Z</dcterms:created>
  <dc:creator>jkzyw</dc:creator>
  <dc:description/>
  <dc:language>en-US</dc:language>
  <cp:lastModifiedBy>ASUS</cp:lastModifiedBy>
  <cp:lastPrinted>2011-02-03T12:05:21Z</cp:lastPrinted>
  <dcterms:modified xsi:type="dcterms:W3CDTF">2012-09-25T00:29:55Z</dcterms:modified>
  <cp:revision>15</cp:revision>
  <dc:subject/>
  <dc:title>jkzy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