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7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49.jpeg" ContentType="image/jpeg"/>
  <Override PartName="/ppt/media/image45.wmf" ContentType="image/x-wmf"/>
  <Override PartName="/ppt/media/image47.jpeg" ContentType="image/jpeg"/>
  <Override PartName="/ppt/media/image46.jpeg" ContentType="image/jpeg"/>
  <Override PartName="/ppt/media/image43.jpeg" ContentType="image/jpeg"/>
  <Override PartName="/ppt/media/image42.gif" ContentType="image/gif"/>
  <Override PartName="/ppt/media/image51.gif" ContentType="image/gif"/>
  <Override PartName="/ppt/media/image37.jpeg" ContentType="image/jpeg"/>
  <Override PartName="/ppt/media/image36.jpeg" ContentType="image/jpeg"/>
  <Override PartName="/ppt/media/image54.gif" ContentType="image/gif"/>
  <Override PartName="/ppt/media/image35.jpeg" ContentType="image/jpeg"/>
  <Override PartName="/ppt/media/image44.gif" ContentType="image/gif"/>
  <Override PartName="/ppt/media/image34.jpeg" ContentType="image/jpeg"/>
  <Override PartName="/ppt/media/image32.jpeg" ContentType="image/jpeg"/>
  <Override PartName="/ppt/media/image30.jpeg" ContentType="image/jpeg"/>
  <Override PartName="/ppt/media/image48.jpeg" ContentType="image/jpeg"/>
  <Override PartName="/ppt/media/image50.jpeg" ContentType="image/jpeg"/>
  <Override PartName="/ppt/media/image18.gif" ContentType="image/gif"/>
  <Override PartName="/ppt/media/image53.png" ContentType="image/png"/>
  <Override PartName="/ppt/media/image58.jpeg" ContentType="image/jpeg"/>
  <Override PartName="/ppt/media/image20.gif" ContentType="image/gif"/>
  <Override PartName="/ppt/media/image24.jpeg" ContentType="image/jpeg"/>
  <Override PartName="/ppt/media/image15.jpeg" ContentType="image/jpeg"/>
  <Override PartName="/ppt/media/image78.jpeg" ContentType="image/jpeg"/>
  <Override PartName="/ppt/media/image69.gif" ContentType="image/gif"/>
  <Override PartName="/ppt/media/image61.gif" ContentType="image/gif"/>
  <Override PartName="/ppt/media/image77.jpeg" ContentType="image/jpeg"/>
  <Override PartName="/ppt/media/image60.jpeg" ContentType="image/jpeg"/>
  <Override PartName="/ppt/media/chimes.wav" ContentType="audio/x-wav"/>
  <Override PartName="/ppt/media/image22.jpeg" ContentType="image/jpeg"/>
  <Override PartName="/ppt/media/image72.gif" ContentType="image/gif"/>
  <Override PartName="/ppt/media/image74.jpeg" ContentType="image/jpeg"/>
  <Override PartName="/ppt/media/image25.jpeg" ContentType="image/jpeg"/>
  <Override PartName="/ppt/media/image2.png" ContentType="image/png"/>
  <Override PartName="/ppt/media/image71.jpeg" ContentType="image/jpeg"/>
  <Override PartName="/ppt/media/image66.jpeg" ContentType="image/jpeg"/>
  <Override PartName="/ppt/media/image9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76.gif" ContentType="image/gif"/>
  <Override PartName="/ppt/media/image68.jpeg" ContentType="image/jpeg"/>
  <Override PartName="/ppt/media/image67.jpeg" ContentType="image/jpeg"/>
  <Override PartName="/ppt/media/image62.jpeg" ContentType="image/jpeg"/>
  <Override PartName="/ppt/media/image79.jpeg" ContentType="image/jpeg"/>
  <Override PartName="/ppt/media/image19.png" ContentType="image/png"/>
  <Override PartName="/ppt/media/image64.jpeg" ContentType="image/jpeg"/>
  <Override PartName="/ppt/media/glass.wav" ContentType="audio/x-wav"/>
  <Override PartName="/ppt/media/image38.jpeg" ContentType="image/jpeg"/>
  <Override PartName="/ppt/media/image63.jpeg" ContentType="image/jpeg"/>
  <Override PartName="/ppt/media/image31.jpeg" ContentType="image/jpeg"/>
  <Override PartName="/ppt/media/image39.jpeg" ContentType="image/jpeg"/>
  <Override PartName="/ppt/media/image14.gif" ContentType="image/gif"/>
  <Override PartName="/ppt/media/image73.jpeg" ContentType="image/jpeg"/>
  <Override PartName="/ppt/media/image21.gif" ContentType="image/gif"/>
  <Override PartName="/ppt/media/image10.jpeg" ContentType="image/jpeg"/>
  <Override PartName="/ppt/media/image3.png" ContentType="image/png"/>
  <Override PartName="/ppt/media/image27.png" ContentType="image/png"/>
  <Override PartName="/ppt/media/image33.jpeg" ContentType="image/jpeg"/>
  <Override PartName="/ppt/media/image75.jpeg" ContentType="image/jpeg"/>
  <Override PartName="/ppt/media/image41.gif" ContentType="image/gif"/>
  <Override PartName="/ppt/media/image7.jpeg" ContentType="image/jpeg"/>
  <Override PartName="/ppt/media/image13.gif" ContentType="image/gif"/>
  <Override PartName="/ppt/media/image4.png" ContentType="image/png"/>
  <Override PartName="/ppt/media/image17.gif" ContentType="image/gif"/>
  <Override PartName="/ppt/media/image5.gif" ContentType="image/gif"/>
  <Override PartName="/ppt/media/image23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8.jpeg" ContentType="image/jpeg"/>
  <Override PartName="/ppt/media/image11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yuwen520.com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31640" y="6165360"/>
            <a:ext cx="4543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cc"/>
                </a:solidFill>
                <a:latin typeface="Arial"/>
              </a:rPr>
              <a:t>该课件由【语文公社】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uwen520.com</a:t>
            </a:r>
            <a:r>
              <a:rPr b="1" lang="zh-CN" sz="1400" spc="-1" strike="noStrike">
                <a:solidFill>
                  <a:srgbClr val="0066ff"/>
                </a:solidFill>
                <a:latin typeface="Arial"/>
              </a:rPr>
              <a:t>友情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11280" y="6021360"/>
            <a:ext cx="249552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file:///&#12298;&#28373;&#29579;&#38401;&#24207;&#12299;&#35829;&#35835;&#21160;&#30011;.swf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gif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5.xml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9.gif"/><Relationship Id="rId2" Type="http://schemas.openxmlformats.org/officeDocument/2006/relationships/image" Target="../media/image61.gif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7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76.gif"/><Relationship Id="rId3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0032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3886200" y="163368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24280" y="3614760"/>
            <a:ext cx="2971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48080" y="304920"/>
            <a:ext cx="341028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Arial"/>
                <a:ea typeface="隶书"/>
              </a:rPr>
              <a:t>滕王阁序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35360" y="3014640"/>
            <a:ext cx="54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9000"/>
            <a:ext cx="91440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江南名楼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滕王阁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此楼在历史上迭废迭兴达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次。现在的滕王阁楼于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989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日竣工，全楼九层，高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57.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米，背城临江，距唐代遗址百余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滕王阁始建于唐代，后几经兴废，明代景泰年间，巡抚都御使韩雍重修，其规模为：三层，高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7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米，宽约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米。今重修后的滕王阁，连地下室共九层，高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57.5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米，占地达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700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平方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95280" y="0"/>
            <a:ext cx="81010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2080"/>
                </a:solidFill>
                <a:latin typeface="Times New Roman"/>
                <a:ea typeface="方正舒体"/>
              </a:rPr>
              <a:t>下面是一副名胜古迹的对联，阅读后回答</a:t>
            </a:r>
            <a:r>
              <a:rPr b="1" lang="zh-CN" sz="2800" spc="-1" strike="noStrike">
                <a:solidFill>
                  <a:srgbClr val="e02080"/>
                </a:solidFill>
                <a:latin typeface="Times New Roman"/>
                <a:ea typeface="方正舒体"/>
              </a:rPr>
              <a:t>1-3</a:t>
            </a:r>
            <a:r>
              <a:rPr b="1" lang="zh-CN" sz="2800" spc="-1" strike="noStrike">
                <a:solidFill>
                  <a:srgbClr val="e02080"/>
                </a:solidFill>
                <a:latin typeface="Times New Roman"/>
                <a:ea typeface="方正舒体"/>
              </a:rPr>
              <a:t>题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    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一楼何奇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杜少陵五言绝唱，范希文两字关情，滕子京百废俱兴，吕纯阳三过必醉，诗耶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儒耶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吏耶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仙耶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前不见古人，使我怆然涕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!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    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诸君请看，洞庭湖南极潇湘，扬子江北通巫峡，巴陵山西来爽气，岳阳城东道崖疆。潴者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!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流者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!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峙者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!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镇者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!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此中有真意，问谁领会得来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?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24000" y="4816440"/>
            <a:ext cx="820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．“一楼何奇”中的“楼”具体指的应该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(    )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    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．鹳鹊楼  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．岳阳楼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C.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滕王阁 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．黄鹤楼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7740720" y="5300640"/>
            <a:ext cx="1114200" cy="13716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7667640" y="4869000"/>
            <a:ext cx="43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6137280"/>
            <a:ext cx="2087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琥珀"/>
              </a:rPr>
              <a:t>课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2" dur="indefinite" restart="never" nodeType="tmRoot">
          <p:childTnLst>
            <p:seq>
              <p:cTn id="1693" dur="indefinite" nodeType="mainSeq">
                <p:childTnLst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324000" y="260280"/>
            <a:ext cx="8424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．“两字关情”中的“两字”指的是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(    )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．这副对联的内容丰富，归纳上下联的主要意思正确的应该是  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(    )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．上联写楼的史实，下联写作者的感慨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．上联写楼的史实和传说，下联写洞庭湖的位置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C.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上联写楼的传说，下联写湖光景色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．上联写楼的史实和传说，下联写洞庭湖的风景大观和作者的感慨。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435640" y="83664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忧”和“乐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11640" y="2060640"/>
            <a:ext cx="43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0" dur="indefinite" restart="never" nodeType="tmRoot">
          <p:childTnLst>
            <p:seq>
              <p:cTn id="1701" dur="indefinite" nodeType="mainSeq">
                <p:childTnLst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35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彩云"/>
                <a:ea typeface="华文彩云"/>
              </a:rPr>
              <a:t>成    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56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物华天宝   人杰地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高朋满座   龙飞凤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逸兴横飞   萍水相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老当益壮   投笔从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穷且益坚，不坠青云之志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失之东隅，收之桑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3287520" cy="403524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0" y="18900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找一下，本文运用了哪些成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4" dur="indefinite" restart="never" nodeType="tmRoot">
          <p:childTnLst>
            <p:seq>
              <p:cTn id="1715" dur="indefinite" nodeType="mainSeq">
                <p:childTnLst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朗读直至背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仿照课文中句式，写对偶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滕王阁中，高朋满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——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见秋水之浩淼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参考答案：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A 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都督宴上，盛友如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                 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B 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望长天之明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出文中所有典故，细细体会其含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067280" y="0"/>
            <a:ext cx="2087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琥珀"/>
              </a:rPr>
              <a:t>课后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7" dur="indefinite" restart="never" nodeType="tmRoot">
          <p:childTnLst>
            <p:seq>
              <p:cTn id="1758" dur="indefinite" nodeType="mainSeq">
                <p:childTnLst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500"/>
                            </p:stCondLst>
                            <p:childTnLst>
                              <p:par>
                                <p:cTn id="18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916360" y="5661000"/>
            <a:ext cx="281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ff"/>
                </a:solidFill>
                <a:latin typeface="Times New Roman"/>
              </a:rPr>
              <a:t>欢迎斧正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3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60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滕王阁为历代封建士大夫们迎送和宴请宾客之处。明代开国皇帝朱元璋也曾设宴阁上，命诸臣、文人赋诗真词，观看灯火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92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军阀混战时，被北洋军阀邓如琢部纵火烧毁。建国后，江西省政府重建滕王阁。重建后的滕王阁，无论其高度，还是面积，均远胜于历代四阁，同时也大超过了现在的黄鹤楼和岳阳楼，仍然居于三大名楼之首。如今滕王阁已成了南昌，也是江西省的一处重要的旅游景点。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90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滕王阁之所以享有巨大名声，很大程度上归功于一篇脍炙人口的散文《滕王阁序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传说当时诗人王勃探亲路过南昌，正赶上阎都督重修滕王阁后，在阁上大宴宾客，王勃当场一气写下这篇令在座宾客赞服的《秋日登洪府滕王阁饯别序》（即《滕王阁序》），王勃作序后，又有王仲舒作记，王绪作赋，历史上称为“三王文章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62064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重修后的滕王阁，高耸于南昌城西，赣江之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步入新阁，仿佛置身于一座以滕王阁为主题的艺术殿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第一层正厅有一表现王勃创作《滕王阁序》的大型汉白玉浮雕《时来风送滕王阁》，巧妙地将滕王阁的动人传说与历史事实融为一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层正厅是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3.90*2.5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米的大型工笔重彩丙衡壁画《人杰图》，绘有自秦至明的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位领风骚的江西历代名人。这与第四层表现江西山川精华的《地灵图》，堪称双璧，令人叹观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层是凭栏骋最佳处。进入厅堂，迎面是苏东坡手书的千古名篇《滕王阁序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《滕王阁序》中最著名的两句是“落霞与孤鹜齐飞，秋水共长天一色”。这已作为主阁正门的巨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暮秋之后，鄱阳湖区将有成千上万只侯鸟飞临，那将构成一幅活生生的“落霞与孤鹜齐飞，秋水共长天一色”图，成为滕王阁的一大胜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35280" cy="2585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76360" y="1923120"/>
            <a:ext cx="766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王勃，唐代诗人，字子安，绛州龙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王勃与杨炯、卢照邻、骆宾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诗文齐名，并称“王杨卢骆”，亦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初唐四杰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 他才华早露，未成年即被赞为神童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岁授官朝散郎，后因事被逐，其父亦受累贬为交趾令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岁时，王勃南下探亲，路过南昌，赴都督阎某在滕王阁的宴会，赋诗并作序。后在赴探亲途中渡海溺水受惊而死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《滕王阁序》遂成为他的“绝唱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273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王勃著《滕王阁序》，时年二十六。都督阎公不之信。勃虽在座，而阎公意属子婿孟学士者为之，已宿构矣。及以纸笔让宾客，勃不辞让。公大怒，拂袖而起；专令人伺其下笔。第一报云：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南昌故郡，洪都新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”公曰：“亦是老生常谈！”又报云：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星分翼轸，地接衡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”公闻之，沉吟不言。又云：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落霞与孤鹜齐飞，秋水共长天一色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”公瞿然而起，曰：“此真天才，当垂不朽矣！”遂即亟宴所，极欢而罢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75963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62320" y="533520"/>
            <a:ext cx="549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都督大宴滕王客，宿命其婿作序以夸客，因出纸笔遍请客，莫敢当，至勃泛然不辞。都督怒，起更衣，遣吏伺其文辄报。一再报，语益奇，乃矍然曰：天才也！请遂成文，极欢罢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1125360"/>
            <a:ext cx="83818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王杨卢骆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当时体，轻薄为文哂未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尔曹身与名俱灭，不废江河万古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杜甫《戏为六绝句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3280" y="450864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初唐四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42920" y="39924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317080" y="260280"/>
            <a:ext cx="590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rcRect l="0" t="-2309" r="0" b="0"/>
          <a:stretch/>
        </p:blipFill>
        <p:spPr>
          <a:xfrm>
            <a:off x="0" y="-7308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68320" y="1122480"/>
            <a:ext cx="182628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落霞与孤鹜齐飞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秋水共长天一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80" y="1107720"/>
            <a:ext cx="24894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画栋朝飞南浦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朱帘暮卷西窗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2952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汉仪菱心体简"/>
                <a:ea typeface="汉仪菱心体简"/>
              </a:rPr>
              <a:t>文体知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907920"/>
            <a:ext cx="91440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是写在文章前面的文字，用于说明书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写作或出版的意图、宗旨、过程、编排体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等内容。由作者本人写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自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，也可由他人代写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代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。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书序、赠序、宴集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书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著作或诗文前的说明或评价性文字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赠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指亲友间以作文相赠，表达惜别、祝愿、劝勉之意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宴集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指古人宴集时，常要赋诗，诗成后公推一人作序，这就是宴集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本文是饯别序，即临别赠言，属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赠序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59280" y="0"/>
            <a:ext cx="1368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71640" y="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骈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92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魏晋以后产生的一种文体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又称骈俪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南北朝是骈俪文的全盛时期。唐与“古文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相对称为“骈文”。又因它通篇四、六字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亦称“四六文”。此文体盛行于唐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0160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　特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讲求对仗，一般用四字句或六字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平仄相对，音律和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多用典故，讲究藻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骈文多注重形式技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运用得当，内容丰富，也能增强文章艺术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223920"/>
            <a:ext cx="100188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534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195640" y="2565360"/>
            <a:ext cx="4800600" cy="113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9999"/>
                </a:solidFill>
                <a:uFillTx/>
                <a:latin typeface="Times New Roman"/>
                <a:ea typeface="方正舒体"/>
                <a:hlinkClick r:id="rId2"/>
              </a:rPr>
              <a:t>课文诵读欣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听课文朗读录音，注意字音、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式变化， 节奏停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596360" y="0"/>
            <a:ext cx="1547640" cy="1125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5772240"/>
            <a:ext cx="1428840" cy="1085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97344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滕王阁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王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豫章故郡，洪都新府。星分翼轸，地接衡庐。襟三江而带五湖，控蛮荆而引瓯越。物华天宝，龙光射牛斗之墟；人杰地灵，徐孺下陈蕃之榻。雄州雾列，俊采星驰。台隍枕夷夏之交，宾主尽东南之美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4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5117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都督阎公之雅望，棨戟遥临；宇文新州之懿范，襜帷暂驻。十旬休假，胜友如云；千里逢迎，高朋满座。腾蛟起凤，孟学士之词宗；紫电青霜，王将军之武库。家君作宰，路出名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486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童子何知，躬逢胜饯。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　时维九月，序属三秋。潦水尽而寒潭清，烟光凝而暮山紫。俨骖騑于上路，访风景于崇阿。临帝子之长洲，得天人之旧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4843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层峦耸翠，上出重霄；飞阁流丹，下临无地。鹤汀凫渚，穷岛屿之萦回；桂殿兰宫，即冈峦之体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披绣闼，俯雕甍，山原旷其盈视，川泽纡其骇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5392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闾阎扑地，钟鸣鼎食之家；舸舰弥津，青雀黄龙之舳。云销雨霁，彩彻区明。落霞与孤鹜齐飞，秋水共长天一色。渔舟唱晚，响穷彭蠡之滨，雁阵惊寒，声断衡阳之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823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遥襟甫畅，逸兴遄飞。爽籁发而清风生，纤歌凝而白云遏。睢园绿竹，气凌彭泽之樽；邺水朱华，光照临川之笔。四美具，二难并。穷睇眄于中天，极娱游于暇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0" y="4680"/>
            <a:ext cx="9132840" cy="6846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5392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天高地迥，觉宇宙之无穷；兴尽悲来，识盈虚之有数。望长安于日下，目吴会于云间。地势极而南溟深，天柱高而北辰远。关山难越，谁悲失路之人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981000"/>
            <a:ext cx="75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    在我们祖国这块神奇的大地上，积淀了五千年的文化遗产，宫殿园林，亭台楼阁比比皆是。在众多的人文景观中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中国古代四大名楼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因其精美的建筑流传千古，更因名人的游历题诗而具有了特殊的含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那么有谁知道“中国古代四大名楼”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4460760"/>
            <a:ext cx="676728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823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萍水相逢，尽是他乡之客。怀帝阍而不见，奉宣室以何年？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　　嗟乎！时运不齐，命途多舛。冯唐易老，李广难封。屈贾谊于长沙，非无圣主；窜梁鸿于海曲，岂乏明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098000"/>
            <a:ext cx="91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所赖君子见机，达人知命。老当益壮，宁移白首之心？穷且益坚，不坠青云之志。酌贪泉而觉爽，处涸辙以犹欢。北海虽赊，扶摇可接；东隅已逝，桑榆非晚。孟尝高洁，空余报国之情；阮籍猖狂，岂效穷途之哭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5117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勃，三尺微命，一介书生。无路请缨，等终军之弱冠；有怀投笔，慕宗悫之长风。舍簪笏于百龄，奉晨昏于万里。非谢家之宝树，接孟氏之芳邻。他日趋庭，叨陪鲤对；今兹捧袂，喜托龙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823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杨意不逢，抚凌云而自惜；钟期既遇，奏流水以何惭？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　　呜呼！胜地不常，盛筵难再；兰亭已矣，梓泽丘墟。临别赠言，幸承恩于伟饯；登高作赋，是所望于群公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5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2739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敢竭鄙怀，恭疏短引；一言均赋，四韵俱成。请洒潘江，各倾陆海云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棨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懿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襜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翼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襟三江     鹤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凫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川泽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孤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潦水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骖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绣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雕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舸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蠡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遄飞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睢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睇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南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舛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慤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簪笏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428840" cy="1085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324000" y="260280"/>
            <a:ext cx="39607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rnd" w="12600">
                  <a:solidFill>
                    <a:srgbClr val="00ccff"/>
                  </a:solidFill>
                  <a:custDash>
                    <a:ds d="100000" sp="1000"/>
                  </a:custDash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重点字音</a:t>
            </a:r>
            <a:endParaRPr b="1" lang="en-US" sz="1800" spc="1" strike="noStrike">
              <a:ln cap="rnd" w="12600">
                <a:solidFill>
                  <a:srgbClr val="00ccff"/>
                </a:solidFill>
                <a:custDash>
                  <a:ds d="100000" sp="1000"/>
                </a:custDash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24000" y="5423040"/>
            <a:ext cx="936360" cy="1434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44280" y="157644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qǐj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2720" y="15764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y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1520" y="15764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ch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55720" y="157644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ji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56080" y="21528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yìzhě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08680" y="22050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j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93760" y="220500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ī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85880" y="272880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ú zh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50000" y="280044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y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11240" y="27288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w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88080" y="27288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lǎ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45280" y="330516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cān fē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53080" y="33577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67240" y="335772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mé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40800" y="337644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g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84680" y="3376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l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67240" y="395280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chu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61400" y="3881520"/>
            <a:ext cx="6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su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21440" y="38815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y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72440" y="395280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dì mi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66160" y="452916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m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03080" y="4457880"/>
            <a:ext cx="8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h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3160" y="445788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chu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85520" y="445788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86000" y="51055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z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02360" y="510552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jiŏ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95600" y="510552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qu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44080" y="515772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zān  h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261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断句品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四四对四四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豫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故郡，洪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  “二二式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六字句的断句：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孟学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词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访风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崇阿 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三三式”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帝子之长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岛屿之萦回 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一五式”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钟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鼎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谁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失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人 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二二二式”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响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彭蠡之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气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彭泽之樽 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二四式”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凌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自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承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伟饯 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一二三式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443640" y="5207040"/>
            <a:ext cx="14097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380360" y="2276640"/>
            <a:ext cx="1152360" cy="20556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七字句的读法（按意义划分）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襟三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带五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潦水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寒潭清 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三四式”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龙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牛斗之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宾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东南之美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二一四式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落霞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孤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齐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秋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共长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色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二三二式”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都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阎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雅望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二二三式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四六对四六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渔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唱晚，响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彭蠡之滨；雁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惊寒，声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衡阳之浦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六四对六四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屈贾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长沙，非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圣主；窜梁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海曲，岂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明时？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681520" y="4173480"/>
            <a:ext cx="3462480" cy="2684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1333800" cy="1333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808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刘勰在《文心雕龙》里早给骈文特点作了总结说：“铺采离文，体物写志”，即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写景抒情，借物言志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33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根据这样的特点，我们把文章分成两个部分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写景、抒情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该怎么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3213000"/>
            <a:ext cx="60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—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段：描写滕王阁美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—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段：抒写人生感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877080" y="2924280"/>
            <a:ext cx="2003400" cy="2305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4365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这是一篇作诗序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第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段，诗人交代了写这篇序言的情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课文就可以分成这样三段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0" y="5805360"/>
            <a:ext cx="10098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11720" y="981000"/>
            <a:ext cx="336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第二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imes New Roman"/>
              </a:rPr>
              <a:t>披文入情：</a:t>
            </a: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幼圆"/>
              </a:rPr>
              <a:t>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35280" y="5084640"/>
            <a:ext cx="5689440" cy="7034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书读百遍，其义自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88000" y="602136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孟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60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09680" y="0"/>
            <a:ext cx="678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大名楼 —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6000" spc="-1" strike="noStrike">
                <a:solidFill>
                  <a:srgbClr val="0000cc"/>
                </a:solidFill>
                <a:latin typeface="黑体"/>
                <a:ea typeface="黑体"/>
              </a:rPr>
              <a:t>蓬 莱 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05264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直上蓬莱阁，人间第一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云山千里目，海岛四时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            ——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清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·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陈葆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8820000" y="6453360"/>
            <a:ext cx="324000" cy="404640"/>
          </a:xfrm>
          <a:custGeom>
            <a:avLst/>
            <a:gdLst>
              <a:gd name="textAreaLeft" fmla="*/ 31320 w 324000"/>
              <a:gd name="textAreaRight" fmla="*/ 292680 w 324000"/>
              <a:gd name="textAreaTop" fmla="*/ 31320 h 404640"/>
              <a:gd name="textAreaBottom" fmla="*/ 373320 h 404640"/>
            </a:gdLst>
            <a:ahLst/>
            <a:rect l="textAreaLeft" t="textAreaTop" r="textAreaRight" b="textAreaBottom"/>
            <a:pathLst>
              <a:path w="21600" h="26970">
                <a:moveTo>
                  <a:pt x="0" y="0"/>
                </a:moveTo>
                <a:lnTo>
                  <a:pt x="21600" y="0"/>
                </a:lnTo>
                <a:lnTo>
                  <a:pt x="21600" y="26970"/>
                </a:lnTo>
                <a:lnTo>
                  <a:pt x="0" y="26970"/>
                </a:lnTo>
                <a:close/>
              </a:path>
              <a:path fill="lightenLess" w="21600" h="26970">
                <a:moveTo>
                  <a:pt x="0" y="0"/>
                </a:moveTo>
                <a:lnTo>
                  <a:pt x="21600" y="0"/>
                </a:lnTo>
                <a:lnTo>
                  <a:pt x="19512" y="2088"/>
                </a:lnTo>
                <a:lnTo>
                  <a:pt x="2088" y="2088"/>
                </a:lnTo>
                <a:close/>
              </a:path>
              <a:path fill="darken" w="21600" h="26970">
                <a:moveTo>
                  <a:pt x="21600" y="0"/>
                </a:moveTo>
                <a:lnTo>
                  <a:pt x="21600" y="26970"/>
                </a:lnTo>
                <a:lnTo>
                  <a:pt x="19512" y="24882"/>
                </a:lnTo>
                <a:lnTo>
                  <a:pt x="19512" y="2088"/>
                </a:lnTo>
                <a:close/>
              </a:path>
              <a:path fill="darkenLess" w="21600" h="26970">
                <a:moveTo>
                  <a:pt x="21600" y="26970"/>
                </a:moveTo>
                <a:lnTo>
                  <a:pt x="0" y="26970"/>
                </a:lnTo>
                <a:lnTo>
                  <a:pt x="2088" y="24882"/>
                </a:lnTo>
                <a:lnTo>
                  <a:pt x="19512" y="24882"/>
                </a:lnTo>
                <a:close/>
              </a:path>
              <a:path fill="lighten" w="21600" h="26970">
                <a:moveTo>
                  <a:pt x="0" y="26970"/>
                </a:moveTo>
                <a:lnTo>
                  <a:pt x="0" y="0"/>
                </a:lnTo>
                <a:lnTo>
                  <a:pt x="2088" y="2088"/>
                </a:lnTo>
                <a:lnTo>
                  <a:pt x="2088" y="24882"/>
                </a:lnTo>
                <a:close/>
              </a:path>
              <a:path fill="darken" w="21600" h="26970">
                <a:moveTo>
                  <a:pt x="7557" y="13485"/>
                </a:moveTo>
                <a:lnTo>
                  <a:pt x="17294" y="6991"/>
                </a:lnTo>
                <a:lnTo>
                  <a:pt x="17294" y="19979"/>
                </a:lnTo>
                <a:close/>
              </a:path>
              <a:path fill="darken" w="21600" h="26970">
                <a:moveTo>
                  <a:pt x="4306" y="6991"/>
                </a:moveTo>
                <a:lnTo>
                  <a:pt x="5847" y="6991"/>
                </a:lnTo>
                <a:lnTo>
                  <a:pt x="5847" y="19979"/>
                </a:lnTo>
                <a:lnTo>
                  <a:pt x="4306" y="199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58436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042920" y="692280"/>
            <a:ext cx="65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棨戟　　　 懿范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襜帷   　　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翼轸 　　  襟三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249228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江而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五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雄州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列，俊采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2210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都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名词作状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雾、流星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那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都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意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·····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为襟、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·····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为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汉仪菱心体简"/>
              </a:rPr>
              <a:t>第一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991640" y="4802040"/>
            <a:ext cx="1152360" cy="2055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275920" y="7650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2080"/>
                </a:solidFill>
                <a:latin typeface="Arial"/>
              </a:rPr>
              <a:t>qǐj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17800" y="765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y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16800" y="134136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hānw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35000" y="134136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ji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88080" y="19162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yìzhě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4120" y="19162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j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615564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汉仪菱心体简"/>
                <a:ea typeface="汉仪菱心体简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汉仪菱心体简"/>
                <a:ea typeface="汉仪菱心体简"/>
              </a:rPr>
              <a:t>交代南昌的地理环境以及人杰地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048360" y="0"/>
            <a:ext cx="3095640" cy="2595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52480" y="486900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蛟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5516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都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使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·····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腾飞、起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幼圆"/>
              </a:rPr>
              <a:t>豫章故郡，洪都新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幼圆"/>
              </a:rPr>
              <a:t>星分翼轸，地接衡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襟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幼圆"/>
              </a:rPr>
              <a:t>三江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带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幼圆"/>
              </a:rPr>
              <a:t>五湖，控蛮荆而引瓯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豫章原为旧时的郡治，洪州本是新设的都府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27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天空正当翼星、轸星所在，地域紧接衡州、江州两处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86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江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当衣襟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五湖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作束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上控着荆楚下连着东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68360" y="5515920"/>
            <a:ext cx="83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交代南昌的</a:t>
            </a:r>
            <a:r>
              <a:rPr b="1" lang="zh-CN" sz="4000" spc="-1" strike="noStrike">
                <a:solidFill>
                  <a:srgbClr val="ff0000"/>
                </a:solidFill>
                <a:latin typeface="汉仪菱心体简"/>
                <a:ea typeface="汉仪菱心体简"/>
              </a:rPr>
              <a:t>地理环境</a:t>
            </a:r>
            <a:r>
              <a:rPr b="1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724360" y="189000"/>
            <a:ext cx="3095640" cy="25956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68360" y="1197000"/>
            <a:ext cx="712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豫章故郡，洪都新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星分翼轸，地接衡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襟三江而带五湖，控蛮荆而引瓯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33336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汉仪菱心体简"/>
              </a:rPr>
              <a:t>分层背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76360" y="19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历史久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06480" y="342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界域辽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51200" y="494100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地势宏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16000" y="1700280"/>
            <a:ext cx="216000" cy="720720"/>
          </a:xfrm>
          <a:custGeom>
            <a:avLst/>
            <a:gdLst>
              <a:gd name="textAreaLeft" fmla="*/ 28800 w 216000"/>
              <a:gd name="textAreaRight" fmla="*/ 187200 w 21600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58920" y="4797360"/>
            <a:ext cx="216000" cy="720720"/>
          </a:xfrm>
          <a:custGeom>
            <a:avLst/>
            <a:gdLst>
              <a:gd name="textAreaLeft" fmla="*/ 28800 w 216000"/>
              <a:gd name="textAreaRight" fmla="*/ 187200 w 21600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16000" y="3284640"/>
            <a:ext cx="216000" cy="720720"/>
          </a:xfrm>
          <a:custGeom>
            <a:avLst/>
            <a:gdLst>
              <a:gd name="textAreaLeft" fmla="*/ 28800 w 216000"/>
              <a:gd name="textAreaRight" fmla="*/ 187200 w 21600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356600" y="2290680"/>
            <a:ext cx="1787400" cy="4567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2276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幼圆"/>
              </a:rPr>
              <a:t>人杰地灵，徐孺下陈蕃之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幼圆"/>
              </a:rPr>
              <a:t>雄州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幼圆"/>
              </a:rPr>
              <a:t>雾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幼圆"/>
              </a:rPr>
              <a:t>列，俊采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幼圆"/>
              </a:rPr>
              <a:t>星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幼圆"/>
              </a:rPr>
              <a:t>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781360"/>
            <a:ext cx="89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人物英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山川灵秀，高士徐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留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陈藩特设的榻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4653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雄伟的州郡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像云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大地上排列，杰出的人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如流星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夜空飞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58520" y="2080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物华天宝，龙光射牛斗之墟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物产华美有天生的珍宝，龙泉剑光直射着斗、牛星之位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258560" y="620280"/>
            <a:ext cx="75610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交代</a:t>
            </a:r>
            <a:r>
              <a:rPr b="1" lang="zh-CN" sz="4000" spc="-1" strike="noStrike">
                <a:solidFill>
                  <a:srgbClr val="ff0000"/>
                </a:solidFill>
                <a:latin typeface="汉仪菱心体简"/>
                <a:ea typeface="汉仪菱心体简"/>
              </a:rPr>
              <a:t>地灵人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76360" y="1700280"/>
            <a:ext cx="6264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物华天宝，龙光射牛斗之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人杰地灵，徐孺下陈蕃之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雄州雾列，俊采星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95280" y="4802040"/>
            <a:ext cx="1152360" cy="2055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979640" y="5300640"/>
            <a:ext cx="216000" cy="720720"/>
          </a:xfrm>
          <a:custGeom>
            <a:avLst/>
            <a:gdLst>
              <a:gd name="textAreaLeft" fmla="*/ 28800 w 216000"/>
              <a:gd name="textAreaRight" fmla="*/ 187200 w 21600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0920" y="3789360"/>
            <a:ext cx="216000" cy="720720"/>
          </a:xfrm>
          <a:custGeom>
            <a:avLst/>
            <a:gdLst>
              <a:gd name="textAreaLeft" fmla="*/ 28800 w 216000"/>
              <a:gd name="textAreaRight" fmla="*/ 187200 w 21600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4000" y="2349360"/>
            <a:ext cx="216000" cy="720720"/>
          </a:xfrm>
          <a:custGeom>
            <a:avLst/>
            <a:gdLst>
              <a:gd name="textAreaLeft" fmla="*/ 28800 w 216000"/>
              <a:gd name="textAreaRight" fmla="*/ 187200 w 21600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56000" y="2637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物产丰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11280" y="4076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才杰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11280" y="5661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地      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汉仪菱心体简"/>
              </a:rPr>
              <a:t>分层背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177336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幼圆"/>
              </a:rPr>
              <a:t>都督阎公之雅望，棨戟遥临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幼圆"/>
              </a:rPr>
              <a:t>宇文新州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懿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幼圆"/>
              </a:rPr>
              <a:t>范，襜帷暂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幼圆"/>
              </a:rPr>
              <a:t>十旬休假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胜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幼圆"/>
              </a:rPr>
              <a:t>友如云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27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洪州都督阎公有着很高的声望，他的仪仗从远方赶来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86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新州刺史宇文公具备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美好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风范，他的车驾在这里暂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566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十天一旬的休假日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友聚集如云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18680" y="0"/>
            <a:ext cx="34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台隍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枕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夷夏之交，宾主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尽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东南之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69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城池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雄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于蛮夷与中原相交之处，宾主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全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东南地区的俊美之士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幼圆"/>
              </a:rPr>
              <a:t>千里逢迎，高朋满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幼圆"/>
              </a:rPr>
              <a:t>腾蛟起凤，孟学士之词宗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幼圆"/>
              </a:rPr>
              <a:t>紫电清霜，王将军之武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907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千里喜迎宾客，良朋坐满宴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357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文采腾蛟起凤，孟学士是词章的宗师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5157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宝剑紫电青霜，王将军收藏于自己的武库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50920" y="76500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交代参加宴会的人员</a:t>
            </a:r>
            <a:r>
              <a:rPr b="1" lang="zh-CN" sz="4000" spc="-1" strike="noStrike">
                <a:solidFill>
                  <a:srgbClr val="ff0000"/>
                </a:solidFill>
                <a:latin typeface="汉仪菱心体简"/>
                <a:ea typeface="汉仪菱心体简"/>
              </a:rPr>
              <a:t>（贤主嘉宾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732720" y="1844640"/>
            <a:ext cx="1787400" cy="45673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39640" y="1484280"/>
            <a:ext cx="860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台隍枕夷夏之交，宾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东南之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都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阎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之雅望，棨戟遥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宇文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新州之懿范，襜帷暂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十旬休假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胜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云；千里逢迎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高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满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腾蛟起凤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孟学士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之词宗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紫电清霜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王将军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之武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汉仪菱心体简"/>
              </a:rPr>
              <a:t>分层背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260280"/>
            <a:ext cx="5940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幼圆"/>
                <a:ea typeface="幼圆"/>
              </a:rPr>
              <a:t>家君作宰，路出名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幼圆"/>
                <a:ea typeface="幼圆"/>
              </a:rPr>
              <a:t>童子何知，躬逢胜饯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90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家父在交趾做县令，我探亲经过这一有名的地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56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年轻人有什么才能知识，却有幸参加了这豪华的盛宴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885080" y="0"/>
            <a:ext cx="1087560" cy="981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7048440" y="3284640"/>
            <a:ext cx="2095560" cy="1504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232000" y="458136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交代自己</a:t>
            </a:r>
            <a:r>
              <a:rPr b="1" lang="zh-CN" sz="4000" spc="-1" strike="noStrike">
                <a:solidFill>
                  <a:srgbClr val="ff0000"/>
                </a:solidFill>
                <a:latin typeface="汉仪菱心体简"/>
                <a:ea typeface="汉仪菱心体简"/>
              </a:rPr>
              <a:t>参加</a:t>
            </a:r>
            <a:r>
              <a:rPr b="1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宴会的</a:t>
            </a:r>
            <a:r>
              <a:rPr b="1" lang="zh-CN" sz="4000" spc="-1" strike="noStrike">
                <a:solidFill>
                  <a:srgbClr val="ff0000"/>
                </a:solidFill>
                <a:latin typeface="汉仪菱心体简"/>
                <a:ea typeface="汉仪菱心体简"/>
              </a:rPr>
              <a:t>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0" y="4653000"/>
            <a:ext cx="2268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2178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归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这段文字概写了滕王阁的        ，引出参加宴会的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最后一句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谦恭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话，表明自己年纪轻轻就有幸参加这次盛会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651640" y="5157720"/>
            <a:ext cx="2095200" cy="15051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2095560" cy="15051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307920" y="220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地理风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84680" y="278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人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51280" y="0"/>
            <a:ext cx="529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先天下之忧而忧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后天下之乐而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范仲淹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6280" y="333360"/>
            <a:ext cx="23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大名楼 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80528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8820000" y="6453360"/>
            <a:ext cx="324000" cy="404640"/>
          </a:xfrm>
          <a:custGeom>
            <a:avLst/>
            <a:gdLst>
              <a:gd name="textAreaLeft" fmla="*/ 31320 w 324000"/>
              <a:gd name="textAreaRight" fmla="*/ 292680 w 324000"/>
              <a:gd name="textAreaTop" fmla="*/ 31320 h 404640"/>
              <a:gd name="textAreaBottom" fmla="*/ 373320 h 404640"/>
            </a:gdLst>
            <a:ahLst/>
            <a:rect l="textAreaLeft" t="textAreaTop" r="textAreaRight" b="textAreaBottom"/>
            <a:pathLst>
              <a:path w="21600" h="26970">
                <a:moveTo>
                  <a:pt x="0" y="0"/>
                </a:moveTo>
                <a:lnTo>
                  <a:pt x="21600" y="0"/>
                </a:lnTo>
                <a:lnTo>
                  <a:pt x="21600" y="26970"/>
                </a:lnTo>
                <a:lnTo>
                  <a:pt x="0" y="26970"/>
                </a:lnTo>
                <a:close/>
              </a:path>
              <a:path fill="lightenLess" w="21600" h="26970">
                <a:moveTo>
                  <a:pt x="0" y="0"/>
                </a:moveTo>
                <a:lnTo>
                  <a:pt x="21600" y="0"/>
                </a:lnTo>
                <a:lnTo>
                  <a:pt x="19512" y="2088"/>
                </a:lnTo>
                <a:lnTo>
                  <a:pt x="2088" y="2088"/>
                </a:lnTo>
                <a:close/>
              </a:path>
              <a:path fill="darken" w="21600" h="26970">
                <a:moveTo>
                  <a:pt x="21600" y="0"/>
                </a:moveTo>
                <a:lnTo>
                  <a:pt x="21600" y="26970"/>
                </a:lnTo>
                <a:lnTo>
                  <a:pt x="19512" y="24882"/>
                </a:lnTo>
                <a:lnTo>
                  <a:pt x="19512" y="2088"/>
                </a:lnTo>
                <a:close/>
              </a:path>
              <a:path fill="darkenLess" w="21600" h="26970">
                <a:moveTo>
                  <a:pt x="21600" y="26970"/>
                </a:moveTo>
                <a:lnTo>
                  <a:pt x="0" y="26970"/>
                </a:lnTo>
                <a:lnTo>
                  <a:pt x="2088" y="24882"/>
                </a:lnTo>
                <a:lnTo>
                  <a:pt x="19512" y="24882"/>
                </a:lnTo>
                <a:close/>
              </a:path>
              <a:path fill="lighten" w="21600" h="26970">
                <a:moveTo>
                  <a:pt x="0" y="26970"/>
                </a:moveTo>
                <a:lnTo>
                  <a:pt x="0" y="0"/>
                </a:lnTo>
                <a:lnTo>
                  <a:pt x="2088" y="2088"/>
                </a:lnTo>
                <a:lnTo>
                  <a:pt x="2088" y="24882"/>
                </a:lnTo>
                <a:close/>
              </a:path>
              <a:path fill="darken" w="21600" h="26970">
                <a:moveTo>
                  <a:pt x="7557" y="13485"/>
                </a:moveTo>
                <a:lnTo>
                  <a:pt x="17294" y="6991"/>
                </a:lnTo>
                <a:lnTo>
                  <a:pt x="17294" y="19979"/>
                </a:lnTo>
                <a:close/>
              </a:path>
              <a:path fill="darken" w="21600" h="26970">
                <a:moveTo>
                  <a:pt x="4306" y="6991"/>
                </a:moveTo>
                <a:lnTo>
                  <a:pt x="5847" y="6991"/>
                </a:lnTo>
                <a:lnTo>
                  <a:pt x="5847" y="19979"/>
                </a:lnTo>
                <a:lnTo>
                  <a:pt x="4306" y="199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00000" y="835920"/>
            <a:ext cx="180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鹤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凫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川泽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孤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3357720"/>
            <a:ext cx="5761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骖腓于上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云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雨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川泽纡其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4000" y="260280"/>
            <a:ext cx="31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汉仪菱心体简"/>
              </a:rPr>
              <a:t>第二、三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155736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03640" y="1557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zh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32000" y="19890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y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84360" y="2565360"/>
            <a:ext cx="15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692280"/>
            <a:ext cx="14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潦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骖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绣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雕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620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lǎ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51640" y="1268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cān fē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80360" y="191628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96000" y="184464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t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96000" y="249228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mé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101080" y="1844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g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72360" y="263700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l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3577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通“严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整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4581360"/>
            <a:ext cx="446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通“消”，消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67280" y="5877000"/>
            <a:ext cx="50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使动，使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···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感到惊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876240" cy="1695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337120" y="750960"/>
            <a:ext cx="121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tī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4360" y="476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第二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87280" y="1484280"/>
            <a:ext cx="44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举行宴会的时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2421000"/>
            <a:ext cx="8352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时维九月，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序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属三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潦水尽而寒潭清，烟光凝而暮山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335772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时间是在九月，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季节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属于三秋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522936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地面的积水消尽而寒潭清澈见底，晚霞的余光凝聚而暮山一片青紫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012000" y="620640"/>
            <a:ext cx="266364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187280" y="1484280"/>
            <a:ext cx="44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交代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03280" y="2637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时维九月，序属三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012000" y="620640"/>
            <a:ext cx="2663640" cy="19004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55640" y="47628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汉仪菱心体简"/>
              </a:rPr>
              <a:t>分层背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69840" y="4797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潦水尽而寒潭清，烟光凝而暮山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87280" y="357336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描绘秋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240680" y="4653000"/>
            <a:ext cx="1903320" cy="18590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826920" y="54936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王勃来参加宴会的过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1557360"/>
            <a:ext cx="777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俨骖騑于上路，访风景于崇阿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临帝子之长洲，得天人之旧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227664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整顿车马上了大路，到高耸的山岭中寻访美景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414972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亲临滕王阁前的长洲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找到仙人旧日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的馆阁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727280" cy="1042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2124000" y="6156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王勃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赴阁途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滕王阁及其周围的景色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重点语段之一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105264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层台耸翠，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出重霄；飞阁翔丹，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临无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鹤汀凫渚，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穷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岛屿之萦回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234936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层叠的台阁耸立在翠绿的山上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向上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直冲云霄；凌空的檐阁闪动着艳丽的色彩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向下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俯视不见地面。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4149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黑体"/>
              </a:rPr>
              <a:t>白鹤漫步的沙滩，野鸭栖息的小洲，岛屿的安排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极尽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黑体"/>
              </a:rPr>
              <a:t>萦绕迂回的情致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78800" y="5138640"/>
            <a:ext cx="20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桂殿兰宫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冈峦之体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554688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桂木建筑的殿堂，香兰装饰的宫室，楼阁的布局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依照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冈峦起伏的地势。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64000" y="627840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楼阁四周山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79280" y="1052640"/>
            <a:ext cx="8763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披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绣闼，俯雕甍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山原旷其盈视，川泽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其骇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4000" y="184464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打开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彩绘的阁门，俯视雕饰的屋脊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71628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山野平原空旷，尽入视野；江河湖泊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曲折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浩茫，惊人眼目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7236000" y="2133720"/>
            <a:ext cx="1428480" cy="10857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1280" y="260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第三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闾阎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地，钟鸣鼎食之家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舸舰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津，青雀黄龙之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云销雨霁，彩彻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1052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城中房舍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遍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地，有不少显赫富贵的人家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渡口船只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满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泊，有许多装饰豪华的龙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5546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彩虹隐没而雨过天晴，日光普照使得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天空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一片光明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812000" y="4076640"/>
            <a:ext cx="9367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91440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落霞与孤鹜齐飞，秋水共长天一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渔舟唱晚，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穷彭蠡之滨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雁阵惊寒，声断衡阳之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1052640"/>
            <a:ext cx="53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晚霞与野鸭一起飞舞，秋水和长天相映成色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0920" y="3429000"/>
            <a:ext cx="59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暮色里归舟传来声声渔歌，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歌声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响彻鄱阳湖畔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0920" y="5373720"/>
            <a:ext cx="63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寒风中大雁发出阵阵惊鸣，叫声消失在衡阳水滨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7020000" y="3500280"/>
            <a:ext cx="172728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披绣闼，俯雕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山原旷其盈视，川泽纡其骇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闾阎扑地，钟鸣鼎食之家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舸舰弥津，青雀黄龙之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云销雨霁，彩彻区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落霞与孤鹜齐飞，秋水共长天一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渔舟唱晚，响穷彭蠡之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雁阵惊寒，声断衡阳之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21840" y="620640"/>
            <a:ext cx="315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登阁远眺所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936360" cy="14353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7740720" y="5084640"/>
            <a:ext cx="9367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8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81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84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87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0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5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404640"/>
            <a:ext cx="91440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一部分，写了滕王阁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建筑之宏伟，眺望之广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层峦”以下八句，写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阁在山水之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披绣闼”以下十句，写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阁上眺望所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其中“落霞与孤鹜齐飞”二句为描写秋景名句，展示出一幅鲜明生动的秋之图景。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7493040" y="1052640"/>
            <a:ext cx="16509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219640" y="152280"/>
            <a:ext cx="3924360" cy="45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黄鹤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崔 灏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唐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昔人已乘黄鹤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此地空余黄鹤楼。 黄鹤一去不复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白云千载空悠悠。 晴川历历汉阳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芳草萋萋鹦鹉洲。 日暮乡关何处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烟波江上使人愁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0"/>
            <a:ext cx="23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大名楼 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650880"/>
            <a:ext cx="4500720" cy="620712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8820000" y="6453360"/>
            <a:ext cx="324000" cy="404640"/>
          </a:xfrm>
          <a:custGeom>
            <a:avLst/>
            <a:gdLst>
              <a:gd name="textAreaLeft" fmla="*/ 31320 w 324000"/>
              <a:gd name="textAreaRight" fmla="*/ 292680 w 324000"/>
              <a:gd name="textAreaTop" fmla="*/ 31320 h 404640"/>
              <a:gd name="textAreaBottom" fmla="*/ 373320 h 404640"/>
            </a:gdLst>
            <a:ahLst/>
            <a:rect l="textAreaLeft" t="textAreaTop" r="textAreaRight" b="textAreaBottom"/>
            <a:pathLst>
              <a:path w="21600" h="26970">
                <a:moveTo>
                  <a:pt x="0" y="0"/>
                </a:moveTo>
                <a:lnTo>
                  <a:pt x="21600" y="0"/>
                </a:lnTo>
                <a:lnTo>
                  <a:pt x="21600" y="26970"/>
                </a:lnTo>
                <a:lnTo>
                  <a:pt x="0" y="26970"/>
                </a:lnTo>
                <a:close/>
              </a:path>
              <a:path fill="lightenLess" w="21600" h="26970">
                <a:moveTo>
                  <a:pt x="0" y="0"/>
                </a:moveTo>
                <a:lnTo>
                  <a:pt x="21600" y="0"/>
                </a:lnTo>
                <a:lnTo>
                  <a:pt x="19512" y="2088"/>
                </a:lnTo>
                <a:lnTo>
                  <a:pt x="2088" y="2088"/>
                </a:lnTo>
                <a:close/>
              </a:path>
              <a:path fill="darken" w="21600" h="26970">
                <a:moveTo>
                  <a:pt x="21600" y="0"/>
                </a:moveTo>
                <a:lnTo>
                  <a:pt x="21600" y="26970"/>
                </a:lnTo>
                <a:lnTo>
                  <a:pt x="19512" y="24882"/>
                </a:lnTo>
                <a:lnTo>
                  <a:pt x="19512" y="2088"/>
                </a:lnTo>
                <a:close/>
              </a:path>
              <a:path fill="darkenLess" w="21600" h="26970">
                <a:moveTo>
                  <a:pt x="21600" y="26970"/>
                </a:moveTo>
                <a:lnTo>
                  <a:pt x="0" y="26970"/>
                </a:lnTo>
                <a:lnTo>
                  <a:pt x="2088" y="24882"/>
                </a:lnTo>
                <a:lnTo>
                  <a:pt x="19512" y="24882"/>
                </a:lnTo>
                <a:close/>
              </a:path>
              <a:path fill="lighten" w="21600" h="26970">
                <a:moveTo>
                  <a:pt x="0" y="26970"/>
                </a:moveTo>
                <a:lnTo>
                  <a:pt x="0" y="0"/>
                </a:lnTo>
                <a:lnTo>
                  <a:pt x="2088" y="2088"/>
                </a:lnTo>
                <a:lnTo>
                  <a:pt x="2088" y="24882"/>
                </a:lnTo>
                <a:close/>
              </a:path>
              <a:path fill="darken" w="21600" h="26970">
                <a:moveTo>
                  <a:pt x="7557" y="13485"/>
                </a:moveTo>
                <a:lnTo>
                  <a:pt x="17294" y="6991"/>
                </a:lnTo>
                <a:lnTo>
                  <a:pt x="17294" y="19979"/>
                </a:lnTo>
                <a:close/>
              </a:path>
              <a:path fill="darken" w="21600" h="26970">
                <a:moveTo>
                  <a:pt x="4306" y="6991"/>
                </a:moveTo>
                <a:lnTo>
                  <a:pt x="5847" y="6991"/>
                </a:lnTo>
                <a:lnTo>
                  <a:pt x="5847" y="19979"/>
                </a:lnTo>
                <a:lnTo>
                  <a:pt x="4306" y="199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79280" y="5300640"/>
            <a:ext cx="1440000" cy="15573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900000" y="33336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登临之状：披闼  俯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38080" y="243828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远望之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09680" y="12952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山川之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990720"/>
            <a:ext cx="190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山原旷  川泽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12952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09680" y="26668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人烟之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648320" y="2362320"/>
            <a:ext cx="236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闾阎扑地  舸舰弥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26668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40384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雨后天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73392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云  雨  彩  区         落霞孤鹜  秋水长天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0384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62320" y="54100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人鸟共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00600" y="5105520"/>
            <a:ext cx="266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渔舟唱晚  雁阵惊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800600" y="54864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33720" y="1600200"/>
            <a:ext cx="152280" cy="4343400"/>
          </a:xfrm>
          <a:custGeom>
            <a:avLst/>
            <a:gdLst>
              <a:gd name="textAreaLeft" fmla="*/ 97200 w 152280"/>
              <a:gd name="textAreaRight" fmla="*/ 152640 w 15228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372360" y="0"/>
            <a:ext cx="2771640" cy="1324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588000" y="1890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按提纲背诵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7308720" y="5157720"/>
            <a:ext cx="183528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9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6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1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165240"/>
            <a:ext cx="9144000" cy="66834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132000" y="0"/>
            <a:ext cx="36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汉仪菱心体简"/>
              </a:rPr>
              <a:t>写景之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03640" y="1197000"/>
            <a:ext cx="404316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汉仪菱心体简"/>
              </a:rPr>
              <a:t>色彩变化之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汉仪菱心体简"/>
              </a:rPr>
              <a:t>远近变化之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汉仪菱心体简"/>
              </a:rPr>
              <a:t>上下浑成之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汉仪菱心体简"/>
              </a:rPr>
              <a:t>虚实相衬之美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汉仪菱心体简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0" y="981000"/>
            <a:ext cx="6840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第三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imes New Roman"/>
              </a:rPr>
              <a:t>写景抒情：</a:t>
            </a: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幼圆"/>
              </a:rPr>
              <a:t>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32000" y="5157720"/>
            <a:ext cx="6264360" cy="7034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奇文共欣赏，疑义相与析。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---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陶渊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826920" y="1051920"/>
            <a:ext cx="251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遄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睇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4000" y="260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汉仪菱心体简"/>
              </a:rPr>
              <a:t>第四、五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876240" cy="16952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500720" y="981000"/>
            <a:ext cx="122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南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2276640"/>
            <a:ext cx="10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95640" y="981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chu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á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90800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su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979640" y="2133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y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195640" y="285264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dì miǎ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67280" y="981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mí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92720" y="155736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ū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292720" y="220500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chuǎ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64000" y="2852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sh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667640" y="2924280"/>
            <a:ext cx="13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ji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67640" y="227664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ū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79280" y="3716280"/>
            <a:ext cx="543564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所赖君子见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贾宜于长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梁鸿于海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吴会于云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11640" y="371628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通“几”，预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67280" y="43657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使动，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······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屈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95640" y="4941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使动，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······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窜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51280" y="544500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名词做动词，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7840" y="6021360"/>
            <a:ext cx="13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635280" y="6093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形做名，美好的难得的事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9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1125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1. 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参加宴会的人员和进行宴会的盛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9640" y="1890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第四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20606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遥襟甫畅，逸兴遄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爽籁发而清风生，纤歌凝而白云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2924280"/>
            <a:ext cx="66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怀远俯视，胸襟舒畅，兴致飘逸，急速飞扬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530064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萧管奏鸣忽高忽低，引来清风阵阵，歌声悠扬柔美，遏止了白云运行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7740720" y="5084640"/>
            <a:ext cx="1224000" cy="17733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6624720" y="2060640"/>
            <a:ext cx="2519280" cy="1512720"/>
          </a:xfrm>
          <a:prstGeom prst="wedgeRoundRectCallout">
            <a:avLst>
              <a:gd name="adj1" fmla="val -63990"/>
              <a:gd name="adj2" fmla="val 61018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管弦之盛歌声之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9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1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2590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睢园绿竹，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彭泽之樽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邺水朱华，光照临川之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四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具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二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907920"/>
            <a:ext cx="6443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盛宴堪比睢园中的竹林聚会，酒兴可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压倒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陶渊明；</a:t>
            </a:r>
            <a:r>
              <a:rPr b="1" lang="zh-CN" sz="40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292428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雅情恰似邺水畔的建安才子，文采能够超过谢灵运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5300640"/>
            <a:ext cx="71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良辰美景赏心乐事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“四美”全都具备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贤主嘉宾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聚集在一起。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7308720" y="4365720"/>
            <a:ext cx="1584360" cy="19429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6372360" y="692280"/>
            <a:ext cx="2484360" cy="1512720"/>
          </a:xfrm>
          <a:prstGeom prst="wedgeRoundRectCallout">
            <a:avLst>
              <a:gd name="adj1" fmla="val -38500"/>
              <a:gd name="adj2" fmla="val 89976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宴会豪华人物高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528680" y="3500280"/>
            <a:ext cx="1094760" cy="935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7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9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6" dur="5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191628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穷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睇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于中天，极娱游于暇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249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极目远眺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那无边的长空，尽情游乐在短暂的假日。</a:t>
            </a:r>
            <a:r>
              <a:rPr b="1" lang="zh-CN" sz="40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由参加宴会引发人生感慨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兴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觉得自己怀才不遇，命运多舛，勉励自己不因处境困窘而改变志节。（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重点语段之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8029440" y="1341360"/>
            <a:ext cx="1114560" cy="13716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1227960" y="31021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高地迥，觉宇宙之无穷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9280" y="371628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苍天高远，大地辽阔，更觉得宇宙浩渺无垠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92000" y="42544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兴尽悲来，识盈虚之有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79280" y="479736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兴致消尽，悲哀涌来，认识到盛与衰自有定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95280" y="530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99"/>
                </a:solidFill>
                <a:latin typeface="Arial"/>
              </a:rPr>
              <a:t>设问：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悲从何来？因何而悲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26920" y="5994360"/>
            <a:ext cx="503280" cy="863640"/>
          </a:xfrm>
          <a:custGeom>
            <a:avLst/>
            <a:gdLst>
              <a:gd name="textAreaLeft" fmla="*/ 67320 w 503280"/>
              <a:gd name="textAreaRight" fmla="*/ 435960 w 503280"/>
              <a:gd name="textAreaTop" fmla="*/ 147600 h 863640"/>
              <a:gd name="textAreaBottom" fmla="*/ 64296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93" stAng="-5400000" swAng="-5400000"/>
                <a:lnTo>
                  <a:pt x="0" y="12381"/>
                </a:lnTo>
                <a:arcTo wR="21600" hR="7393" stAng="10800000" swAng="-2644251"/>
                <a:lnTo>
                  <a:pt x="14400" y="21177"/>
                </a:lnTo>
                <a:lnTo>
                  <a:pt x="21600" y="17280"/>
                </a:lnTo>
                <a:lnTo>
                  <a:pt x="14400" y="12537"/>
                </a:lnTo>
                <a:lnTo>
                  <a:pt x="14400" y="14363"/>
                </a:lnTo>
                <a:arcTo wR="21600" hR="7393" stAng="8155749" swAng="2224698"/>
                <a:lnTo>
                  <a:pt x="1266" y="9887"/>
                </a:lnTo>
                <a:arcTo wR="21600" hR="7393" stAng="-10380446" swAng="4980446"/>
                <a:close/>
              </a:path>
              <a:path fill="darkenLess" w="21600" h="21600">
                <a:moveTo>
                  <a:pt x="21600" y="0"/>
                </a:moveTo>
                <a:arcTo wR="21600" hR="7393" stAng="-5400000" swAng="-5400000"/>
                <a:lnTo>
                  <a:pt x="0" y="7393"/>
                </a:lnTo>
                <a:arcTo wR="21600" hR="7393" stAng="10800000" swAng="-419554"/>
                <a:lnTo>
                  <a:pt x="1266" y="9887"/>
                </a:lnTo>
                <a:arcTo wR="21600" hR="7393" stAng="-10380446" swAng="4980446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763640" y="5950080"/>
            <a:ext cx="630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宇宙无穷，个人渺小之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1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4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4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7343640" y="141300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0" y="184464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地势极而南溟深，天柱高而北辰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关山难越，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失路之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萍水相逢，尽是他乡之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62164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流水浮萍，偶然相逢，全是他乡陌生之人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50920" y="4365720"/>
            <a:ext cx="55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关山万里，难以逾越，谁来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同情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迷路游子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95280" y="2349360"/>
            <a:ext cx="67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地势偏远而南方大海幽深，天柱很高而北极星辰遥远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732720" y="3573360"/>
            <a:ext cx="2016000" cy="25876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95280" y="0"/>
            <a:ext cx="79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望长安于日下，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吴会于云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69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西望长安远在夕阳之下，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看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吴郡会稽隐现在云雾之间。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50920" y="1484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抒发身世之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7020000" y="1268280"/>
            <a:ext cx="1800000" cy="18003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11280" y="213372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望长安于日下，目吴会于云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地势极而南溟深，天柱高而北辰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关山难越，谁悲失路之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萍水相逢，尽是他乡之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怀</a:t>
            </a:r>
            <a:r>
              <a:rPr b="1" lang="zh-CN" sz="3200" spc="-1" strike="noStrike">
                <a:solidFill>
                  <a:srgbClr val="e02080"/>
                </a:solidFill>
                <a:latin typeface="Arial"/>
                <a:ea typeface="黑体"/>
              </a:rPr>
              <a:t>帝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而不见，奉</a:t>
            </a:r>
            <a:r>
              <a:rPr b="1" lang="zh-CN" sz="3200" spc="-1" strike="noStrike">
                <a:solidFill>
                  <a:srgbClr val="e02080"/>
                </a:solidFill>
                <a:latin typeface="Arial"/>
                <a:ea typeface="黑体"/>
              </a:rPr>
              <a:t>宣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以何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340000" y="515772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人生无常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盛衰有时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怀才不遇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报国无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835280" y="4797360"/>
            <a:ext cx="576000" cy="936720"/>
          </a:xfrm>
          <a:custGeom>
            <a:avLst/>
            <a:gdLst>
              <a:gd name="textAreaLeft" fmla="*/ 77040 w 576000"/>
              <a:gd name="textAreaRight" fmla="*/ 498960 w 57600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227640" y="3500280"/>
            <a:ext cx="2087640" cy="936720"/>
          </a:xfrm>
          <a:prstGeom prst="wedgeEllipseCallout">
            <a:avLst>
              <a:gd name="adj1" fmla="val -36921"/>
              <a:gd name="adj2" fmla="val 7254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用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77240" y="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怀帝阍而不见，奉宣室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何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69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怀念着宫门而不能相见，回朝为官谁知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哪一年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6980400" y="4197240"/>
            <a:ext cx="2163600" cy="26607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0" y="2421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贾谊于长沙，非无圣主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梁鸿于海曲，岂乏明时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所赖君子见机，达人知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9280" y="30686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使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贾谊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屈居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长沙，并非未遇着圣明的君主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429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让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梁鸿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流窜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海角，岂是没逢到清明的时代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5546880"/>
            <a:ext cx="67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好在仁德的君子了解时机，通达的贤人知道命运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嗟乎！时运不齐，命途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舛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冯唐易老，李广难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9280" y="62064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啊！时运不好，命运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坎坷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177336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冯唐容易衰老，李广难以封侯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7734240" y="1341360"/>
            <a:ext cx="1409760" cy="16509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948360" y="18900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第五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285768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6920" y="105264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滕 王 阁 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228600"/>
            <a:ext cx="42066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滕王高阁临江渚，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佩玉鸣鸾罢歌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画栋朝飞南浦云，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珠帘暮卷西山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闲云潭影日悠悠，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物换星移几度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阁中弟子今何在，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槛外长江空自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1989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王 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651640" y="260280"/>
            <a:ext cx="273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3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滕王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1" name=""/>
          <p:cNvSpPr/>
          <p:nvPr/>
        </p:nvSpPr>
        <p:spPr>
          <a:xfrm>
            <a:off x="961920" y="260280"/>
            <a:ext cx="23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大名楼 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24000" y="333360"/>
            <a:ext cx="856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4284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老当益壮，宁移白首之心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穷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益坚，不坠青云之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酌贪泉而觉爽，处涸辙以犹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765000"/>
            <a:ext cx="68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年纪老迈，情怀应更加豪壮，哪里能改变白发人的心愿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2565360"/>
            <a:ext cx="70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境遇艰难，意志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将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越发坚定，决不会失去凌云的壮志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472428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喝着贪泉的水，神志反觉清爽；处在涸辙之中，心情依然乐观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948360" y="47628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0" y="112536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北海虽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扶摇可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东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已逝，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桑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非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13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Times New Roman"/>
              </a:rPr>
              <a:t>北海虽然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遥远</a:t>
            </a:r>
            <a:r>
              <a:rPr b="1" lang="zh-CN" sz="4000" spc="-1" strike="noStrike">
                <a:solidFill>
                  <a:srgbClr val="00cc00"/>
                </a:solidFill>
                <a:latin typeface="Times New Roman"/>
              </a:rPr>
              <a:t>，展翅乘风便可到达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414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旭日东升般的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青春年华虽然已经逝去，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夕照桑榆似的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老年岁月并不太晚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6372360" y="404640"/>
            <a:ext cx="2160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50920" y="4365720"/>
            <a:ext cx="2808360" cy="22892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468360" y="476280"/>
            <a:ext cx="79912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孟尝高洁，空余报国之情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阮藉猖狂，岂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穷途之哭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141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孟尝品德高洁，空留下报国的雄心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411280" y="3213000"/>
            <a:ext cx="61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阮籍放荡不羁，岂能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学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他遇穷途而痛哭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四、五段写参加欢娱宴游引发的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人生感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引用“冯唐”等四人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怀才不遇而失志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典，借他人之酒杯，浇自家之块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赖君子见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以下，用以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勉励自己不因处境困窘而改变志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5640" y="285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引用典故抒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5280" y="3645000"/>
            <a:ext cx="651672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嗟乎！时运不齐，命途多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" action="ppaction://hlinksldjump"/>
              </a:rPr>
              <a:t>冯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易老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 action="ppaction://hlinksldjump"/>
              </a:rPr>
              <a:t>李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难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屈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 action="ppaction://hlinksldjump"/>
              </a:rPr>
              <a:t>贾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长沙，非无圣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窜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 action="ppaction://hlinksldjump"/>
              </a:rPr>
              <a:t>梁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海曲，岂乏明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26920" y="5661000"/>
            <a:ext cx="432000" cy="1008000"/>
          </a:xfrm>
          <a:custGeom>
            <a:avLst/>
            <a:gdLst>
              <a:gd name="textAreaLeft" fmla="*/ 57600 w 432000"/>
              <a:gd name="textAreaRight" fmla="*/ 374400 w 43200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76360" y="587700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怀才不遇，功业无成之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5"/>
          <a:stretch/>
        </p:blipFill>
        <p:spPr>
          <a:xfrm>
            <a:off x="7734240" y="5207040"/>
            <a:ext cx="14097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64000" y="4076640"/>
            <a:ext cx="2016360" cy="258768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152244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冯</a:t>
            </a:r>
            <a:br>
              <a:rPr sz="6600"/>
            </a:b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唐易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92000" y="1197000"/>
            <a:ext cx="72356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酒酣胸胆尚开张，鬓微霜，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何妨！持节云中，何日遣冯唐？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挽雕弓如满月，西北望，射天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苏轼《江城子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密州出猎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979640" y="4365720"/>
            <a:ext cx="2808360" cy="228924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090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李</a:t>
            </a:r>
            <a:br>
              <a:rPr sz="6600"/>
            </a:b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广</a:t>
            </a:r>
            <a:br>
              <a:rPr sz="6600"/>
            </a:b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难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410920" y="3499920"/>
            <a:ext cx="5867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何知七十战，白首未封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陈子昂《感遇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719160" y="1341360"/>
            <a:ext cx="399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但使龙城飞将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不教胡马度阴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                    ——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王昌龄《出塞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137772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屈贾</a:t>
            </a:r>
            <a:br>
              <a:rPr sz="6600"/>
            </a:b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谊于长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582560" y="2997000"/>
            <a:ext cx="756144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宣室求贤访逐臣，贾生才调更无伦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可怜夜半虚前席，不问苍生问鬼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李商隐《贾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46080" y="1125360"/>
            <a:ext cx="166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仁义不施，而攻守之势异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贾谊《过秦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68360" y="4869000"/>
            <a:ext cx="216072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88000" y="484200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16208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窜梁</a:t>
            </a:r>
            <a:br>
              <a:rPr sz="6600"/>
            </a:b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鸿于海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050560" y="333000"/>
            <a:ext cx="70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字伯鸾，东汉扶风平陵人，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京师，作《五意歌》，讽刺朝廷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侈，不体恤民生艰难。汉章帝读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甚为不满，派人寻找他。他更改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名，与妻子孟光避居齐鲁，后移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吴地。海曲：即滨海之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2080"/>
                </a:solidFill>
                <a:latin typeface="Arial"/>
              </a:rPr>
              <a:t>（举案齐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54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勉励自己守节不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6804000" y="3716280"/>
            <a:ext cx="2163960" cy="266076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468360" y="134136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赖君子见机，达人知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老当益壮，宁移白首之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穷且益坚，不坠青云之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059280" y="36136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处境困厄，壮志弥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11280" y="3141720"/>
            <a:ext cx="432000" cy="1008000"/>
          </a:xfrm>
          <a:custGeom>
            <a:avLst/>
            <a:gdLst>
              <a:gd name="textAreaLeft" fmla="*/ 57600 w 432000"/>
              <a:gd name="textAreaRight" fmla="*/ 374400 w 43200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610920" y="6922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酌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贪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觉爽，处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涸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犹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北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虽赊，扶摇可接；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东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逝，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桑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非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孟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洁，空余报国之情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阮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猖狂，岂效穷途之哭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399920" y="1557360"/>
            <a:ext cx="11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身处困境，志节不移；逆境之中，乐观开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042920" y="306864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信心未泯，乐观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079640" y="5373720"/>
            <a:ext cx="77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反用典故，以二人的消极反衬出自己积极向上的情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4288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126200" y="3068640"/>
            <a:ext cx="2017800" cy="3789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642960"/>
            <a:ext cx="91440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四大名楼有关的名人题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昔人已乘黄鹤去，此地空余黄鹤楼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唐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崔 颢《黄鹤楼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故人西辞黄鹤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烟花三月下扬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唐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李白《送孟浩然之广陵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先天下之忧而忧，后天下之乐而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范仲淹《岳阳楼记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吴楚东南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乾坤日夜浮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唐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杜甫《登岳阳楼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落霞与孤鹜齐飞，秋水共长天一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唐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王勃《滕王阁序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彩云"/>
                <a:ea typeface="华文彩云"/>
              </a:rPr>
              <a:t>应用典故</a:t>
            </a:r>
            <a:r>
              <a:rPr b="1" lang="zh-CN" sz="4400" spc="-1" strike="noStrike">
                <a:solidFill>
                  <a:srgbClr val="ff3300"/>
                </a:solidFill>
                <a:latin typeface="华文彩云"/>
                <a:ea typeface="华文彩云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华文彩云"/>
                <a:ea typeface="华文彩云"/>
              </a:rPr>
              <a:t>简练含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作用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加强论证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借古写怀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内容充实，联想丰富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语言简练，风格典雅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如历史故事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冯唐易老，李广难封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如前人文句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酌贪泉而觉爽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处涸辙以犹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3810240" cy="441936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072520" y="-270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找一下，文中运用了哪些典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0" y="692280"/>
            <a:ext cx="6840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第四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imes New Roman"/>
              </a:rPr>
              <a:t>披文入情：</a:t>
            </a: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幼圆"/>
              </a:rPr>
              <a:t>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32000" y="5157720"/>
            <a:ext cx="6696000" cy="7034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奇文共欣赏，疑义相与析。      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---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陶渊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黑体"/>
                <a:ea typeface="黑体"/>
              </a:rPr>
              <a:t>情感变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2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宴会盛况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过渡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奏乐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饮酒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赋诗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总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怀才不遇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过渡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遥远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难越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孤独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无期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用典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壮志弥坚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守志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乐观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信念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坚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240" y="1628640"/>
            <a:ext cx="1003320" cy="935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40" y="5013360"/>
            <a:ext cx="1003320" cy="93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240" y="3357720"/>
            <a:ext cx="1003320" cy="93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分层背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7885080" y="0"/>
            <a:ext cx="876240" cy="16956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8028000" y="5229360"/>
            <a:ext cx="1116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9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0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1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433" dur="500" fill="hold"/>
                                        <p:tgtEl>
                                          <p:spTgt spid="4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8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9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0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442" dur="500" fill="hold"/>
                                        <p:tgtEl>
                                          <p:spTgt spid="4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7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8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9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451" dur="500" fill="hold"/>
                                        <p:tgtEl>
                                          <p:spTgt spid="4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187280" y="1413000"/>
            <a:ext cx="61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慤             簪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95640" y="1341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qu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588000" y="141300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zān  h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24000" y="26028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汉仪菱心体简"/>
              </a:rPr>
              <a:t>第六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2421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勃，三尺微命，一介书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无路请缨，等终军之弱冠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我王勃是一个身分低微的文弱书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5157720"/>
            <a:ext cx="7451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黑体"/>
              </a:rPr>
              <a:t>虽然与年轻的终军同龄，却没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黑体"/>
              </a:rPr>
              <a:t>机会求得捆缚南越王的长绳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2771640" y="33336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920000" y="0"/>
            <a:ext cx="1224000" cy="1557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7524720" y="4941720"/>
            <a:ext cx="129852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47628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有怀投笔，慕宗悫之长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舍簪笏于百龄，</a:t>
            </a:r>
            <a:r>
              <a:rPr b="1" lang="zh-CN" sz="4000" spc="-1" strike="noStrike">
                <a:solidFill>
                  <a:srgbClr val="e02080"/>
                </a:solidFill>
                <a:latin typeface="黑体"/>
                <a:ea typeface="黑体"/>
              </a:rPr>
              <a:t>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晨昏于万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1413000"/>
            <a:ext cx="65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也怀着投笔从戎的壮志，很羡慕宗悫乘长风破万里浪的雄心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79280" y="4149720"/>
            <a:ext cx="62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如今抛舍了人生百年的富贵爵禄，去探望</a:t>
            </a:r>
            <a:r>
              <a:rPr b="1" lang="zh-CN" sz="4000" spc="-1" strike="noStrike">
                <a:solidFill>
                  <a:srgbClr val="e02080"/>
                </a:solidFill>
                <a:latin typeface="黑体"/>
                <a:ea typeface="黑体"/>
              </a:rPr>
              <a:t>侍奉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万里之外的父亲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6659640" y="836640"/>
            <a:ext cx="2003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333360"/>
            <a:ext cx="91440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非谢家之宝树，</a:t>
            </a:r>
            <a:r>
              <a:rPr b="1" lang="zh-CN" sz="4000" spc="-1" strike="noStrike">
                <a:solidFill>
                  <a:srgbClr val="e02080"/>
                </a:solidFill>
                <a:latin typeface="黑体"/>
                <a:ea typeface="黑体"/>
              </a:rPr>
              <a:t>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孟氏之芳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他日趋庭，叨陪鲤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今晨捧袂，喜托龙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981000"/>
            <a:ext cx="65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虽不是玉树般的谢家子弟，却也愿学孟母</a:t>
            </a:r>
            <a:r>
              <a:rPr b="1" lang="zh-CN" sz="4000" spc="-1" strike="noStrike">
                <a:solidFill>
                  <a:srgbClr val="e02080"/>
                </a:solidFill>
                <a:latin typeface="黑体"/>
                <a:ea typeface="黑体"/>
              </a:rPr>
              <a:t>结交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贤者为邻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042920" y="3429000"/>
            <a:ext cx="55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黑体"/>
              </a:rPr>
              <a:t>不久便要“趋庭鲤对”，承受严父的教导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411280" y="5546880"/>
            <a:ext cx="55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黑体"/>
              </a:rPr>
              <a:t>今天有幸“喜登龙门”，拜见高雅的主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6516720" y="1413000"/>
            <a:ext cx="2376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62064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杨意不逢，抚凌云而自惜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钟期既遇，奏流水以何惭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1700280"/>
            <a:ext cx="63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如果遇不到杨得意的推荐，就只能抚摸着凌云之作为自己惋惜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5084640"/>
            <a:ext cx="66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既然已遇见了钟子期，奏起那高山流水之曲又有何愧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6516720" y="4005360"/>
            <a:ext cx="2233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1197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写自己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有幸与会，应命做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无路请缨”四句再说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自己的遭遇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用典—怀才不遇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舍簪笏”以下八句，说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自己路过滕王阁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把当时的宾主合在一起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杨意不逢”等四句表明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自己愿意作诗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用典—知音难觅，伯乐难寻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7236000" y="5207040"/>
            <a:ext cx="1584000" cy="165096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0" y="189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汉仪菱心体简"/>
              </a:rPr>
              <a:t>第六段：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分层背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0" dur="indefinite" restart="never" nodeType="tmRoot">
          <p:childTnLst>
            <p:seq>
              <p:cTn id="1521" dur="indefinite" nodeType="mainSeq">
                <p:childTnLst>
                  <p:par>
                    <p:cTn id="1522" fill="hold">
                      <p:stCondLst>
                        <p:cond delay="0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6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7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8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7650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呜呼！</a:t>
            </a:r>
            <a:r>
              <a:rPr b="1" lang="zh-CN" sz="4000" spc="-1" strike="noStrike">
                <a:solidFill>
                  <a:srgbClr val="e02080"/>
                </a:solidFill>
                <a:latin typeface="Arial"/>
                <a:ea typeface="黑体"/>
              </a:rPr>
              <a:t>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地不常，盛筵难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02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兰亭</a:t>
            </a:r>
            <a:r>
              <a:rPr b="1" lang="zh-CN" sz="4000" spc="-1" strike="noStrike">
                <a:solidFill>
                  <a:srgbClr val="e02080"/>
                </a:solidFill>
                <a:latin typeface="Arial"/>
                <a:ea typeface="黑体"/>
              </a:rPr>
              <a:t>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矣，梓泽丘墟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临别赠言，幸承恩</a:t>
            </a:r>
            <a:r>
              <a:rPr b="1" lang="zh-CN" sz="4000" spc="-1" strike="noStrike">
                <a:solidFill>
                  <a:srgbClr val="e02080"/>
                </a:solidFill>
                <a:latin typeface="Arial"/>
                <a:ea typeface="黑体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伟饯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1197000"/>
            <a:ext cx="68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黑体"/>
              </a:rPr>
              <a:t>唉！</a:t>
            </a:r>
            <a:r>
              <a:rPr b="1" lang="zh-CN" sz="4000" spc="-1" strike="noStrike">
                <a:solidFill>
                  <a:srgbClr val="e02080"/>
                </a:solidFill>
                <a:latin typeface="Arial"/>
                <a:ea typeface="黑体"/>
              </a:rPr>
              <a:t>美好的</a:t>
            </a: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黑体"/>
              </a:rPr>
              <a:t>景致不能常存，盛大的宴会也难</a:t>
            </a:r>
            <a:r>
              <a:rPr b="1" lang="zh-CN" sz="4000" spc="-1" strike="noStrike">
                <a:solidFill>
                  <a:srgbClr val="e02080"/>
                </a:solidFill>
                <a:latin typeface="Arial"/>
                <a:ea typeface="黑体"/>
              </a:rPr>
              <a:t>再</a:t>
            </a: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黑体"/>
              </a:rPr>
              <a:t>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500280"/>
            <a:ext cx="73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兰亭集会的雅兴</a:t>
            </a:r>
            <a:r>
              <a:rPr b="1" lang="zh-CN" sz="4000" spc="-1" strike="noStrike">
                <a:solidFill>
                  <a:srgbClr val="e02080"/>
                </a:solidFill>
                <a:latin typeface="Arial"/>
                <a:ea typeface="黑体"/>
              </a:rPr>
              <a:t>已经过去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，金谷园林的楼阁已成废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5589720"/>
            <a:ext cx="69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临别的赠言，</a:t>
            </a:r>
            <a:r>
              <a:rPr b="1" lang="zh-CN" sz="4000" spc="-1" strike="noStrike">
                <a:solidFill>
                  <a:srgbClr val="e02080"/>
                </a:solidFill>
                <a:latin typeface="Arial"/>
                <a:ea typeface="黑体"/>
              </a:rPr>
              <a:t>在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这盛大的宴会上侥幸受到都督的恩遇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22003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250920" y="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汉仪菱心体简"/>
              </a:rPr>
              <a:t>第七段：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汉仪菱心体简"/>
              </a:rPr>
              <a:t>疏通文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539640" y="333360"/>
            <a:ext cx="860436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登高作赋，</a:t>
            </a:r>
            <a:r>
              <a:rPr b="1" lang="zh-CN" sz="4000" spc="-1" strike="noStrike">
                <a:solidFill>
                  <a:srgbClr val="e02080"/>
                </a:solidFill>
                <a:latin typeface="黑体"/>
                <a:ea typeface="黑体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望于群公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敢</a:t>
            </a:r>
            <a:r>
              <a:rPr b="1" lang="zh-CN" sz="4000" spc="-1" strike="noStrike">
                <a:solidFill>
                  <a:srgbClr val="e02080"/>
                </a:solidFill>
                <a:latin typeface="黑体"/>
                <a:ea typeface="黑体"/>
              </a:rPr>
              <a:t>竭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鄙诚，恭疏短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言均赋，四韵俱成。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00000" y="1052640"/>
            <a:ext cx="64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登临滕王高阁撰写诗赋，</a:t>
            </a:r>
            <a:r>
              <a:rPr b="1" lang="zh-CN" sz="4000" spc="-1" strike="noStrike">
                <a:solidFill>
                  <a:srgbClr val="e02080"/>
                </a:solidFill>
                <a:latin typeface="黑体"/>
                <a:ea typeface="黑体"/>
              </a:rPr>
              <a:t>这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期待着诸位先生各显奇才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32000" y="3141720"/>
            <a:ext cx="59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我</a:t>
            </a:r>
            <a:r>
              <a:rPr b="1" lang="zh-CN" sz="4000" spc="-1" strike="noStrike">
                <a:solidFill>
                  <a:srgbClr val="e02080"/>
                </a:solidFill>
                <a:latin typeface="黑体"/>
                <a:ea typeface="黑体"/>
              </a:rPr>
              <a:t>竭尽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自己的卑陋诚意，恭谨地写成这篇短序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116000" y="5229360"/>
            <a:ext cx="65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一言定题，都来赋诗，四韵八句，都已写成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7962840" y="260280"/>
            <a:ext cx="1181160" cy="16509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7775640" y="5162400"/>
            <a:ext cx="13683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6" dur="indefinite" restart="never" nodeType="tmRoot">
          <p:childTnLst>
            <p:seq>
              <p:cTn id="1547" dur="indefinite" nodeType="mainSeq">
                <p:childTnLst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568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——滕王阁面临赣江，处于赣江和抚河交汇处。由唐高祖之子滕王李元婴任都督时，于公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65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下令在江西南昌修建。以封号为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5640" y="692280"/>
            <a:ext cx="3672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关于滕王阁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3357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1280" y="2492280"/>
            <a:ext cx="404820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3357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七段表明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写序的目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以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谦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作结，结束全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7040" y="333360"/>
            <a:ext cx="42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请洒潘江，各倾陆海云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1557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黑体"/>
              </a:rPr>
              <a:t>请各位尽情发挥自己像陆机、潘岳般如江似海的才能吧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4859280" y="4173480"/>
            <a:ext cx="346248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179280" y="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汉仪菱心体简"/>
              </a:rPr>
              <a:t>第七段：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分层背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7734240" y="5207040"/>
            <a:ext cx="1409760" cy="16509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250920" y="907920"/>
            <a:ext cx="88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胜地不常，盛筵难再，兰亭已矣，梓泽丘墟”，寥寥数语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写尽古今盛会曲终人散、无迹可寻的凄凉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临别赠言，幸承恩于伟饯；登高作赋，是所望于群公”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归结到写诗做序的本事上来，从对宇宙人生的无限感慨中回到现实情境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敢竭鄙怀，恭疏短引，一言均赋，四韵俱成”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是说自己不避浅近，先写了序和诗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请洒潘江，各倾陆海”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期望在坐的嘉宾各展文才，各赋所怀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（用典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fill="hold">
                      <p:stCondLst>
                        <p:cond delay="0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762120" y="990720"/>
            <a:ext cx="517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隶书"/>
              </a:rPr>
              <a:t>潦水尽而寒潭清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隶书"/>
              </a:rPr>
              <a:t>烟光凝而暮山紫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990720" y="304920"/>
            <a:ext cx="1013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名句欣赏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4920" y="2438280"/>
            <a:ext cx="853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隶书"/>
              </a:rPr>
              <a:t>描画出眼前晚景，秋意极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隶书"/>
              </a:rPr>
              <a:t>这句话把清明的湖水和紫色的暮霭加以对比；先写近水，后写远山，描写的景物显出层次，一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隶书"/>
              </a:rPr>
              <a:t>寒”字体现出秋的特征，抒发出秀美山川给人清爽的感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61000" y="11350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0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3" dur="3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593640" y="45640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65240" y="56307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9144000" cy="19810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380880" y="914400"/>
            <a:ext cx="762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ff"/>
                </a:solidFill>
                <a:latin typeface="Times New Roman"/>
                <a:ea typeface="华文彩云"/>
              </a:rPr>
              <a:t>名句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981080" y="968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层峦耸翠，上出重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飞阁流丹，下临无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050840" y="1447920"/>
            <a:ext cx="800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细黑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细黑"/>
              </a:rPr>
              <a:t>仅用十六个字就形容出台阁建筑的壮丽。“上出重霄”“下临无地”，用夸张的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细黑"/>
              </a:rPr>
              <a:t>法突出楼之高，水之深。“翠”本是翠绿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细黑"/>
              </a:rPr>
              <a:t>琉璃瓦色，这里借指瓦，突出了颜色鲜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细黑"/>
              </a:rPr>
              <a:t>悦目。“飞”字描绘出阁道高耸如鸟之欲飞，“流” 字形容彩画势形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0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75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75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4952880" cy="41148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304920" y="3049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名    句    欣    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914400"/>
            <a:ext cx="570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Times New Roman"/>
                <a:ea typeface="隶书"/>
              </a:rPr>
              <a:t>落霞与孤鹜齐飞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Times New Roman"/>
                <a:ea typeface="隶书"/>
              </a:rPr>
              <a:t>秋水共长天一色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57200" y="239220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76720" y="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这句确实脱胎于庾信的“落花与芝盖齐飞，杨柳共春旗一色”一句， 但王勃的句子较原句更真实自然，优美动人。落花在天上飘动，白鹭在空中翱翔，红白相映，色彩鲜明；晚霞原本是无生命的自然景物，他与有生命的飞鸟并提，构成了鲜活有趣的画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fill="hold">
                      <p:stCondLst>
                        <p:cond delay="0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7" dur="75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75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75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635280" y="5013360"/>
            <a:ext cx="1835280" cy="170028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请同学们用自己的语言描绘“落霞与孤鹜齐飞，秋水共长天一色”美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153900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提示：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远处，天连着水，水连着天，水天一色。一只野鸭正披着落日的余晖缓缓的飞翔，灿烂的云霞在天边轻轻地飘荡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0" y="2924280"/>
            <a:ext cx="91440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评：意境和谐美，自然生动，色彩明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落霞自天而下，孤鹜自下而上，故曰齐飞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秋水碧而连天，长天净而映水，故曰一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4" dur="indefinite" restart="never" nodeType="tmRoot">
          <p:childTnLst>
            <p:seq>
              <p:cTn id="1655" dur="indefinite" nodeType="mainSeq">
                <p:childTnLst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rcRect l="13404" t="0" r="0" b="-1365"/>
          <a:stretch/>
        </p:blipFill>
        <p:spPr>
          <a:xfrm>
            <a:off x="7954920" y="5446800"/>
            <a:ext cx="965160" cy="139068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0" y="18900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前人写水天（或天地）相接景象的句子很多，阅读下面三句子说说王勃的句子好在哪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江潮水连海平，海上明月共潮生（《春江花月夜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烟俱净，天山共色。（《与朱元思书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落花与芝盖齐飞，杨柳共春旗一色。（《马射赋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9144000" cy="306864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395280" y="2349360"/>
            <a:ext cx="80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解读：</a:t>
            </a: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对仗美    色彩美    动静美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虚实美    立体空间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5" dur="indefinite" restart="never" nodeType="tmRoot">
          <p:childTnLst>
            <p:seq>
              <p:cTn id="1676" dur="indefinite" nodeType="mainSeq">
                <p:childTnLst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1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2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3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2879640" cy="685800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3960" y="260280"/>
            <a:ext cx="7898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02080"/>
                </a:solidFill>
                <a:latin typeface="Times New Roman"/>
                <a:ea typeface="隶书"/>
              </a:rPr>
              <a:t>滕王阁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高高的滕王阁靠着江边，佩玉、鸾铃鸣响的豪华歌舞已经停止了。早上，画栋飞上了南浦的云；黄昏，珠帘卷入了西山的雨。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黑体"/>
              </a:rPr>
              <a:t>闲云的影子映在江水中，时日悠悠不尽；风物更换季节，星座与转移方位，度过几个春秋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高阁中的滕王如今在哪里呢？只有那栏杆外的长江空自流淌不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陈子昂《登幽州台歌》：“念天地之悠悠，独怆然而涕下”、苏轼《前赤壁赋》：“哀吾生之须臾，羡长江之无穷”、刘禹锡《西塞山怀古》：“人生几回伤往事，山形依旧枕寒流”等，都是用永恒不变的自然与短暂多变的人生相比照，意境博大而悲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6659640" y="4076640"/>
            <a:ext cx="20160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53384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0" y="907920"/>
            <a:ext cx="9144000" cy="47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一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扣“洪    府 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地势雄伟、物产珍异、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                                  人才杰出、宾主尊贵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 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扣“秋日登阁”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楼阁壮丽、山川胜景，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                                 秋景特色，流光溢彩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: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扣“饯”， 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宴会胜况，人生遇合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                                 借古勉今，穷且益坚 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四、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扣“别”，  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自叙遭际，谢主引宾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564000" y="189000"/>
            <a:ext cx="2087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琥珀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4" dur="indefinite" restart="never" nodeType="tmRoot">
          <p:childTnLst>
            <p:seq>
              <p:cTn id="1685" dur="indefinite" nodeType="mainSeq">
                <p:childTnLst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04:16:21Z</dcterms:created>
  <dc:creator/>
  <dc:description/>
  <cp:keywords/>
  <dc:language>en-US</dc:language>
  <cp:lastModifiedBy>User</cp:lastModifiedBy>
  <dcterms:modified xsi:type="dcterms:W3CDTF">2015-11-01T01:07:39Z</dcterms:modified>
  <cp:revision>236</cp:revision>
  <dc:subject/>
  <dc:title>幻灯片 1</dc:title>
</cp:coreProperties>
</file>