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TYPE.WAV" ContentType="audio/x-wav"/>
  <Override PartName="/ppt/media/image6.jpeg" ContentType="image/jpeg"/>
  <Override PartName="/ppt/media/glass.wav" ContentType="audio/x-wav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929-663C-424D-BCFA-2F2A96F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4B7-B687-4EFC-B122-D2C609B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FF-0423-4FA2-AD39-FCA89A18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1A0-C700-43FE-BC9D-C5546DFB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12-4965-41B8-8B28-EF9B5B4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69F-80F7-47FA-88B5-AAC0456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7D8-D79B-4E3C-8BBE-34A6A4CA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B82-2B89-42B3-A2BA-25489655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A14-D6FE-4483-A05E-A91E99A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4D3-E3AA-4B43-9941-72DC371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3E3-456E-4749-854B-FE02E18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FC7-6D44-422B-A459-8E40802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9D95-6CEC-430D-9A69-21958991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2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48080" y="64080"/>
            <a:ext cx="6678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滕王阁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文学故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王勃著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滕王阁序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时年十四。都督阎公不之信。勃虽在座，而阎公意属子婿孟学士者为之，已宿构矣。及以纸笔巡让宾客，勃不辞让。公大怒，拂衣而起，专令人伺其下笔。第一报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南昌故郡，洪都新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曰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是亦老生谈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又报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星分翼轸，地接衡庐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闻之，沈吟不言。又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落霞与孤鹜齐飞，秋水共长天一色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矍然而起，曰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此真天才，当垂不朽矣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遂亟请宴所，极欢而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——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唐摭言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（卷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王勃，字子安，初唐四杰之一。六岁便善写文章。人称神童。据说 约十五岁时被荐于朝任职。后因写文章得罪权贵而被革职。约二十六岁时前往交趾探望家父，路过南昌，赴都督阎某在滕王阁的宴会，赋诗并作序。后在赴探亲途中渡海溺水，惊悸而死。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滕王阁序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遂成为他的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绝唱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（初唐四杰：王勃、杨炯、卢照邻、骆宾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翼轸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襟（     ） 三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鹤汀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凫（  ）渚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川泽纡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孤鹜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樽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迥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南溟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胜筵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梓（   ）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3623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962520" y="685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十星宿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81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62520" y="1143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衣、袍子前面的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6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38480" y="1676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边平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905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0040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962520" y="2057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凫：野鸭。渚：水中间的小块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6668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038480" y="2590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迂回曲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3623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4038480" y="3048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野鸭，名词。（骛：纵横奔驰，动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981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41148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代盛酒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9810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11480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362320" y="4419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40384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51460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03848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代席地而坐时铺的席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1337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038480" y="5486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梓树，与“桑”相连，借指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ei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071360" y="228600"/>
            <a:ext cx="9115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关  于  骈  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0" y="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魏晋以后出现的一种新文体，又称骈俪文。骈文本义即是对偶文的意思，是从中国古代文章中的一种修辞手法演变来的。骈文的主要特点是要求通篇文章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句法结构相互对称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词语对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在声韵上，骈文讲究运用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仄，音律和谐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修辞上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注重藻饰和用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3352680" y="762120"/>
            <a:ext cx="763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>
            <a:off x="5486400" y="7621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3733560" y="198108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6781680" y="19051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895480" y="251460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5867280" y="251460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H="1">
            <a:off x="4190760" y="32004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3352680" y="37339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6324480" y="380988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3809880" y="5029200"/>
            <a:ext cx="1526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H="1">
            <a:off x="6933960" y="50292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3276360" y="5562720"/>
            <a:ext cx="2286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6476760" y="56386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4114440" y="62485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>
            <a:hlinkClick r:id="rId1" action="ppaction://hlinksldjump"/>
          </p:cNvPr>
          <p:cNvSpPr/>
          <p:nvPr/>
        </p:nvSpPr>
        <p:spPr>
          <a:xfrm>
            <a:off x="86104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2124000" y="0"/>
            <a:ext cx="71629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四字句读法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豫章故郡，洪都新府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六字句读法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孟学士之词宗；访风景于崇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临帝子之长洲；穷岛屿之萦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钟鸣鼎食之家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谁悲失路之人；声断衡阳之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七字句读法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襟三江而带五湖  潦水尽而寒潭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龙光射牛斗之墟  宾主尽东南之美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都督阎公之雅望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65000" y="639720"/>
            <a:ext cx="9115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ff"/>
                </a:solidFill>
                <a:latin typeface="Times New Roman"/>
              </a:rPr>
              <a:t>读   法   指   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整 体把握全文框架，划分文章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全文分为四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一部分：“南昌故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躬逢胜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二部分：“时维九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声断衡阳之浦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三部分：“遥襟甫畅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岂效穷途之哭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四部分：“勃，三尺微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各倾陆海云尔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文章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部分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南昌故郡，洪都新府。星分翼轸，地接衡庐。襟三江而带五湖，控蛮荆而引瓯越。物华天宝，龙光射牛斗之墟；人杰地灵，徐孺下陈蕃之榻。雄州雾列，俊采星驰，台隍枕夷夏之交，宾主尽东南之美。都督阎公之雅望，棨戟遥临；宇文新州之懿范，襜帷暂驻。十旬休假，胜友如云；千里逢迎，高朋满座。腾蛟起凤，孟学士之词宗；紫电青霜，王将军之武库。家君作宰，路出名区；童子何知，躬逢胜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53388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一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历史悠久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南昌故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洪都新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界域广阔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星分翼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蛮荆而引瓯越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雄州雾列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台隍枕夷夏之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人物之盛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物华天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徐孺下陈蕃之榻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俊彩星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宾主尽东南之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主宾盛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都督阎公之雅望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躬逢胜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89920" y="453960"/>
            <a:ext cx="28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豫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郡  洪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5791320" y="609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34040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历史变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805760" y="1752480"/>
            <a:ext cx="28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翼轸  地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接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衡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08920" y="274320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三江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五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控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蛮荆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引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瓯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805760" y="4527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物华天宝  人杰地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57960" y="5373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雄州雾列  俊采星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57913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340400" y="175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文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86728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340400" y="2971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理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533520" y="8380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105480" y="165168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盛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838080" y="47242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960" y="45918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嘉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部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时维九月，序属三秋。潦水尽而寒潭清，烟光凝而暮山紫。俨骖騑于上路，访风景于崇阿。临帝子之长洲，得仙人之旧馆。层台耸翠，上出重霄；飞阁流丹，下临无地。鹤汀凫渚，穷岛屿之萦回；桂殿兰宫，即冈峦之体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披绣闼，俯雕甍，山原旷其盈视，川泽纡其骇瞩。闾阎扑地，钟鸣鼎食之家；舸舰弥津，青雀黄龙之轴。云销雨霁，彩彻区明。落霞与孤鹜齐飞，秋水共长天一色。渔舟唱晚，响穷彭蠡之滨；雁阵惊寒，声断衡阳之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75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75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中国古代四大名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64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滕      王      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岳      阳      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黄      鹤      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蓬      莱      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二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360" y="609120"/>
            <a:ext cx="784548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交代时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维九月，序属三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描绘秋景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潦水尽而寒潭清，烟光凝而暮山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赴阁途中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俨骖鲱于上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得仙人之旧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楼阁四周山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层峦耸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冈峦之体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登阁 远眺所见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披绣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声断衡阳之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千古名句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落霞与孤鹜齐飞，秋水共长天一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094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秋水秋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124080" y="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九月三秋  水尽潭清  光凝山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895480" y="3049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57200" y="2057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来阁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971800" y="18288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俨骖騑，访风景  临长洲，得旧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895480" y="2057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" y="43434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阁之所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200400" y="3505320"/>
            <a:ext cx="289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层峦  上出    飞阁  下临      汀渚穷萦回    殿宫即体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048120" y="38098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7086600" y="586728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7391520" y="6019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按提纲 背诵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einia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76212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登临之状：披闼  俯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24382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望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209680" y="1295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川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72000" y="99072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原旷  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495680" y="12952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0968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烟之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648320" y="236232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闾阎扑地  舸舰弥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572000" y="26668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209680" y="40384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雨后天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572000" y="3733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云  雨  彩  区         落霞孤鹜  秋水长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4572000" y="4038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362320" y="5410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鸟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800600" y="510552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渔舟唱晚  雁阵惊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800600" y="54864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2133720" y="1600200"/>
            <a:ext cx="152280" cy="43434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7086600" y="22860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391520" y="2286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按提纲 背诵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赏析名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北魏楷书简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潦水尽而寒潭清，烟光凝而暮山紫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北魏楷书简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译：蓄积的雨水已消尽，潭水寒冷而清澈，烟光雾气凝结傍晚的山峦呈现出紫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析：作者善用灵活多变的笔法描写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山容水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表现楼台壮观，从而把读者带人身临其境的审美境地。“潦水尽而寒潭清，烟光凝而暮山紫”写出了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色彩变化之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这两句不在于静止的画面色彩，而着力表现水光山色的色彩变幻：寒潭之水因积水退尽而一片清明；傍晚的山峦因暮霭笼罩而呈紫色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上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色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淡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下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色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色彩的浓淡对比中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突出秋日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特征，被前人誉为“写尽九月之景”。</a:t>
            </a:r>
            <a:r>
              <a:rPr b="1" lang="zh-CN" sz="28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924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11280" y="1197000"/>
            <a:ext cx="813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落霞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与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孤鹜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齐飞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秋水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长天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一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765000"/>
            <a:ext cx="864072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赏析：这一句素称千古绝唱。青天碧水，天水相接，上下浑然一色：彩霞自上而下，孤鹜自下而上，相映增辉，构成一幅色彩明丽，上下浑成、远近错落、虚实相映的绝妙好图。这两句在句式上不但上下句相对，而且在一句中自成对偶，形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当句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特点。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落霞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孤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秋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长天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这是王勃骈文的一大特点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3048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419640" y="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赏析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9280" y="3860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0059251818101"/>
          <p:cNvPicPr/>
          <p:nvPr/>
        </p:nvPicPr>
        <p:blipFill>
          <a:blip r:embed="rId1"/>
          <a:stretch/>
        </p:blipFill>
        <p:spPr>
          <a:xfrm>
            <a:off x="-320760" y="-349200"/>
            <a:ext cx="971712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Pat6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3" descr="wlmzq"/>
          <p:cNvPicPr/>
          <p:nvPr/>
        </p:nvPicPr>
        <p:blipFill>
          <a:blip r:embed="rId2"/>
          <a:stretch/>
        </p:blipFill>
        <p:spPr>
          <a:xfrm>
            <a:off x="-33480" y="5518080"/>
            <a:ext cx="9141120" cy="596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2700360" y="623736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闾阎扑地，钟鸣鼎食之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at7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23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wlmzq"/>
          <p:cNvPicPr/>
          <p:nvPr/>
        </p:nvPicPr>
        <p:blipFill>
          <a:blip r:embed="rId2"/>
          <a:stretch/>
        </p:blipFill>
        <p:spPr>
          <a:xfrm>
            <a:off x="-33480" y="5734080"/>
            <a:ext cx="914112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563280" y="6237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舸舰弥津，青雀黄龙之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云雨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04920" y="581508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云销雨霁，彩彻区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鱼舟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324000" y="602136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渔舟唱晚，响穷彭蠡之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20090516134506001[1]"/>
          <p:cNvPicPr/>
          <p:nvPr/>
        </p:nvPicPr>
        <p:blipFill>
          <a:blip r:embed="rId1"/>
          <a:stretch/>
        </p:blipFill>
        <p:spPr>
          <a:xfrm>
            <a:off x="495360" y="409680"/>
            <a:ext cx="8153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部分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遥襟甫畅，逸兴遄飞。爽籁发而清风生，纤歌凝而白云遏。睢园绿竹，气凌彭泽之樽；邺水朱华，光照临川之笔。四美具，二难并。穷睇眄于中天，极娱游于暇日。 天高地迥，觉宇宙之无穷；兴尽悲来，识盈虚之有数。望长安于日下，目吴会于云间。地势极而南溟深，天柱高而北辰远。关山难越，谁悲失路之人？萍水相逢，尽是他乡之客。怀帝阍而不见，奉宣室以何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嗟乎！时运不济，命运多舛。冯唐易老，李广难封。屈贾谊于长沙，非无圣主；窜梁鸿于海曲，岂乏明时。所赖君子见机，达人知命。老当益壮，宁移白首之心？穷且益坚，不坠青云之志。酌贪泉而觉爽，处涸辙以犹欢。北海虽赊，扶摇可接；东隅已逝，桑榆非晚。孟尝高洁，空怀报国之心；阮藉猖狂，岂效穷途之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三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600" y="914400"/>
            <a:ext cx="781524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赞美与会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由宴会引出感慨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穷睇眄于中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识盈虚之有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抒发身世之感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长安于日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奉宣室以何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引用典故抒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岂乏明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勉励自己守节不变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赖君子见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岂效穷途之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3429000" y="10000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遥襟甫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难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o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7543800" y="6248520"/>
            <a:ext cx="1600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讨   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71600" y="762120"/>
            <a:ext cx="6172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朗诵这两段文字，体会作者复杂的思想感情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欢饮之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宇宙无穷的感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人生无常的感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自己怀才不遇而悲伤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认识现实后的自我安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理想人格境界的追求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豁达乐观的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部分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勃，三尺微命，一介书生。无路请缨，等终军之弱冠；有怀投笔，慕宗悫之长风。舍簪笏于百龄，奉晨昏于万里。非谢家之宝树，接孟氏之芳邻。他日趋庭，叨陪鲤对；今晨捧袂，喜托龙门。杨意不逢，抚凌云而自惜；钟期既遇，奏流水以何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8580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鸣呼！胜地不常，盛筵难再。兰亭已矣，梓泽丘墟。临别赠言，幸承恩于伟饯；登高作赋，是所望于群公。敢竭鄙诚，恭疏短引。一言均赋，四韵俱成。请洒潘江，各倾陆海云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588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写自己报国无门之情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慕宗悫之长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写路过滕王阁的原因及与会的喜悦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舍簪笏于百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喜托龙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借典故表明自己愿意作诗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杨意不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奏流水以何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再赞盛会表作序旨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倾陆海云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08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联系际遇。不遇之悲，是对社会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盛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现实的控诉和揭露。既表现出嗟悲叹老的伤感和见机知命的消极；又表示自己壮怀白首不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失意的悲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时代的抨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写积极的壮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现出一种用世的乐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380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讨论：怎样看待王勃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作品鉴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滕王阁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流传千古的原因是多方面的，从语言方面谈，主要是有工整的对偶和文情并茂的警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为骈体文，文中四字句、六字句很多，全文除九个字外，前后语句完全对偶。有的是句与句对偶，有的是句子内部词或词组对偶。同时讲究平仄，音调十分和谐。读来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不对偶的字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嗟乎  所赖  勃  呜呼  云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句与句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星分翼轸，地接衡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句子内部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襟三江而带五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警句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对警句的提炼方式灵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直接概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物宝天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徐孺下陈蕃之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表面矛盾而意思连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老当益壮，宁移白首之心；穷且益坚，不坠青云之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连接不相关的事物而造成独特意境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关山难越，谁悲失路之人；萍水相逢，尽是他乡之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些警句大多具有很深的蕴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981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滕王阁序之滕王阁介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g_a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28600" y="1066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名句鉴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落霞与孤鹜齐飞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秋水共长天一色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2819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同学们用自己的语言描绘这一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09480" y="329724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1"/>
          <p:cNvPicPr/>
          <p:nvPr/>
        </p:nvPicPr>
        <p:blipFill>
          <a:blip r:embed="rId1"/>
          <a:srcRect l="0" t="0" r="0" b="156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057400" y="765000"/>
            <a:ext cx="49626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评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意境和谐美，想象要自然生动，色彩要明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落霞自天而下，孤鹜自下而上，故曰齐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秋水碧而连天，长天净而映水，故曰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王勃把这种景象用对偶句的下句来表现，描绘出一个旷远的背景，在这水天一色的一片青碧之中，点缀以红霞、野鸭，构成色彩明丽的画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be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句式错落，节奏分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骈俪藻饰，辞采华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运用典故，简练含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14400" y="533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总结本文写作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38080" y="327672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38080" y="411480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应用典故</a:t>
            </a:r>
            <a:r>
              <a:rPr b="1" lang="en-US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简练含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作用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加强论证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借古写怀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内容充实，联想丰富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语言简练，风格典雅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历史故事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冯唐易老，李广难封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前人文句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酌贪泉而觉爽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处涸辙以犹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w1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07252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找一下，文中运用了哪些典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成          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物华天宝   人杰地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高朋满座   龙飞凤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逸兴横飞   萍水相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老当益壮   投笔从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穷且益坚，不坠青云之志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失之东隅，收之桑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twg"/>
          <p:cNvPicPr/>
          <p:nvPr/>
        </p:nvPicPr>
        <p:blipFill>
          <a:blip r:embed="rId1"/>
          <a:stretch/>
        </p:blipFill>
        <p:spPr>
          <a:xfrm>
            <a:off x="5651640" y="2060640"/>
            <a:ext cx="3287520" cy="4035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164320" y="333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三、找一下，本文运用了哪些成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050920" y="2060640"/>
            <a:ext cx="47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学以致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ˎ̥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你的遭遇确实令人同情，但是，志士能人命途多舛者多矣，                                                        你又何必怨天尤人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ˎ̥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有人觉得自己就这样的基础，要想将来学有所成不太可能，不如趁早解放自己。错矣，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 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，只要努力，一切都来得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981080" y="2286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ˎ̥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ˎ̥"/>
              </a:rPr>
              <a:t>冯唐易老，李广难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51584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ˎ̥"/>
              </a:rPr>
              <a:t>北海虽赊，扶摇可接；东隅已逝，桑榆未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2666880" y="2819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09480" y="5486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952920" y="385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学以致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81080" y="685800"/>
            <a:ext cx="89629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胜者诚可敬，失败者亦未必可悲。周恩来有诗曰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难酬蹈海亦英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；王勃有句云，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这些诗句说明，英雄是成功者的奖品，更是坚毅者的封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近朱者赤，近墨者黑，环境对人的影响是巨大的；但是，人在环境面前也不是无能为力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出淤泥而不染，濯清涟而不妖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就是最有力的说明。</a:t>
            </a:r>
            <a:r>
              <a:rPr b="0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14520" y="4572000"/>
            <a:ext cx="68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酌贪泉而觉爽，处涸辙以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619280" y="4941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88960" y="1600200"/>
            <a:ext cx="6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穷且益坚，不坠青云之志。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838080" y="21337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     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江南名楼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滕王阁 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滕王阁自古就被称为我国江南三大名楼之首。滕王阁始建于宋代，后几经兴废，明代景泰年间（公元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50--145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），巡抚都御使韩雍重修，其规模为：三层，高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，宽约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。今重修后的滕王阁，连地下室共九层，高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57.5 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，占地达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4700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平方米。滕王阁为历代封建士大夫们迎送和宴请宾客之处。明代开国皇帝朱元璋也曾设宴阁上，命诸臣、文人赋诗真词，观看灯火。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92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军阀混战时，被北洋军阀邓如琢部纵火烧毁。建国后，江西省政府重建滕王阁。重建后的滕王阁，无论其高度，还是面积，均远胜于历代四阁，同时也大超过了现在的黄鹤楼和岳阳楼，仍然居于三大名楼之首。如今滕王阁已成了南昌，也是江西省的一处重要的旅游景点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7"/>
          <p:cNvPicPr/>
          <p:nvPr/>
        </p:nvPicPr>
        <p:blipFill>
          <a:blip r:embed="rId2"/>
          <a:stretch/>
        </p:blipFill>
        <p:spPr>
          <a:xfrm>
            <a:off x="539640" y="-387360"/>
            <a:ext cx="7531200" cy="76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twg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0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1:01:37Z</dcterms:created>
  <dc:creator>QP</dc:creator>
  <dc:description/>
  <cp:keywords/>
  <dc:language>en-US</dc:language>
  <cp:lastModifiedBy>PC</cp:lastModifiedBy>
  <dcterms:modified xsi:type="dcterms:W3CDTF">2015-09-17T08:18:49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