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7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whoosh.wav" ContentType="audio/x-wav"/>
  <Override PartName="/ppt/media/image9.jpeg" ContentType="image/jpeg"/>
  <Override PartName="/ppt/media/image11.jpeg" ContentType="image/jpeg"/>
  <Override PartName="/ppt/media/chimes.wav" ContentType="audio/x-wav"/>
  <Override PartName="/ppt/media/image26.jpeg" ContentType="image/jpeg"/>
  <Override PartName="/ppt/media/image3.png" ContentType="image/png"/>
  <Override PartName="/ppt/media/image1.png" ContentType="image/png"/>
  <Override PartName="/ppt/media/image12.jpeg" ContentType="image/jpeg"/>
  <Override PartName="/ppt/media/image17.png" ContentType="image/png"/>
  <Override PartName="/ppt/media/glass.wav" ContentType="audio/x-wav"/>
  <Override PartName="/ppt/media/image13.jpeg" ContentType="image/jpeg"/>
  <Override PartName="/ppt/media/image18.gif" ContentType="image/gif"/>
  <Override PartName="/ppt/media/image20.gif" ContentType="image/gif"/>
  <Override PartName="/ppt/media/image23.png" ContentType="image/png"/>
  <Override PartName="/ppt/media/image14.jpeg" ContentType="image/jpeg"/>
  <Override PartName="/ppt/media/image15.png" ContentType="image/png"/>
  <Override PartName="/ppt/media/image16.gif" ContentType="image/gif"/>
  <Override PartName="/ppt/media/image19.png" ContentType="image/png"/>
  <Override PartName="/ppt/media/type.wav" ContentType="audio/x-wav"/>
  <Override PartName="/ppt/media/image21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yuwen520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31640" y="6165360"/>
            <a:ext cx="454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cc"/>
                </a:solidFill>
                <a:latin typeface="Arial"/>
              </a:rPr>
              <a:t>该课件由【语文公社】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uwen520.com</a:t>
            </a: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友情提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1280" y="6021360"/>
            <a:ext cx="249552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glass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1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32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slide" Target="slide14.xml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" Target="slide14.xml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audio" Target="../media/projctor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124000" y="1773360"/>
            <a:ext cx="6264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一日为师，终身为父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古之学者必有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学必求良师益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疾学在于尊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685800"/>
            <a:ext cx="761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  <a:ea typeface="华文中宋"/>
              </a:rPr>
              <a:t>鲁迅留学日本的经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-47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90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到日本，入东京弘文学院补习日语。积极参加反清爱国活动，在《自题小像》诗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发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我以我血荐轩辕”的誓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557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904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入仙台医学专门学校学医。两年后弃医从文，想以改变国民精神入手，挽救民族危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3357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0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到东京开始文学活动，翻译介绍外国文学作品，并写出《文化偏至论》等一系列论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9053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908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从章太炎学《说文解字》，加入光复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59500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1909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年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8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月，从日本回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自题小像》</a:t>
            </a:r>
            <a:br>
              <a:rPr sz="2400"/>
            </a:b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灵台无计逃神矢， 风雨如磐暗故园。 寄意寒星荃不察， 我以我血荐轩辕。</a:t>
            </a:r>
            <a:br>
              <a:rPr sz="2700"/>
            </a:b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　　</a:t>
            </a:r>
            <a:br>
              <a:rPr sz="27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灵台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书面语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心灵。 无计：无法。 神矢：指古罗马神话中爱神丘比特的箭。全句是把自己魂牵梦萦的祖国比做恋人。 故园：故乡。 寒星：宋玉《九辩》：“愿寄言夫流星兮” 荃不察：化用《离骚》中“荃不察余之中情兮”句。荃，香草名，这里指民众。察，体察。 荐：献，进献祭品。 轩辕：黄帝。这里象征着古老的中华大地和多灾多难的中华民族。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我的爱国之心犹如被爱神之箭所射一般无处可逃， 祖国正在风雨飘摇中黯然失色。 我把我的心意寄托给人民，然而人民却难以察觉， 我愿意把我毕生的精力托付给我的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7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983200"/>
            <a:ext cx="9144000" cy="87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724280" y="692280"/>
            <a:ext cx="4419720" cy="547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773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阅读课文提示及注释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了解文章写作年代及时代背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5983200"/>
            <a:ext cx="9144000" cy="87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24280" y="692280"/>
            <a:ext cx="4419720" cy="547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9228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文章写作年代及时代背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773360"/>
            <a:ext cx="47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课文写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9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，回忆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902—190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留学日本的片段。鲁迅本想以学医来救国救民，但后来却弃医从文了，我们在本课的学习中会认识到作者思想变化的原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549360"/>
            <a:ext cx="86104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识记：</a:t>
            </a:r>
            <a:r>
              <a:rPr b="1" lang="zh-CN" sz="3200" spc="-1" strike="noStrike">
                <a:solidFill>
                  <a:srgbClr val="808080"/>
                </a:solidFill>
                <a:latin typeface="黑体"/>
                <a:ea typeface="黑体"/>
              </a:rPr>
              <a:t>理解注解及“读一读、写一写”的字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理解：</a:t>
            </a:r>
            <a:r>
              <a:rPr b="1" lang="zh-CN" sz="3200" spc="-1" strike="noStrike">
                <a:solidFill>
                  <a:srgbClr val="808080"/>
                </a:solidFill>
                <a:latin typeface="黑体"/>
                <a:ea typeface="黑体"/>
              </a:rPr>
              <a:t>了解作品的时代背景和课文的主要内容。散文形散而神不散的特点。似褒实贬的讽刺手法。本文的叙述线索。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难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品味：</a:t>
            </a:r>
            <a:r>
              <a:rPr b="1" lang="zh-CN" sz="3200" spc="-1" strike="noStrike">
                <a:solidFill>
                  <a:srgbClr val="808080"/>
                </a:solidFill>
                <a:latin typeface="黑体"/>
                <a:ea typeface="黑体"/>
              </a:rPr>
              <a:t>人物描写。作者感情（对老师的尊敬和感激之情）。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重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运用：</a:t>
            </a:r>
            <a:r>
              <a:rPr b="1" lang="zh-CN" sz="3200" spc="-1" strike="noStrike">
                <a:solidFill>
                  <a:srgbClr val="808080"/>
                </a:solidFill>
                <a:latin typeface="黑体"/>
                <a:ea typeface="黑体"/>
              </a:rPr>
              <a:t>刻画人物抓住主要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6858000"/>
            <a:ext cx="25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5480" y="601560"/>
            <a:ext cx="790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6336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200" y="2201760"/>
            <a:ext cx="1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836640"/>
            <a:ext cx="864072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1898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年，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18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岁的鲁迅，怀揣着慈母多方设法筹措的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8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块银元，离开家乡进了南京水师学堂，后来又改入南京路矿学堂。鲁迅在南京路矿学堂期间成绩优异，使他在毕业后获得了官费留学的机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902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，他东渡日本，开始在东京弘文学院补习日语，后来进入仙台医学专门学校。他之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选择学医，意在救治像他父亲那样被庸医所害的病人，改善被讥为“东亚病夫”的中国人的健康状况。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鲁迅想通过医学启发中国人的觉悟。但他的这种梦想并没有维持多久，就被严酷的现实粉碎了。在日本，作为一个弱国子民的鲁迅，经常受到具有军国主义倾向的日本人的歧视。在他们的眼睛里，凡是中国人都是“低能儿”，鲁迅的解剖学成绩及格，就被他们怀疑为担任解剖课的教师藤野严九郎把考题泄露给了他。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这使鲁迅深感作为一个弱国子民的悲哀。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有一次，在上课前放映的幻灯片中，鲁迅看到一个中国人被日本军队捉住杀头，一群中国人却若无其事地站在旁边看热闹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鲁迅受到极大的刺激。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这使他认识到，精神上的麻木比身体上的虚弱更加可怕。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要改变中华民族在世界上的悲剧命运，首要的是改变中国人的精神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，而善于改变中国人的精神的，则首先是文学和艺术。于是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鲁迅弃医从文</a:t>
            </a: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，离开仙台医学专门学校，回到东京，翻译外国文学作品，筹办文学杂志，发表文章，从事文学活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89480" y="337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6400" y="3726000"/>
            <a:ext cx="508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480" y="601560"/>
            <a:ext cx="790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3336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鲁迅留学日本期间的经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200" y="2201760"/>
            <a:ext cx="1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05264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1902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月，去日本留学，入东京弘文学院补习日语。积极参加反清爱国活动，在《自题小像》诗中发出“我以我血荐轩辕”的誓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1904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年入仙台医学专门学校学医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两年后弃医从文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，想从改变国民精神入手，挽救民族危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1906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年到东京开始文学活动。翻译、介绍俄国、东欧和其他一些被压迫民族的文学作品，并写《人的历史》《科学史教篇》《文化偏至论》《摩罗诗力说》等论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1908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年从章太炎学《说文解字》，并加入光复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1909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月，由日本回国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9480" y="337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6400" y="3726000"/>
            <a:ext cx="508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初读课文，整体感知</a:t>
            </a:r>
            <a:br>
              <a:rPr sz="4600"/>
            </a:b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速读课文，排除阅读障碍。</a:t>
            </a:r>
            <a:br>
              <a:rPr sz="4600"/>
            </a:b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      请同学们速读课文，标示段序，圈点出需要积累的词语，并说说对文章内容的初步体会。</a:t>
            </a:r>
            <a:br>
              <a:rPr sz="4600"/>
            </a:b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）字词积累。</a:t>
            </a:r>
            <a:br>
              <a:rPr sz="4600"/>
            </a:b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）全班交流读后感受。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700360" y="0"/>
            <a:ext cx="3816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理解字词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41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( fēi   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鲜红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名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ì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jì)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着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ié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(j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é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)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xù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油光可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(jiàn)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o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无消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扬顿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(yì   cuò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声音的高低起伏和停顿转折。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降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升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停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痛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(wù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厌恶而痛恨到极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物以稀为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物品稀少就显得其珍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33336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再读课文，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" action="ppaction://hlinksldjump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这篇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回忆性散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写早年在日本留学时期的生活。在这段经历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所写的事情都发生在哪里？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请找出文中表明地点转换的语句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重点写发生在哪里的事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 action="ppaction://hlinksldjump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文章标题是对全文思想内容鲜明精炼的概括。你认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课文是以什么为中心记叙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叙述线索又是什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 action="ppaction://hlinksldjump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课文除直接写藤野先生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还写了哪些内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71640" y="476280"/>
            <a:ext cx="345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前小活动</a:t>
            </a:r>
            <a:endParaRPr b="1" lang="en-US" sz="2400" spc="1" strike="noStrike">
              <a:ln w="3816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1844640"/>
            <a:ext cx="59770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说你最尊敬的或印象最深刻的一位老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要求：能用最简洁的语言说出他（她）的性格，并能说出至少一件有关于他（她）的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331"/>
          <p:cNvPicPr/>
          <p:nvPr/>
        </p:nvPicPr>
        <p:blipFill>
          <a:blip r:embed="rId1"/>
          <a:stretch/>
        </p:blipFill>
        <p:spPr>
          <a:xfrm>
            <a:off x="6948360" y="4365720"/>
            <a:ext cx="2195640" cy="24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4046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表明地点转换的语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112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东京也无非是这样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就往仙台的医学专门学校去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离开仙台之后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0028"/>
          <p:cNvPicPr/>
          <p:nvPr/>
        </p:nvPicPr>
        <p:blipFill>
          <a:blip r:embed="rId2"/>
          <a:stretch/>
        </p:blipFill>
        <p:spPr>
          <a:xfrm>
            <a:off x="4356000" y="5589720"/>
            <a:ext cx="752400" cy="74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0028"/>
          <p:cNvPicPr/>
          <p:nvPr/>
        </p:nvPicPr>
        <p:blipFill>
          <a:blip r:embed="rId3"/>
          <a:stretch/>
        </p:blipFill>
        <p:spPr>
          <a:xfrm>
            <a:off x="468360" y="5157720"/>
            <a:ext cx="752400" cy="7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0028"/>
          <p:cNvPicPr/>
          <p:nvPr/>
        </p:nvPicPr>
        <p:blipFill>
          <a:blip r:embed="rId4"/>
          <a:stretch/>
        </p:blipFill>
        <p:spPr>
          <a:xfrm>
            <a:off x="7093080" y="4437000"/>
            <a:ext cx="752400" cy="74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0028"/>
          <p:cNvPicPr/>
          <p:nvPr/>
        </p:nvPicPr>
        <p:blipFill>
          <a:blip r:embed="rId5"/>
          <a:stretch/>
        </p:blipFill>
        <p:spPr>
          <a:xfrm>
            <a:off x="6372360" y="5805360"/>
            <a:ext cx="752400" cy="743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684360" y="335772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东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19564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3564000" y="3429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仙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507672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372360" y="335772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北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 flipH="1">
            <a:off x="2842920" y="4076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428472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4788000" y="407664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1619280" y="4508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相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3851280" y="5013360"/>
            <a:ext cx="129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564000" y="501336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相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5364000" y="47242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离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本文依据时间和地点的转移组织材料，请按“去仙台前”，“在仙台”，“离开仙台”，给文章划分段落，归纳段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200" y="3954600"/>
            <a:ext cx="797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343400"/>
            <a:ext cx="698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989000"/>
            <a:ext cx="8381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⑶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1916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1280" y="357336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-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60000" y="522936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6-3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2060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写认识藤野先生之前在东京的见闻和心境，交代去仙台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573360"/>
            <a:ext cx="56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写在仙台与藤野先生的交往（相识、相处、离别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1480" y="7738920"/>
            <a:ext cx="21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4920" y="5000760"/>
            <a:ext cx="55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写离别藤野先生后对他的怀念和感激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64000" y="285264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765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3357720"/>
            <a:ext cx="51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围绕表现藤野先生的崇高品质这一中心组织材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6206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2.</a:t>
            </a:r>
            <a:r>
              <a:rPr b="1" i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叙事线索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692280"/>
            <a:ext cx="5689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者与藤野先生的交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相识—相处—离别—怀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选材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5661000"/>
            <a:ext cx="731520" cy="914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课文除直接写藤野先生外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还写了哪些内容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700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 action="ppaction://hlinksldjump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东京清国留学生赏樱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跳舞的恶浊、庸俗的生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 action="ppaction://hlinksldjump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赴仙台途中对日暮里和水户的深刻印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 action="ppaction://hlinksldjump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受到仙台医专的职员的优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 action="ppaction://hlinksldjump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日本“爱国青年”的寻衅（匿名信事件）和看电影事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弃医从文的思想的转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66880" y="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隶书"/>
              </a:rPr>
              <a:t>在 东 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0720" y="170496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所见所闻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86000" y="1295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清国留学生的丑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304560" y="3505320"/>
            <a:ext cx="4724280" cy="914400"/>
          </a:xfrm>
          <a:prstGeom prst="wedgeRoundRectCallout">
            <a:avLst>
              <a:gd name="adj1" fmla="val -56050"/>
              <a:gd name="adj2" fmla="val 97740"/>
              <a:gd name="adj3" fmla="val 16667"/>
            </a:avLst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657600"/>
            <a:ext cx="47242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修辞：夸张、比喻、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9160" y="487692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所     感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876920"/>
            <a:ext cx="33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厌恶之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不屑与之为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83480" y="205740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不学无术 思想腐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1752480"/>
            <a:ext cx="533520" cy="4038840"/>
          </a:xfrm>
          <a:custGeom>
            <a:avLst/>
            <a:gdLst>
              <a:gd name="textAreaLeft" fmla="*/ 0 w 533520"/>
              <a:gd name="textAreaRight" fmla="*/ 192600 w 53352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27960" y="2614680"/>
            <a:ext cx="118584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爱  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661000"/>
            <a:ext cx="731520" cy="914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785040" y="8892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</a:rPr>
              <a:t>去 仙 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4920" y="29811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去仙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6240" y="162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日暮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86360" y="443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水户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30440" y="1700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触发忧国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10040" y="4437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反清志士客死之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627280" y="2204640"/>
            <a:ext cx="1066680" cy="1219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3573360"/>
            <a:ext cx="114300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276640"/>
            <a:ext cx="533520" cy="1944360"/>
          </a:xfrm>
          <a:prstGeom prst="upDownArrow">
            <a:avLst>
              <a:gd name="adj1" fmla="val 50000"/>
              <a:gd name="adj2" fmla="val 7255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73400" y="2708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86120" y="2708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132000" cy="216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5280" y="5589720"/>
            <a:ext cx="8748720" cy="1268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661000"/>
            <a:ext cx="731880" cy="914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24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  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虽然得到一些优待和关照，但面对日本人民善良的心地和友好的情谊，作者推断为“物以希为贵”，感到受到的不是尊重，而是一种辛酸，一种弱国国民难于承受的内心的辛酸，这里反映出他极强的民族自尊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3336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在 仙 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4581360"/>
            <a:ext cx="863640" cy="865440"/>
          </a:xfrm>
          <a:prstGeom prst="downArrow">
            <a:avLst>
              <a:gd name="adj1" fmla="val 50000"/>
              <a:gd name="adj2" fmla="val 250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5157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爱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4360" y="5661000"/>
            <a:ext cx="7315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62520" y="1066680"/>
            <a:ext cx="4886280" cy="5562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263600" y="982800"/>
            <a:ext cx="10033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  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匿名信事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7840" y="1301760"/>
            <a:ext cx="100332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看电影事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0"/>
            <a:ext cx="29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在仙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916360" y="404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弃医从文的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89120" y="1197000"/>
            <a:ext cx="21913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匿名信事件</a:t>
            </a:r>
            <a:r>
              <a:rPr b="1" lang="zh-CN" sz="4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——个人与祖国的尊严受到侵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2480" y="1062000"/>
            <a:ext cx="273996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看电影事件</a:t>
            </a:r>
            <a:r>
              <a:rPr b="1" lang="zh-CN" sz="40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——思想受极大震动，民族自尊心受到严重挫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357720"/>
            <a:ext cx="2971800" cy="637920"/>
          </a:xfrm>
          <a:prstGeom prst="leftRightArrow">
            <a:avLst>
              <a:gd name="adj1" fmla="val 50000"/>
              <a:gd name="adj2" fmla="val 9274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39520" y="2421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10800" y="386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692280"/>
            <a:ext cx="192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东京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692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所见所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0"/>
            <a:ext cx="380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憎恶至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99520" y="1523880"/>
            <a:ext cx="297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日暮里、水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敬仰忧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3623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匿名信事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愤慨心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276720"/>
            <a:ext cx="79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看电影事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悲愤震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1148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弃医从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忧国忧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4797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Times New Roman"/>
              </a:rPr>
              <a:t>暗线     感情线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86600" y="1066680"/>
            <a:ext cx="228600" cy="3581640"/>
          </a:xfrm>
          <a:custGeom>
            <a:avLst/>
            <a:gdLst>
              <a:gd name="textAreaLeft" fmla="*/ 0 w 228600"/>
              <a:gd name="textAreaRight" fmla="*/ 82440 w 22860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 rot="5400000">
            <a:off x="6247800" y="22860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爱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4724280"/>
            <a:ext cx="914400" cy="83844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52578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08360" cy="59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56360" y="549360"/>
            <a:ext cx="203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琥珀"/>
              </a:rPr>
              <a:t>藤野先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4076640"/>
            <a:ext cx="84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00000" y="836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华文新魏"/>
              </a:rPr>
              <a:t>双线结构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1916280"/>
            <a:ext cx="741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Arial"/>
                <a:ea typeface="华文新魏"/>
              </a:rPr>
              <a:t>明线：</a:t>
            </a:r>
            <a:r>
              <a:rPr b="1" lang="zh-CN" sz="5000" spc="-1" strike="noStrike">
                <a:solidFill>
                  <a:srgbClr val="339933"/>
                </a:solidFill>
                <a:latin typeface="Arial"/>
                <a:ea typeface="华文新魏"/>
              </a:rPr>
              <a:t>作者与藤野先生的交往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3645000"/>
            <a:ext cx="7489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Arial"/>
                <a:ea typeface="华文新魏"/>
              </a:rPr>
              <a:t>暗线：</a:t>
            </a:r>
            <a:r>
              <a:rPr b="1" lang="zh-CN" sz="5000" spc="-1" strike="noStrike">
                <a:solidFill>
                  <a:srgbClr val="339933"/>
                </a:solidFill>
                <a:latin typeface="Arial"/>
                <a:ea typeface="华文新魏"/>
              </a:rPr>
              <a:t>作者的思想感情的变化（作者的爱国情感—弃医从文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2916360" cy="2997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95280" y="333360"/>
            <a:ext cx="8424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分析藤野先生的人物形象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421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以“藤野先生是一个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人”的形式组织语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选择角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076640"/>
            <a:ext cx="61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概括人物形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请各位同学积极思考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4360" y="333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、鲁迅对藤野先生的第一印象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用的是什么描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1413000"/>
            <a:ext cx="510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黑体"/>
              </a:rPr>
              <a:t>（第</a:t>
            </a: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黑体"/>
              </a:rPr>
              <a:t>自然段）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 “是一个黑瘦的先生，八字须，戴着眼镜，挟着一叠大大小小的书。 一将书放在讲台上，便用了缓慢而很有顿挫的声调，向学生介绍自己道：“我就是叫作藤野严九郎的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819160" cy="3745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635280" y="5373720"/>
            <a:ext cx="510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12920" y="50720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外貌描写、语言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9640" y="333360"/>
            <a:ext cx="82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别人是怎么说藤野先生的？这也叫什么描写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155736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be0e3"/>
                </a:solidFill>
                <a:latin typeface="黑体"/>
                <a:ea typeface="黑体"/>
              </a:rPr>
              <a:t>（第</a:t>
            </a:r>
            <a:r>
              <a:rPr b="1" lang="zh-CN" sz="3600" spc="-1" strike="noStrike">
                <a:solidFill>
                  <a:srgbClr val="bbe0e3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bbe0e3"/>
                </a:solidFill>
                <a:latin typeface="黑体"/>
                <a:ea typeface="黑体"/>
              </a:rPr>
              <a:t>自然段）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穿衣服太模糊了，有时竟会忘记带领结；冬天是一件旧外套，寒颤颤的，被别人疑心是扒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3573360"/>
            <a:ext cx="68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间接描写（侧面描写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9640" y="260280"/>
            <a:ext cx="83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、写“我”和藤野先生直接交往的事有几件？请作概括。并说说表现了藤野先生的什么品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170028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答：“我”和藤野先生交往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件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2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2205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为“我”添改讲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2852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②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为“我”纠正解剖图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357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③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关心“我”的解剖实习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4221000"/>
            <a:ext cx="84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④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向“我”了解中国女人裹脚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2311560"/>
            <a:ext cx="358560" cy="2412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62640 h 2412720"/>
              <a:gd name="textAreaBottom" fmla="*/ 2350080 h 24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20500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认真负责、热诚、正直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28494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治学严谨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357012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热情诚恳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48360" y="4221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严谨求实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9363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藤野先生品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92360" y="494172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正直热诚、治学严谨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没有狭隘民族偏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1600" y="1635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42920" y="1341360"/>
            <a:ext cx="554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法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84000" y="2490840"/>
            <a:ext cx="475164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Arial"/>
              </a:rPr>
              <a:t>典型外貌特征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Arial"/>
              </a:rPr>
              <a:t>言谈举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Arial"/>
              </a:rPr>
              <a:t>典型事件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0028"/>
          <p:cNvPicPr/>
          <p:nvPr/>
        </p:nvPicPr>
        <p:blipFill>
          <a:blip r:embed="rId1"/>
          <a:stretch/>
        </p:blipFill>
        <p:spPr>
          <a:xfrm>
            <a:off x="1763640" y="1484280"/>
            <a:ext cx="752400" cy="74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0028"/>
          <p:cNvPicPr/>
          <p:nvPr/>
        </p:nvPicPr>
        <p:blipFill>
          <a:blip r:embed="rId2"/>
          <a:stretch/>
        </p:blipFill>
        <p:spPr>
          <a:xfrm>
            <a:off x="5435640" y="4221000"/>
            <a:ext cx="752400" cy="743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0028"/>
          <p:cNvPicPr/>
          <p:nvPr/>
        </p:nvPicPr>
        <p:blipFill>
          <a:blip r:embed="rId3"/>
          <a:stretch/>
        </p:blipFill>
        <p:spPr>
          <a:xfrm>
            <a:off x="4859280" y="5157720"/>
            <a:ext cx="752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333360"/>
            <a:ext cx="83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“我”对藤野先生的感情是怎样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1628640"/>
            <a:ext cx="8512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答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怀念与感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be0e3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bbe0e3"/>
                </a:solidFill>
                <a:latin typeface="黑体"/>
                <a:ea typeface="黑体"/>
              </a:rPr>
              <a:t>37</a:t>
            </a:r>
            <a:r>
              <a:rPr b="1" lang="zh-CN" sz="3600" spc="-1" strike="noStrike">
                <a:solidFill>
                  <a:srgbClr val="bbe0e3"/>
                </a:solidFill>
                <a:latin typeface="黑体"/>
                <a:ea typeface="黑体"/>
              </a:rPr>
              <a:t>段）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 “我总还时时记起他，在我所认为我师的之中，他是最使我感激，给我鼓励一个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    “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他的性格，在我的眼里和心里是伟大的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9079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、品味课文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似褒实贬的讽刺手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：找出下列句子中明似褒义实为贬义的词语，并体会所表达的讽剌意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6960" y="299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语言品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1844640"/>
            <a:ext cx="828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也有解散辫子，盘得平的，除下帽来，油光可鉴，宛如小姑娘的发髻一般，还要将脖子扭几扭。实在标致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但到傍晚，有一间的地板便常不免要咚咚咚地响得震天，兼以满房烟尘斗乱；问问精通时事的人，答道，“那是在学跳舞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日本报纸上很斥责他的不逊，爱国青年也愤然，然而暗地里却早受了他的影响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每当夜间疲倦，正想偷懒时，仰面在灯光中瞥见他黑瘦的面貌，似乎正要说出抑扬顿挫的话来，便使我忽又良心发现，而且增加勇气了，于是点上一枝烟，再继续写些为“正人君子”之流所深恶痛疾的文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404640"/>
            <a:ext cx="8280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品味课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似褒实贬的讽刺手法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找出下列句子中明似褒义实为贬义的词语，并体会所表达的讽剌意味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也有解散辫子，盘得平的，除下帽来，油光可鉴，宛如小姑娘的发髻一般，还要将脖子扭几扭。实在标致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3194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标致——原是“漂亮”之意，这时是反语，表达了作者对清国留学生的厌恶和嘲讽。讽刺一些在日本东京的“清国留学生”不务正业，注重容貌打扮的丑态。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77080" y="1988640"/>
            <a:ext cx="7920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8360" y="404640"/>
            <a:ext cx="8280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品味课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似褒实贬的讽刺手法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找出下列句子中明似褒义实为贬义的词语，并体会所表达的讽剌意味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但到傍晚，有一间的地板便常不免要咚咚咚地响得震天，兼以满房烟尘斗乱；问问精通时事的人，答道，“那是在学跳舞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1989000"/>
            <a:ext cx="115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319392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精通时事——他们“精通”的“时事”其实是一些无聊的事，讽刺了一些“清国留学生”浑浑噩噩、醉生梦死的生活丑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0" y="7101000"/>
            <a:ext cx="25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68360" y="404640"/>
            <a:ext cx="8280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品味课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似褒实贬的讽刺手法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找出下列句子中明似褒义实为贬义的词语，并体会所表达的讽剌意味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日本报纸上很斥责他的不逊，爱国青年也愤然，然而暗地里却早受了他的影响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92720" y="1700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194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爱国青年——是指当时日本一些受军国主义思想影响而妄自尊大、盲目忠君、思想狭隘的青年。称他们为“爱国青年”，有讽刺意味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68360" y="404640"/>
            <a:ext cx="8280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品味课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似褒实贬的讽刺手法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找出下列句子中明似褒义实为贬义的词语，并体会所表达的讽剌意味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每当夜间疲倦，正想偷懒时，仰面在灯光中瞥见他黑瘦的面貌，似乎正要说出抑扬顿挫的话来，便使我忽又良心发现，而且增加勇气了，于是点上一枝烟，再继续写些为“正人君子”之流所深恶痛疾的文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" y="2781360"/>
            <a:ext cx="12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355572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正人君子——这是反语，用来讽刺那些为军阀政客张目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助长某人声势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而自命为“正人君子”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4360" y="40464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主题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1268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关于课文，有下面几种不同的理解，讨论一下，究竟应该怎样理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标题是“藤野先生”，课文主要赞扬藤野先生的高贵品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课文大半内容写作者的经历和思想，主要表现作者的爱国主义思想感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课文写作者人生道路上的一段往事，因此既写了藤野先生，又写了自己的思想历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1497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歌颂藤野先生是这篇文章的主旨。作者一直怀念藤野先生，作者的爱国主义感情则使作品更有深度，使藤野先生的形象也更为感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4360" y="40464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结（本文中心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341360"/>
            <a:ext cx="8642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本文依据时间的推移、地点的转换和事件发生的先后顺序来记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这篇回忆性散文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表达了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作者对藤野先生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真挚怀念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赞扬了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他</a:t>
            </a:r>
            <a:r>
              <a:rPr b="1" lang="zh-CN" sz="3600" spc="-1" strike="noStrike" u="sng">
                <a:solidFill>
                  <a:srgbClr val="808080"/>
                </a:solidFill>
                <a:uFillTx/>
                <a:latin typeface="黑体"/>
                <a:ea typeface="黑体"/>
              </a:rPr>
              <a:t>正直热诚、治学严谨、没有狭隘的民族偏见的高尚品质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。作者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追述了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自己弃医从文的思想变化，文中洋溢着强烈的爱国主义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3200" y="754200"/>
            <a:ext cx="736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3333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课后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052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关于课文，有下面几种不同的理解，讨论一下，究竟应该怎样理解。（同前，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7919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歌颂藤野先生是这篇文章的主旨。作者一直怀念藤野先生，作者的爱国主义感情则使作品更有深度，使藤野先生的形象也更为感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23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标题是“藤野先生”，课文主要赞扬藤野先生的高贵品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课文大半内容写作者的经历和思想，主要表现作者的爱国主义思想感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课文写作者人生道路上的一段往事，因此既写了藤野先生，又写了自己的思想历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11280" y="1879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朗读课文第一段和倒数第二段，重点体味下面几句话，回答括号中的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389772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表明了作者对清国留学生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厌恶和嘲讽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这帮清国留学生留着辫子，以示是大清国的臣民，而且“盘得平”，“油光可鉴”，表明他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精心打扮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“扭几扭”写出他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招摇过市、自我陶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丑态，“实在标致极了”，作者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反语表达了强烈的愤懑、讽刺之情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17049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也有解散辫子，盘得平的，除下帽来，油光可鉴，宛如小姑娘的发髻一般，还要将脖子扭几扭。实在标致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这表明了作者对清国留学生怎样的情感与态度？从句中哪些词语可以看出来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50920" y="241668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藤野先生帮作者添改讲义，可见他教学认真，并且没有狭隘的民族偏见，能以公正之心对待来自弱国的学生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他纠正作者的解剖图，还向作者了解中国女人裹脚的事，可见他治学严谨求实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他还关心作者思想意识的进步，对作者给予了极大的关心、鼓励和真诚的帮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藤野先生在当时的历史背景下，能够做到这些尤其难能可贵。所以，他在“我”的眼里和心里是伟大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7682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他的性格，在我的眼里和心里是伟大的，虽然他的姓名并不为许多人所知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藤野先生只是个普通人，作者为什么说他“伟大”，请结合具体事例谈谈你的看法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三、弃医从文是鲁迅一生的大事，他在多篇回忆性散文中曾经谈到过这段经历。读了这篇课文以后，你知道鲁迅为什么要离开东京去仙台学医，后来为什么又弃医从文吗？从鲁迅的人生选择中你想到了什么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原因：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鲁迅离开东京去仙台学医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其直接原因是他厌恶东京的学习环境，厌恶清国留学生的浑浑噩噩，厌烦他们把环境搞得乌烟瘴气，去仙台学医是为了“救治像我父亲似的被误的病人的疾苦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离开仙台弃医从文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仙台学医期间发生的匿名信事件与看电影事件，让鲁迅的思想产生了变化，“觉得医学并非一件紧要事”，“我们的第一要著，是在改变他们的精神”，所以弃医从文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启示：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四、从下边两题中，选做一题。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夜深人静之时，面对挂在东墙上的藤野先生的照片，想到与恩师已阔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了，鲁迅一定有许多话想对先生说。把握课文主旨，展开合理想像，模仿作者口吻，给藤野先生写一封信，表露作者当时的心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对于自己的老师，鲁迅只写过三个人，一个是三味书屋的寿镜吾，一个是《关于太炎先生二三事》中的章太炎，再就是这篇课文所写的藤野先生，把他们放在一起比较一下，看看鲁迅笔下的这三位老师各有什么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79800" y="515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其它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6448320"/>
            <a:ext cx="4572000" cy="40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00720" y="6448320"/>
            <a:ext cx="4643280" cy="4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409680" cy="612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8734320" y="333360"/>
            <a:ext cx="409680" cy="612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995640" y="404640"/>
            <a:ext cx="4680000" cy="604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90792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黑体"/>
              </a:rPr>
              <a:t>藤野先生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黑体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黑体"/>
              </a:rPr>
              <a:t>名叫藤野严九郎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黑体"/>
              </a:rPr>
              <a:t>,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黑体"/>
              </a:rPr>
              <a:t>是鲁迅在仙台学医时的先生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黑体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95280" y="32169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１、周君来的时候是中日战争之后，又过了相当的年数，很可悲的是，当时日本人还骂中国人做猪头三。在有这恶骂风气的时候，所以同级生之中也有这样的一群，动不动就对周君加以白眼，另眼看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77200" y="549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藤野先生及亲人对他们交往的回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24000" y="164844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 我少年的时候，曾承福井藩校出身的姓野坂的先生教过汉文，因此一方面尊重中国的先贤，同时总存着应该看重中国人的心情，这在周君就以为是特别亲切和难得了吧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果周君因此而在小说里和友人之间把我当作恩师谈着，我要是早读到该有多好啊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既然他至死还想知道我的消息，倘早通了音信，他本人也该多么喜欢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摘自藤野严九郎《谨忆周树人君》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206532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（藤野先生的侄子藤野恒三郎说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前，也就是鲁迅逝世的那一年，有一位记者拿来了一张鲁迅逝世时的照片给我叔父严九郎看。这时，我叔父才知道鲁迅逝世的消息，当时，严九郎正襟而坐，把那张照片举过头顶，然后提笔写了“谨忆周树人君”，由此可见，藤野严九郎对鲁迅的敬慕之情多么深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1700280"/>
            <a:ext cx="813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藤野，名严，全名藤野严九郎。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1901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年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10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月，藤野先生应聘到仙台医专任解剖学讲师。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1904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年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月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黑体"/>
              </a:rPr>
              <a:t>日，即鲁迅到仙台前两个月，藤野由讲师升为教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60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藤野先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藤野先生送给鲁迅的照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900000"/>
            <a:ext cx="8064360" cy="574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0" y="7101000"/>
            <a:ext cx="25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1600200" cy="245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057400" y="1600200"/>
            <a:ext cx="1600200" cy="2451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1600200" cy="2450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543800" y="4406760"/>
            <a:ext cx="1600200" cy="2451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715000" y="3276720"/>
            <a:ext cx="1600200" cy="2450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167520" y="0"/>
            <a:ext cx="297648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24000" y="4797360"/>
            <a:ext cx="68580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381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我所了解的鲁迅先生</a:t>
            </a:r>
            <a:endParaRPr b="1" lang="en-US" sz="6000" spc="1" strike="noStrike">
              <a:ln cap="sq" w="381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鲁迅</a:t>
            </a:r>
            <a:r>
              <a:rPr b="1" lang="zh-CN" sz="4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4200" spc="-1" strike="noStrike">
                <a:solidFill>
                  <a:srgbClr val="ffff00"/>
                </a:solidFill>
                <a:latin typeface="Arial"/>
              </a:rPr>
              <a:t>1881—1936</a:t>
            </a:r>
            <a:r>
              <a:rPr b="1" lang="zh-CN" sz="42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zh-CN" sz="4200" spc="-1" strike="noStrike">
                <a:solidFill>
                  <a:srgbClr val="0000ff"/>
                </a:solidFill>
                <a:latin typeface="Arial"/>
              </a:rPr>
              <a:t>生于浙江绍兴，原名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周树人，字豫才，自第一篇小说《狂人日记》开始用鲁迅作笔名。</a:t>
            </a:r>
            <a:br>
              <a:rPr sz="4200"/>
            </a:br>
            <a:br>
              <a:rPr sz="4200"/>
            </a:b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著名作品集</a:t>
            </a:r>
            <a:r>
              <a:rPr b="1" lang="zh-CN" sz="4200" spc="-1" strike="noStrike">
                <a:solidFill>
                  <a:srgbClr val="0000ff"/>
                </a:solidFill>
                <a:latin typeface="Arial"/>
              </a:rPr>
              <a:t>有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《野草》《朝花夕拾》《呐喊》《彷徨》《华盖集》《坟》</a:t>
            </a:r>
            <a:r>
              <a:rPr b="1" lang="zh-CN" sz="4200" spc="-1" strike="noStrike">
                <a:solidFill>
                  <a:srgbClr val="0000ff"/>
                </a:solidFill>
                <a:latin typeface="Arial"/>
              </a:rPr>
              <a:t>等。本文选自散文集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《朝花夕拾》</a:t>
            </a:r>
            <a:r>
              <a:rPr b="1" lang="zh-CN" sz="4200" spc="-1" strike="noStrike">
                <a:solidFill>
                  <a:srgbClr val="0000ff"/>
                </a:solidFill>
                <a:latin typeface="Arial"/>
              </a:rPr>
              <a:t>。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3:54:23Z</dcterms:created>
  <dc:creator>start</dc:creator>
  <dc:description/>
  <dc:language>en-US</dc:language>
  <cp:lastModifiedBy>User</cp:lastModifiedBy>
  <dcterms:modified xsi:type="dcterms:W3CDTF">2016-03-15T12:18:30Z</dcterms:modified>
  <cp:revision>198</cp:revision>
  <dc:subject/>
  <dc:title>没有幻灯片标题</dc:title>
</cp:coreProperties>
</file>