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A56-F39A-4CF5-8C5D-53F0A025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6AE-7E84-4E70-AB54-C5071386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15D-9615-414D-8742-7CCCA235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4DB-6CDF-4A02-9281-A20FFC67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6DC4-D363-4137-96BA-ECE1B9B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1E9C-6D8E-49B3-B405-7FD8489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8898-4A8B-4A4F-865B-8D2FA10D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0634-7DFA-4E43-93B0-67A2ADB5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4063-75AC-4445-86D9-431DEEB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A67-5444-4227-80DD-B3B0B977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58F5-3D1D-4D82-AE24-F0EE2E2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99D-8DA2-4A0B-B3FF-366E85CD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2E72-2F54-44FB-9E72-1FC7551D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149C-37EA-47BB-9930-CBAE5FF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024B-7007-4ABF-B940-FDD3C196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730-6643-4EA1-9F98-3586BF0A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BEE4-90C0-4D10-9FCA-C75B5DD4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B45-ADA3-4044-B49B-100CB22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DBF-ACCB-4F61-B916-6D11F369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460-8EAB-425C-B198-CA6D08D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A54-B3BF-4E19-8985-28B41CF6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567-502D-4F52-9CD0-0817F05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8F2-AEC5-4F08-9C29-2E8EC10A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453-F81B-42D0-B1DF-FEFBB2A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23E-5FDC-4BF2-ACB0-81ADC7552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A41-103A-49B0-9562-9DD3D4528BF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g2004618130609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5749560" y="1268280"/>
            <a:ext cx="2375280" cy="42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cc66"/>
                </a:solidFill>
                <a:latin typeface="Arial"/>
                <a:ea typeface="华文彩云"/>
              </a:rPr>
              <a:t>题西林壁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宋   苏轼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横看成岭侧成峰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远近高低各不同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不识庐山真面目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只缘身在此山中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603800" y="1066680"/>
            <a:ext cx="605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欣赏了刚才几组庐山的图片，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学们认为庐山怎样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远近高低各不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不识庐山真面目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只缘身在此山中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你能用自己的话说说对它的理解吗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同桌互相讨论，交流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chunt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7656480" y="671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66"/>
                </a:solidFill>
                <a:latin typeface="Arial"/>
                <a:ea typeface="华文彩云"/>
              </a:rPr>
              <a:t>远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hanpoko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how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677160" y="549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cc"/>
                </a:solidFill>
                <a:latin typeface="Arial"/>
              </a:rPr>
              <a:t>近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shuangjianfe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独树一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816120" y="5013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幼圆"/>
              </a:rPr>
              <a:t>高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wulaofe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01" name="Picture 5" descr="tu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lusan0927_05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4128840" y="646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幼圆"/>
              </a:rPr>
              <a:t>低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bilongt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8:15:38Z</dcterms:created>
  <dc:creator>wwwfox</dc:creator>
  <dc:description/>
  <dc:language>en-US</dc:language>
  <cp:lastModifiedBy>Administrator</cp:lastModifiedBy>
  <dcterms:modified xsi:type="dcterms:W3CDTF">2014-10-15T06:29:31Z</dcterms:modified>
  <cp:revision>8</cp:revision>
  <dc:subject/>
  <dc:title>幻灯片 1</dc:title>
</cp:coreProperties>
</file>