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41B-0DB3-4FFF-B589-E09FDF65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EA5-2D37-4867-8013-F96C09B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B58-BDDE-46BE-B4C2-7AFDB991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42C-3F1B-44F6-8044-065582B0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FD8-F0F9-4AAB-A792-901D6072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C26-9479-40CD-985F-FCE5EC1D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194-203B-40FF-8F88-0BDF893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ABD-BFC3-4C95-91A0-A391FBA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EF3-53EF-4D43-AA86-6816FC3B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A38-0F38-48CF-91AD-2FD15F5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12C-0153-4035-9B28-4DBAFE4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BB0-0440-4B89-AA59-1A58457F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9980-E6B6-4911-B0D9-782B834C20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31431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14800" y="40006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特色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4316400"/>
            <a:ext cx="30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商大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3dashi.com/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14200" y="714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4977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60696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42920" y="35712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857160" y="5072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7071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7283880" y="513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42920" y="42876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28312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069520" y="6215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997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9267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42920" y="285840"/>
            <a:ext cx="71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7000920" y="4572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7641000" y="6072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7569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42920" y="428760"/>
            <a:ext cx="71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121428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7069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140800" y="6143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42920" y="357120"/>
            <a:ext cx="64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5569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7836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2831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11-09T03:39:12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