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D423-2B58-4FBF-8841-3F330334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9284-EEAD-4EEB-8B57-E6C182AD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86A9-0C76-4FF9-B8BD-50CF599D8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6981-35F3-4B1A-8327-9AA2D184D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7A4A-EBA7-43AC-82B5-ABBC9C720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33F9-9CCD-4785-82F9-AE9D0122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FCCD-ADD4-4777-A01D-55C40B5C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3A24-7E9F-4271-A07F-A730447E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D5F4-5898-48E6-B3E0-3AECDB6D7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0E2D-AFFF-405F-A121-2305CFE5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2501-BCDC-49A1-929F-665F0D00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E64E4-7DAA-46AC-B472-2B2B44AF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9F33-9FD7-48E3-BFF5-25AF49611F4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3200" y="1038240"/>
            <a:ext cx="333360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华文行楷"/>
              </a:rPr>
              <a:t>峨眉山月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133640" y="2247840"/>
            <a:ext cx="5314680" cy="39816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796120" y="6553080"/>
            <a:ext cx="347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21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教学资源网整理发布： </a:t>
            </a: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Http://www.21jiao.n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-47520" y="1324080"/>
            <a:ext cx="8591400" cy="22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400" spc="-1" strike="noStrike">
                <a:solidFill>
                  <a:srgbClr val="6600ff"/>
                </a:solidFill>
                <a:latin typeface="Arial"/>
              </a:rPr>
              <a:t>皓月当空　月明星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</a:rPr>
              <a:t>　　风清月朗　风平浪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ff"/>
                </a:solidFill>
                <a:latin typeface="Arial"/>
              </a:rPr>
              <a:t>　　波光粼粼　水平如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09680" y="1552680"/>
            <a:ext cx="8362800" cy="195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衔远山，吞长江，浩浩荡荡，横无际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 ?</a:t>
            </a:r>
            <a:r>
              <a:rPr b="0" lang="zh-CN" sz="3200" spc="-1" strike="noStrike">
                <a:solidFill>
                  <a:srgbClr val="6600ff"/>
                </a:solidFill>
                <a:latin typeface="Arial"/>
              </a:rPr>
              <a:t>范仲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《岳阳楼记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气蒸云梦泽，波撼岳阳城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　　　　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孟浩然《临洞庭湖赠章丞相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95160" y="4924440"/>
            <a:ext cx="32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4240" y="5438880"/>
            <a:ext cx="7677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Arial"/>
              </a:rPr>
              <a:t>注释：云梦泽：古时候，洞庭湖又称去梦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10480" y="6048360"/>
            <a:ext cx="55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8394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8991720" cy="659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14240" y="1514520"/>
            <a:ext cx="8020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?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洞庭湖在湖南省北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长江南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中国第二大淡水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古称“云梦泽” 。跨湘鄂两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北连长江、南接湘、资、沅、酆四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号称“八百里洞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.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水面被分割为东洞庭湖、南洞庭湖、西洞庭湖三部分。洞庭湖的风光极为秀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许多景点都是国家级的风景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岳阳楼、君山、杜甫墓、杨么寨、铁经幢、屈子祠、跃龙塔面积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9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公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2743200" y="1066680"/>
            <a:ext cx="32004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838080"/>
            <a:ext cx="8153280" cy="5105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14240" y="1514520"/>
            <a:ext cx="802008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???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洞庭湖在湖南省北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长江南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中国第二大淡水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古称“云梦泽” 。跨湘鄂两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它北连长江、南接湘、资、沅、酆四水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号称“八百里洞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..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水面被分割为东洞庭湖、南洞庭湖、西洞庭湖三部分。洞庭湖的风光极为秀丽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许多景点都是国家级的风景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岳阳楼、君山、杜甫墓、杨么寨、铁经幢、屈子祠、跃龙塔面积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90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方公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2743200" y="1066680"/>
            <a:ext cx="3200400" cy="8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704960" y="1400040"/>
            <a:ext cx="468648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烟波浩渺  水天一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一碧无垠  风月无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云影波光  湖光山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黑体"/>
                <a:ea typeface="黑体"/>
              </a:rPr>
              <a:t>白帆点点  气象万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9200" y="657360"/>
            <a:ext cx="32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619360" y="714240"/>
            <a:ext cx="415296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望洞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湖光秋月两相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潭面无风镜未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遥望洞庭山水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银盘里一青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640" y="4295880"/>
            <a:ext cx="8039160" cy="15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  <a:ea typeface="隶书"/>
              </a:rPr>
              <a:t>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hé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）温和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风细雨 　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协调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和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不分胜负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和棋 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连词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和你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hè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声音相应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一唱一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　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依照别人诗词题材来写诗 　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</a:rPr>
              <a:t>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和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705800" y="6067440"/>
            <a:ext cx="32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619360" y="714240"/>
            <a:ext cx="415296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望洞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湖光秋月两相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潭面无风镜未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遥望洞庭山水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银盘里一青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1960" y="4295880"/>
            <a:ext cx="78296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注释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洞庭：湖名，在湖南省。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　　　   潭面：指湖面。　　　   镜：古人的镜子用铜制作、磨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020000" y="607680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05800" y="6067440"/>
            <a:ext cx="323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24880" y="6048360"/>
            <a:ext cx="685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619360" y="1400040"/>
            <a:ext cx="4648320" cy="27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望洞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湖光秋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两相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潭面无风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镜未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遥望洞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山水色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银盘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青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9T09:25:46Z</dcterms:created>
  <dc:creator>陈丽佳</dc:creator>
  <dc:description/>
  <dc:language>en-US</dc:language>
  <cp:lastModifiedBy>User</cp:lastModifiedBy>
  <dcterms:modified xsi:type="dcterms:W3CDTF">2014-12-08T12:48:06Z</dcterms:modified>
  <cp:revision>3</cp:revision>
  <dc:subject/>
  <dc:title>幻灯片 1</dc:title>
</cp:coreProperties>
</file>