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15.gif" ContentType="image/gif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A4EF-DAD2-4C24-BECE-6FDE78EBA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7315-C489-4444-8605-47DE7BE4A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8FAB-E55A-48D8-8303-DC7E0E3D1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F176-656B-427A-A3E7-E49E11568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6E07-64BD-4E14-B9E0-FD00398D1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5988-3C2F-4FD2-8790-14D670146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CFC2-5051-4CCC-9BA8-AC31124A4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EA0E-051D-4A58-9258-B798D249C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5F71-A51A-4B54-A8CD-982E4DFE3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6239-AF9E-4FA9-946A-9AD3AF10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69FB-1662-4449-B6E1-3536FEE0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DB2D-1F9D-4704-AF79-DD63FD312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7DC3C-AE4D-47EE-AFC2-408B3526BBF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0" b="10000"/>
          <a:stretch/>
        </p:blipFill>
        <p:spPr>
          <a:xfrm>
            <a:off x="0" y="0"/>
            <a:ext cx="9144000" cy="7543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0" r="0" b="10000"/>
          <a:stretch/>
        </p:blipFill>
        <p:spPr>
          <a:xfrm>
            <a:off x="0" y="0"/>
            <a:ext cx="9144000" cy="76960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914400" y="22096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洞庭天下水，岳阳天下楼。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70000" y="6576840"/>
            <a:ext cx="312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1</a:t>
            </a:r>
            <a:r>
              <a:rPr b="1" lang="zh-CN" sz="1200" spc="-1" strike="noStrike">
                <a:solidFill>
                  <a:srgbClr val="000000"/>
                </a:solidFill>
                <a:latin typeface="Comic Sans MS"/>
              </a:rPr>
              <a:t>教学资源网整理发布： </a:t>
            </a: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Http://www.21jiao.net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761760" y="190512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刘禹锡（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772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－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842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），字梦得，唐代诗人，被白居易称作“诗豪”。他的许多作品，立意新颖，思想深刻；七言绝句受到民歌的启发，写得明快清新，富有生活气息和地方色彩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046920" y="1905120"/>
            <a:ext cx="2259000" cy="304776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2438280" y="685800"/>
            <a:ext cx="34290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华文新魏"/>
              </a:rPr>
              <a:t>作者简介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3520" y="0"/>
            <a:ext cx="7848360" cy="2043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十三岁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踏上仕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刘禹锡，三十三岁成为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政治革新的核心人物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革新只进行了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半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便以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失败告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刘禹锡接连被贬。四十二岁奉召回京，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次年写诗得罪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执政，外放为连州刺史，后又担任夔州刺史、和州刺史，五十四岁从和州召回洛阳。 刘禹锡贬逐南荒，二十年间去来洞庭，据文献可考的约有六次。其中只有转任和州这一次，是在秋天。可见本诗是转任和州经过洞庭湖所写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28600" y="152280"/>
            <a:ext cx="8153280" cy="119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经历了人生的喜悲、大起落之后，刘禹锡走向成熟。这次虽是转到和州赴任，但已大彻大悟、宠辱不惊。眼前洞庭秋月，水月的和谐，山水的和谐，诗人平和的心境与大自然的宁静融为一体，想到以往坎坷和郁郁不得志，想到即将赴任的新地，他从过去痛苦中走出来，从对明天的憧憬中走出来，在明月清辉之下，在碧波万顷的湖边，纷繁的心绪与大自然同归于平静，于是一首诗从心底沽沽流出，于是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望洞庭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连同这个月夜凝固成“洞庭秋月”而得到永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186920" y="1980360"/>
            <a:ext cx="437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湖光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‖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秋月</a:t>
            </a: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/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两相和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潭面</a:t>
            </a: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/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无风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‖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镜未磨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13560" y="3428280"/>
            <a:ext cx="3557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遥望</a:t>
            </a: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/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洞庭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‖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山水翠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白银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‖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盘里</a:t>
            </a: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/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青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76212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望洞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66880" y="1371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刘禹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838080" y="4876920"/>
            <a:ext cx="723924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52280" y="6743880"/>
            <a:ext cx="723924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57200" y="838080"/>
            <a:ext cx="8153280" cy="51055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62120" y="1569960"/>
            <a:ext cx="7315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    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洞庭湖位于湖南省的北部，岳阳市附近，是我国第二大淡水湖。洞庭湖的风光极为秀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许多景点都是国家级的风景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岳阳楼、君山、杜甫墓、杨么寨、铁经幢、屈子祠、跃龙塔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面积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9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平方公里。君山在洞庭湖中，山上有诸多名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2743200" y="1066680"/>
            <a:ext cx="320040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华文新魏"/>
              </a:rPr>
              <a:t>洞庭湖概况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-304920"/>
            <a:ext cx="9144000" cy="7162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rcRect l="0" t="0" r="8424" b="0"/>
          <a:stretch/>
        </p:blipFill>
        <p:spPr>
          <a:xfrm>
            <a:off x="0" y="-228600"/>
            <a:ext cx="7924680" cy="37846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rcRect l="0" t="4071" r="2125" b="0"/>
          <a:stretch/>
        </p:blipFill>
        <p:spPr>
          <a:xfrm>
            <a:off x="1676520" y="3124080"/>
            <a:ext cx="74674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0"/>
                            </p:stCondLst>
                            <p:childTnLst>
                              <p:par>
                                <p:cTn id="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1" dur="5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月明星稀、风清月朗、风月无边、皓月当空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波光粼粼、银光闪闪、水平如镜、水天一色、迷迷蒙蒙、朦朦胧胧、宁静和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1523880" y="1295280"/>
            <a:ext cx="25909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77000"/>
                    </a:srgbClr>
                  </a:outerShdw>
                </a:effectLst>
                <a:latin typeface="华文行楷"/>
              </a:rPr>
              <a:t>望洞庭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77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9144000" y="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796120" y="6553080"/>
            <a:ext cx="34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教学资源网整理发布：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Http://www.21jiao.ne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7565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186920" y="1980360"/>
            <a:ext cx="437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湖光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‖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秋月</a:t>
            </a: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/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两相和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潭面</a:t>
            </a: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/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无风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‖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镜未磨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113560" y="3428280"/>
            <a:ext cx="3557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遥望</a:t>
            </a: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/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洞庭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‖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山水翠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白银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‖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盘里</a:t>
            </a: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/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青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62320" y="76212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望洞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66880" y="1371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刘禹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86920" y="1980360"/>
            <a:ext cx="437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湖光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‖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秋月</a:t>
            </a: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/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两相和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潭面</a:t>
            </a: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/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无风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‖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镜未磨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179080" y="3428280"/>
            <a:ext cx="3425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遥望</a:t>
            </a: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/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洞庭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‖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山水翠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白银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‖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盘里</a:t>
            </a: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/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青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362320" y="76212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望洞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666880" y="1371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刘禹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43000" y="5105520"/>
            <a:ext cx="1676520" cy="761760"/>
          </a:xfrm>
          <a:prstGeom prst="wedgeEllipseCallout">
            <a:avLst>
              <a:gd name="adj1" fmla="val 32671"/>
              <a:gd name="adj2" fmla="val -12916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47920" y="5334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洞庭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419720" y="4876920"/>
            <a:ext cx="1676160" cy="1066680"/>
          </a:xfrm>
          <a:prstGeom prst="wedgeEllipseCallout">
            <a:avLst>
              <a:gd name="adj1" fmla="val 3407"/>
              <a:gd name="adj2" fmla="val -7172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876920" y="5334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君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19920" y="2438280"/>
            <a:ext cx="2133360" cy="533520"/>
          </a:xfrm>
          <a:prstGeom prst="wedgeRectCallout">
            <a:avLst>
              <a:gd name="adj1" fmla="val -53796"/>
              <a:gd name="adj2" fmla="val 6993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未磨拭的铜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839440" cy="6705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970080" y="4529160"/>
            <a:ext cx="320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白银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‖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盘里</a:t>
            </a: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/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青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186920" y="1980360"/>
            <a:ext cx="4371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湖光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‖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秋月</a:t>
            </a: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/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两相和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潭面</a:t>
            </a: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/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无风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‖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镜未磨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179080" y="3428280"/>
            <a:ext cx="3425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遥望</a:t>
            </a: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/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洞庭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‖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山水翠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白银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‖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盘里</a:t>
            </a:r>
            <a:r>
              <a:rPr b="1" lang="en-US" sz="4000" spc="-1" strike="noStrike">
                <a:solidFill>
                  <a:srgbClr val="0066ff"/>
                </a:solidFill>
                <a:latin typeface="Arial"/>
              </a:rPr>
              <a:t>/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青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362320" y="76212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望洞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3716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刘禹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143000" y="5105520"/>
            <a:ext cx="1676520" cy="761760"/>
          </a:xfrm>
          <a:prstGeom prst="wedgeEllipseCallout">
            <a:avLst>
              <a:gd name="adj1" fmla="val 32671"/>
              <a:gd name="adj2" fmla="val -12916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447920" y="5334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洞庭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419720" y="4876920"/>
            <a:ext cx="1676160" cy="1066680"/>
          </a:xfrm>
          <a:prstGeom prst="wedgeEllipseCallout">
            <a:avLst>
              <a:gd name="adj1" fmla="val 3407"/>
              <a:gd name="adj2" fmla="val -7172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76920" y="5334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Arial"/>
              </a:rPr>
              <a:t>君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019920" y="2438280"/>
            <a:ext cx="2133360" cy="533520"/>
          </a:xfrm>
          <a:prstGeom prst="wedgeRectCallout">
            <a:avLst>
              <a:gd name="adj1" fmla="val -53796"/>
              <a:gd name="adj2" fmla="val 6993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Arial"/>
              </a:rPr>
              <a:t>未磨拭的铜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付瑾</dc:creator>
  <dc:description>内有音频</dc:description>
  <cp:keywords/>
  <dc:language>en-US</dc:language>
  <cp:lastModifiedBy>User</cp:lastModifiedBy>
  <dcterms:modified xsi:type="dcterms:W3CDTF">2015-07-14T14:19:44Z</dcterms:modified>
  <cp:revision>12</cp:revision>
  <dc:subject>为您服务教育网　http://www.wsbedu.com/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  <property fmtid="{D5CDD505-2E9C-101B-9397-08002B2CF9AE}" pid="3" name="Version">
    <vt:r8>1</vt:r8>
  </property>
</Properties>
</file>