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6.jpeg" ContentType="image/jpeg"/>
  <Override PartName="/ppt/media/image15.png" ContentType="image/pn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8B5B-DDCE-44FD-BABD-F7C8534C8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4D76-6E3D-4531-BFE4-44BBACCD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98B-780E-4BF0-932D-485C58B4D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B18-1796-4E0E-A5A9-9AC46F5F3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A1D61F-0259-4460-8C27-820A2E74F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95DD23-205A-46C6-BB05-07271CF6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DF60A1-CAE0-44F4-96E5-BD51CD37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5F22E3-86AE-4B7A-85DC-5EFC4A993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E01A77-0A4F-4DDE-AF9D-FFA5731BF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BEFDE-953C-4E7C-A787-272A9190C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0B370-A79D-413F-A258-BC27E95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0D1C-15AF-4668-84AD-EAEE548E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9E41DE-9B1E-47C4-A56C-3289F99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F34CF-94DC-4619-802B-543BEDAF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6BFCF2-A6D8-40ED-B1EA-0FEA84E7D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3D59B8-6578-4AED-9333-DB766101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1A235A-03FB-45F4-A7E7-5C8BE85AD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581-B3A2-4971-8EAA-79813B1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EE71-91A6-45BB-BC63-9127B6F97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0F1C-56B8-4AD8-92DA-537E24B6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3708-1CC8-4921-99A9-D41119FE7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51E-B3C1-4D0A-87C8-44DF03C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373D-5C92-42D6-A944-ECA6088EA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600F-50EE-4BB3-A51E-250F6590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E95E0-1379-442B-A065-F4A4BD142F9F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86702-346B-40B6-910A-226E01F8FA99}" type="slidenum"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990720" y="838080"/>
            <a:ext cx="7010280" cy="50292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152388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望洞庭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5"/>
          <a:stretch/>
        </p:blipFill>
        <p:spPr>
          <a:xfrm>
            <a:off x="1066680" y="4648320"/>
            <a:ext cx="3124440" cy="1131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6"/>
          <a:stretch/>
        </p:blipFill>
        <p:spPr>
          <a:xfrm>
            <a:off x="914400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0" lang="zh-CN" sz="1400" spc="-1" strike="noStrike">
                <a:solidFill>
                  <a:srgbClr val="e3e3ff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565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114480"/>
            <a:ext cx="9144000" cy="67435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52280" y="838080"/>
            <a:ext cx="6096240" cy="40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仿宋_GB2312"/>
              </a:rPr>
              <a:t>望洞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刘禹锡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湖光秋月两相和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潭面无风镜未磨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遥望洞庭山水翠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白银盘里一青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495680" y="380880"/>
            <a:ext cx="4648320" cy="1447920"/>
          </a:xfrm>
          <a:prstGeom prst="wedgeRoundRectCallout">
            <a:avLst>
              <a:gd name="adj1" fmla="val -47300"/>
              <a:gd name="adj2" fmla="val 88925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“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和”什么意思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“</a:t>
            </a: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两相和”的“两”指的是谁和谁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从这句中你读出了时间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你读出当时诗人眼前看到的情景吗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743200"/>
            <a:ext cx="3581280" cy="1600200"/>
          </a:xfrm>
          <a:prstGeom prst="wedgeRoundRectCallout">
            <a:avLst>
              <a:gd name="adj1" fmla="val -41620"/>
              <a:gd name="adj2" fmla="val 46231"/>
              <a:gd name="adj3" fmla="val 16667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9900"/>
                </a:solidFill>
                <a:latin typeface="Arial"/>
                <a:ea typeface="仿宋_GB2312"/>
              </a:rPr>
              <a:t>找出诗歌中的比喻句，想一想把什么比作什么，这样的比喻表达了作者怎么样的感情？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60948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" dur="2000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8333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洞庭湖的湖光秋月相互辉映，显得多么和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平静潭水无风，如一面没有经过打磨的迷蒙的铜镜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那月下洞庭湖里苍翠的君山，从远处看，就好像在白银盘里盛放着的一枚青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2133720" y="1676520"/>
            <a:ext cx="37335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609480"/>
            <a:ext cx="396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76212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14400" y="28130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湖光秋月两相和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714400" y="410832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遥望洞庭山水翠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700440" y="34225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潭面无风镜未磨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83560" y="4800600"/>
            <a:ext cx="10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银盘里一青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6858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2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2000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刘禹锡（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－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2120" y="1599840"/>
            <a:ext cx="7315200" cy="446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   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在湖南省北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长江南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中国第二大淡水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古称“云梦泽” 。跨湘鄂两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北连长江、南接湘、资、沅、酆四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号称“八百里洞庭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现水面被分割为东洞庭湖、南洞庭湖、西洞庭湖三部分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洞庭湖的风光极为秀丽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-28440"/>
            <a:ext cx="9144000" cy="68864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04920" y="57913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fade thruBlk="true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356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29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付瑾</dc:creator>
  <dc:description>内有音频</dc:description>
  <dc:language>en-US</dc:language>
  <cp:lastModifiedBy>User</cp:lastModifiedBy>
  <dcterms:modified xsi:type="dcterms:W3CDTF">2014-12-08T12:49:20Z</dcterms:modified>
  <cp:revision>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