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19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24.jpeg" ContentType="image/jpeg"/>
  <Override PartName="/ppt/media/image18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5.jpeg" ContentType="image/jpeg"/>
  <Override PartName="/ppt/media/image26.jpeg" ContentType="image/jpeg"/>
  <Override PartName="/ppt/media/image25.jpeg" ContentType="image/jpeg"/>
  <Override PartName="/ppt/media/image32.png" ContentType="image/png"/>
  <Override PartName="/ppt/media/image10.png" ContentType="image/png"/>
  <Override PartName="/ppt/media/image1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4.png" ContentType="image/pn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699-653A-4690-9FFE-CFA81664B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F01F-2BB6-49D1-8FB4-83AD01E9F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2AAE-67A8-4674-914A-C95AC3207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5199-6B43-43C6-8FDB-7278C8AC2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DC57-0447-468A-8FC6-23487B942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71EA-3C7D-4307-A730-2E55BAE4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02A6-F9CE-4C71-884D-BBAA6EA1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3F93-E145-4F19-BA12-83D79A8C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A761-B52C-433D-BD4A-FB755C5D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EF16-7213-4918-91E7-0C614D0F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25C1-854E-484A-9044-5E3D8EB2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061-0481-44C7-815B-3E595BBA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9E56-76B1-4B08-BA0E-01E994E375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image" Target="../media/image26.jpeg"/><Relationship Id="rId9" Type="http://schemas.openxmlformats.org/officeDocument/2006/relationships/image" Target="../media/image27.jpeg"/><Relationship Id="rId10" Type="http://schemas.openxmlformats.org/officeDocument/2006/relationships/image" Target="../media/image28.jpeg"/><Relationship Id="rId11" Type="http://schemas.openxmlformats.org/officeDocument/2006/relationships/image" Target="../media/image29.jpeg"/><Relationship Id="rId12" Type="http://schemas.openxmlformats.org/officeDocument/2006/relationships/image" Target="../media/image30.jpeg"/><Relationship Id="rId13" Type="http://schemas.openxmlformats.org/officeDocument/2006/relationships/image" Target="../media/image31.jpeg"/><Relationship Id="rId14" Type="http://schemas.openxmlformats.org/officeDocument/2006/relationships/image" Target="../media/image32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68360" y="1989000"/>
            <a:ext cx="4824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望洞庭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932360" y="3500280"/>
            <a:ext cx="3240000" cy="18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刘禹锡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8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920" y="1917360"/>
            <a:ext cx="8137440" cy="23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秋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125600" y="12654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黑体"/>
                <a:ea typeface="黑体"/>
              </a:rPr>
              <a:t>湖光秋月两相和，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9640" y="884160"/>
            <a:ext cx="2376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诗句品读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422100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洞庭湖水色和秋天的月色融为一体，湖面上没有一点风吹过，就像一面还没有磨过的镜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71000" y="191124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和谐，这里指水色和月色融为一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08000" y="2637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点明时间——秋天洞庭湖水色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秋天的月色融为一体。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059560" y="375120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1979640" y="1699920"/>
            <a:ext cx="6913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遥望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翠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8200" y="104940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ff"/>
                </a:solidFill>
                <a:latin typeface="Arial"/>
                <a:ea typeface="黑体"/>
              </a:rPr>
              <a:t>遥望洞庭山水翠，白银盘里一青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24000" y="407664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远远地看去，洞庭湖山水苍翠，像白银盘子里放着一只青青的田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83560" y="3500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729960" y="1766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远远地看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34840" y="2271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苍翠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13080" y="291924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楷体_GB2312"/>
              </a:rPr>
              <a:t>这里形容洞庭湖中的君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2349360"/>
            <a:ext cx="44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</a:rPr>
              <a:t>请同学们依据下列图画描     述一下你眼中的洞庭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79280" y="1052280"/>
            <a:ext cx="80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ff"/>
                </a:solidFill>
                <a:latin typeface="楷体_GB2312"/>
                <a:ea typeface="楷体_GB2312"/>
              </a:rPr>
              <a:t>　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夜是最晴朗的，秋月是最皎洁的，秋水是最平静的。诗人这次来观赏洞庭湖的风光，正是在一个清秋月夜，而且是水面无风的时候。可以想象，呈现在他面前的，会是怎样一片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宁静、和谐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湖光月色了。所以诗人情不自禁地说：这很像是还没磨光的镜面啊！古代没有玻璃，镜子是用青铜铸的，磨光以后才能照人。未磨的镜面，平而不滑，明而不亮，朦朦胧胧，用来形容月夜湖光，真是恰到好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2340000" y="1628280"/>
            <a:ext cx="66261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</a:rPr>
              <a:t>　　   诗人又将视线移向远方：洞庭湖心，青山一点，那就是自古闻名的君山了。这么苍翠，这么小巧，蹲在皓月清辉的水面上，正好似白银盘里的一只小青螺呢！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2421000"/>
            <a:ext cx="3095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55640" y="1052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的妙处，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在于几个生动的比喻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不但表现了月下洞庭的迷人景色，而且人对面映衬出诗人自己的形象：浩瀚无边的洞庭湖，在诗人眼里不过是一面铜镜，一具银盘，美而神秘的君山，不过是一只小小的螺壳。如果不是站得高、看得远，如果没有宽广阔大的胸怀，要这样视大为小，举重若轻，那是不可能的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14"/>
          <a:stretch/>
        </p:blipFill>
        <p:spPr>
          <a:xfrm>
            <a:off x="8101080" y="5950080"/>
            <a:ext cx="657000" cy="65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0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0"/>
                            </p:stCondLst>
                            <p:childTnLst>
                              <p:par>
                                <p:cTn id="2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1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0"/>
                            </p:stCondLst>
                            <p:childTnLst>
                              <p:par>
                                <p:cTn id="3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25000"/>
                            </p:stCondLst>
                            <p:childTnLst>
                              <p:par>
                                <p:cTn id="31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" dur="5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30000"/>
                            </p:stCondLst>
                            <p:childTnLst>
                              <p:par>
                                <p:cTn id="32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3" dur="5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5000"/>
                            </p:stCondLst>
                            <p:childTnLst>
                              <p:par>
                                <p:cTn id="325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40000"/>
                            </p:stCondLst>
                            <p:childTnLst>
                              <p:par>
                                <p:cTn id="3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5000"/>
                            </p:stCondLst>
                            <p:childTnLst>
                              <p:par>
                                <p:cTn id="33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9" dur="5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00"/>
                            </p:stCondLst>
                            <p:childTnLst>
                              <p:par>
                                <p:cTn id="34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3" dur="5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98792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5454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8496000" cy="55087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8424720" cy="550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424720" cy="55454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324000" y="907920"/>
            <a:ext cx="8496000" cy="55454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539640" y="1052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洞庭湖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6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rcRect l="0" t="0" r="695" b="29284"/>
          <a:stretch/>
        </p:blipFill>
        <p:spPr>
          <a:xfrm>
            <a:off x="179280" y="620640"/>
            <a:ext cx="8820360" cy="59770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651640" y="4581360"/>
            <a:ext cx="1008000" cy="86364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8360" y="836640"/>
            <a:ext cx="1873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找找看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rcRect l="0" t="0" r="841" b="6026"/>
          <a:stretch/>
        </p:blipFill>
        <p:spPr>
          <a:xfrm>
            <a:off x="179280" y="620640"/>
            <a:ext cx="8785440" cy="60483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508720" y="1557360"/>
            <a:ext cx="1942920" cy="1295280"/>
          </a:xfrm>
          <a:prstGeom prst="ellipse">
            <a:avLst/>
          </a:prstGeom>
          <a:noFill/>
          <a:ln w="792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28360" y="1555920"/>
            <a:ext cx="7272360" cy="4681440"/>
          </a:xfrm>
          <a:prstGeom prst="rect">
            <a:avLst/>
          </a:prstGeom>
          <a:solidFill>
            <a:srgbClr val="ffffff">
              <a:alpha val="67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洞庭湖位于湖南省的北部，岳阳市附近，是我国第二大淡水湖。八百里洞庭，烟波浩淼。水天相接，朝晖夕阴，气象万千。湖中有君山，山上有诸多名胜。著名诗人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范仲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到洞庭，留下了“先天下之忧而忧，后天下之乐而乐”的经典之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11280" y="1027080"/>
            <a:ext cx="23050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你知道吗</a:t>
            </a:r>
            <a:endParaRPr b="0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8496000" cy="5545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24000" y="907920"/>
            <a:ext cx="8496000" cy="5508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95280" y="907920"/>
            <a:ext cx="8424720" cy="5508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5"/>
          <a:stretch/>
        </p:blipFill>
        <p:spPr>
          <a:xfrm>
            <a:off x="324000" y="907920"/>
            <a:ext cx="8424720" cy="5545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6"/>
          <a:stretch/>
        </p:blipFill>
        <p:spPr>
          <a:xfrm>
            <a:off x="324000" y="907920"/>
            <a:ext cx="8496000" cy="5545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539640" y="1052640"/>
            <a:ext cx="1371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洞庭湖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2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rcRect l="0" t="0" r="39143" b="26220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7280" y="1842840"/>
            <a:ext cx="846144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波光粼粼、银光闪闪、水平如镜、水天一色、迷迷蒙蒙、朦朦胧胧、宁静和谐、月明星稀、风清月朗、皓月当空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11280" y="1027080"/>
            <a:ext cx="3200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说一说、读一读</a:t>
            </a:r>
            <a:endParaRPr b="0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rcRect l="13583" t="7297" r="9843" b="7973"/>
          <a:stretch/>
        </p:blipFill>
        <p:spPr>
          <a:xfrm>
            <a:off x="187200" y="622440"/>
            <a:ext cx="8785440" cy="597348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987640" y="1773000"/>
            <a:ext cx="590544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刘禹锡（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42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梦得，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代诗人，被白居易称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诗豪”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的许多作品，立意新颖，思想深刻；七言绝句受到民歌的启发，写得明快清新，富有生活气息和地方色彩。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916280"/>
            <a:ext cx="3097440" cy="3744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611280" y="1027080"/>
            <a:ext cx="2376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99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0" lang="en-US" sz="1800" spc="1" strike="noStrike">
              <a:ln w="0">
                <a:noFill/>
              </a:ln>
              <a:solidFill>
                <a:srgbClr val="0099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50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rcRect l="0" t="1506" r="2695" b="7209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539640" y="1268280"/>
            <a:ext cx="2305080" cy="60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bbe0e3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诗歌范读</a:t>
            </a:r>
            <a:endParaRPr b="0" lang="en-US" sz="1800" spc="1" strike="noStrike">
              <a:ln w="0">
                <a:noFill/>
              </a:ln>
              <a:solidFill>
                <a:srgbClr val="bbe0e3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zourujuan</dc:creator>
  <dc:description/>
  <dc:language>en-US</dc:language>
  <cp:lastModifiedBy>User</cp:lastModifiedBy>
  <dcterms:modified xsi:type="dcterms:W3CDTF">2014-12-08T12:47:16Z</dcterms:modified>
  <cp:revision>186</cp:revision>
  <dc:subject/>
  <dc:title>幻灯片 1</dc:title>
</cp:coreProperties>
</file>