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3B4-332B-47CA-94CB-137A05B7E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B2B6-05DF-494F-B451-157BBF2FB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8B18-E671-414A-951B-649287394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6E9A-61AF-4FDE-A249-E2C343567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6388-901D-4AE3-92E2-E8322FF43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6128-3B06-43A1-9C6B-01532A470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A77EA-F4A7-4505-A1B7-4B98280D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81037-C650-4BE4-B318-6BEE8900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CF475-DF52-47FB-B6B2-98AB9FFB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52EF6-D83A-4516-8F13-11AE2829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E642-3C0A-4010-A79D-8BEC806A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C554-765E-47ED-9972-68263E3B5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1D38-2EDF-4C28-A0F0-7BAD66EE6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175C8-2DDE-4DA2-9765-11511AC8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0246-2CF2-4B67-834A-B71DA07F0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7E99-C691-4908-87F4-58117557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CEEC-E218-4FF1-841E-5438E496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7EC5D-E299-46DD-BBB0-E9FCD9EC8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D598-AC19-45FD-8561-62149A7D4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BF661-B8F3-49CA-A195-1D37DC180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73B91-18FA-4C6C-A893-21F3C754C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0109-A7A9-4C0F-B1A7-374E7322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2AFA-B09A-43A2-A955-2E4533C9A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3347A-E6C8-4D10-92A9-7C8FAD04E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6E7AC-CE1C-4161-BDE4-8AB976F5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16631-0DF0-4A66-802F-A14628FF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740B93-C43A-47F2-816B-55CD3D9C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D5F1-911D-4AEF-9C29-113ACDAB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82D5E-7035-4F8D-8576-59E67F04A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7041E-C4F7-451B-BE60-75207B48D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367D2-38CE-4D16-A006-F4711AEC9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4A833-6503-4ED8-A186-07BF84FA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4B03C-3F84-491D-B703-97A47FCD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33D9-8B94-43EA-92E0-9CD7E347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A20A36-D044-4B84-9B73-D2D6C11A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A6DF2E-A880-48B5-86D1-2ED21479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BFA0A-8CC2-4F0D-BE6A-DFC1D715C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5812BA-1425-4CF6-BDE3-9160209A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B6B4B-FDEA-46AA-BE0C-A8E74CF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9522D-0F3B-438F-B3F8-89E105F7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3EAD6A-9BAC-4F09-956F-9BEBDFEA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7A32A0-7854-4AB3-B6AE-49ABF30E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E282D-62BD-40B4-ADDE-2E5EAE01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4DE0F4-622B-41EE-998B-E4A9D8721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A3DF-2E3E-42D2-A2CF-5E1ED0950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AA3E4-5971-4C44-9D99-B1D2C448B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3BC32-A2F8-418C-8E21-8D106CAEE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EDCD8-5008-4AC9-99DB-C39247BE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6D9889-1C71-4EF9-A111-ABACD300A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54CA7-A434-4C82-AB04-FA10EAFC8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17498-A378-4612-8EAA-09F1FA96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40A1E0-A4B2-4ED8-8C8F-7629236D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397AE-8824-4B9D-A30E-0775772B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F6FDF-E312-4A97-ADF9-F4D8E92E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4A0C-425E-4DE6-A09B-664B05ECD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16DE-6D16-4524-ACC8-D6713156E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A3EDC-C8F6-4F2E-A602-3CB0B7022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C0B8-AC08-4861-A27E-327E2904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492-B1F4-4354-AD6D-BE42C689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8FF9-5539-4939-A2BA-290E1FEB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9C60-2467-4262-86BE-62243237F9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5570-F8DF-4007-8C62-FBB8E4FEBD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0F3D1-7AD1-4313-8EFE-FEFED5A957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23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127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152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571EE-82C3-4043-A052-AE0EC5DC5052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201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205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230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5044-85C0-44D4-9BC3-675E4B24A0A4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jpeg"/><Relationship Id="rId12" Type="http://schemas.openxmlformats.org/officeDocument/2006/relationships/image" Target="../media/image19.jpeg"/><Relationship Id="rId13" Type="http://schemas.openxmlformats.org/officeDocument/2006/relationships/image" Target="../media/image5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5076360" y="4723920"/>
            <a:ext cx="482436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050920" y="1989000"/>
            <a:ext cx="5113440" cy="1224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望洞庭</a:t>
            </a:r>
            <a:endParaRPr b="0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80" name=""/>
          <p:cNvSpPr/>
          <p:nvPr/>
        </p:nvSpPr>
        <p:spPr>
          <a:xfrm>
            <a:off x="5435640" y="342900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刘禹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ffffff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395280" y="476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首诗的妙处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全在于几个生动的比喻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它们不但表现了月下洞庭的迷人景色，而且人对面映衬出诗人自己的形象：浩瀚无边的洞庭湖，在诗人眼里不过是一面铜镜，一具银盘，美而神秘的君山，不过是一只小小的螺壳。如果不是站得高、看得远，如果没有宽广阔大的胸怀，要这样视大为小，举重若轻，那是不可能的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762120" y="838080"/>
            <a:ext cx="7696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望洞庭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刘禹锡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            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秋 月</a:t>
            </a:r>
            <a:r>
              <a:rPr b="1" lang="en-US" sz="2600" spc="-1" strike="noStrike" u="sng">
                <a:solidFill>
                  <a:srgbClr val="ff3300"/>
                </a:solidFill>
                <a:uFillTx/>
                <a:latin typeface="Times New Roman"/>
                <a:ea typeface="楷体_GB2312"/>
              </a:rPr>
              <a:t>   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             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，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潭 面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                               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                                         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，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                    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Times New Roman"/>
                <a:ea typeface="楷体_GB2312"/>
              </a:rPr>
              <a:t>一 青</a:t>
            </a:r>
            <a:r>
              <a:rPr b="1" lang="en-US" sz="2600" spc="-1" strike="noStrike" u="sng">
                <a:solidFill>
                  <a:srgbClr val="3333cc"/>
                </a:solidFill>
                <a:uFillTx/>
                <a:latin typeface="Times New Roman"/>
                <a:ea typeface="楷体_GB2312"/>
              </a:rPr>
              <a:t>           </a:t>
            </a:r>
            <a:r>
              <a:rPr b="1" lang="zh-CN" sz="26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62520" y="55627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781680" y="48769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Arial"/>
              </a:rPr>
              <a:t>湖 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0" y="48769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洞 庭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10080" y="48769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Arial"/>
              </a:rPr>
              <a:t>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41911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遥 望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934320" y="41911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886200" y="41911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镜 未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48769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两 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410080" y="41911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山 水 翠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286000" y="55627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白 银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48769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无 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0" y="4191120"/>
            <a:ext cx="1828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00080"/>
                </a:solidFill>
                <a:latin typeface="Times New Roman"/>
                <a:ea typeface="楷体_GB2312"/>
              </a:rPr>
              <a:t>盘 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1640" y="380880"/>
            <a:ext cx="305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背一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5087E-006 L -0.66667 -0.36625 E">
                                      <p:cBhvr>
                                        <p:cTn id="144" dur="500" fill="hold"/>
                                        <p:tgtEl>
                                          <p:spTgt spid="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33 0.01109 L -0.18333 -0.36625 E">
                                      <p:cBhvr>
                                        <p:cTn id="148" dur="500" fill="hold"/>
                                        <p:tgtEl>
                                          <p:spTgt spid="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0.01109 L -0.28334 -0.36625 E">
                                      <p:cBhvr>
                                        <p:cTn id="152" dur="500" fill="hold"/>
                                        <p:tgtEl>
                                          <p:spTgt spid="3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-0.0111 L 0.45 -0.36625 E">
                                      <p:cBhvr>
                                        <p:cTn id="156" dur="5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-0.0222 L 0.18333 -0.26636 E">
                                      <p:cBhvr>
                                        <p:cTn id="160" dur="500" fill="hold"/>
                                        <p:tgtEl>
                                          <p:spTgt spid="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333 -0.03329 L 0.24167 -0.46613 E">
                                      <p:cBhvr>
                                        <p:cTn id="164" dur="500" fill="hold"/>
                                        <p:tgtEl>
                                          <p:spTgt spid="3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222 L -0.00833 -0.15537 E">
                                      <p:cBhvr>
                                        <p:cTn id="168" dur="500" fill="hold"/>
                                        <p:tgtEl>
                                          <p:spTgt spid="3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11 L -0.09167 -0.25526 E">
                                      <p:cBhvr>
                                        <p:cTn id="172" dur="5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6 -0.0222 L -0.325 -0.15537 E">
                                      <p:cBhvr>
                                        <p:cTn id="176" dur="500" fill="hold"/>
                                        <p:tgtEl>
                                          <p:spTgt spid="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0.0111 L 0.19167 -0.35514 E">
                                      <p:cBhvr>
                                        <p:cTn id="180" dur="500" fill="hold"/>
                                        <p:tgtEl>
                                          <p:spTgt spid="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7 -0.0111 L 0.28333 -0.15537 E">
                                      <p:cBhvr>
                                        <p:cTn id="184" dur="500" fill="hold"/>
                                        <p:tgtEl>
                                          <p:spTgt spid="3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66 -1.15607E-006 L -0.075 -0.15537 E">
                                      <p:cBhvr>
                                        <p:cTn id="188" dur="500" fill="hold"/>
                                        <p:tgtEl>
                                          <p:spTgt spid="3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3"/>
          <a:stretch/>
        </p:blipFill>
        <p:spPr>
          <a:xfrm>
            <a:off x="7596360" y="566100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5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9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0" dur="5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5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8" dur="5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0"/>
                            </p:stCondLst>
                            <p:childTnLst>
                              <p:par>
                                <p:cTn id="2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2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000" fill="hold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400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5000"/>
                            </p:stCondLst>
                            <p:childTnLst>
                              <p:par>
                                <p:cTn id="2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5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0"/>
                            </p:stCondLst>
                            <p:childTnLst>
                              <p:par>
                                <p:cTn id="2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2" dur="5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5000"/>
                            </p:stCondLst>
                            <p:childTnLst>
                              <p:par>
                                <p:cTn id="2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346572" fill="hold"/>
                                        <p:tgtEl>
                                          <p:spTgt spid="3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1989000"/>
            <a:ext cx="46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333399"/>
                </a:solidFill>
                <a:latin typeface="Arial"/>
              </a:rPr>
              <a:t>谢 谢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899640" y="1268280"/>
            <a:ext cx="7704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洞庭湖位于湖南省的北部，岳阳市附近，是我国第二大淡水湖。八百里洞庭，烟波浩淼。水天相接，朝晖夕阴，气象万千。湖中有君山，山上有诸多名胜。著名诗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范仲淹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到洞庭，留下了“先天下之忧而忧，后天下之乐而乐”的经典之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0"/>
            <a:ext cx="100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  <a:ea typeface="黑体"/>
              </a:rPr>
              <a:t>你知道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539640" y="1197000"/>
            <a:ext cx="835344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             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波光粼粼       银光闪闪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水平如镜      水天一色      迷迷蒙蒙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朦朦胧胧      宁静和谐      月明星稀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   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风清月朗        风月无边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              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皓月当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9280" y="26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cccc"/>
                </a:solidFill>
                <a:latin typeface="Arial Black"/>
                <a:ea typeface="黑体"/>
              </a:rPr>
              <a:t>读一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 txBox="1"/>
          <p:nvPr/>
        </p:nvSpPr>
        <p:spPr>
          <a:xfrm>
            <a:off x="468360" y="1557360"/>
            <a:ext cx="266364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诗歌泛读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851280" y="1557360"/>
            <a:ext cx="6476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595" fill="hold"/>
                                        <p:tgtEl>
                                          <p:spTgt spid="2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3238560" y="1700280"/>
            <a:ext cx="590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刘禹锡（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77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－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842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），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字梦得，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唐代诗人，被白居易称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诗豪”。</a:t>
            </a:r>
            <a:r>
              <a:rPr b="1" lang="zh-CN" sz="36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他的许多作品，立意新颖，思想深刻；七言绝句受到民歌的启发，写得明快清新，富有生活气息和地方色彩。</a:t>
            </a:r>
            <a:r>
              <a:rPr b="1" lang="zh-CN" sz="3200" spc="-1" strike="noStrike">
                <a:solidFill>
                  <a:srgbClr val="007a77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3097080" cy="37447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 txBox="1"/>
          <p:nvPr/>
        </p:nvSpPr>
        <p:spPr>
          <a:xfrm>
            <a:off x="324000" y="620640"/>
            <a:ext cx="2376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dc59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华文新魏"/>
              </a:rPr>
              <a:t>作者简介</a:t>
            </a:r>
            <a:endParaRPr b="0" lang="en-US" sz="1800" spc="1" strike="noStrike">
              <a:ln w="0">
                <a:noFill/>
              </a:ln>
              <a:solidFill>
                <a:srgbClr val="dc59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" dur="1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403280" y="1915560"/>
            <a:ext cx="655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洞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dòng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庭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tíng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h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潭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tán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磨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mó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螺</a:t>
            </a: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lu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03280" y="2708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洞庭湖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78136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庭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51640" y="27813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和谐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3280" y="45813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潭面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851280" y="4581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磨石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867280" y="458136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（青螺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484360" y="692280"/>
            <a:ext cx="403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读一读，写一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50920" y="1700280"/>
            <a:ext cx="8137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和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秋月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25600" y="1125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黑体"/>
                <a:ea typeface="黑体"/>
              </a:rPr>
              <a:t>湖光秋月两相和，潭面无风镜未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39640" y="4221000"/>
            <a:ext cx="71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cc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洞庭湖水色和秋天的月色融为一体，湖面上没有一点风吹过，就像一面还没有磨过的镜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1700280"/>
            <a:ext cx="633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和谐，这里指水色和月色融为一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2276640"/>
            <a:ext cx="63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点明时间——秋天洞庭湖水色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        </a:t>
            </a:r>
            <a:r>
              <a:rPr b="1" lang="zh-CN" sz="3200" spc="-1" strike="noStrike">
                <a:solidFill>
                  <a:srgbClr val="009999"/>
                </a:solidFill>
                <a:latin typeface="宋体"/>
              </a:rPr>
              <a:t>秋天的月色融为一体。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0760" y="3716280"/>
            <a:ext cx="383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用自己的话说说这两句诗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9640" y="476280"/>
            <a:ext cx="22478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诗句品读</a:t>
            </a:r>
            <a:endParaRPr b="0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483920"/>
            <a:ext cx="7921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遥望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远远地看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翠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苍翠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青螺：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这里形容洞庭湖中的君山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用自己的话说说这两句诗的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534840" y="62064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99"/>
                </a:solidFill>
                <a:latin typeface="Arial"/>
                <a:ea typeface="黑体"/>
              </a:rPr>
              <a:t>遥望洞庭山水翠，白银盘里一青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11280" y="4005360"/>
            <a:ext cx="67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远远地看去，洞庭湖山水苍翠，像银盘子里放着一只青青的田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" dur="1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" dur="1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4:30:49Z</dcterms:created>
  <dc:creator>雨林木风</dc:creator>
  <dc:description/>
  <dc:language>en-US</dc:language>
  <cp:lastModifiedBy>User</cp:lastModifiedBy>
  <dcterms:modified xsi:type="dcterms:W3CDTF">2014-12-08T12:47:39Z</dcterms:modified>
  <cp:revision>8</cp:revision>
  <dc:subject/>
  <dc:title>幻灯片 1</dc:title>
</cp:coreProperties>
</file>