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typ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4694-D949-4019-ACD7-0B500E064B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EA8-1A2B-4DE7-9197-8A38927C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A739-5BA9-4121-8579-6C6C0570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BE6-5FD7-44C4-A6D9-A01F93A3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E1D-85E7-4781-9618-2157304F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800-B879-40E4-A178-2C0141E1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722-1AC5-433E-BBF8-BB06EC4D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31F-86F9-4851-8661-9EE4DDFF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DD4-2CD6-49DC-AD2A-CC695E8F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A428-968C-467B-9FDC-7ABF4E82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A5A-D5DA-4CFC-8138-6A3FF255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D10-9A16-42B0-B412-878F66DC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2E8-24ED-43C6-9670-00E583DC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CD68-4EA8-4879-A45A-5F87B67759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F%A8&#872;%BB&#245;%C6&#428;%B1%B3%BE%B0&#892;&#428;&amp;in=10353&amp;cl=2&amp;cm=1&amp;sc=0&amp;lm=-1&amp;pn=0&amp;rn=1&amp;di=10469366370&amp;ln=270&amp;fr=ala0&amp;ic=0&amp;s=0&amp;se=1" TargetMode="External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F%A8&#872;%BB&#245;%C6&#428;%B1%B3%BE%B0&#892;&#428;&amp;in=10353&amp;cl=2&amp;cm=1&amp;sc=0&amp;lm=-1&amp;pn=0&amp;rn=1&amp;di=10469366370&amp;ln=270&amp;fr=ala0&amp;ic=0&amp;s=0&amp;se=1" TargetMode="External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91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第二次：（丢羊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后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不该不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接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街坊的劝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想，现在修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5013360"/>
            <a:ext cx="1981080" cy="1641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328464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赶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堵上那个窟窿，把羊圈修的结结实实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此，他的羊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再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丢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总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养羊人第一次丢了羊，街坊好心（      ），他却（            ），到第二次又丢了羊，他（　        　），赶快（　　       ）。从此，他的羊（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则寓言告诉我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一个人犯了错误，只要肯及时改正，就不算晚   。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15573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ahoma"/>
              </a:rPr>
              <a:t>劝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19890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满不在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2421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后悔极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48000" y="2997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再也没丢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08280" y="2276640"/>
            <a:ext cx="184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修补羊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96000" y="6400800"/>
            <a:ext cx="2489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92,-9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0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92,-9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0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907920"/>
            <a:ext cx="6840360" cy="1944720"/>
          </a:xfrm>
          <a:prstGeom prst="cloudCallout">
            <a:avLst>
              <a:gd name="adj1" fmla="val -31759"/>
              <a:gd name="adj2" fmla="val 183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</a:rPr>
              <a:t>亡羊补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</a:rPr>
              <a:t>自由读课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89000"/>
            <a:ext cx="3456000" cy="244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看看哪位小朋友读得最认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417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羊圈       窟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窿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街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劝告      叼走     后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141300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1484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1484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148428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4076640"/>
            <a:ext cx="2664000" cy="1152720"/>
          </a:xfrm>
          <a:prstGeom prst="cloudCallout">
            <a:avLst>
              <a:gd name="adj1" fmla="val -44754"/>
              <a:gd name="adj2" fmla="val 5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我读得最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</a:rPr>
              <a:t>理解“亡羊补牢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1589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亡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9120" y="3903840"/>
            <a:ext cx="2252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牢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535120"/>
            <a:ext cx="2232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补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1341360"/>
            <a:ext cx="2158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丢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59280" y="2492280"/>
            <a:ext cx="2232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修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3860640"/>
            <a:ext cx="225288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羊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小故事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自己的话把这个故事讲给大家听一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评一评，谁说得最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说一说：</a:t>
            </a:r>
            <a:br>
              <a:rPr sz="4000"/>
            </a:b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    狼为什么把羊叼走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1989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原来羊圈破了个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窟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夜里狼从窟窿钻进去，把那只羊叼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3933720"/>
            <a:ext cx="770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练一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你能给这句话加上“因为……所以……”再把它说一遍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195280" y="1341000"/>
            <a:ext cx="1655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邻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6840" y="1133280"/>
            <a:ext cx="17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街坊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22352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</a:rPr>
              <a:t>找一找：他说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32194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赶快把羊圈修一修，堵上那个窟窿吧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164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羊已经丢了，还修羊圈干什么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2560" y="3870360"/>
            <a:ext cx="69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养羊人怎么回答他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476280"/>
            <a:ext cx="8137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第一次：（丢羊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第二次：（丢羊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天早上，他去放羊，发现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了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。原来狼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窟窿钻进去，把羊叼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24280"/>
            <a:ext cx="1333440" cy="11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2:44:16Z</dcterms:created>
  <dc:creator>微软中国</dc:creator>
  <dc:description/>
  <dc:language>en-US</dc:language>
  <cp:lastModifiedBy>User</cp:lastModifiedBy>
  <dcterms:modified xsi:type="dcterms:W3CDTF">2014-12-04T14:28:11Z</dcterms:modified>
  <cp:revision>5</cp:revision>
  <dc:subject/>
  <dc:title>幻灯片 1</dc:title>
</cp:coreProperties>
</file>