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type.wav" ContentType="audio/x-wav"/>
  <Override PartName="/ppt/media/image18.jpeg" ContentType="image/jpeg"/>
  <Override PartName="/ppt/media/image17.jpeg" ContentType="image/jpe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chimes.wav" ContentType="audio/x-wav"/>
  <Override PartName="/ppt/media/image16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988-403A-4C8F-81CD-BBD8FBE7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CC8-F6D9-4F46-A946-FAF60184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F86-BAE3-418A-90C0-1C6C707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7DA-6044-4C9C-BB3B-97C17059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E9C-790A-439D-B913-E8D21CE4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A84-7647-4371-B162-56F6B7B4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EBC-912F-4864-8781-4D01A7C9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027-75B3-4117-890F-82612879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E0B-8EAE-481E-B000-52D14256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89D-098B-4FBE-9EB6-B032F70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D46-C24F-4C4B-BAB1-45B80EC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C93-280A-4636-A1DA-F516B91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3C4-3681-45DC-81B7-56F8745E0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gif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2.gif"/><Relationship Id="rId14" Type="http://schemas.openxmlformats.org/officeDocument/2006/relationships/image" Target="../media/image14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458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2060640"/>
            <a:ext cx="6095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9 </a:t>
            </a: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寓言两则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5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084720" y="4508640"/>
            <a:ext cx="2210040" cy="1606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5724360" y="479736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516720" y="52513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6588000" y="4653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4140360" y="1125360"/>
            <a:ext cx="5790960" cy="421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4335480" y="3360600"/>
            <a:ext cx="4808520" cy="349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4539960"/>
            <a:ext cx="547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他很后悔 ，不该不接受街坊的劝告，心想，现在修还不晚。他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赶快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堵上那个窟窿，把羊圈修得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结结实实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的。从此，他的羊再也没有丢过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405080" y="-531720"/>
            <a:ext cx="5185080" cy="371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979640" y="907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拓展延伸：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2514240"/>
            <a:ext cx="633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  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养羊人经历了这件事之后，碰到以下问题他会怎样解决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）养羊人的衣服破了个大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）养羊人的地里长了许多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76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方正行楷简体"/>
              </a:rPr>
              <a:t>作业布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2997360"/>
            <a:ext cx="74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5184720" cy="1511280"/>
          </a:xfrm>
          <a:prstGeom prst="cloudCallout">
            <a:avLst>
              <a:gd name="adj1" fmla="val 39162"/>
              <a:gd name="adj2" fmla="val 126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寓言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276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寓：蕴含，寄托。言：讲道理。“则”相当于“篇”。寓言和童话一样，是一种文章体裁，它往往借一个虚构的小故事说明一个深刻的大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0"/>
          <p:cNvPicPr/>
          <p:nvPr/>
        </p:nvPicPr>
        <p:blipFill>
          <a:blip r:embed="rId2"/>
          <a:stretch/>
        </p:blipFill>
        <p:spPr>
          <a:xfrm>
            <a:off x="7236000" y="5054760"/>
            <a:ext cx="1908000" cy="17064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1066680" cy="2590920"/>
            <a:chOff x="0" y="0"/>
            <a:chExt cx="1066680" cy="259092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066680" cy="2590920"/>
            </a:xfrm>
            <a:prstGeom prst="verticalScroll">
              <a:avLst>
                <a:gd name="adj" fmla="val 125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 rot="5400000">
              <a:off x="-343080" y="1104480"/>
              <a:ext cx="1828800" cy="3812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华文中宋"/>
                </a:rPr>
                <a:t>寓言故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411280" y="198900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亡羊补牢</a:t>
            </a:r>
            <a:endParaRPr b="1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58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0"/>
          <p:cNvPicPr/>
          <p:nvPr/>
        </p:nvPicPr>
        <p:blipFill>
          <a:blip r:embed="rId2"/>
          <a:stretch/>
        </p:blipFill>
        <p:spPr>
          <a:xfrm>
            <a:off x="6300720" y="4626000"/>
            <a:ext cx="28432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89000"/>
            <a:ext cx="5184720" cy="1511280"/>
          </a:xfrm>
          <a:prstGeom prst="cloudCallout">
            <a:avLst>
              <a:gd name="adj1" fmla="val 39162"/>
              <a:gd name="adj2" fmla="val 126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你能读准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924280"/>
            <a:ext cx="7129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窟窿    街坊   劝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叼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走    后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羊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圈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结结实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7451640" y="580536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3794"/>
                </a:moveTo>
                <a:lnTo>
                  <a:pt x="19995" y="10800"/>
                </a:lnTo>
                <a:lnTo>
                  <a:pt x="598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79640" y="2637000"/>
            <a:ext cx="1582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1844640"/>
            <a:ext cx="2600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4721400"/>
            <a:ext cx="2592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249228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叼：最后一笔是“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叨：最后一笔是“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7740720" y="4724280"/>
            <a:ext cx="504720" cy="611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11280"/>
              <a:gd name="textAreaBottom" fmla="*/ 578880 h 611280"/>
            </a:gdLst>
            <a:ahLst/>
            <a:rect l="textAreaLeft" t="textAreaTop" r="textAreaRight" b="textAreaBottom"/>
            <a:pathLst>
              <a:path w="21600" h="26157">
                <a:moveTo>
                  <a:pt x="0" y="0"/>
                </a:moveTo>
                <a:lnTo>
                  <a:pt x="21600" y="0"/>
                </a:lnTo>
                <a:lnTo>
                  <a:pt x="21600" y="26157"/>
                </a:lnTo>
                <a:lnTo>
                  <a:pt x="0" y="26157"/>
                </a:lnTo>
                <a:close/>
              </a:path>
              <a:path fill="lightenLess" w="21600" h="26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57">
                <a:moveTo>
                  <a:pt x="21600" y="0"/>
                </a:moveTo>
                <a:lnTo>
                  <a:pt x="21600" y="26157"/>
                </a:lnTo>
                <a:lnTo>
                  <a:pt x="20200" y="24757"/>
                </a:lnTo>
                <a:lnTo>
                  <a:pt x="20200" y="1400"/>
                </a:lnTo>
                <a:close/>
              </a:path>
              <a:path fill="darkenLess" w="21600" h="26157">
                <a:moveTo>
                  <a:pt x="21600" y="26157"/>
                </a:moveTo>
                <a:lnTo>
                  <a:pt x="0" y="26157"/>
                </a:lnTo>
                <a:lnTo>
                  <a:pt x="1400" y="24757"/>
                </a:lnTo>
                <a:lnTo>
                  <a:pt x="20200" y="24757"/>
                </a:lnTo>
                <a:close/>
              </a:path>
              <a:path fill="lighten" w="21600" h="26157">
                <a:moveTo>
                  <a:pt x="0" y="26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57"/>
                </a:lnTo>
                <a:close/>
              </a:path>
              <a:path fill="darken" w="21600" h="26157">
                <a:moveTo>
                  <a:pt x="3794" y="13079"/>
                </a:moveTo>
                <a:lnTo>
                  <a:pt x="17806" y="6072"/>
                </a:lnTo>
                <a:lnTo>
                  <a:pt x="17806" y="2008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79640" y="2637000"/>
            <a:ext cx="1582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0740000">
            <a:off x="3344400" y="2204640"/>
            <a:ext cx="432000" cy="259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1844640"/>
            <a:ext cx="2600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4721400"/>
            <a:ext cx="2592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4005360"/>
            <a:ext cx="2592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1901"/>
                </a:solidFill>
                <a:latin typeface="Arial"/>
              </a:rPr>
              <a:t>圆圈 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700280"/>
            <a:ext cx="2597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1901"/>
                </a:solidFill>
                <a:latin typeface="Arial"/>
              </a:rPr>
              <a:t>羊圈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音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6160" y="4076640"/>
            <a:ext cx="1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qu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206064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414972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667640" y="5157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10800"/>
                </a:moveTo>
                <a:lnTo>
                  <a:pt x="17850" y="3794"/>
                </a:lnTo>
                <a:lnTo>
                  <a:pt x="17850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00360" y="1197000"/>
            <a:ext cx="2951280" cy="1368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40000" y="263700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红生病了，没有来上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11280" y="11970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句式训练：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3270600" y="3429000"/>
            <a:ext cx="50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所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35812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9625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3962520" y="4038480"/>
            <a:ext cx="3504960" cy="191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3962520" y="419112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44197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48006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2578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257640" y="270828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-1981080" y="314172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 rot="19933800">
            <a:off x="6803640" y="189000"/>
            <a:ext cx="3048120" cy="221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34290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838400" y="681120"/>
            <a:ext cx="2851920" cy="1749600"/>
            <a:chOff x="4838400" y="681120"/>
            <a:chExt cx="2851920" cy="1749600"/>
          </a:xfrm>
        </p:grpSpPr>
        <p:sp>
          <p:nvSpPr>
            <p:cNvPr id="104" name=""/>
            <p:cNvSpPr/>
            <p:nvPr/>
          </p:nvSpPr>
          <p:spPr>
            <a:xfrm rot="11413800">
              <a:off x="4932000" y="907200"/>
              <a:ext cx="2664000" cy="1297080"/>
            </a:xfrm>
            <a:prstGeom prst="cloudCallout">
              <a:avLst>
                <a:gd name="adj1" fmla="val -40439"/>
                <a:gd name="adj2" fmla="val 56115"/>
              </a:avLst>
            </a:prstGeom>
            <a:solidFill>
              <a:srgbClr val="bbe0e3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7760" y="1267200"/>
              <a:ext cx="146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赶快把羊圈修一修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堵上那个窟窿吧 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92360" y="3339360"/>
            <a:ext cx="3030480" cy="1834920"/>
            <a:chOff x="1692360" y="3339360"/>
            <a:chExt cx="3030480" cy="1834920"/>
          </a:xfrm>
        </p:grpSpPr>
        <p:sp>
          <p:nvSpPr>
            <p:cNvPr id="107" name=""/>
            <p:cNvSpPr/>
            <p:nvPr/>
          </p:nvSpPr>
          <p:spPr>
            <a:xfrm rot="408000">
              <a:off x="1834920" y="3499920"/>
              <a:ext cx="2808000" cy="1513080"/>
            </a:xfrm>
            <a:prstGeom prst="cloudCallout">
              <a:avLst>
                <a:gd name="adj1" fmla="val -38430"/>
                <a:gd name="adj2" fmla="val 50814"/>
              </a:avLst>
            </a:prstGeom>
            <a:solidFill>
              <a:srgbClr val="bbe0e3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92360" y="3860640"/>
              <a:ext cx="28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羊已经丢了，还修羊圈干什么？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1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59280" y="257652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-609480" y="22860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1447920" y="0"/>
            <a:ext cx="3429000" cy="249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29000" y="152280"/>
            <a:ext cx="4456080" cy="1524240"/>
          </a:xfrm>
          <a:prstGeom prst="wedgeRoundRectCallout">
            <a:avLst>
              <a:gd name="adj1" fmla="val -47435"/>
              <a:gd name="adj2" fmla="val 70000"/>
              <a:gd name="adj3" fmla="val 16667"/>
            </a:avLst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60280"/>
            <a:ext cx="42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天早上，他去放羊，发现羊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了一只。原来狼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窟窿钻进去，把羊叼走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0" y="46483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5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9:09:25Z</dcterms:created>
  <dc:creator>微软用户</dc:creator>
  <dc:description/>
  <dc:language>en-US</dc:language>
  <cp:lastModifiedBy>User</cp:lastModifiedBy>
  <dcterms:modified xsi:type="dcterms:W3CDTF">2014-12-04T14:27:59Z</dcterms:modified>
  <cp:revision>33</cp:revision>
  <dc:subject/>
  <dc:title>幻灯片 1</dc:title>
</cp:coreProperties>
</file>