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hamm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1692360" y="1268280"/>
            <a:ext cx="5688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寓言两则</a:t>
            </a:r>
            <a:endParaRPr b="1" lang="en-US" sz="5400" spc="1" strike="noStrike">
              <a:ln w="2844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9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16000" y="1413000"/>
            <a:ext cx="6696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二天早上，他去放羊，发现羊又少了一只。原来狼又从窟窿钻进去，把羊叼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31417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5080" y="31417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4360" y="1197000"/>
            <a:ext cx="8137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他很后悔，不该不接受街访的劝告，心想，现在修还不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916280"/>
            <a:ext cx="80643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他赶快堵上那个窟窿，把羊圈修得结结实实的。从此，他的羊再也没丢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9000" y="4557600"/>
            <a:ext cx="67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他想，当初要是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就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08000" y="2708280"/>
            <a:ext cx="59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"/>
                <a:ea typeface="楷体_GB2312"/>
              </a:rPr>
              <a:t>亡羊补牢，为时不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6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33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295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隶书"/>
              </a:rPr>
              <a:t>学法指导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5280" y="206064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）读懂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2925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）明白道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386064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）联系生活用一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981000"/>
            <a:ext cx="3097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隶书"/>
              </a:rPr>
              <a:t>读书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2276640"/>
            <a:ext cx="777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读准字音，读通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读懂题目的意思。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会说课文讲了一件什么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56000" y="119664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3300"/>
                </a:solidFill>
                <a:latin typeface="Arial"/>
                <a:ea typeface="楷体_GB2312"/>
              </a:rPr>
              <a:t>亡羊补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29242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亡：丢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40360" y="292428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牢：关牲口的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58920" y="1844640"/>
            <a:ext cx="67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楷体_GB2312"/>
              </a:rPr>
              <a:t>原来羊圈破了个窟窿，夜里狼从窟窿钻进去，把那只羊叼走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105264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楷体_GB2312"/>
              </a:rPr>
              <a:t>街访劝他说：“赶快把羊圈修一修，堵上那个窟窿吧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270828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他说：“羊都丢了，还修羊圈干什么呢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429264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他说：“羊都丢了，修羊圈没用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02:48:01Z</dcterms:created>
  <dc:creator>方正电脑</dc:creator>
  <dc:description/>
  <dc:language>en-US</dc:language>
  <cp:lastModifiedBy>User</cp:lastModifiedBy>
  <dcterms:modified xsi:type="dcterms:W3CDTF">2014-12-04T14:28:50Z</dcterms:modified>
  <cp:revision>11</cp:revision>
  <dc:subject/>
  <dc:title>幻灯片 1</dc:title>
</cp:coreProperties>
</file>