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type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AEC-2AE4-449A-949E-A1562F1184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785-C014-486B-8930-B81E3E99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284-CE09-476F-9AF0-A297AEC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DFB-8465-478F-B1CB-91F7301F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75B-8833-4C2E-B5E1-6F52D59E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49E-510E-4C48-9F7A-2A1CCE9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8BF-9AC6-4C4F-BF17-F4C7F4EB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E31-DF63-4490-843C-F22D6040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DB5-DA04-4C16-A0C1-179602C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D48-7722-4C1B-9C8F-B14A855F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D0A-5F97-4A37-B68E-1A16B49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2D4-7FCC-4E30-968A-C1944180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1C3-6FD6-47A9-A0B2-02F319D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943-037E-46E3-B90D-49899A8422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窟 窿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劝 告  叼 走  羊 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549360"/>
            <a:ext cx="302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47628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kūlong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quàn   di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o     j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924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街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349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1197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51960" y="2276640"/>
            <a:ext cx="14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f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10160" y="28591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言  亡羊补牢  后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读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由此可见：像养羊人这样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犯了错误，只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就不算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及时改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95840" y="40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亡羊补牢，未为迟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6400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实际生活中，也常常发生类似的事，你能举例说说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141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亡羊补牢，未为迟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4040" y="2565360"/>
            <a:ext cx="33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Arial"/>
              </a:rPr>
              <a:t>寓  窟   窿  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44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做错了事，只要肯接受意见，认真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1989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349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342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8280" y="263700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3080" y="1989000"/>
            <a:ext cx="578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窟    窿    叼    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08464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720" y="126828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读边想养羊人丢了一只羊，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会丢第二只羊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4560" y="3933720"/>
            <a:ext cx="25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羊圈破了个窟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4040" y="4941720"/>
            <a:ext cx="23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听街坊劝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来羊圈破了个窟窿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157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7064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窟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448560"/>
            <a:ext cx="81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5724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赶快把羊圈修一修，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那个窟窿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：“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羊圈干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229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少了一只。原来狼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00000" y="5157720"/>
            <a:ext cx="78487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后悔，不该不接受街坊的劝告，心想，现在修还不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32640" y="544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55306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f612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窟窿，把羊圈修得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61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从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的羊</a:t>
            </a: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再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6:00:29Z</dcterms:created>
  <dc:creator>Administrators</dc:creator>
  <dc:description/>
  <dc:language>en-US</dc:language>
  <cp:lastModifiedBy>User</cp:lastModifiedBy>
  <dcterms:modified xsi:type="dcterms:W3CDTF">2014-12-04T14:29:01Z</dcterms:modified>
  <cp:revision>25</cp:revision>
  <dc:subject/>
  <dc:title>幻灯片 1</dc:title>
</cp:coreProperties>
</file>