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0.gif" ContentType="image/gif"/>
  <Override PartName="/ppt/media/image8.jpeg" ContentType="image/jpeg"/>
  <Override PartName="/ppt/media/image11.png" ContentType="image/png"/>
  <Override PartName="/ppt/media/image19.jpeg" ContentType="image/jpeg"/>
  <Override PartName="/ppt/media/image17.gif" ContentType="image/gif"/>
  <Override PartName="/ppt/media/image2.jpeg" ContentType="image/jpeg"/>
  <Override PartName="/ppt/media/image15.jpeg" ContentType="image/jpeg"/>
  <Override PartName="/ppt/media/image1.gif" ContentType="image/gif"/>
  <Override PartName="/ppt/media/image7.png" ContentType="image/png"/>
  <Override PartName="/ppt/media/image6.png" ContentType="image/png"/>
  <Override PartName="/ppt/media/image3.gif" ContentType="image/gif"/>
  <Override PartName="/ppt/media/image4.jpeg" ContentType="image/jpeg"/>
  <Override PartName="/ppt/media/image13.gif" ContentType="image/gif"/>
  <Override PartName="/ppt/media/image16.png" ContentType="image/png"/>
  <Override PartName="/ppt/media/image18.wmf" ContentType="image/x-wmf"/>
  <Override PartName="/ppt/media/image5.jpeg" ContentType="image/jpe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1BF1-A5D6-47A0-973C-B0FA1DA45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9C46-9478-4C55-8ECF-517AEA32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72AF-CCDF-4EDA-871B-B1958D250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6F81-5F81-4039-AB2E-E492A69B0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8D00-1DF1-45E9-9389-14329663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D163-8759-4FAC-8C8F-BB56E0FE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5223-DE77-4B23-8305-3C934915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5CE9-9301-47B2-BEAA-2A70A493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3477-62AD-4798-A42C-D11EBC86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67C3-2EBA-4DC7-9203-7BABAA94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167C-24D3-4D12-B765-19C75D5C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3B57-6E3C-4178-B656-5265E33D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8904-4059-41E9-8B4F-17F37B4F5E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8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24000" y="4292640"/>
            <a:ext cx="8496000" cy="24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c99ff"/>
                </a:solidFill>
                <a:latin typeface="华文新魏"/>
              </a:rPr>
              <a:t>大家好！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cc99ff"/>
              </a:solidFill>
              <a:latin typeface="华文新魏"/>
              <a:ea typeface="华文新魏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145440" cy="6912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4360" y="1916280"/>
            <a:ext cx="77752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ff33cc"/>
                </a:solidFill>
                <a:latin typeface="Arial"/>
              </a:rPr>
              <a:t>街坊劝他说：“赶快把羊圈修一修，堵上那个窟窿吧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3333ff"/>
                </a:solidFill>
                <a:latin typeface="Arial"/>
              </a:rPr>
              <a:t>他说：“羊已经丢了，还修羊圈干什么呢？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0" y="692280"/>
            <a:ext cx="3672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读一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8360" y="1790640"/>
            <a:ext cx="856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他很后悔，不该不接受街坊的劝告，心想，现在修还不晚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3301920"/>
            <a:ext cx="871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他赶快堵上那个窟窿，把羊圈修得结结实实的。从此，他的羊再也没丢过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6480" y="4772160"/>
            <a:ext cx="144360" cy="14436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51280" y="4772160"/>
            <a:ext cx="144360" cy="14436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27640" y="4757760"/>
            <a:ext cx="144360" cy="14436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4743360"/>
            <a:ext cx="144720" cy="14472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36960" y="4008600"/>
            <a:ext cx="144360" cy="14436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14760" y="3994200"/>
            <a:ext cx="144720" cy="14436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629080" y="360360"/>
            <a:ext cx="4319280" cy="1825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600360" y="1486080"/>
            <a:ext cx="252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00"/>
                </a:solidFill>
                <a:latin typeface="Arial"/>
                <a:ea typeface="楷体_GB2312"/>
              </a:rPr>
              <a:t>小辩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26920" y="2494080"/>
            <a:ext cx="1209960" cy="1511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-58651920" y="-84348720"/>
            <a:ext cx="15321240" cy="13757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900000" y="4365720"/>
            <a:ext cx="1216080" cy="1092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411280" y="4438800"/>
            <a:ext cx="644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8000"/>
                </a:solidFill>
                <a:latin typeface="Arial"/>
              </a:rPr>
              <a:t>我不喜欢养羊人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2781360"/>
            <a:ext cx="565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ff"/>
                </a:solidFill>
                <a:latin typeface="Arial"/>
              </a:rPr>
              <a:t>我喜欢养羊人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ee6"/>
          </a:solidFill>
          <a:ln w="9360">
            <a:solidFill>
              <a:srgbClr val="fafd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3132000" cy="2349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0" t="39189" r="0" b="0"/>
          <a:stretch/>
        </p:blipFill>
        <p:spPr>
          <a:xfrm>
            <a:off x="0" y="4654440"/>
            <a:ext cx="3132000" cy="2230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0" t="0" r="0" b="9196"/>
          <a:stretch/>
        </p:blipFill>
        <p:spPr>
          <a:xfrm>
            <a:off x="0" y="2448000"/>
            <a:ext cx="3132000" cy="2133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276720" y="1628640"/>
            <a:ext cx="558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Arial"/>
              </a:rPr>
              <a:t>       </a:t>
            </a:r>
            <a:r>
              <a:rPr b="0" lang="zh-CN" sz="6000" spc="-1" strike="noStrike">
                <a:solidFill>
                  <a:srgbClr val="ff33cc"/>
                </a:solidFill>
                <a:latin typeface="Arial"/>
              </a:rPr>
              <a:t>这些窟窿就像是我们同学身上的缺点，又该怎么办呢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19648800">
            <a:off x="601200" y="3693960"/>
            <a:ext cx="4176720" cy="208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96120" y="6553080"/>
            <a:ext cx="34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Http://www.21jiao.n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10091" r="0" b="0"/>
          <a:stretch/>
        </p:blipFill>
        <p:spPr>
          <a:xfrm>
            <a:off x="1332000" y="0"/>
            <a:ext cx="65167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rot="4755600">
            <a:off x="1824840" y="3510360"/>
            <a:ext cx="3121200" cy="1084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 rot="16200000">
            <a:off x="2159640" y="2817000"/>
            <a:ext cx="4105440" cy="144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0" t="37309" r="0" b="0"/>
          <a:stretch/>
        </p:blipFill>
        <p:spPr>
          <a:xfrm>
            <a:off x="0" y="4869000"/>
            <a:ext cx="2711520" cy="198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rcRect l="9222" t="0" r="0" b="20270"/>
          <a:stretch/>
        </p:blipFill>
        <p:spPr>
          <a:xfrm>
            <a:off x="6300720" y="4984920"/>
            <a:ext cx="2843280" cy="1873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24000" y="1969920"/>
            <a:ext cx="5472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0" spc="-1" strike="noStrike">
                <a:solidFill>
                  <a:srgbClr val="3333ff"/>
                </a:solidFill>
                <a:latin typeface="Arial"/>
              </a:rPr>
              <a:t>窟 窿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92360" y="804960"/>
            <a:ext cx="1873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33cc"/>
                </a:solidFill>
                <a:latin typeface="Arial"/>
              </a:rPr>
              <a:t>kū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1440" y="804960"/>
            <a:ext cx="3635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33cc"/>
                </a:solidFill>
                <a:latin typeface="Arial"/>
              </a:rPr>
              <a:t>lon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7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5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395280" y="549360"/>
                <a:ext cx="8280360" cy="71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5400000">
                <a:off x="-71640" y="3176280"/>
                <a:ext cx="5472000" cy="79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1187280" y="0"/>
              <a:ext cx="360072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 txBox="1"/>
            <p:nvPr/>
          </p:nvSpPr>
          <p:spPr>
            <a:xfrm>
              <a:off x="1374840" y="231840"/>
              <a:ext cx="3168720" cy="51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黑体"/>
                </a:rPr>
                <a:t>识字乐园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黑体"/>
                <a:ea typeface="黑体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468360" y="1700280"/>
            <a:ext cx="7993080" cy="40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33ff"/>
                </a:solidFill>
                <a:latin typeface="Arial"/>
              </a:rPr>
              <a:t>羊圈   窟窿   叼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33ff"/>
                </a:solidFill>
                <a:latin typeface="Arial"/>
              </a:rPr>
              <a:t>街坊   劝告   后悔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100188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juàn    kū long   diā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70828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364500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jiē fang  quàn              hu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-7920" y="12600"/>
            <a:ext cx="9144000" cy="6858000"/>
            <a:chOff x="-7920" y="12600"/>
            <a:chExt cx="9144000" cy="6858000"/>
          </a:xfrm>
        </p:grpSpPr>
        <p:grpSp>
          <p:nvGrpSpPr>
            <p:cNvPr id="68" name=""/>
            <p:cNvGrpSpPr/>
            <p:nvPr/>
          </p:nvGrpSpPr>
          <p:grpSpPr>
            <a:xfrm>
              <a:off x="-7920" y="12600"/>
              <a:ext cx="9144000" cy="6858000"/>
              <a:chOff x="-7920" y="12600"/>
              <a:chExt cx="9144000" cy="6858000"/>
            </a:xfrm>
          </p:grpSpPr>
          <p:pic>
            <p:nvPicPr>
              <p:cNvPr id="6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-7920" y="12600"/>
                <a:ext cx="9144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"/>
              <p:cNvSpPr/>
              <p:nvPr/>
            </p:nvSpPr>
            <p:spPr>
              <a:xfrm>
                <a:off x="387360" y="561960"/>
                <a:ext cx="8280360" cy="71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5400000">
                <a:off x="-79560" y="3188880"/>
                <a:ext cx="5472000" cy="79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1179360" y="12600"/>
              <a:ext cx="360072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 txBox="1"/>
            <p:nvPr/>
          </p:nvSpPr>
          <p:spPr>
            <a:xfrm>
              <a:off x="1366920" y="244440"/>
              <a:ext cx="3168720" cy="51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黑体"/>
                </a:rPr>
                <a:t>识字乐园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黑体"/>
                <a:ea typeface="黑体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60440" y="1712880"/>
            <a:ext cx="7993080" cy="40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33ff"/>
                </a:solidFill>
                <a:latin typeface="Arial"/>
              </a:rPr>
              <a:t>羊圈   窟窿   叼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33ff"/>
                </a:solidFill>
                <a:latin typeface="Arial"/>
              </a:rPr>
              <a:t>街坊   劝告   后悔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 rot="3519600">
            <a:off x="4707000" y="4085640"/>
            <a:ext cx="1114560" cy="10969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68360" y="549360"/>
            <a:ext cx="655164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294680" y="403200"/>
            <a:ext cx="176364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9900"/>
                </a:solidFill>
                <a:latin typeface="华文新魏"/>
              </a:rPr>
              <a:t>读一读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9900"/>
              </a:solidFill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9900"/>
                </a:solidFill>
                <a:latin typeface="华文新魏"/>
              </a:rPr>
              <a:t>想一想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9900"/>
              </a:solidFill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9900"/>
                </a:solidFill>
                <a:latin typeface="华文新魏"/>
              </a:rPr>
              <a:t>议一议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9900"/>
              </a:solidFill>
              <a:latin typeface="华文新魏"/>
              <a:ea typeface="华文新魏"/>
            </a:endParaRPr>
          </a:p>
        </p:txBody>
      </p:sp>
      <p:sp>
        <p:nvSpPr>
          <p:cNvPr id="80" name=""/>
          <p:cNvSpPr/>
          <p:nvPr/>
        </p:nvSpPr>
        <p:spPr>
          <a:xfrm>
            <a:off x="3132000" y="112536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Arial"/>
              </a:rPr>
              <a:t>我们一起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476360" y="54936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2556000" y="41497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539640" y="2349360"/>
            <a:ext cx="792360" cy="747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332000" y="2205000"/>
            <a:ext cx="60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ff"/>
                </a:solidFill>
                <a:latin typeface="Arial"/>
              </a:rPr>
              <a:t>我用     表示明白的地方，我愿意告诉你。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525600" y="4105440"/>
            <a:ext cx="792000" cy="747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258920" y="4005360"/>
            <a:ext cx="60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我用    表示我不懂的问题，我需要你的帮助。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2492280"/>
            <a:ext cx="936720" cy="216000"/>
          </a:xfrm>
          <a:custGeom>
            <a:avLst/>
            <a:gdLst/>
            <a:ahLst/>
            <a:rect l="l" t="t" r="r" b="b"/>
            <a:pathLst>
              <a:path w="590" h="136">
                <a:moveTo>
                  <a:pt x="0" y="136"/>
                </a:moveTo>
                <a:cubicBezTo>
                  <a:pt x="11" y="68"/>
                  <a:pt x="23" y="0"/>
                  <a:pt x="46" y="0"/>
                </a:cubicBezTo>
                <a:cubicBezTo>
                  <a:pt x="69" y="0"/>
                  <a:pt x="113" y="136"/>
                  <a:pt x="136" y="136"/>
                </a:cubicBezTo>
                <a:cubicBezTo>
                  <a:pt x="159" y="136"/>
                  <a:pt x="159" y="0"/>
                  <a:pt x="182" y="0"/>
                </a:cubicBezTo>
                <a:cubicBezTo>
                  <a:pt x="205" y="0"/>
                  <a:pt x="249" y="136"/>
                  <a:pt x="272" y="136"/>
                </a:cubicBezTo>
                <a:cubicBezTo>
                  <a:pt x="295" y="136"/>
                  <a:pt x="295" y="0"/>
                  <a:pt x="318" y="0"/>
                </a:cubicBezTo>
                <a:cubicBezTo>
                  <a:pt x="341" y="0"/>
                  <a:pt x="386" y="136"/>
                  <a:pt x="409" y="136"/>
                </a:cubicBezTo>
                <a:cubicBezTo>
                  <a:pt x="432" y="136"/>
                  <a:pt x="431" y="0"/>
                  <a:pt x="454" y="0"/>
                </a:cubicBezTo>
                <a:cubicBezTo>
                  <a:pt x="477" y="0"/>
                  <a:pt x="522" y="136"/>
                  <a:pt x="545" y="136"/>
                </a:cubicBezTo>
                <a:cubicBezTo>
                  <a:pt x="568" y="136"/>
                  <a:pt x="583" y="23"/>
                  <a:pt x="59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3T12:55:05Z</dcterms:created>
  <dc:creator>李华</dc:creator>
  <dc:description/>
  <dc:language>en-US</dc:language>
  <cp:lastModifiedBy>User</cp:lastModifiedBy>
  <dcterms:modified xsi:type="dcterms:W3CDTF">2014-12-04T14:28:29Z</dcterms:modified>
  <cp:revision>14</cp:revision>
  <dc:subject/>
  <dc:title>幻灯片 1</dc:title>
</cp:coreProperties>
</file>