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E70A-664C-4D6B-89E3-C63EF742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7D4-4A3A-431C-A3DD-82750A1F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D3BF-C636-432D-8AE7-00260A9A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979-53B7-46C9-84A9-7AD11D91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4031-C34B-4E7C-93B6-2251193C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5130-10FF-4F43-853D-59A902C2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201-8B0A-4227-A788-02D402EF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09D2-F9F4-49B4-BB6A-4CBF06AB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6D37-07BC-4FBD-B043-7467F487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092D-91F6-4A73-AF4C-5224F56D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7030-879D-4987-896E-4BD67E24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DC73-A6E4-4B28-9175-D8B8E0D4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0A53-B2CB-4D37-B2EC-253C9686D78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C1B7-4A0E-453F-9B95-BEDF25697F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90480" y="692280"/>
            <a:ext cx="2618280" cy="55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草堂留后世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诗圣著千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          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朱  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9000" y="620640"/>
            <a:ext cx="32277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世上疮痍，诗中圣哲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民间疾苦，笔底波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         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郭沫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 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021B5-CE0A-4BA5-B85F-8C5669CD9F81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30840" y="1190520"/>
            <a:ext cx="1060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3300"/>
                </a:solidFill>
                <a:latin typeface="Arial"/>
              </a:rPr>
              <a:t>会当凌绝顶，一览众山小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844640"/>
            <a:ext cx="83516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这是化用孔子的名言：“登泰山而小天下”。但用在这里却有深刻的含义：它不止是诗人要攀登泰山极顶的誓言，也是诗人要攀登人生顶峰的誓言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Arial"/>
                <a:ea typeface="黑体"/>
              </a:rPr>
              <a:t>《望          岳》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黑体"/>
              </a:rPr>
              <a:t>——</a:t>
            </a: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黑体"/>
              </a:rPr>
              <a:t>杜甫（</a:t>
            </a: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黑体"/>
              </a:rPr>
              <a:t>736</a:t>
            </a: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黑体"/>
              </a:rPr>
              <a:t>年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59280" y="3645000"/>
            <a:ext cx="2304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3300"/>
                </a:solidFill>
                <a:latin typeface="Arial"/>
              </a:rPr>
              <a:t>体悟诗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422100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诗人热情地赞美了泰山高大雄伟的气势和神奇秀丽的景色，流露出对祖国河山的热爱之情，也透露了诗人早年的远大抱负。这首诗也告诉我们，一个人要有不怕困难勇于吃苦的精神，要有敢于攀登人生顶峰的雄心壮志，要有藐视一切的英雄气概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846920" y="115920"/>
            <a:ext cx="1297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 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EE6D9-4F3A-4C86-82DF-41B63E0958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349440" y="765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有关“泰山”的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00000" y="1843200"/>
            <a:ext cx="8244000" cy="4566240"/>
            <a:chOff x="900000" y="1843200"/>
            <a:chExt cx="8244000" cy="4566240"/>
          </a:xfrm>
        </p:grpSpPr>
        <p:sp>
          <p:nvSpPr>
            <p:cNvPr id="100" name=""/>
            <p:cNvSpPr/>
            <p:nvPr/>
          </p:nvSpPr>
          <p:spPr>
            <a:xfrm>
              <a:off x="900000" y="1844640"/>
              <a:ext cx="374508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登东山而小鲁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登泰山而小天下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                                          ——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孔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0" y="4365720"/>
              <a:ext cx="43927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岱宗何崔嵬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群山无与比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             ——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贾鲁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08360" y="1843200"/>
              <a:ext cx="4535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峨峨东岳高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秀极冲青天。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            ——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晋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谢道韫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000" y="4365720"/>
              <a:ext cx="38163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泰山一何高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迢迢造天庭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                                          ——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晋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陆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 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690FA-7C21-4FD5-BA96-7234F994AF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00000" y="54936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与“泰山”有关的成语、俗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268280"/>
            <a:ext cx="81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人心齐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泰山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有眼不识泰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重如泰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老泰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泰山北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一叶幛目，不见泰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泰山压顶不弯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泰山不让微尘，故能成其大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河海不择细流，故能成其深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24720" y="6165720"/>
            <a:ext cx="136836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3440" y="1252440"/>
            <a:ext cx="81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心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泰山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眼不识泰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如泰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老泰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泰山北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叶幛目，不见泰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泰山压顶不弯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泰山不让微尘，故能成其大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河海不择细流，故能成其深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 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174D3-5C02-4C29-843E-7A188694A9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2712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58920" y="1197000"/>
            <a:ext cx="6696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作业布置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2637000"/>
            <a:ext cx="727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一、背诵默写全诗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二、完成课后一（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）小题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三、预习本课其余两首诗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 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DD26A-6977-48E0-8946-C3BE46AA8B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268360" y="2421000"/>
            <a:ext cx="410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谢 谢 指 导！</a:t>
            </a:r>
            <a:endParaRPr b="0" lang="en-US" sz="6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4720" y="429264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课件制作：罗永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 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EE4A7-398E-4055-AB51-B71F82E4B0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1970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望          岳</a:t>
            </a:r>
            <a:br>
              <a:rPr sz="5000"/>
            </a:b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— 杜    甫（</a:t>
            </a: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736</a:t>
            </a: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年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84360" y="5516640"/>
            <a:ext cx="4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539640" y="4581360"/>
            <a:ext cx="2016360" cy="79092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 action="ppaction://hlinksldjump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661000"/>
            <a:ext cx="2016360" cy="90000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3" action="ppaction://hlinksldjump"/>
              </a:rPr>
              <a:t>写作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5734080"/>
            <a:ext cx="2016000" cy="79200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Arial"/>
                <a:ea typeface="隶书"/>
              </a:rPr>
              <a:t>品味鉴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360" y="4653000"/>
            <a:ext cx="2016360" cy="79056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Arial"/>
                <a:ea typeface="隶书"/>
              </a:rPr>
              <a:t>诗歌朗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43640" y="4724280"/>
            <a:ext cx="2016000" cy="79236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Arial"/>
                <a:ea typeface="隶书"/>
              </a:rPr>
              <a:t>拓展延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5734080"/>
            <a:ext cx="2016000" cy="79200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Arial"/>
                <a:ea typeface="隶书"/>
              </a:rPr>
              <a:t>作业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970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望          岳</a:t>
            </a:r>
            <a:br>
              <a:rPr sz="7200"/>
            </a:b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    — 杜    甫（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736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 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EF7E4-FC23-4ACA-A6B8-490F301A0E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32360" y="1916280"/>
            <a:ext cx="4067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字子美，自称少陵野老，后人称杜少陵。自唐以来，他的诗歌被公认为“诗史”，他本人也被称为“诗圣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101080" y="6308640"/>
            <a:ext cx="863640" cy="549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32360" y="907920"/>
            <a:ext cx="40672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杜   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隶书"/>
                <a:ea typeface="隶书"/>
              </a:rPr>
              <a:t>（</a:t>
            </a:r>
            <a:r>
              <a:rPr b="1" lang="zh-CN" sz="1600" spc="-1" strike="noStrike">
                <a:solidFill>
                  <a:srgbClr val="0000ff"/>
                </a:solidFill>
                <a:latin typeface="隶书"/>
                <a:ea typeface="隶书"/>
              </a:rPr>
              <a:t>712</a:t>
            </a:r>
            <a:r>
              <a:rPr b="1" lang="zh-CN" sz="1600" spc="-1" strike="noStrike">
                <a:solidFill>
                  <a:srgbClr val="0000ff"/>
                </a:solidFill>
                <a:latin typeface="隶书"/>
                <a:ea typeface="隶书"/>
              </a:rPr>
              <a:t>年—</a:t>
            </a:r>
            <a:r>
              <a:rPr b="1" lang="zh-CN" sz="1600" spc="-1" strike="noStrike">
                <a:solidFill>
                  <a:srgbClr val="0000ff"/>
                </a:solidFill>
                <a:latin typeface="隶书"/>
                <a:ea typeface="隶书"/>
              </a:rPr>
              <a:t>770</a:t>
            </a:r>
            <a:r>
              <a:rPr b="1" lang="zh-CN" sz="1600" spc="-1" strike="noStrike">
                <a:solidFill>
                  <a:srgbClr val="0000ff"/>
                </a:solidFill>
                <a:latin typeface="隶书"/>
                <a:ea typeface="隶书"/>
              </a:rPr>
              <a:t>年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 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21733-6550-49C2-9518-1EC71B126EE5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0" y="476280"/>
            <a:ext cx="45720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主要代表诗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101080" y="6308640"/>
            <a:ext cx="863640" cy="549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981000"/>
            <a:ext cx="457200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《茅屋为秋风所破歌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《闻官军收河南河北》 《春            望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 “</a:t>
            </a: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三吏”： 《新安吏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          </a:t>
            </a: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《潼关吏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          </a:t>
            </a: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《石壕吏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 “</a:t>
            </a: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三别”： 《新婚别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          </a:t>
            </a: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《垂老别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          </a:t>
            </a: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《无家别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 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BC2B1-5DD6-4401-83DD-0B5CDAC239ED}" type="datetime1">
              <a:rPr lang="en-US"/>
              <a:t>07/31/26</a:t>
            </a:fld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476280"/>
            <a:ext cx="68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写作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64360" y="6426360"/>
            <a:ext cx="1079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25360"/>
            <a:ext cx="6877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Arial"/>
                <a:ea typeface="隶书"/>
              </a:rPr>
              <a:t>        </a:t>
            </a:r>
            <a:r>
              <a:rPr b="0" lang="zh-CN" sz="3300" spc="-1" strike="noStrike">
                <a:solidFill>
                  <a:srgbClr val="ffffff"/>
                </a:solidFill>
                <a:latin typeface="Arial"/>
                <a:ea typeface="隶书"/>
              </a:rPr>
              <a:t>这首诗歌写于</a:t>
            </a:r>
            <a:r>
              <a:rPr b="0" lang="zh-CN" sz="3300" spc="-1" strike="noStrike">
                <a:solidFill>
                  <a:srgbClr val="ffffff"/>
                </a:solidFill>
                <a:latin typeface="Arial"/>
                <a:ea typeface="隶书"/>
              </a:rPr>
              <a:t>736</a:t>
            </a:r>
            <a:r>
              <a:rPr b="0" lang="zh-CN" sz="3300" spc="-1" strike="noStrike">
                <a:solidFill>
                  <a:srgbClr val="ffffff"/>
                </a:solidFill>
                <a:latin typeface="Arial"/>
                <a:ea typeface="隶书"/>
              </a:rPr>
              <a:t>年，属于杜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Arial"/>
                <a:ea typeface="隶书"/>
              </a:rPr>
              <a:t>甫创作历程中的漫游时期。</a:t>
            </a:r>
            <a:r>
              <a:rPr b="0" lang="zh-CN" sz="3300" spc="-1" strike="noStrike">
                <a:solidFill>
                  <a:srgbClr val="ffffff"/>
                </a:solidFill>
                <a:latin typeface="Arial"/>
                <a:ea typeface="隶书"/>
              </a:rPr>
              <a:t>20</a:t>
            </a:r>
            <a:r>
              <a:rPr b="0" lang="zh-CN" sz="3300" spc="-1" strike="noStrike">
                <a:solidFill>
                  <a:srgbClr val="ffffff"/>
                </a:solidFill>
                <a:latin typeface="Arial"/>
                <a:ea typeface="隶书"/>
              </a:rPr>
              <a:t>岁后，诗人开始了他的漫游生活。他南游吴越，北越齐赵，饱览了祖国壮丽的河山，开阔了他的视野和心胸，并在洛阳与李白等同时代的著名诗人结为肝胆相照的的朋友，这个时期的生活和创作。具有浓厚的浪漫主义色彩和情调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 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C4998-2BC7-4523-98C7-913F369240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4570560" cy="3427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54240" y="-44280"/>
            <a:ext cx="2851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望   岳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4720" y="720720"/>
            <a:ext cx="482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—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杜  甫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736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年）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904000" y="211788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造化钟神秀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阴阳割昏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675640" y="6524640"/>
            <a:ext cx="468360" cy="3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-100080"/>
            <a:ext cx="2851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望   岳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1640" y="677880"/>
            <a:ext cx="482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—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杜  甫（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736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年）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39640" y="3429000"/>
            <a:ext cx="3476880" cy="1319400"/>
            <a:chOff x="539640" y="3429000"/>
            <a:chExt cx="3476880" cy="1319400"/>
          </a:xfrm>
        </p:grpSpPr>
        <p:sp>
          <p:nvSpPr>
            <p:cNvPr id="74" name=""/>
            <p:cNvSpPr/>
            <p:nvPr/>
          </p:nvSpPr>
          <p:spPr>
            <a:xfrm>
              <a:off x="558720" y="3435480"/>
              <a:ext cx="3457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荡胸生层云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决眦入归鸟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9640" y="3429000"/>
              <a:ext cx="3457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荡胸生层云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决眦入归鸟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68360" y="2133720"/>
            <a:ext cx="3330000" cy="1320840"/>
            <a:chOff x="468360" y="2133720"/>
            <a:chExt cx="3330000" cy="1320840"/>
          </a:xfrm>
        </p:grpSpPr>
        <p:sp>
          <p:nvSpPr>
            <p:cNvPr id="77" name=""/>
            <p:cNvSpPr/>
            <p:nvPr/>
          </p:nvSpPr>
          <p:spPr>
            <a:xfrm>
              <a:off x="485640" y="2141640"/>
              <a:ext cx="3312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岱宗夫如何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齐鲁青未了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8360" y="2133720"/>
              <a:ext cx="3312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岱宗夫如何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齐鲁青未了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256360" y="3500280"/>
            <a:ext cx="3906720" cy="1330560"/>
            <a:chOff x="5256360" y="3500280"/>
            <a:chExt cx="3906720" cy="1330560"/>
          </a:xfrm>
        </p:grpSpPr>
        <p:sp>
          <p:nvSpPr>
            <p:cNvPr id="80" name=""/>
            <p:cNvSpPr/>
            <p:nvPr/>
          </p:nvSpPr>
          <p:spPr>
            <a:xfrm>
              <a:off x="5275440" y="3517920"/>
              <a:ext cx="3887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会当凌绝顶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一览众山小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6360" y="3500280"/>
              <a:ext cx="3887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会当凌绝顶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一览众山小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 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761E2-407C-4344-B72A-1A5ABC794B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92360" y="1700280"/>
            <a:ext cx="62658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岱宗夫如何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?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齐鲁青未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2781360"/>
            <a:ext cx="80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乍一望见泰山时，那种欣喜、惊叹、仰慕的情形，非常传神！这里，诗人想说的是，你想知道泰山是个什么样子吗？请看，它那苍翠的山色掩映着辽阔无边的齐鲁大平原。这是借齐鲁两地来烘托泰山那拔地而起、参天耸立的形象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Arial"/>
                <a:ea typeface="黑体"/>
              </a:rPr>
              <a:t>《望          岳》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黑体"/>
              </a:rPr>
              <a:t>——</a:t>
            </a: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黑体"/>
              </a:rPr>
              <a:t>杜甫（</a:t>
            </a: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黑体"/>
              </a:rPr>
              <a:t>736</a:t>
            </a: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黑体"/>
              </a:rPr>
              <a:t>年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 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01A6F-8B28-4C74-B5D2-0C8598E598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32000" y="134136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造化钟神秀，阴阳割昏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163600"/>
            <a:ext cx="91440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这是近望所见。上句写泰山的秀美，用的是虚笔。为什么要用虚笔？因为泰山的秀美实在是一言难尽，不如只写造物主对泰山情有独钟，这是诗人的强烈感受，是泰山的秀美在诗人心灵上的折光反映。下句写泰山的高大，这是实写。“阴阳”分指山的南、北两面，山南先得日光，故易晓；山北日光不到，在晓犹昏。“割”字炼得极好，从山的北面来看，那照临下土的阳光就像被一把硕大无朋的刀切断了一样，突出了泰山遮天蔽日的形象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Arial"/>
                <a:ea typeface="黑体"/>
              </a:rPr>
              <a:t>《望          岳》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黑体"/>
              </a:rPr>
              <a:t>——</a:t>
            </a: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黑体"/>
              </a:rPr>
              <a:t>杜甫（</a:t>
            </a: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黑体"/>
              </a:rPr>
              <a:t>736</a:t>
            </a: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黑体"/>
              </a:rPr>
              <a:t>年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 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9C84D-6B23-4F34-92F4-7FD397BA06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19280" y="184464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荡胸生层云，决眦入归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8526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的是实景，乃细望所见。泰山极高，白日里可以望见山腰间的团团云气，层出不穷；又极幽深，黄昏时可以望见归巢的鸟儿渐渐隐入山谷之中。诗人抓住这两个景物细节表达了心情的激荡和眼界的空阔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Arial"/>
                <a:ea typeface="黑体"/>
              </a:rPr>
              <a:t>《望          岳》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黑体"/>
              </a:rPr>
              <a:t>——</a:t>
            </a: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黑体"/>
              </a:rPr>
              <a:t>杜甫（</a:t>
            </a: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黑体"/>
              </a:rPr>
              <a:t>736</a:t>
            </a: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黑体"/>
              </a:rPr>
              <a:t>年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 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E3E00-A6ED-41C7-9D6A-EB061D808F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01:32:01Z</dcterms:created>
  <dc:creator>微软用户</dc:creator>
  <dc:description/>
  <dc:language>en-US</dc:language>
  <cp:lastModifiedBy>999宝藏网</cp:lastModifiedBy>
  <dcterms:modified xsi:type="dcterms:W3CDTF">2010-11-04T01:18:08Z</dcterms:modified>
  <cp:revision>24</cp:revision>
  <dc:subject/>
  <dc:title>望   岳</dc:title>
</cp:coreProperties>
</file>