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01B-E683-434A-A497-E9F50C82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62F-2402-4733-905C-9F5C87DA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DAE-2813-43A0-9609-84045E5C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213-D4B7-405F-A24A-8772421E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D75-42C0-4251-92F2-393B96B4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483-77C6-4C33-A19A-F1DF8ED3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0A0-0783-4F0F-B5AE-DA45EC4B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953-1226-4F61-A4DE-917FF3C6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073-141F-4C56-8068-F4019EB0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A08-F12F-48A3-80F7-5306CDA1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001-26A9-43DE-A820-407D838B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924-22FC-4ECD-B1A5-90DDB859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B972-1BA5-40D4-9EF8-E30F6E264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矩形 5" descr=""/>
          <p:cNvPicPr/>
          <p:nvPr/>
        </p:nvPicPr>
        <p:blipFill>
          <a:blip r:embed="rId2"/>
          <a:stretch/>
        </p:blipFill>
        <p:spPr>
          <a:xfrm>
            <a:off x="3043080" y="5948280"/>
            <a:ext cx="314352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133640"/>
            <a:ext cx="9144000" cy="458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1214280"/>
            <a:ext cx="9144000" cy="442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160640"/>
            <a:ext cx="9144000" cy="453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6"/>
          <p:cNvSpPr/>
          <p:nvPr/>
        </p:nvSpPr>
        <p:spPr>
          <a:xfrm>
            <a:off x="5076720" y="2492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1150920"/>
            <a:ext cx="9144000" cy="455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1192320"/>
            <a:ext cx="9144000" cy="4473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177920"/>
            <a:ext cx="9144000" cy="45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1219320"/>
            <a:ext cx="9144000" cy="441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1209600"/>
            <a:ext cx="9144000" cy="4437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2:00:51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10-19T04:52:44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  <property fmtid="{D5CDD505-2E9C-101B-9397-08002B2CF9AE}" pid="3" name="NXTAG2">
    <vt:lpwstr>0008006009000000000001024120</vt:lpwstr>
  </property>
</Properties>
</file>