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BC6-1610-45E4-9D1E-955F5EC6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197-C206-429E-976B-2A341E43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7D8-E96D-4F7F-BF86-B1088789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691-D08D-447E-B242-9CEC8BD3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D52-B3EB-4DEE-A0FB-0C341B1F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1083-82F9-4609-808B-B24D7F31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0DE-A4F7-4008-B2F6-0808662E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60E-1EC5-47F8-BDDC-F8E899C7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55B-60A2-4CB8-B523-6F7AA1A7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A62-19FB-40E9-8620-DE99FCB0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1D8-0743-4332-9D8F-33E7526A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046-2D5F-43BA-BFF8-4C58A0B5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DC71-8EFC-4C96-864C-9AD97FC67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kejianhome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、文成公主进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226960" y="5942160"/>
            <a:ext cx="302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6937200" y="630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476280"/>
            <a:ext cx="8507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成公主知书达理，不畏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险，远嫁吐蕃，为促进唐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蕃之间经济文化交流，增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汉藏两族人民亲密友好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关系做出了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历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性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藏族人民热爱美丽的文成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，把她当成神一样崇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因此，民间流传着许多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于文成公主进藏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今天，我们要读的，是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一个故事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1787185317251198"/>
          <p:cNvPicPr/>
          <p:nvPr/>
        </p:nvPicPr>
        <p:blipFill>
          <a:blip r:embed="rId2"/>
          <a:stretch/>
        </p:blipFill>
        <p:spPr>
          <a:xfrm>
            <a:off x="4932360" y="333360"/>
            <a:ext cx="4116240" cy="5832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字词质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使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碰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隆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908000" y="1700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由一个国家派驻在另一个国家的外交代表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或由一个国派遣到另一个国家去办理事务的代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908000" y="2852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刚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835280" y="407664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盛大庄重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课文按什么顺序写文成公主进藏的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求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547640" y="177336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484360" y="1484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接见使臣考智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5651640" y="17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6516720" y="1484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允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7667640" y="17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68360" y="2708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进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1476360" y="299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484360" y="270828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给西藏带去了先进的生产技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0" y="242100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0,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文成公主进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476360" y="765000"/>
            <a:ext cx="45864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1692360" y="620640"/>
            <a:ext cx="287280" cy="4897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7440 h 4897440"/>
              <a:gd name="textAreaBottom" fmla="*/ 4770000 h 48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050920" y="404640"/>
            <a:ext cx="25196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</a:rPr>
              <a:t>求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</a:rPr>
              <a:t>接见使臣考智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</a:rPr>
              <a:t>允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</a:rPr>
              <a:t>进藏途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</a:rPr>
              <a:t>给西藏带去了生产技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4356000" y="765000"/>
            <a:ext cx="289080" cy="863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644"/>
                </a:lnTo>
                <a:cubicBezTo>
                  <a:pt x="10800" y="9544"/>
                  <a:pt x="5400" y="10443"/>
                  <a:pt x="0" y="10443"/>
                </a:cubicBezTo>
                <a:cubicBezTo>
                  <a:pt x="5400" y="10443"/>
                  <a:pt x="10800" y="11343"/>
                  <a:pt x="10800" y="12242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4788000" y="692280"/>
            <a:ext cx="208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辩认马母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识别公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3348000" y="2997360"/>
            <a:ext cx="360360" cy="201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52200 h 2016000"/>
              <a:gd name="textAreaBottom" fmla="*/ 196380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708360" y="2781360"/>
            <a:ext cx="3888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,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河挡住去路，树干搭桥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,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沼泽地撒羊毛，走过去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,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恶乌鸦谎报，修石头房子纪念松赞干布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d,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背走乃巴山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02:45:10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7-10-18T01:48:11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</Properties>
</file>