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33.gif" ContentType="image/gif"/>
  <Override PartName="/ppt/media/image21.jpeg" ContentType="image/jpeg"/>
  <Override PartName="/ppt/media/image23.png" ContentType="image/png"/>
  <Override PartName="/ppt/media/image20.gif" ContentType="image/gif"/>
  <Override PartName="/ppt/media/image13.png" ContentType="image/png"/>
  <Override PartName="/ppt/media/image19.gif" ContentType="image/gif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0.gif" ContentType="image/gif"/>
  <Override PartName="/ppt/media/image30.jpeg" ContentType="image/jpeg"/>
  <Override PartName="/ppt/media/image35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31.gif" ContentType="image/gif"/>
  <Override PartName="/ppt/media/image12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36.jpeg" ContentType="image/jpeg"/>
  <Override PartName="/ppt/media/image2.jpeg" ContentType="image/jpe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358-17AF-4E79-AA83-84F901DA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AE5-4AA0-41BF-8360-F3DC8E6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3C1-D4E2-4B9F-AA59-EADDE7AF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0B6-D1C0-452D-B2E5-7F245966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1B7-D382-428A-909B-18314888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138F-A028-4299-8774-1784456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25B1-E07C-4C68-B1E0-EADB4D5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BEEC-D5C6-4CFD-8F42-985C403B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9B6F-D90F-4B8B-9FA6-BC441D54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5D3D-F051-40FD-9238-E43D7AD7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0BE5-5D6C-4262-88C5-61CE311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108-10CE-4D96-97EF-97601385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535-FB87-4182-A9E4-2BEA4E1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12A9-71FB-4ABD-A1CA-D81B872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FEDB-51E6-4A16-9754-CF36509F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871E-1A9C-4E13-A702-AE2825C6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1C2E-B31E-4E4E-8033-0DB55A16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BB2-46C7-48AB-A4D8-67C4F4F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E3D-DC88-4070-9F94-E318934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5A0-0CDB-44B1-BA7E-64D306E2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1B3-D738-4603-8499-D7EA857B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981-D0FD-49F4-BBD9-C50565F6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C46-DDF8-45E3-8A43-5E86A588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161-7048-49CC-933F-818556C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F94-B8EB-4A90-8747-3065BA9F214B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矩形 149510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直接连接符 149511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矩形 149512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矩形 149513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50534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矩形 150535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矩形 150536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矩形 150537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C98F-7BB6-494E-AEC7-3716CCBCBC5B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31" descr="pic_270752"/>
          <p:cNvPicPr/>
          <p:nvPr/>
        </p:nvPicPr>
        <p:blipFill>
          <a:blip r:embed="rId1"/>
          <a:stretch/>
        </p:blipFill>
        <p:spPr>
          <a:xfrm>
            <a:off x="210960" y="0"/>
            <a:ext cx="893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矩形 5130"/>
          <p:cNvSpPr txBox="1"/>
          <p:nvPr/>
        </p:nvSpPr>
        <p:spPr>
          <a:xfrm>
            <a:off x="1300320" y="4451400"/>
            <a:ext cx="557820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伯父鲁迅先生</a:t>
            </a:r>
            <a:endParaRPr b="1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54627"/>
          <p:cNvSpPr/>
          <p:nvPr/>
        </p:nvSpPr>
        <p:spPr>
          <a:xfrm>
            <a:off x="3715200" y="867600"/>
            <a:ext cx="6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殡仪馆：供停放灵柩、办理丧事的地方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矩形 154628"/>
          <p:cNvSpPr/>
          <p:nvPr/>
        </p:nvSpPr>
        <p:spPr>
          <a:xfrm>
            <a:off x="282600" y="1944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黄包车：旧时一种用人力拉的车，主要用来载人。也叫人力车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矩形 154629"/>
          <p:cNvSpPr/>
          <p:nvPr/>
        </p:nvSpPr>
        <p:spPr>
          <a:xfrm>
            <a:off x="1647000" y="30790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硼酸水：一种用于消毒防腐的外用药水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22891" descr="325499995"/>
          <p:cNvPicPr/>
          <p:nvPr/>
        </p:nvPicPr>
        <p:blipFill>
          <a:blip r:embed="rId1"/>
          <a:stretch/>
        </p:blipFill>
        <p:spPr>
          <a:xfrm>
            <a:off x="311040" y="1060560"/>
            <a:ext cx="8493120" cy="5287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9200" y="363240"/>
            <a:ext cx="5097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Garamond"/>
                <a:ea typeface="华文中宋"/>
              </a:rPr>
              <a:t>听课朗读思考问题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24200" y="1247400"/>
            <a:ext cx="5060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1.</a:t>
            </a:r>
            <a:r>
              <a:rPr b="1" i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文章写了鲁迅先生的哪些事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2.</a:t>
            </a:r>
            <a:r>
              <a:rPr b="1" i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鲁迅先生是个怎样的人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3.</a:t>
            </a:r>
            <a:r>
              <a:rPr b="1" i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作者为什么要写鲁迅先生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18 我的伯父鲁迅先生.mp3" descr=""/>
          <p:cNvPicPr/>
          <p:nvPr/>
        </p:nvPicPr>
        <p:blipFill>
          <a:blip r:embed="rId2"/>
          <a:stretch/>
        </p:blipFill>
        <p:spPr>
          <a:xfrm>
            <a:off x="3041640" y="3263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18 我的伯父鲁迅先生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45529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45529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56673"/>
          <p:cNvSpPr/>
          <p:nvPr/>
        </p:nvSpPr>
        <p:spPr>
          <a:xfrm>
            <a:off x="2700360" y="19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课文并思考：作者认为鲁迅先生是一个什么样的人？你从课文中哪里读出来的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图片 156674" descr="小女孩"/>
          <p:cNvPicPr/>
          <p:nvPr/>
        </p:nvPicPr>
        <p:blipFill>
          <a:blip r:embed="rId1"/>
          <a:stretch/>
        </p:blipFill>
        <p:spPr>
          <a:xfrm>
            <a:off x="971640" y="2637000"/>
            <a:ext cx="1966680" cy="3279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56675" descr="初读感知"/>
          <p:cNvPicPr/>
          <p:nvPr/>
        </p:nvPicPr>
        <p:blipFill>
          <a:blip r:embed="rId2"/>
          <a:stretch/>
        </p:blipFill>
        <p:spPr>
          <a:xfrm>
            <a:off x="468360" y="1052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156676"/>
          <p:cNvSpPr/>
          <p:nvPr/>
        </p:nvSpPr>
        <p:spPr>
          <a:xfrm>
            <a:off x="3780000" y="3645000"/>
            <a:ext cx="302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自己想得少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别人想得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57697"/>
          <p:cNvSpPr/>
          <p:nvPr/>
        </p:nvSpPr>
        <p:spPr>
          <a:xfrm>
            <a:off x="1979640" y="263700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圈画出鲁迅先生深受许多人爱戴的语句？从哪里看出他深受爱戴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文本框 157698"/>
          <p:cNvSpPr/>
          <p:nvPr/>
        </p:nvSpPr>
        <p:spPr>
          <a:xfrm>
            <a:off x="1332000" y="17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学习第一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图片 157699" descr="细读感悟"/>
          <p:cNvPicPr/>
          <p:nvPr/>
        </p:nvPicPr>
        <p:blipFill>
          <a:blip r:embed="rId1"/>
          <a:stretch/>
        </p:blipFill>
        <p:spPr>
          <a:xfrm>
            <a:off x="395280" y="907920"/>
            <a:ext cx="1960560" cy="52416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157700"/>
          <p:cNvSpPr/>
          <p:nvPr/>
        </p:nvSpPr>
        <p:spPr>
          <a:xfrm>
            <a:off x="2556000" y="386064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挽联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花圈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各色各样的人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58721"/>
          <p:cNvSpPr/>
          <p:nvPr/>
        </p:nvSpPr>
        <p:spPr>
          <a:xfrm>
            <a:off x="468360" y="19890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下午开始出殡。出殡前，从万国殡仪馆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前，胶州路、极司斐尔路、兆丰路，早已站着长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队伍。出殡时，治丧委员宋庆龄、蔡元培、沈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儒和作家巴金、萧军扶柩上了灵车。青年艺术家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着司徒乔画的鲁迅先生的巨幅遗像，作为送葬队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前导。队伍跨着沉重的步伐前进，沿途又有许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群众加入了行列，送葬的队伍越来越长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组合 158722"/>
          <p:cNvGrpSpPr/>
          <p:nvPr/>
        </p:nvGrpSpPr>
        <p:grpSpPr>
          <a:xfrm>
            <a:off x="179280" y="333360"/>
            <a:ext cx="2087640" cy="1563840"/>
            <a:chOff x="179280" y="333360"/>
            <a:chExt cx="2087640" cy="1563840"/>
          </a:xfrm>
        </p:grpSpPr>
        <p:pic>
          <p:nvPicPr>
            <p:cNvPr id="165" name="图片 158723" descr="小猪"/>
            <p:cNvPicPr/>
            <p:nvPr/>
          </p:nvPicPr>
          <p:blipFill>
            <a:blip r:embed="rId1"/>
            <a:stretch/>
          </p:blipFill>
          <p:spPr>
            <a:xfrm>
              <a:off x="179280" y="333360"/>
              <a:ext cx="2087640" cy="15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158724"/>
            <p:cNvSpPr/>
            <p:nvPr/>
          </p:nvSpPr>
          <p:spPr>
            <a:xfrm>
              <a:off x="539640" y="69228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补充资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59745"/>
          <p:cNvSpPr/>
          <p:nvPr/>
        </p:nvSpPr>
        <p:spPr>
          <a:xfrm>
            <a:off x="2484360" y="191628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对于鲁迅的逝世，谁都悲痛万分，作者也不另外，你从哪体会到作者的悲痛心情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图片 159746" descr="小女孩"/>
          <p:cNvPicPr/>
          <p:nvPr/>
        </p:nvPicPr>
        <p:blipFill>
          <a:blip r:embed="rId1"/>
          <a:stretch/>
        </p:blipFill>
        <p:spPr>
          <a:xfrm>
            <a:off x="684360" y="2565360"/>
            <a:ext cx="1966680" cy="32799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59747" descr="细读感悟"/>
          <p:cNvPicPr/>
          <p:nvPr/>
        </p:nvPicPr>
        <p:blipFill>
          <a:blip r:embed="rId2"/>
          <a:stretch/>
        </p:blipFill>
        <p:spPr>
          <a:xfrm>
            <a:off x="395280" y="907920"/>
            <a:ext cx="196056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60769"/>
          <p:cNvSpPr/>
          <p:nvPr/>
        </p:nvSpPr>
        <p:spPr>
          <a:xfrm>
            <a:off x="395280" y="2205000"/>
            <a:ext cx="820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我呆呆地望着来来往往吊唁的人，想到我就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永远见不到伯父的面了，听不到他的声音了，也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到他的爱抚了，泪珠就一滴一滴地掉下来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图片 160770" descr="细读感悟"/>
          <p:cNvPicPr/>
          <p:nvPr/>
        </p:nvPicPr>
        <p:blipFill>
          <a:blip r:embed="rId1"/>
          <a:stretch/>
        </p:blipFill>
        <p:spPr>
          <a:xfrm>
            <a:off x="395280" y="907920"/>
            <a:ext cx="1960560" cy="52416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160771"/>
          <p:cNvSpPr/>
          <p:nvPr/>
        </p:nvSpPr>
        <p:spPr>
          <a:xfrm>
            <a:off x="2411280" y="4365720"/>
            <a:ext cx="28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沉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悲痛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11622" descr="back1"/>
          <p:cNvPicPr/>
          <p:nvPr/>
        </p:nvPicPr>
        <p:blipFill>
          <a:blip r:embed="rId1"/>
          <a:stretch/>
        </p:blipFill>
        <p:spPr>
          <a:xfrm>
            <a:off x="290520" y="1060560"/>
            <a:ext cx="8507520" cy="5290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97040" y="1542600"/>
            <a:ext cx="83469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文章写了鲁迅先生的哪些事？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在这些事中你印象最深的是哪一件？为什么？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81000" y="3557520"/>
            <a:ext cx="71136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去世后，“我”看到他受到很多人的爱戴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和“我”谈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笑谈“碰壁” 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救助黄包车车夫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关心女佣阿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图片 111620" descr="pic_27067202"/>
          <p:cNvPicPr/>
          <p:nvPr/>
        </p:nvPicPr>
        <p:blipFill>
          <a:blip r:embed="rId2"/>
          <a:stretch/>
        </p:blipFill>
        <p:spPr>
          <a:xfrm>
            <a:off x="5913360" y="5048280"/>
            <a:ext cx="2828880" cy="12733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11623" descr="02b"/>
          <p:cNvPicPr/>
          <p:nvPr/>
        </p:nvPicPr>
        <p:blipFill>
          <a:blip r:embed="rId3"/>
          <a:stretch/>
        </p:blipFill>
        <p:spPr>
          <a:xfrm>
            <a:off x="7004160" y="247680"/>
            <a:ext cx="1330200" cy="958680"/>
          </a:xfrm>
          <a:prstGeom prst="rect">
            <a:avLst/>
          </a:prstGeom>
          <a:ln w="0">
            <a:noFill/>
          </a:ln>
        </p:spPr>
      </p:pic>
      <p:sp>
        <p:nvSpPr>
          <p:cNvPr id="178" name="矩形 111624"/>
          <p:cNvSpPr/>
          <p:nvPr/>
        </p:nvSpPr>
        <p:spPr>
          <a:xfrm>
            <a:off x="793800" y="312840"/>
            <a:ext cx="55418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Garamond"/>
              </a:rPr>
              <a:t>小组合作，读书释疑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3200" y="186984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Garamond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Garamond"/>
              </a:rPr>
              <a:t>你可以根据每个部分的主要意思分别给它们加一个小标题吗？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矩形 133123"/>
          <p:cNvSpPr txBox="1"/>
          <p:nvPr/>
        </p:nvSpPr>
        <p:spPr>
          <a:xfrm>
            <a:off x="2225520" y="393840"/>
            <a:ext cx="244656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考考你</a:t>
            </a:r>
            <a:endParaRPr b="1" i="1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81" name="图片 133124" descr="04d"/>
          <p:cNvPicPr/>
          <p:nvPr/>
        </p:nvPicPr>
        <p:blipFill>
          <a:blip r:embed="rId1"/>
          <a:stretch/>
        </p:blipFill>
        <p:spPr>
          <a:xfrm>
            <a:off x="455760" y="270000"/>
            <a:ext cx="1374480" cy="115416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133125"/>
          <p:cNvSpPr/>
          <p:nvPr/>
        </p:nvSpPr>
        <p:spPr>
          <a:xfrm>
            <a:off x="754200" y="3686040"/>
            <a:ext cx="34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１、深受爱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文本框 133126"/>
          <p:cNvSpPr/>
          <p:nvPr/>
        </p:nvSpPr>
        <p:spPr>
          <a:xfrm>
            <a:off x="4497480" y="371484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２、谈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水浒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文本框 133127"/>
          <p:cNvSpPr/>
          <p:nvPr/>
        </p:nvSpPr>
        <p:spPr>
          <a:xfrm>
            <a:off x="4473720" y="4529160"/>
            <a:ext cx="36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４、救助车夫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文本框 133128"/>
          <p:cNvSpPr/>
          <p:nvPr/>
        </p:nvSpPr>
        <p:spPr>
          <a:xfrm>
            <a:off x="739800" y="5299200"/>
            <a:ext cx="35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５、关心女佣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文本框 133129"/>
          <p:cNvSpPr/>
          <p:nvPr/>
        </p:nvSpPr>
        <p:spPr>
          <a:xfrm>
            <a:off x="768240" y="457200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３、笑谈“碰壁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9900"/>
                </a:solidFill>
                <a:latin typeface="Garamond"/>
                <a:ea typeface="华文新魏"/>
              </a:rPr>
              <a:t>学习第一段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伯父在世时，作者对他有何看法？伯父逝世时，作者惊异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２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爱戴”与“爱抚”有何不同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３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哪些词语中可以看出鲁迅深受爱戴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（许多人、甚至、数不清、堆满、各色各样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鲁迅为什么会受到这么多人的爱戴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太阳形 161795"/>
          <p:cNvSpPr/>
          <p:nvPr/>
        </p:nvSpPr>
        <p:spPr>
          <a:xfrm>
            <a:off x="2195640" y="836640"/>
            <a:ext cx="576000" cy="360360"/>
          </a:xfrm>
          <a:prstGeom prst="sun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太阳形 161796"/>
          <p:cNvSpPr/>
          <p:nvPr/>
        </p:nvSpPr>
        <p:spPr>
          <a:xfrm>
            <a:off x="6372360" y="836640"/>
            <a:ext cx="504720" cy="360360"/>
          </a:xfrm>
          <a:prstGeom prst="sun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l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55649"/>
          <p:cNvSpPr/>
          <p:nvPr/>
        </p:nvSpPr>
        <p:spPr>
          <a:xfrm>
            <a:off x="684360" y="1555920"/>
            <a:ext cx="84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感情地朗读课文。理解课文内容，感受人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对鲁迅的爱戴及体会鲁迅先生爱憎分明、为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己想得少，为别人想得多的高尚品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会给课文加小标题，学习课文用具体事例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抓住语言、动作、神态描写表现人物品质的方法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结合时代背景理解含义深刻的句子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本课的生字新词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文本框 155650"/>
          <p:cNvSpPr/>
          <p:nvPr/>
        </p:nvSpPr>
        <p:spPr>
          <a:xfrm>
            <a:off x="539640" y="47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00"/>
                </a:solidFill>
                <a:latin typeface="Garamond"/>
                <a:ea typeface="黑体"/>
              </a:rPr>
              <a:t>学习第二段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浒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能不能说明伯父值得人爱戴呢？为什么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能，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伯父借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教育作者看书要认真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伯父批评的方法极其巧妙“哈哈！还是我的记性好。”既不伤害人的自尊心，又达到教育的目的：“不再马马虎虎了。”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伯父不但口头教育，还送书给她看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伯父关心的人，除侄女外，还有很多很多，真可谓是关心下一代的学习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十字星 162819"/>
          <p:cNvSpPr/>
          <p:nvPr/>
        </p:nvSpPr>
        <p:spPr>
          <a:xfrm>
            <a:off x="2484360" y="476280"/>
            <a:ext cx="503280" cy="503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十字星 162820"/>
          <p:cNvSpPr/>
          <p:nvPr/>
        </p:nvSpPr>
        <p:spPr>
          <a:xfrm>
            <a:off x="6227640" y="476280"/>
            <a:ext cx="576360" cy="4334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aramond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ff00"/>
                </a:solidFill>
                <a:latin typeface="Garamond"/>
                <a:ea typeface="华文新魏"/>
              </a:rPr>
              <a:t>理解句子的含义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977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伯父说：“哈哈！还是我的记性好。”　“我”听后为什么比挨打挨骂还难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面上伯父在夸自己的记性好，实际上是对“我”读书时不认真的委婉批评，从中看出伯父教育“我”讲求方式，避免直接批评让“我”难堪。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内容占位符 163843" descr="{FB7084F6-9F0F-11D7-8DE8-0050BAF4A866}"/>
          <p:cNvPicPr/>
          <p:nvPr/>
        </p:nvPicPr>
        <p:blipFill>
          <a:blip r:embed="rId1"/>
          <a:stretch/>
        </p:blipFill>
        <p:spPr>
          <a:xfrm>
            <a:off x="0" y="1413000"/>
            <a:ext cx="26272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26981" descr="b49"/>
          <p:cNvPicPr/>
          <p:nvPr/>
        </p:nvPicPr>
        <p:blipFill>
          <a:blip r:embed="rId1"/>
          <a:stretch/>
        </p:blipFill>
        <p:spPr>
          <a:xfrm>
            <a:off x="284040" y="1047600"/>
            <a:ext cx="8534520" cy="53024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90760" y="1827360"/>
            <a:ext cx="6213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谈</a:t>
            </a:r>
            <a:r>
              <a:rPr b="0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水浒传</a:t>
            </a:r>
            <a:r>
              <a:rPr b="0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”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8560" y="3286080"/>
            <a:ext cx="815508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重点理解：</a:t>
            </a:r>
            <a:r>
              <a:rPr b="1" lang="zh-CN" sz="3200" spc="-1" strike="noStrike">
                <a:solidFill>
                  <a:srgbClr val="006600"/>
                </a:solidFill>
                <a:latin typeface="Verdana"/>
              </a:rPr>
              <a:t>伯父摸着胡子，笑了笑，说：         “哈哈！还是我的记性好。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    讨：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伯父说这句话的意思是什么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矩形 126979"/>
          <p:cNvSpPr/>
          <p:nvPr/>
        </p:nvSpPr>
        <p:spPr>
          <a:xfrm>
            <a:off x="684360" y="426960"/>
            <a:ext cx="6302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200" spc="-1" strike="noStrike">
                <a:solidFill>
                  <a:srgbClr val="ff5050"/>
                </a:solidFill>
                <a:latin typeface="Garamond"/>
                <a:ea typeface="华文中宋"/>
              </a:rPr>
              <a:t>集体交流，突破难点</a:t>
            </a:r>
            <a:r>
              <a:rPr b="0" lang="zh-CN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图片 126983" descr="200511100223855"/>
          <p:cNvPicPr/>
          <p:nvPr/>
        </p:nvPicPr>
        <p:blipFill>
          <a:blip r:embed="rId2"/>
          <a:stretch/>
        </p:blipFill>
        <p:spPr>
          <a:xfrm>
            <a:off x="860400" y="1373040"/>
            <a:ext cx="15876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409720" y="596520"/>
            <a:ext cx="354348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这句话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表面看是在夸自己记性好，实际上是在用幽默的语言、委婉的语气批评“我”读书太马虎。这简短的语言描写，透出鲁迅先生含蓄、幽默、风趣的性格特点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图片 139269" descr="scan0008"/>
          <p:cNvPicPr/>
          <p:nvPr/>
        </p:nvPicPr>
        <p:blipFill>
          <a:blip r:embed="rId1"/>
          <a:stretch/>
        </p:blipFill>
        <p:spPr>
          <a:xfrm>
            <a:off x="182520" y="0"/>
            <a:ext cx="52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66913" descr="三味书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Garamond"/>
                <a:ea typeface="隶书"/>
              </a:rPr>
              <a:t>学习第三段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74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１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角色朗读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２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.“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碰壁”是什么意思？为什么会“碰壁”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（因为当时社会非常黑暗，革命者根本没有言论自由。而鲁迅为了唤起民众觉悟，揭露国民党反动派的丑恶嘴脸，写出了一篇篇犹如匕首的杂文，因而要“碰壁”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三十二角星 166916"/>
          <p:cNvSpPr/>
          <p:nvPr/>
        </p:nvSpPr>
        <p:spPr>
          <a:xfrm>
            <a:off x="2124000" y="620640"/>
            <a:ext cx="505080" cy="287280"/>
          </a:xfrm>
          <a:custGeom>
            <a:avLst/>
            <a:gdLst>
              <a:gd name="textAreaLeft" fmla="*/ 118440 w 505080"/>
              <a:gd name="textAreaRight" fmla="*/ 386640 w 505080"/>
              <a:gd name="textAreaTop" fmla="*/ 67320 h 287280"/>
              <a:gd name="textAreaBottom" fmla="*/ 2199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二十四角星 166917"/>
          <p:cNvSpPr/>
          <p:nvPr/>
        </p:nvSpPr>
        <p:spPr>
          <a:xfrm>
            <a:off x="6516720" y="620640"/>
            <a:ext cx="503280" cy="289080"/>
          </a:xfrm>
          <a:custGeom>
            <a:avLst/>
            <a:gdLst>
              <a:gd name="textAreaLeft" fmla="*/ 118080 w 503280"/>
              <a:gd name="textAreaRight" fmla="*/ 385200 w 503280"/>
              <a:gd name="textAreaTop" fmla="*/ 67680 h 289080"/>
              <a:gd name="textAreaBottom" fmla="*/ 2214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77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77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4520" y="171000"/>
            <a:ext cx="44542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碰壁”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9120" y="1898640"/>
            <a:ext cx="77058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重点理解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“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你想，四周黑洞洞的，还不容易碰壁吗？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请结合时代背景理解鲁迅先生这句话的深刻内涵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图片 128005" descr="g_cha_p_06"/>
          <p:cNvPicPr/>
          <p:nvPr/>
        </p:nvPicPr>
        <p:blipFill>
          <a:blip r:embed="rId1"/>
          <a:stretch/>
        </p:blipFill>
        <p:spPr>
          <a:xfrm>
            <a:off x="5899320" y="0"/>
            <a:ext cx="20174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120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9900"/>
                </a:solidFill>
                <a:latin typeface="Garamond"/>
                <a:ea typeface="华文彩云"/>
              </a:rPr>
              <a:t>理解句子的含义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１“四周围黑洞洞的，还不容易碰壁吗？”这句话是什么意思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（社会太黑暗了，人民没有丝毫自由，革命者处处遭受迫害和打击。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座的为什么哈哈大笑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（孩子天真无知，把伯父的话理解错了。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３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谈“碰壁”能不能体现鲁迅值得人们爱戴呢？为什么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（能。由“碰壁”可以看出鲁迅不顾个人的一切，与敌人斗争的不屈精神。他为了人民为了祖国而顽强战斗，怎能不值得人们爱戴呢？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内容占位符 167939" descr="伯父鲁迅"/>
          <p:cNvPicPr/>
          <p:nvPr/>
        </p:nvPicPr>
        <p:blipFill>
          <a:blip r:embed="rId1"/>
          <a:stretch/>
        </p:blipFill>
        <p:spPr>
          <a:xfrm>
            <a:off x="4859280" y="981000"/>
            <a:ext cx="428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4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6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组合 129029"/>
          <p:cNvGrpSpPr/>
          <p:nvPr/>
        </p:nvGrpSpPr>
        <p:grpSpPr>
          <a:xfrm>
            <a:off x="284040" y="1047600"/>
            <a:ext cx="8534520" cy="5302440"/>
            <a:chOff x="284040" y="1047600"/>
            <a:chExt cx="8534520" cy="5302440"/>
          </a:xfrm>
        </p:grpSpPr>
        <p:pic>
          <p:nvPicPr>
            <p:cNvPr id="217" name="图片 129028" descr="b49"/>
            <p:cNvPicPr/>
            <p:nvPr/>
          </p:nvPicPr>
          <p:blipFill>
            <a:blip r:embed="rId1"/>
            <a:stretch/>
          </p:blipFill>
          <p:spPr>
            <a:xfrm>
              <a:off x="284040" y="1047600"/>
              <a:ext cx="8534520" cy="53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129027" descr="bottom-cao-bgimg"/>
            <p:cNvPicPr/>
            <p:nvPr/>
          </p:nvPicPr>
          <p:blipFill>
            <a:blip r:embed="rId2"/>
            <a:stretch/>
          </p:blipFill>
          <p:spPr>
            <a:xfrm>
              <a:off x="314280" y="5581800"/>
              <a:ext cx="847260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440" y="606240"/>
            <a:ext cx="8548560" cy="58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“四周黑洞洞的”指旧社会的黑暗；“把鼻子碰扁了”，暗示鲁迅受到反动势力的残酷迫害。鲁迅写文章揭露国民党反动派，反动派很害怕，查抄他的信件，不许他发表文章，还要逮捕他。鲁迅先生先后用了一百多个笔名，巧妙地和反动派进行斗争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“碰了几次壁，把鼻子碰扁了”这句话体现了鲁迅先生幽默的语言风格，也体现了鲁迅先生的顽强斗争精神和乐观主义精神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68961" descr="{FB7084F5-9F0F-11D7-8DE8-0050BAF4A866}"/>
          <p:cNvPicPr/>
          <p:nvPr/>
        </p:nvPicPr>
        <p:blipFill>
          <a:blip r:embed="rId1"/>
          <a:stretch/>
        </p:blipFill>
        <p:spPr>
          <a:xfrm>
            <a:off x="0" y="0"/>
            <a:ext cx="1944720" cy="3166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9900"/>
                </a:solidFill>
                <a:latin typeface="Garamond"/>
                <a:ea typeface="华文行楷"/>
              </a:rPr>
              <a:t>学习第四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“我”问他车夫这么冷的天为什么拉车的问题时，伯父为什么变得那么严肃同时又深深叹气呢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（伯父想到这位车夫冒严寒出来拉车，是多么可怜，家庭生活是多么困苦。伯父由这位车夫又想到了千千万万的穷苦人，正处在水深火热之中，而这都是社会制度不合理造成的，是统治阶级的压迫、剥削造成的。伯父知道根源所在，然而又无法解除穷苦人的痛苦，因而痛苦，脸色变得严肃；伯父对此又无能为力，只能叹气，深表同情。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笑脸 168964"/>
          <p:cNvSpPr/>
          <p:nvPr/>
        </p:nvSpPr>
        <p:spPr>
          <a:xfrm>
            <a:off x="2340000" y="549360"/>
            <a:ext cx="503280" cy="2872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笑脸 168965"/>
          <p:cNvSpPr/>
          <p:nvPr/>
        </p:nvSpPr>
        <p:spPr>
          <a:xfrm>
            <a:off x="6443640" y="549360"/>
            <a:ext cx="503280" cy="2872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3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  <a:ea typeface="华文彩云"/>
              </a:rPr>
              <a:t>学习第五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鲁迅先生写文章干什么？“他对自己的病一点儿不在乎”表明什么？再从他对女佣的态度，可以看出他是一个什么人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ccff33"/>
                </a:solidFill>
                <a:latin typeface="Verdana"/>
              </a:rPr>
              <a:t>１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（他写文章，主要是为唤起民众对敌斗争，拯救人民，拯救祖国。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　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表明他为了人民，为了祖国，甘愿付出自己的一切。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３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（可以看出他是一个为自己想得少，为别人想得多的人。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4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7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18789" descr="back1"/>
          <p:cNvPicPr/>
          <p:nvPr/>
        </p:nvPicPr>
        <p:blipFill>
          <a:blip r:embed="rId1"/>
          <a:stretch/>
        </p:blipFill>
        <p:spPr>
          <a:xfrm>
            <a:off x="290520" y="1060560"/>
            <a:ext cx="8507520" cy="5290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4920" y="1294920"/>
            <a:ext cx="3854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Garamond"/>
                <a:ea typeface="华文中宋"/>
              </a:rPr>
              <a:t>鲁迅先生的葬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1000" y="2487240"/>
            <a:ext cx="83581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鲁迅先生于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936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年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0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月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9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日病逝于上海寓所，享年五十六岁。他的遗体被送到万国殡仪馆。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日下午出殡前，灵堂上布满了各界群众所敬献的挽联和花圈，沿途早已站着长长的队伍。治丧委员宋庆龄、蔡元培、沈钧儒和作家巴金、萧军扶柩上了灵车。青年艺术家抬着司徒乔画的鲁迅先生的巨幅遗像，作为送葬队伍的前导。队伍跨着沉重的步伐前进，沿途又有许多群众加入，送葬的队伍越来越长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组合 118790"/>
          <p:cNvGrpSpPr/>
          <p:nvPr/>
        </p:nvGrpSpPr>
        <p:grpSpPr>
          <a:xfrm>
            <a:off x="5673600" y="1195560"/>
            <a:ext cx="2955960" cy="858600"/>
            <a:chOff x="5673600" y="1195560"/>
            <a:chExt cx="2955960" cy="858600"/>
          </a:xfrm>
        </p:grpSpPr>
        <p:pic>
          <p:nvPicPr>
            <p:cNvPr id="98" name="图片 118787" descr="Small_2005411184850"/>
            <p:cNvPicPr/>
            <p:nvPr/>
          </p:nvPicPr>
          <p:blipFill>
            <a:blip r:embed="rId2"/>
            <a:stretch/>
          </p:blipFill>
          <p:spPr>
            <a:xfrm>
              <a:off x="5673600" y="1211400"/>
              <a:ext cx="1425600" cy="8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118788" descr="1119255210"/>
            <p:cNvPicPr/>
            <p:nvPr/>
          </p:nvPicPr>
          <p:blipFill>
            <a:blip r:embed="rId3"/>
            <a:stretch/>
          </p:blipFill>
          <p:spPr>
            <a:xfrm>
              <a:off x="7243920" y="1195560"/>
              <a:ext cx="1385640" cy="83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0320" y="604800"/>
            <a:ext cx="46479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救助车夫”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7880" y="2804760"/>
            <a:ext cx="77659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爸爸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跑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到伯父家里，不一会儿，就跟伯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拿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了药和纱布出来。他们把那个拉车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扶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上车子，一个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蹲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着，一个半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跪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着，爸爸拿镊子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夹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出碎玻璃片，伯父拿硼酸水给他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洗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干净。他们又给他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敷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上药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扎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好绷带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伯父又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掏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出一些钱来给他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叫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他在家里休养几天，把剩下的药和绷带也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给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了他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图片 130051" descr="pic_270752"/>
          <p:cNvPicPr/>
          <p:nvPr/>
        </p:nvPicPr>
        <p:blipFill>
          <a:blip r:embed="rId1"/>
          <a:stretch/>
        </p:blipFill>
        <p:spPr>
          <a:xfrm>
            <a:off x="5045040" y="203040"/>
            <a:ext cx="4098960" cy="271620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130052"/>
          <p:cNvSpPr/>
          <p:nvPr/>
        </p:nvSpPr>
        <p:spPr>
          <a:xfrm>
            <a:off x="606600" y="1566720"/>
            <a:ext cx="44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Verdana"/>
                <a:ea typeface="楷体_GB2312"/>
              </a:rPr>
              <a:t>重点朗读以下文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注意其中动词的使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9760" y="3004920"/>
            <a:ext cx="83358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华文仿宋"/>
              </a:rPr>
              <a:t>　　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这时候，我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清清楚楚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地看见，而且现在也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清清楚楚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地记得，他的脸上不再有那种慈祥的愉快的表情了，他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变得那么严肃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。他没有回答我，只把枯瘦的手按在我的头上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半天没动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，最后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深深地叹了一口气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。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文本框 142340"/>
          <p:cNvSpPr/>
          <p:nvPr/>
        </p:nvSpPr>
        <p:spPr>
          <a:xfrm>
            <a:off x="324000" y="749160"/>
            <a:ext cx="467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重点理解下面的句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注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划线的词语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的含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组合 142344"/>
          <p:cNvGrpSpPr/>
          <p:nvPr/>
        </p:nvGrpSpPr>
        <p:grpSpPr>
          <a:xfrm>
            <a:off x="5030640" y="0"/>
            <a:ext cx="4112640" cy="2729880"/>
            <a:chOff x="5030640" y="0"/>
            <a:chExt cx="4112640" cy="2729880"/>
          </a:xfrm>
        </p:grpSpPr>
        <p:pic>
          <p:nvPicPr>
            <p:cNvPr id="234" name="图片 142341" descr="052001ls0910"/>
            <p:cNvPicPr/>
            <p:nvPr/>
          </p:nvPicPr>
          <p:blipFill>
            <a:blip r:embed="rId1"/>
            <a:stretch/>
          </p:blipFill>
          <p:spPr>
            <a:xfrm>
              <a:off x="5030640" y="18000"/>
              <a:ext cx="1995120" cy="271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142342" descr="luxun1000"/>
            <p:cNvPicPr/>
            <p:nvPr/>
          </p:nvPicPr>
          <p:blipFill>
            <a:blip r:embed="rId2"/>
            <a:stretch/>
          </p:blipFill>
          <p:spPr>
            <a:xfrm>
              <a:off x="7199280" y="0"/>
              <a:ext cx="1944000" cy="272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143367"/>
          <p:cNvGrpSpPr/>
          <p:nvPr/>
        </p:nvGrpSpPr>
        <p:grpSpPr>
          <a:xfrm>
            <a:off x="284040" y="1047600"/>
            <a:ext cx="8534520" cy="5302440"/>
            <a:chOff x="284040" y="1047600"/>
            <a:chExt cx="8534520" cy="5302440"/>
          </a:xfrm>
        </p:grpSpPr>
        <p:pic>
          <p:nvPicPr>
            <p:cNvPr id="237" name="图片 143365" descr="b49"/>
            <p:cNvPicPr/>
            <p:nvPr/>
          </p:nvPicPr>
          <p:blipFill>
            <a:blip r:embed="rId1"/>
            <a:stretch/>
          </p:blipFill>
          <p:spPr>
            <a:xfrm>
              <a:off x="284040" y="1047600"/>
              <a:ext cx="8534520" cy="53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143366" descr="bottom-cao-bgimg"/>
            <p:cNvPicPr/>
            <p:nvPr/>
          </p:nvPicPr>
          <p:blipFill>
            <a:blip r:embed="rId2"/>
            <a:stretch/>
          </p:blipFill>
          <p:spPr>
            <a:xfrm>
              <a:off x="314280" y="5581800"/>
              <a:ext cx="847260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矩形 143363"/>
          <p:cNvSpPr/>
          <p:nvPr/>
        </p:nvSpPr>
        <p:spPr>
          <a:xfrm>
            <a:off x="841320" y="1978200"/>
            <a:ext cx="7986600" cy="38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　　　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这里的两个“清清楚楚”强调了当时的情景给“我”的印象之深；他“变得那么严肃”，手“半天没动”，“深深地叹了一口气”等表情、动作的描写，说明鲁迅先生看到了旧社会的罪恶。这段话表现了鲁迅先生对旧社会的痛恨和对劳苦人民的极大同情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图片 143364" descr="01a"/>
          <p:cNvPicPr/>
          <p:nvPr/>
        </p:nvPicPr>
        <p:blipFill>
          <a:blip r:embed="rId3"/>
          <a:stretch/>
        </p:blipFill>
        <p:spPr>
          <a:xfrm>
            <a:off x="1168560" y="1576440"/>
            <a:ext cx="857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1520" y="307800"/>
            <a:ext cx="6211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关心女佣阿三”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8800" y="1754280"/>
            <a:ext cx="875520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重点理解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楷体_GB2312"/>
              </a:rPr>
              <a:t>她说：“周先生自己病得那么厉害，还三更半夜地写文章。有时候我听着他一阵阵接连不断地咳嗽，真替他难受。他对自己的病一点儿也不在乎，倒常常劝我多休息，不叫我干重活儿。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文本框 144387"/>
          <p:cNvSpPr/>
          <p:nvPr/>
        </p:nvSpPr>
        <p:spPr>
          <a:xfrm>
            <a:off x="461880" y="5311800"/>
            <a:ext cx="86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运用对比的方法，体现了鲁迅先生“为自己想得少，为别人想得多”的高尚品质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图片 144389" descr="luxun1000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119812" descr="h_3"/>
          <p:cNvPicPr/>
          <p:nvPr/>
        </p:nvPicPr>
        <p:blipFill>
          <a:blip r:embed="rId1"/>
          <a:stretch/>
        </p:blipFill>
        <p:spPr>
          <a:xfrm>
            <a:off x="184320" y="0"/>
            <a:ext cx="895968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8120" y="2266560"/>
            <a:ext cx="6445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Garamond"/>
              </a:rPr>
              <a:t>鲁迅先生是一个怎样的人？</a:t>
            </a:r>
            <a:r>
              <a:rPr b="0" lang="zh-CN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09720" y="3564000"/>
            <a:ext cx="67197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华文仿宋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学习课文后，请你说说：鲁迅的有哪些让人敬佩的思想品质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  <a:ea typeface="华文仿宋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Verdana"/>
                <a:ea typeface="楷体_GB2312"/>
              </a:rPr>
              <a:t>请从文中找出一个最能概括鲁迅思想品质的句子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组合 119814"/>
          <p:cNvGrpSpPr/>
          <p:nvPr/>
        </p:nvGrpSpPr>
        <p:grpSpPr>
          <a:xfrm>
            <a:off x="981000" y="706320"/>
            <a:ext cx="6607080" cy="1238400"/>
            <a:chOff x="981000" y="706320"/>
            <a:chExt cx="6607080" cy="1238400"/>
          </a:xfrm>
        </p:grpSpPr>
        <p:sp>
          <p:nvSpPr>
            <p:cNvPr id="249" name="矩形 119811"/>
            <p:cNvSpPr txBox="1"/>
            <p:nvPr/>
          </p:nvSpPr>
          <p:spPr>
            <a:xfrm>
              <a:off x="2906640" y="992160"/>
              <a:ext cx="4681440" cy="83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黑体"/>
                </a:rPr>
                <a:t>回顾课文，分析形象</a:t>
              </a:r>
              <a:endParaRPr b="1" i="1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250" name="图片 119813" descr="Gif0405_037"/>
            <p:cNvPicPr/>
            <p:nvPr/>
          </p:nvPicPr>
          <p:blipFill>
            <a:blip r:embed="rId2"/>
            <a:stretch/>
          </p:blipFill>
          <p:spPr>
            <a:xfrm>
              <a:off x="981000" y="706320"/>
              <a:ext cx="1571400" cy="123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145414" descr="20060329091611588"/>
          <p:cNvPicPr/>
          <p:nvPr/>
        </p:nvPicPr>
        <p:blipFill>
          <a:blip r:embed="rId1"/>
          <a:stretch/>
        </p:blipFill>
        <p:spPr>
          <a:xfrm>
            <a:off x="231840" y="0"/>
            <a:ext cx="891216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145411"/>
          <p:cNvSpPr/>
          <p:nvPr/>
        </p:nvSpPr>
        <p:spPr>
          <a:xfrm>
            <a:off x="1441440" y="1171440"/>
            <a:ext cx="667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“的确，伯父就是这样的一个人，他为自己想得少，为别人想得多。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文本框 145412"/>
          <p:cNvSpPr/>
          <p:nvPr/>
        </p:nvSpPr>
        <p:spPr>
          <a:xfrm>
            <a:off x="2363760" y="41083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横眉冷对千夫指 ，俯首甘为孺子牛 。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172033" descr="j0299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369720"/>
            <a:ext cx="646596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  <a:ea typeface="华文行楷"/>
              </a:rPr>
              <a:t>总结课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．中心思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　　课文通过回忆，记叙了伯父鲁迅给我留下深刻印象的几件事，反映了鲁迅先生对待学习认真严肃的态度，痛恨旧社会、热爱劳动人民的优秀品质，表达了作者对伯父鲁迅先生深切怀念和无比崇敬之情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．写作特点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　　（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）倒叙手法的应用。课文一开始，从伯父的追悼大会入笔，引出一个问题：“为什么伯父得到这么多人的爱戴？”给读者留下一个悬念，然后加以介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　　（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）材料丰富，选材恰当。文章选取了四件小事，反映了伯父的伟大品质，透过这几件小事，让读者看到了真实亲切的人物形象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　　（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）通过人物的语言、行动刻画人物。如鲁迅先生“碰壁”的语言表现了他的顽强的斗争精神和乐观主义态度；他对车夫的救助表现了对劳动人民的深切同情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799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799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799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799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47459" descr="780109963x0902007-fm02"/>
          <p:cNvPicPr/>
          <p:nvPr/>
        </p:nvPicPr>
        <p:blipFill>
          <a:blip r:embed="rId1"/>
          <a:stretch/>
        </p:blipFill>
        <p:spPr>
          <a:xfrm>
            <a:off x="271440" y="1057320"/>
            <a:ext cx="8543880" cy="52815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19520" y="4350960"/>
            <a:ext cx="29894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Garamond"/>
                <a:ea typeface="华文中宋"/>
              </a:rPr>
              <a:t>积累运用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63560" y="1714320"/>
            <a:ext cx="632772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、抄写课文中描写人物神态和表情的语句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、从自己抄写的语句中，选择对自己最有启发的仿写几句话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73734" descr="850_0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矩形 73731"/>
          <p:cNvSpPr txBox="1"/>
          <p:nvPr/>
        </p:nvSpPr>
        <p:spPr>
          <a:xfrm>
            <a:off x="3525840" y="2279520"/>
            <a:ext cx="323532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25955" descr="back1"/>
          <p:cNvPicPr/>
          <p:nvPr/>
        </p:nvPicPr>
        <p:blipFill>
          <a:blip r:embed="rId1"/>
          <a:stretch/>
        </p:blipFill>
        <p:spPr>
          <a:xfrm>
            <a:off x="290520" y="1060560"/>
            <a:ext cx="8507520" cy="5290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01480" y="2604600"/>
            <a:ext cx="82440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蔡元培主持了在万国公墓举行的葬仪，在哀乐声中，由宋庆龄、沈钧儒将一面绣着“民族魂”的白绸旗子，覆盖在灵柩上。人群在暮色中默哀，向这位倔强的旗手和战士告别。人群唱起了吕骥、冼星海临时谱写的</a:t>
            </a: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安息歌</a:t>
            </a: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：愿你安息，安息！愿你安息，安息，安息在土地里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组合 125959"/>
          <p:cNvGrpSpPr/>
          <p:nvPr/>
        </p:nvGrpSpPr>
        <p:grpSpPr>
          <a:xfrm>
            <a:off x="784080" y="0"/>
            <a:ext cx="8003880" cy="2037960"/>
            <a:chOff x="784080" y="0"/>
            <a:chExt cx="8003880" cy="2037960"/>
          </a:xfrm>
        </p:grpSpPr>
        <p:pic>
          <p:nvPicPr>
            <p:cNvPr id="103" name="图片 125956" descr="z2"/>
            <p:cNvPicPr/>
            <p:nvPr/>
          </p:nvPicPr>
          <p:blipFill>
            <a:blip r:embed="rId2"/>
            <a:stretch/>
          </p:blipFill>
          <p:spPr>
            <a:xfrm>
              <a:off x="6262200" y="0"/>
              <a:ext cx="2525760" cy="20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125957" descr="20060423002755815"/>
            <p:cNvPicPr/>
            <p:nvPr/>
          </p:nvPicPr>
          <p:blipFill>
            <a:blip r:embed="rId3"/>
            <a:stretch/>
          </p:blipFill>
          <p:spPr>
            <a:xfrm>
              <a:off x="3545640" y="71640"/>
              <a:ext cx="2540520" cy="19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125958" descr="pic_270743"/>
            <p:cNvPicPr/>
            <p:nvPr/>
          </p:nvPicPr>
          <p:blipFill>
            <a:blip r:embed="rId4"/>
            <a:stretch/>
          </p:blipFill>
          <p:spPr>
            <a:xfrm>
              <a:off x="784080" y="101160"/>
              <a:ext cx="2577600" cy="191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08549" descr="pic_228456"/>
          <p:cNvPicPr/>
          <p:nvPr/>
        </p:nvPicPr>
        <p:blipFill>
          <a:blip r:embed="rId1"/>
          <a:stretch/>
        </p:blipFill>
        <p:spPr>
          <a:xfrm>
            <a:off x="298440" y="1057320"/>
            <a:ext cx="8489880" cy="52815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08547" descr="pic_270753"/>
          <p:cNvPicPr/>
          <p:nvPr/>
        </p:nvPicPr>
        <p:blipFill>
          <a:blip r:embed="rId2"/>
          <a:stretch/>
        </p:blipFill>
        <p:spPr>
          <a:xfrm>
            <a:off x="1911240" y="3807000"/>
            <a:ext cx="6323040" cy="1630080"/>
          </a:xfrm>
          <a:prstGeom prst="rect">
            <a:avLst/>
          </a:prstGeom>
          <a:ln w="0">
            <a:noFill/>
          </a:ln>
        </p:spPr>
      </p:pic>
      <p:sp>
        <p:nvSpPr>
          <p:cNvPr id="108" name="矩形 108550"/>
          <p:cNvSpPr txBox="1"/>
          <p:nvPr/>
        </p:nvSpPr>
        <p:spPr>
          <a:xfrm>
            <a:off x="3274920" y="936720"/>
            <a:ext cx="26053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字词积累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grpSp>
        <p:nvGrpSpPr>
          <p:cNvPr id="109" name="组合 108553"/>
          <p:cNvGrpSpPr/>
          <p:nvPr/>
        </p:nvGrpSpPr>
        <p:grpSpPr>
          <a:xfrm>
            <a:off x="2752560" y="2325600"/>
            <a:ext cx="3911400" cy="486720"/>
            <a:chOff x="2752560" y="2325600"/>
            <a:chExt cx="3911400" cy="486720"/>
          </a:xfrm>
        </p:grpSpPr>
        <p:sp>
          <p:nvSpPr>
            <p:cNvPr id="110" name="文本框 108551"/>
            <p:cNvSpPr/>
            <p:nvPr/>
          </p:nvSpPr>
          <p:spPr>
            <a:xfrm>
              <a:off x="3267000" y="2352600"/>
              <a:ext cx="33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、给下面的字注音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1" name="图片 108552" descr="021u"/>
            <p:cNvPicPr/>
            <p:nvPr/>
          </p:nvPicPr>
          <p:blipFill>
            <a:blip r:embed="rId3"/>
            <a:stretch/>
          </p:blipFill>
          <p:spPr>
            <a:xfrm>
              <a:off x="2752560" y="2325600"/>
              <a:ext cx="4762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文本框 108554"/>
          <p:cNvSpPr/>
          <p:nvPr/>
        </p:nvSpPr>
        <p:spPr>
          <a:xfrm>
            <a:off x="2205000" y="3078000"/>
            <a:ext cx="10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文本框 108555"/>
          <p:cNvSpPr/>
          <p:nvPr/>
        </p:nvSpPr>
        <p:spPr>
          <a:xfrm>
            <a:off x="3267000" y="3106800"/>
            <a:ext cx="8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文本框 108556"/>
          <p:cNvSpPr/>
          <p:nvPr/>
        </p:nvSpPr>
        <p:spPr>
          <a:xfrm>
            <a:off x="4135320" y="3106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ú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文本框 108557"/>
          <p:cNvSpPr/>
          <p:nvPr/>
        </p:nvSpPr>
        <p:spPr>
          <a:xfrm>
            <a:off x="5138640" y="3092400"/>
            <a:ext cx="9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文本框 108558"/>
          <p:cNvSpPr/>
          <p:nvPr/>
        </p:nvSpPr>
        <p:spPr>
          <a:xfrm>
            <a:off x="6138720" y="3076560"/>
            <a:ext cx="11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gǎ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文本框 108559"/>
          <p:cNvSpPr/>
          <p:nvPr/>
        </p:nvSpPr>
        <p:spPr>
          <a:xfrm>
            <a:off x="7024680" y="3078000"/>
            <a:ext cx="133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uǎ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文本框 108560"/>
          <p:cNvSpPr/>
          <p:nvPr/>
        </p:nvSpPr>
        <p:spPr>
          <a:xfrm>
            <a:off x="1670040" y="5370480"/>
            <a:ext cx="160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uā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文本框 108561"/>
          <p:cNvSpPr/>
          <p:nvPr/>
        </p:nvSpPr>
        <p:spPr>
          <a:xfrm>
            <a:off x="3062160" y="5386320"/>
            <a:ext cx="12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iá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文本框 108562"/>
          <p:cNvSpPr/>
          <p:nvPr/>
        </p:nvSpPr>
        <p:spPr>
          <a:xfrm>
            <a:off x="4309920" y="53848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文本框 108563"/>
          <p:cNvSpPr/>
          <p:nvPr/>
        </p:nvSpPr>
        <p:spPr>
          <a:xfrm>
            <a:off x="5065560" y="5370480"/>
            <a:ext cx="12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ā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文本框 108564"/>
          <p:cNvSpPr/>
          <p:nvPr/>
        </p:nvSpPr>
        <p:spPr>
          <a:xfrm>
            <a:off x="6327720" y="5370480"/>
            <a:ext cx="8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文本框 108565"/>
          <p:cNvSpPr/>
          <p:nvPr/>
        </p:nvSpPr>
        <p:spPr>
          <a:xfrm>
            <a:off x="7184880" y="53560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ò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51556"/>
          <p:cNvSpPr/>
          <p:nvPr/>
        </p:nvSpPr>
        <p:spPr>
          <a:xfrm>
            <a:off x="749160" y="362520"/>
            <a:ext cx="760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体      殡仪馆       追悼      吊唁        挽联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致敬      爱抚          团聚        水浒传    情节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性     保存     小约翰         阴暗          呻吟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低微      镊子     硼酸水       敷药        寒意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深奥     详细        枯瘦         女佣          逝世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章        咳嗽      失声痛哭        囫囵吞枣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冠李戴          马马虎虎       恍然大悟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风怒号           匆匆忙忙      饱经风霜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52580"/>
          <p:cNvSpPr/>
          <p:nvPr/>
        </p:nvSpPr>
        <p:spPr>
          <a:xfrm>
            <a:off x="225360" y="1587600"/>
            <a:ext cx="920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体          殡仪馆          追悼      吊唁          挽联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致敬      爱抚          团聚        水浒传            情节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性         保存         小约翰            阴暗          呻吟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低微         镊子        硼酸水          敷药          寒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文本框 152581"/>
          <p:cNvSpPr/>
          <p:nvPr/>
        </p:nvSpPr>
        <p:spPr>
          <a:xfrm>
            <a:off x="863640" y="1025640"/>
            <a:ext cx="87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í tǐ   bìnyíguǎn  zhuīdào  diàoyàn     wǎn liá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文本框 152582"/>
          <p:cNvSpPr/>
          <p:nvPr/>
        </p:nvSpPr>
        <p:spPr>
          <a:xfrm>
            <a:off x="0" y="2011320"/>
            <a:ext cx="954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hìjìng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ánjù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uǐhǔz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qíngjié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文本框 152583"/>
          <p:cNvSpPr/>
          <p:nvPr/>
        </p:nvSpPr>
        <p:spPr>
          <a:xfrm>
            <a:off x="222120" y="2865600"/>
            <a:ext cx="9385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ì xìng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ǎocún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ǎoyuē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ī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ēn yín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文本框 152585"/>
          <p:cNvSpPr/>
          <p:nvPr/>
        </p:nvSpPr>
        <p:spPr>
          <a:xfrm>
            <a:off x="0" y="3689280"/>
            <a:ext cx="87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īwēi  nièzi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éngsuānshuǐ fū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án yì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53603"/>
          <p:cNvSpPr/>
          <p:nvPr/>
        </p:nvSpPr>
        <p:spPr>
          <a:xfrm>
            <a:off x="766800" y="1728720"/>
            <a:ext cx="8069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深奥     详细        枯瘦          女佣          逝世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文章        咳嗽       失声痛哭        囫囵吞枣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冠李戴            马马虎虎            恍然大悟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北风怒号           匆匆忙忙            饱经风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文本框 153604"/>
          <p:cNvSpPr/>
          <p:nvPr/>
        </p:nvSpPr>
        <p:spPr>
          <a:xfrm>
            <a:off x="401760" y="714240"/>
            <a:ext cx="874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ē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áng x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ūshòu  nǚ yōng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ì shì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文本框 153605"/>
          <p:cNvSpPr/>
          <p:nvPr/>
        </p:nvSpPr>
        <p:spPr>
          <a:xfrm>
            <a:off x="30240" y="2192400"/>
            <a:ext cx="911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énzhāng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ésòu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īshēngtòngkū  húlúntūn zǎo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文本框 153606"/>
          <p:cNvSpPr/>
          <p:nvPr/>
        </p:nvSpPr>
        <p:spPr>
          <a:xfrm>
            <a:off x="0" y="3608280"/>
            <a:ext cx="931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hāngguānlǐ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ǎmǎhǔh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ǎngrá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ù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文本框 153607"/>
          <p:cNvSpPr/>
          <p:nvPr/>
        </p:nvSpPr>
        <p:spPr>
          <a:xfrm>
            <a:off x="0" y="5057640"/>
            <a:ext cx="104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ěifēngnùháo   cōngcōngmángmáng   bǎojīngfēngshuāng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17773" descr="b49"/>
          <p:cNvPicPr/>
          <p:nvPr/>
        </p:nvPicPr>
        <p:blipFill>
          <a:blip r:embed="rId1"/>
          <a:stretch/>
        </p:blipFill>
        <p:spPr>
          <a:xfrm>
            <a:off x="311040" y="1060560"/>
            <a:ext cx="8520120" cy="5316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57280" y="1805040"/>
            <a:ext cx="237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追悼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失声痛哭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挽联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吊唁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囫囵吞枣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张冠李戴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饱经风霜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文本框 117763"/>
          <p:cNvSpPr/>
          <p:nvPr/>
        </p:nvSpPr>
        <p:spPr>
          <a:xfrm>
            <a:off x="2830680" y="177156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对死者表示沉痛的怀念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文本框 117764"/>
          <p:cNvSpPr/>
          <p:nvPr/>
        </p:nvSpPr>
        <p:spPr>
          <a:xfrm>
            <a:off x="2828880" y="2278080"/>
            <a:ext cx="58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仿宋"/>
              </a:rPr>
              <a:t>因悲痛过度而哽咽，哭不出声来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文本框 117765"/>
          <p:cNvSpPr/>
          <p:nvPr/>
        </p:nvSpPr>
        <p:spPr>
          <a:xfrm>
            <a:off x="2830680" y="2786040"/>
            <a:ext cx="31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哀悼死者的对联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文本框 117766"/>
          <p:cNvSpPr/>
          <p:nvPr/>
        </p:nvSpPr>
        <p:spPr>
          <a:xfrm>
            <a:off x="2816280" y="324972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仿宋"/>
              </a:rPr>
              <a:t>祭奠死者并慰问家属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文本框 117768"/>
          <p:cNvSpPr/>
          <p:nvPr/>
        </p:nvSpPr>
        <p:spPr>
          <a:xfrm>
            <a:off x="2786040" y="37274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把枣子整个吞下去。比喻不加分析地笼统接受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文本框 117769"/>
          <p:cNvSpPr/>
          <p:nvPr/>
        </p:nvSpPr>
        <p:spPr>
          <a:xfrm>
            <a:off x="2801880" y="4645080"/>
            <a:ext cx="53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仿宋"/>
              </a:rPr>
              <a:t>姓张的帽子戴在姓李的头上了。比喻弄错了对象或弄错了事实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文本框 117770"/>
          <p:cNvSpPr/>
          <p:nvPr/>
        </p:nvSpPr>
        <p:spPr>
          <a:xfrm>
            <a:off x="2814480" y="5587920"/>
            <a:ext cx="51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形容经历过很多的艰难困苦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组合 117775"/>
          <p:cNvGrpSpPr/>
          <p:nvPr/>
        </p:nvGrpSpPr>
        <p:grpSpPr>
          <a:xfrm>
            <a:off x="861840" y="1239840"/>
            <a:ext cx="4316400" cy="459720"/>
            <a:chOff x="861840" y="1239840"/>
            <a:chExt cx="4316400" cy="459720"/>
          </a:xfrm>
        </p:grpSpPr>
        <p:sp>
          <p:nvSpPr>
            <p:cNvPr id="145" name="文本框 117772"/>
            <p:cNvSpPr/>
            <p:nvPr/>
          </p:nvSpPr>
          <p:spPr>
            <a:xfrm>
              <a:off x="1317600" y="1239840"/>
              <a:ext cx="38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、解释以下词语的意义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6" name="图片 117774" descr="021u"/>
            <p:cNvPicPr/>
            <p:nvPr/>
          </p:nvPicPr>
          <p:blipFill>
            <a:blip r:embed="rId2"/>
            <a:stretch/>
          </p:blipFill>
          <p:spPr>
            <a:xfrm>
              <a:off x="861840" y="1257120"/>
              <a:ext cx="4762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2T06:31:11Z</dcterms:created>
  <dc:creator>鲁正娇</dc:creator>
  <dc:description/>
  <dc:language>en-US</dc:language>
  <cp:lastModifiedBy>wuhan</cp:lastModifiedBy>
  <dcterms:modified xsi:type="dcterms:W3CDTF">2017-10-12T06:31:45Z</dcterms:modified>
  <cp:revision>4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  <property fmtid="{D5CDD505-2E9C-101B-9397-08002B2CF9AE}" pid="3" name="Version">
    <vt:r8>1</vt:r8>
  </property>
</Properties>
</file>