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9.jpeg" ContentType="image/jpeg"/>
  <Override PartName="/ppt/media/image13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12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6.gif" ContentType="image/gif"/>
  <Override PartName="/ppt/media/image14.jpeg" ContentType="image/jpeg"/>
  <Override PartName="/ppt/media/image7.jpeg" ContentType="image/jpe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743F-60D5-40B2-96B4-9C308AC8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585B-9B4F-468C-8AFF-FB81D1ED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9AF-2BF7-4FA0-BEB8-05BB3B6E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1BD6-0464-461C-BD50-475DDBEF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C11-407C-4A95-B7AB-DA8D74F2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44B4-8D22-4A9B-B9F0-4DCC5C7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E120-2330-455F-9C1B-799A43A6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4A2A-594B-42C1-8E34-76A77154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6A5-5278-4931-AD9E-BE2D0E7E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735-CE3A-44B7-B28A-BE28FB6D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368-D5A8-418B-9F9B-C4DDAB3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4442-681E-427E-9971-4AEF561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4AFA-E369-430F-AB29-0F814DE13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hyperlink" Target="file:///F:/xx/&#23567;&#23398;&#29256;/&#20027;&#30028;&#38754;.ppt" TargetMode="External"/><Relationship Id="rId7" Type="http://schemas.openxmlformats.org/officeDocument/2006/relationships/image" Target="../media/image2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10.xml"/><Relationship Id="rId6" Type="http://schemas.openxmlformats.org/officeDocument/2006/relationships/image" Target="../media/image5.png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79840" y="228600"/>
            <a:ext cx="38142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ú       p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庐山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6095880"/>
            <a:ext cx="68580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文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词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生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8077320" y="5857920"/>
            <a:ext cx="1066680" cy="1000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pic>
        <p:nvPicPr>
          <p:cNvPr id="92" name="ZQ_007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15680" y="6400800"/>
            <a:ext cx="50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庐山风景            瀑布         飞流直下        文字介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庐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95" name="1-065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7" name="大天池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877320" y="55627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大天池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0" name="东林寺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1105920" y="56386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东林寺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-150840"/>
            <a:ext cx="9144000" cy="7008840"/>
            <a:chOff x="0" y="-150840"/>
            <a:chExt cx="9144000" cy="7008840"/>
          </a:xfrm>
        </p:grpSpPr>
        <p:pic>
          <p:nvPicPr>
            <p:cNvPr id="103" name="花径" descr=""/>
            <p:cNvPicPr/>
            <p:nvPr/>
          </p:nvPicPr>
          <p:blipFill>
            <a:blip r:embed="rId5"/>
            <a:stretch/>
          </p:blipFill>
          <p:spPr>
            <a:xfrm>
              <a:off x="0" y="-150840"/>
              <a:ext cx="9144000" cy="70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6289200" y="537696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花  径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0" y="0"/>
            <a:ext cx="9144000" cy="7086240"/>
            <a:chOff x="0" y="0"/>
            <a:chExt cx="9144000" cy="7086240"/>
          </a:xfrm>
        </p:grpSpPr>
        <p:pic>
          <p:nvPicPr>
            <p:cNvPr id="106" name="龙首崖" descr=""/>
            <p:cNvPicPr/>
            <p:nvPr/>
          </p:nvPicPr>
          <p:blipFill>
            <a:blip r:embed="rId6"/>
            <a:srcRect l="0" t="15276" r="0" b="34724"/>
            <a:stretch/>
          </p:blipFill>
          <p:spPr>
            <a:xfrm>
              <a:off x="0" y="0"/>
              <a:ext cx="9144000" cy="70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744960" y="5721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龙首崖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0" y="0"/>
            <a:ext cx="9144000" cy="7086600"/>
            <a:chOff x="0" y="0"/>
            <a:chExt cx="9144000" cy="7086600"/>
          </a:xfrm>
        </p:grpSpPr>
        <p:pic>
          <p:nvPicPr>
            <p:cNvPr id="109" name="桃花园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6652800" y="511488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桃花园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112" name="五老峰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20920" y="548640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五老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0" y="0"/>
            <a:ext cx="9144000" cy="7238880"/>
            <a:chOff x="0" y="0"/>
            <a:chExt cx="9144000" cy="7238880"/>
          </a:xfrm>
        </p:grpSpPr>
        <p:pic>
          <p:nvPicPr>
            <p:cNvPr id="115" name="三叠泉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723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7162920"/>
            <a:chOff x="0" y="0"/>
            <a:chExt cx="9144000" cy="7162920"/>
          </a:xfrm>
        </p:grpSpPr>
        <p:pic>
          <p:nvPicPr>
            <p:cNvPr id="118" name="三叠泉水" descr=""/>
            <p:cNvPicPr/>
            <p:nvPr/>
          </p:nvPicPr>
          <p:blipFill>
            <a:blip r:embed="rId1"/>
            <a:srcRect l="0" t="4441" r="0" b="10002"/>
            <a:stretch/>
          </p:blipFill>
          <p:spPr>
            <a:xfrm>
              <a:off x="0" y="0"/>
              <a:ext cx="9144000" cy="716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744960" y="5334120"/>
              <a:ext cx="1415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三叠泉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0" name="ANI_048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1596" descr="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1588" descr=""/>
          <p:cNvPicPr/>
          <p:nvPr/>
        </p:nvPicPr>
        <p:blipFill>
          <a:blip r:embed="rId2"/>
          <a:srcRect l="3336" t="4193" r="3336" b="90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676" descr=""/>
          <p:cNvPicPr/>
          <p:nvPr/>
        </p:nvPicPr>
        <p:blipFill>
          <a:blip r:embed="rId3"/>
          <a:srcRect l="0" t="6558" r="0" b="820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1585" descr=""/>
          <p:cNvPicPr/>
          <p:nvPr/>
        </p:nvPicPr>
        <p:blipFill>
          <a:blip r:embed="rId1"/>
          <a:srcRect l="0" t="4999" r="1412" b="833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ANI_048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1595(1)" descr=""/>
          <p:cNvPicPr/>
          <p:nvPr/>
        </p:nvPicPr>
        <p:blipFill>
          <a:blip r:embed="rId1"/>
          <a:srcRect l="0" t="1663" r="4000" b="4999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ALL01567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EUR0688" descr=""/>
          <p:cNvPicPr/>
          <p:nvPr/>
        </p:nvPicPr>
        <p:blipFill>
          <a:blip r:embed="rId3"/>
          <a:srcRect l="0" t="0" r="0" b="889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1584(1)" descr=""/>
          <p:cNvPicPr/>
          <p:nvPr/>
        </p:nvPicPr>
        <p:blipFill>
          <a:blip r:embed="rId4"/>
          <a:srcRect l="3294" t="1663" r="3294" b="667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677" descr=""/>
          <p:cNvPicPr/>
          <p:nvPr/>
        </p:nvPicPr>
        <p:blipFill>
          <a:blip r:embed="rId5"/>
          <a:srcRect l="5875" t="0" r="23531" b="0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572000" y="0"/>
            <a:ext cx="4572000" cy="6858000"/>
            <a:chOff x="4572000" y="0"/>
            <a:chExt cx="4572000" cy="6858000"/>
          </a:xfrm>
        </p:grpSpPr>
        <p:pic>
          <p:nvPicPr>
            <p:cNvPr id="132" name="3285(1)" descr=""/>
            <p:cNvPicPr/>
            <p:nvPr/>
          </p:nvPicPr>
          <p:blipFill>
            <a:blip r:embed="rId6"/>
            <a:srcRect l="2588" t="1663" r="1412" b="4999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ANI_048" descr=""/>
            <p:cNvPicPr/>
            <p:nvPr/>
          </p:nvPicPr>
          <p:blipFill>
            <a:blip r:embed="rId7"/>
            <a:stretch/>
          </p:blipFill>
          <p:spPr>
            <a:xfrm>
              <a:off x="8305920" y="60199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09080" y="1371600"/>
            <a:ext cx="4103640" cy="44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ǐ yā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日照香炉生紫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á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看瀑布挂前川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 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飞流直下三千尺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í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疑是银河落九天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02160" y="228600"/>
            <a:ext cx="381420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ú       p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望庐山瀑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ZQ_007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87400" y="6095880"/>
            <a:ext cx="5727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课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词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生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55000" y="838080"/>
            <a:ext cx="6886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炉    紫烟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下    瀑布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九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Q_007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87400" y="6095880"/>
            <a:ext cx="5727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课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词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生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87400" y="6095880"/>
            <a:ext cx="5727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课文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词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生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2800" spc="-1" strike="noStrike" u="sng">
                <a:solidFill>
                  <a:srgbClr val="cc99ff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田" descr=""/>
          <p:cNvPicPr/>
          <p:nvPr/>
        </p:nvPicPr>
        <p:blipFill>
          <a:blip r:embed="rId6"/>
          <a:stretch/>
        </p:blipFill>
        <p:spPr>
          <a:xfrm>
            <a:off x="1905120" y="121932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60640" y="167652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32840" y="16765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ZQ_007" descr="">
            <a:hlinkClick r:id="" action="ppaction://hlinkshowjump?jump=firstslide"/>
          </p:cNvPr>
          <p:cNvPicPr/>
          <p:nvPr/>
        </p:nvPicPr>
        <p:blipFill>
          <a:blip r:embed="rId7"/>
          <a:stretch/>
        </p:blipFill>
        <p:spPr>
          <a:xfrm>
            <a:off x="8305920" y="6019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46000" y="60958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      词语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田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60640" y="167652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2840" y="16765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40600" y="11430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746000" y="60958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      词语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田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160640" y="167652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32840" y="16765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64280" y="11430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46000" y="60958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      词语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田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60640" y="167652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332840" y="16765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64280" y="106668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746000" y="60958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      词语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田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160640" y="167652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32840" y="16765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64280" y="106668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望庐山瀑布-12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46000" y="609588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      词语      生字      资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田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5943600" cy="426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60640" y="1676520"/>
            <a:ext cx="683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瀑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紫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32840" y="1676520"/>
            <a:ext cx="683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40600" y="106668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尺</a:t>
            </a:r>
            <a:endParaRPr b="0" lang="en-US" sz="2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1:26:28Z</dcterms:created>
  <dc:creator>李萍</dc:creator>
  <dc:description/>
  <cp:keywords/>
  <dc:language>en-US</dc:language>
  <cp:lastModifiedBy>User</cp:lastModifiedBy>
  <cp:lastPrinted>1899-12-30T00:00:00Z</cp:lastPrinted>
  <dcterms:modified xsi:type="dcterms:W3CDTF">2015-09-01T14:11:41Z</dcterms:modified>
  <cp:revision>1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