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61A4-4BD8-4D18-B75A-6EE74B27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4DD0-FBB7-4805-B058-F5FEA064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21D-3015-4282-B714-D706ED7C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86F-BEA1-4B78-BBF5-E71967DA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266C-768E-4F17-851B-E7A8BE8A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4838-13DB-4145-A7D1-D396F10B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7A35-3925-460B-9D27-8B638D3F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73ED-CB4E-4CF8-905E-D24C7023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075F-1BA8-437E-96B8-12CA12E2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E595-F0BF-4F27-8F7B-3B0FD477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D8F1-9A81-4F48-B51D-4D51B04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1AE-F451-4484-BE03-FC431CA8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6B03-6769-44B1-BA38-C40CF02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3FF9-E621-4606-86F9-7DDD2C74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1F75-0965-40B6-8828-4CF930862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EF9E-999F-427E-9CD0-6F78758B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70E-0D7F-497F-8E10-DB85F20B3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DCA-8EAB-4EE0-AEFD-7E5FF584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771-5E15-4E79-A4BF-25D2E654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4E70-FC30-44B6-905E-F5FDBB04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C37-AD0D-420F-AB20-A9109F9E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4AF3-B8DF-44C1-A3BD-5B6B8FD0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E0C6-98EA-4F10-A319-C9251A70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5EBF-F669-4E7B-8FFD-4E0FC18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6680" y="633060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318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EBD4-5891-47FE-9D20-EB4EFCC2F4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1981080"/>
            <a:ext cx="685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2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0477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C1E-93ED-44AA-ACFA-DA67C4CF1BE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7"/>
          <p:cNvSpPr/>
          <p:nvPr/>
        </p:nvSpPr>
        <p:spPr>
          <a:xfrm>
            <a:off x="38131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4029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255920" y="214488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5435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75776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503712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2642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5478480" y="214488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4078080" y="262728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6" descr="logo"/>
          <p:cNvPicPr/>
          <p:nvPr/>
        </p:nvPicPr>
        <p:blipFill>
          <a:blip r:embed="rId2"/>
          <a:stretch/>
        </p:blipFill>
        <p:spPr>
          <a:xfrm>
            <a:off x="3116160" y="2133720"/>
            <a:ext cx="78264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Unbenannt-2"/>
          <p:cNvPicPr/>
          <p:nvPr/>
        </p:nvPicPr>
        <p:blipFill>
          <a:blip r:embed="rId2"/>
          <a:stretch/>
        </p:blipFill>
        <p:spPr>
          <a:xfrm>
            <a:off x="5724360" y="3378240"/>
            <a:ext cx="279720" cy="431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022280" y="1905120"/>
            <a:ext cx="2404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古诗两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望庐山瀑布》、《绝句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209680" y="-533520"/>
            <a:ext cx="5802480" cy="865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-82440"/>
            <a:ext cx="914400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7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日月星辰，风云雷电，山川树木，花鸟虫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……大自然是一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多姿多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画卷，是一本读不完的“书”。走进大自然，你一定会得到许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乐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发现许多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秘密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七     夕</a:t>
            </a:r>
            <a:br>
              <a:rPr sz="54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（唐）杜甫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牵牛在河西，织女处河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　 万古永相望，七夕谁见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古朗月行 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•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小时不识月， 呼作白玉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又疑瑶台镜， 飞在青云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仙人垂两足， 桂树何团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白兔捣药成， 问言与谁餐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457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望天门山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唐•李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天门中断楚江开，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碧水东流至此回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两岸青山相对出，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孤帆一片日边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562720" y="0"/>
            <a:ext cx="358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夜宿山寺 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                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 李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                      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危楼高百尺，手可摘星辰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　不敢高声语，恐惊天上人。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发三千丈，缘愁似个长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危楼高百尺，手可摘星辰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潭水深千尺，不及汪伦送我情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天门中断楚江开，碧水东流至此回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标题 1"/>
          <p:cNvSpPr/>
          <p:nvPr/>
        </p:nvSpPr>
        <p:spPr>
          <a:xfrm>
            <a:off x="3276720" y="2571840"/>
            <a:ext cx="4309920" cy="8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-3024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床前明月光，疑是地上霜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静夜思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疑瑶台镜，飞在青云端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      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《古朗月行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0" y="32446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PB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模板组：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xz_63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【老鬼作品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7"/>
          <p:cNvGrpSpPr/>
          <p:nvPr/>
        </p:nvGrpSpPr>
        <p:grpSpPr>
          <a:xfrm>
            <a:off x="2178000" y="3699000"/>
            <a:ext cx="4680000" cy="521640"/>
            <a:chOff x="2178000" y="3699000"/>
            <a:chExt cx="4680000" cy="521640"/>
          </a:xfrm>
        </p:grpSpPr>
        <p:sp>
          <p:nvSpPr>
            <p:cNvPr id="148" name="Text Box 5"/>
            <p:cNvSpPr/>
            <p:nvPr/>
          </p:nvSpPr>
          <p:spPr>
            <a:xfrm>
              <a:off x="2249280" y="3743280"/>
              <a:ext cx="450864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本模板作品由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PowerBar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模板组成员创作，部分图片素材来源于互联网，如有侵犯您的权利请即通知，立刻处理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您可以自由：复制、发行、展览、表演、放映、广播或通过信息网络传播本作品 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创作演绎作品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惟须遵守下列条件：您必须按照作者或者许可人指定的方式对作品进行署名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;</a:t>
              </a:r>
              <a:r>
                <a:rPr b="0" lang="zh-CN" sz="7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不得以盈利为目的对本模板进行出售、收费下载或者做非实质性改动之后进行类似的行为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2178000" y="3699000"/>
              <a:ext cx="46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24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66412353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467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1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xz_63【老鬼作品】</dc:creator>
  <dc:description>http://www.nordridesign.cn</dc:description>
  <cp:keywords>模板</cp:keywords>
  <dc:language>en-US</dc:language>
  <cp:lastModifiedBy>User</cp:lastModifiedBy>
  <dcterms:modified xsi:type="dcterms:W3CDTF">2014-12-01T14:00:03Z</dcterms:modified>
  <cp:revision>56</cp:revision>
  <dc:subject>海阔天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