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4B1-AD9F-44C8-89F7-2F4A0CAEB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B2A-DACA-4CA7-A200-E71D181C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600-3EA1-4B8A-8566-FEEBCE120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6376-1CED-4229-8297-AE28D965E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FA9C-CBEE-4CA1-8815-8CE1B5D2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74FB-D322-4F3D-A42A-1DD6604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E120-EDA1-462A-88C6-231B5713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F48B-10DD-47C7-83B0-F02078A1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413-BFDE-47A3-9F21-139EE103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F73-85D2-49A1-A5C9-4A952C7F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571-CD4E-401A-9281-B104676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21F-C47E-4976-89C1-5D631D34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4489-6496-443E-A342-49D61D1B4B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640"/>
            <a:ext cx="6840720" cy="6840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35280" y="404640"/>
            <a:ext cx="237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Arial"/>
              </a:rPr>
              <a:t>庐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708360" y="836640"/>
            <a:ext cx="7777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庐山瀑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日照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香炉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紫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遥看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瀑布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挂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前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飞流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直下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千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疑是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银河</a:t>
            </a:r>
            <a:r>
              <a:rPr b="1" lang="zh-CN" sz="4400" spc="-1" strike="noStrike">
                <a:solidFill>
                  <a:srgbClr val="ff6600"/>
                </a:solidFill>
                <a:latin typeface="Arial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落九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726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1341360"/>
            <a:ext cx="78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6280"/>
            <a:ext cx="8893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单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读诗句，看看插图，说说每行诗句的意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不理解的字词旁边做上“？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交流，尝试解决你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时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2436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8360" y="69228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照香炉生紫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700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59280" y="1700280"/>
            <a:ext cx="28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香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328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紫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2565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177336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3280" y="17733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香炉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256536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升腾起（变成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0920" y="328464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紫色的烟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422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释义：太阳照射在香炉峰上，高高的香炉峰上升腾起紫色的烟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1280" y="47628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看瀑布挂前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557360"/>
            <a:ext cx="46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2682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119700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前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1197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1341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悬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1268280"/>
            <a:ext cx="158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前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6360" y="1197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河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2565360"/>
            <a:ext cx="71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释义：远远望去，瀑布就像一条悬挂在山峰前面的大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71640" y="69228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飞流直下三千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7813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释义：长长的水流，飞快地从山上直泻而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55640" y="69228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疑是银河落九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62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九天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95640" y="1700280"/>
            <a:ext cx="65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的最高处。古人认为天有九重，最高的一重称为九天。诗里形容极高的天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6920" y="35733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3645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怀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458136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硬笔楷书简体"/>
              </a:rPr>
              <a:t>释义：真让人怀疑是天上的银河流到人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126828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《望庐山瀑布》这首诗描绘了（                     ）的壮丽景色，表达了作者（                           ）的情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1844640"/>
            <a:ext cx="41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庐山瀑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03640" y="2492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热爱大自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19280" y="234936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6600"/>
                </a:solidFill>
                <a:latin typeface="Arial"/>
              </a:rPr>
              <a:t>望庐山瀑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56000" y="1678680"/>
            <a:ext cx="67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李白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0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76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字太白，号青莲居士，唐朝诗人，有“诗仙”之称，最伟大的浪漫主义诗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的诗作特点：奇特的想象、比喻，出神入化的夸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2241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765000"/>
            <a:ext cx="79930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单一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放慢速度，像小诗人那样诵读这首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再读一遍，在你认为需要停顿的地方画上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/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时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4T13:12:32Z</dcterms:created>
  <dc:creator>User</dc:creator>
  <dc:description/>
  <dc:language>en-US</dc:language>
  <cp:lastModifiedBy>User</cp:lastModifiedBy>
  <dcterms:modified xsi:type="dcterms:W3CDTF">2014-12-01T13:58:30Z</dcterms:modified>
  <cp:revision>5</cp:revision>
  <dc:subject/>
  <dc:title>幻灯片 1</dc:title>
</cp:coreProperties>
</file>