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FA5-6D7A-476A-AE5C-7BAD4603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1BD-6EFB-4744-8CFA-DADC114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CDE-6043-4332-8E07-509EA267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115-52EB-4EAD-8D01-D649D4F3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9CB-66BE-45F7-BFCD-0EDC9527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568-CB02-4FE8-9F80-D4F64440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FEE-5406-47EC-B65A-2FC20383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A47-06E6-4DC7-82C4-0969C177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B33-346B-4EBF-9030-E07FCDE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A01-759A-44DE-BD4D-F6E582F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DA3-F651-41AE-8BE1-485B5598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9E0-E71C-49F3-98DD-A184ADB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B427-E692-4A49-879F-DF20C2A2F6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90,6,&#24187;&#28783;&#29255; 6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3"/>
          <a:stretch/>
        </p:blipFill>
        <p:spPr>
          <a:xfrm>
            <a:off x="5854680" y="585720"/>
            <a:ext cx="3600360" cy="2675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4680" y="873000"/>
            <a:ext cx="6291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r>
              <a:rPr b="1" lang="zh-CN" sz="6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年家长会</a:t>
            </a:r>
            <a:br>
              <a:rPr sz="6400"/>
            </a:b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012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Xue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nian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jia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zhang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h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6720" y="1989000"/>
            <a:ext cx="71265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切为了孩子的成长 </a:t>
            </a: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图片 8" descr=""/>
          <p:cNvPicPr/>
          <p:nvPr/>
        </p:nvPicPr>
        <p:blipFill>
          <a:blip r:embed="rId4"/>
          <a:stretch/>
        </p:blipFill>
        <p:spPr>
          <a:xfrm>
            <a:off x="0" y="4005360"/>
            <a:ext cx="5038560" cy="2917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"/>
          <p:cNvPicPr/>
          <p:nvPr/>
        </p:nvPicPr>
        <p:blipFill>
          <a:blip r:embed="rId5"/>
          <a:stretch/>
        </p:blipFill>
        <p:spPr>
          <a:xfrm>
            <a:off x="4356000" y="4076640"/>
            <a:ext cx="48229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3" descr=""/>
          <p:cNvPicPr/>
          <p:nvPr/>
        </p:nvPicPr>
        <p:blipFill>
          <a:blip r:embed="rId2"/>
          <a:srcRect l="0" t="0" r="0" b="6769"/>
          <a:stretch/>
        </p:blipFill>
        <p:spPr>
          <a:xfrm>
            <a:off x="4910040" y="3301920"/>
            <a:ext cx="428472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9" descr=""/>
          <p:cNvPicPr/>
          <p:nvPr/>
        </p:nvPicPr>
        <p:blipFill>
          <a:blip r:embed="rId3"/>
          <a:stretch/>
        </p:blipFill>
        <p:spPr>
          <a:xfrm>
            <a:off x="7020000" y="1701720"/>
            <a:ext cx="320760" cy="905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8" descr=""/>
          <p:cNvPicPr/>
          <p:nvPr/>
        </p:nvPicPr>
        <p:blipFill>
          <a:blip r:embed="rId4"/>
          <a:stretch/>
        </p:blipFill>
        <p:spPr>
          <a:xfrm>
            <a:off x="8467560" y="2355840"/>
            <a:ext cx="56844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5" descr=""/>
          <p:cNvPicPr/>
          <p:nvPr/>
        </p:nvPicPr>
        <p:blipFill>
          <a:blip r:embed="rId5"/>
          <a:stretch/>
        </p:blipFill>
        <p:spPr>
          <a:xfrm>
            <a:off x="135000" y="5330880"/>
            <a:ext cx="568440" cy="126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8600" y="379440"/>
            <a:ext cx="62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关注课程内容及进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341360"/>
            <a:ext cx="544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 关注孩子课堂表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34936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 关注孩子的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429000"/>
            <a:ext cx="544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 老师的一些建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3" descr=""/>
          <p:cNvPicPr/>
          <p:nvPr/>
        </p:nvPicPr>
        <p:blipFill>
          <a:blip r:embed="rId2"/>
          <a:srcRect l="0" t="0" r="0" b="6769"/>
          <a:stretch/>
        </p:blipFill>
        <p:spPr>
          <a:xfrm>
            <a:off x="4910040" y="3301920"/>
            <a:ext cx="4284720" cy="35560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9" descr=""/>
          <p:cNvPicPr/>
          <p:nvPr/>
        </p:nvPicPr>
        <p:blipFill>
          <a:blip r:embed="rId3"/>
          <a:stretch/>
        </p:blipFill>
        <p:spPr>
          <a:xfrm>
            <a:off x="7020000" y="1701720"/>
            <a:ext cx="320760" cy="9050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8" descr=""/>
          <p:cNvPicPr/>
          <p:nvPr/>
        </p:nvPicPr>
        <p:blipFill>
          <a:blip r:embed="rId4"/>
          <a:stretch/>
        </p:blipFill>
        <p:spPr>
          <a:xfrm>
            <a:off x="8467560" y="2355840"/>
            <a:ext cx="56844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75" descr=""/>
          <p:cNvPicPr/>
          <p:nvPr/>
        </p:nvPicPr>
        <p:blipFill>
          <a:blip r:embed="rId5"/>
          <a:stretch/>
        </p:blipFill>
        <p:spPr>
          <a:xfrm>
            <a:off x="135000" y="5330880"/>
            <a:ext cx="568440" cy="1265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8600" y="379440"/>
            <a:ext cx="64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关注课程内容及进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793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了解孩子每天的学习内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检查当天课本内容是否已订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67" name="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68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98600" y="37944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 关注孩子课堂表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55736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多询问孩子当天的课堂表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242100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表扬、肯定孩子的闪光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3357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及时引导孩子，纠正不良习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84" name="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85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98600" y="37944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 关注孩子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484280"/>
            <a:ext cx="63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了解作业组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357720"/>
            <a:ext cx="6328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a6a48"/>
                </a:solidFill>
                <a:uFillTx/>
                <a:latin typeface="Calibri"/>
                <a:hlinkClick r:id="rId7"/>
              </a:rPr>
              <a:t>3、数学作业各现象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严格要求订正和书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101" name="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102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15573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一：抄。（少数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2924280"/>
            <a:ext cx="63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三：依赖，拖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260360" y="220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二：漏题，错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357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四：在作业上打草稿，影响计算正确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118" name="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119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498600" y="37944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 老师的一些建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5573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重视口算能力的培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565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反馈孩子在家做作业的情况和问题，及时与老师沟通，共同解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" descr=""/>
          <p:cNvPicPr/>
          <p:nvPr/>
        </p:nvPicPr>
        <p:blipFill>
          <a:blip r:embed="rId3"/>
          <a:stretch/>
        </p:blipFill>
        <p:spPr>
          <a:xfrm>
            <a:off x="3716280" y="3727440"/>
            <a:ext cx="5427720" cy="3141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900000" y="1268280"/>
            <a:ext cx="6985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家长朋友们：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     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       </a:t>
            </a: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为了我们的孩子们日有长进，快乐成长，我们共同努力吧！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谢谢！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3:39:07Z</dcterms:created>
  <dc:creator>木贝贝女</dc:creator>
  <dc:description/>
  <dc:language>en-US</dc:language>
  <cp:lastModifiedBy>木贝贝女</cp:lastModifiedBy>
  <cp:lastPrinted>1899-12-30T00:00:00Z</cp:lastPrinted>
  <dcterms:modified xsi:type="dcterms:W3CDTF">2011-02-21T16:01:21Z</dcterms:modified>
  <cp:revision>14</cp:revision>
  <dc:subject/>
  <dc:title>合唱团的那些事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