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9.gif" ContentType="image/gif"/>
  <Override PartName="/ppt/media/image8.wmf" ContentType="image/x-wmf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467-20E6-42F0-B24C-CD98CA01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4C2-A411-4B2E-AF52-269BD97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D02-6C46-4288-9465-6FF16CBD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CB9-EFEB-4DAB-8AF6-5CAF82E6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2003-6A98-4F51-B989-DC69E29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D39-F191-47C6-9205-32018FC7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DC7D-7597-46D9-8023-A148F84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9F10-957E-49A6-9E14-5AE220A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893-DF36-42DC-879B-240C723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703F-68C0-47B3-94AB-DFC72355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4826-DF50-4194-9DB4-3C0F68F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77D-7A95-4FA8-8F6E-43C377F8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DCD-71AD-4D1E-85DB-2575BA8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210-68C0-4536-9EAA-09B1918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8F8-15A6-48A0-8166-CC469F5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16C4-7406-4B0D-9204-CD42C0F9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811-6C40-4FD5-B87B-5FF0FF74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D48-F424-447A-A684-A02EB661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DBC-51A6-4208-868F-49F4A06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106-2653-4B74-BFBD-106B8C3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820-EDA9-4A27-A09A-5872EE7D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CFD-E315-4F8C-9FB9-FDB45C4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774-12A4-45C6-9342-F8E0D80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9DE-158F-4127-A54F-2FECBE9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B15F-9AA7-489B-B183-DF0396CE09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CB1-238E-445A-9D8B-B3E72B83C3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00000" y="2708280"/>
            <a:ext cx="741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我们共同努力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4653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宏伟小学五年级家长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84360" y="333360"/>
            <a:ext cx="3673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成长</a:t>
            </a:r>
            <a:endParaRPr b="1" lang="en-US" sz="96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23" name="矩形 1" descr=""/>
          <p:cNvPicPr/>
          <p:nvPr/>
        </p:nvPicPr>
        <p:blipFill>
          <a:blip r:embed="rId2"/>
          <a:stretch/>
        </p:blipFill>
        <p:spPr>
          <a:xfrm rot="1225200">
            <a:off x="0" y="5516280"/>
            <a:ext cx="2556000" cy="981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19388400">
            <a:off x="6622920" y="5516280"/>
            <a:ext cx="25210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为了一切孩子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2602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经常给孩子制订几个容易达到的小目标，这样可以使孩子感觉到能够做到，树立孩子自信心，从而有利于孩子发挥出潜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37162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 对孩子的期望值不宜过高，我觉得从我们家长的角度来说，家长要定位你的期望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但你也要客观地看待孩子目前的水平。作为家长，主要的工作应该是给孩子一些鼓励和提醒。 实际上鼓励的确能给孩子提供自信，这才是家长和老师们都应该做好的事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76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订下家庭学习规矩，并且自始至终执行，以形成良好的学习习惯，作息习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、保持一致，始终如一。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家长有劲的时候，能够注意到孩子的问题，自己工作吃力了，或者情绪不好时，就懒得理孩子了。这种状况常常使孩子感觉到教育只是满足大人的需要。此外，目前许多孩子教育中还受到祖辈的影响，父母与上辈的教育观点不一致，常让孩子有机可乘，最终影响到教育效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4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、发现问题及时与老师联系，尤其是孩子思想上的问题，有时家长说的话孩子不听，孩子一般比较听老师的话，所以可以跟老师说说，让老师跟孩子说，效果还是比较好的。作为家长不要怕麻烦老师，教育孩子是我们大家的职责。但是，有些孩子比较调皮，对老师的话表面很听的，而背着老师想干什么就干什么，所以，需要我们经常联系，多交流孩子的情况，双方互相配合，让小问题消灭于萌芽状态，不要等问题严重了再找老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7696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家长主要做好以下四方面工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．督促孩子按时完成作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．督促孩子专心完成作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．督促孩子按要求认真书写作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．让孩子学会独立完成作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2533680"/>
            <a:ext cx="81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每天检查小孩的作业是否完成，并给予适当的辅导。有些家长觉得，我们把孩子送来了，老师就应该负责给我们教好孩子，如果让我们在家里陪孩子学，那要你老师干什么？我希望家长明白，孩子的学习不是一堂课、两堂课就能够一跃千里，或是一落万丈的，而家庭作业是针对一天学习新知识的一个巩固和复习，它的重要性可想而知，而如果家长在孩子刚入学就不在意家庭作业的检查和辅导，放任孩子，会导致几种情况出现：一、不完成作业，因为家长不过问，而使孩子养成为了玩或看电视，欺骗、隐瞒作业。二、字迹潦草，为了玩而应付作业。会使孩子形成不仅对家庭作业，进而提升至对考试，对学习都不负责的态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8000" y="1125360"/>
            <a:ext cx="7345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让孩子养成时间意识，作业不拖拉，在规定的时间内完成，有了好的学习习惯，对他以后都会终身受益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坚持每天的口算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培养孩子口算能力，要重在平时，贵在坚持，保证孩子口算练习的时间，最好天天练，每天练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-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口算练习不能急于求成，应多种方式交替使用，比如，和孩子一起算，看谁快；和孩子互相出题听算等等。时间场地也可以不固定，放学后、吃饭前、回家的路上……主要是使孩子不断具有新鲜感，不断激发口算的积极性，只有感兴趣，才能发挥天天练的效果，达到脱口而出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帮助孩子阅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阅读滋养心灵，阅读是打开知识宝库的钥匙，但阅读要讲究方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489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数学书或作业本上的题目，最好老师没有要求先不要让学生做，否则上课的时候做作业，他就没有事情做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5640" y="1844640"/>
            <a:ext cx="807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Arial Black"/>
              </a:rPr>
              <a:t>  </a:t>
            </a:r>
            <a:r>
              <a:rPr b="1" lang="zh-CN" sz="2800" spc="-1" strike="noStrike">
                <a:solidFill>
                  <a:srgbClr val="993300"/>
                </a:solidFill>
                <a:latin typeface="Arial Black"/>
              </a:rPr>
              <a:t> </a:t>
            </a: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达到预期效果，个别同学成绩差，原因是没有养成好的学习习惯，学习不刻苦。教师已经对学生讲了试卷，让家长签名，改了错题，并又做了一遍。今后家校联手，更好打造家校联系平台，齐抓共进，使这部分同学赶上来，并使全班同学的学习都有最大程度的提高。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692280"/>
            <a:ext cx="51134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1" lang="zh-CN" sz="4400" spc="-1" strike="noStrike">
                <a:solidFill>
                  <a:srgbClr val="3333cc"/>
                </a:solidFill>
                <a:latin typeface="Arial Black"/>
              </a:rPr>
              <a:t>关于期末考试问题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22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召开家长会的目的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155736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冬季预防传染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421000"/>
            <a:ext cx="7129440" cy="3079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注意空气流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多吃水果，多喝水，注意饮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生活有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锻炼身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71640" y="1557360"/>
            <a:ext cx="7488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孩子是我们永远的希望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教育孩子是我们共同的责任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就让我们携起手来，一起为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子的健康成长而努力吧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多沟通多交流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8840" y="1599840"/>
            <a:ext cx="7428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话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学校教育教学监督电话（着重强调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孙校长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3963676424   88022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班主任吴老师：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36786622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文孟老师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35836063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英语李老师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39636909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1557360"/>
            <a:ext cx="7488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孩子是我们永远的希望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教育孩子是我们共同的责任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就让我们携起手来，一起为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子的健康成长而努力吧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771280" y="1267920"/>
            <a:ext cx="518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最后祝各位家长心想事成，愿所有的宝贝健康成长！十分感谢各位家长对学校工作的支持，祝愿大家身体健康，春节快乐，万事如意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学生开学以来的常规和学习情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学校常规检查，卫生检查，做操检查、早读检查，期中考试质量分析会，学生优秀作业评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11196720" cy="7506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66920" y="2133720"/>
            <a:ext cx="5761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、学生的行为习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、上课的注意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、家庭作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4.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吃苦耐劳的精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9440" cy="115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11196720" cy="750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98720" y="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数学课的不足之处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268280"/>
            <a:ext cx="792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个别学生上课好动、不专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有作业不做的现象，个别家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检查不够仔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有学生学习用品不带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1700280"/>
            <a:ext cx="806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以上问题，我们老师一定会想办法去解决，但是学校教育离不开家庭教育，如果一个孩子没有良好的家庭教育，那么不管老师付出多大的努力，都收不到完美的效果，所以，在这里我向家长朋友们提几点建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5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835280" y="0"/>
            <a:ext cx="5181480" cy="3432240"/>
            <a:chOff x="1835280" y="0"/>
            <a:chExt cx="5181480" cy="3432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48292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83528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17733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      </a:t>
            </a:r>
            <a:r>
              <a:rPr b="0" lang="zh-CN" sz="2400" spc="-1" strike="noStrike">
                <a:solidFill>
                  <a:srgbClr val="3333cc"/>
                </a:solidFill>
                <a:latin typeface="Arial Black"/>
              </a:rPr>
              <a:t>作为孩子的班主任，我爱每一个孩子。我们的心情是一样的。所以在教学和班级管理中我也尽自己的所能，力争使这个班的每一个孩子都得到不同程度的提高，但有时也是心有余而力不足。如果我们工作中有想不到、做不到之处，盼望家长能及时与我们交流，只要为了您的孩子尽快成长，我们一定尽力而为。</a:t>
            </a:r>
            <a:br>
              <a:rPr sz="2400"/>
            </a:br>
            <a:r>
              <a:rPr b="0" lang="zh-CN" sz="2400" spc="-1" strike="noStrike">
                <a:solidFill>
                  <a:srgbClr val="3333cc"/>
                </a:solidFill>
                <a:latin typeface="Arial Black"/>
              </a:rPr>
              <a:t>     有些父母看到孩子成绩不理想就斥责甚至惩罚孩子，这是不妥的。学习习惯的养成是需要有一个过程的，家长要关注这个过程，学习的习惯和态度，定会有好成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76280"/>
            <a:ext cx="7704360" cy="764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 Black"/>
              </a:rPr>
              <a:t>家长跟学校配合的几点建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276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尽量表扬孩子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应该表扬就及时表扬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口头表扬一点不逊于物质奖励，而且往往效果更好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孩子具有一定的自信心，才会肯去学习，要使孩子每天都感觉到他在学习上取得了一定进步，哪怕是改正一个缺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941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多关心孩子的学习内容和实际进步程度，家长要多询问孩子最近学习了什么、掌握得如何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13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创造和睦、祥和、稳定的家庭气 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6028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平时应注意的问题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0:34:17Z</dcterms:created>
  <dc:creator>LXY</dc:creator>
  <dc:description/>
  <dc:language>en-US</dc:language>
  <cp:lastModifiedBy>微软用户</cp:lastModifiedBy>
  <dcterms:modified xsi:type="dcterms:W3CDTF">2013-01-23T07:44:02Z</dcterms:modified>
  <cp:revision>62</cp:revision>
  <dc:subject/>
  <dc:title>幻灯片 1</dc:title>
</cp:coreProperties>
</file>