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gif" ContentType="image/gif"/>
  <Override PartName="/ppt/media/image15.png" ContentType="image/png"/>
  <Override PartName="/ppt/media/image11.gif" ContentType="image/gif"/>
  <Override PartName="/ppt/media/image18.png" ContentType="image/png"/>
  <Override PartName="/ppt/media/image14.gif" ContentType="image/gif"/>
  <Override PartName="/ppt/media/image17.gif" ContentType="image/gif"/>
  <Override PartName="/ppt/media/image3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ED2-37B7-44BB-96E9-AF8E0A7A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1E9-AE46-4212-9222-6E9817AD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090-9D18-4CA3-A8D5-5564147B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DC8-7B9C-4C4C-B3AA-CCC62E80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67E0-DA7E-46B7-B750-1E388341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39A1-E295-452B-88BD-EB19A9E2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B503-A912-46D9-B944-015468AD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6EB4-ECEF-45F8-97AA-C6E5C196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F4D9-8DA5-4DD4-8043-2D574520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6A1A-A421-4727-8D08-915BBF91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AA8B-B18F-4B5F-9B18-A7ED08D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C81-0382-4ABF-B449-06B82829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2033-6512-4482-B74A-6399C7CA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909F-523F-4092-9DB4-674F421C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F819-5DB9-4188-AFDA-7F48F4DE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8CC1-FD8E-4E10-830D-35A172DE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28A8-CC79-49A9-A22E-2294580B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0E4-21BB-4814-B942-CC99F2AC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557-E940-4D53-92CF-E3E2566D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0FE-495D-48DA-9A15-6ED6CF76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0FF-87B0-4260-B57F-B068D20F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864-DF64-4E07-A367-6D721CB7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533-DC6C-4D78-AEEB-104B7E87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4D4-63FA-482D-A5B4-CCF8F16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e1ce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5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248520"/>
            <a:ext cx="2895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99AF-E47D-49BA-80DA-ABB7B8F5E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" name="Picture 34" descr="PIC_120"/>
          <p:cNvPicPr/>
          <p:nvPr/>
        </p:nvPicPr>
        <p:blipFill>
          <a:blip r:embed="rId10"/>
          <a:srcRect l="30871" t="51160" r="34202" b="24493"/>
          <a:stretch/>
        </p:blipFill>
        <p:spPr>
          <a:xfrm>
            <a:off x="6934320" y="5772240"/>
            <a:ext cx="1512720" cy="1085760"/>
          </a:xfrm>
          <a:prstGeom prst="rect">
            <a:avLst/>
          </a:prstGeom>
          <a:ln w="0">
            <a:noFill/>
          </a:ln>
        </p:spPr>
      </p:pic>
      <p:sp>
        <p:nvSpPr>
          <p:cNvPr id="33" name="Text Box 35"/>
          <p:cNvSpPr/>
          <p:nvPr/>
        </p:nvSpPr>
        <p:spPr>
          <a:xfrm>
            <a:off x="708660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华文隶书"/>
              </a:rPr>
              <a:t>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" name="Text Box 36"/>
          <p:cNvSpPr/>
          <p:nvPr/>
        </p:nvSpPr>
        <p:spPr>
          <a:xfrm>
            <a:off x="7848720" y="5791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隶书"/>
              </a:rPr>
              <a:t>回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72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e1ce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4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5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5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3BED-AA5C-4D2E-87ED-2940F122881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57,3,&#24187;&#28783;&#29255; 3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3,7,&#24187;&#28783;&#29255; 7" TargetMode="External"/><Relationship Id="rId2" Type="http://schemas.openxmlformats.org/officeDocument/2006/relationships/hyperlink" Target="258,4,&#23398;&#20064;&#35838;&#25991;&#31532;&#19968;&#27573;&#65288;1&#12289;2&#33258;&#28982;&#27573;&#65289;" TargetMode="External"/><Relationship Id="rId3" Type="http://schemas.openxmlformats.org/officeDocument/2006/relationships/hyperlink" Target="262,6,&#24187;&#28783;&#29255; 6" TargetMode="External"/><Relationship Id="rId4" Type="http://schemas.openxmlformats.org/officeDocument/2006/relationships/hyperlink" Target="264,8,&#24187;&#28783;&#29255; 8" TargetMode="External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0" name="Picture 3" descr="F:\PPT\710b\20120327224006_hVhKm.thumb.600_0.jpeg"/>
          <p:cNvPicPr/>
          <p:nvPr/>
        </p:nvPicPr>
        <p:blipFill>
          <a:blip r:embed="rId1"/>
          <a:stretch/>
        </p:blipFill>
        <p:spPr>
          <a:xfrm>
            <a:off x="1908000" y="2421000"/>
            <a:ext cx="4857840" cy="363852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2" descr=""/>
          <p:cNvPicPr/>
          <p:nvPr/>
        </p:nvPicPr>
        <p:blipFill>
          <a:blip r:embed="rId2"/>
          <a:stretch/>
        </p:blipFill>
        <p:spPr>
          <a:xfrm>
            <a:off x="2376360" y="620640"/>
            <a:ext cx="4033800" cy="264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7"/>
          <p:cNvSpPr/>
          <p:nvPr/>
        </p:nvSpPr>
        <p:spPr>
          <a:xfrm>
            <a:off x="1876320" y="616572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762120" y="38088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1219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黑体"/>
              </a:rPr>
              <a:t>吃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2514600" y="1676520"/>
            <a:ext cx="990720" cy="0"/>
          </a:xfrm>
          <a:prstGeom prst="line">
            <a:avLst/>
          </a:prstGeom>
          <a:ln w="507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733920" y="12193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鲸吃食量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非常大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85800" y="20574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须鲸主要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吃虾和小鱼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，一顿就可以吃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000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多公斤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762120" y="35812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齿鲸主要吃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大鱼和海兽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。有一种号称“海中之虎”的虎鲸，常常好几十头结成一群，围住一头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多吨重的长须鲸，几个小时就把它吃光了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459440" y="22860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990720" y="1295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鲸用肺呼吸，呼气时会形成一股水柱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3" name="Picture 4" descr="A5_320"/>
          <p:cNvPicPr/>
          <p:nvPr/>
        </p:nvPicPr>
        <p:blipFill>
          <a:blip r:embed="rId1"/>
          <a:stretch/>
        </p:blipFill>
        <p:spPr>
          <a:xfrm>
            <a:off x="838080" y="2743200"/>
            <a:ext cx="3200400" cy="23684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3733920" y="2438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须鲸的水柱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49568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垂直的，又细又高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4231800" y="3962520"/>
            <a:ext cx="19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齿鲸的水柱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5241600" y="4724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倾斜的，又粗又矮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1383120" y="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99072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每天都要睡觉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。请同学们根据课文的叙述想象一下，把鲸睡觉的样子画下来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1" name="Picture 9" descr="A5_050"/>
          <p:cNvPicPr/>
          <p:nvPr/>
        </p:nvPicPr>
        <p:blipFill>
          <a:blip r:embed="rId1"/>
          <a:stretch/>
        </p:blipFill>
        <p:spPr>
          <a:xfrm>
            <a:off x="609480" y="4724280"/>
            <a:ext cx="2514600" cy="2013120"/>
          </a:xfrm>
          <a:prstGeom prst="rect">
            <a:avLst/>
          </a:prstGeom>
          <a:ln w="0">
            <a:noFill/>
          </a:ln>
        </p:spPr>
      </p:pic>
      <p:pic>
        <p:nvPicPr>
          <p:cNvPr id="232" name="MTM_040.MID" descr=""/>
          <p:cNvPicPr/>
          <p:nvPr/>
        </p:nvPicPr>
        <p:blipFill>
          <a:blip r:embed="rId2"/>
          <a:stretch/>
        </p:blipFill>
        <p:spPr>
          <a:xfrm>
            <a:off x="5562720" y="6324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1"/>
          <p:cNvSpPr/>
          <p:nvPr/>
        </p:nvSpPr>
        <p:spPr>
          <a:xfrm>
            <a:off x="1066680" y="28954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鲸为什么这样睡觉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295280" y="3657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这是一种自我保护，一旦有危险就可以四散游开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459440" y="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14400" y="11430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鲸是如何繁养后代的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143000" y="20574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（ 胎生    哺乳 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914400" y="2819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肺呼吸、胎生、哺乳这些特征说明鲸是哺乳动物，不是鱼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0" name="Picture 6" descr="A5_052"/>
          <p:cNvPicPr/>
          <p:nvPr/>
        </p:nvPicPr>
        <p:blipFill>
          <a:blip r:embed="rId1"/>
          <a:stretch/>
        </p:blipFill>
        <p:spPr>
          <a:xfrm>
            <a:off x="7010280" y="228600"/>
            <a:ext cx="181296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53352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说明方法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590920" y="609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Times New Roman"/>
                <a:ea typeface="黑体"/>
              </a:rPr>
              <a:t>举数字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867280" y="609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Times New Roman"/>
                <a:ea typeface="黑体"/>
              </a:rPr>
              <a:t>比较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441320" y="609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Times New Roman"/>
                <a:ea typeface="黑体"/>
              </a:rPr>
              <a:t>举例子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85800" y="1523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用列举数字的方法介绍一种事物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762120" y="2514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例一：这条长廊有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700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多米长，分成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间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762120" y="3733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例二：这是一座联拱桥，总长约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65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米，有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4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根望柱，每个柱子上都雕着狮子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9" name="Picture 10" descr="A5_220"/>
          <p:cNvPicPr/>
          <p:nvPr/>
        </p:nvPicPr>
        <p:blipFill>
          <a:blip r:embed="rId1"/>
          <a:stretch/>
        </p:blipFill>
        <p:spPr>
          <a:xfrm>
            <a:off x="7162920" y="228600"/>
            <a:ext cx="175248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80880" y="2743200"/>
            <a:ext cx="11430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7c6148"/>
                </a:solidFill>
                <a:uFillTx/>
                <a:latin typeface="Times New Roman"/>
                <a:ea typeface="楷体_GB2312"/>
                <a:hlinkClick r:id="rId1"/>
              </a:rPr>
              <a:t>鲸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752480" y="106668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形        体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905120" y="220968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演        化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905120" y="32767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种        类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905120" y="43434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生活习性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Line 7"/>
          <p:cNvSpPr/>
          <p:nvPr/>
        </p:nvSpPr>
        <p:spPr>
          <a:xfrm flipH="1">
            <a:off x="1295280" y="1447920"/>
            <a:ext cx="609840" cy="1523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Line 8"/>
          <p:cNvSpPr/>
          <p:nvPr/>
        </p:nvSpPr>
        <p:spPr>
          <a:xfrm flipV="1">
            <a:off x="1295280" y="274320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1295280" y="3505320"/>
            <a:ext cx="685800" cy="304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1143000" y="3657600"/>
            <a:ext cx="91440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666880" y="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17 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鲸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48006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a1c2d"/>
                </a:solidFill>
                <a:latin typeface="Times New Roman"/>
                <a:ea typeface="楷体_GB2312"/>
              </a:rPr>
              <a:t>巨大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5867280" y="114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a1c2d"/>
                </a:solidFill>
                <a:latin typeface="Times New Roman"/>
                <a:ea typeface="楷体_GB2312"/>
              </a:rPr>
              <a:t>世界上最大的动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4876920" y="1905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陆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6019920" y="2209680"/>
            <a:ext cx="152388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769608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海洋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4800600" y="251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像牛羊一样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6095880" y="2819520"/>
            <a:ext cx="137160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731520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像鱼的样子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4876920" y="33526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齿鲸    须鲸    虎鲸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571500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经过很长时间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 flipV="1">
            <a:off x="4495680" y="2209320"/>
            <a:ext cx="381240" cy="3049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4495680" y="2743200"/>
            <a:ext cx="381240" cy="152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4952880" y="4267080"/>
            <a:ext cx="91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吃食    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49528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呼吸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6553080" y="4648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用肺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49528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睡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Text Box 28"/>
          <p:cNvSpPr/>
          <p:nvPr/>
        </p:nvSpPr>
        <p:spPr>
          <a:xfrm>
            <a:off x="65530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量大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6553080" y="5105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围成一团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4952880" y="5715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繁养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Text Box 31"/>
          <p:cNvSpPr/>
          <p:nvPr/>
        </p:nvSpPr>
        <p:spPr>
          <a:xfrm>
            <a:off x="6553080" y="5715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胎生   哺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0" name="Picture 36" descr="A5_220"/>
          <p:cNvPicPr/>
          <p:nvPr/>
        </p:nvPicPr>
        <p:blipFill>
          <a:blip r:embed="rId2"/>
          <a:stretch/>
        </p:blipFill>
        <p:spPr>
          <a:xfrm>
            <a:off x="6858000" y="0"/>
            <a:ext cx="175248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Picture 3" descr="BJ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676520" y="20574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教学目的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120" y="20574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课文学习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676520" y="32004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习题精解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257800" y="32767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生字新词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Picture 8" descr="A5_050"/>
          <p:cNvPicPr/>
          <p:nvPr/>
        </p:nvPicPr>
        <p:blipFill>
          <a:blip r:embed="rId2"/>
          <a:stretch/>
        </p:blipFill>
        <p:spPr>
          <a:xfrm>
            <a:off x="914400" y="1905120"/>
            <a:ext cx="1447920" cy="1158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A5_050"/>
          <p:cNvPicPr/>
          <p:nvPr/>
        </p:nvPicPr>
        <p:blipFill>
          <a:blip r:embed="rId3"/>
          <a:stretch/>
        </p:blipFill>
        <p:spPr>
          <a:xfrm>
            <a:off x="4648320" y="3184560"/>
            <a:ext cx="1447560" cy="115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A5_050"/>
          <p:cNvPicPr/>
          <p:nvPr/>
        </p:nvPicPr>
        <p:blipFill>
          <a:blip r:embed="rId4"/>
          <a:stretch/>
        </p:blipFill>
        <p:spPr>
          <a:xfrm>
            <a:off x="990720" y="3200400"/>
            <a:ext cx="1447560" cy="11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A5_050"/>
          <p:cNvPicPr/>
          <p:nvPr/>
        </p:nvPicPr>
        <p:blipFill>
          <a:blip r:embed="rId5"/>
          <a:stretch/>
        </p:blipFill>
        <p:spPr>
          <a:xfrm>
            <a:off x="4724280" y="1981080"/>
            <a:ext cx="1371600" cy="1096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4"/>
          <p:cNvSpPr/>
          <p:nvPr/>
        </p:nvSpPr>
        <p:spPr>
          <a:xfrm>
            <a:off x="533520" y="5638680"/>
            <a:ext cx="3047760" cy="1191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第     册  语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4" name="Picture 28" descr="SU_082"/>
          <p:cNvPicPr/>
          <p:nvPr/>
        </p:nvPicPr>
        <p:blipFill>
          <a:blip r:embed="rId6"/>
          <a:stretch/>
        </p:blipFill>
        <p:spPr>
          <a:xfrm>
            <a:off x="1143000" y="5562720"/>
            <a:ext cx="74304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A5_320"/>
          <p:cNvPicPr/>
          <p:nvPr/>
        </p:nvPicPr>
        <p:blipFill>
          <a:blip r:embed="rId7"/>
          <a:stretch/>
        </p:blipFill>
        <p:spPr>
          <a:xfrm>
            <a:off x="304920" y="0"/>
            <a:ext cx="2133360" cy="1577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A5_039"/>
          <p:cNvPicPr/>
          <p:nvPr/>
        </p:nvPicPr>
        <p:blipFill>
          <a:blip r:embed="rId8"/>
          <a:stretch/>
        </p:blipFill>
        <p:spPr>
          <a:xfrm>
            <a:off x="4343400" y="4973760"/>
            <a:ext cx="3352680" cy="1884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114800" y="3581280"/>
            <a:ext cx="26668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7c6148"/>
                </a:solidFill>
                <a:uFillTx/>
                <a:latin typeface="Times New Roman"/>
                <a:ea typeface="楷体_GB2312"/>
                <a:hlinkClick r:id="rId1"/>
              </a:rPr>
              <a:t>种        类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2590920" y="304812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鲸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962520" y="1371600"/>
            <a:ext cx="28954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 </a:t>
            </a:r>
            <a:r>
              <a:rPr b="0" lang="zh-CN" sz="4800" spc="-1" strike="noStrike" u="sng">
                <a:solidFill>
                  <a:srgbClr val="7c6148"/>
                </a:solidFill>
                <a:uFillTx/>
                <a:latin typeface="Times New Roman"/>
                <a:ea typeface="楷体_GB2312"/>
                <a:hlinkClick r:id="rId2"/>
              </a:rPr>
              <a:t>形        体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114800" y="2514600"/>
            <a:ext cx="2895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7c6148"/>
                </a:solidFill>
                <a:uFillTx/>
                <a:latin typeface="Times New Roman"/>
                <a:ea typeface="楷体_GB2312"/>
                <a:hlinkClick r:id="rId3"/>
              </a:rPr>
              <a:t>演        化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4648320"/>
            <a:ext cx="2819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7c6148"/>
                </a:solidFill>
                <a:uFillTx/>
                <a:latin typeface="Times New Roman"/>
                <a:ea typeface="楷体_GB2312"/>
                <a:hlinkClick r:id="rId4"/>
              </a:rPr>
              <a:t>生活习性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3504960" y="1752480"/>
            <a:ext cx="609480" cy="15242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3505320" y="3047760"/>
            <a:ext cx="76176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3505320" y="3809880"/>
            <a:ext cx="685800" cy="304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3352680" y="3962520"/>
            <a:ext cx="91440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505320" y="0"/>
            <a:ext cx="28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17 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鲸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6553080" y="5715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9" name="Picture 36" descr="A5_220"/>
          <p:cNvPicPr/>
          <p:nvPr/>
        </p:nvPicPr>
        <p:blipFill>
          <a:blip r:embed="rId5"/>
          <a:stretch/>
        </p:blipFill>
        <p:spPr>
          <a:xfrm>
            <a:off x="609480" y="457200"/>
            <a:ext cx="2438640" cy="1805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905120" y="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黑体"/>
              </a:rPr>
              <a:t>生活在海洋中的鲸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2" name="Output.avi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46958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5334120" y="990720"/>
            <a:ext cx="24382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鲸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一段（</a:t>
            </a:r>
            <a:r>
              <a:rPr b="1" lang="en-US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、</a:t>
            </a:r>
            <a:r>
              <a:rPr b="1" lang="en-US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自然段）</a:t>
            </a:r>
            <a:endParaRPr b="0" lang="en-US" sz="48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读第一段，你明白了鲸的体形最明显的的特点是什么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85800" y="21337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你是从哪几出处看出来的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914400" y="1600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大、庞然大物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066680" y="29718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最大的鲸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，最小的也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066680" y="3505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国捕获过一头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的鲸，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米长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条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舌头就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十几头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大肥猪那么重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85800" y="44956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作者为什么要这样写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066680" y="5029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列举数字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举例子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相比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的方法告诉我们鲸是很大很大的动物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1066680" y="2514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比大象大得多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一段（</a:t>
            </a:r>
            <a:r>
              <a:rPr b="1" lang="en-US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自然段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7" name="鲸(2段).avi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2368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80880" y="10666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读第二自然段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想想它属于鱼类吗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它是怎样由陆地到海洋的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962720" y="1219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鲸是怎样演化成鱼的样子的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1" name="Picture 3" descr="A5_050"/>
          <p:cNvPicPr/>
          <p:nvPr/>
        </p:nvPicPr>
        <p:blipFill>
          <a:blip r:embed="rId1"/>
          <a:stretch/>
        </p:blipFill>
        <p:spPr>
          <a:xfrm>
            <a:off x="0" y="83808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380880" y="35053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 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很远的古代”、“很长很长的年代”、“渐渐”等词语说明这个进化过程是漫长的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85800" y="2286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陆地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048120" y="22860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浅海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5695920" y="2209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海洋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981080" y="2666880"/>
            <a:ext cx="11430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343400" y="2666880"/>
            <a:ext cx="11430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80880" y="4724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我们人类由猿进化而来也是如此，这个过程也是很长很长的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0" y="0"/>
            <a:ext cx="794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一段（</a:t>
            </a:r>
            <a:r>
              <a:rPr b="1" lang="en-US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自然段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367280" y="0"/>
            <a:ext cx="521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二段（</a:t>
            </a:r>
            <a:r>
              <a:rPr b="1" lang="en-US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自然段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80880" y="27432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鲸的种类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581280" y="14479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须鲸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581280" y="39625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齿鲸（虎鲸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 flipV="1">
            <a:off x="2971800" y="2133720"/>
            <a:ext cx="762120" cy="7617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2895480" y="3505320"/>
            <a:ext cx="685800" cy="6858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7" name="Picture 10" descr="A5_052"/>
          <p:cNvPicPr/>
          <p:nvPr/>
        </p:nvPicPr>
        <p:blipFill>
          <a:blip r:embed="rId1"/>
          <a:stretch/>
        </p:blipFill>
        <p:spPr>
          <a:xfrm>
            <a:off x="6248520" y="838080"/>
            <a:ext cx="249876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1"/>
          <p:cNvSpPr/>
          <p:nvPr/>
        </p:nvSpPr>
        <p:spPr>
          <a:xfrm>
            <a:off x="152280" y="6367320"/>
            <a:ext cx="45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樟树实验小学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04920" y="0"/>
            <a:ext cx="852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三段（</a:t>
            </a:r>
            <a:r>
              <a:rPr b="1" lang="en-US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4--7</a:t>
            </a: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自然段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85800" y="12193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一部分从哪几个方面介绍鲸的生活习性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572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（吃食  呼吸  睡觉  生长）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85800" y="44197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些方面都有什么特点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9:41:26Z</dcterms:created>
  <dc:creator>曾德智</dc:creator>
  <dc:description>第一PPT模板网-WWW.1PPT.COM</dc:description>
  <dc:language>en-US</dc:language>
  <cp:lastModifiedBy>wuhan</cp:lastModifiedBy>
  <dcterms:modified xsi:type="dcterms:W3CDTF">2017-10-18T02:01:47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