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F4E-208F-4AF8-8CF2-2C2D2646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1EB-7038-4552-9639-3598BB0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F32-E7A9-4FB6-B9BB-454F24FD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B92-273C-43BF-85E1-1D55E9AB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B2E-F2AA-4F36-AFA4-318276A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2E0-FE66-4AA2-84EE-F679998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132-DB6A-4281-BC18-EAC5EB2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FA9-64E2-4DF5-A4E0-DEF1339C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318-E84C-42CF-AFCE-EAB1382C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8A2-E6E1-4378-806F-3E97528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F1D-AE2F-4DAA-A05C-594D5FC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479-265E-4628-83E4-F0460E3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AEE8-5992-4C4B-96F7-AACFDED7EC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90,6,&#24187;&#28783;&#29255; 6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3"/>
          <a:stretch/>
        </p:blipFill>
        <p:spPr>
          <a:xfrm>
            <a:off x="5854680" y="585720"/>
            <a:ext cx="3600360" cy="2675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4680" y="873000"/>
            <a:ext cx="6291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</a:t>
            </a:r>
            <a:r>
              <a:rPr b="1" lang="en-US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年家长会</a:t>
            </a:r>
            <a:br>
              <a:rPr sz="6400"/>
            </a:b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01</a:t>
            </a: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Xue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nian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jia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zhang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h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6720" y="1989000"/>
            <a:ext cx="71265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切为了孩子的成长 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8" descr=""/>
          <p:cNvPicPr/>
          <p:nvPr/>
        </p:nvPicPr>
        <p:blipFill>
          <a:blip r:embed="rId4"/>
          <a:stretch/>
        </p:blipFill>
        <p:spPr>
          <a:xfrm>
            <a:off x="0" y="4005360"/>
            <a:ext cx="5038560" cy="2917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"/>
          <p:cNvPicPr/>
          <p:nvPr/>
        </p:nvPicPr>
        <p:blipFill>
          <a:blip r:embed="rId5"/>
          <a:stretch/>
        </p:blipFill>
        <p:spPr>
          <a:xfrm>
            <a:off x="4321080" y="4068720"/>
            <a:ext cx="4822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4102"/>
          <p:cNvSpPr/>
          <p:nvPr/>
        </p:nvSpPr>
        <p:spPr>
          <a:xfrm>
            <a:off x="498600" y="379440"/>
            <a:ext cx="62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4103"/>
          <p:cNvSpPr/>
          <p:nvPr/>
        </p:nvSpPr>
        <p:spPr>
          <a:xfrm>
            <a:off x="395280" y="134136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4104"/>
          <p:cNvSpPr/>
          <p:nvPr/>
        </p:nvSpPr>
        <p:spPr>
          <a:xfrm>
            <a:off x="468360" y="234936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的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4105"/>
          <p:cNvSpPr/>
          <p:nvPr/>
        </p:nvSpPr>
        <p:spPr>
          <a:xfrm>
            <a:off x="539640" y="342900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5126"/>
          <p:cNvSpPr/>
          <p:nvPr/>
        </p:nvSpPr>
        <p:spPr>
          <a:xfrm>
            <a:off x="498600" y="379440"/>
            <a:ext cx="64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5127"/>
          <p:cNvSpPr/>
          <p:nvPr/>
        </p:nvSpPr>
        <p:spPr>
          <a:xfrm>
            <a:off x="539640" y="1793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孩子每天的学习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5128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检查当天课本内容是否已订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6147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67" name="组合 6148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68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6158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6159"/>
          <p:cNvSpPr/>
          <p:nvPr/>
        </p:nvSpPr>
        <p:spPr>
          <a:xfrm>
            <a:off x="1332000" y="15573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多询问孩子当天的课堂表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6160"/>
          <p:cNvSpPr/>
          <p:nvPr/>
        </p:nvSpPr>
        <p:spPr>
          <a:xfrm>
            <a:off x="1332000" y="242100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表扬、肯定孩子的闪光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6161"/>
          <p:cNvSpPr/>
          <p:nvPr/>
        </p:nvSpPr>
        <p:spPr>
          <a:xfrm>
            <a:off x="1403280" y="3357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及时引导孩子，纠正不良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7171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84" name="组合 7172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85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7182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7183"/>
          <p:cNvSpPr/>
          <p:nvPr/>
        </p:nvSpPr>
        <p:spPr>
          <a:xfrm>
            <a:off x="1187280" y="148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作业组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7184"/>
          <p:cNvSpPr/>
          <p:nvPr/>
        </p:nvSpPr>
        <p:spPr>
          <a:xfrm>
            <a:off x="1187280" y="3357720"/>
            <a:ext cx="6328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a6a48"/>
                </a:solidFill>
                <a:uFillTx/>
                <a:latin typeface="Calibri"/>
                <a:hlinkClick r:id="rId7"/>
              </a:rPr>
              <a:t>3、数学作业各现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185"/>
          <p:cNvSpPr/>
          <p:nvPr/>
        </p:nvSpPr>
        <p:spPr>
          <a:xfrm>
            <a:off x="111600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严格要求订正和书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8195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01" name="组合 8196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02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8206"/>
          <p:cNvSpPr/>
          <p:nvPr/>
        </p:nvSpPr>
        <p:spPr>
          <a:xfrm>
            <a:off x="126036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一：抄。（少数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8207"/>
          <p:cNvSpPr/>
          <p:nvPr/>
        </p:nvSpPr>
        <p:spPr>
          <a:xfrm>
            <a:off x="1187280" y="292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三：依赖，拖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8208"/>
          <p:cNvSpPr/>
          <p:nvPr/>
        </p:nvSpPr>
        <p:spPr>
          <a:xfrm>
            <a:off x="126036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二：漏题，错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8209"/>
          <p:cNvSpPr/>
          <p:nvPr/>
        </p:nvSpPr>
        <p:spPr>
          <a:xfrm>
            <a:off x="118728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四：在作业上打草稿，影响计算正确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9219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18" name="组合 9220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19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9230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9231"/>
          <p:cNvSpPr/>
          <p:nvPr/>
        </p:nvSpPr>
        <p:spPr>
          <a:xfrm>
            <a:off x="133200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重视口算能力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9232"/>
          <p:cNvSpPr/>
          <p:nvPr/>
        </p:nvSpPr>
        <p:spPr>
          <a:xfrm>
            <a:off x="1332000" y="256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反馈孩子在家做作业的情况和问题，及时与老师沟通，共同解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" descr=""/>
          <p:cNvPicPr/>
          <p:nvPr/>
        </p:nvPicPr>
        <p:blipFill>
          <a:blip r:embed="rId3"/>
          <a:stretch/>
        </p:blipFill>
        <p:spPr>
          <a:xfrm>
            <a:off x="3716280" y="3727440"/>
            <a:ext cx="5427720" cy="3141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900000" y="1268280"/>
            <a:ext cx="6985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家长朋友们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为了我们的孩子们日有长进，快乐成长，我们共同努力吧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谢谢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3:39:07Z</dcterms:created>
  <dc:creator>木贝贝女</dc:creator>
  <dc:description/>
  <dc:language>en-US</dc:language>
  <cp:lastModifiedBy>wuhan</cp:lastModifiedBy>
  <dcterms:modified xsi:type="dcterms:W3CDTF">2017-08-29T08:34:52Z</dcterms:modified>
  <cp:revision>15</cp:revision>
  <dc:subject/>
  <dc:title>合唱团的那些事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