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drumroll.wav" ContentType="audio/x-wav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288B-3427-4D82-AC5E-94FF8617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724C-AABE-4F66-AB2B-84367EE2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86CB-8B4B-4C40-ACB7-BBAA57BCE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6D93-AE62-4C34-B66A-769409D2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CDF2-EDEE-41AA-A8AC-DBAA8013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7C66-0B5A-49F4-90F0-575E8DEF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CB56-6EE6-43D5-A81A-8E7A5140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27A3-4E64-4778-B9EA-C9044531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9F36-0AA0-4EA4-94C2-60460F80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01F0-6580-4DF9-BE0E-2EB074B0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8470-94CB-4EC4-A72A-0F9B729B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4786-DFE7-4346-AD72-BB63B838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77F7-6216-4F3F-B77C-1BF55A51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8D05-F3D3-4F1E-BA49-0F59513D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12C7-F23A-43FA-9A5F-53DB67A7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2BD5-F47E-4F8E-8358-7D774871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6258-FFBA-4D88-9B14-C03F35D8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4CAD-12D8-4547-94E9-D8AC16AE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F1B5-ABBA-4A68-9DFF-2275C575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C951-1E96-4A26-8571-AB089FFA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13D2-556A-4F9F-AB02-F8A692DD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74C9-1021-46C1-8D1D-BCF8A982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A5C7-BE77-4650-98F6-023CB268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0E51-2D62-437B-8E91-A4CA4D50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BE35-B9AD-40ED-9200-7F6871A1C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6E41-504D-4DF4-B1C5-C5680167B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371600" y="213372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望天门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3581280"/>
            <a:ext cx="396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   </a:t>
            </a:r>
            <a:r>
              <a:rPr b="1" lang="zh-CN" sz="6600" spc="-1" strike="noStrike">
                <a:solidFill>
                  <a:srgbClr val="99058e"/>
                </a:solidFill>
                <a:latin typeface="黑体"/>
                <a:ea typeface="黑体"/>
              </a:rPr>
              <a:t>唐 李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70000" y="6576840"/>
            <a:ext cx="31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21</a:t>
            </a:r>
            <a:r>
              <a:rPr b="1" lang="zh-CN" sz="1200" spc="-1" strike="noStrike">
                <a:solidFill>
                  <a:srgbClr val="ffffff"/>
                </a:solidFill>
                <a:latin typeface="Comic Sans MS"/>
              </a:rPr>
              <a:t>教学资源网整理发布：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Http://www.21jiao.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52480" y="380880"/>
            <a:ext cx="1843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752480"/>
            <a:ext cx="7696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高的天门山被长江之水劈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江碧水到这里向北回旋着流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74720" y="1523880"/>
            <a:ext cx="420408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507b7"/>
                </a:solidFill>
                <a:latin typeface="Arial"/>
                <a:ea typeface="黑体"/>
              </a:rPr>
              <a:t>两岸青山相对出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507b7"/>
                </a:solidFill>
                <a:latin typeface="Arial"/>
                <a:ea typeface="黑体"/>
              </a:rPr>
              <a:t>孤帆一片日边来</a:t>
            </a:r>
            <a:r>
              <a:rPr b="1" lang="zh-CN" sz="6000" spc="-1" strike="noStrike">
                <a:solidFill>
                  <a:srgbClr val="c507b7"/>
                </a:solidFill>
                <a:latin typeface="Arial"/>
                <a:ea typeface="黑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2120" y="68580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两岸的青山相对耸立出现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一叶小舟正乘风破浪，从日边驰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7040" y="260280"/>
            <a:ext cx="31068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望天门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天门中断楚江开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碧水东流至此回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两岸青山相对出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孤帆一片日边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29200" y="1773360"/>
            <a:ext cx="2314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</a:rPr>
              <a:t>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</a:rPr>
              <a:t>白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549000"/>
            <a:ext cx="5259600" cy="589428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179640" y="576000"/>
            <a:ext cx="91422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cc0000"/>
                </a:solidFill>
                <a:latin typeface="黑体"/>
                <a:ea typeface="黑体"/>
              </a:rPr>
              <a:t>李白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4800" spc="-1" strike="noStrike">
                <a:solidFill>
                  <a:srgbClr val="c507b7"/>
                </a:solidFill>
                <a:latin typeface="黑体"/>
                <a:ea typeface="黑体"/>
              </a:rPr>
              <a:t>唐代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伟大的</a:t>
            </a:r>
            <a:r>
              <a:rPr b="1" lang="zh-CN" sz="4800" spc="-1" strike="noStrike">
                <a:solidFill>
                  <a:srgbClr val="c507b7"/>
                </a:solidFill>
                <a:latin typeface="黑体"/>
                <a:ea typeface="黑体"/>
              </a:rPr>
              <a:t>浪漫主义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诗人。</a:t>
            </a:r>
            <a:r>
              <a:rPr b="1" lang="zh-CN" sz="4800" spc="-1" strike="noStrike">
                <a:solidFill>
                  <a:srgbClr val="c507b7"/>
                </a:solidFill>
                <a:latin typeface="黑体"/>
                <a:ea typeface="黑体"/>
              </a:rPr>
              <a:t>字太白，号青莲居士。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他一生写了大量歌颂祖国河山的诗歌。风格豪迈奔放、清新飘逸又富于想象，赢得了一代“</a:t>
            </a:r>
            <a:r>
              <a:rPr b="1" lang="zh-CN" sz="4800" spc="-1" strike="noStrike">
                <a:solidFill>
                  <a:srgbClr val="c507b7"/>
                </a:solidFill>
                <a:latin typeface="黑体"/>
                <a:ea typeface="黑体"/>
              </a:rPr>
              <a:t>诗仙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”的美誉。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498400" y="0"/>
            <a:ext cx="420408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望天门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天门中断楚江开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碧水东流至此回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两岸青山相对出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孤帆一片日边来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借助注释理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门山是几座山？楚江指的是哪条江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7040" y="260280"/>
            <a:ext cx="31068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望天门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天门中断楚江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碧水东流至此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回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两岸青山相对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出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孤帆一片日边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来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7040" y="260280"/>
            <a:ext cx="31068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望天门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天门中断楚江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碧水东流至此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回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两岸青山相对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出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孤帆一片日边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来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84280" y="4952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默读古诗，看一看这几个动作分别是谁的动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650680" y="38088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天门中断楚江</a:t>
            </a: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黑体"/>
              </a:rPr>
              <a:t>开</a:t>
            </a:r>
            <a:r>
              <a:rPr b="1" lang="zh-CN" sz="6600" spc="-1" strike="noStrike">
                <a:solidFill>
                  <a:srgbClr val="c507b7"/>
                </a:solidFill>
                <a:latin typeface="Arial"/>
                <a:ea typeface="黑体"/>
              </a:rPr>
              <a:t>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10210680" cy="6853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155040" y="380880"/>
            <a:ext cx="410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碧水东流至此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黑体"/>
              </a:rPr>
              <a:t>回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User</cp:lastModifiedBy>
  <dcterms:modified xsi:type="dcterms:W3CDTF">2015-08-23T13:33:5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  <property fmtid="{D5CDD505-2E9C-101B-9397-08002B2CF9AE}" pid="3" name="Version">
    <vt:r8>1</vt:r8>
  </property>
</Properties>
</file>