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E41-BC88-4979-B295-02B33CB6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86F-1854-4538-9037-F4438F2E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6C2-CC46-4605-93CF-0CEA886E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71E-AE9C-44AA-8E04-2E728EA0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903F-82DC-4E2A-9B74-9147CACA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B6C7-37C2-4258-83C9-AD92E5A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441-8788-465D-8C98-A867AE5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1F0-48EB-4A6F-88F7-41FF36C2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F31-05EB-4E48-966E-2505892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CACA-F05F-4196-88C7-17B14BFE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933-0F5A-408D-80E9-10E0C25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794-D484-4A55-AB81-B1BBAA05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F583-AE99-4449-8B75-C521837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649-3696-4F06-BC1C-AAF45F6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CED-1DEE-44F8-9F93-E7A9A8F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8801-F18A-464D-A4D1-FBB50363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EF1-2E81-48D4-AFD4-95402380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CC0-8B1F-48AF-88D1-50A295F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CCB-8112-472A-8C67-30846D6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198-49A8-4B82-95D5-FAB119D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100-9504-48EB-9816-CE469A7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285-8883-4A04-83B8-8182D30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BA5-987B-4C0D-8017-2186D2C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100-B105-4BC9-B508-F1BE290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3CEA-6DB1-42C1-95BB-E89B36E6C5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15C-8C0A-4E3E-AC52-D79657360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《望天门山》</a:t>
            </a:r>
            <a:br>
              <a:rPr sz="4000"/>
            </a:b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李白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天门中断楚江开，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碧水东流至此回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两岸青山相对出，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孤帆一片日边来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31080" y="63644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古诗是我国文化宝库里的一多奇葩，而李白只是其中一颗璀璨的明星，还有很多诗人和他们的诗歌也很有名，千古流传，等着你们去欣赏，去诵读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会写“断、楚、孤、帆”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个字。了解诗句的主要意思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、流利、有感情地朗读古诗，背诵古诗。默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望天门山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通过朗读感悟，感受诗中描写的景物，体会诗人热爱祖国河山的感情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-19080"/>
            <a:ext cx="9109080" cy="6846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想象，领悟诗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54160" y="242100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板画天门山。这是</a:t>
            </a:r>
            <a:r>
              <a:rPr b="0" lang="en-US" sz="3200" spc="-1" strike="noStrike">
                <a:solidFill>
                  <a:srgbClr val="33cc33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？天门天门，顾名思义就是天上的门，可见</a:t>
            </a:r>
            <a:r>
              <a:rPr b="0" lang="en-US" sz="3200" spc="-1" strike="noStrike">
                <a:solidFill>
                  <a:srgbClr val="33cc33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？能用“天门山真什么”来说说吗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高、俊秀、险</a:t>
            </a:r>
            <a:r>
              <a:rPr b="0" lang="en-US" sz="32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　　　</a:t>
            </a:r>
            <a:r>
              <a:rPr b="0" lang="zh-CN" sz="3200" spc="-1" strike="noStrike">
                <a:solidFill>
                  <a:srgbClr val="33cc33"/>
                </a:solidFill>
                <a:latin typeface="Arial Rounded MT Bold"/>
              </a:rPr>
              <a:t>是呀，难怪诗人写到天门山犹如被江水冲击而隔断似的，这么雄伟这么有气势，大自然真是鬼斧神工哪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0"/>
            <a:ext cx="2881440" cy="11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60720" y="117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6560" y="185040"/>
            <a:ext cx="1443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板画江水回旋、向北流。老师画的是什么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水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怎样的水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碧水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碧水还可以说什么水？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清清的水、绿绿的水、干净的水</a:t>
            </a: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这样的水流到天门山的时候，由于山势的阻挡，产生回旋，转向北流了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114640"/>
            <a:ext cx="4038480" cy="28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，你的眼前仿佛浮现出什么画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你仿佛听到了什么？（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水狠狠地、猛烈地撞击岩石，发出哗哗、很响的、震耳欲聋的声音</a:t>
            </a:r>
            <a:r>
              <a:rPr b="0" lang="en-US" sz="3200" spc="-1" strike="noStrike">
                <a:solidFill>
                  <a:srgbClr val="ff3300"/>
                </a:solidFill>
                <a:latin typeface="Arial Rounded MT Bold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大自然的景色真是秀丽神奇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悟诗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首句以天门山与长江的关系，反衬天门山气势的雄峻险要。诗人采用侧面烘托的艺术手法，渲染长江洪流的湍急与威力，进而反衬出天门山的壮丽奇观。次句暗示了天门山雄视一切、镇慑洪流的威力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碧水东流至此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碧水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写出了长江流水之澄清 ，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东流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是写长江总的流向 ，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回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字力度很强，极富动态美，既写出了长江到天门山处江水曲折回荡、漩涡丛生的奇险和壮美，又突现了天门山一段江水流向的陡然转变。正是从一个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回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字中，我们才更加深刻地领会出天门山扼江回流的雄伟气势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句是正面刻划天门山的山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两岸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指出了天门山与长江的关系 。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相对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二字，恰到好处地表现出天门山隔江兀立、崖峭如削、对峙如门、巧夺天工的雄姿，给人以只可仰观的高峻感。一个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出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字，出神入化，化静为动，令人感到郁郁葱葱的天门山生机盎然，更增添了画面的动态美感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末句是诗人顺着天门山远眺一幅远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孤帆一片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是想以背景的单纯突现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孤帆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之高大 。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日边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”写出了长江远景浩瀚迷茫，给人留下了广阔的想象空间，而一个“来”字，又给远景注入了活泼新鲜的色彩和血液 ，使画面顿显活跃，具有不断变幻的美感。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11:08Z</dcterms:created>
  <dc:creator>liho</dc:creator>
  <dc:description/>
  <cp:keywords/>
  <dc:language>en-US</dc:language>
  <cp:lastModifiedBy>User</cp:lastModifiedBy>
  <cp:lastPrinted>1899-12-30T00:00:00Z</cp:lastPrinted>
  <dcterms:modified xsi:type="dcterms:W3CDTF">2015-08-23T13:34:08Z</dcterms:modified>
  <cp:revision>3</cp:revision>
  <dc:subject/>
  <dc:title>《望天门山》 李白</dc:title>
</cp:coreProperties>
</file>