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097-BB1D-4B4A-8DAC-FF1F0EB0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FAC-F22C-4990-A039-FAAEBF9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88D-C07A-4CB9-921B-6E625AEB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157-C673-4AE5-8082-D9A21B7A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E92-1D76-4866-8FCE-B8EAD17E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3A1-C1E3-4A3B-ACFF-E7244C53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3CC-0FD5-4BE9-B986-4AB69AE9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B9D-DB87-4FEA-9318-E23AD91F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428-D7EA-4776-9ABB-C511872B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F76-A678-427C-9491-BE06BF1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8C8-C2EE-44E6-ABC2-14C381A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5CE-287E-4F27-8C50-8A957B1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80D6-60EB-45DF-B74D-72A744E11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：良西镇中心小学  吴润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98900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望天门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76360" y="198900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望天门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35812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   </a:t>
            </a:r>
            <a:r>
              <a:rPr b="1" lang="zh-CN" sz="6600" spc="-1" strike="noStrike">
                <a:solidFill>
                  <a:srgbClr val="99058e"/>
                </a:solidFill>
                <a:latin typeface="黑体"/>
                <a:ea typeface="黑体"/>
              </a:rPr>
              <a:t>唐 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36492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34920" y="404280"/>
            <a:ext cx="68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按要求，初读诗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170028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读准字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299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把诗句读通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29264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读出节奏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1093680" cy="115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13080" y="3068640"/>
            <a:ext cx="1132200" cy="1120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40160" y="3079800"/>
            <a:ext cx="1157040" cy="1141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28720" y="2997360"/>
            <a:ext cx="1174680" cy="1161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83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认、读、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" y="242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duàn   ɡū   fān   ch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a069e"/>
                </a:solidFill>
                <a:latin typeface="华文新魏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aa069e"/>
                </a:solidFill>
                <a:latin typeface="华文楷体"/>
                <a:ea typeface="华文楷体"/>
              </a:rPr>
              <a:t>断  孤  帆   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60" y="2093760"/>
            <a:ext cx="8999640" cy="4618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4030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理解诗文意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83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天门中断楚江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38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诗文意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83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碧水东流至此回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6767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38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诗文意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83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两岸青山相对出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31964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4392720" cy="294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06064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孤帆一片日边来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50920" y="188640"/>
            <a:ext cx="460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请结合诗句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两岸青山相对出，孤帆一片日边来”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发挥你的想象画一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0887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36492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404640"/>
            <a:ext cx="573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面对如此多娇的碧水青山，诗人当时的心情是怎样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4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9360"/>
            <a:ext cx="5005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天门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唐  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门中断楚江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碧水东流至此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岸青山相对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孤帆一片日边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楚江把天门山从中间分开，碧绿的江水向东流去到这里回旋。两岸的青山相对耸立，一叶小舟从太阳边驶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习古诗的方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朗读诗句，背诵诗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借助文中的注释理解诗句的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体会诗人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266920" cy="3000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71640" y="4653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《天门山》主要表达了诗人</a:t>
            </a:r>
            <a:r>
              <a:rPr b="1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7640" y="333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青南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二十四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青南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267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熙春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640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鳌峰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锦江水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岑洞漂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540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208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43280" y="1267920"/>
            <a:ext cx="608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欣赏了家乡美景后，你有什么感受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请你用自己喜欢的方式表达出来，可以写一两句话，也可以画一幅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857760"/>
            <a:ext cx="2266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5:45:56Z</dcterms:created>
  <dc:creator>User</dc:creator>
  <dc:description/>
  <cp:keywords/>
  <dc:language>en-US</dc:language>
  <cp:lastModifiedBy>Lenovo User</cp:lastModifiedBy>
  <dcterms:modified xsi:type="dcterms:W3CDTF">2015-11-18T02:51:52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