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85B-0F16-4313-AEBC-619C4820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9B9-716C-4C19-982C-44D1C8B5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4B7-F72F-473B-AB4A-46434E77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C96-A5E4-4ADE-8C63-BEF1946A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BA1-81ED-4BA6-AD74-9848FD22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4C8-1F61-4CF1-AD94-07FEFC51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BE2-2804-4CB3-BE47-10DCEFC1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8C4-97A8-4F7D-B739-EA8BC12B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A65-1E91-4A60-B46E-F6BD2688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D52-7F81-47A3-9451-1CB0440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371-F7C0-42F4-956D-4934476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52A-8872-4C71-B1AC-4C430B9F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FED3-9E79-4040-ADE7-70207F9D64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87640" y="333360"/>
            <a:ext cx="410544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望天门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2360" y="907920"/>
            <a:ext cx="6551640" cy="5213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549360"/>
            <a:ext cx="554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李白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70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76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年），字太白，汉族，四川省江油市青莲乡。号青莲居士。中国唐朝诗人，有“诗仙”、“诗侠”、之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《李太前集》传世，诗作中多在醉时写的，代表作有《望庐山瀑布》、《行路难》、《蜀道难》、《将进酒》、《梁甫吟》、《早发白帝城》、《静夜思》等多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239400" cy="7543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79640" y="19162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天  门  中  断  楚  江  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2997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碧  水  东  流  至  此  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149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  岸  青  山  相  对  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5229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孤  帆  一  片  日  边  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16286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iān mén zhōng duàn chǔ jiāng   kā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2708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ì   shuǐ dōng   liú    zhì    cǐ     h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38606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ǎng   àn  qīng shān xiāng duì   c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941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ū     fān    yí    piàn    rì    biān    l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00:26:36Z</dcterms:created>
  <dc:creator>未知用户</dc:creator>
  <dc:description/>
  <dc:language>en-US</dc:language>
  <cp:lastModifiedBy>未知用户</cp:lastModifiedBy>
  <dcterms:modified xsi:type="dcterms:W3CDTF">2014-10-21T01:10:42Z</dcterms:modified>
  <cp:revision>3</cp:revision>
  <dc:subject/>
  <dc:title>幻灯片 1</dc:title>
</cp:coreProperties>
</file>