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556-20A8-4EAF-91DC-610B10B8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3F0-1CC3-46F7-9EC3-3C4CAF5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BF3-F4C8-41BB-8E46-8493A056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FF7-AB8A-4BCF-B1C2-64AD9DC2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51B-5096-409C-9D63-D5C5467F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FB6-5033-4F2E-AC97-0B4B17C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586-9371-4D08-9775-1F4862A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965-3C57-4B47-81AB-5D1943E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683-50AA-4AE1-9FBD-77D0929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CA1-E6DA-4418-8DFB-9107B0E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941-858B-4B34-BFFF-33ED6F0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1C5-B8E5-40DA-BEB4-C81FCA9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0F6C-57C8-4B11-844F-3BA784605A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小猴子下山</a:t>
            </a:r>
            <a:r>
              <a:rPr b="0" lang="en-US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课件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www.downc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47640" y="5816160"/>
            <a:ext cx="728352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KaiTi_GB2312"/>
              </a:rPr>
              <a:t>掰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KaiTi_GB2312"/>
              </a:rPr>
              <a:t>(bāi)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KaiTi_GB2312"/>
              </a:rPr>
              <a:t>玉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玉米地"/>
          <p:cNvPicPr/>
          <p:nvPr/>
        </p:nvPicPr>
        <p:blipFill>
          <a:blip r:embed="rId1"/>
          <a:stretch/>
        </p:blipFill>
        <p:spPr>
          <a:xfrm>
            <a:off x="0" y="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8436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káng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往前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08000" y="4653000"/>
            <a:ext cx="72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Times New Roman"/>
                <a:ea typeface="KaiTi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KaiTi_GB2312"/>
              </a:rPr>
              <a:t>小猴子扛着玉米，走到一棵桃树底下。他看见满树的桃子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KaiTi_GB2312"/>
              </a:rPr>
              <a:t>又大又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KaiTi_GB2312"/>
              </a:rPr>
              <a:t>，非常高兴，就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KaiTi_GB2312"/>
              </a:rPr>
              <a:t>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KaiTi_GB2312"/>
              </a:rPr>
              <a:t>了玉米，去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KaiTi_GB2312"/>
              </a:rPr>
              <a:t>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KaiTi_GB2312"/>
              </a:rPr>
              <a:t>桃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捧着几个桃子，走到一片瓜地里。他看见满地的西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又大又圆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，非常高兴，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扔了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桃子，去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摘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西瓜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038480" y="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猴子抱着一个大西瓜往回走。走着走着，他看见一只小兔儿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蹦蹦跳跳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的，真可爱，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扔了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西瓜，去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兔儿。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小兔儿跑进树林里，不见了。小猴子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只好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空着手回家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0000" y="765000"/>
            <a:ext cx="33940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米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3280" y="1483920"/>
            <a:ext cx="4140360" cy="32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扔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桃子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摘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西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扔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西瓜</a:t>
            </a:r>
            <a:br>
              <a:rPr sz="4400"/>
            </a:br>
            <a:r>
              <a:rPr b="1" lang="zh-CN" sz="4800" spc="-1" strike="noStrike">
                <a:solidFill>
                  <a:srgbClr val="cc0000"/>
                </a:solidFill>
                <a:latin typeface="宋体"/>
              </a:rPr>
              <a:t>追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40000" y="1483920"/>
            <a:ext cx="353844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华文彩云"/>
              </a:rPr>
              <a:t>？</a:t>
            </a:r>
            <a:br>
              <a:rPr sz="8800"/>
            </a:b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空手回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一物像人又像狗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爬杆上树是能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爱吃香蕉爱吃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家里没有山里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打一动物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90440"/>
            <a:ext cx="35290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猜一猜</a:t>
            </a:r>
            <a:endParaRPr b="0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28083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5905440" y="3500280"/>
            <a:ext cx="3238560" cy="335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4"/>
          <a:stretch/>
        </p:blipFill>
        <p:spPr>
          <a:xfrm>
            <a:off x="2771640" y="3429000"/>
            <a:ext cx="327672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图片1"/>
          <p:cNvPicPr/>
          <p:nvPr/>
        </p:nvPicPr>
        <p:blipFill>
          <a:blip r:embed="rId5"/>
          <a:stretch/>
        </p:blipFill>
        <p:spPr>
          <a:xfrm>
            <a:off x="2627280" y="0"/>
            <a:ext cx="3384720" cy="3475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62728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扛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42920" y="36450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摘西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24720" y="2852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摘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987640" y="6093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追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93080" y="62625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手回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猴子下山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一只小猴下山来，看见玉米大又多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掰了玉米扛着走，看见桃子大又红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扔了玉米摘桃子，看见西瓜大又圆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扔了桃子去摘瓜，看见兔子蹦又跳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扔了西瓜去追兔，兔子跑得不见了，</a:t>
            </a: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只好空手把家回，只好空手把家回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4573800" y="141300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350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要一心一意地做好一件事以后才能去做另外的事情，否则一件事也做不好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26920" y="69228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朋友，我们真为小猴子感到惋惜，它为什么只有空着手回家  呢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KaiTi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一（   ）玉米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KaiTi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一（   ）桃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KaiTi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一（   ）瓜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KaiTi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KaiTi_GB2312"/>
                <a:ea typeface="KaiTi_GB2312"/>
              </a:rPr>
              <a:t>一（   ）小白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916360" y="1628640"/>
            <a:ext cx="157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KaiTi_GB2312"/>
              </a:rPr>
              <a:t>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987640" y="2492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KaiTi_GB2312"/>
              </a:rPr>
              <a:t>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59280" y="3500280"/>
            <a:ext cx="18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KaiTi_GB2312"/>
              </a:rPr>
              <a:t>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971640" y="62064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我会填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987640" y="4508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KaiTi_GB2312"/>
              </a:rPr>
              <a:t>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（     ）鸟        一（      ）小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（      ）牛       一（      ）轮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（      ）马       一（     ）沙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（      ）汽车   一（     ）果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908000" y="1628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154240" y="22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081880" y="29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15424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72120" y="1552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940360" y="234936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928480" y="29653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971320" y="3716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11280" y="476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LiSu"/>
              </a:rPr>
              <a:t>我会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说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AC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又（   ）又（   ）   又（   ）又（   ）  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又（   ）又（   ）   又（   ）又（   ）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又（   ）又（   ）   又（   ）又（   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971640" y="112536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              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64000" y="1125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             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42920" y="1773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              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364000" y="177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细             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116000" y="2421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脆                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64000" y="2349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松              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0" y="32846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积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ABB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蹦蹦跳跳 （           ）（           ）  （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B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吞吞   白（          ） 活（       ）   水（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绿（        ） 亮（       ）  金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132000" y="414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高兴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93236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多少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7020000" y="414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欢欢乐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348000" y="501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435640" y="501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7524720" y="501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汪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3348000" y="5877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148360" y="587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晶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716436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灿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故事大王挑战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3640" y="14130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回家后，看见妈妈。妈妈问小猴子：“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说：“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对小猴子说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猴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867280" y="333360"/>
            <a:ext cx="11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90033"/>
                </a:solidFill>
                <a:latin typeface="Times New Roman"/>
                <a:ea typeface="黑体"/>
              </a:rPr>
              <a:t>小猴子第二次下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67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6230520" y="82116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小猴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332000" y="2349000"/>
            <a:ext cx="7354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KaiTi_GB2312"/>
                <a:ea typeface="KaiTi_GB2312"/>
              </a:rPr>
              <a:t>扛   捧   掰    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KaiTi_GB2312"/>
                <a:ea typeface="KaiTi_GB2312"/>
              </a:rPr>
              <a:t>抱</a:t>
            </a:r>
            <a:r>
              <a:rPr b="1" lang="zh-CN" sz="54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 追   </a:t>
            </a:r>
            <a:r>
              <a:rPr b="1" lang="zh-CN" sz="5400" spc="-1" strike="noStrike">
                <a:solidFill>
                  <a:srgbClr val="ff0000"/>
                </a:solidFill>
                <a:latin typeface="KaiTi_GB2312"/>
                <a:ea typeface="KaiTi_GB2312"/>
              </a:rPr>
              <a:t>扔</a:t>
            </a:r>
            <a:r>
              <a:rPr b="1" lang="zh-CN" sz="5400" spc="-1" strike="noStrike">
                <a:solidFill>
                  <a:srgbClr val="000000"/>
                </a:solidFill>
                <a:latin typeface="KaiTi_GB2312"/>
                <a:ea typeface="KaiTi_GB2312"/>
              </a:rPr>
              <a:t>    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6920" y="83664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扛玉米      捧着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掰玉米      摘桃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扔垃圾      追兔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抱孩子      蹦蹦跳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3556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125000"/>
            <a:ext cx="8569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一遍大声读，标出自然段，遇到难读的地方借助拼音多读几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二遍，边读边想：小猴子去了哪些地方，用“——”划出来，小猴子看见了什么，用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~~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划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三遍，读给你的同桌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24000" y="115920"/>
            <a:ext cx="360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自读提示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猴子下山的路线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get?name=T1JyZUBmV_1RCvBVdK"/>
          <p:cNvPicPr/>
          <p:nvPr/>
        </p:nvPicPr>
        <p:blipFill>
          <a:blip r:embed="rId1"/>
          <a:stretch/>
        </p:blipFill>
        <p:spPr>
          <a:xfrm>
            <a:off x="684360" y="1197000"/>
            <a:ext cx="583236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501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)----(            )----(           )----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65300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玉米地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73680" y="4724280"/>
            <a:ext cx="13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桃树下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003640" y="4724280"/>
            <a:ext cx="22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西瓜地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939080" y="4724280"/>
            <a:ext cx="12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小白兔</a:t>
            </a:r>
            <a:r>
              <a:rPr b="0" i="1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4086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有一天，小猴子下山来，走到一块玉米地里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看见玉米结得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又大又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，非常高兴，就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了一个，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黑体"/>
              </a:rPr>
              <a:t>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着往前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507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我来回答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9640" y="1844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它来到了哪里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看到了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9640" y="321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心情怎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9640" y="4005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、又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2:11:28Z</dcterms:created>
  <dc:creator>Administrator</dc:creator>
  <dc:description/>
  <dc:language>en-US</dc:language>
  <cp:lastModifiedBy>wuhan</cp:lastModifiedBy>
  <dcterms:modified xsi:type="dcterms:W3CDTF">2017-10-12T07:34:20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