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EE2-4C3B-4355-8923-44A6D681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0E1-4A97-492A-A13F-A062303A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3A9-3EDC-4EA5-B694-98DF6F2D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F33-CE7A-41A3-86BB-F21F747A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310-8EFE-4DD3-B959-B1964422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13C-0EEB-46B7-AA4B-A1F27691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6EB-B648-41F8-BAA4-FCA563BB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F27-FF26-4B81-9630-4ABF3BA7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E15-019D-489F-95AC-46ADE370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519-02F0-4338-AC42-ACC8C4F8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461-B402-4AC8-B3E4-DAF9CEE5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F4E-9944-4962-A180-1A4CA5A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A757-F3D5-4FC3-BC72-45A0BF2EEF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96320" y="1052640"/>
            <a:ext cx="7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7000" y="3395520"/>
            <a:ext cx="42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隶书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隶书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隶书"/>
              </a:rPr>
              <a:t>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隶书"/>
              </a:rPr>
              <a:t>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664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42920" y="105264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作者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23960" y="2119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范成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33160"/>
            <a:ext cx="48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范成大（</a:t>
            </a:r>
            <a:r>
              <a:rPr b="0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1126-1193</a:t>
            </a:r>
            <a:r>
              <a:rPr b="0" lang="zh-CN" sz="2800" spc="-1" strike="noStrike">
                <a:solidFill>
                  <a:srgbClr val="9966ff"/>
                </a:solidFill>
                <a:latin typeface="隶书"/>
                <a:ea typeface="隶书"/>
              </a:rPr>
              <a:t>），南宋诗人。字致能，号石湖居士，吴郡（今江苏苏州市）人。虽写过不少爱国诗篇，但最著名的还是田园诗，比较全面地反映了当时的农村生活和风土人情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22560" y="2420640"/>
            <a:ext cx="4321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华文中宋"/>
                <a:ea typeface="华文中宋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47628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24360" y="1844640"/>
            <a:ext cx="4392720" cy="4176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84600" y="803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隶书"/>
              </a:rPr>
              <a:t>诗歌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90792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313080" cy="489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9360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160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37105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白天出去锄草夜里缉麻，农家儿女都能各自持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651640" y="2565360"/>
          <a:ext cx="3024000" cy="324000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32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90792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560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6016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399960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小孙子还不会耕田纺织，也靠近桑树阴处学习种瓜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867280" y="2708280"/>
          <a:ext cx="2808360" cy="34560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34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600720" cy="48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42920" y="1268280"/>
            <a:ext cx="5113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朗读诗歌，背诵诗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30200" y="43905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《四时田园杂兴》共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60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首，宛如农村生活的长幅画卷。本篇是其中的一首，写的是夏日村庄的生活场景：男耕女织，日夜操劳，虽然辛苦，却也其乐陶陶。最精彩的是后两句。模仿是儿童的天性，农村孩子的游戏，也多是模仿大人的劳动。一个“学”字，透出儿童的天真活泼，极富生活情趣。诗中没有出现老人的形象，但称农夫农妇为“儿女”，称小孩为“童孙”，分明是老农的口吻，是一位老祖父眼中的农家乐事图。这里有写实的成分，更蕴含着诗人对田园生活的理想。语言通俗浅显，文笔清新轻巧，使人由景见情，给人以极美的艺术享受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765000"/>
            <a:ext cx="3672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课文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9520" y="125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杂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22000" y="1268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各种兴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69880" y="119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耘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31840" y="1197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除去田里的杂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52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绩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25040" y="17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把麻搓成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988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未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9000" y="17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不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852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5560" y="227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从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4888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9000" y="227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靠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64680" y="2205000"/>
            <a:ext cx="72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隶书"/>
              </a:rPr>
              <a:t>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隶书"/>
              </a:rPr>
              <a:t>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隶书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23160" y="3141720"/>
            <a:ext cx="42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54936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1700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张志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918160"/>
            <a:ext cx="5040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约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730——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约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810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唐代诗人。字子同，初名龟龄，今浙江金华人。 博学多才，歌、词、诗、画俱佳。 曾在朝廷做过官，后隐居。他的作品大多描写自己的闲居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316872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052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3456000" cy="4767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3652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1989000"/>
            <a:ext cx="53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249228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　　头顶青箬笠，身披绿蓑衣，斜风细雨迎面吹来，钓鱼的人不想回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580000" y="2565360"/>
          <a:ext cx="3240000" cy="36306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77560" y="6602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诗歌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1700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同学们，在四月的春天，你们到过乡村吗？在你们心目中的乡村，是怎样的一种情景？下面我们来看看宋朝诗人翁卷是怎样来写乡村的四月的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3168720" cy="540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58920" y="54936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1413000"/>
            <a:ext cx="46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　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思考：诗歌中“斜风细雨不须归”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299736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诗人完全融于大自然，沉醉于无限的诗情画意中，悠然自得，自由自在，因此“斜风细雨不须归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1052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3600360" cy="4730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8088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17240" y="198900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7082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西塞山前白鹭展翅飞翔，桃花红，流水碧绿，鳜鱼正肥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651640" y="2781360"/>
          <a:ext cx="3166920" cy="338400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33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13800" cy="5759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5280" y="907920"/>
            <a:ext cx="410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朗读古词，并背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516720" y="1413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23947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1052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课文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66520" y="1811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西塞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2040" y="184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在今浙江省湖州市西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5520" y="23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鳜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8920" y="2421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一种淡水鱼，味道鲜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5520" y="292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箬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99120" y="299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用竹篾、箬叶编制的斗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3500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蓑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2000" y="3573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用草或棕制成的防雨用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4508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词中描写的是作者过着隐居闲散的生活，所看到的无比美妙的春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86800" y="2133720"/>
            <a:ext cx="227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Arial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54936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作者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73160" y="134136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翁 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4191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353232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公元一二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三年前后在世，字续古，一字灵舒，永嘉人，为“永嘉四灵”之三。生卒年均不详，约宋宁宗嘉泰中前后在世。尝登淳祐十年（公元一一八三年）乡荐。终于布衣。工诗，与徐照等称“永嘉四灵”。卷著有苇碧轩集，已佚；又有西岩集一卷，《四库总目》今尚传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404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8392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课文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4753080" cy="39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69228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737080" cy="5111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59280" y="37094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四月的春天，万物复苏，山陵和原野上一片绿色，稻田里的水开始上涨，并映着天空的光辉；杜鹃鸟声声地叫着，天空中飘落着如烟的细雨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1916280"/>
            <a:ext cx="64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69600" y="191628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1916280"/>
          <a:ext cx="3745080" cy="432108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43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664000" cy="489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88880" y="177336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80880" y="1773360"/>
            <a:ext cx="45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907920"/>
            <a:ext cx="2737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文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3231720"/>
            <a:ext cx="38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在乡村的四月，闲人很少，他们都很忙，他们才刚刚把蚕送上山，又忙着插秧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88000" y="2133720"/>
          <a:ext cx="3889440" cy="316836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31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205000"/>
            <a:ext cx="56163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感情朗读诗歌，背诵诗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32464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836640"/>
            <a:ext cx="273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课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3500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这首诗以白描手法写江南农村初夏时节的景象，前两句着重写景绿原、白川、子规、烟雨、寥寥几笔就把水乡初夏时特有的景色勾勒了出来。后两句写人，画面上主要突出在水田插秧的农民形象，从而衬托出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村四月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劳动的紧张、繁忙。前呼后应，交织成一幅色彩鲜明的图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56800" y="137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山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141300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山陵和原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288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白满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14130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指稻田里的水色映着天空的光辉。川，平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21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子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78960" y="220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杜鹃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781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278136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35480" y="1125360"/>
            <a:ext cx="546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67520" y="3068640"/>
            <a:ext cx="42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绿色圃中小学教育网http://www.lspjy.com</dc:creator>
  <dc:description/>
  <cp:keywords>绿色圃中小学教育网http://www.lspjy.com</cp:keywords>
  <dc:language>en-US</dc:language>
  <cp:lastModifiedBy>微软用户</cp:lastModifiedBy>
  <dcterms:modified xsi:type="dcterms:W3CDTF">2010-10-20T11:55:30Z</dcterms:modified>
  <cp:revision>64</cp:revision>
  <dc:subject/>
  <dc:title>绿色圃中小学教育网http://www.lspjy.com</dc:title>
</cp:coreProperties>
</file>