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chimes.wav" ContentType="audio/x-wav"/>
  <Override PartName="/ppt/media/image8.png" ContentType="image/png"/>
  <Override PartName="/ppt/media/image11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CE6-8352-4E1D-B38B-0DB7AA8D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923-5F29-447F-9B8C-D1A69162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BB7-3F3C-4322-8C00-B096A782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43C-20E4-48E2-BA34-DBD935EA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F812-2890-4051-A155-D3B9F67E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E85-0E9D-4253-95A0-6DC84709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748-6D13-4A94-8E01-D4B54A51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D45-7D0C-43D0-A441-F41D5016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2A8-9301-4411-9C5B-4297CB5E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827-3A4A-482D-A260-0C3675A7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ABD-B1C6-42AC-9085-20F37C68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610-1621-4039-8B4F-F0EB74A2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AE6B-EF43-499D-866A-8F2E66EF2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ydt.com/video/n_show/Nav_481/9461CCE2_1.htm" TargetMode="External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hyperlink" Target="http://www.1ydt.com/video/n_show/Nav_481/9461CCE2_1.htm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hyperlink" Target="http://www.1ydt.com/video/n_show/Nav_481/9461CCE2_1.ht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1ydt.com/video/n_show/Nav_481/9461CCE2_1.htm" TargetMode="External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hyperlink" Target="http://www.1ydt.com/video/n_show/Nav_481/9461CCE2_1.htm" TargetMode="External"/><Relationship Id="rId5" Type="http://schemas.openxmlformats.org/officeDocument/2006/relationships/hyperlink" Target="http://www.1ydt.com/video/n_show/Nav_481/9461CCE2_1.htm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1ydt.com/video/n_show/Nav_481/9461CCE2_1.htm" TargetMode="External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" Target="slide9.xml"/><Relationship Id="rId4" Type="http://schemas.openxmlformats.org/officeDocument/2006/relationships/hyperlink" Target="http://www.1ydt.com/video/n_show/Nav_481/9461CCE2_1.htm" TargetMode="External"/><Relationship Id="rId5" Type="http://schemas.openxmlformats.org/officeDocument/2006/relationships/hyperlink" Target="http://www.1ydt.com/video/n_show/Nav_481/9461CCE2_1.htm" TargetMode="Externa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ydt.com/video/n_show/Nav_481/9461CCE2_1.htm" TargetMode="External"/><Relationship Id="rId2" Type="http://schemas.openxmlformats.org/officeDocument/2006/relationships/hyperlink" Target="http://www.1ydt.com/video/n_show/Nav_481/9461CCE2_1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ydt.com/video/n_show/Nav_481/9461CCE2_1.htm" TargetMode="External"/><Relationship Id="rId2" Type="http://schemas.openxmlformats.org/officeDocument/2006/relationships/hyperlink" Target="http://www.1ydt.com/video/n_show/Nav_481/9461CCE2_1.htm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9.xml"/><Relationship Id="rId3" Type="http://schemas.openxmlformats.org/officeDocument/2006/relationships/hyperlink" Target="http://www.1ydt.com/video/n_show/Nav_481/9461CCE2_1.htm" TargetMode="External"/><Relationship Id="rId4" Type="http://schemas.openxmlformats.org/officeDocument/2006/relationships/hyperlink" Target="http://www.1ydt.com/video/n_show/Nav_481/9461CCE2_1.ht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3080" y="76320"/>
            <a:ext cx="9140760" cy="6810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8000" y="1125360"/>
            <a:ext cx="29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小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7280" y="457200"/>
            <a:ext cx="11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52720" y="0"/>
            <a:ext cx="6624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3048120" y="2666880"/>
            <a:ext cx="914400" cy="228600"/>
            <a:chOff x="3048120" y="2666880"/>
            <a:chExt cx="914400" cy="228600"/>
          </a:xfrm>
        </p:grpSpPr>
        <p:sp>
          <p:nvSpPr>
            <p:cNvPr id="98" name=""/>
            <p:cNvSpPr/>
            <p:nvPr/>
          </p:nvSpPr>
          <p:spPr>
            <a:xfrm>
              <a:off x="3048120" y="26668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3920" y="26668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29200" y="2590920"/>
            <a:ext cx="990720" cy="228600"/>
            <a:chOff x="5029200" y="2590920"/>
            <a:chExt cx="990720" cy="228600"/>
          </a:xfrm>
        </p:grpSpPr>
        <p:sp>
          <p:nvSpPr>
            <p:cNvPr id="101" name=""/>
            <p:cNvSpPr/>
            <p:nvPr/>
          </p:nvSpPr>
          <p:spPr>
            <a:xfrm>
              <a:off x="5029200" y="25909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91320" y="25909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1882800" cy="3024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971800" y="1371600"/>
            <a:ext cx="48960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荷才露尖尖角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早有蜻蜓立上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819520"/>
            <a:ext cx="38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刚刚出水的嫩荷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28195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还没有展开的嫩荷叶的尖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鲜嫩的荷叶那尖尖的角刚露出水面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就已经有蜻蜓落在它的上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5600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2205000"/>
            <a:ext cx="684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两句描写的景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112536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荷才露尖尖角，早有蜻蜓立上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88520" y="501336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初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249228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蜻蜓       小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95480" y="3722760"/>
            <a:ext cx="290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258920" y="473148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 rot="10800000">
            <a:off x="611280" y="422064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这两句可看出描写的季节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5600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巧妙地使用这两个字，让整个画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动形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起来，仿佛画面就在我们眼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69228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才：刚刚的意思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34136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早：已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600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45600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 rot="14400000">
            <a:off x="5973480" y="807480"/>
            <a:ext cx="1965240" cy="217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45600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819 0.062222 C -0.110012 0.061821 -0.1136 0.060216 -0.115972 0.059815 C -0.118345 0.059414 -0.120394 0.059815 -0.123056 0.059815 C -0.125718 0.059815 -0.129271 0.059815 -0.131944 0.059815 C -0.134618 0.059815 -0.136435 0.059815 -0.139097 0.059815 C -0.141759 0.059815 -0.145255 0.059815 -0.147917 0.059815 C -0.150579 0.059815 -0.152697 0.059815 -0.155069 0.059815 C -0.157442 0.059815 -0.159491 0.059414 -0.162153 0.059815 C -0.164815 0.060216 -0.168368 0.060648 -0.171042 0.062222 C -0.173715 0.063796 -0.175822 0.067685 -0.178194 0.069259 C -0.180567 0.070833 -0.182917 0.070077 -0.185278 0.071667 C -0.187639 0.073256 -0.189988 0.07642 -0.192361 0.078796 C -0.194734 0.081173 -0.197141 0.083164 -0.199514 0.085926 C -0.201887 0.088688 -0.204236 0.092222 -0.206597 0.09537 C -0.208958 0.098518 -0.211609 0.101651 -0.213681 0.104815 C -0.215752 0.107978 -0.217546 0.111188 -0.219028 0.114352 C -0.220509 0.117515 -0.220787 0.120247 -0.222569 0.123796 C -0.224352 0.127346 -0.22794 0.132099 -0.229722 0.135648 C -0.231505 0.139197 -0.232083 0.141929 -0.233264 0.145093 C -0.234444 0.148256 -0.235324 0.151466 -0.236806 0.15463 C -0.238287 0.157793 -0.240081 0.160525 -0.242153 0.164074 C -0.244225 0.167623 -0.247164 0.172361 -0.249236 0.175926 C -0.251308 0.179491 -0.253391 0.182299 -0.254583 0.185463 C -0.255775 0.188627 -0.255799 0.191759 -0.256389 0.194907 C -0.256979 0.198056 -0.257535 0.201188 -0.258125 0.204352 C -0.258715 0.207515 -0.25934 0.210324 -0.259931 0.213889 C -0.260521 0.217454 -0.261076 0.222191 -0.261667 0.225741 C -0.262257 0.22929 -0.262581 0.232037 -0.263472 0.235185 C -0.264363 0.238333 -0.266123 0.241466 -0.267014 0.24463 C -0.267905 0.247793 -0.267928 0.250602 -0.268819 0.254167 C -0.269711 0.257731 -0.271181 0.262469 -0.272361 0.266019 C -0.273542 0.269568 -0.275313 0.272315 -0.275903 0.275463 C -0.276493 0.278611 -0.275602 0.281744 -0.275903 0.284907 C -0.276204 0.288071 -0.276817 0.291281 -0.277708 0.294444 C -0.2786 0.297608 -0.28037 0.300741 -0.28125 0.303889 C -0.28213 0.307037 -0.282095 0.31017 -0.282986 0.313333 C -0.283877 0.316497 -0.285405 0.319707 -0.286597 0.32287 C -0.287789 0.326034 -0.289259 0.329151 -0.290139 0.332315 C -0.291019 0.335478 -0.291586 0.338688 -0.291875 0.341852 C -0.292164 0.345015 -0.291875 0.347747 -0.291875 0.351296 C -0.291875 0.354846 -0.291875 0.359599 -0.291875 0.363148 C -0.291875 0.366697 -0.291875 0.369429 -0.291875 0.372593 C -0.291875 0.375756 -0.291875 0.378966 -0.291875 0.38213 C -0.291875 0.385293 -0.291875 0.388426 -0.291875 0.391574 C -0.291875 0.394722 -0.291875 0.397469 -0.291875 0.401019 C -0.291875 0.404568 -0.291875 0.409306 -0.291875 0.41287 C -0.291875 0.416435 -0.291875 0.419244 -0.291875 0.422407 C -0.291875 0.425571 -0.292164 0.428704 -0.291875 0.431852 C -0.291586 0.435 -0.291319 0.438133 -0.290139 0.441296 C -0.288958 0.44446 -0.285683 0.449244 -0.284792 0.450833 E">
                                      <p:cBhvr>
                                        <p:cTn id="28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48320" y="2438280"/>
            <a:ext cx="4344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泉眼无声惜细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树阴照水爱晴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荷才露尖尖角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早有晴蜓立上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304920"/>
            <a:ext cx="3504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2 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小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（宋） 杨万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5600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8000" y="4149720"/>
            <a:ext cx="1434960" cy="264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380880"/>
            <a:ext cx="48765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杨万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宋诗人。他一生写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万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诗，保留到现在的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2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首。他对自然景物有浓厚的兴趣，写了许多这方面的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686800" cy="6477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81080" y="1828800"/>
            <a:ext cx="61722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"/>
                <a:ea typeface="楷体_GB2312"/>
              </a:rPr>
              <a:t>泉眼无声惜细流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"/>
                <a:ea typeface="楷体_GB2312"/>
              </a:rPr>
              <a:t>树阴照水爱晴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"/>
                <a:ea typeface="楷体_GB2312"/>
              </a:rPr>
              <a:t>小荷才露尖尖角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"/>
                <a:ea typeface="楷体_GB2312"/>
              </a:rPr>
              <a:t>早有晴蜓立上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304920"/>
            <a:ext cx="4343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小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宋） 杨万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7520" y="311040"/>
            <a:ext cx="8578800" cy="6286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117360"/>
            <a:ext cx="8785440" cy="6553440"/>
          </a:xfrm>
          <a:prstGeom prst="rect">
            <a:avLst/>
          </a:prstGeom>
          <a:solidFill>
            <a:srgbClr val="ffffff">
              <a:alpha val="4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1434960" cy="26449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684360" y="549360"/>
            <a:ext cx="1655640" cy="1266840"/>
            <a:chOff x="684360" y="549360"/>
            <a:chExt cx="1655640" cy="126684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84360" y="549360"/>
              <a:ext cx="151128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900360" y="693360"/>
              <a:ext cx="1439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会读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143000" y="205740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ǚ  x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hào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u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quán  s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28600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柳  惜   </a:t>
            </a: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照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柔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泉    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蜻     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9625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8098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īng   tí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686800" cy="6477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81080" y="1828800"/>
            <a:ext cx="61722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"/>
                <a:ea typeface="楷体_GB2312"/>
              </a:rPr>
              <a:t>泉眼无声惜细流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"/>
                <a:ea typeface="楷体_GB2312"/>
              </a:rPr>
              <a:t>树阴照水爱晴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"/>
                <a:ea typeface="楷体_GB2312"/>
              </a:rPr>
              <a:t>小荷才露尖尖角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"/>
                <a:ea typeface="楷体_GB2312"/>
              </a:rPr>
              <a:t>早有晴蜓立上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304920"/>
            <a:ext cx="4343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小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宋） 杨万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272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71800" y="1447920"/>
            <a:ext cx="4896000" cy="38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泉眼无声惜细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树阴照水爱晴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00400" y="2514600"/>
            <a:ext cx="914400" cy="228600"/>
            <a:chOff x="3200400" y="2514600"/>
            <a:chExt cx="914400" cy="228600"/>
          </a:xfrm>
        </p:grpSpPr>
        <p:sp>
          <p:nvSpPr>
            <p:cNvPr id="71" name=""/>
            <p:cNvSpPr/>
            <p:nvPr/>
          </p:nvSpPr>
          <p:spPr>
            <a:xfrm>
              <a:off x="3200400" y="25146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86200" y="25146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638680" y="3962520"/>
            <a:ext cx="990720" cy="228600"/>
            <a:chOff x="5638680" y="3962520"/>
            <a:chExt cx="990720" cy="228600"/>
          </a:xfrm>
        </p:grpSpPr>
        <p:sp>
          <p:nvSpPr>
            <p:cNvPr id="74" name=""/>
            <p:cNvSpPr/>
            <p:nvPr/>
          </p:nvSpPr>
          <p:spPr>
            <a:xfrm>
              <a:off x="5638680" y="39625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00800" y="39625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1882800" cy="302400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2438280" y="2743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泉水的出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4191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晴天里柔和的风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2743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爱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2743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细小的流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25146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791320" y="2514600"/>
            <a:ext cx="914400" cy="228600"/>
            <a:chOff x="5791320" y="2514600"/>
            <a:chExt cx="914400" cy="228600"/>
          </a:xfrm>
        </p:grpSpPr>
        <p:sp>
          <p:nvSpPr>
            <p:cNvPr id="83" name=""/>
            <p:cNvSpPr/>
            <p:nvPr/>
          </p:nvSpPr>
          <p:spPr>
            <a:xfrm>
              <a:off x="5791320" y="25146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77120" y="25146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标题 1"/>
          <p:cNvSpPr/>
          <p:nvPr/>
        </p:nvSpPr>
        <p:spPr>
          <a:xfrm>
            <a:off x="1403280" y="2693880"/>
            <a:ext cx="70549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泉眼很爱惜地让泉水悄然流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映在水上的树阴喜欢这晴天风光的柔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54144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泉水无声细细流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树阴照水爱晴柔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3068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池这首诗的前两句描写了哪些景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泉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树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1143000"/>
            <a:ext cx="228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0120" cy="48006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2438280" y="541008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黑体"/>
              </a:rPr>
              <a:t>泉水的出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809880" y="2742480"/>
            <a:ext cx="990720" cy="2514600"/>
          </a:xfrm>
          <a:prstGeom prst="upArrow">
            <a:avLst>
              <a:gd name="adj1" fmla="val 50000"/>
              <a:gd name="adj2" fmla="val 634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56000" y="6237360"/>
            <a:ext cx="187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ser</cp:lastModifiedBy>
  <dcterms:modified xsi:type="dcterms:W3CDTF">2013-12-11T15:58:5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  <property fmtid="{D5CDD505-2E9C-101B-9397-08002B2CF9AE}" pid="3" name="Version">
    <vt:r8>1</vt:r8>
  </property>
</Properties>
</file>