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F9E-32A5-4F23-9942-13D200EC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37B-CBA7-4BB1-8938-25AEFB77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453-2303-4F5A-BD55-96B09835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B86-710F-44AA-814E-C2A38636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E3F-7867-4F6F-ACC2-01EBA4AC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466-50D2-4AEF-B0B0-19DBE51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BA5-A996-4071-897D-B1B5A0B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17A-0FAF-4C34-ACD1-B5BA5B03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A47-4C60-4832-BCD8-FE7932A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794-3BDD-4124-8E37-D9E5B92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F41-B763-4664-BBA1-5CA3BF5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35E-8B45-4719-AFBF-8E996FC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4AE-02BA-49CF-97E1-322AA17BA1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143240" y="1571760"/>
            <a:ext cx="4643640" cy="2044440"/>
          </a:xfrm>
          <a:prstGeom prst="rect">
            <a:avLst/>
          </a:prstGeom>
          <a:solidFill>
            <a:srgbClr val="bfbfb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小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杨万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1" descr=""/>
          <p:cNvPicPr/>
          <p:nvPr/>
        </p:nvPicPr>
        <p:blipFill>
          <a:blip r:embed="rId2">
            <a:alphaModFix amt="66000"/>
          </a:blip>
          <a:stretch/>
        </p:blipFill>
        <p:spPr>
          <a:xfrm>
            <a:off x="0" y="2286000"/>
            <a:ext cx="9144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椭圆 3"/>
          <p:cNvSpPr/>
          <p:nvPr/>
        </p:nvSpPr>
        <p:spPr>
          <a:xfrm>
            <a:off x="357120" y="785880"/>
            <a:ext cx="2357640" cy="1285920"/>
          </a:xfrm>
          <a:prstGeom prst="ellipse">
            <a:avLst/>
          </a:prstGeom>
          <a:solidFill>
            <a:srgbClr val="c3d69b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42960" y="10717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泉 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3429000" y="785880"/>
            <a:ext cx="2357280" cy="1285920"/>
          </a:xfrm>
          <a:prstGeom prst="ellipse">
            <a:avLst/>
          </a:prstGeom>
          <a:solidFill>
            <a:srgbClr val="c3d69b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6500880" y="857160"/>
            <a:ext cx="2357280" cy="1285920"/>
          </a:xfrm>
          <a:prstGeom prst="ellipse">
            <a:avLst/>
          </a:prstGeom>
          <a:solidFill>
            <a:srgbClr val="c3d69b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714840" y="10303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小 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858000" y="10717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蜻 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左右箭头 12"/>
          <p:cNvSpPr/>
          <p:nvPr/>
        </p:nvSpPr>
        <p:spPr>
          <a:xfrm>
            <a:off x="2714760" y="1214280"/>
            <a:ext cx="714240" cy="42876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c3d69b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左右箭头 13"/>
          <p:cNvSpPr/>
          <p:nvPr/>
        </p:nvSpPr>
        <p:spPr>
          <a:xfrm>
            <a:off x="5786280" y="1214280"/>
            <a:ext cx="714600" cy="428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3d69b">
              <a:alpha val="8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7:29:57Z</dcterms:created>
  <dc:creator>Windows 用户</dc:creator>
  <dc:description/>
  <dc:language>en-US</dc:language>
  <cp:lastModifiedBy>Windows 用户</cp:lastModifiedBy>
  <dcterms:modified xsi:type="dcterms:W3CDTF">2014-10-22T09:09:12Z</dcterms:modified>
  <cp:revision>9</cp:revision>
  <dc:subject/>
  <dc:title>幻灯片 1</dc:title>
</cp:coreProperties>
</file>