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camera.wav" ContentType="audio/x-wav"/>
  <Override PartName="/ppt/media/image21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24.jpeg" ContentType="image/jpeg"/>
  <Override PartName="/ppt/media/image19.gif" ContentType="image/gif"/>
  <Override PartName="/ppt/media/image4.wmf" ContentType="image/x-wmf"/>
  <Override PartName="/ppt/media/image10.png" ContentType="image/png"/>
  <Override PartName="/ppt/media/image22.wmf" ContentType="image/x-wmf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5FC3-4936-4BF5-B10A-A962246A0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读课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668-0FBB-4F11-BF44-9453A1AE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FA3-ED0A-4981-BBFD-D006F701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787-425F-4F85-808F-30249494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9C4-E294-4BFE-81AA-8712A89C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0F7-7415-4DCD-98F1-E14AD474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1DE-ACFC-4BE9-8490-2A9B0C07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F1F-13C4-4AA6-918B-AF4C5EE4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242-AF1E-42D7-B7D9-3BF08189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BC7-A1B3-4205-98E4-41921A5F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74F-048D-4443-8701-91700737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CE6-325C-41F9-938B-63964469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3C7-45D0-43D8-A4E2-8F9B99C4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jpeg"/><Relationship Id="rId8" Type="http://schemas.openxmlformats.org/officeDocument/2006/relationships/slide" Target="slide4.xml"/><Relationship Id="rId9" Type="http://schemas.openxmlformats.org/officeDocument/2006/relationships/image" Target="../media/image5.jpeg"/><Relationship Id="rId10" Type="http://schemas.openxmlformats.org/officeDocument/2006/relationships/slide" Target="slide4.xml"/><Relationship Id="rId11" Type="http://schemas.openxmlformats.org/officeDocument/2006/relationships/image" Target="../media/image5.jpeg"/><Relationship Id="rId12" Type="http://schemas.openxmlformats.org/officeDocument/2006/relationships/slide" Target="slide4.xml"/><Relationship Id="rId13" Type="http://schemas.openxmlformats.org/officeDocument/2006/relationships/image" Target="../media/image5.jpeg"/><Relationship Id="rId14" Type="http://schemas.openxmlformats.org/officeDocument/2006/relationships/slide" Target="slide2.xml"/><Relationship Id="rId15" Type="http://schemas.openxmlformats.org/officeDocument/2006/relationships/slide" Target="slide4.xml"/><Relationship Id="rId16" Type="http://schemas.openxmlformats.org/officeDocument/2006/relationships/slide" Target="slide4.xml"/><Relationship Id="rId17" Type="http://schemas.openxmlformats.org/officeDocument/2006/relationships/slide" Target="slide4.xml"/><Relationship Id="rId18" Type="http://schemas.openxmlformats.org/officeDocument/2006/relationships/slide" Target="slide4.xml"/><Relationship Id="rId19" Type="http://schemas.openxmlformats.org/officeDocument/2006/relationships/slide" Target="slide2.xml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9360" y="0"/>
            <a:ext cx="912528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BDA7-774E-4120-8791-1321655DF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381880" y="6194520"/>
            <a:ext cx="762120" cy="663480"/>
          </a:xfrm>
          <a:prstGeom prst="rect">
            <a:avLst/>
          </a:prstGeom>
          <a:ln w="0">
            <a:noFill/>
          </a:ln>
        </p:spPr>
      </p:pic>
      <p:sp>
        <p:nvSpPr>
          <p:cNvPr id="8" name="">
            <a:hlinkClick r:id="rId6" action="ppaction://hlinksldjump"/>
          </p:cNvPr>
          <p:cNvSpPr/>
          <p:nvPr/>
        </p:nvSpPr>
        <p:spPr>
          <a:xfrm>
            <a:off x="6934320" y="6248520"/>
            <a:ext cx="1371600" cy="609480"/>
          </a:xfrm>
          <a:custGeom>
            <a:avLst/>
            <a:gdLst>
              <a:gd name="textAreaLeft" fmla="*/ 37800 w 1371600"/>
              <a:gd name="textAreaRight" fmla="*/ 1333800 w 137160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244" y="1350"/>
                </a:lnTo>
                <a:lnTo>
                  <a:pt x="1350" y="135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244" y="20250"/>
                </a:lnTo>
                <a:lnTo>
                  <a:pt x="47244" y="135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7244" y="2025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退   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rId8" action="ppaction://hlinksldjump"/>
          </p:cNvPr>
          <p:cNvSpPr/>
          <p:nvPr/>
        </p:nvSpPr>
        <p:spPr>
          <a:xfrm>
            <a:off x="1066680" y="6248520"/>
            <a:ext cx="1371600" cy="609480"/>
          </a:xfrm>
          <a:custGeom>
            <a:avLst/>
            <a:gdLst>
              <a:gd name="textAreaLeft" fmla="*/ 37800 w 1371600"/>
              <a:gd name="textAreaRight" fmla="*/ 1333800 w 137160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244" y="1350"/>
                </a:lnTo>
                <a:lnTo>
                  <a:pt x="1350" y="135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244" y="20250"/>
                </a:lnTo>
                <a:lnTo>
                  <a:pt x="47244" y="135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7244" y="2025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朗  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10" action="ppaction://hlinksldjump"/>
          </p:cNvPr>
          <p:cNvSpPr/>
          <p:nvPr/>
        </p:nvSpPr>
        <p:spPr>
          <a:xfrm>
            <a:off x="2971800" y="6248520"/>
            <a:ext cx="1371600" cy="609480"/>
          </a:xfrm>
          <a:custGeom>
            <a:avLst/>
            <a:gdLst>
              <a:gd name="textAreaLeft" fmla="*/ 37800 w 1371600"/>
              <a:gd name="textAreaRight" fmla="*/ 1333800 w 137160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244" y="1350"/>
                </a:lnTo>
                <a:lnTo>
                  <a:pt x="1350" y="135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244" y="20250"/>
                </a:lnTo>
                <a:lnTo>
                  <a:pt x="47244" y="135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7244" y="2025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讲  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12" action="ppaction://hlinksldjump"/>
          </p:cNvPr>
          <p:cNvSpPr/>
          <p:nvPr/>
        </p:nvSpPr>
        <p:spPr>
          <a:xfrm>
            <a:off x="4952880" y="6248520"/>
            <a:ext cx="1371600" cy="609480"/>
          </a:xfrm>
          <a:custGeom>
            <a:avLst/>
            <a:gdLst>
              <a:gd name="textAreaLeft" fmla="*/ 37800 w 1371600"/>
              <a:gd name="textAreaRight" fmla="*/ 1333800 w 137160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244" y="1350"/>
                </a:lnTo>
                <a:lnTo>
                  <a:pt x="1350" y="135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244" y="20250"/>
                </a:lnTo>
                <a:lnTo>
                  <a:pt x="47244" y="135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7244" y="2025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欣  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14" action="ppaction://hlinksldjump"/>
          </p:cNvPr>
          <p:cNvSpPr/>
          <p:nvPr/>
        </p:nvSpPr>
        <p:spPr>
          <a:xfrm>
            <a:off x="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15" action="ppaction://hlinksldjump"/>
          </p:cNvPr>
          <p:cNvSpPr/>
          <p:nvPr/>
        </p:nvSpPr>
        <p:spPr>
          <a:xfrm>
            <a:off x="1066680" y="62485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16" action="ppaction://hlinksldjump"/>
          </p:cNvPr>
          <p:cNvSpPr/>
          <p:nvPr/>
        </p:nvSpPr>
        <p:spPr>
          <a:xfrm>
            <a:off x="2971800" y="62485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>
            <a:hlinkClick r:id="rId17" action="ppaction://hlinksldjump"/>
          </p:cNvPr>
          <p:cNvSpPr/>
          <p:nvPr/>
        </p:nvSpPr>
        <p:spPr>
          <a:xfrm>
            <a:off x="4952880" y="62485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>
            <a:hlinkClick r:id="rId18" action="ppaction://hlinksldjump"/>
          </p:cNvPr>
          <p:cNvSpPr/>
          <p:nvPr/>
        </p:nvSpPr>
        <p:spPr>
          <a:xfrm>
            <a:off x="6934320" y="62485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>
            <a:hlinkClick r:id="rId19" action="ppaction://hlinksldjump"/>
          </p:cNvPr>
          <p:cNvSpPr/>
          <p:nvPr/>
        </p:nvSpPr>
        <p:spPr>
          <a:xfrm>
            <a:off x="0" y="6324480"/>
            <a:ext cx="762120" cy="533520"/>
          </a:xfrm>
          <a:custGeom>
            <a:avLst/>
            <a:gdLst>
              <a:gd name="textAreaLeft" fmla="*/ 33120 w 762120"/>
              <a:gd name="textAreaRight" fmla="*/ 729000 w 76212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99" y="1350"/>
                </a:lnTo>
                <a:lnTo>
                  <a:pt x="1350" y="135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99" y="20250"/>
                </a:lnTo>
                <a:lnTo>
                  <a:pt x="29499" y="135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499" y="2025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481/9461CCE2_1.htm" TargetMode="External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481/9461CCE2_1.htm" TargetMode="External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481/9461CCE2_1.htm" TargetMode="External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hyperlink" Target="http://www.1ydt.com/video/n_show/Nav_481/9461CCE2_1.htm" TargetMode="External"/><Relationship Id="rId5" Type="http://schemas.openxmlformats.org/officeDocument/2006/relationships/hyperlink" Target="http://www.1ydt.com/video/n_show/Nav_481/9461CCE2_1.htm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481/9461CCE2_1.htm" TargetMode="External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hyperlink" Target="http://www.1ydt.com/video/n_show/Nav_481/9461CCE2_1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hyperlink" Target="http://www.1ydt.com/video/n_show/Nav_481/9461CCE2_1.htm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hyperlink" Target="http://www.1ydt.com/video/n_show/Nav_481/9461CCE2_1.htm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1ydt.com/video/n_show/Nav_481/9461CCE2_1.htm" TargetMode="External"/><Relationship Id="rId5" Type="http://schemas.openxmlformats.org/officeDocument/2006/relationships/hyperlink" Target="http://www.1ydt.com/video/n_show/Nav_481/9461CCE2_1.htm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hyperlink" Target="http://www.1ydt.com/video/n_show/Nav_481/9461CCE2_1.htm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6.jpeg"/><Relationship Id="rId5" Type="http://schemas.openxmlformats.org/officeDocument/2006/relationships/image" Target="../media/image19.gif"/><Relationship Id="rId6" Type="http://schemas.openxmlformats.org/officeDocument/2006/relationships/hyperlink" Target="http://www.1ydt.com/video/n_show/Nav_481/9461CCE2_1.htm" TargetMode="External"/><Relationship Id="rId7" Type="http://schemas.openxmlformats.org/officeDocument/2006/relationships/hyperlink" Target="http://www.1ydt.com/video/n_show/Nav_481/9461CCE2_1.htm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://www.1ydt.com/video/n_show/Nav_481/9461CCE2_1.htm" TargetMode="External"/><Relationship Id="rId5" Type="http://schemas.openxmlformats.org/officeDocument/2006/relationships/hyperlink" Target="http://www.1ydt.com/video/n_show/Nav_481/9461CCE2_1.htm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" Target="slide21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2.wmf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hyperlink" Target="http://baike.baidu.com/image/99636c0e48b130f37bcbe1d9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481/9461CCE2_1.htm" TargetMode="External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hyperlink" Target="http://www.1ydt.com/video/n_show/Nav_481/9461CCE2_1.ht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481/9461CCE2_1.htm" TargetMode="External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481/9461CCE2_1.htm" TargetMode="External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481/9461CCE2_1.htm" TargetMode="External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481/9461CCE2_1.htm" TargetMode="External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481/9461CCE2_1.htm" TargetMode="External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71800" y="1905120"/>
            <a:ext cx="3429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小   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37339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杨万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541008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81080" y="1828800"/>
            <a:ext cx="32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60948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imes New Roman"/>
              </a:rPr>
              <a:t>qī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18288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左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4600" y="18288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68280" y="2666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造字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27432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形声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365760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组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36576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蜻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743200" y="18288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560" y="457200"/>
            <a:ext cx="207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Times New Roman"/>
              </a:rPr>
              <a:t>tí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32004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左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39520" y="32004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95000" y="39625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造字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39625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形声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4572000"/>
            <a:ext cx="22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组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46483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蜻蜓</a:t>
            </a: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32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0" t="15161" r="0" b="4840"/>
          <a:stretch/>
        </p:blipFill>
        <p:spPr>
          <a:xfrm>
            <a:off x="0" y="0"/>
            <a:ext cx="5638680" cy="62485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04920" y="152280"/>
            <a:ext cx="5181480" cy="914040"/>
            <a:chOff x="304920" y="152280"/>
            <a:chExt cx="5181480" cy="914040"/>
          </a:xfrm>
        </p:grpSpPr>
        <p:sp>
          <p:nvSpPr>
            <p:cNvPr id="141" name=""/>
            <p:cNvSpPr/>
            <p:nvPr/>
          </p:nvSpPr>
          <p:spPr>
            <a:xfrm>
              <a:off x="304920" y="152280"/>
              <a:ext cx="1878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新  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4920" y="883440"/>
              <a:ext cx="5181480" cy="1828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04920" y="1676520"/>
            <a:ext cx="50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泉眼  惜  细流  照水  晴柔  小荷  尖尖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新词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57200"/>
            <a:ext cx="89154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 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泉眼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无声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细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 树阴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照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晴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小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才露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尖尖角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早有蜻蜓立上头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514600"/>
            <a:ext cx="2438640" cy="533520"/>
          </a:xfrm>
          <a:prstGeom prst="wedgeRoundRectCallout">
            <a:avLst>
              <a:gd name="adj1" fmla="val -49023"/>
              <a:gd name="adj2" fmla="val -160416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泉水的出口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09880" y="2590920"/>
            <a:ext cx="2362320" cy="609480"/>
          </a:xfrm>
          <a:prstGeom prst="wedgeRoundRectCallout">
            <a:avLst>
              <a:gd name="adj1" fmla="val 51074"/>
              <a:gd name="adj2" fmla="val -167189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细小的流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438280"/>
            <a:ext cx="2057400" cy="1067040"/>
          </a:xfrm>
          <a:prstGeom prst="wedgeRoundRectCallout">
            <a:avLst>
              <a:gd name="adj1" fmla="val 35032"/>
              <a:gd name="adj2" fmla="val -106995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晴天柔和美丽的风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2057400" cy="533520"/>
          </a:xfrm>
          <a:prstGeom prst="wedgeRoundRectCallout">
            <a:avLst>
              <a:gd name="adj1" fmla="val -26851"/>
              <a:gd name="adj2" fmla="val 15714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映照在水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762120" y="4572000"/>
            <a:ext cx="1752480" cy="838080"/>
          </a:xfrm>
          <a:prstGeom prst="wedgeRoundRectCallout">
            <a:avLst>
              <a:gd name="adj1" fmla="val 40939"/>
              <a:gd name="adj2" fmla="val 135791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刚长出的嫩荷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4724280"/>
            <a:ext cx="3429000" cy="914400"/>
          </a:xfrm>
          <a:prstGeom prst="wedgeRoundRectCallout">
            <a:avLst>
              <a:gd name="adj1" fmla="val -38333"/>
              <a:gd name="adj2" fmla="val -13958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刚出水面还没有展开的嫩荷叶的尖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685800"/>
            <a:ext cx="2057400" cy="609480"/>
          </a:xfrm>
          <a:prstGeom prst="wedgeRoundRectCallout">
            <a:avLst>
              <a:gd name="adj1" fmla="val 33486"/>
              <a:gd name="adj2" fmla="val 97398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珍惜，爱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0" dur="1" fill="hold"/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79200"/>
            <a:ext cx="9144000" cy="6245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172200" y="17208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泉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91720" cy="6248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800600" y="9907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细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270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419720" y="9907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树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4276800" cy="424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343400" y="228600"/>
            <a:ext cx="4572000" cy="4278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09680" y="449568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小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4646520" cy="6248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295280" y="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尖尖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4286160" cy="2819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295280" y="0"/>
            <a:ext cx="4343400" cy="3692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638680" y="0"/>
            <a:ext cx="3427560" cy="6248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714440" y="3429000"/>
            <a:ext cx="911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行楷简体"/>
              </a:rPr>
              <a:t>早有蜻蜓立上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0" y="1676520"/>
            <a:ext cx="1295280" cy="2819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57320" y="1523880"/>
            <a:ext cx="1185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蜻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638680" y="3429000"/>
            <a:ext cx="1013040" cy="773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743200" y="3429000"/>
            <a:ext cx="1981080" cy="289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4343400"/>
            <a:ext cx="1295280" cy="533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733920"/>
            <a:ext cx="1905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背  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讲  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新  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生  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3" action="ppaction://hlinksldjump"/>
          </p:cNvPr>
          <p:cNvSpPr/>
          <p:nvPr/>
        </p:nvSpPr>
        <p:spPr>
          <a:xfrm>
            <a:off x="3048120" y="4343400"/>
            <a:ext cx="1371600" cy="609480"/>
          </a:xfrm>
          <a:custGeom>
            <a:avLst/>
            <a:gdLst>
              <a:gd name="textAreaLeft" fmla="*/ 39240 w 1371600"/>
              <a:gd name="textAreaRight" fmla="*/ 1332360 w 1371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194" y="1400"/>
                </a:lnTo>
                <a:lnTo>
                  <a:pt x="1400" y="140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194" y="20200"/>
                </a:lnTo>
                <a:lnTo>
                  <a:pt x="47194" y="140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94" y="2020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4" action="ppaction://hlinksldjump"/>
          </p:cNvPr>
          <p:cNvSpPr/>
          <p:nvPr/>
        </p:nvSpPr>
        <p:spPr>
          <a:xfrm>
            <a:off x="3124080" y="3733920"/>
            <a:ext cx="1219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5" action="ppaction://hlinksldjump"/>
          </p:cNvPr>
          <p:cNvSpPr/>
          <p:nvPr/>
        </p:nvSpPr>
        <p:spPr>
          <a:xfrm>
            <a:off x="3048120" y="5638680"/>
            <a:ext cx="1295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6" action="ppaction://hlinksldjump"/>
          </p:cNvPr>
          <p:cNvSpPr/>
          <p:nvPr/>
        </p:nvSpPr>
        <p:spPr>
          <a:xfrm>
            <a:off x="2971800" y="495288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5600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914400"/>
            <a:ext cx="9144000" cy="4724280"/>
          </a:xfrm>
          <a:prstGeom prst="rect">
            <a:avLst/>
          </a:prstGeom>
          <a:solidFill>
            <a:srgbClr val="bbe0e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914400"/>
            <a:ext cx="853416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讲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泉眼无声惜细流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泉眼无声像珍惜泉水淌着细流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树阴照水爱晴柔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树影映在水中爱恋日光的温柔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荷才露尖尖角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小的荷叶才露出尖尖的角儿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早有蜻蜓立上头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早有一只蜻蜓停歇在上面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523880"/>
            <a:ext cx="2971800" cy="3886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01000" y="2286000"/>
            <a:ext cx="685800" cy="2971800"/>
          </a:xfrm>
          <a:custGeom>
            <a:avLst/>
            <a:gdLst>
              <a:gd name="textAreaLeft" fmla="*/ 0 w 685800"/>
              <a:gd name="textAreaRight" fmla="*/ 247680 w 6858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537040" y="3429000"/>
            <a:ext cx="60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译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533520"/>
            <a:ext cx="4572000" cy="15721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图上画的是什么地方，有什么景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初夏小荷花池的风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首诗描写了涓涓细流、浓密树阴、清澈的水面、初露尖角的小荷、停落的蜻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5600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rcRect l="0" t="15161" r="0" b="4840"/>
          <a:stretch/>
        </p:blipFill>
        <p:spPr>
          <a:xfrm>
            <a:off x="0" y="0"/>
            <a:ext cx="5867280" cy="6248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86000" y="9907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457200"/>
            <a:ext cx="48006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ǎo   ch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小    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172200" y="2971800"/>
            <a:ext cx="2743200" cy="3048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886200" y="533520"/>
            <a:ext cx="5257800" cy="1447560"/>
          </a:xfrm>
          <a:prstGeom prst="cloudCallout">
            <a:avLst>
              <a:gd name="adj1" fmla="val 8787"/>
              <a:gd name="adj2" fmla="val 102740"/>
            </a:avLst>
          </a:prstGeom>
          <a:solidFill>
            <a:srgbClr val="ffff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读一读，背一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33520" y="1752480"/>
            <a:ext cx="5105160" cy="4419720"/>
            <a:chOff x="533520" y="1752480"/>
            <a:chExt cx="5105160" cy="4419720"/>
          </a:xfrm>
        </p:grpSpPr>
        <p:grpSp>
          <p:nvGrpSpPr>
            <p:cNvPr id="201" name=""/>
            <p:cNvGrpSpPr/>
            <p:nvPr/>
          </p:nvGrpSpPr>
          <p:grpSpPr>
            <a:xfrm>
              <a:off x="2590560" y="4724280"/>
              <a:ext cx="1523520" cy="380880"/>
              <a:chOff x="2590560" y="4724280"/>
              <a:chExt cx="1523520" cy="380880"/>
            </a:xfrm>
          </p:grpSpPr>
          <p:sp>
            <p:nvSpPr>
              <p:cNvPr id="202" name=""/>
              <p:cNvSpPr/>
              <p:nvPr/>
            </p:nvSpPr>
            <p:spPr>
              <a:xfrm>
                <a:off x="2590560" y="4800600"/>
                <a:ext cx="1523520" cy="30456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90560" y="4724280"/>
                <a:ext cx="1523520" cy="30492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efe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533520" y="1752480"/>
              <a:ext cx="5105160" cy="435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án  yǎn  wú shēng  xī   xì    li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泉      眼   无     声     惜  细   流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ù  yīn  zhào  shuǐ  aì   qíng  róu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树    阴    照      水    爱    晴    柔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iǎ  hé  cái  lù  jiān  jiān  jiǎo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小   荷  才  露   尖   尖    角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ǎo  yǒu  qīng  tíng   lì  shǎng  tóu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早    有     蜻     蜓   立    上     头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200040" y="3047760"/>
              <a:ext cx="75960" cy="762120"/>
              <a:chOff x="3200040" y="3047760"/>
              <a:chExt cx="75960" cy="762120"/>
            </a:xfrm>
          </p:grpSpPr>
          <p:sp>
            <p:nvSpPr>
              <p:cNvPr id="206" name=""/>
              <p:cNvSpPr/>
              <p:nvPr/>
            </p:nvSpPr>
            <p:spPr>
              <a:xfrm>
                <a:off x="3200040" y="30477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276000" y="30477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981080" y="19810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28440" y="31240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3560" y="30477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99840" y="41907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19810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8440" y="525780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81280" y="525780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276360" y="3809880"/>
              <a:ext cx="228240" cy="228600"/>
              <a:chOff x="3276360" y="3809880"/>
              <a:chExt cx="228240" cy="228600"/>
            </a:xfrm>
          </p:grpSpPr>
          <p:sp>
            <p:nvSpPr>
              <p:cNvPr id="216" name=""/>
              <p:cNvSpPr/>
              <p:nvPr/>
            </p:nvSpPr>
            <p:spPr>
              <a:xfrm>
                <a:off x="3276360" y="3809880"/>
                <a:ext cx="228240" cy="228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14160" y="3848040"/>
                <a:ext cx="15192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352680" y="5943600"/>
              <a:ext cx="228240" cy="228600"/>
              <a:chOff x="3352680" y="5943600"/>
              <a:chExt cx="228240" cy="228600"/>
            </a:xfrm>
          </p:grpSpPr>
          <p:sp>
            <p:nvSpPr>
              <p:cNvPr id="219" name=""/>
              <p:cNvSpPr/>
              <p:nvPr/>
            </p:nvSpPr>
            <p:spPr>
              <a:xfrm>
                <a:off x="3352680" y="5943600"/>
                <a:ext cx="228240" cy="228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90480" y="5981760"/>
                <a:ext cx="15192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3276360" y="1981080"/>
              <a:ext cx="75960" cy="762120"/>
              <a:chOff x="3276360" y="1981080"/>
              <a:chExt cx="75960" cy="762120"/>
            </a:xfrm>
          </p:grpSpPr>
          <p:sp>
            <p:nvSpPr>
              <p:cNvPr id="222" name=""/>
              <p:cNvSpPr/>
              <p:nvPr/>
            </p:nvSpPr>
            <p:spPr>
              <a:xfrm>
                <a:off x="3276360" y="19810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52320" y="19810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438280" y="4190760"/>
              <a:ext cx="75600" cy="762120"/>
              <a:chOff x="2438280" y="4190760"/>
              <a:chExt cx="75600" cy="762120"/>
            </a:xfrm>
          </p:grpSpPr>
          <p:sp>
            <p:nvSpPr>
              <p:cNvPr id="225" name=""/>
              <p:cNvSpPr/>
              <p:nvPr/>
            </p:nvSpPr>
            <p:spPr>
              <a:xfrm>
                <a:off x="2438280" y="41907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13880" y="41907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3200040" y="5257800"/>
              <a:ext cx="75960" cy="761760"/>
              <a:chOff x="3200040" y="5257800"/>
              <a:chExt cx="75960" cy="761760"/>
            </a:xfrm>
          </p:grpSpPr>
          <p:sp>
            <p:nvSpPr>
              <p:cNvPr id="228" name=""/>
              <p:cNvSpPr/>
              <p:nvPr/>
            </p:nvSpPr>
            <p:spPr>
              <a:xfrm>
                <a:off x="3200040" y="5257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276000" y="5257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428640" y="2666880"/>
              <a:ext cx="228240" cy="228600"/>
              <a:chOff x="3428640" y="2666880"/>
              <a:chExt cx="228240" cy="228600"/>
            </a:xfrm>
          </p:grpSpPr>
          <p:sp>
            <p:nvSpPr>
              <p:cNvPr id="231" name=""/>
              <p:cNvSpPr/>
              <p:nvPr/>
            </p:nvSpPr>
            <p:spPr>
              <a:xfrm>
                <a:off x="3428640" y="2666880"/>
                <a:ext cx="228240" cy="228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66440" y="2705040"/>
                <a:ext cx="15192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133360" y="4876560"/>
              <a:ext cx="228240" cy="228600"/>
              <a:chOff x="2133360" y="4876560"/>
              <a:chExt cx="228240" cy="228600"/>
            </a:xfrm>
          </p:grpSpPr>
          <p:sp>
            <p:nvSpPr>
              <p:cNvPr id="234" name=""/>
              <p:cNvSpPr/>
              <p:nvPr/>
            </p:nvSpPr>
            <p:spPr>
              <a:xfrm>
                <a:off x="2133360" y="4876560"/>
                <a:ext cx="228240" cy="228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71160" y="4914720"/>
                <a:ext cx="15192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"/>
          <p:cNvSpPr/>
          <p:nvPr/>
        </p:nvSpPr>
        <p:spPr>
          <a:xfrm>
            <a:off x="4343400" y="2971800"/>
            <a:ext cx="228600" cy="1843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4038480"/>
            <a:ext cx="228600" cy="1843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6172200"/>
            <a:ext cx="228600" cy="1843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5600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990720"/>
            <a:ext cx="6553080" cy="4647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                     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作者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380880"/>
            <a:ext cx="2752920" cy="3581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04920" y="121932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杨万里（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127-1206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） 字廷秀，号诚斋，吉州吉水（今属江西）人。高宗绍兴二十四年（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154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）进士。曾任太常博士、广东提点刑狱、尚书左司郎中兼太子侍读、秘书监等。主张抗金，正直敢言。宁宗时因奸相专权辞官居家，终忧愤而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5600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-47520"/>
            <a:ext cx="9144000" cy="62960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0"/>
            <a:ext cx="5791320" cy="6248520"/>
          </a:xfrm>
          <a:prstGeom prst="rect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1143000"/>
            <a:ext cx="541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诗人杨万里的著名诗篇，作者热爱生活之情，通过对小池中的泉水、树阴、小荷、蜻蜓的描写，描绘出一种具有无限生命力的朴素、自然，而又充满生活情趣的生动画面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0"/>
            <a:ext cx="5715000" cy="837720"/>
            <a:chOff x="0" y="0"/>
            <a:chExt cx="5715000" cy="837720"/>
          </a:xfrm>
        </p:grpSpPr>
        <p:sp>
          <p:nvSpPr>
            <p:cNvPr id="249" name=""/>
            <p:cNvSpPr/>
            <p:nvPr/>
          </p:nvSpPr>
          <p:spPr>
            <a:xfrm>
              <a:off x="0" y="0"/>
              <a:ext cx="2042640" cy="642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小诗赏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669960"/>
              <a:ext cx="5715000" cy="1677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45600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1523880" y="685800"/>
            <a:ext cx="7086600" cy="4252320"/>
            <a:chOff x="1523880" y="685800"/>
            <a:chExt cx="7086600" cy="4252320"/>
          </a:xfrm>
        </p:grpSpPr>
        <p:sp>
          <p:nvSpPr>
            <p:cNvPr id="68" name=""/>
            <p:cNvSpPr/>
            <p:nvPr/>
          </p:nvSpPr>
          <p:spPr>
            <a:xfrm>
              <a:off x="1523880" y="1676520"/>
              <a:ext cx="7086600" cy="32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泉 眼 无 声 惜 细 流 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树 阴 照 水 爱 晴 柔 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小 荷 才 露 尖 尖 角 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早 有 蜻 蜓 立 上 头</a:t>
              </a:r>
              <a:r>
                <a:rPr b="1" i="1" lang="zh-CN" sz="44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 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81280" y="685800"/>
              <a:ext cx="190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小  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6400" y="129528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杨万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09680" y="304920"/>
            <a:ext cx="525780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杨万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án yǎn wú shēng xī xī  li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泉 眼 无 声 惜 细 流 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ù yīn zhào shuǐ ài qíng ró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树 阴 照 水 爱 晴 柔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ǎo hé  cái  lòu  jiān jiān jiǎ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小 荷 才 露 尖 尖 角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ǎo yǒu qīng tíng lì shàng tó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早 有 蜻 蜓 立 上 头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322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76520" y="228600"/>
            <a:ext cx="609588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朗诵指导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泉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树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照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晴柔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尖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早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蜻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上头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要突出“惜”、“晴柔”、“尖尖”、“立”等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　　其中“惜”、“爱”、“尖尖”在读的时候应拉长一点声，体现出那种意境来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　　最后“立上头”应一个字一个字地读，使听者回味无穷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00200" y="15238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14479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5335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Times New Roman"/>
              </a:rPr>
              <a:t>ch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200400"/>
            <a:ext cx="24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组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86000" y="1143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63360" y="2286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造字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3657600"/>
            <a:ext cx="1371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143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左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2286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形声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3276720"/>
            <a:ext cx="32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池水   池塘   池子</a:t>
            </a: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52480" y="153828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808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Times New Roman"/>
              </a:rPr>
              <a:t>quá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87440" y="17524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17524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上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63360" y="2590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造字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2590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会意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7339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组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80988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泉水   泉眼   源泉  清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57400" y="1447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144792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0492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Times New Roman"/>
              </a:rPr>
              <a:t>x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144792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左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33360" y="14479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0280" y="2286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造字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2286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形声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3276720"/>
            <a:ext cx="32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组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3352680"/>
            <a:ext cx="32004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爱惜   珍惜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可惜   惜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838080"/>
            <a:ext cx="32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Times New Roman"/>
              </a:rPr>
              <a:t>l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167652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lò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9718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上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47360" y="29718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48760" y="3809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造字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8098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形声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4648320"/>
            <a:ext cx="2700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组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4648320"/>
            <a:ext cx="54864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露水   露珠   流露   露出</a:t>
            </a: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6095880"/>
            <a:ext cx="5029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5486400"/>
            <a:ext cx="2895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露脸   露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990720"/>
            <a:ext cx="1066680" cy="1676160"/>
          </a:xfrm>
          <a:custGeom>
            <a:avLst/>
            <a:gdLst>
              <a:gd name="textAreaLeft" fmla="*/ 681480 w 1066680"/>
              <a:gd name="textAreaRight" fmla="*/ 1067040 w 10666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07:55:47Z</dcterms:created>
  <dc:creator/>
  <dc:description/>
  <cp:keywords/>
  <dc:language>en-US</dc:language>
  <cp:lastModifiedBy>user</cp:lastModifiedBy>
  <dcterms:modified xsi:type="dcterms:W3CDTF">2013-12-11T15:53:2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Version">
    <vt:r8>1</vt:r8>
  </property>
</Properties>
</file>