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286-7963-41F7-8F75-B3EF70B1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159-B392-4B96-8F00-D2823C43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D83-AFB3-44B3-BAB9-AA7D0837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CA7-B729-40F0-9174-E4FB8A60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857-8808-4CDD-A868-4930057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4FA-D45B-4708-971A-9B903C9E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A73-7DD2-45C5-87D5-1924BC3F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BBA-F200-4E4D-B016-3F11EE1C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156-893B-4330-ABE3-2E751210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265-2E56-4EBC-A180-1624BA1F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36D-E3FE-4326-A85F-41CE63F9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25D-7A97-410A-9DEB-F1097A6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7268-0D6A-469C-823A-1E5F174158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48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1197000"/>
            <a:ext cx="2900520" cy="1099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小   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421000"/>
            <a:ext cx="3240000" cy="1099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杨万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181080" y="189000"/>
            <a:ext cx="3168720" cy="187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8000" y="33336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333360"/>
            <a:ext cx="2449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89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413000"/>
            <a:ext cx="525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60680" y="10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  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08480" y="141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杨万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3560" y="2060640"/>
            <a:ext cx="494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泉 眼 无 声 惜 细 流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1440" y="6922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ch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484280"/>
            <a:ext cx="131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quán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1484280"/>
            <a:ext cx="81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ī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84280" y="3284640"/>
            <a:ext cx="50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树 阴 照 水 爱 晴 柔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5200" y="3860640"/>
            <a:ext cx="494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 荷 才 露 尖 尖 角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04080" y="4724280"/>
            <a:ext cx="519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早 有 蜻 蜓 立 上 头 。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5240" y="2421000"/>
            <a:ext cx="95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yīn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5800" y="2421000"/>
            <a:ext cx="10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róu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3440" y="3357720"/>
            <a:ext cx="7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lù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9800" y="2421000"/>
            <a:ext cx="120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qíng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60160" y="8366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认一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40520" y="21337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4720" y="1557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qu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87120" y="206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4200" y="107784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9600" y="1557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51480" y="1509840"/>
            <a:ext cx="184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63480" y="2090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光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67480" y="107784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91600" y="1557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y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91480" y="342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5440" y="29242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q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66400" y="3357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温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6560" y="2230560"/>
            <a:ext cx="184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3800" y="29242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r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15480" y="4467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43480" y="338148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5800" y="407664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l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3320" y="21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55720" y="227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原文大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55840" y="71748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844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-243000"/>
            <a:ext cx="86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★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3480" y="1125360"/>
            <a:ext cx="44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泉眼悄无声是珍惜细细的水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3360" y="2060640"/>
            <a:ext cx="86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★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2800" y="1989000"/>
            <a:ext cx="495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树阴映水面是它喜欢晴日的温柔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34290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★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10200" y="3357720"/>
            <a:ext cx="464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小小的嫩荷刚露出紧裹的叶尖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35120" y="388620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35720" y="4365720"/>
            <a:ext cx="86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★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72000" y="4437000"/>
            <a:ext cx="464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早飞来可爱的蜻蜓站立在上头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079640" cy="2570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124000" y="234936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观看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7001640" y="4976640"/>
            <a:ext cx="2039760" cy="19224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2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陈惠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6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2:02:03Z</dcterms:created>
  <dc:creator>Microsoft</dc:creator>
  <dc:description/>
  <dc:language>en-US</dc:language>
  <cp:lastModifiedBy>Microsoft</cp:lastModifiedBy>
  <dcterms:modified xsi:type="dcterms:W3CDTF">2014-10-18T15:06:41Z</dcterms:modified>
  <cp:revision>4</cp:revision>
  <dc:subject/>
  <dc:title>幻灯片 1</dc:title>
</cp:coreProperties>
</file>